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ED787-916C-4313-BFD5-5E97CBA90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F164E-CA4F-4794-81D5-6D44DC32D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FD187-A601-4E38-A0DD-15D344819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BDEBE-A0B9-4E2C-AAD5-6AD09017B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E91A0-2724-4572-BE63-5E681AB7A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1861E-D20D-4C96-8982-E59C00BEE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32451-F495-4C47-B4ED-7B5115D61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30B82-66CD-4564-949B-34E1B9191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C6D00-8163-48D6-9757-B68AA5FBB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D0140-CBDB-4549-9556-1045F9917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43E3B-CDD5-4498-A972-B95B56F7F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363CA-AFC6-4904-AF10-2C596F4DC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B0D88-6910-4774-8B2E-C2BE52584032}"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410120" y="1295280"/>
            <a:ext cx="639864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AÏNH TRANH CÔ BAÛN</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157D4507-D6AA-415E-8825-DAE74BD943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4"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aùc coâng ty theo ñuoåi chieán löôïc khaùc bieät hoùa saûn phaåm laø ñaït ñöôïc lôïi theá caïnh tranh thoâng qua vieäc taïo ra saûn phaåm ñöôïc xem laø duy nhaát, ñoäc ñaùo ñoái vôùi khaùch haøng, thoûa maõn nhu caàu khaùch haøng baèng caùch thöùc maø caùc ñoái thuû caïnh tranh khoâng theå. </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o pheùp coâng ty ñònh giaù ôû möùc cao</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vieäc khaùc bieät hoùa</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a thò tröôøng thaønh nhieàu phaân khuùc khaùc nhau </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Vaán ñeà chi phí khoâng quan troï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40591BD-230E-48AF-A0AB-BA1C72880B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a:t>
            </a:r>
            <a:br>
              <a:rPr sz="3400"/>
            </a:br>
            <a:r>
              <a:rPr b="1" lang="en-US" sz="3400" spc="-1" strike="noStrike">
                <a:solidFill>
                  <a:srgbClr val="ffff00"/>
                </a:solidFill>
                <a:latin typeface="VNI-Helve"/>
              </a:rPr>
              <a:t>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6"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fontScale="95000"/>
          </a:bodyPr>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Öu ñieåm: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ung thaønh vôùi nhaõn hieäu cuûa khaùch haøng (brand loyalty)</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vôùi nhaø cung caáp laø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thöông löôïng ñoái vôùi khaùch haøng cuõng maïnh</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ïo raøo caûn thaâm nhaäp thò tröôøng</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 toát vôùi saûn phaåm thay theá </a:t>
            </a:r>
            <a:endParaRPr b="0" lang="en-US" sz="2000" spc="-1" strike="noStrike">
              <a:solidFill>
                <a:srgbClr val="000000"/>
              </a:solidFill>
              <a:latin typeface="VNI-Helve"/>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25800" indent="-32580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Ruûi ro: </a:t>
            </a:r>
            <a:endParaRPr b="0" lang="en-US" sz="24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duy trì tính khaùc bieät, ñoäc ñaùo cuûa saûn phaåm</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baét chöôùc cuûa caùc ñoái thuû caïnh tranh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Deã daøng maát ñi söï trung thaønh ñoái vôùi nhaõn hieäu </a:t>
            </a:r>
            <a:endParaRPr b="0" lang="en-US" sz="2000" spc="-1" strike="noStrike">
              <a:solidFill>
                <a:srgbClr val="000000"/>
              </a:solidFill>
              <a:latin typeface="VNI-Helve"/>
            </a:endParaRPr>
          </a:p>
          <a:p>
            <a:pPr lvl="1" marL="705600" indent="-2714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äc ñaùo vs. mong muoán cuûa khaùch haø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D0F83E0E-65AF-44B4-A6BF-88D63C8DC1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 </a:t>
            </a:r>
            <a:br>
              <a:rPr sz="3400"/>
            </a:br>
            <a:r>
              <a:rPr b="1" lang="en-US" sz="3400" spc="-1" strike="noStrike">
                <a:solidFill>
                  <a:srgbClr val="ffff00"/>
                </a:solidFill>
                <a:latin typeface="VNI-Helve"/>
              </a:rPr>
              <a:t>vaø khaùc bieät hoùa saûn pha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8"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ôû moät chöøng möïc naøo ñoù ñeå nhu caàu ñaït ñöôïc möùc toái thieåu caàn coù.</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ôû möùc cao hôn ñoái thuû ñeå taïo söï saéc beùn trong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oäc ñaùo trong saûn phaåm maø khoâng coù ñoái thuû caïnh tranh naøo laøm ñöôïc.</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baèng söï ña daïng hoùa saûn phaåm ñeå phuïc vuï sôû thích hay thò hieáu khaùc nhau cuûa khaùch haøng.</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bieät hoùa saûn phaåm döïa vaøo khaû naêng noåi baät cuûa coâng ty maø ñoái thuû caïnh tranh khoâng theå saùnh baè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CAFFC6B-8126-465F-8FF8-6C9B357986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0"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Chieán löôïc taäp trung chæ nhaèm ñaùp öùng nhu caàu cuûa moät phaân khuùc thò tröôøng naøo ñoù thoâng qua yeáu toá ñòa lyù, ñoái töôïng khaùch haøng hoaëc tính chaát saûn phaåm</a:t>
            </a: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theo chieán löôïc chi phí thaá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eán löôïc khaùc bieät hoaù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phuïc vuï phaân khuùc muïc tieâ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CE418EBD-906D-4A3E-9FB3-C849FBD26D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AÄP TRUNG TROÏNG ÑIEÅM</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22"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Öu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ung caáp saûn phaåm hoaëc dòch vuï ñoäc ñaùo, ñaëc bieät maø caùc ñoái thuû caïnh tranh khaùc khoâng theå laøm ñöôïc.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åu roõ phaân khuùc maø mình phuïc vuï.</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Ruûi ro:</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ong quan heä vôùi nhaø cung caáp coâng ty khoâng coù öu theá.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saûn xuaát cao.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ay ñoåi coâng ngheä hoaëc thò hieáu khaùch haøng thay ñoåi.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E726A87-7E5A-4458-9977-20F63F2FDB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KHOAÛNG THÒ TRÖÔØNG THÍCH HÔÏP (PROPITIOUS NICHE)</a:t>
            </a:r>
            <a:endParaRPr b="1" i="1" lang="en-US" sz="3400" spc="-1" strike="noStrike">
              <a:solidFill>
                <a:srgbClr val="ffff00"/>
              </a:solidFill>
              <a:latin typeface="VNI-Helve"/>
            </a:endParaRPr>
          </a:p>
        </p:txBody>
      </p:sp>
      <p:sp>
        <p:nvSpPr>
          <p:cNvPr id="124"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caùc yeáu toá chieán löôïc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thích hôïp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naêng löïc vaø khaû naêng cuûa mình ñeå taïo lôïi theá caïnh tranh</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aûng thò tröôøng thích hôïp </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uø hôïp vôùi nguoàn löïc, naêng löïc vaø khaû naêng cuûa coâng ty</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i thaùc ñöôïc nhöõng cô hoäi cuõng nhö giaûm thieåu nguy cô cuûa moâi tröôøng beân ngoaøi toát hôn ñoái thuû caïnh tranh</a:t>
            </a:r>
            <a:endParaRPr b="0" lang="en-US" sz="20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uû lôùn </a:t>
            </a:r>
            <a:r>
              <a:rPr b="0" lang="en-US" sz="2400" spc="-1" strike="noStrike">
                <a:solidFill>
                  <a:srgbClr val="000000"/>
                </a:solidFill>
                <a:latin typeface="Wingdings"/>
                <a:ea typeface="Wingdings"/>
              </a:rPr>
              <a:t></a:t>
            </a:r>
            <a:r>
              <a:rPr b="0" lang="en-US" sz="2400" spc="-1" strike="noStrike">
                <a:solidFill>
                  <a:srgbClr val="000000"/>
                </a:solidFill>
                <a:latin typeface="VNI-Helve"/>
              </a:rPr>
              <a:t> thoûa maõn khaùch haøng &amp; coâng t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hieän </a:t>
            </a:r>
            <a:r>
              <a:rPr b="0" lang="en-US" sz="2400" spc="-1" strike="noStrike">
                <a:solidFill>
                  <a:srgbClr val="000000"/>
                </a:solidFill>
                <a:latin typeface="Wingdings"/>
                <a:ea typeface="Wingdings"/>
              </a:rPr>
              <a:t></a:t>
            </a:r>
            <a:r>
              <a:rPr b="0" lang="en-US" sz="2400" spc="-1" strike="noStrike">
                <a:solidFill>
                  <a:srgbClr val="000000"/>
                </a:solidFill>
                <a:latin typeface="VNI-Helve"/>
              </a:rPr>
              <a:t> Khai thaùc </a:t>
            </a:r>
            <a:r>
              <a:rPr b="0" lang="en-US" sz="2400" spc="-1" strike="noStrike">
                <a:solidFill>
                  <a:srgbClr val="000000"/>
                </a:solidFill>
                <a:latin typeface="Wingdings"/>
                <a:ea typeface="Wingdings"/>
              </a:rPr>
              <a:t></a:t>
            </a:r>
            <a:r>
              <a:rPr b="0" lang="en-US" sz="2400" spc="-1" strike="noStrike">
                <a:solidFill>
                  <a:srgbClr val="000000"/>
                </a:solidFill>
                <a:latin typeface="VNI-Helve"/>
              </a:rPr>
              <a:t> Giöõ laáy</a:t>
            </a: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öï thay ñoåi cuûa Niche </a:t>
            </a:r>
            <a:r>
              <a:rPr b="0" lang="en-US" sz="2400" spc="-1" strike="noStrike">
                <a:solidFill>
                  <a:srgbClr val="000000"/>
                </a:solidFill>
                <a:latin typeface="Wingdings"/>
                <a:ea typeface="Wingdings"/>
              </a:rPr>
              <a:t></a:t>
            </a:r>
            <a:r>
              <a:rPr b="0" lang="en-US" sz="2400" spc="-1" strike="noStrike">
                <a:solidFill>
                  <a:srgbClr val="000000"/>
                </a:solidFill>
                <a:latin typeface="VNI-Helve"/>
              </a:rPr>
              <a:t> Ruûi ro.</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E0A3243-A6AB-4E01-85BA-FCBA2BEA8D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126"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27"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28"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29"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30"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31"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32"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33"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4"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35"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36" name=""/>
          <p:cNvSpPr/>
          <p:nvPr/>
        </p:nvSpPr>
        <p:spPr>
          <a:xfrm>
            <a:off x="3886200" y="3505320"/>
            <a:ext cx="2438280" cy="99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Best C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Provider</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953E991-2EFF-4AA3-BA6B-D31AD5CAF6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ÀU TÖ ÔÛ CAÁP </a:t>
            </a:r>
            <a:br>
              <a:rPr sz="3400"/>
            </a:br>
            <a:r>
              <a:rPr b="1" lang="en-US" sz="3400" spc="-1" strike="noStrike">
                <a:solidFill>
                  <a:srgbClr val="ffff00"/>
                </a:solidFill>
                <a:latin typeface="VNI-Helve"/>
              </a:rPr>
              <a:t>ÑÔN VÒ KINH DOANH</a:t>
            </a:r>
            <a:endParaRPr b="1" i="1" lang="en-US" sz="3400" spc="-1" strike="noStrike">
              <a:solidFill>
                <a:srgbClr val="ffff00"/>
              </a:solidFill>
              <a:latin typeface="VNI-Helve"/>
            </a:endParaRPr>
          </a:p>
        </p:txBody>
      </p:sp>
      <p:sp>
        <p:nvSpPr>
          <p:cNvPr id="138"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oïn löïa chieán löôïc ñaàu tö nhaèm hoã trôï cho chieán löôïc caïnh tranh cuûa ñôn vò kinh doanh</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ôû roäng/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uy trì/ Cuûng co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 Loaïi boû</a:t>
            </a:r>
            <a:endParaRPr b="0" lang="en-US" sz="24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yeáu toá caàn xem xeùt:</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eá maïnh kinh doanh</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haáp daãn cuûa ngaønh coâng nghieäp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79C5A30-AF25-4D0C-93DE-7255D70FAC46}"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sôû ñeå xaây döïng chieán löôïc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ieán löôïc caïnh tranh ñieån hì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47BF55F-D4CC-4FC4-8A2B-28E99EFA56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Ô SÔÛ ÑEÅ XAÂY DÖÏNG CHIEÁN LÖÔÏC CAÁP ÑÔN VÒ KINH DOANH</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oùm ngöôøi tieâu duøng (Ai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u caàu tieâu duøng (Caùi gì caàn ñöôïc thoûa maõ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Thoûa maõn nhu caàu baèng caùch naøo vaø nhö theá naøo?)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7BDAFAF-97A7-43CF-82BB-763915891A9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oùm ngöôøi tieâu duøng</a:t>
            </a:r>
            <a:endParaRPr b="1" i="1" lang="en-US" sz="3400" spc="-1" strike="noStrike">
              <a:solidFill>
                <a:srgbClr val="ffff00"/>
              </a:solidFill>
              <a:latin typeface="VNI-Helve"/>
            </a:endParaRPr>
          </a:p>
        </p:txBody>
      </p:sp>
      <p:sp>
        <p:nvSpPr>
          <p:cNvPr id="93"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laø taäp hôïp nhöõng khaùch haøng hieän taïi vaø tieàm naê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tröôøng coù theå chia thaønh nhieàu phaân khuùc khaùc nhau theo moät soá tieâu chí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uøy thuoäc vaøo lôïi theá caïnh tranh, coâng ty coù theå quyeát ñònh phaân khuùc khaùch haøng ñeå phuïc vuï.</a:t>
            </a:r>
            <a:endParaRPr b="0" lang="en-US" sz="28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Moät saûn phaåm </a:t>
            </a:r>
            <a:r>
              <a:rPr b="1" lang="en-US" sz="2400" spc="-1" strike="noStrike">
                <a:solidFill>
                  <a:srgbClr val="ff0000"/>
                </a:solidFill>
                <a:latin typeface="Wingdings"/>
                <a:ea typeface="Wingdings"/>
              </a:rPr>
              <a:t></a:t>
            </a:r>
            <a:r>
              <a:rPr b="1" lang="en-US" sz="2400" spc="-1" strike="noStrike">
                <a:solidFill>
                  <a:srgbClr val="ff0000"/>
                </a:solidFill>
                <a:latin typeface="VNI-Helve"/>
              </a:rPr>
              <a:t> toaøn boä thò tröôøng</a:t>
            </a:r>
            <a:endParaRPr b="0" lang="en-US" sz="2400" spc="-1" strike="noStrike">
              <a:solidFill>
                <a:srgbClr val="000000"/>
              </a:solidFill>
              <a:latin typeface="VNI-Helve"/>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Saûn phaåm khaùc nhau </a:t>
            </a:r>
            <a:r>
              <a:rPr b="1" lang="en-US" sz="2400" spc="-1" strike="noStrike">
                <a:solidFill>
                  <a:srgbClr val="ff0000"/>
                </a:solidFill>
                <a:latin typeface="Wingdings"/>
                <a:ea typeface="Wingdings"/>
              </a:rPr>
              <a:t></a:t>
            </a:r>
            <a:r>
              <a:rPr b="1" lang="en-US" sz="2400" spc="-1" strike="noStrike">
                <a:solidFill>
                  <a:srgbClr val="ff0000"/>
                </a:solidFill>
                <a:latin typeface="VNI-Helve"/>
              </a:rPr>
              <a:t> phaân khuùc khaùc nhau</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5FCBBEF-0779-4868-B109-362718A540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hu caàu tieâu duøng</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5" name="PlaceHolder 2"/>
          <p:cNvSpPr>
            <a:spLocks noGrp="1"/>
          </p:cNvSpPr>
          <p:nvPr>
            <p:ph/>
          </p:nvPr>
        </p:nvSpPr>
        <p:spPr>
          <a:xfrm>
            <a:off x="457200" y="1218960"/>
            <a:ext cx="8305920" cy="5257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u caàu tieâu duøng (consumer needs) laø traïng thaùi ñoøi hoûi ñaùp öùng baèng nhöõng ñaëc tính/ lôïi ích cuûa saûn phaåm hoaëc dòch vuï</a:t>
            </a:r>
            <a:endParaRPr b="0" lang="en-US" sz="2000" spc="-1" strike="noStrike">
              <a:solidFill>
                <a:srgbClr val="000000"/>
              </a:solidFill>
              <a:latin typeface="VNI-Helve"/>
            </a:endParaRPr>
          </a:p>
          <a:p>
            <a:pPr marL="343080" indent="-343080">
              <a:lnSpc>
                <a:spcPct val="90000"/>
              </a:lnSpc>
              <a:spcBef>
                <a:spcPts val="4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ät soá yù töôûng veà nhu caàu tieâu duøng</a:t>
            </a:r>
            <a:endParaRPr b="0" lang="en-US" sz="20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aùo quaàn. Haõy cho toâi caùi nhìn thu huùt.</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giaøy. Haõy cho toâi söï thoaûi maùi treân ñoâi chaân vaø caûm giaùc khoan khoaùi khi ñi boä.</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nhaø ôû. Haõy cho toâi söï an toaøn, tieän nghi, nôi saïch seõ vaø haïnh phu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ùch. Haõy cho toâi nhöõng giôø thoaûi maùi vaø lôïi ích veà kieán thöù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óa haùt. Haõy cho toâi söï giaûi trí vaø aâm thanh cuûa aâm nhaïc.</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saûn phaåm noäi thaát. Haõy cho toâi tieän nghi vaø söï thanh thaûn cuûa moät nôi aám cuùng. </a:t>
            </a:r>
            <a:endParaRPr b="0" lang="en-US" sz="1800" spc="-1" strike="noStrike">
              <a:solidFill>
                <a:srgbClr val="000000"/>
              </a:solidFill>
              <a:latin typeface="VNI-Helve"/>
            </a:endParaRPr>
          </a:p>
          <a:p>
            <a:pPr lvl="1" marL="743040" indent="-285840">
              <a:lnSpc>
                <a:spcPct val="9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NI-Helve"/>
              </a:rPr>
              <a:t>Ñöøng cho toâi ñoà vaät. Haõy cho toâi nhöõng yù töôûng, caûm xuùc, khoâng khí, caûm giaùc vaø caùc lôïi ích</a:t>
            </a:r>
            <a:r>
              <a:rPr b="0" lang="en-US" sz="1800" spc="-1" strike="noStrike">
                <a:solidFill>
                  <a:srgbClr val="000000"/>
                </a:solidFill>
                <a:latin typeface="VNI-Helve"/>
              </a:rPr>
              <a:t> </a:t>
            </a:r>
            <a:endParaRPr b="0" lang="en-US" sz="1800" spc="-1" strike="noStrike">
              <a:solidFill>
                <a:srgbClr val="000000"/>
              </a:solidFill>
              <a:latin typeface="VNI-Helve"/>
            </a:endParaRPr>
          </a:p>
        </p:txBody>
      </p:sp>
      <p:sp>
        <p:nvSpPr>
          <p:cNvPr id="4" name="PlaceHolder 3"/>
          <p:cNvSpPr>
            <a:spLocks noGrp="1"/>
          </p:cNvSpPr>
          <p:nvPr>
            <p:ph type="sldNum" idx="3"/>
          </p:nvPr>
        </p:nvSpPr>
        <p:spPr/>
        <p:txBody>
          <a:bodyPr/>
          <a:p>
            <a:fld id="{B9C7DE37-72BF-4FFE-A9D2-62138BFA3E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maø coâng ty söû duïng ñeå ñaùp öùng nhöõng nhu caàu tieâu duøng vaø nhöõng nhoùm ngöôøi tieâu duøng ñeå ñaït ñöôïc lôïi theá caïnh tranh</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ieán löôïc </a:t>
            </a:r>
            <a:r>
              <a:rPr b="0" lang="en-US" sz="2800" spc="-1" strike="noStrike">
                <a:solidFill>
                  <a:srgbClr val="000000"/>
                </a:solidFill>
                <a:latin typeface="Wingdings"/>
                <a:ea typeface="Wingdings"/>
              </a:rPr>
              <a:t></a:t>
            </a:r>
            <a:r>
              <a:rPr b="0" lang="en-US" sz="2800" spc="-1" strike="noStrike">
                <a:solidFill>
                  <a:srgbClr val="000000"/>
                </a:solidFill>
                <a:latin typeface="VNI-Helve"/>
              </a:rPr>
              <a:t> lôïi theá caïnh tranh</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i phí (Cost)</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Efficienc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aát löôïng (Quality)</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ûi tieán (Innovatio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òch vuï khaùch haøng (Responsiveness to customers)</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C3B95DB-51B8-4465-A8EE-CF09565732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CAÏNH TRANH</a:t>
            </a:r>
            <a:br>
              <a:rPr sz="3400"/>
            </a:br>
            <a:r>
              <a:rPr b="1" lang="en-US" sz="3400" spc="-1" strike="noStrike">
                <a:solidFill>
                  <a:srgbClr val="ffff00"/>
                </a:solidFill>
                <a:latin typeface="VNI-Helve"/>
              </a:rPr>
              <a:t>ÑIEÅN HÌNH</a:t>
            </a:r>
            <a:endParaRPr b="1" i="1" lang="en-US" sz="3400" spc="-1" strike="noStrike">
              <a:solidFill>
                <a:srgbClr val="ffff00"/>
              </a:solidFill>
              <a:latin typeface="VNI-Helve"/>
            </a:endParaRPr>
          </a:p>
        </p:txBody>
      </p:sp>
      <p:sp>
        <p:nvSpPr>
          <p:cNvPr id="99" name=""/>
          <p:cNvSpPr/>
          <p:nvPr/>
        </p:nvSpPr>
        <p:spPr>
          <a:xfrm>
            <a:off x="3994200" y="1523880"/>
            <a:ext cx="2254320" cy="451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LÔÏI THEÁ CAÏNH TRANH</a:t>
            </a:r>
            <a:endParaRPr b="0" lang="en-US" sz="1400" spc="-1" strike="noStrike">
              <a:solidFill>
                <a:srgbClr val="000000"/>
              </a:solidFill>
              <a:latin typeface="Times New Roman"/>
            </a:endParaRPr>
          </a:p>
        </p:txBody>
      </p:sp>
      <p:sp>
        <p:nvSpPr>
          <p:cNvPr id="100" name=""/>
          <p:cNvSpPr/>
          <p:nvPr/>
        </p:nvSpPr>
        <p:spPr>
          <a:xfrm>
            <a:off x="3298680" y="2060640"/>
            <a:ext cx="162432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hi phí thaáp</a:t>
            </a:r>
            <a:endParaRPr b="0" lang="en-US" sz="1400" spc="-1" strike="noStrike">
              <a:solidFill>
                <a:srgbClr val="000000"/>
              </a:solidFill>
              <a:latin typeface="Times New Roman"/>
            </a:endParaRPr>
          </a:p>
        </p:txBody>
      </p:sp>
      <p:sp>
        <p:nvSpPr>
          <p:cNvPr id="101" name=""/>
          <p:cNvSpPr/>
          <p:nvPr/>
        </p:nvSpPr>
        <p:spPr>
          <a:xfrm>
            <a:off x="5462640" y="2060640"/>
            <a:ext cx="162396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Khaùc bieät hoùa</a:t>
            </a:r>
            <a:endParaRPr b="0" lang="en-US" sz="1400" spc="-1" strike="noStrike">
              <a:solidFill>
                <a:srgbClr val="000000"/>
              </a:solidFill>
              <a:latin typeface="Times New Roman"/>
            </a:endParaRPr>
          </a:p>
        </p:txBody>
      </p:sp>
      <p:sp>
        <p:nvSpPr>
          <p:cNvPr id="102" name=""/>
          <p:cNvSpPr/>
          <p:nvPr/>
        </p:nvSpPr>
        <p:spPr>
          <a:xfrm>
            <a:off x="914400" y="3375000"/>
            <a:ext cx="901800" cy="117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PHAÏ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V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CAÏN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TRANH</a:t>
            </a:r>
            <a:endParaRPr b="0" lang="en-US" sz="1400" spc="-1" strike="noStrike">
              <a:solidFill>
                <a:srgbClr val="000000"/>
              </a:solidFill>
              <a:latin typeface="Times New Roman"/>
            </a:endParaRPr>
          </a:p>
        </p:txBody>
      </p:sp>
      <p:sp>
        <p:nvSpPr>
          <p:cNvPr id="103" name=""/>
          <p:cNvSpPr/>
          <p:nvPr/>
        </p:nvSpPr>
        <p:spPr>
          <a:xfrm>
            <a:off x="1684440" y="2952720"/>
            <a:ext cx="811080" cy="45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Roäng</a:t>
            </a:r>
            <a:endParaRPr b="0" lang="en-US" sz="1400" spc="-1" strike="noStrike">
              <a:solidFill>
                <a:srgbClr val="000000"/>
              </a:solidFill>
              <a:latin typeface="Times New Roman"/>
            </a:endParaRPr>
          </a:p>
        </p:txBody>
      </p:sp>
      <p:sp>
        <p:nvSpPr>
          <p:cNvPr id="104" name=""/>
          <p:cNvSpPr/>
          <p:nvPr/>
        </p:nvSpPr>
        <p:spPr>
          <a:xfrm>
            <a:off x="1684440" y="4705200"/>
            <a:ext cx="811080" cy="45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Heïp</a:t>
            </a:r>
            <a:endParaRPr b="0" lang="en-US" sz="1400" spc="-1" strike="noStrike">
              <a:solidFill>
                <a:srgbClr val="000000"/>
              </a:solidFill>
              <a:latin typeface="Times New Roman"/>
            </a:endParaRPr>
          </a:p>
        </p:txBody>
      </p:sp>
      <p:sp>
        <p:nvSpPr>
          <p:cNvPr id="105" name=""/>
          <p:cNvSpPr/>
          <p:nvPr/>
        </p:nvSpPr>
        <p:spPr>
          <a:xfrm>
            <a:off x="2590920" y="2489040"/>
            <a:ext cx="259056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Chi phí thaáp</a:t>
            </a:r>
            <a:endParaRPr b="0" lang="en-US" sz="2000" spc="-1" strike="noStrike">
              <a:solidFill>
                <a:srgbClr val="000000"/>
              </a:solidFill>
              <a:latin typeface="Times New Roman"/>
            </a:endParaRPr>
          </a:p>
        </p:txBody>
      </p:sp>
      <p:sp>
        <p:nvSpPr>
          <p:cNvPr id="106" name=""/>
          <p:cNvSpPr/>
          <p:nvPr/>
        </p:nvSpPr>
        <p:spPr>
          <a:xfrm>
            <a:off x="5181480" y="2489040"/>
            <a:ext cx="2362320" cy="1524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107" name=""/>
          <p:cNvSpPr/>
          <p:nvPr/>
        </p:nvSpPr>
        <p:spPr>
          <a:xfrm>
            <a:off x="2590920" y="4013280"/>
            <a:ext cx="2590560" cy="14475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heo chi phí</a:t>
            </a:r>
            <a:endParaRPr b="0" lang="en-US" sz="2000" spc="-1" strike="noStrike">
              <a:solidFill>
                <a:srgbClr val="000000"/>
              </a:solidFill>
              <a:latin typeface="Times New Roman"/>
            </a:endParaRPr>
          </a:p>
        </p:txBody>
      </p:sp>
      <p:sp>
        <p:nvSpPr>
          <p:cNvPr id="108" name=""/>
          <p:cNvSpPr/>
          <p:nvPr/>
        </p:nvSpPr>
        <p:spPr>
          <a:xfrm>
            <a:off x="5181480" y="4013280"/>
            <a:ext cx="2362320" cy="14475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Taäp trung the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khaùc bieät hoù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668E380-C5D7-4C20-BCC6-FEAF038811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I-Helve"/>
              </a:rPr>
              <a:t>Muïc tieâu cuûa coâng ty theo ñuoåi chieán löôïc chi phí thaáp laø taïo lôïi theá caïnh tranh baèng caùch taïo ra saûn phaåm vôùi chi phí thaáp nhaát</a:t>
            </a:r>
            <a:r>
              <a:rPr b="0" lang="en-US" sz="2800" spc="-1" strike="noStrike">
                <a:solidFill>
                  <a:srgbClr val="000000"/>
                </a:solidFill>
                <a:latin typeface="VNI-Helve"/>
              </a:rPr>
              <a:t>. </a:t>
            </a:r>
            <a:endParaRPr b="0" lang="en-US" sz="28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Ñaëc ñieåm</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äp trung vaøo coâng ngheä vaø quaûn lyù ñeå giaûm chi phí</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taäp trung vaøo khaùc bieät hoùa saûn phaåm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ñi tieân phong trong lónh vöïc nghieân cöùu, ñöa ra tính naêng môùi, saûn phaåm môùi </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oùm khaùch haøng maø coâng ty phuïc vuï thöôøng laø nhoùm “khaùch haøng trung bình”.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D6FAC83-C4A6-4D17-8898-11C8264BCC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HI PHÍ THAÁP</a:t>
            </a:r>
            <a:endParaRPr b="1" i="1" lang="en-US" sz="3400" spc="-1" strike="noStrike">
              <a:solidFill>
                <a:srgbClr val="ffff00"/>
              </a:solidFill>
              <a:latin typeface="VNI-Helve"/>
            </a:endParaRPr>
          </a:p>
        </p:txBody>
      </p:sp>
      <p:sp>
        <p:nvSpPr>
          <p:cNvPr id="112"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4000"/>
          </a:bodyPr>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u ñieåm: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caïnh tra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höông löôïng vôùi nhaø cung caáp maïnh</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toát vôùi saûn phaåm thay theá</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ïo raøo caûn thaâm nhaäp thò tröôøng</a:t>
            </a:r>
            <a:endParaRPr b="0" lang="en-US" sz="2400" spc="-1" strike="noStrike">
              <a:solidFill>
                <a:srgbClr val="000000"/>
              </a:solidFill>
              <a:latin typeface="VNI-Helve"/>
            </a:endParaRPr>
          </a:p>
          <a:p>
            <a:pPr marL="322200" indent="-32220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Ruûi ro: </a:t>
            </a:r>
            <a:endParaRPr b="0" lang="en-US" sz="28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 ñeå ñaït möùc chi phí thaáp </a:t>
            </a:r>
            <a:r>
              <a:rPr b="0" lang="en-US" sz="2400" spc="-1" strike="noStrike">
                <a:solidFill>
                  <a:srgbClr val="000000"/>
                </a:solidFill>
                <a:latin typeface="Wingdings"/>
                <a:ea typeface="Wingdings"/>
              </a:rPr>
              <a:t></a:t>
            </a:r>
            <a:r>
              <a:rPr b="0" lang="en-US" sz="2400" spc="-1" strike="noStrike">
                <a:solidFill>
                  <a:srgbClr val="000000"/>
                </a:solidFill>
                <a:latin typeface="VNI-Helve"/>
              </a:rPr>
              <a:t> toán keùm, ruûi ro</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eã daøng bò baét chöôùc</a:t>
            </a:r>
            <a:endParaRPr b="0" lang="en-US" sz="2400" spc="-1" strike="noStrike">
              <a:solidFill>
                <a:srgbClr val="000000"/>
              </a:solidFill>
              <a:latin typeface="VNI-Helve"/>
            </a:endParaRPr>
          </a:p>
          <a:p>
            <a:pPr lvl="1" marL="698400" indent="-2685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theå khoâng chuù yù ñeán thò hieáu vaø nhu caàu cuûa khaùch ha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5941E6C-FA72-475D-BE89-14E8CABABD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20:24Z</dcterms:modified>
  <cp:revision>25</cp:revision>
  <dc:subject/>
  <dc:title>PowerPoint Presentation</dc:title>
</cp:coreProperties>
</file>