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EB627-3A2D-4592-8D1F-25B34B819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4D609-096B-47C5-9A1F-021A92696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F0D80-2FB3-4C6E-8AB5-F21FB8EB3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8F6CC-58AC-4EB1-B58E-B6F986D2D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F9B1B-8CB2-4BCA-9D18-50A8A657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8604A-4437-49CA-A891-A354813AB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76786-B1E6-4828-BA6B-5755F5966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CE921-5097-4DCC-BA14-78A0DC3C1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1F5DD-7187-4BA6-9B45-B57207FF5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7D257-0554-4C98-8898-2B79CDFF4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2D9A2-07C5-4B1A-BC84-3B6A0F734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0D515-899C-4577-B911-A0E02B923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05CD-44CA-4337-A417-C980EE3828B6}"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520" y="961920"/>
            <a:ext cx="836604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amp;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1DD7DDCF-4ED2-4B08-97CF-762E34B77F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oáng (Living standar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g caùch soáng (life style)</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tieâu duø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daân so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æ leä taêng daân soá/Dòch chuyeån daân soá/Di da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vaên hoùa</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i troø phuï nöõ trong xaõ hoä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B7F8AFE-C243-4F3E-8729-8EE57FAA7C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5" name=""/>
          <p:cNvSpPr/>
          <p:nvPr/>
        </p:nvSpPr>
        <p:spPr>
          <a:xfrm>
            <a:off x="3646440" y="1676520"/>
            <a:ext cx="1542960" cy="5652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Soá phuï nöõ ñöôïc ñaøo taïo ÑH taêng</a:t>
            </a:r>
            <a:endParaRPr b="0" lang="en-US" sz="1300" spc="-1" strike="noStrike">
              <a:solidFill>
                <a:srgbClr val="000000"/>
              </a:solidFill>
              <a:latin typeface="Times New Roman"/>
            </a:endParaRPr>
          </a:p>
        </p:txBody>
      </p:sp>
      <p:sp>
        <p:nvSpPr>
          <p:cNvPr id="156" name=""/>
          <p:cNvSpPr/>
          <p:nvPr/>
        </p:nvSpPr>
        <p:spPr>
          <a:xfrm>
            <a:off x="3276720" y="2882880"/>
            <a:ext cx="2255760" cy="698400"/>
          </a:xfrm>
          <a:prstGeom prst="rect">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NI-Helve"/>
              </a:rPr>
              <a:t>Quan ñieåm cuûa phuï nöõ vaø quan ñieåm veà phuï nöõ thay ñoåi</a:t>
            </a:r>
            <a:endParaRPr b="0" lang="en-US" sz="1300" spc="-1" strike="noStrike">
              <a:solidFill>
                <a:srgbClr val="000000"/>
              </a:solidFill>
              <a:latin typeface="Times New Roman"/>
            </a:endParaRPr>
          </a:p>
        </p:txBody>
      </p:sp>
      <p:sp>
        <p:nvSpPr>
          <p:cNvPr id="157" name=""/>
          <p:cNvSpPr/>
          <p:nvPr/>
        </p:nvSpPr>
        <p:spPr>
          <a:xfrm>
            <a:off x="3646440" y="4011480"/>
            <a:ext cx="1542960" cy="758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Chaêm soùc söùc khoûe vaø laøm ñeïp  nhieàu hôn</a:t>
            </a:r>
            <a:endParaRPr b="0" lang="en-US" sz="1300" spc="-1" strike="noStrike">
              <a:solidFill>
                <a:srgbClr val="000000"/>
              </a:solidFill>
              <a:latin typeface="Times New Roman"/>
            </a:endParaRPr>
          </a:p>
        </p:txBody>
      </p:sp>
      <p:sp>
        <p:nvSpPr>
          <p:cNvPr id="158" name=""/>
          <p:cNvSpPr/>
          <p:nvPr/>
        </p:nvSpPr>
        <p:spPr>
          <a:xfrm>
            <a:off x="5533920" y="2155680"/>
            <a:ext cx="1781280" cy="66384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Moái quan taâm ñeán coâng vieäc vaø söï nghieäp taêng</a:t>
            </a:r>
            <a:endParaRPr b="0" lang="en-US" sz="1300" spc="-1" strike="noStrike">
              <a:solidFill>
                <a:srgbClr val="000000"/>
              </a:solidFill>
              <a:latin typeface="Times New Roman"/>
            </a:endParaRPr>
          </a:p>
        </p:txBody>
      </p:sp>
      <p:sp>
        <p:nvSpPr>
          <p:cNvPr id="159" name=""/>
          <p:cNvSpPr/>
          <p:nvPr/>
        </p:nvSpPr>
        <p:spPr>
          <a:xfrm>
            <a:off x="5653080" y="3527280"/>
            <a:ext cx="1542960" cy="785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Thôøi gian daønh cho coâng vieäc gia ñình ít hôn</a:t>
            </a:r>
            <a:endParaRPr b="0" lang="en-US" sz="1300" spc="-1" strike="noStrike">
              <a:solidFill>
                <a:srgbClr val="000000"/>
              </a:solidFill>
              <a:latin typeface="Times New Roman"/>
            </a:endParaRPr>
          </a:p>
        </p:txBody>
      </p:sp>
      <p:sp>
        <p:nvSpPr>
          <p:cNvPr id="160" name=""/>
          <p:cNvSpPr/>
          <p:nvPr/>
        </p:nvSpPr>
        <p:spPr>
          <a:xfrm>
            <a:off x="1474920" y="22366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Löông cao hôn</a:t>
            </a:r>
            <a:endParaRPr b="0" lang="en-US" sz="1300" spc="-1" strike="noStrike">
              <a:solidFill>
                <a:srgbClr val="000000"/>
              </a:solidFill>
              <a:latin typeface="Times New Roman"/>
            </a:endParaRPr>
          </a:p>
        </p:txBody>
      </p:sp>
      <p:sp>
        <p:nvSpPr>
          <p:cNvPr id="161" name=""/>
          <p:cNvSpPr/>
          <p:nvPr/>
        </p:nvSpPr>
        <p:spPr>
          <a:xfrm>
            <a:off x="1474920" y="35272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Nhu caàu theå hieän mình cao hôn</a:t>
            </a:r>
            <a:endParaRPr b="0" lang="en-US" sz="1300" spc="-1" strike="noStrike">
              <a:solidFill>
                <a:srgbClr val="000000"/>
              </a:solidFill>
              <a:latin typeface="Times New Roman"/>
            </a:endParaRPr>
          </a:p>
        </p:txBody>
      </p:sp>
      <p:sp>
        <p:nvSpPr>
          <p:cNvPr id="162" name=""/>
          <p:cNvSpPr/>
          <p:nvPr/>
        </p:nvSpPr>
        <p:spPr>
          <a:xfrm>
            <a:off x="3646440" y="5462640"/>
            <a:ext cx="1542960" cy="5652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NI-Helve"/>
              </a:rPr>
              <a:t>???</a:t>
            </a:r>
            <a:endParaRPr b="0" lang="en-US" sz="2600" spc="-1" strike="noStrike">
              <a:solidFill>
                <a:srgbClr val="000000"/>
              </a:solidFill>
              <a:latin typeface="Times New Roman"/>
            </a:endParaRPr>
          </a:p>
        </p:txBody>
      </p:sp>
      <p:sp>
        <p:nvSpPr>
          <p:cNvPr id="163" name=""/>
          <p:cNvSpPr/>
          <p:nvPr/>
        </p:nvSpPr>
        <p:spPr>
          <a:xfrm flipV="1">
            <a:off x="4346640" y="2236320"/>
            <a:ext cx="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581280"/>
            <a:ext cx="324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3039840" y="2479320"/>
            <a:ext cx="61740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016960" y="2475000"/>
            <a:ext cx="46260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039840" y="3581280"/>
            <a:ext cx="54108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29200" y="3581280"/>
            <a:ext cx="58104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67080" y="4898880"/>
            <a:ext cx="236520" cy="482760"/>
          </a:xfrm>
          <a:prstGeom prst="downArrow">
            <a:avLst>
              <a:gd name="adj1" fmla="val 50000"/>
              <a:gd name="adj2" fmla="val 5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16040" y="4898880"/>
            <a:ext cx="53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359192-B9BB-45AF-9855-E9528EE9B4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thaønh töïu khoa hoïc</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coâng ngheä/Toác ñoä phaùt trieån cuûa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yeån giao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àu tö cho nghieân cöùu vaø phaùt trieån (R&amp;D)</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cho nghieân cöùu vaø phaùt trieå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baûo veä baûn quyeà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ñoái vôùi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D6E37B2-6502-4F38-9E4E-CEA7EEB776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4" name=""/>
          <p:cNvSpPr/>
          <p:nvPr/>
        </p:nvSpPr>
        <p:spPr>
          <a:xfrm flipV="1">
            <a:off x="2293920" y="2058480"/>
            <a:ext cx="0" cy="24195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3920" y="4478400"/>
            <a:ext cx="474984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84680" y="2057400"/>
            <a:ext cx="142560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B</a:t>
            </a:r>
            <a:endParaRPr b="0" lang="en-US" sz="1200" spc="-1" strike="noStrike">
              <a:solidFill>
                <a:srgbClr val="000000"/>
              </a:solidFill>
              <a:latin typeface="Times New Roman"/>
            </a:endParaRPr>
          </a:p>
        </p:txBody>
      </p:sp>
      <p:sp>
        <p:nvSpPr>
          <p:cNvPr id="177" name=""/>
          <p:cNvSpPr/>
          <p:nvPr/>
        </p:nvSpPr>
        <p:spPr>
          <a:xfrm>
            <a:off x="3189240" y="2946240"/>
            <a:ext cx="1424160" cy="32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A</a:t>
            </a:r>
            <a:endParaRPr b="0" lang="en-US" sz="1200" spc="-1" strike="noStrike">
              <a:solidFill>
                <a:srgbClr val="000000"/>
              </a:solidFill>
              <a:latin typeface="Times New Roman"/>
            </a:endParaRPr>
          </a:p>
        </p:txBody>
      </p:sp>
      <p:sp>
        <p:nvSpPr>
          <p:cNvPr id="178" name=""/>
          <p:cNvSpPr/>
          <p:nvPr/>
        </p:nvSpPr>
        <p:spPr>
          <a:xfrm>
            <a:off x="5381640" y="4719600"/>
            <a:ext cx="178128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Noã löïc nghieân cöùu phaùt trieån coâng nghieäp</a:t>
            </a:r>
            <a:endParaRPr b="0" lang="en-US" sz="1200" spc="-1" strike="noStrike">
              <a:solidFill>
                <a:srgbClr val="000000"/>
              </a:solidFill>
              <a:latin typeface="Times New Roman"/>
            </a:endParaRPr>
          </a:p>
        </p:txBody>
      </p:sp>
      <p:sp>
        <p:nvSpPr>
          <p:cNvPr id="179" name=""/>
          <p:cNvSpPr/>
          <p:nvPr/>
        </p:nvSpPr>
        <p:spPr>
          <a:xfrm>
            <a:off x="1411200" y="2787480"/>
            <a:ext cx="901800" cy="161316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Hoaøn thaønh nghieân cöùu vaø phaùt trieån hoaëc tieán boä coâng nghieäp</a:t>
            </a:r>
            <a:endParaRPr b="0" lang="en-US" sz="1200" spc="-1" strike="noStrike">
              <a:solidFill>
                <a:srgbClr val="000000"/>
              </a:solidFill>
              <a:latin typeface="Times New Roman"/>
            </a:endParaRPr>
          </a:p>
        </p:txBody>
      </p:sp>
      <p:sp>
        <p:nvSpPr>
          <p:cNvPr id="180" name=""/>
          <p:cNvSpPr/>
          <p:nvPr/>
        </p:nvSpPr>
        <p:spPr>
          <a:xfrm>
            <a:off x="4613400" y="2457360"/>
            <a:ext cx="761760" cy="10861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06600" y="3314880"/>
            <a:ext cx="963720" cy="9223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33280" y="5516640"/>
            <a:ext cx="526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hu kyø soáng cuûa coâng ngheä</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768766-A2B9-4ED2-A993-CF57E8B84C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pic>
        <p:nvPicPr>
          <p:cNvPr id="184" name="" descr=""/>
          <p:cNvPicPr/>
          <p:nvPr/>
        </p:nvPicPr>
        <p:blipFill>
          <a:blip r:embed="rId1"/>
          <a:stretch/>
        </p:blipFill>
        <p:spPr>
          <a:xfrm>
            <a:off x="609480" y="1676520"/>
            <a:ext cx="7925040" cy="4714920"/>
          </a:xfrm>
          <a:prstGeom prst="rect">
            <a:avLst/>
          </a:prstGeom>
          <a:ln w="0">
            <a:noFill/>
          </a:ln>
        </p:spPr>
      </p:pic>
      <p:sp>
        <p:nvSpPr>
          <p:cNvPr id="185" name=""/>
          <p:cNvSpPr/>
          <p:nvPr/>
        </p:nvSpPr>
        <p:spPr>
          <a:xfrm>
            <a:off x="674640" y="636120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John Vu, Boeing</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CFC5E34F-D1EF-45E0-A7DB-DF9B95398A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töï nhieân (Natural Factors) </a:t>
            </a:r>
            <a:endParaRPr b="1" i="1" lang="en-US" sz="3400" spc="-1" strike="noStrike">
              <a:solidFill>
                <a:srgbClr val="ffff00"/>
              </a:solidFill>
              <a:latin typeface="VNI-Helve"/>
            </a:endParaRPr>
          </a:p>
        </p:txBody>
      </p:sp>
      <p:sp>
        <p:nvSpPr>
          <p:cNvPr id="18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ôï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nguyeân thieân nhie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C5EF2C9-87E9-49EC-AF99-BAE816C324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TAÙC NGHIEÄP</a:t>
            </a:r>
            <a:br>
              <a:rPr sz="3400"/>
            </a:br>
            <a:r>
              <a:rPr b="1" i="1" lang="en-US" sz="3400" spc="-1" strike="noStrike">
                <a:solidFill>
                  <a:srgbClr val="ffff00"/>
                </a:solidFill>
                <a:latin typeface="VNI-Helve"/>
              </a:rPr>
              <a:t>(Moâi tröôøng vi moâ / Taùc löïc caïnh tranh)</a:t>
            </a:r>
            <a:endParaRPr b="1" i="1" lang="en-US" sz="3400" spc="-1" strike="noStrike">
              <a:solidFill>
                <a:srgbClr val="ffff00"/>
              </a:solidFill>
              <a:latin typeface="VNI-Helve"/>
            </a:endParaRPr>
          </a:p>
        </p:txBody>
      </p:sp>
      <p:sp>
        <p:nvSpPr>
          <p:cNvPr id="1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Ngaønh coâng nghieäp</a:t>
            </a:r>
            <a:endParaRPr b="0" lang="en-US" sz="3200" spc="-1" strike="noStrike">
              <a:solidFill>
                <a:srgbClr val="000000"/>
              </a:solidFill>
              <a:latin typeface="VNI-Helv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nghóa: ngaønh coâng nghieäp laø moät nhoùm coâng ty saûn xuaát caùc saûn phaåm töông töï/ thay theá gaàn guõi cho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DFA618B-F428-4C45-8E96-D4A9789C82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Naêm Taùc Löïc – Five Forces Model</a:t>
            </a:r>
            <a:br>
              <a:rPr sz="3400"/>
            </a:br>
            <a:r>
              <a:rPr b="1" i="1" lang="en-US" sz="3400" spc="-1" strike="noStrike">
                <a:solidFill>
                  <a:srgbClr val="ffff00"/>
                </a:solidFill>
                <a:latin typeface="VNI-Helve"/>
              </a:rPr>
              <a:t>(Micheal E. Porter)</a:t>
            </a:r>
            <a:endParaRPr b="1" i="1" lang="en-US" sz="3400" spc="-1" strike="noStrike">
              <a:solidFill>
                <a:srgbClr val="ffff00"/>
              </a:solidFill>
              <a:latin typeface="VNI-Helve"/>
            </a:endParaRPr>
          </a:p>
        </p:txBody>
      </p:sp>
      <p:sp>
        <p:nvSpPr>
          <p:cNvPr id="191" name=""/>
          <p:cNvSpPr/>
          <p:nvPr/>
        </p:nvSpPr>
        <p:spPr>
          <a:xfrm>
            <a:off x="3557520" y="146844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ñoái thuû tieàm aån</a:t>
            </a:r>
            <a:endParaRPr b="0" lang="en-US" sz="1600" spc="-1" strike="noStrike">
              <a:solidFill>
                <a:srgbClr val="000000"/>
              </a:solidFill>
              <a:latin typeface="Times New Roman"/>
            </a:endParaRPr>
          </a:p>
        </p:txBody>
      </p:sp>
      <p:sp>
        <p:nvSpPr>
          <p:cNvPr id="192" name=""/>
          <p:cNvSpPr/>
          <p:nvPr/>
        </p:nvSpPr>
        <p:spPr>
          <a:xfrm>
            <a:off x="1066680" y="3726000"/>
            <a:ext cx="106200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cung caáp</a:t>
            </a:r>
            <a:endParaRPr b="0" lang="en-US" sz="1600" spc="-1" strike="noStrike">
              <a:solidFill>
                <a:srgbClr val="000000"/>
              </a:solidFill>
              <a:latin typeface="Times New Roman"/>
            </a:endParaRPr>
          </a:p>
        </p:txBody>
      </p:sp>
      <p:sp>
        <p:nvSpPr>
          <p:cNvPr id="193" name=""/>
          <p:cNvSpPr/>
          <p:nvPr/>
        </p:nvSpPr>
        <p:spPr>
          <a:xfrm>
            <a:off x="6407280" y="3726000"/>
            <a:ext cx="98424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mua</a:t>
            </a:r>
            <a:endParaRPr b="0" lang="en-US" sz="1600" spc="-1" strike="noStrike">
              <a:solidFill>
                <a:srgbClr val="000000"/>
              </a:solidFill>
              <a:latin typeface="Times New Roman"/>
            </a:endParaRPr>
          </a:p>
        </p:txBody>
      </p:sp>
      <p:sp>
        <p:nvSpPr>
          <p:cNvPr id="194" name=""/>
          <p:cNvSpPr/>
          <p:nvPr/>
        </p:nvSpPr>
        <p:spPr>
          <a:xfrm>
            <a:off x="3556080" y="2919240"/>
            <a:ext cx="1546200" cy="2340000"/>
          </a:xfrm>
          <a:prstGeom prst="rect">
            <a:avLst/>
          </a:prstGeom>
          <a:solidFill>
            <a:srgbClr val="ffcc66"/>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coâng ty trong cuøng ngaøn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Helve"/>
              </a:rPr>
              <a:t>Möùc ñoä caïnh tranh giöõa caùc coâng ty trong cuøng ngaønh coâng nghieäp</a:t>
            </a:r>
            <a:endParaRPr b="0" lang="en-US" sz="1200" spc="-1" strike="noStrike">
              <a:solidFill>
                <a:srgbClr val="000000"/>
              </a:solidFill>
              <a:latin typeface="Times New Roman"/>
            </a:endParaRPr>
          </a:p>
        </p:txBody>
      </p:sp>
      <p:sp>
        <p:nvSpPr>
          <p:cNvPr id="195" name=""/>
          <p:cNvSpPr/>
          <p:nvPr/>
        </p:nvSpPr>
        <p:spPr>
          <a:xfrm flipV="1">
            <a:off x="4060800" y="3733200"/>
            <a:ext cx="476280" cy="484200"/>
          </a:xfrm>
          <a:custGeom>
            <a:avLst/>
            <a:gdLst>
              <a:gd name="textAreaLeft" fmla="*/ 0 w 476280"/>
              <a:gd name="textAreaRight" fmla="*/ 476640 w 476280"/>
              <a:gd name="textAreaTop" fmla="*/ -360 h 484200"/>
              <a:gd name="textAreaBottom" fmla="*/ 484200 h 484200"/>
            </a:gdLst>
            <a:ahLst/>
            <a:rect l="textAreaLeft" t="textAreaTop" r="textAreaRight" b="textAreaBottom"/>
            <a:pathLst>
              <a:path w="21600" h="21600">
                <a:moveTo>
                  <a:pt x="2607" y="3763"/>
                </a:moveTo>
                <a:arcTo wR="-10800" hR="-10800" stAng="-8360406" swAng="-16241597"/>
                <a:lnTo>
                  <a:pt x="3863" y="19077"/>
                </a:lnTo>
                <a:arcTo wR="10800" hR="10800" stAng="7797997" swAng="16241597"/>
                <a:lnTo>
                  <a:pt x="21041" y="19596"/>
                </a:lnTo>
                <a:lnTo>
                  <a:pt x="17234" y="19885"/>
                </a:lnTo>
                <a:lnTo>
                  <a:pt x="16945" y="16078"/>
                </a:lnTo>
                <a:close/>
              </a:path>
            </a:pathLst>
          </a:cu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70320" y="2033640"/>
            <a:ext cx="0" cy="885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08480" y="2193840"/>
            <a:ext cx="1544760" cy="48420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coù caùc ñoái thuû caïnh tranh môùi</a:t>
            </a:r>
            <a:endParaRPr b="0" lang="en-US" sz="1200" spc="-1" strike="noStrike">
              <a:solidFill>
                <a:srgbClr val="000000"/>
              </a:solidFill>
              <a:latin typeface="Times New Roman"/>
            </a:endParaRPr>
          </a:p>
        </p:txBody>
      </p:sp>
      <p:sp>
        <p:nvSpPr>
          <p:cNvPr id="198" name=""/>
          <p:cNvSpPr/>
          <p:nvPr/>
        </p:nvSpPr>
        <p:spPr>
          <a:xfrm>
            <a:off x="4308480" y="5410080"/>
            <a:ext cx="1749600" cy="42732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do caùc saûn phaåm vaø dòch vuï thay theá</a:t>
            </a:r>
            <a:endParaRPr b="0" lang="en-US" sz="1200" spc="-1" strike="noStrike">
              <a:solidFill>
                <a:srgbClr val="000000"/>
              </a:solidFill>
              <a:latin typeface="Times New Roman"/>
            </a:endParaRPr>
          </a:p>
        </p:txBody>
      </p:sp>
      <p:sp>
        <p:nvSpPr>
          <p:cNvPr id="199" name=""/>
          <p:cNvSpPr/>
          <p:nvPr/>
        </p:nvSpPr>
        <p:spPr>
          <a:xfrm flipV="1">
            <a:off x="4270320" y="5258880"/>
            <a:ext cx="0" cy="806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33720" y="3968640"/>
            <a:ext cx="1423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5101920" y="3968640"/>
            <a:ext cx="1305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47840" y="3200400"/>
            <a:ext cx="1260360" cy="48564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cung caáp </a:t>
            </a:r>
            <a:endParaRPr b="0" lang="en-US" sz="1200" spc="-1" strike="noStrike">
              <a:solidFill>
                <a:srgbClr val="000000"/>
              </a:solidFill>
              <a:latin typeface="Times New Roman"/>
            </a:endParaRPr>
          </a:p>
        </p:txBody>
      </p:sp>
      <p:sp>
        <p:nvSpPr>
          <p:cNvPr id="203" name=""/>
          <p:cNvSpPr/>
          <p:nvPr/>
        </p:nvSpPr>
        <p:spPr>
          <a:xfrm>
            <a:off x="5219640" y="3276720"/>
            <a:ext cx="1187640" cy="463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mua</a:t>
            </a:r>
            <a:endParaRPr b="0" lang="en-US" sz="1200" spc="-1" strike="noStrike">
              <a:solidFill>
                <a:srgbClr val="000000"/>
              </a:solidFill>
              <a:latin typeface="Times New Roman"/>
            </a:endParaRPr>
          </a:p>
        </p:txBody>
      </p:sp>
      <p:sp>
        <p:nvSpPr>
          <p:cNvPr id="204" name=""/>
          <p:cNvSpPr/>
          <p:nvPr/>
        </p:nvSpPr>
        <p:spPr>
          <a:xfrm>
            <a:off x="3581280" y="601992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Saûn phaåm thay theá</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7C13C46-6A08-4A10-8BA3-F6D3419ED1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ïnh tranh cuûa caùc coâng ty trong cuøng ngaønh coâng nghieäp</a:t>
            </a:r>
            <a:endParaRPr b="1" i="1" lang="en-US" sz="3400" spc="-1" strike="noStrike">
              <a:solidFill>
                <a:srgbClr val="ffff00"/>
              </a:solidFill>
              <a:latin typeface="VNI-Helve"/>
            </a:endParaRPr>
          </a:p>
        </p:txBody>
      </p:sp>
      <p:sp>
        <p:nvSpPr>
          <p:cNvPr id="20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a:t>
            </a:r>
            <a:r>
              <a:rPr b="0" lang="en-US" sz="2400" spc="-1" strike="noStrike">
                <a:solidFill>
                  <a:srgbClr val="000000"/>
                </a:solidFill>
                <a:latin typeface="Wingdings"/>
                <a:ea typeface="Wingdings"/>
              </a:rPr>
              <a:t></a:t>
            </a:r>
            <a:r>
              <a:rPr b="0" lang="en-US" sz="2400" spc="-1" strike="noStrike">
                <a:solidFill>
                  <a:srgbClr val="000000"/>
                </a:solidFill>
                <a:latin typeface="VNI-Helve"/>
              </a:rPr>
              <a:t> vò theá toát</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ình thöùc caïnh tranh: Giaù, quaûng caùo, saûn phaåm, dòch vuï, chaát löôïng, … </a:t>
            </a:r>
            <a:r>
              <a:rPr b="0" lang="en-US" sz="2400" spc="-1" strike="noStrike">
                <a:solidFill>
                  <a:srgbClr val="000000"/>
                </a:solidFill>
                <a:latin typeface="Wingdings"/>
                <a:ea typeface="Wingdings"/>
              </a:rPr>
              <a:t></a:t>
            </a:r>
            <a:r>
              <a:rPr b="0" lang="en-US" sz="2400" spc="-1" strike="noStrike">
                <a:solidFill>
                  <a:srgbClr val="000000"/>
                </a:solidFill>
                <a:latin typeface="VNI-Helve"/>
              </a:rPr>
              <a:t> thuyeát phuïc ngöôøi mua/khaùch haøng</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gay gaét phuï thuoäc vaø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á löôïng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ác ñoä taêng tröôûng cuûa ngaø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hi phí coá ñònh vaø chi phí löu kho</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Lôïi theá theo qui moâ</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khaùc bieät hoùa saûn phaåm thaáp</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ñoái thuû caïnh tranh ña daï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ùi ñoä caïnh tranh cuûa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Raøo caûn ruùt lui cao</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BBCBCBE9-D12D-4CEF-AF24-E02CE42E24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Phaân tích ñoái thuû caïnh tranh </a:t>
            </a:r>
            <a:endParaRPr b="1" i="1" lang="en-US" sz="3400" spc="-1" strike="noStrike">
              <a:solidFill>
                <a:srgbClr val="ffff00"/>
              </a:solidFill>
              <a:latin typeface="VNI-Helve"/>
            </a:endParaRPr>
          </a:p>
        </p:txBody>
      </p:sp>
      <p:sp>
        <p:nvSpPr>
          <p:cNvPr id="20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6000"/>
          </a:bodyPr>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töông lai</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oâng ty meï</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aùc ñôn vò kinh doanh/coâng ty con</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danh muïc kinh doanh</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ùc muïc tieâu quan troïng vaø öu tieân cuûa ñoái thuû caïnh tra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3DFF39D-D7FB-4E6F-9849-C0BABDD919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vó moâ</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ính trò – Phaùp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nh te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õ hoä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taùc nghieä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coâng nghieä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â hình Naêm Taùc Löïc</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ô hoäi, nguy cô</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CBC97E5-B3AA-432E-A23A-54F518C287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hieän taïi </a:t>
            </a:r>
            <a:endParaRPr b="1" i="1" lang="en-US" sz="3400" spc="-1" strike="noStrike">
              <a:solidFill>
                <a:srgbClr val="ffff00"/>
              </a:solidFill>
              <a:latin typeface="VNI-Helve"/>
            </a:endParaRPr>
          </a:p>
        </p:txBody>
      </p:sp>
      <p:sp>
        <p:nvSpPr>
          <p:cNvPr id="21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chính saùch then choát / hoaït ñoäng quan troïng trong töøng hoaït ñoäng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oái hôïp giöõa caùc boä phaän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oaït ñoäng ñaùng quan taâm cuûa ñoái thuû</a:t>
            </a:r>
            <a:endParaRPr b="0" lang="en-US" sz="28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692C763-EC06-4841-88D3-7323D1EA15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än ñònh</a:t>
            </a:r>
            <a:endParaRPr b="1" i="1" lang="en-US" sz="3400" spc="-1" strike="noStrike">
              <a:solidFill>
                <a:srgbClr val="ffff00"/>
              </a:solidFill>
              <a:latin typeface="VNI-Helve"/>
            </a:endParaRPr>
          </a:p>
        </p:txBody>
      </p:sp>
      <p:sp>
        <p:nvSpPr>
          <p:cNvPr id="21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töï ñaùnh giaù theá naøo veà hoï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ñaùnh giaù caùc ñoái thuû khaùc nhö theá naøo?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nhaän ñònh veà trieån voïng ngaø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CC6F88E-3FF7-4DF0-950A-C1B5618F3D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aêng löïc cuûa ñoái thuû caïnh tranh</a:t>
            </a:r>
            <a:endParaRPr b="1" i="1" lang="en-US" sz="3400" spc="-1" strike="noStrike">
              <a:solidFill>
                <a:srgbClr val="ffff00"/>
              </a:solidFill>
              <a:latin typeface="VNI-Helve"/>
            </a:endParaRPr>
          </a:p>
        </p:txBody>
      </p:sp>
      <p:sp>
        <p:nvSpPr>
          <p:cNvPr id="214"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xua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p thò</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hieân cöùu vaø phaùt trieån - R&amp;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thoâng ti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taùc quaûn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F764654-9CA4-4D42-A8DA-3A149AFDDA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sinh lôïi tieàm taøng cuûa ngaønh cuõng nhö khaû naêng toàn taïi cuûa coâng ty.</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khaùc nhau veà nhu caàu mua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oøi hoûi khaùc nhau veà möùc ñoä dòch vuï, chaát löôïng vaø ñaëc ñieåm cuûa saûn phaåm, keânh phaân phoái, … </a:t>
            </a:r>
            <a:r>
              <a:rPr b="0" lang="en-US" sz="2800" spc="-1" strike="noStrike">
                <a:solidFill>
                  <a:srgbClr val="000000"/>
                </a:solidFill>
                <a:latin typeface="Wingdings"/>
                <a:ea typeface="Wingdings"/>
              </a:rPr>
              <a:t></a:t>
            </a:r>
            <a:r>
              <a:rPr b="0" lang="en-US" sz="2800" spc="-1" strike="noStrike">
                <a:solidFill>
                  <a:srgbClr val="000000"/>
                </a:solidFill>
                <a:latin typeface="VNI-Helve"/>
              </a:rPr>
              <a:t> khaû naêng thöông löôïng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3ED3269-B4B6-4AD9-B5DB-BF53776B0A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8" name="PlaceHolder 2"/>
          <p:cNvSpPr>
            <a:spLocks noGrp="1"/>
          </p:cNvSpPr>
          <p:nvPr>
            <p:ph/>
          </p:nvPr>
        </p:nvSpPr>
        <p:spPr>
          <a:xfrm>
            <a:off x="457200" y="1447560"/>
            <a:ext cx="8305920" cy="47242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traû giaù)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haøng mua</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á löôïng nhaø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choïn löïa ñoái vôùi saûn phaåm thay theá.</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öï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quan troïng cuûa saûn phaåm ñoái vôùi K.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thoâng tin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7BAB64F-1390-4665-A15E-2BB811AA01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Ø CUNG  CAÁP</a:t>
            </a:r>
            <a:endParaRPr b="1" i="1" lang="en-US" sz="3400" spc="-1" strike="noStrike">
              <a:solidFill>
                <a:srgbClr val="ffff00"/>
              </a:solidFill>
              <a:latin typeface="VNI-Helve"/>
            </a:endParaRPr>
          </a:p>
        </p:txBody>
      </p:sp>
      <p:sp>
        <p:nvSpPr>
          <p:cNvPr id="220"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ø cung caáp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caïnh tranh cuûa coâng ty.</a:t>
            </a:r>
            <a:endParaRPr b="0" lang="en-US" sz="2800" spc="-1" strike="noStrike">
              <a:solidFill>
                <a:srgbClr val="000000"/>
              </a:solidFill>
              <a:latin typeface="VNI-Helve"/>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naâng giaù, giaûm chaát löôïng haøng hoaù) cuûa nhaø cung  caáp</a:t>
            </a: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löïa choïn saûn phaåm thay theá cuûa Cty. </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ôïng haøng mua</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quan troïng cuûa saûn phaåm ñoái vôùi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ø cung caáp coù öu theá vì chuyeân bieät hoùa saûn phaåm</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öï  cung caáp cuûa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keát hôïp veà phía tröôùc cuûa nhaø cung caáp</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BF0F09D-6D02-4630-89E1-728444BE20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SAÛN PHAÅM THAY THEÁ</a:t>
            </a:r>
            <a:endParaRPr b="1" i="1" lang="en-US" sz="3400" spc="-1" strike="noStrike">
              <a:solidFill>
                <a:srgbClr val="ffff00"/>
              </a:solidFill>
              <a:latin typeface="VNI-Helve"/>
            </a:endParaRPr>
          </a:p>
        </p:txBody>
      </p:sp>
      <p:sp>
        <p:nvSpPr>
          <p:cNvPr id="222" name="PlaceHolder 2"/>
          <p:cNvSpPr>
            <a:spLocks noGrp="1"/>
          </p:cNvSpPr>
          <p:nvPr>
            <p:ph/>
          </p:nvPr>
        </p:nvSpPr>
        <p:spPr>
          <a:xfrm>
            <a:off x="457200" y="1447920"/>
            <a:ext cx="83059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phaåm thay theá</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í duï:</a:t>
            </a:r>
            <a:r>
              <a:rPr b="0" lang="en-US" sz="2800" spc="-1" strike="noStrike">
                <a:solidFill>
                  <a:srgbClr val="000000"/>
                </a:solidFill>
                <a:latin typeface="VNI-Helve"/>
              </a:rPr>
              <a:t>	</a:t>
            </a:r>
            <a:r>
              <a:rPr b="0" lang="en-US" sz="2800" spc="-1" strike="noStrike">
                <a:solidFill>
                  <a:srgbClr val="000000"/>
                </a:solidFill>
                <a:latin typeface="VNI-Helve"/>
              </a:rPr>
              <a:t>Coca Cola – Pepsi Cola</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Traø Dilmal – Cafeù Trung nguyeâ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Ñaàu DVD Tieán Ñaït – Ñaàu DVD VTB</a:t>
            </a:r>
            <a:endParaRPr b="0" lang="en-US" sz="2400" spc="-1" strike="noStrike">
              <a:solidFill>
                <a:srgbClr val="000000"/>
              </a:solidFill>
              <a:latin typeface="VNI-Helv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amp; Nhu caàu khaùc bieät veà saûn phaåm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aùt trieån cuûa coâng ngheä</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Saûn phaåm thay theá</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1BD0037-6260-443E-8370-26223FEAF7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OÁI THUÛ CAÏNH TRANH TIEÀM AÅN </a:t>
            </a:r>
            <a:endParaRPr b="1" i="1" lang="en-US" sz="3400" spc="-1" strike="noStrike">
              <a:solidFill>
                <a:srgbClr val="ffff00"/>
              </a:solidFill>
              <a:latin typeface="VNI-Helve"/>
            </a:endParaRPr>
          </a:p>
        </p:txBody>
      </p:sp>
      <p:sp>
        <p:nvSpPr>
          <p:cNvPr id="22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 daïng hoùa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theá nhôø qui moâ</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 – ñaàu tö</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now-how</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uûa chính p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Raøo caûn gia nhaäp (Entry barrier)</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9F35984-38BC-449B-95E5-0E0257948D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VNI-Helve"/>
              </a:rPr>
              <a:t>Cô hoäi vaø nguy cô </a:t>
            </a:r>
            <a:endParaRPr b="1" i="1" lang="en-US" sz="3000" spc="-1" strike="noStrike">
              <a:solidFill>
                <a:srgbClr val="ffff00"/>
              </a:solidFill>
              <a:latin typeface="VNI-Helve"/>
            </a:endParaRPr>
          </a:p>
        </p:txBody>
      </p:sp>
      <p:sp>
        <p:nvSpPr>
          <p:cNvPr id="22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beân ngoaøi nhaèm ñeå öôùc löôïng nhöõng cô hoäi vaø nguy cô ñeå töø ñoù coù nhöõng haønh ñoäng chieán löôïc tranh thuû cô hoäi vaø giaûm thieåu nguy cô.</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hoäi kinh doanh laø nhöõng ñieàu kieän moâi tröôøng beân ngoaøi coù lôïi cho coâng ty. </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D223DD5-3C25-4C7A-A317-69B7E7505F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7000" y="1295280"/>
            <a:ext cx="80308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3281400" y="3019320"/>
            <a:ext cx="2585880" cy="2771640"/>
            <a:chOff x="3281400" y="3019320"/>
            <a:chExt cx="2585880" cy="2771640"/>
          </a:xfrm>
        </p:grpSpPr>
        <p:grpSp>
          <p:nvGrpSpPr>
            <p:cNvPr id="231" name=""/>
            <p:cNvGrpSpPr/>
            <p:nvPr/>
          </p:nvGrpSpPr>
          <p:grpSpPr>
            <a:xfrm>
              <a:off x="3281400" y="3019320"/>
              <a:ext cx="2585880" cy="2068920"/>
              <a:chOff x="3281400" y="3019320"/>
              <a:chExt cx="2585880" cy="2068920"/>
            </a:xfrm>
          </p:grpSpPr>
          <p:sp>
            <p:nvSpPr>
              <p:cNvPr id="232"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326760" y="3220200"/>
                <a:ext cx="2493360" cy="1352160"/>
                <a:chOff x="3326760" y="3220200"/>
                <a:chExt cx="2493360" cy="1352160"/>
              </a:xfrm>
            </p:grpSpPr>
            <p:sp>
              <p:nvSpPr>
                <p:cNvPr id="234"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236" name=""/>
                <p:cNvGrpSpPr/>
                <p:nvPr/>
              </p:nvGrpSpPr>
              <p:grpSpPr>
                <a:xfrm>
                  <a:off x="5600520" y="4342320"/>
                  <a:ext cx="219600" cy="137160"/>
                  <a:chOff x="5600520" y="4342320"/>
                  <a:chExt cx="219600" cy="137160"/>
                </a:xfrm>
              </p:grpSpPr>
              <p:sp>
                <p:nvSpPr>
                  <p:cNvPr id="237"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40"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241" name=""/>
                <p:cNvGrpSpPr/>
                <p:nvPr/>
              </p:nvGrpSpPr>
              <p:grpSpPr>
                <a:xfrm>
                  <a:off x="5209560" y="3421440"/>
                  <a:ext cx="464400" cy="974160"/>
                  <a:chOff x="5209560" y="3421440"/>
                  <a:chExt cx="464400" cy="974160"/>
                </a:xfrm>
              </p:grpSpPr>
              <p:grpSp>
                <p:nvGrpSpPr>
                  <p:cNvPr id="242" name=""/>
                  <p:cNvGrpSpPr/>
                  <p:nvPr/>
                </p:nvGrpSpPr>
                <p:grpSpPr>
                  <a:xfrm>
                    <a:off x="5284080" y="3521160"/>
                    <a:ext cx="104040" cy="291960"/>
                    <a:chOff x="5284080" y="3521160"/>
                    <a:chExt cx="104040" cy="291960"/>
                  </a:xfrm>
                </p:grpSpPr>
                <p:sp>
                  <p:nvSpPr>
                    <p:cNvPr id="243"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5"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46"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8"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9"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4359240" y="3224160"/>
                  <a:ext cx="234000" cy="248760"/>
                  <a:chOff x="4359240" y="3224160"/>
                  <a:chExt cx="234000" cy="248760"/>
                </a:xfrm>
              </p:grpSpPr>
              <p:grpSp>
                <p:nvGrpSpPr>
                  <p:cNvPr id="257" name=""/>
                  <p:cNvGrpSpPr/>
                  <p:nvPr/>
                </p:nvGrpSpPr>
                <p:grpSpPr>
                  <a:xfrm>
                    <a:off x="4451040" y="3378960"/>
                    <a:ext cx="73080" cy="93960"/>
                    <a:chOff x="4451040" y="3378960"/>
                    <a:chExt cx="73080" cy="93960"/>
                  </a:xfrm>
                </p:grpSpPr>
                <p:sp>
                  <p:nvSpPr>
                    <p:cNvPr id="258"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9"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3929760" y="3720240"/>
              <a:ext cx="1238760" cy="2070720"/>
              <a:chOff x="3929760" y="3720240"/>
              <a:chExt cx="1238760" cy="2070720"/>
            </a:xfrm>
          </p:grpSpPr>
          <p:sp>
            <p:nvSpPr>
              <p:cNvPr id="269"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641480" y="3738960"/>
                <a:ext cx="527040" cy="2007360"/>
                <a:chOff x="4641480" y="3738960"/>
                <a:chExt cx="527040" cy="2007360"/>
              </a:xfrm>
            </p:grpSpPr>
            <p:sp>
              <p:nvSpPr>
                <p:cNvPr id="271"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5985BE97-A4A9-4373-B7FD-12ED976F9A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6838657-544F-4DDB-A7C4-BD6F97479C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27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C222286-40F8-4E93-89BF-0A83E8BDED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MOÂI TRÖÔØNG BEÂN TRONG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277" name=""/>
          <p:cNvSpPr/>
          <p:nvPr/>
        </p:nvSpPr>
        <p:spPr>
          <a:xfrm>
            <a:off x="533520" y="2514600"/>
            <a:ext cx="1676160" cy="236232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em xeùt, ñaùnh giaù nguoàn löïc Coâng ty</a:t>
            </a:r>
            <a:endParaRPr b="0" lang="en-US" sz="1600" spc="-1" strike="noStrike">
              <a:solidFill>
                <a:srgbClr val="000000"/>
              </a:solidFill>
              <a:latin typeface="Times New Roman"/>
            </a:endParaRPr>
          </a:p>
        </p:txBody>
      </p:sp>
      <p:sp>
        <p:nvSpPr>
          <p:cNvPr id="278" name=""/>
          <p:cNvSpPr/>
          <p:nvPr/>
        </p:nvSpPr>
        <p:spPr>
          <a:xfrm>
            <a:off x="2590920" y="2514600"/>
            <a:ext cx="1752480" cy="2362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uû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oâng ty</a:t>
            </a:r>
            <a:endParaRPr b="0" lang="en-US" sz="1600" spc="-1" strike="noStrike">
              <a:solidFill>
                <a:srgbClr val="000000"/>
              </a:solidFill>
              <a:latin typeface="Times New Roman"/>
            </a:endParaRPr>
          </a:p>
        </p:txBody>
      </p:sp>
      <p:sp>
        <p:nvSpPr>
          <p:cNvPr id="279" name=""/>
          <p:cNvSpPr/>
          <p:nvPr/>
        </p:nvSpPr>
        <p:spPr>
          <a:xfrm>
            <a:off x="4724280" y="2514600"/>
            <a:ext cx="1828800" cy="23623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huû ñaïo vaø Naêng löïc khaùc bieät cuûa Cty</a:t>
            </a:r>
            <a:endParaRPr b="0" lang="en-US" sz="1600" spc="-1" strike="noStrike">
              <a:solidFill>
                <a:srgbClr val="000000"/>
              </a:solidFill>
              <a:latin typeface="Times New Roman"/>
            </a:endParaRPr>
          </a:p>
        </p:txBody>
      </p:sp>
      <p:sp>
        <p:nvSpPr>
          <p:cNvPr id="280" name=""/>
          <p:cNvSpPr/>
          <p:nvPr/>
        </p:nvSpPr>
        <p:spPr>
          <a:xfrm>
            <a:off x="6934320" y="2514600"/>
            <a:ext cx="1676160" cy="236232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aïnh tranh cuûa Coâng ty</a:t>
            </a:r>
            <a:endParaRPr b="0" lang="en-US" sz="1600" spc="-1" strike="noStrike">
              <a:solidFill>
                <a:srgbClr val="000000"/>
              </a:solidFill>
              <a:latin typeface="Times New Roman"/>
            </a:endParaRPr>
          </a:p>
        </p:txBody>
      </p:sp>
      <p:sp>
        <p:nvSpPr>
          <p:cNvPr id="281" name=""/>
          <p:cNvSpPr/>
          <p:nvPr/>
        </p:nvSpPr>
        <p:spPr>
          <a:xfrm>
            <a:off x="22096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43400" y="3733920"/>
            <a:ext cx="38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5530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3BAFFA6-7D0F-499F-91B8-9FCC249E30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COMPETENCIES)</a:t>
            </a:r>
            <a:endParaRPr b="1" i="1" lang="en-US" sz="3400" spc="-1" strike="noStrike">
              <a:solidFill>
                <a:srgbClr val="ffff00"/>
              </a:solidFill>
              <a:latin typeface="VNI-Helve"/>
            </a:endParaRPr>
          </a:p>
        </p:txBody>
      </p:sp>
      <p:sp>
        <p:nvSpPr>
          <p:cNvPr id="28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or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nhöõng naêng löïc khaùc trong noäi boä coâng ty</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ng tính trung taâm ñoái vôùi khaû naêng caïnh tranh cuûa Coâng ty</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3CBF45A-6023-46F6-AB06-CD19CFB8E8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br>
              <a:rPr sz="3400"/>
            </a:br>
            <a:r>
              <a:rPr b="1" lang="en-US" sz="3400" spc="-1" strike="noStrike">
                <a:solidFill>
                  <a:srgbClr val="ffff00"/>
                </a:solidFill>
                <a:latin typeface="VNI-Helve"/>
              </a:rPr>
              <a:t>(Distinctive Competencies)</a:t>
            </a:r>
            <a:endParaRPr b="1" i="1" lang="en-US" sz="3400" spc="-1" strike="noStrike">
              <a:solidFill>
                <a:srgbClr val="ffff00"/>
              </a:solidFill>
              <a:latin typeface="VNI-Helve"/>
            </a:endParaRPr>
          </a:p>
        </p:txBody>
      </p:sp>
      <p:sp>
        <p:nvSpPr>
          <p:cNvPr id="287" name="PlaceHolder 2"/>
          <p:cNvSpPr>
            <a:spLocks noGrp="1"/>
          </p:cNvSpPr>
          <p:nvPr>
            <p:ph/>
          </p:nvPr>
        </p:nvSpPr>
        <p:spPr>
          <a:xfrm>
            <a:off x="152280" y="1523880"/>
            <a:ext cx="868680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Distinctiv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ñoái thuû caïnh tranh </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löïc khaùc bieät cho pheùp Coâng ty taïo ra lôïi theá caïnh tranh (competitive advantage)</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DE8DDDC-7196-43FA-9F69-5111CCFBDA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VÍ DUÏ </a:t>
            </a:r>
            <a:endParaRPr b="1" i="1" lang="en-US" sz="3400" spc="-1" strike="noStrike">
              <a:solidFill>
                <a:srgbClr val="ffff00"/>
              </a:solidFill>
              <a:latin typeface="VNI-Helve"/>
            </a:endParaRPr>
          </a:p>
        </p:txBody>
      </p:sp>
      <p:sp>
        <p:nvSpPr>
          <p:cNvPr id="289"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Toyota, Honda vaø Nissan - saûn xuaát ôû möùc chi phí thaáp, chaát löôïng cao, chu kyø thieát keá saûn phaåm môùi tung ra thò tröôøng ngaé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Intel laø phaùt trieån chip baùn daãn theá heä môùi cho maùy tính caù nhaâ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uûa Motorola laø khaû naêng saûn xuaát khoâng pheá phaåm (chaát löôïng six sigma – tæ leä pheá phaåm laø 1/1 trieäu saûn phaåm)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B3D1D8B-85BB-4229-9E17-629A899957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ÔÏI THEÁ CAÏNH TRANH BEÀN VÖÕNG </a:t>
            </a:r>
            <a:endParaRPr b="1" i="1" lang="en-US" sz="3400" spc="-1" strike="noStrike">
              <a:solidFill>
                <a:srgbClr val="ffff00"/>
              </a:solidFill>
              <a:latin typeface="VNI-Helve"/>
            </a:endParaRPr>
          </a:p>
        </p:txBody>
      </p:sp>
      <p:sp>
        <p:nvSpPr>
          <p:cNvPr id="2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ñoù coù deã daøng bò baét chöôùc hay khoâng?</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eá maïnh cuûa naêng löïc coù theå duy trì ñöôïc bao laâu?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thaät söï vöôït troäi hay khoâng?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bò taùc ñoäng bôûi nhaø cung caáp khoâ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7C030E5-FA8E-432C-8E30-AD072A843C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Saûn xuaát</a:t>
            </a:r>
            <a:endParaRPr b="1" i="1" lang="en-US" sz="3400" spc="-1" strike="noStrike">
              <a:solidFill>
                <a:srgbClr val="ffff00"/>
              </a:solidFill>
              <a:latin typeface="VNI-Helve"/>
            </a:endParaRPr>
          </a:p>
        </p:txBody>
      </p:sp>
      <p:sp>
        <p:nvSpPr>
          <p:cNvPr id="29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saûn x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s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ñie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nguyeân vaät lieä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thaønh saûn pha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saûn xuaát vaø taùc vu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57DF522-915E-4725-8D3E-5320281A61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ieáp thò</a:t>
            </a:r>
            <a:endParaRPr b="1" i="1" lang="en-US" sz="3400" spc="-1" strike="noStrike">
              <a:solidFill>
                <a:srgbClr val="ffff00"/>
              </a:solidFill>
              <a:latin typeface="VNI-Helve"/>
            </a:endParaRPr>
          </a:p>
        </p:txBody>
      </p:sp>
      <p:sp>
        <p:nvSpPr>
          <p:cNvPr id="29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phaàn, Doanh soá</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ò trí treân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öông hieäu</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ù</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phaân phoái</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ieâu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cho tieáp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trung thaønh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768B6FA-FE74-45B4-BB46-AE34D2B89B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ghieân cöùu vaø phaùt trieån (R&amp;D)</a:t>
            </a:r>
            <a:endParaRPr b="1" i="1" lang="en-US" sz="3400" spc="-1" strike="noStrike">
              <a:solidFill>
                <a:srgbClr val="ffff00"/>
              </a:solidFill>
              <a:latin typeface="VNI-Helve"/>
            </a:endParaRPr>
          </a:p>
        </p:txBody>
      </p:sp>
      <p:sp>
        <p:nvSpPr>
          <p:cNvPr id="297"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cô baûn vaø kyõ thuaät (daãn ñaàu, theo sa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daønh cho nghieân cöùu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phaùt trieån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qui trì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B983646-48B8-4C4D-81FA-DD64681D89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Heä thoáng thoâng tin</a:t>
            </a:r>
            <a:endParaRPr b="1" i="1" lang="en-US" sz="3400" spc="-1" strike="noStrike">
              <a:solidFill>
                <a:srgbClr val="ffff00"/>
              </a:solidFill>
              <a:latin typeface="VNI-Helve"/>
            </a:endParaRPr>
          </a:p>
        </p:txBody>
      </p:sp>
      <p:sp>
        <p:nvSpPr>
          <p:cNvPr id="29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 quaûn lyù (M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xuaát / Taùc nghieäp</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øi chí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aân söï</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Beân trong</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400" spc="-1" strike="noStrike">
                <a:solidFill>
                  <a:srgbClr val="000000"/>
                </a:solidFill>
                <a:latin typeface="VNI-Helve"/>
              </a:rPr>
              <a:t>Heä thoáng thoâng tin chieán löôïc (S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ái thuû</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âi tröôøng hoaït ñoäng</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VNI-Helve"/>
              </a:rPr>
              <a:t> </a:t>
            </a:r>
            <a:r>
              <a:rPr b="1" lang="en-US" sz="2400" spc="-1" strike="noStrike">
                <a:solidFill>
                  <a:srgbClr val="ff0000"/>
                </a:solidFill>
                <a:latin typeface="VNI-Helve"/>
              </a:rPr>
              <a:t>Beân trong vaø beân ngoaøi</a:t>
            </a:r>
            <a:r>
              <a:rPr b="0" lang="en-US" sz="2400" spc="-1" strike="noStrike">
                <a:solidFill>
                  <a:srgbClr val="ff0000"/>
                </a:solidFill>
                <a:latin typeface="VNI-Helve"/>
              </a:rPr>
              <a:t>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7125999-5E57-413B-B7DE-0561755436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0520" y="1174680"/>
            <a:ext cx="836604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3281400" y="3019320"/>
            <a:ext cx="2585880" cy="2771640"/>
            <a:chOff x="3281400" y="3019320"/>
            <a:chExt cx="2585880" cy="2771640"/>
          </a:xfrm>
        </p:grpSpPr>
        <p:grpSp>
          <p:nvGrpSpPr>
            <p:cNvPr id="96" name=""/>
            <p:cNvGrpSpPr/>
            <p:nvPr/>
          </p:nvGrpSpPr>
          <p:grpSpPr>
            <a:xfrm>
              <a:off x="3281400" y="3019320"/>
              <a:ext cx="2585880" cy="2068920"/>
              <a:chOff x="3281400" y="3019320"/>
              <a:chExt cx="2585880" cy="2068920"/>
            </a:xfrm>
          </p:grpSpPr>
          <p:sp>
            <p:nvSpPr>
              <p:cNvPr id="97"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326760" y="3220200"/>
                <a:ext cx="2493360" cy="1352160"/>
                <a:chOff x="3326760" y="3220200"/>
                <a:chExt cx="2493360" cy="1352160"/>
              </a:xfrm>
            </p:grpSpPr>
            <p:sp>
              <p:nvSpPr>
                <p:cNvPr id="99"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01" name=""/>
                <p:cNvGrpSpPr/>
                <p:nvPr/>
              </p:nvGrpSpPr>
              <p:grpSpPr>
                <a:xfrm>
                  <a:off x="5600520" y="4342320"/>
                  <a:ext cx="219600" cy="137160"/>
                  <a:chOff x="5600520" y="4342320"/>
                  <a:chExt cx="219600" cy="137160"/>
                </a:xfrm>
              </p:grpSpPr>
              <p:sp>
                <p:nvSpPr>
                  <p:cNvPr id="102"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05"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06" name=""/>
                <p:cNvGrpSpPr/>
                <p:nvPr/>
              </p:nvGrpSpPr>
              <p:grpSpPr>
                <a:xfrm>
                  <a:off x="5209560" y="3421440"/>
                  <a:ext cx="464400" cy="974160"/>
                  <a:chOff x="5209560" y="3421440"/>
                  <a:chExt cx="464400" cy="974160"/>
                </a:xfrm>
              </p:grpSpPr>
              <p:grpSp>
                <p:nvGrpSpPr>
                  <p:cNvPr id="107" name=""/>
                  <p:cNvGrpSpPr/>
                  <p:nvPr/>
                </p:nvGrpSpPr>
                <p:grpSpPr>
                  <a:xfrm>
                    <a:off x="5284080" y="3521160"/>
                    <a:ext cx="104040" cy="291960"/>
                    <a:chOff x="5284080" y="3521160"/>
                    <a:chExt cx="104040" cy="291960"/>
                  </a:xfrm>
                </p:grpSpPr>
                <p:sp>
                  <p:nvSpPr>
                    <p:cNvPr id="108"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1"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4359240" y="3224160"/>
                  <a:ext cx="234000" cy="248760"/>
                  <a:chOff x="4359240" y="3224160"/>
                  <a:chExt cx="234000" cy="248760"/>
                </a:xfrm>
              </p:grpSpPr>
              <p:grpSp>
                <p:nvGrpSpPr>
                  <p:cNvPr id="122" name=""/>
                  <p:cNvGrpSpPr/>
                  <p:nvPr/>
                </p:nvGrpSpPr>
                <p:grpSpPr>
                  <a:xfrm>
                    <a:off x="4451040" y="3378960"/>
                    <a:ext cx="73080" cy="93960"/>
                    <a:chOff x="4451040" y="3378960"/>
                    <a:chExt cx="73080" cy="93960"/>
                  </a:xfrm>
                </p:grpSpPr>
                <p:sp>
                  <p:nvSpPr>
                    <p:cNvPr id="123"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 name=""/>
            <p:cNvGrpSpPr/>
            <p:nvPr/>
          </p:nvGrpSpPr>
          <p:grpSpPr>
            <a:xfrm>
              <a:off x="3929760" y="3720240"/>
              <a:ext cx="1238760" cy="2070720"/>
              <a:chOff x="3929760" y="3720240"/>
              <a:chExt cx="1238760" cy="2070720"/>
            </a:xfrm>
          </p:grpSpPr>
          <p:sp>
            <p:nvSpPr>
              <p:cNvPr id="134"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4641480" y="3738960"/>
                <a:ext cx="527040" cy="2007360"/>
                <a:chOff x="4641480" y="3738960"/>
                <a:chExt cx="527040" cy="2007360"/>
              </a:xfrm>
            </p:grpSpPr>
            <p:sp>
              <p:nvSpPr>
                <p:cNvPr id="136"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2810464A-B677-4A14-B99F-4D4F895BE2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aøi chính</a:t>
            </a:r>
            <a:endParaRPr b="1" i="1" lang="en-US" sz="3400" spc="-1" strike="noStrike">
              <a:solidFill>
                <a:srgbClr val="ffff00"/>
              </a:solidFill>
              <a:latin typeface="VNI-Helve"/>
            </a:endParaRPr>
          </a:p>
        </p:txBody>
      </p:sp>
      <p:sp>
        <p:nvSpPr>
          <p:cNvPr id="301"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huy ñoä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oå nguoàn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oå töù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taêng tröôû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inh lôï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anh toaù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øn caân n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68ED959-9B9F-49B5-93F3-A45488969C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haân söï</a:t>
            </a:r>
            <a:endParaRPr b="1" i="1" lang="en-US" sz="3400" spc="-1" strike="noStrike">
              <a:solidFill>
                <a:srgbClr val="ffff00"/>
              </a:solidFill>
              <a:latin typeface="VNI-Helve"/>
            </a:endParaRPr>
          </a:p>
        </p:txBody>
      </p:sp>
      <p:sp>
        <p:nvSpPr>
          <p:cNvPr id="303"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ân löïc chuû cho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tay ngheà</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huyeân mo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oån ñò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thu huùt 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øo taïo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duy trì nguoàn nhaân lö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EF49E51-2BA7-453E-B788-EC11769DF8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Vaên hoùa coâng ty</a:t>
            </a:r>
            <a:endParaRPr b="1" i="1" lang="en-US" sz="3400" spc="-1" strike="noStrike">
              <a:solidFill>
                <a:srgbClr val="ffff00"/>
              </a:solidFill>
              <a:latin typeface="VNI-Helve"/>
            </a:endParaRPr>
          </a:p>
        </p:txBody>
      </p:sp>
      <p:sp>
        <p:nvSpPr>
          <p:cNvPr id="305"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hoùa laø taäp hôïp caùc giaù trò, nieàm tin, thaùi ñoä, taäp quaùn, qui ñònh, caù tính vaø nhöõng gì duøng ñeå moâ taû coâng ty. </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quan ñieåm, trieát lyù kinh doanh</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kyù hieäu, bieåu tröng cho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aäp quaùn veà thaùi ñoä vaø haønh vi öùng xöû haøng ngaøy cuûa moãi thaønh vieân trong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eàn neáp taøi chính coâng ty</a:t>
            </a:r>
            <a:endParaRPr b="0" lang="en-US" sz="24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146A531-2B46-4943-86D9-97458E50D6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a:t>
            </a:r>
            <a:endParaRPr b="1" i="1" lang="en-US" sz="3400" spc="-1" strike="noStrike">
              <a:solidFill>
                <a:srgbClr val="ffff00"/>
              </a:solidFill>
              <a:latin typeface="VNI-Helve"/>
            </a:endParaRPr>
          </a:p>
        </p:txBody>
      </p:sp>
      <p:sp>
        <p:nvSpPr>
          <p:cNvPr id="307"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naêng (efficienc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quaû (effectiveness)</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ûa maõn coå ñoâ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aû maõn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AD238C1-82FA-4F8F-9750-DAB4EACB7C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MA TRAÄN ÑAÙNH GIAÙ CAÙC YEÁU TOÁ NOÄI BOÄ </a:t>
            </a:r>
            <a:br>
              <a:rPr sz="3000"/>
            </a:br>
            <a:r>
              <a:rPr b="1" lang="en-US" sz="3000" spc="-1" strike="noStrike">
                <a:solidFill>
                  <a:srgbClr val="ffff00"/>
                </a:solidFill>
                <a:latin typeface="VNI-Helve"/>
              </a:rPr>
              <a:t>(Internal Factor Evaluation Matrix --IFE Matrix)</a:t>
            </a:r>
            <a:endParaRPr b="1" i="1" lang="en-US" sz="3000" spc="-1" strike="noStrike">
              <a:solidFill>
                <a:srgbClr val="ffff00"/>
              </a:solidFill>
              <a:latin typeface="VNI-Helve"/>
            </a:endParaRPr>
          </a:p>
        </p:txBody>
      </p:sp>
      <p:sp>
        <p:nvSpPr>
          <p:cNvPr id="3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a traän giuùp toùm taét vaø ñaùnh giaù caùc yeáu toá noäi boä, möùc ñoä quan troïng cuûa moãi yeáu toá ñeå xaùc ñònh ñieåm maïnh vaø ñieåm yeáu cuûa coâng ty cuõng nhö khaû naêng vaø naêng löïc cuûa coâng ty laøm cô sôû xaây döïng chieán löôïc cho phuø hôïp</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öông phaùp chuyeân gia thöôøng ñöôïc söû duïng ñeå xaây döïng ma tra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811D863-E5F6-4E51-8FB3-B8461C4949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VNI-Helve"/>
              </a:rPr>
              <a:t>PHAÂN TÍCH ÑIEÅM MAÏNH – ÑIEÅM YEÁU</a:t>
            </a:r>
            <a:r>
              <a:rPr b="1" i="1" lang="en-US" sz="3800" spc="-1" strike="noStrike">
                <a:solidFill>
                  <a:srgbClr val="ffff00"/>
                </a:solidFill>
                <a:latin typeface="VNI-Helve"/>
              </a:rPr>
              <a:t> </a:t>
            </a:r>
            <a:endParaRPr b="1" i="1" lang="en-US" sz="3800" spc="-1" strike="noStrike">
              <a:solidFill>
                <a:srgbClr val="ffff00"/>
              </a:solidFill>
              <a:latin typeface="VNI-Helve"/>
            </a:endParaRPr>
          </a:p>
        </p:txBody>
      </p:sp>
      <p:sp>
        <p:nvSpPr>
          <p:cNvPr id="3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åm maïnh laø nhöõng gì maø coâng ty ñaõ laøm toát laøm toát hôn so vôùi coâng ty khaùc hoaëc chuùng giuùp laøm taêng khaû naêng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324D972-5B5B-4E30-83D6-85BB9AF3EC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93672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aùnh giaù vaø taän duïng cô hoäi</a:t>
            </a:r>
            <a:endParaRPr b="1" i="1" lang="en-US" sz="3400" spc="-1" strike="noStrike">
              <a:solidFill>
                <a:srgbClr val="ffff00"/>
              </a:solidFill>
              <a:latin typeface="VNI-Helve"/>
            </a:endParaRPr>
          </a:p>
        </p:txBody>
      </p:sp>
      <p:sp>
        <p:nvSpPr>
          <p:cNvPr id="313" name=""/>
          <p:cNvSpPr/>
          <p:nvPr/>
        </p:nvSpPr>
        <p:spPr>
          <a:xfrm>
            <a:off x="2687760" y="2460600"/>
            <a:ext cx="4430520" cy="1530360"/>
          </a:xfrm>
          <a:custGeom>
            <a:avLst/>
            <a:gdLst>
              <a:gd name="textAreaLeft" fmla="*/ 1334520 w 4430520"/>
              <a:gd name="textAreaRight" fmla="*/ 3096000 w 4430520"/>
              <a:gd name="textAreaTop" fmla="*/ 460800 h 1530360"/>
              <a:gd name="textAreaBottom" fmla="*/ 1069560 h 1530360"/>
            </a:gdLst>
            <a:ahLst/>
            <a:rect l="textAreaLeft" t="textAreaTop" r="textAreaRight" b="textAreaBottom"/>
            <a:pathLst>
              <a:path w="21600" h="21600">
                <a:moveTo>
                  <a:pt x="0" y="0"/>
                </a:moveTo>
                <a:lnTo>
                  <a:pt x="21600" y="0"/>
                </a:lnTo>
                <a:lnTo>
                  <a:pt x="13039" y="21600"/>
                </a:lnTo>
                <a:lnTo>
                  <a:pt x="8561"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030560" y="4587840"/>
            <a:ext cx="1803600" cy="969840"/>
          </a:xfrm>
          <a:custGeom>
            <a:avLst/>
            <a:gdLst>
              <a:gd name="textAreaLeft" fmla="*/ 541080 w 1803600"/>
              <a:gd name="textAreaRight" fmla="*/ 1262520 w 1803600"/>
              <a:gd name="textAreaTop" fmla="*/ 290880 h 969840"/>
              <a:gd name="textAreaBottom" fmla="*/ 678960 h 96984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ffff99"/>
              </a:gs>
              <a:gs pos="50000">
                <a:srgbClr val="757546"/>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65440" y="2233440"/>
            <a:ext cx="4460760" cy="38448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446720" y="5896080"/>
            <a:ext cx="981000" cy="947520"/>
            <a:chOff x="4446720" y="5896080"/>
            <a:chExt cx="981000" cy="947520"/>
          </a:xfrm>
        </p:grpSpPr>
        <p:grpSp>
          <p:nvGrpSpPr>
            <p:cNvPr id="317" name=""/>
            <p:cNvGrpSpPr/>
            <p:nvPr/>
          </p:nvGrpSpPr>
          <p:grpSpPr>
            <a:xfrm>
              <a:off x="4454640" y="6002280"/>
              <a:ext cx="973080" cy="841320"/>
              <a:chOff x="4454640" y="6002280"/>
              <a:chExt cx="973080" cy="841320"/>
            </a:xfrm>
          </p:grpSpPr>
          <p:sp>
            <p:nvSpPr>
              <p:cNvPr id="318" name=""/>
              <p:cNvSpPr/>
              <p:nvPr/>
            </p:nvSpPr>
            <p:spPr>
              <a:xfrm>
                <a:off x="4842000" y="6648480"/>
                <a:ext cx="225360" cy="195120"/>
              </a:xfrm>
              <a:custGeom>
                <a:avLst/>
                <a:gdLst>
                  <a:gd name="textAreaLeft" fmla="*/ 49320 w 225360"/>
                  <a:gd name="textAreaRight" fmla="*/ 176040 w 225360"/>
                  <a:gd name="textAreaTop" fmla="*/ 42840 h 195120"/>
                  <a:gd name="textAreaBottom" fmla="*/ 152280 h 195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54640" y="6002280"/>
                <a:ext cx="973080" cy="652320"/>
              </a:xfrm>
              <a:custGeom>
                <a:avLst/>
                <a:gdLst>
                  <a:gd name="textAreaLeft" fmla="*/ 291960 w 973080"/>
                  <a:gd name="textAreaRight" fmla="*/ 681120 w 973080"/>
                  <a:gd name="textAreaTop" fmla="*/ 195840 h 652320"/>
                  <a:gd name="textAreaBottom" fmla="*/ 456480 h 65232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 name=""/>
            <p:cNvSpPr/>
            <p:nvPr/>
          </p:nvSpPr>
          <p:spPr>
            <a:xfrm>
              <a:off x="4446720" y="5896080"/>
              <a:ext cx="976320" cy="20160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4030560" y="4421160"/>
            <a:ext cx="1784520" cy="35712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931680" y="907920"/>
            <a:ext cx="7515720" cy="1553040"/>
            <a:chOff x="931680" y="907920"/>
            <a:chExt cx="7515720" cy="1553040"/>
          </a:xfrm>
        </p:grpSpPr>
        <p:sp>
          <p:nvSpPr>
            <p:cNvPr id="323" name=""/>
            <p:cNvSpPr/>
            <p:nvPr/>
          </p:nvSpPr>
          <p:spPr>
            <a:xfrm>
              <a:off x="931680" y="907920"/>
              <a:ext cx="75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rebuchet MS"/>
                </a:rPr>
                <a:t>All Potential Business Opportunities</a:t>
              </a:r>
              <a:endParaRPr b="0" lang="en-US" sz="3200" spc="-1" strike="noStrike">
                <a:solidFill>
                  <a:srgbClr val="000000"/>
                </a:solidFill>
                <a:latin typeface="Times New Roman"/>
              </a:endParaRPr>
            </a:p>
          </p:txBody>
        </p:sp>
        <p:sp>
          <p:nvSpPr>
            <p:cNvPr id="324" name=""/>
            <p:cNvSpPr/>
            <p:nvPr/>
          </p:nvSpPr>
          <p:spPr>
            <a:xfrm rot="5331600">
              <a:off x="2597760" y="1492560"/>
              <a:ext cx="911160" cy="1005120"/>
            </a:xfrm>
            <a:custGeom>
              <a:avLst/>
              <a:gdLst>
                <a:gd name="textAreaLeft" fmla="*/ 0 w 911160"/>
                <a:gd name="textAreaRight" fmla="*/ 91152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rot="16268400">
              <a:off x="6207120" y="1449720"/>
              <a:ext cx="911160" cy="1005120"/>
            </a:xfrm>
            <a:custGeom>
              <a:avLst/>
              <a:gdLst>
                <a:gd name="textAreaLeft" fmla="*/ -360 w 911160"/>
                <a:gd name="textAreaRight" fmla="*/ 91116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374800">
              <a:off x="4446000" y="1726920"/>
              <a:ext cx="834840" cy="507960"/>
            </a:xfrm>
            <a:prstGeom prst="rightArrow">
              <a:avLst>
                <a:gd name="adj1" fmla="val 50000"/>
                <a:gd name="adj2" fmla="val 41088"/>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648080" y="3678120"/>
            <a:ext cx="3517560" cy="1086120"/>
            <a:chOff x="1648080" y="3678120"/>
            <a:chExt cx="3517560" cy="1086120"/>
          </a:xfrm>
        </p:grpSpPr>
        <p:sp>
          <p:nvSpPr>
            <p:cNvPr id="328" name=""/>
            <p:cNvSpPr/>
            <p:nvPr/>
          </p:nvSpPr>
          <p:spPr>
            <a:xfrm>
              <a:off x="4670280" y="4359240"/>
              <a:ext cx="495360" cy="4050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48080" y="3678120"/>
              <a:ext cx="23187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Releva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Opportunities</a:t>
              </a:r>
              <a:endParaRPr b="0" lang="en-US" sz="2400" spc="-1" strike="noStrike">
                <a:solidFill>
                  <a:srgbClr val="000000"/>
                </a:solidFill>
                <a:latin typeface="Times New Roman"/>
              </a:endParaRPr>
            </a:p>
          </p:txBody>
        </p:sp>
      </p:grpSp>
      <p:sp>
        <p:nvSpPr>
          <p:cNvPr id="330" name=""/>
          <p:cNvSpPr/>
          <p:nvPr/>
        </p:nvSpPr>
        <p:spPr>
          <a:xfrm>
            <a:off x="4451400" y="3990960"/>
            <a:ext cx="912600" cy="560520"/>
          </a:xfrm>
          <a:custGeom>
            <a:avLst/>
            <a:gdLst>
              <a:gd name="textAreaLeft" fmla="*/ 200520 w 912600"/>
              <a:gd name="textAreaRight" fmla="*/ 712080 w 912600"/>
              <a:gd name="textAreaTop" fmla="*/ 123120 h 560520"/>
              <a:gd name="textAreaBottom" fmla="*/ 437400 h 5605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2034720" y="5452920"/>
            <a:ext cx="3015000" cy="565920"/>
            <a:chOff x="2034720" y="5452920"/>
            <a:chExt cx="3015000" cy="565920"/>
          </a:xfrm>
        </p:grpSpPr>
        <p:sp>
          <p:nvSpPr>
            <p:cNvPr id="332" name=""/>
            <p:cNvSpPr/>
            <p:nvPr/>
          </p:nvSpPr>
          <p:spPr>
            <a:xfrm>
              <a:off x="2034720" y="5452920"/>
              <a:ext cx="1787040" cy="5659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ve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Opportunities</a:t>
              </a:r>
              <a:endParaRPr b="0" lang="en-US" sz="1800" spc="-1" strike="noStrike">
                <a:solidFill>
                  <a:srgbClr val="000000"/>
                </a:solidFill>
                <a:latin typeface="Times New Roman"/>
              </a:endParaRPr>
            </a:p>
          </p:txBody>
        </p:sp>
        <p:sp>
          <p:nvSpPr>
            <p:cNvPr id="333" name=""/>
            <p:cNvSpPr/>
            <p:nvPr/>
          </p:nvSpPr>
          <p:spPr>
            <a:xfrm>
              <a:off x="4827600" y="5805360"/>
              <a:ext cx="222120" cy="209520"/>
            </a:xfrm>
            <a:prstGeom prst="downArrow">
              <a:avLst>
                <a:gd name="adj1" fmla="val 50000"/>
                <a:gd name="adj2" fmla="val 25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4748040" y="5540400"/>
            <a:ext cx="378000" cy="298440"/>
          </a:xfrm>
          <a:custGeom>
            <a:avLst/>
            <a:gdLst>
              <a:gd name="textAreaLeft" fmla="*/ 83160 w 378000"/>
              <a:gd name="textAreaRight" fmla="*/ 294840 w 378000"/>
              <a:gd name="textAreaTop" fmla="*/ 65520 h 298440"/>
              <a:gd name="textAreaBottom" fmla="*/ 232920 h 2984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0" y="6427800"/>
            <a:ext cx="148284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duct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0EE5AF0-2647-41FF-89A1-D5919C8EBDAC}"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ñích</a:t>
            </a:r>
            <a:endParaRPr b="1" i="1" lang="en-US" sz="3400" spc="-1" strike="noStrike">
              <a:solidFill>
                <a:srgbClr val="ffff00"/>
              </a:solidFill>
              <a:latin typeface="VNI-Helve"/>
            </a:endParaRPr>
          </a:p>
        </p:txBody>
      </p:sp>
      <p:sp>
        <p:nvSpPr>
          <p:cNvPr id="14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ñích phaân tích moâi tröôøng beân ngoaøi laø phaûi chæ ra ñ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ñoái vôùi coâng ty laø gì? </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caàn phaûi traùnh laø gì?</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8D01BD6-D986-41D6-AB62-EFC56F61EA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moâ tröôøng cuûa coâng ty</a:t>
            </a:r>
            <a:endParaRPr b="1" i="1" lang="en-US" sz="3400" spc="-1" strike="noStrike">
              <a:solidFill>
                <a:srgbClr val="ffff00"/>
              </a:solidFill>
              <a:latin typeface="VNI-Helve"/>
            </a:endParaRPr>
          </a:p>
        </p:txBody>
      </p:sp>
      <p:grpSp>
        <p:nvGrpSpPr>
          <p:cNvPr id="142" name=""/>
          <p:cNvGrpSpPr/>
          <p:nvPr/>
        </p:nvGrpSpPr>
        <p:grpSpPr>
          <a:xfrm>
            <a:off x="1523880" y="1268280"/>
            <a:ext cx="5715000" cy="5361120"/>
            <a:chOff x="1523880" y="1268280"/>
            <a:chExt cx="5715000" cy="5361120"/>
          </a:xfrm>
        </p:grpSpPr>
        <p:sp>
          <p:nvSpPr>
            <p:cNvPr id="143" name=""/>
            <p:cNvSpPr/>
            <p:nvPr/>
          </p:nvSpPr>
          <p:spPr>
            <a:xfrm>
              <a:off x="1523880" y="1268280"/>
              <a:ext cx="5715000" cy="5361120"/>
            </a:xfrm>
            <a:prstGeom prst="rect">
              <a:avLst/>
            </a:prstGeom>
            <a:solidFill>
              <a:srgbClr val="cccc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VÓ MOÂ</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hính trò vaø phaùp lyù</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kinh teá</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xaõ hoäi</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oâng ngheä</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töï nhieâ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 name=""/>
            <p:cNvSpPr/>
            <p:nvPr/>
          </p:nvSpPr>
          <p:spPr>
            <a:xfrm>
              <a:off x="2514240" y="2971800"/>
              <a:ext cx="4724640" cy="3657600"/>
            </a:xfrm>
            <a:prstGeom prst="rect">
              <a:avLst/>
            </a:prstGeom>
            <a:solidFill>
              <a:srgbClr val="ccffcc"/>
            </a:solidFill>
            <a:ln w="0">
              <a:noFill/>
            </a:ln>
          </p:spPr>
          <p:style>
            <a:lnRef idx="0"/>
            <a:fillRef idx="0"/>
            <a:effectRef idx="0"/>
            <a:fontRef idx="minor"/>
          </p:style>
          <p:txBody>
            <a:bodyPr lIns="18000" rIns="18000" tIns="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TAÙC NGHIEÄP</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CAÙC TAÙC LÖÏC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Khaùch haø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haø cung caáp</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tieàm a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phaåm thay theá</a:t>
              </a:r>
              <a:endParaRPr b="0" lang="en-US" sz="1500" spc="-1" strike="noStrike">
                <a:solidFill>
                  <a:srgbClr val="000000"/>
                </a:solidFill>
                <a:latin typeface="Times New Roman"/>
              </a:endParaRPr>
            </a:p>
          </p:txBody>
        </p:sp>
        <p:sp>
          <p:nvSpPr>
            <p:cNvPr id="145" name=""/>
            <p:cNvSpPr/>
            <p:nvPr/>
          </p:nvSpPr>
          <p:spPr>
            <a:xfrm>
              <a:off x="3508200" y="4647960"/>
              <a:ext cx="3730680" cy="1981440"/>
            </a:xfrm>
            <a:prstGeom prst="rect">
              <a:avLst/>
            </a:prstGeom>
            <a:solidFill>
              <a:srgbClr val="ffcc99"/>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NOÄI BOÄ</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xuaát</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Marketi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hieân cöùu vaø phaùt trie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Taøi chính</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uoàn nhaân löïc</a:t>
              </a:r>
              <a:endParaRPr b="0" lang="en-US" sz="1500" spc="-1" strike="noStrike">
                <a:solidFill>
                  <a:srgbClr val="000000"/>
                </a:solidFill>
                <a:latin typeface="Times New Roman"/>
              </a:endParaRPr>
            </a:p>
            <a:p>
              <a:pPr lvl="1" marL="457200">
                <a:lnSpc>
                  <a:spcPct val="100000"/>
                </a:lnSpc>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Heä thoáng thoâng ti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sp>
        <p:nvSpPr>
          <p:cNvPr id="3" name="PlaceHolder 2"/>
          <p:cNvSpPr>
            <a:spLocks noGrp="1"/>
          </p:cNvSpPr>
          <p:nvPr>
            <p:ph type="sldNum" idx="3"/>
          </p:nvPr>
        </p:nvSpPr>
        <p:spPr/>
        <p:txBody>
          <a:bodyPr/>
          <a:p>
            <a:fld id="{249FDD36-8331-4F0A-BDBA-ADE4E421FF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VÓ MOÂ </a:t>
            </a:r>
            <a:br>
              <a:rPr sz="3400"/>
            </a:br>
            <a:r>
              <a:rPr b="1" i="1" lang="en-US" sz="3400" spc="-1" strike="noStrike">
                <a:solidFill>
                  <a:srgbClr val="ffff00"/>
                </a:solidFill>
                <a:latin typeface="VNI-Helve"/>
              </a:rPr>
              <a:t>(PEST&amp;N)</a:t>
            </a:r>
            <a:endParaRPr b="1" i="1" lang="en-US" sz="3400" spc="-1" strike="noStrike">
              <a:solidFill>
                <a:srgbClr val="ffff00"/>
              </a:solidFill>
              <a:latin typeface="VNI-Helve"/>
            </a:endParaRPr>
          </a:p>
        </p:txBody>
      </p:sp>
      <p:sp>
        <p:nvSpPr>
          <p:cNvPr id="14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hính trò – phaùp lyù (Politic Factors)</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kinh teá (Economic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xaõ hoäi (Social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oâng ngheä (Technology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töï nhieân (Natural Factor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8FCB8B8-551D-45B0-B5F9-637A40B559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hính trò – Phaùp lyù </a:t>
            </a:r>
            <a:br>
              <a:rPr sz="3400"/>
            </a:br>
            <a:r>
              <a:rPr b="1" i="1" lang="en-US" sz="3400" spc="-1" strike="noStrike">
                <a:solidFill>
                  <a:srgbClr val="ffff00"/>
                </a:solidFill>
                <a:latin typeface="VNI-Helve"/>
              </a:rPr>
              <a:t>(Politic Factors) </a:t>
            </a:r>
            <a:endParaRPr b="1" i="1" lang="en-US" sz="3400" spc="-1" strike="noStrike">
              <a:solidFill>
                <a:srgbClr val="ffff00"/>
              </a:solidFill>
              <a:latin typeface="VNI-Helve"/>
            </a:endParaRPr>
          </a:p>
        </p:txBody>
      </p:sp>
      <p:sp>
        <p:nvSpPr>
          <p:cNvPr id="1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1000"/>
          </a:bodyPr>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chính trò/Möùc ñoä oån ñònh veà chính trò</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caïnh tranh/Qui ñònh choáng ñoäc quyeàn</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lao ñoäng</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ñaàu tö/Öu ñaõi ñaàu tö/Moâi tröôøng ñaàu tö</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veà thueáá</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ính saùch öu ñaõi ñaëc bieät</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ñònh quaûng caùo, khuyeán maõi</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F691037-5131-4628-ACB8-428C903249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kinh teá </a:t>
            </a:r>
            <a:br>
              <a:rPr sz="3400"/>
            </a:br>
            <a:r>
              <a:rPr b="1" i="1" lang="en-US" sz="3400" spc="-1" strike="noStrike">
                <a:solidFill>
                  <a:srgbClr val="ffff00"/>
                </a:solidFill>
                <a:latin typeface="VNI-Helve"/>
              </a:rPr>
              <a:t>(Economic Factors)</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i ñoaïn trong chu kyø kinh te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GDP/Möùc taêng tröôûng GD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u nha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ïm phaù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t nghie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9FDE392-4439-4C11-A581-2AB9E4303B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3:50Z</dcterms:modified>
  <cp:revision>16</cp:revision>
  <dc:subject/>
  <dc:title>PowerPoint Presentation</dc:title>
</cp:coreProperties>
</file>