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8650B1-716B-4663-B717-CF3D98820B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7" name="PlaceHolder 2"/>
          <p:cNvSpPr>
            <a:spLocks noGrp="1"/>
          </p:cNvSpPr>
          <p:nvPr>
            <p:ph/>
          </p:nvPr>
        </p:nvSpPr>
        <p:spPr>
          <a:xfrm>
            <a:off x="457200" y="152388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8" name="PlaceHolder 3"/>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3FAE5-79D3-4ACF-8EF4-9287E3291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0"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1"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2"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3" name="PlaceHolder 5"/>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94ECAB-27C7-48FF-A95C-B3EAE4F2DC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5" name="PlaceHolder 2"/>
          <p:cNvSpPr>
            <a:spLocks noGrp="1"/>
          </p:cNvSpPr>
          <p:nvPr>
            <p:ph/>
          </p:nvPr>
        </p:nvSpPr>
        <p:spPr>
          <a:xfrm>
            <a:off x="45720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6" name="PlaceHolder 3"/>
          <p:cNvSpPr>
            <a:spLocks noGrp="1"/>
          </p:cNvSpPr>
          <p:nvPr>
            <p:ph/>
          </p:nvPr>
        </p:nvSpPr>
        <p:spPr>
          <a:xfrm>
            <a:off x="326592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7" name="PlaceHolder 4"/>
          <p:cNvSpPr>
            <a:spLocks noGrp="1"/>
          </p:cNvSpPr>
          <p:nvPr>
            <p:ph/>
          </p:nvPr>
        </p:nvSpPr>
        <p:spPr>
          <a:xfrm>
            <a:off x="607428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8" name="PlaceHolder 5"/>
          <p:cNvSpPr>
            <a:spLocks noGrp="1"/>
          </p:cNvSpPr>
          <p:nvPr>
            <p:ph/>
          </p:nvPr>
        </p:nvSpPr>
        <p:spPr>
          <a:xfrm>
            <a:off x="45720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9" name="PlaceHolder 6"/>
          <p:cNvSpPr>
            <a:spLocks noGrp="1"/>
          </p:cNvSpPr>
          <p:nvPr>
            <p:ph/>
          </p:nvPr>
        </p:nvSpPr>
        <p:spPr>
          <a:xfrm>
            <a:off x="326592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0" name="PlaceHolder 7"/>
          <p:cNvSpPr>
            <a:spLocks noGrp="1"/>
          </p:cNvSpPr>
          <p:nvPr>
            <p:ph/>
          </p:nvPr>
        </p:nvSpPr>
        <p:spPr>
          <a:xfrm>
            <a:off x="607428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909FA6-3DD8-4947-A7D8-9FD9E66DC0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6" name="PlaceHolder 2"/>
          <p:cNvSpPr>
            <a:spLocks noGrp="1"/>
          </p:cNvSpPr>
          <p:nvPr>
            <p:ph type="subTitle"/>
          </p:nvPr>
        </p:nvSpPr>
        <p:spPr>
          <a:xfrm>
            <a:off x="457200" y="1523880"/>
            <a:ext cx="83059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641BF-7381-4619-9295-85DAAAACA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8"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EA27D-F922-4945-91D4-418ECB11A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0"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1"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897A7-0E9E-4C26-8E22-32856F115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0E239-D000-4F8C-AAF2-0DE2908D8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EA536-21C1-472A-8AE7-FCA47884F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5"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6"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7"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E7B75-1FCE-44FD-ACCA-C18BA0059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9"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0"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1" name="PlaceHolder 4"/>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EFC98-DDFA-41D1-8275-7B9EAA030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3"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4"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5" name="PlaceHolder 4"/>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2C551-33E6-4023-BAE3-A01C6787B0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lick to edit the title text format</a:t>
            </a:r>
            <a:endParaRPr b="1" i="1" lang="en-US" sz="3400" spc="-1" strike="noStrike">
              <a:solidFill>
                <a:srgbClr val="ffff00"/>
              </a:solidFill>
              <a:latin typeface="VNI-Helve"/>
            </a:endParaRPr>
          </a:p>
        </p:txBody>
      </p:sp>
      <p:sp>
        <p:nvSpPr>
          <p:cNvPr id="1" name="PlaceHolder 2"/>
          <p:cNvSpPr>
            <a:spLocks noGrp="1"/>
          </p:cNvSpPr>
          <p:nvPr>
            <p:ph type="body"/>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lick to edit the outline text format</a:t>
            </a:r>
            <a:endParaRPr b="0" lang="en-US" sz="2800" spc="-1" strike="noStrike">
              <a:solidFill>
                <a:srgbClr val="000000"/>
              </a:solidFill>
              <a:latin typeface="VNI-Helve"/>
            </a:endParaRPr>
          </a:p>
          <a:p>
            <a:pPr lvl="1" marL="743040" indent="-28584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cond Outline Level</a:t>
            </a:r>
            <a:endParaRPr b="0" lang="en-US" sz="2800" spc="-1" strike="noStrike">
              <a:solidFill>
                <a:srgbClr val="000000"/>
              </a:solidFill>
              <a:latin typeface="VNI-Helve"/>
            </a:endParaRPr>
          </a:p>
          <a:p>
            <a:pPr lvl="2" marL="1143000" indent="-228600">
              <a:spcBef>
                <a:spcPts val="700"/>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ird Outline Level</a:t>
            </a:r>
            <a:endParaRPr b="0" lang="en-US" sz="2800" spc="-1" strike="noStrike">
              <a:solidFill>
                <a:srgbClr val="000000"/>
              </a:solidFill>
              <a:latin typeface="VNI-Helve"/>
            </a:endParaRPr>
          </a:p>
          <a:p>
            <a:pPr lvl="3" marL="16002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ourth Outline Level</a:t>
            </a:r>
            <a:endParaRPr b="0" lang="en-US" sz="2800" spc="-1" strike="noStrike">
              <a:solidFill>
                <a:srgbClr val="000000"/>
              </a:solidFill>
              <a:latin typeface="VNI-Helve"/>
            </a:endParaRPr>
          </a:p>
          <a:p>
            <a:pPr lvl="4"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ifth Outline Level</a:t>
            </a:r>
            <a:endParaRPr b="0" lang="en-US" sz="2800" spc="-1" strike="noStrike">
              <a:solidFill>
                <a:srgbClr val="000000"/>
              </a:solidFill>
              <a:latin typeface="VNI-Helve"/>
            </a:endParaRPr>
          </a:p>
          <a:p>
            <a:pPr lvl="5"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ixth Outline Level</a:t>
            </a:r>
            <a:endParaRPr b="0" lang="en-US" sz="2800" spc="-1" strike="noStrike">
              <a:solidFill>
                <a:srgbClr val="000000"/>
              </a:solidFill>
              <a:latin typeface="VNI-Helve"/>
            </a:endParaRPr>
          </a:p>
          <a:p>
            <a:pPr lvl="6"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venth Outline Level</a:t>
            </a:r>
            <a:endParaRPr b="0" lang="en-US" sz="2800" spc="-1" strike="noStrike">
              <a:solidFill>
                <a:srgbClr val="000000"/>
              </a:solidFill>
              <a:latin typeface="VNI-Helve"/>
            </a:endParaRPr>
          </a:p>
        </p:txBody>
      </p:sp>
      <p:sp>
        <p:nvSpPr>
          <p:cNvPr id="2" name="PlaceHolder 3"/>
          <p:cNvSpPr>
            <a:spLocks noGrp="1"/>
          </p:cNvSpPr>
          <p:nvPr>
            <p:ph type="dt" idx="1"/>
          </p:nvPr>
        </p:nvSpPr>
        <p:spPr>
          <a:xfrm>
            <a:off x="759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2054D-88B8-4497-8AF0-5E275DF3E7E6}"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579132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380520" y="961920"/>
            <a:ext cx="8366040" cy="277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Phaân tích</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MOÂI TRÖÔØNG BEÂN NGOAØI</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amp; BEÂN TRONG</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
          <p:cNvSpPr/>
          <p:nvPr/>
        </p:nvSpPr>
        <p:spPr>
          <a:xfrm>
            <a:off x="0" y="106668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 name=""/>
          <p:cNvGrpSpPr/>
          <p:nvPr/>
        </p:nvGrpSpPr>
        <p:grpSpPr>
          <a:xfrm>
            <a:off x="3281400" y="3019320"/>
            <a:ext cx="2585880" cy="2771640"/>
            <a:chOff x="3281400" y="3019320"/>
            <a:chExt cx="2585880" cy="2771640"/>
          </a:xfrm>
        </p:grpSpPr>
        <p:grpSp>
          <p:nvGrpSpPr>
            <p:cNvPr id="45" name=""/>
            <p:cNvGrpSpPr/>
            <p:nvPr/>
          </p:nvGrpSpPr>
          <p:grpSpPr>
            <a:xfrm>
              <a:off x="3281400" y="3019320"/>
              <a:ext cx="2585880" cy="2068920"/>
              <a:chOff x="3281400" y="3019320"/>
              <a:chExt cx="2585880" cy="2068920"/>
            </a:xfrm>
          </p:grpSpPr>
          <p:sp>
            <p:nvSpPr>
              <p:cNvPr id="46" name=""/>
              <p:cNvSpPr/>
              <p:nvPr/>
            </p:nvSpPr>
            <p:spPr>
              <a:xfrm>
                <a:off x="3281400" y="3019320"/>
                <a:ext cx="2585880" cy="20689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 name=""/>
              <p:cNvGrpSpPr/>
              <p:nvPr/>
            </p:nvGrpSpPr>
            <p:grpSpPr>
              <a:xfrm>
                <a:off x="3326760" y="3220200"/>
                <a:ext cx="2493360" cy="1352160"/>
                <a:chOff x="3326760" y="3220200"/>
                <a:chExt cx="2493360" cy="1352160"/>
              </a:xfrm>
            </p:grpSpPr>
            <p:sp>
              <p:nvSpPr>
                <p:cNvPr id="48" name=""/>
                <p:cNvSpPr/>
                <p:nvPr/>
              </p:nvSpPr>
              <p:spPr>
                <a:xfrm>
                  <a:off x="4582440" y="3601080"/>
                  <a:ext cx="14040" cy="14400"/>
                </a:xfrm>
                <a:custGeom>
                  <a:avLst/>
                  <a:gdLst/>
                  <a:ahLst/>
                  <a:rect l="l" t="t" r="r" b="b"/>
                  <a:pathLst>
                    <a:path w="18" h="22">
                      <a:moveTo>
                        <a:pt x="18" y="0"/>
                      </a:moveTo>
                      <a:lnTo>
                        <a:pt x="18" y="19"/>
                      </a:lnTo>
                      <a:lnTo>
                        <a:pt x="11" y="22"/>
                      </a:lnTo>
                      <a:lnTo>
                        <a:pt x="0" y="3"/>
                      </a:lnTo>
                      <a:lnTo>
                        <a:pt x="6" y="0"/>
                      </a:lnTo>
                      <a:lnTo>
                        <a:pt x="18" y="0"/>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 name=""/>
                <p:cNvSpPr/>
                <p:nvPr/>
              </p:nvSpPr>
              <p:spPr>
                <a:xfrm>
                  <a:off x="4557240" y="3569040"/>
                  <a:ext cx="12600" cy="24480"/>
                </a:xfrm>
                <a:custGeom>
                  <a:avLst/>
                  <a:gdLst/>
                  <a:ahLst/>
                  <a:rect l="l" t="t" r="r" b="b"/>
                  <a:pathLst>
                    <a:path w="14" h="34">
                      <a:moveTo>
                        <a:pt x="14" y="0"/>
                      </a:moveTo>
                      <a:lnTo>
                        <a:pt x="0" y="10"/>
                      </a:lnTo>
                      <a:lnTo>
                        <a:pt x="3" y="34"/>
                      </a:lnTo>
                      <a:lnTo>
                        <a:pt x="12" y="33"/>
                      </a:lnTo>
                      <a:lnTo>
                        <a:pt x="14" y="0"/>
                      </a:lnTo>
                      <a:close/>
                    </a:path>
                  </a:pathLst>
                </a:custGeom>
                <a:solidFill>
                  <a:srgbClr val="008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50" name=""/>
                <p:cNvGrpSpPr/>
                <p:nvPr/>
              </p:nvGrpSpPr>
              <p:grpSpPr>
                <a:xfrm>
                  <a:off x="5600520" y="4342320"/>
                  <a:ext cx="219600" cy="137160"/>
                  <a:chOff x="5600520" y="4342320"/>
                  <a:chExt cx="219600" cy="137160"/>
                </a:xfrm>
              </p:grpSpPr>
              <p:sp>
                <p:nvSpPr>
                  <p:cNvPr id="51" name=""/>
                  <p:cNvSpPr/>
                  <p:nvPr/>
                </p:nvSpPr>
                <p:spPr>
                  <a:xfrm>
                    <a:off x="5785920" y="4342320"/>
                    <a:ext cx="34200" cy="83880"/>
                  </a:xfrm>
                  <a:custGeom>
                    <a:avLst/>
                    <a:gdLst/>
                    <a:ahLst/>
                    <a:rect l="l" t="t" r="r" b="b"/>
                    <a:pathLst>
                      <a:path w="43" h="116">
                        <a:moveTo>
                          <a:pt x="14" y="1"/>
                        </a:moveTo>
                        <a:lnTo>
                          <a:pt x="18" y="0"/>
                        </a:lnTo>
                        <a:lnTo>
                          <a:pt x="26" y="14"/>
                        </a:lnTo>
                        <a:lnTo>
                          <a:pt x="25" y="49"/>
                        </a:lnTo>
                        <a:lnTo>
                          <a:pt x="30" y="49"/>
                        </a:lnTo>
                        <a:lnTo>
                          <a:pt x="32" y="56"/>
                        </a:lnTo>
                        <a:lnTo>
                          <a:pt x="33" y="59"/>
                        </a:lnTo>
                        <a:lnTo>
                          <a:pt x="36" y="67"/>
                        </a:lnTo>
                        <a:lnTo>
                          <a:pt x="39" y="64"/>
                        </a:lnTo>
                        <a:lnTo>
                          <a:pt x="41" y="58"/>
                        </a:lnTo>
                        <a:lnTo>
                          <a:pt x="43" y="59"/>
                        </a:lnTo>
                        <a:lnTo>
                          <a:pt x="40" y="68"/>
                        </a:lnTo>
                        <a:lnTo>
                          <a:pt x="39" y="72"/>
                        </a:lnTo>
                        <a:lnTo>
                          <a:pt x="37" y="82"/>
                        </a:lnTo>
                        <a:lnTo>
                          <a:pt x="33" y="85"/>
                        </a:lnTo>
                        <a:lnTo>
                          <a:pt x="29" y="88"/>
                        </a:lnTo>
                        <a:lnTo>
                          <a:pt x="25" y="94"/>
                        </a:lnTo>
                        <a:lnTo>
                          <a:pt x="23" y="98"/>
                        </a:lnTo>
                        <a:lnTo>
                          <a:pt x="25" y="101"/>
                        </a:lnTo>
                        <a:lnTo>
                          <a:pt x="26" y="109"/>
                        </a:lnTo>
                        <a:lnTo>
                          <a:pt x="22" y="111"/>
                        </a:lnTo>
                        <a:lnTo>
                          <a:pt x="18" y="114"/>
                        </a:lnTo>
                        <a:lnTo>
                          <a:pt x="14" y="116"/>
                        </a:lnTo>
                        <a:lnTo>
                          <a:pt x="10" y="114"/>
                        </a:lnTo>
                        <a:lnTo>
                          <a:pt x="6" y="111"/>
                        </a:lnTo>
                        <a:lnTo>
                          <a:pt x="3" y="109"/>
                        </a:lnTo>
                        <a:lnTo>
                          <a:pt x="6" y="104"/>
                        </a:lnTo>
                        <a:lnTo>
                          <a:pt x="10" y="101"/>
                        </a:lnTo>
                        <a:lnTo>
                          <a:pt x="14" y="96"/>
                        </a:lnTo>
                        <a:lnTo>
                          <a:pt x="14" y="93"/>
                        </a:lnTo>
                        <a:lnTo>
                          <a:pt x="10" y="88"/>
                        </a:lnTo>
                        <a:lnTo>
                          <a:pt x="6" y="84"/>
                        </a:lnTo>
                        <a:lnTo>
                          <a:pt x="3" y="84"/>
                        </a:lnTo>
                        <a:lnTo>
                          <a:pt x="0" y="82"/>
                        </a:lnTo>
                        <a:lnTo>
                          <a:pt x="0" y="80"/>
                        </a:lnTo>
                        <a:lnTo>
                          <a:pt x="0" y="74"/>
                        </a:lnTo>
                        <a:lnTo>
                          <a:pt x="3" y="74"/>
                        </a:lnTo>
                        <a:lnTo>
                          <a:pt x="6" y="72"/>
                        </a:lnTo>
                        <a:lnTo>
                          <a:pt x="10" y="68"/>
                        </a:lnTo>
                        <a:lnTo>
                          <a:pt x="11" y="67"/>
                        </a:lnTo>
                        <a:lnTo>
                          <a:pt x="15" y="49"/>
                        </a:lnTo>
                        <a:lnTo>
                          <a:pt x="11" y="46"/>
                        </a:lnTo>
                        <a:lnTo>
                          <a:pt x="9" y="40"/>
                        </a:lnTo>
                        <a:lnTo>
                          <a:pt x="7" y="32"/>
                        </a:lnTo>
                        <a:lnTo>
                          <a:pt x="9" y="23"/>
                        </a:lnTo>
                        <a:lnTo>
                          <a:pt x="10" y="17"/>
                        </a:lnTo>
                        <a:lnTo>
                          <a:pt x="14" y="1"/>
                        </a:lnTo>
                        <a:close/>
                      </a:path>
                    </a:pathLst>
                  </a:custGeom>
                  <a:solidFill>
                    <a:srgbClr val="008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2" name=""/>
                  <p:cNvSpPr/>
                  <p:nvPr/>
                </p:nvSpPr>
                <p:spPr>
                  <a:xfrm>
                    <a:off x="5719320" y="4410000"/>
                    <a:ext cx="63360" cy="69480"/>
                  </a:xfrm>
                  <a:custGeom>
                    <a:avLst/>
                    <a:gdLst/>
                    <a:ahLst/>
                    <a:rect l="l" t="t" r="r" b="b"/>
                    <a:pathLst>
                      <a:path w="81" h="95">
                        <a:moveTo>
                          <a:pt x="56" y="0"/>
                        </a:moveTo>
                        <a:lnTo>
                          <a:pt x="68" y="0"/>
                        </a:lnTo>
                        <a:lnTo>
                          <a:pt x="81" y="27"/>
                        </a:lnTo>
                        <a:lnTo>
                          <a:pt x="67" y="47"/>
                        </a:lnTo>
                        <a:lnTo>
                          <a:pt x="67" y="58"/>
                        </a:lnTo>
                        <a:lnTo>
                          <a:pt x="64" y="60"/>
                        </a:lnTo>
                        <a:lnTo>
                          <a:pt x="52" y="60"/>
                        </a:lnTo>
                        <a:lnTo>
                          <a:pt x="42" y="71"/>
                        </a:lnTo>
                        <a:lnTo>
                          <a:pt x="33" y="85"/>
                        </a:lnTo>
                        <a:lnTo>
                          <a:pt x="27" y="95"/>
                        </a:lnTo>
                        <a:lnTo>
                          <a:pt x="27" y="85"/>
                        </a:lnTo>
                        <a:lnTo>
                          <a:pt x="14" y="89"/>
                        </a:lnTo>
                        <a:lnTo>
                          <a:pt x="7" y="89"/>
                        </a:lnTo>
                        <a:lnTo>
                          <a:pt x="0" y="89"/>
                        </a:lnTo>
                        <a:lnTo>
                          <a:pt x="12" y="71"/>
                        </a:lnTo>
                        <a:lnTo>
                          <a:pt x="16" y="65"/>
                        </a:lnTo>
                        <a:lnTo>
                          <a:pt x="20" y="65"/>
                        </a:lnTo>
                        <a:lnTo>
                          <a:pt x="30" y="49"/>
                        </a:lnTo>
                        <a:lnTo>
                          <a:pt x="33" y="49"/>
                        </a:lnTo>
                        <a:lnTo>
                          <a:pt x="38" y="45"/>
                        </a:lnTo>
                        <a:lnTo>
                          <a:pt x="42" y="45"/>
                        </a:lnTo>
                        <a:lnTo>
                          <a:pt x="41" y="31"/>
                        </a:lnTo>
                        <a:lnTo>
                          <a:pt x="42" y="31"/>
                        </a:lnTo>
                        <a:lnTo>
                          <a:pt x="48" y="26"/>
                        </a:lnTo>
                        <a:lnTo>
                          <a:pt x="48" y="29"/>
                        </a:lnTo>
                        <a:lnTo>
                          <a:pt x="60" y="18"/>
                        </a:lnTo>
                        <a:lnTo>
                          <a:pt x="56" y="0"/>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3" name=""/>
                  <p:cNvSpPr/>
                  <p:nvPr/>
                </p:nvSpPr>
                <p:spPr>
                  <a:xfrm>
                    <a:off x="5600520" y="4414320"/>
                    <a:ext cx="24840" cy="37440"/>
                  </a:xfrm>
                  <a:custGeom>
                    <a:avLst/>
                    <a:gdLst/>
                    <a:ahLst/>
                    <a:rect l="l" t="t" r="r" b="b"/>
                    <a:pathLst>
                      <a:path w="31" h="53">
                        <a:moveTo>
                          <a:pt x="0" y="0"/>
                        </a:moveTo>
                        <a:lnTo>
                          <a:pt x="7" y="0"/>
                        </a:lnTo>
                        <a:lnTo>
                          <a:pt x="15" y="6"/>
                        </a:lnTo>
                        <a:lnTo>
                          <a:pt x="31" y="6"/>
                        </a:lnTo>
                        <a:lnTo>
                          <a:pt x="28" y="16"/>
                        </a:lnTo>
                        <a:lnTo>
                          <a:pt x="31" y="24"/>
                        </a:lnTo>
                        <a:lnTo>
                          <a:pt x="26" y="24"/>
                        </a:lnTo>
                        <a:lnTo>
                          <a:pt x="24" y="26"/>
                        </a:lnTo>
                        <a:lnTo>
                          <a:pt x="21" y="28"/>
                        </a:lnTo>
                        <a:lnTo>
                          <a:pt x="24" y="53"/>
                        </a:lnTo>
                        <a:lnTo>
                          <a:pt x="15" y="50"/>
                        </a:lnTo>
                        <a:lnTo>
                          <a:pt x="5" y="42"/>
                        </a:lnTo>
                        <a:lnTo>
                          <a:pt x="5" y="26"/>
                        </a:lnTo>
                        <a:lnTo>
                          <a:pt x="5" y="22"/>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54" name=""/>
                <p:cNvSpPr/>
                <p:nvPr/>
              </p:nvSpPr>
              <p:spPr>
                <a:xfrm>
                  <a:off x="5644440" y="4020840"/>
                  <a:ext cx="40320" cy="40320"/>
                </a:xfrm>
                <a:custGeom>
                  <a:avLst/>
                  <a:gdLst/>
                  <a:ahLst/>
                  <a:rect l="l" t="t" r="r" b="b"/>
                  <a:pathLst>
                    <a:path w="51" h="55">
                      <a:moveTo>
                        <a:pt x="10" y="22"/>
                      </a:moveTo>
                      <a:lnTo>
                        <a:pt x="0" y="45"/>
                      </a:lnTo>
                      <a:lnTo>
                        <a:pt x="3" y="54"/>
                      </a:lnTo>
                      <a:lnTo>
                        <a:pt x="18" y="55"/>
                      </a:lnTo>
                      <a:lnTo>
                        <a:pt x="29" y="55"/>
                      </a:lnTo>
                      <a:lnTo>
                        <a:pt x="36" y="48"/>
                      </a:lnTo>
                      <a:lnTo>
                        <a:pt x="38" y="38"/>
                      </a:lnTo>
                      <a:lnTo>
                        <a:pt x="51" y="38"/>
                      </a:lnTo>
                      <a:lnTo>
                        <a:pt x="48" y="23"/>
                      </a:lnTo>
                      <a:lnTo>
                        <a:pt x="48" y="12"/>
                      </a:lnTo>
                      <a:lnTo>
                        <a:pt x="37" y="0"/>
                      </a:lnTo>
                      <a:lnTo>
                        <a:pt x="34" y="18"/>
                      </a:lnTo>
                      <a:lnTo>
                        <a:pt x="41" y="26"/>
                      </a:lnTo>
                      <a:lnTo>
                        <a:pt x="28" y="26"/>
                      </a:lnTo>
                      <a:lnTo>
                        <a:pt x="24" y="32"/>
                      </a:lnTo>
                      <a:lnTo>
                        <a:pt x="10" y="22"/>
                      </a:lnTo>
                      <a:close/>
                    </a:path>
                  </a:pathLst>
                </a:cu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55" name=""/>
                <p:cNvGrpSpPr/>
                <p:nvPr/>
              </p:nvGrpSpPr>
              <p:grpSpPr>
                <a:xfrm>
                  <a:off x="5209560" y="3421440"/>
                  <a:ext cx="464400" cy="974160"/>
                  <a:chOff x="5209560" y="3421440"/>
                  <a:chExt cx="464400" cy="974160"/>
                </a:xfrm>
              </p:grpSpPr>
              <p:grpSp>
                <p:nvGrpSpPr>
                  <p:cNvPr id="56" name=""/>
                  <p:cNvGrpSpPr/>
                  <p:nvPr/>
                </p:nvGrpSpPr>
                <p:grpSpPr>
                  <a:xfrm>
                    <a:off x="5284080" y="3521160"/>
                    <a:ext cx="104040" cy="291960"/>
                    <a:chOff x="5284080" y="3521160"/>
                    <a:chExt cx="104040" cy="291960"/>
                  </a:xfrm>
                </p:grpSpPr>
                <p:sp>
                  <p:nvSpPr>
                    <p:cNvPr id="57" name=""/>
                    <p:cNvSpPr/>
                    <p:nvPr/>
                  </p:nvSpPr>
                  <p:spPr>
                    <a:xfrm>
                      <a:off x="5284080" y="3783240"/>
                      <a:ext cx="23040" cy="29880"/>
                    </a:xfrm>
                    <a:custGeom>
                      <a:avLst/>
                      <a:gdLst/>
                      <a:ahLst/>
                      <a:rect l="l" t="t" r="r" b="b"/>
                      <a:pathLst>
                        <a:path w="31" h="40">
                          <a:moveTo>
                            <a:pt x="0" y="30"/>
                          </a:moveTo>
                          <a:lnTo>
                            <a:pt x="5" y="40"/>
                          </a:lnTo>
                          <a:lnTo>
                            <a:pt x="12" y="37"/>
                          </a:lnTo>
                          <a:lnTo>
                            <a:pt x="23" y="40"/>
                          </a:lnTo>
                          <a:lnTo>
                            <a:pt x="30" y="40"/>
                          </a:lnTo>
                          <a:lnTo>
                            <a:pt x="31" y="27"/>
                          </a:lnTo>
                          <a:lnTo>
                            <a:pt x="28" y="16"/>
                          </a:lnTo>
                          <a:lnTo>
                            <a:pt x="24" y="6"/>
                          </a:lnTo>
                          <a:lnTo>
                            <a:pt x="19" y="6"/>
                          </a:lnTo>
                          <a:lnTo>
                            <a:pt x="15" y="0"/>
                          </a:lnTo>
                          <a:lnTo>
                            <a:pt x="8" y="0"/>
                          </a:lnTo>
                          <a:lnTo>
                            <a:pt x="8" y="11"/>
                          </a:lnTo>
                          <a:lnTo>
                            <a:pt x="0" y="30"/>
                          </a:lnTo>
                          <a:close/>
                        </a:path>
                      </a:pathLst>
                    </a:custGeom>
                    <a:solidFill>
                      <a:srgbClr val="008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8" name=""/>
                    <p:cNvSpPr/>
                    <p:nvPr/>
                  </p:nvSpPr>
                  <p:spPr>
                    <a:xfrm>
                      <a:off x="5351040" y="3731040"/>
                      <a:ext cx="23040" cy="36000"/>
                    </a:xfrm>
                    <a:custGeom>
                      <a:avLst/>
                      <a:gdLst/>
                      <a:ahLst/>
                      <a:rect l="l" t="t" r="r" b="b"/>
                      <a:pathLst>
                        <a:path w="30" h="51">
                          <a:moveTo>
                            <a:pt x="6" y="0"/>
                          </a:moveTo>
                          <a:lnTo>
                            <a:pt x="18" y="3"/>
                          </a:lnTo>
                          <a:lnTo>
                            <a:pt x="25" y="16"/>
                          </a:lnTo>
                          <a:lnTo>
                            <a:pt x="30" y="25"/>
                          </a:lnTo>
                          <a:lnTo>
                            <a:pt x="26" y="31"/>
                          </a:lnTo>
                          <a:lnTo>
                            <a:pt x="30" y="38"/>
                          </a:lnTo>
                          <a:lnTo>
                            <a:pt x="27" y="47"/>
                          </a:lnTo>
                          <a:lnTo>
                            <a:pt x="23" y="51"/>
                          </a:lnTo>
                          <a:lnTo>
                            <a:pt x="14" y="51"/>
                          </a:lnTo>
                          <a:lnTo>
                            <a:pt x="7" y="51"/>
                          </a:lnTo>
                          <a:lnTo>
                            <a:pt x="4" y="45"/>
                          </a:lnTo>
                          <a:lnTo>
                            <a:pt x="0" y="36"/>
                          </a:lnTo>
                          <a:lnTo>
                            <a:pt x="0" y="31"/>
                          </a:lnTo>
                          <a:lnTo>
                            <a:pt x="0" y="19"/>
                          </a:lnTo>
                          <a:lnTo>
                            <a:pt x="6" y="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9" name=""/>
                    <p:cNvSpPr/>
                    <p:nvPr/>
                  </p:nvSpPr>
                  <p:spPr>
                    <a:xfrm>
                      <a:off x="5344560" y="3521160"/>
                      <a:ext cx="43560" cy="33120"/>
                    </a:xfrm>
                    <a:custGeom>
                      <a:avLst/>
                      <a:gdLst/>
                      <a:ahLst/>
                      <a:rect l="l" t="t" r="r" b="b"/>
                      <a:pathLst>
                        <a:path w="55" h="46">
                          <a:moveTo>
                            <a:pt x="8" y="0"/>
                          </a:moveTo>
                          <a:lnTo>
                            <a:pt x="15" y="5"/>
                          </a:lnTo>
                          <a:lnTo>
                            <a:pt x="23" y="4"/>
                          </a:lnTo>
                          <a:lnTo>
                            <a:pt x="34" y="5"/>
                          </a:lnTo>
                          <a:lnTo>
                            <a:pt x="41" y="5"/>
                          </a:lnTo>
                          <a:lnTo>
                            <a:pt x="45" y="10"/>
                          </a:lnTo>
                          <a:lnTo>
                            <a:pt x="51" y="20"/>
                          </a:lnTo>
                          <a:lnTo>
                            <a:pt x="55" y="23"/>
                          </a:lnTo>
                          <a:lnTo>
                            <a:pt x="42" y="27"/>
                          </a:lnTo>
                          <a:lnTo>
                            <a:pt x="38" y="31"/>
                          </a:lnTo>
                          <a:lnTo>
                            <a:pt x="42" y="39"/>
                          </a:lnTo>
                          <a:lnTo>
                            <a:pt x="42" y="46"/>
                          </a:lnTo>
                          <a:lnTo>
                            <a:pt x="31" y="39"/>
                          </a:lnTo>
                          <a:lnTo>
                            <a:pt x="22" y="36"/>
                          </a:lnTo>
                          <a:lnTo>
                            <a:pt x="15" y="36"/>
                          </a:lnTo>
                          <a:lnTo>
                            <a:pt x="15" y="46"/>
                          </a:lnTo>
                          <a:lnTo>
                            <a:pt x="8" y="46"/>
                          </a:lnTo>
                          <a:lnTo>
                            <a:pt x="7" y="39"/>
                          </a:lnTo>
                          <a:lnTo>
                            <a:pt x="5" y="27"/>
                          </a:lnTo>
                          <a:lnTo>
                            <a:pt x="0" y="26"/>
                          </a:lnTo>
                          <a:lnTo>
                            <a:pt x="5" y="20"/>
                          </a:lnTo>
                          <a:lnTo>
                            <a:pt x="10" y="15"/>
                          </a:lnTo>
                          <a:lnTo>
                            <a:pt x="8"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60" name=""/>
                  <p:cNvSpPr/>
                  <p:nvPr/>
                </p:nvSpPr>
                <p:spPr>
                  <a:xfrm>
                    <a:off x="5382360" y="4113360"/>
                    <a:ext cx="291600" cy="282240"/>
                  </a:xfrm>
                  <a:custGeom>
                    <a:avLst/>
                    <a:gdLst/>
                    <a:ahLst/>
                    <a:rect l="l" t="t" r="r" b="b"/>
                    <a:pathLst>
                      <a:path w="376" h="391">
                        <a:moveTo>
                          <a:pt x="270" y="0"/>
                        </a:moveTo>
                        <a:lnTo>
                          <a:pt x="289" y="0"/>
                        </a:lnTo>
                        <a:lnTo>
                          <a:pt x="289" y="31"/>
                        </a:lnTo>
                        <a:lnTo>
                          <a:pt x="298" y="42"/>
                        </a:lnTo>
                        <a:lnTo>
                          <a:pt x="301" y="47"/>
                        </a:lnTo>
                        <a:lnTo>
                          <a:pt x="304" y="47"/>
                        </a:lnTo>
                        <a:lnTo>
                          <a:pt x="307" y="52"/>
                        </a:lnTo>
                        <a:lnTo>
                          <a:pt x="309" y="84"/>
                        </a:lnTo>
                        <a:lnTo>
                          <a:pt x="319" y="104"/>
                        </a:lnTo>
                        <a:lnTo>
                          <a:pt x="337" y="133"/>
                        </a:lnTo>
                        <a:lnTo>
                          <a:pt x="337" y="139"/>
                        </a:lnTo>
                        <a:lnTo>
                          <a:pt x="355" y="165"/>
                        </a:lnTo>
                        <a:lnTo>
                          <a:pt x="355" y="168"/>
                        </a:lnTo>
                        <a:lnTo>
                          <a:pt x="374" y="188"/>
                        </a:lnTo>
                        <a:lnTo>
                          <a:pt x="376" y="224"/>
                        </a:lnTo>
                        <a:lnTo>
                          <a:pt x="374" y="256"/>
                        </a:lnTo>
                        <a:lnTo>
                          <a:pt x="366" y="272"/>
                        </a:lnTo>
                        <a:lnTo>
                          <a:pt x="360" y="279"/>
                        </a:lnTo>
                        <a:lnTo>
                          <a:pt x="357" y="297"/>
                        </a:lnTo>
                        <a:lnTo>
                          <a:pt x="351" y="311"/>
                        </a:lnTo>
                        <a:lnTo>
                          <a:pt x="346" y="314"/>
                        </a:lnTo>
                        <a:lnTo>
                          <a:pt x="348" y="321"/>
                        </a:lnTo>
                        <a:lnTo>
                          <a:pt x="339" y="331"/>
                        </a:lnTo>
                        <a:lnTo>
                          <a:pt x="337" y="350"/>
                        </a:lnTo>
                        <a:lnTo>
                          <a:pt x="335" y="363"/>
                        </a:lnTo>
                        <a:lnTo>
                          <a:pt x="329" y="366"/>
                        </a:lnTo>
                        <a:lnTo>
                          <a:pt x="327" y="373"/>
                        </a:lnTo>
                        <a:lnTo>
                          <a:pt x="323" y="381"/>
                        </a:lnTo>
                        <a:lnTo>
                          <a:pt x="316" y="381"/>
                        </a:lnTo>
                        <a:lnTo>
                          <a:pt x="309" y="385"/>
                        </a:lnTo>
                        <a:lnTo>
                          <a:pt x="302" y="391"/>
                        </a:lnTo>
                        <a:lnTo>
                          <a:pt x="290" y="376"/>
                        </a:lnTo>
                        <a:lnTo>
                          <a:pt x="281" y="381"/>
                        </a:lnTo>
                        <a:lnTo>
                          <a:pt x="277" y="381"/>
                        </a:lnTo>
                        <a:lnTo>
                          <a:pt x="261" y="384"/>
                        </a:lnTo>
                        <a:lnTo>
                          <a:pt x="253" y="373"/>
                        </a:lnTo>
                        <a:lnTo>
                          <a:pt x="244" y="357"/>
                        </a:lnTo>
                        <a:lnTo>
                          <a:pt x="241" y="360"/>
                        </a:lnTo>
                        <a:lnTo>
                          <a:pt x="237" y="349"/>
                        </a:lnTo>
                        <a:lnTo>
                          <a:pt x="234" y="340"/>
                        </a:lnTo>
                        <a:lnTo>
                          <a:pt x="233" y="337"/>
                        </a:lnTo>
                        <a:lnTo>
                          <a:pt x="233" y="321"/>
                        </a:lnTo>
                        <a:lnTo>
                          <a:pt x="233" y="311"/>
                        </a:lnTo>
                        <a:lnTo>
                          <a:pt x="230" y="305"/>
                        </a:lnTo>
                        <a:lnTo>
                          <a:pt x="222" y="308"/>
                        </a:lnTo>
                        <a:lnTo>
                          <a:pt x="217" y="311"/>
                        </a:lnTo>
                        <a:lnTo>
                          <a:pt x="209" y="311"/>
                        </a:lnTo>
                        <a:lnTo>
                          <a:pt x="207" y="311"/>
                        </a:lnTo>
                        <a:lnTo>
                          <a:pt x="203" y="311"/>
                        </a:lnTo>
                        <a:lnTo>
                          <a:pt x="197" y="301"/>
                        </a:lnTo>
                        <a:lnTo>
                          <a:pt x="191" y="291"/>
                        </a:lnTo>
                        <a:lnTo>
                          <a:pt x="190" y="291"/>
                        </a:lnTo>
                        <a:lnTo>
                          <a:pt x="182" y="291"/>
                        </a:lnTo>
                        <a:lnTo>
                          <a:pt x="180" y="285"/>
                        </a:lnTo>
                        <a:lnTo>
                          <a:pt x="173" y="291"/>
                        </a:lnTo>
                        <a:lnTo>
                          <a:pt x="168" y="291"/>
                        </a:lnTo>
                        <a:lnTo>
                          <a:pt x="159" y="291"/>
                        </a:lnTo>
                        <a:lnTo>
                          <a:pt x="156" y="285"/>
                        </a:lnTo>
                        <a:lnTo>
                          <a:pt x="153" y="291"/>
                        </a:lnTo>
                        <a:lnTo>
                          <a:pt x="142" y="292"/>
                        </a:lnTo>
                        <a:lnTo>
                          <a:pt x="141" y="291"/>
                        </a:lnTo>
                        <a:lnTo>
                          <a:pt x="136" y="297"/>
                        </a:lnTo>
                        <a:lnTo>
                          <a:pt x="129" y="305"/>
                        </a:lnTo>
                        <a:lnTo>
                          <a:pt x="123" y="305"/>
                        </a:lnTo>
                        <a:lnTo>
                          <a:pt x="117" y="314"/>
                        </a:lnTo>
                        <a:lnTo>
                          <a:pt x="108" y="314"/>
                        </a:lnTo>
                        <a:lnTo>
                          <a:pt x="99" y="314"/>
                        </a:lnTo>
                        <a:lnTo>
                          <a:pt x="90" y="321"/>
                        </a:lnTo>
                        <a:lnTo>
                          <a:pt x="86" y="328"/>
                        </a:lnTo>
                        <a:lnTo>
                          <a:pt x="82" y="327"/>
                        </a:lnTo>
                        <a:lnTo>
                          <a:pt x="80" y="333"/>
                        </a:lnTo>
                        <a:lnTo>
                          <a:pt x="74" y="334"/>
                        </a:lnTo>
                        <a:lnTo>
                          <a:pt x="69" y="340"/>
                        </a:lnTo>
                        <a:lnTo>
                          <a:pt x="50" y="340"/>
                        </a:lnTo>
                        <a:lnTo>
                          <a:pt x="43" y="331"/>
                        </a:lnTo>
                        <a:lnTo>
                          <a:pt x="42" y="327"/>
                        </a:lnTo>
                        <a:lnTo>
                          <a:pt x="41" y="331"/>
                        </a:lnTo>
                        <a:lnTo>
                          <a:pt x="37" y="321"/>
                        </a:lnTo>
                        <a:lnTo>
                          <a:pt x="38" y="302"/>
                        </a:lnTo>
                        <a:lnTo>
                          <a:pt x="41" y="291"/>
                        </a:lnTo>
                        <a:lnTo>
                          <a:pt x="37" y="279"/>
                        </a:lnTo>
                        <a:lnTo>
                          <a:pt x="34" y="272"/>
                        </a:lnTo>
                        <a:lnTo>
                          <a:pt x="34" y="260"/>
                        </a:lnTo>
                        <a:lnTo>
                          <a:pt x="27" y="253"/>
                        </a:lnTo>
                        <a:lnTo>
                          <a:pt x="25" y="253"/>
                        </a:lnTo>
                        <a:lnTo>
                          <a:pt x="24" y="249"/>
                        </a:lnTo>
                        <a:lnTo>
                          <a:pt x="17" y="234"/>
                        </a:lnTo>
                        <a:lnTo>
                          <a:pt x="6" y="201"/>
                        </a:lnTo>
                        <a:lnTo>
                          <a:pt x="4" y="176"/>
                        </a:lnTo>
                        <a:lnTo>
                          <a:pt x="4" y="165"/>
                        </a:lnTo>
                        <a:lnTo>
                          <a:pt x="0" y="159"/>
                        </a:lnTo>
                        <a:lnTo>
                          <a:pt x="1" y="144"/>
                        </a:lnTo>
                        <a:lnTo>
                          <a:pt x="4" y="140"/>
                        </a:lnTo>
                        <a:lnTo>
                          <a:pt x="17" y="124"/>
                        </a:lnTo>
                        <a:lnTo>
                          <a:pt x="28" y="124"/>
                        </a:lnTo>
                        <a:lnTo>
                          <a:pt x="32" y="129"/>
                        </a:lnTo>
                        <a:lnTo>
                          <a:pt x="46" y="129"/>
                        </a:lnTo>
                        <a:lnTo>
                          <a:pt x="48" y="124"/>
                        </a:lnTo>
                        <a:lnTo>
                          <a:pt x="50" y="124"/>
                        </a:lnTo>
                        <a:lnTo>
                          <a:pt x="57" y="120"/>
                        </a:lnTo>
                        <a:lnTo>
                          <a:pt x="60" y="120"/>
                        </a:lnTo>
                        <a:lnTo>
                          <a:pt x="64" y="118"/>
                        </a:lnTo>
                        <a:lnTo>
                          <a:pt x="62" y="113"/>
                        </a:lnTo>
                        <a:lnTo>
                          <a:pt x="65" y="102"/>
                        </a:lnTo>
                        <a:lnTo>
                          <a:pt x="69" y="98"/>
                        </a:lnTo>
                        <a:lnTo>
                          <a:pt x="67" y="94"/>
                        </a:lnTo>
                        <a:lnTo>
                          <a:pt x="69" y="89"/>
                        </a:lnTo>
                        <a:lnTo>
                          <a:pt x="67" y="88"/>
                        </a:lnTo>
                        <a:lnTo>
                          <a:pt x="74" y="78"/>
                        </a:lnTo>
                        <a:lnTo>
                          <a:pt x="83" y="76"/>
                        </a:lnTo>
                        <a:lnTo>
                          <a:pt x="94" y="58"/>
                        </a:lnTo>
                        <a:lnTo>
                          <a:pt x="106" y="42"/>
                        </a:lnTo>
                        <a:lnTo>
                          <a:pt x="112" y="42"/>
                        </a:lnTo>
                        <a:lnTo>
                          <a:pt x="115" y="36"/>
                        </a:lnTo>
                        <a:lnTo>
                          <a:pt x="120" y="36"/>
                        </a:lnTo>
                        <a:lnTo>
                          <a:pt x="130" y="50"/>
                        </a:lnTo>
                        <a:lnTo>
                          <a:pt x="135" y="52"/>
                        </a:lnTo>
                        <a:lnTo>
                          <a:pt x="138" y="47"/>
                        </a:lnTo>
                        <a:lnTo>
                          <a:pt x="143" y="36"/>
                        </a:lnTo>
                        <a:lnTo>
                          <a:pt x="148" y="34"/>
                        </a:lnTo>
                        <a:lnTo>
                          <a:pt x="153" y="21"/>
                        </a:lnTo>
                        <a:lnTo>
                          <a:pt x="157" y="21"/>
                        </a:lnTo>
                        <a:lnTo>
                          <a:pt x="163" y="18"/>
                        </a:lnTo>
                        <a:lnTo>
                          <a:pt x="168" y="10"/>
                        </a:lnTo>
                        <a:lnTo>
                          <a:pt x="173" y="10"/>
                        </a:lnTo>
                        <a:lnTo>
                          <a:pt x="179" y="5"/>
                        </a:lnTo>
                        <a:lnTo>
                          <a:pt x="185" y="5"/>
                        </a:lnTo>
                        <a:lnTo>
                          <a:pt x="193" y="5"/>
                        </a:lnTo>
                        <a:lnTo>
                          <a:pt x="203" y="5"/>
                        </a:lnTo>
                        <a:lnTo>
                          <a:pt x="209" y="16"/>
                        </a:lnTo>
                        <a:lnTo>
                          <a:pt x="211" y="20"/>
                        </a:lnTo>
                        <a:lnTo>
                          <a:pt x="213" y="21"/>
                        </a:lnTo>
                        <a:lnTo>
                          <a:pt x="215" y="30"/>
                        </a:lnTo>
                        <a:lnTo>
                          <a:pt x="213" y="31"/>
                        </a:lnTo>
                        <a:lnTo>
                          <a:pt x="213" y="42"/>
                        </a:lnTo>
                        <a:lnTo>
                          <a:pt x="211" y="47"/>
                        </a:lnTo>
                        <a:lnTo>
                          <a:pt x="228" y="63"/>
                        </a:lnTo>
                        <a:lnTo>
                          <a:pt x="233" y="72"/>
                        </a:lnTo>
                        <a:lnTo>
                          <a:pt x="240" y="74"/>
                        </a:lnTo>
                        <a:lnTo>
                          <a:pt x="245" y="78"/>
                        </a:lnTo>
                        <a:lnTo>
                          <a:pt x="251" y="84"/>
                        </a:lnTo>
                        <a:lnTo>
                          <a:pt x="259" y="76"/>
                        </a:lnTo>
                        <a:lnTo>
                          <a:pt x="263" y="63"/>
                        </a:lnTo>
                        <a:lnTo>
                          <a:pt x="265" y="52"/>
                        </a:lnTo>
                        <a:lnTo>
                          <a:pt x="267" y="30"/>
                        </a:lnTo>
                        <a:lnTo>
                          <a:pt x="270" y="21"/>
                        </a:lnTo>
                        <a:lnTo>
                          <a:pt x="27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313600" y="4053960"/>
                    <a:ext cx="160560" cy="37440"/>
                  </a:xfrm>
                  <a:custGeom>
                    <a:avLst/>
                    <a:gdLst/>
                    <a:ahLst/>
                    <a:rect l="l" t="t" r="r" b="b"/>
                    <a:pathLst>
                      <a:path w="206" h="52">
                        <a:moveTo>
                          <a:pt x="0" y="0"/>
                        </a:moveTo>
                        <a:lnTo>
                          <a:pt x="14" y="7"/>
                        </a:lnTo>
                        <a:lnTo>
                          <a:pt x="29" y="7"/>
                        </a:lnTo>
                        <a:lnTo>
                          <a:pt x="40" y="7"/>
                        </a:lnTo>
                        <a:lnTo>
                          <a:pt x="48" y="7"/>
                        </a:lnTo>
                        <a:lnTo>
                          <a:pt x="55" y="9"/>
                        </a:lnTo>
                        <a:lnTo>
                          <a:pt x="64" y="13"/>
                        </a:lnTo>
                        <a:lnTo>
                          <a:pt x="70" y="25"/>
                        </a:lnTo>
                        <a:lnTo>
                          <a:pt x="74" y="29"/>
                        </a:lnTo>
                        <a:lnTo>
                          <a:pt x="81" y="29"/>
                        </a:lnTo>
                        <a:lnTo>
                          <a:pt x="91" y="29"/>
                        </a:lnTo>
                        <a:lnTo>
                          <a:pt x="101" y="35"/>
                        </a:lnTo>
                        <a:lnTo>
                          <a:pt x="107" y="39"/>
                        </a:lnTo>
                        <a:lnTo>
                          <a:pt x="111" y="39"/>
                        </a:lnTo>
                        <a:lnTo>
                          <a:pt x="112" y="29"/>
                        </a:lnTo>
                        <a:lnTo>
                          <a:pt x="115" y="25"/>
                        </a:lnTo>
                        <a:lnTo>
                          <a:pt x="129" y="29"/>
                        </a:lnTo>
                        <a:lnTo>
                          <a:pt x="140" y="29"/>
                        </a:lnTo>
                        <a:lnTo>
                          <a:pt x="151" y="29"/>
                        </a:lnTo>
                        <a:lnTo>
                          <a:pt x="158" y="33"/>
                        </a:lnTo>
                        <a:lnTo>
                          <a:pt x="162" y="36"/>
                        </a:lnTo>
                        <a:lnTo>
                          <a:pt x="170" y="35"/>
                        </a:lnTo>
                        <a:lnTo>
                          <a:pt x="176" y="33"/>
                        </a:lnTo>
                        <a:lnTo>
                          <a:pt x="181" y="29"/>
                        </a:lnTo>
                        <a:lnTo>
                          <a:pt x="188" y="29"/>
                        </a:lnTo>
                        <a:lnTo>
                          <a:pt x="195" y="25"/>
                        </a:lnTo>
                        <a:lnTo>
                          <a:pt x="202" y="23"/>
                        </a:lnTo>
                        <a:lnTo>
                          <a:pt x="206" y="23"/>
                        </a:lnTo>
                        <a:lnTo>
                          <a:pt x="204" y="33"/>
                        </a:lnTo>
                        <a:lnTo>
                          <a:pt x="202" y="39"/>
                        </a:lnTo>
                        <a:lnTo>
                          <a:pt x="199" y="42"/>
                        </a:lnTo>
                        <a:lnTo>
                          <a:pt x="195" y="42"/>
                        </a:lnTo>
                        <a:lnTo>
                          <a:pt x="193" y="42"/>
                        </a:lnTo>
                        <a:lnTo>
                          <a:pt x="186" y="45"/>
                        </a:lnTo>
                        <a:lnTo>
                          <a:pt x="182" y="49"/>
                        </a:lnTo>
                        <a:lnTo>
                          <a:pt x="180" y="49"/>
                        </a:lnTo>
                        <a:lnTo>
                          <a:pt x="173" y="46"/>
                        </a:lnTo>
                        <a:lnTo>
                          <a:pt x="169" y="49"/>
                        </a:lnTo>
                        <a:lnTo>
                          <a:pt x="165" y="49"/>
                        </a:lnTo>
                        <a:lnTo>
                          <a:pt x="161" y="49"/>
                        </a:lnTo>
                        <a:lnTo>
                          <a:pt x="158" y="52"/>
                        </a:lnTo>
                        <a:lnTo>
                          <a:pt x="151" y="52"/>
                        </a:lnTo>
                        <a:lnTo>
                          <a:pt x="147" y="49"/>
                        </a:lnTo>
                        <a:lnTo>
                          <a:pt x="141" y="42"/>
                        </a:lnTo>
                        <a:lnTo>
                          <a:pt x="136" y="49"/>
                        </a:lnTo>
                        <a:lnTo>
                          <a:pt x="132" y="52"/>
                        </a:lnTo>
                        <a:lnTo>
                          <a:pt x="128" y="52"/>
                        </a:lnTo>
                        <a:lnTo>
                          <a:pt x="121" y="42"/>
                        </a:lnTo>
                        <a:lnTo>
                          <a:pt x="119" y="45"/>
                        </a:lnTo>
                        <a:lnTo>
                          <a:pt x="114" y="45"/>
                        </a:lnTo>
                        <a:lnTo>
                          <a:pt x="110" y="49"/>
                        </a:lnTo>
                        <a:lnTo>
                          <a:pt x="104" y="49"/>
                        </a:lnTo>
                        <a:lnTo>
                          <a:pt x="96" y="49"/>
                        </a:lnTo>
                        <a:lnTo>
                          <a:pt x="93" y="46"/>
                        </a:lnTo>
                        <a:lnTo>
                          <a:pt x="89" y="42"/>
                        </a:lnTo>
                        <a:lnTo>
                          <a:pt x="82" y="45"/>
                        </a:lnTo>
                        <a:lnTo>
                          <a:pt x="77" y="49"/>
                        </a:lnTo>
                        <a:lnTo>
                          <a:pt x="73" y="49"/>
                        </a:lnTo>
                        <a:lnTo>
                          <a:pt x="64" y="46"/>
                        </a:lnTo>
                        <a:lnTo>
                          <a:pt x="56" y="41"/>
                        </a:lnTo>
                        <a:lnTo>
                          <a:pt x="50" y="41"/>
                        </a:lnTo>
                        <a:lnTo>
                          <a:pt x="37" y="36"/>
                        </a:lnTo>
                        <a:lnTo>
                          <a:pt x="29" y="33"/>
                        </a:lnTo>
                        <a:lnTo>
                          <a:pt x="23" y="33"/>
                        </a:lnTo>
                        <a:lnTo>
                          <a:pt x="14" y="29"/>
                        </a:lnTo>
                        <a:lnTo>
                          <a:pt x="7" y="23"/>
                        </a:lnTo>
                        <a:lnTo>
                          <a:pt x="3" y="23"/>
                        </a:lnTo>
                        <a:lnTo>
                          <a:pt x="0" y="20"/>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 name=""/>
                  <p:cNvSpPr/>
                  <p:nvPr/>
                </p:nvSpPr>
                <p:spPr>
                  <a:xfrm>
                    <a:off x="5401080" y="3977280"/>
                    <a:ext cx="73080" cy="75240"/>
                  </a:xfrm>
                  <a:custGeom>
                    <a:avLst/>
                    <a:gdLst/>
                    <a:ahLst/>
                    <a:rect l="l" t="t" r="r" b="b"/>
                    <a:pathLst>
                      <a:path w="94" h="103">
                        <a:moveTo>
                          <a:pt x="24" y="0"/>
                        </a:moveTo>
                        <a:lnTo>
                          <a:pt x="46" y="3"/>
                        </a:lnTo>
                        <a:lnTo>
                          <a:pt x="69" y="3"/>
                        </a:lnTo>
                        <a:lnTo>
                          <a:pt x="80" y="0"/>
                        </a:lnTo>
                        <a:lnTo>
                          <a:pt x="94" y="8"/>
                        </a:lnTo>
                        <a:lnTo>
                          <a:pt x="86" y="13"/>
                        </a:lnTo>
                        <a:lnTo>
                          <a:pt x="80" y="17"/>
                        </a:lnTo>
                        <a:lnTo>
                          <a:pt x="74" y="19"/>
                        </a:lnTo>
                        <a:lnTo>
                          <a:pt x="73" y="23"/>
                        </a:lnTo>
                        <a:lnTo>
                          <a:pt x="73" y="29"/>
                        </a:lnTo>
                        <a:lnTo>
                          <a:pt x="73" y="30"/>
                        </a:lnTo>
                        <a:lnTo>
                          <a:pt x="68" y="34"/>
                        </a:lnTo>
                        <a:lnTo>
                          <a:pt x="61" y="34"/>
                        </a:lnTo>
                        <a:lnTo>
                          <a:pt x="58" y="34"/>
                        </a:lnTo>
                        <a:lnTo>
                          <a:pt x="53" y="34"/>
                        </a:lnTo>
                        <a:lnTo>
                          <a:pt x="50" y="30"/>
                        </a:lnTo>
                        <a:lnTo>
                          <a:pt x="46" y="24"/>
                        </a:lnTo>
                        <a:lnTo>
                          <a:pt x="42" y="19"/>
                        </a:lnTo>
                        <a:lnTo>
                          <a:pt x="33" y="19"/>
                        </a:lnTo>
                        <a:lnTo>
                          <a:pt x="32" y="19"/>
                        </a:lnTo>
                        <a:lnTo>
                          <a:pt x="28" y="30"/>
                        </a:lnTo>
                        <a:lnTo>
                          <a:pt x="29" y="34"/>
                        </a:lnTo>
                        <a:lnTo>
                          <a:pt x="29" y="40"/>
                        </a:lnTo>
                        <a:lnTo>
                          <a:pt x="32" y="45"/>
                        </a:lnTo>
                        <a:lnTo>
                          <a:pt x="36" y="45"/>
                        </a:lnTo>
                        <a:lnTo>
                          <a:pt x="42" y="39"/>
                        </a:lnTo>
                        <a:lnTo>
                          <a:pt x="46" y="39"/>
                        </a:lnTo>
                        <a:lnTo>
                          <a:pt x="49" y="43"/>
                        </a:lnTo>
                        <a:lnTo>
                          <a:pt x="49" y="45"/>
                        </a:lnTo>
                        <a:lnTo>
                          <a:pt x="47" y="50"/>
                        </a:lnTo>
                        <a:lnTo>
                          <a:pt x="46" y="52"/>
                        </a:lnTo>
                        <a:lnTo>
                          <a:pt x="46" y="56"/>
                        </a:lnTo>
                        <a:lnTo>
                          <a:pt x="46" y="62"/>
                        </a:lnTo>
                        <a:lnTo>
                          <a:pt x="47" y="68"/>
                        </a:lnTo>
                        <a:lnTo>
                          <a:pt x="51" y="72"/>
                        </a:lnTo>
                        <a:lnTo>
                          <a:pt x="53" y="71"/>
                        </a:lnTo>
                        <a:lnTo>
                          <a:pt x="53" y="77"/>
                        </a:lnTo>
                        <a:lnTo>
                          <a:pt x="50" y="82"/>
                        </a:lnTo>
                        <a:lnTo>
                          <a:pt x="49" y="87"/>
                        </a:lnTo>
                        <a:lnTo>
                          <a:pt x="47" y="97"/>
                        </a:lnTo>
                        <a:lnTo>
                          <a:pt x="43" y="98"/>
                        </a:lnTo>
                        <a:lnTo>
                          <a:pt x="40" y="98"/>
                        </a:lnTo>
                        <a:lnTo>
                          <a:pt x="37" y="98"/>
                        </a:lnTo>
                        <a:lnTo>
                          <a:pt x="37" y="91"/>
                        </a:lnTo>
                        <a:lnTo>
                          <a:pt x="36" y="81"/>
                        </a:lnTo>
                        <a:lnTo>
                          <a:pt x="32" y="77"/>
                        </a:lnTo>
                        <a:lnTo>
                          <a:pt x="32" y="72"/>
                        </a:lnTo>
                        <a:lnTo>
                          <a:pt x="32" y="65"/>
                        </a:lnTo>
                        <a:lnTo>
                          <a:pt x="28" y="59"/>
                        </a:lnTo>
                        <a:lnTo>
                          <a:pt x="20" y="65"/>
                        </a:lnTo>
                        <a:lnTo>
                          <a:pt x="17" y="59"/>
                        </a:lnTo>
                        <a:lnTo>
                          <a:pt x="13" y="66"/>
                        </a:lnTo>
                        <a:lnTo>
                          <a:pt x="17" y="71"/>
                        </a:lnTo>
                        <a:lnTo>
                          <a:pt x="23" y="71"/>
                        </a:lnTo>
                        <a:lnTo>
                          <a:pt x="24" y="75"/>
                        </a:lnTo>
                        <a:lnTo>
                          <a:pt x="28" y="81"/>
                        </a:lnTo>
                        <a:lnTo>
                          <a:pt x="28" y="85"/>
                        </a:lnTo>
                        <a:lnTo>
                          <a:pt x="24" y="91"/>
                        </a:lnTo>
                        <a:lnTo>
                          <a:pt x="20" y="101"/>
                        </a:lnTo>
                        <a:lnTo>
                          <a:pt x="17" y="103"/>
                        </a:lnTo>
                        <a:lnTo>
                          <a:pt x="17" y="97"/>
                        </a:lnTo>
                        <a:lnTo>
                          <a:pt x="17" y="91"/>
                        </a:lnTo>
                        <a:lnTo>
                          <a:pt x="18" y="85"/>
                        </a:lnTo>
                        <a:lnTo>
                          <a:pt x="13" y="81"/>
                        </a:lnTo>
                        <a:lnTo>
                          <a:pt x="9" y="77"/>
                        </a:lnTo>
                        <a:lnTo>
                          <a:pt x="7" y="71"/>
                        </a:lnTo>
                        <a:lnTo>
                          <a:pt x="0" y="71"/>
                        </a:lnTo>
                        <a:lnTo>
                          <a:pt x="2" y="59"/>
                        </a:lnTo>
                        <a:lnTo>
                          <a:pt x="7" y="55"/>
                        </a:lnTo>
                        <a:lnTo>
                          <a:pt x="10" y="49"/>
                        </a:lnTo>
                        <a:lnTo>
                          <a:pt x="13" y="40"/>
                        </a:lnTo>
                        <a:lnTo>
                          <a:pt x="13" y="33"/>
                        </a:lnTo>
                        <a:lnTo>
                          <a:pt x="13" y="24"/>
                        </a:lnTo>
                        <a:lnTo>
                          <a:pt x="16" y="20"/>
                        </a:lnTo>
                        <a:lnTo>
                          <a:pt x="17" y="19"/>
                        </a:lnTo>
                        <a:lnTo>
                          <a:pt x="13" y="13"/>
                        </a:lnTo>
                        <a:lnTo>
                          <a:pt x="24"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3" name=""/>
                  <p:cNvSpPr/>
                  <p:nvPr/>
                </p:nvSpPr>
                <p:spPr>
                  <a:xfrm>
                    <a:off x="5324760" y="3942720"/>
                    <a:ext cx="79560" cy="105480"/>
                  </a:xfrm>
                  <a:custGeom>
                    <a:avLst/>
                    <a:gdLst/>
                    <a:ahLst/>
                    <a:rect l="l" t="t" r="r" b="b"/>
                    <a:pathLst>
                      <a:path w="103" h="145">
                        <a:moveTo>
                          <a:pt x="0" y="51"/>
                        </a:moveTo>
                        <a:lnTo>
                          <a:pt x="20" y="26"/>
                        </a:lnTo>
                        <a:lnTo>
                          <a:pt x="33" y="16"/>
                        </a:lnTo>
                        <a:lnTo>
                          <a:pt x="37" y="10"/>
                        </a:lnTo>
                        <a:lnTo>
                          <a:pt x="53" y="0"/>
                        </a:lnTo>
                        <a:lnTo>
                          <a:pt x="64" y="20"/>
                        </a:lnTo>
                        <a:lnTo>
                          <a:pt x="71" y="13"/>
                        </a:lnTo>
                        <a:lnTo>
                          <a:pt x="75" y="9"/>
                        </a:lnTo>
                        <a:lnTo>
                          <a:pt x="82" y="0"/>
                        </a:lnTo>
                        <a:lnTo>
                          <a:pt x="89" y="0"/>
                        </a:lnTo>
                        <a:lnTo>
                          <a:pt x="89" y="10"/>
                        </a:lnTo>
                        <a:lnTo>
                          <a:pt x="89" y="14"/>
                        </a:lnTo>
                        <a:lnTo>
                          <a:pt x="86" y="20"/>
                        </a:lnTo>
                        <a:lnTo>
                          <a:pt x="86" y="26"/>
                        </a:lnTo>
                        <a:lnTo>
                          <a:pt x="96" y="46"/>
                        </a:lnTo>
                        <a:lnTo>
                          <a:pt x="98" y="56"/>
                        </a:lnTo>
                        <a:lnTo>
                          <a:pt x="101" y="56"/>
                        </a:lnTo>
                        <a:lnTo>
                          <a:pt x="103" y="65"/>
                        </a:lnTo>
                        <a:lnTo>
                          <a:pt x="98" y="71"/>
                        </a:lnTo>
                        <a:lnTo>
                          <a:pt x="96" y="67"/>
                        </a:lnTo>
                        <a:lnTo>
                          <a:pt x="89" y="72"/>
                        </a:lnTo>
                        <a:lnTo>
                          <a:pt x="89" y="84"/>
                        </a:lnTo>
                        <a:lnTo>
                          <a:pt x="79" y="93"/>
                        </a:lnTo>
                        <a:lnTo>
                          <a:pt x="79" y="114"/>
                        </a:lnTo>
                        <a:lnTo>
                          <a:pt x="79" y="126"/>
                        </a:lnTo>
                        <a:lnTo>
                          <a:pt x="75" y="133"/>
                        </a:lnTo>
                        <a:lnTo>
                          <a:pt x="71" y="145"/>
                        </a:lnTo>
                        <a:lnTo>
                          <a:pt x="67" y="139"/>
                        </a:lnTo>
                        <a:lnTo>
                          <a:pt x="61" y="136"/>
                        </a:lnTo>
                        <a:lnTo>
                          <a:pt x="56" y="133"/>
                        </a:lnTo>
                        <a:lnTo>
                          <a:pt x="50" y="125"/>
                        </a:lnTo>
                        <a:lnTo>
                          <a:pt x="34" y="125"/>
                        </a:lnTo>
                        <a:lnTo>
                          <a:pt x="22" y="120"/>
                        </a:lnTo>
                        <a:lnTo>
                          <a:pt x="13" y="107"/>
                        </a:lnTo>
                        <a:lnTo>
                          <a:pt x="8" y="98"/>
                        </a:lnTo>
                        <a:lnTo>
                          <a:pt x="3" y="93"/>
                        </a:lnTo>
                        <a:lnTo>
                          <a:pt x="3" y="78"/>
                        </a:lnTo>
                        <a:lnTo>
                          <a:pt x="0" y="5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496120" y="4003560"/>
                    <a:ext cx="154440" cy="95400"/>
                  </a:xfrm>
                  <a:custGeom>
                    <a:avLst/>
                    <a:gdLst/>
                    <a:ahLst/>
                    <a:rect l="l" t="t" r="r" b="b"/>
                    <a:pathLst>
                      <a:path w="198" h="132">
                        <a:moveTo>
                          <a:pt x="0" y="0"/>
                        </a:moveTo>
                        <a:lnTo>
                          <a:pt x="18" y="0"/>
                        </a:lnTo>
                        <a:lnTo>
                          <a:pt x="32" y="2"/>
                        </a:lnTo>
                        <a:lnTo>
                          <a:pt x="38" y="21"/>
                        </a:lnTo>
                        <a:lnTo>
                          <a:pt x="39" y="28"/>
                        </a:lnTo>
                        <a:lnTo>
                          <a:pt x="41" y="32"/>
                        </a:lnTo>
                        <a:lnTo>
                          <a:pt x="46" y="25"/>
                        </a:lnTo>
                        <a:lnTo>
                          <a:pt x="53" y="25"/>
                        </a:lnTo>
                        <a:lnTo>
                          <a:pt x="59" y="32"/>
                        </a:lnTo>
                        <a:lnTo>
                          <a:pt x="60" y="31"/>
                        </a:lnTo>
                        <a:lnTo>
                          <a:pt x="67" y="21"/>
                        </a:lnTo>
                        <a:lnTo>
                          <a:pt x="68" y="21"/>
                        </a:lnTo>
                        <a:lnTo>
                          <a:pt x="74" y="16"/>
                        </a:lnTo>
                        <a:lnTo>
                          <a:pt x="80" y="16"/>
                        </a:lnTo>
                        <a:lnTo>
                          <a:pt x="96" y="25"/>
                        </a:lnTo>
                        <a:lnTo>
                          <a:pt x="106" y="25"/>
                        </a:lnTo>
                        <a:lnTo>
                          <a:pt x="113" y="37"/>
                        </a:lnTo>
                        <a:lnTo>
                          <a:pt x="120" y="37"/>
                        </a:lnTo>
                        <a:lnTo>
                          <a:pt x="127" y="43"/>
                        </a:lnTo>
                        <a:lnTo>
                          <a:pt x="133" y="44"/>
                        </a:lnTo>
                        <a:lnTo>
                          <a:pt x="148" y="51"/>
                        </a:lnTo>
                        <a:lnTo>
                          <a:pt x="154" y="63"/>
                        </a:lnTo>
                        <a:lnTo>
                          <a:pt x="157" y="69"/>
                        </a:lnTo>
                        <a:lnTo>
                          <a:pt x="156" y="73"/>
                        </a:lnTo>
                        <a:lnTo>
                          <a:pt x="161" y="77"/>
                        </a:lnTo>
                        <a:lnTo>
                          <a:pt x="166" y="79"/>
                        </a:lnTo>
                        <a:lnTo>
                          <a:pt x="168" y="80"/>
                        </a:lnTo>
                        <a:lnTo>
                          <a:pt x="174" y="83"/>
                        </a:lnTo>
                        <a:lnTo>
                          <a:pt x="185" y="93"/>
                        </a:lnTo>
                        <a:lnTo>
                          <a:pt x="185" y="99"/>
                        </a:lnTo>
                        <a:lnTo>
                          <a:pt x="189" y="105"/>
                        </a:lnTo>
                        <a:lnTo>
                          <a:pt x="190" y="109"/>
                        </a:lnTo>
                        <a:lnTo>
                          <a:pt x="198" y="119"/>
                        </a:lnTo>
                        <a:lnTo>
                          <a:pt x="190" y="132"/>
                        </a:lnTo>
                        <a:lnTo>
                          <a:pt x="189" y="132"/>
                        </a:lnTo>
                        <a:lnTo>
                          <a:pt x="182" y="132"/>
                        </a:lnTo>
                        <a:lnTo>
                          <a:pt x="179" y="127"/>
                        </a:lnTo>
                        <a:lnTo>
                          <a:pt x="177" y="127"/>
                        </a:lnTo>
                        <a:lnTo>
                          <a:pt x="171" y="127"/>
                        </a:lnTo>
                        <a:lnTo>
                          <a:pt x="156" y="103"/>
                        </a:lnTo>
                        <a:lnTo>
                          <a:pt x="146" y="105"/>
                        </a:lnTo>
                        <a:lnTo>
                          <a:pt x="135" y="103"/>
                        </a:lnTo>
                        <a:lnTo>
                          <a:pt x="133" y="106"/>
                        </a:lnTo>
                        <a:lnTo>
                          <a:pt x="129" y="111"/>
                        </a:lnTo>
                        <a:lnTo>
                          <a:pt x="129" y="109"/>
                        </a:lnTo>
                        <a:lnTo>
                          <a:pt x="126" y="116"/>
                        </a:lnTo>
                        <a:lnTo>
                          <a:pt x="117" y="127"/>
                        </a:lnTo>
                        <a:lnTo>
                          <a:pt x="111" y="121"/>
                        </a:lnTo>
                        <a:lnTo>
                          <a:pt x="106" y="119"/>
                        </a:lnTo>
                        <a:lnTo>
                          <a:pt x="98" y="119"/>
                        </a:lnTo>
                        <a:lnTo>
                          <a:pt x="94" y="116"/>
                        </a:lnTo>
                        <a:lnTo>
                          <a:pt x="90" y="119"/>
                        </a:lnTo>
                        <a:lnTo>
                          <a:pt x="86" y="103"/>
                        </a:lnTo>
                        <a:lnTo>
                          <a:pt x="79" y="89"/>
                        </a:lnTo>
                        <a:lnTo>
                          <a:pt x="69" y="73"/>
                        </a:lnTo>
                        <a:lnTo>
                          <a:pt x="65" y="63"/>
                        </a:lnTo>
                        <a:lnTo>
                          <a:pt x="59" y="53"/>
                        </a:lnTo>
                        <a:lnTo>
                          <a:pt x="46" y="53"/>
                        </a:lnTo>
                        <a:lnTo>
                          <a:pt x="37" y="57"/>
                        </a:lnTo>
                        <a:lnTo>
                          <a:pt x="30" y="51"/>
                        </a:lnTo>
                        <a:lnTo>
                          <a:pt x="18" y="47"/>
                        </a:lnTo>
                        <a:lnTo>
                          <a:pt x="12" y="43"/>
                        </a:lnTo>
                        <a:lnTo>
                          <a:pt x="12" y="22"/>
                        </a:lnTo>
                        <a:lnTo>
                          <a:pt x="13"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209560" y="3935520"/>
                    <a:ext cx="95040" cy="124200"/>
                  </a:xfrm>
                  <a:custGeom>
                    <a:avLst/>
                    <a:gdLst/>
                    <a:ahLst/>
                    <a:rect l="l" t="t" r="r" b="b"/>
                    <a:pathLst>
                      <a:path w="121" h="173">
                        <a:moveTo>
                          <a:pt x="0" y="6"/>
                        </a:moveTo>
                        <a:lnTo>
                          <a:pt x="12" y="0"/>
                        </a:lnTo>
                        <a:lnTo>
                          <a:pt x="26" y="6"/>
                        </a:lnTo>
                        <a:lnTo>
                          <a:pt x="28" y="15"/>
                        </a:lnTo>
                        <a:lnTo>
                          <a:pt x="28" y="21"/>
                        </a:lnTo>
                        <a:lnTo>
                          <a:pt x="34" y="22"/>
                        </a:lnTo>
                        <a:lnTo>
                          <a:pt x="34" y="25"/>
                        </a:lnTo>
                        <a:lnTo>
                          <a:pt x="37" y="26"/>
                        </a:lnTo>
                        <a:lnTo>
                          <a:pt x="37" y="32"/>
                        </a:lnTo>
                        <a:lnTo>
                          <a:pt x="49" y="48"/>
                        </a:lnTo>
                        <a:lnTo>
                          <a:pt x="52" y="48"/>
                        </a:lnTo>
                        <a:lnTo>
                          <a:pt x="55" y="54"/>
                        </a:lnTo>
                        <a:lnTo>
                          <a:pt x="58" y="60"/>
                        </a:lnTo>
                        <a:lnTo>
                          <a:pt x="60" y="60"/>
                        </a:lnTo>
                        <a:lnTo>
                          <a:pt x="69" y="67"/>
                        </a:lnTo>
                        <a:lnTo>
                          <a:pt x="89" y="68"/>
                        </a:lnTo>
                        <a:lnTo>
                          <a:pt x="91" y="90"/>
                        </a:lnTo>
                        <a:lnTo>
                          <a:pt x="93" y="94"/>
                        </a:lnTo>
                        <a:lnTo>
                          <a:pt x="92" y="103"/>
                        </a:lnTo>
                        <a:lnTo>
                          <a:pt x="103" y="112"/>
                        </a:lnTo>
                        <a:lnTo>
                          <a:pt x="115" y="116"/>
                        </a:lnTo>
                        <a:lnTo>
                          <a:pt x="115" y="151"/>
                        </a:lnTo>
                        <a:lnTo>
                          <a:pt x="121" y="168"/>
                        </a:lnTo>
                        <a:lnTo>
                          <a:pt x="116" y="171"/>
                        </a:lnTo>
                        <a:lnTo>
                          <a:pt x="110" y="173"/>
                        </a:lnTo>
                        <a:lnTo>
                          <a:pt x="109" y="163"/>
                        </a:lnTo>
                        <a:lnTo>
                          <a:pt x="96" y="173"/>
                        </a:lnTo>
                        <a:lnTo>
                          <a:pt x="91" y="157"/>
                        </a:lnTo>
                        <a:lnTo>
                          <a:pt x="86" y="142"/>
                        </a:lnTo>
                        <a:lnTo>
                          <a:pt x="73" y="126"/>
                        </a:lnTo>
                        <a:lnTo>
                          <a:pt x="67" y="126"/>
                        </a:lnTo>
                        <a:lnTo>
                          <a:pt x="55" y="115"/>
                        </a:lnTo>
                        <a:lnTo>
                          <a:pt x="54" y="106"/>
                        </a:lnTo>
                        <a:lnTo>
                          <a:pt x="54" y="100"/>
                        </a:lnTo>
                        <a:lnTo>
                          <a:pt x="45" y="74"/>
                        </a:lnTo>
                        <a:lnTo>
                          <a:pt x="40" y="60"/>
                        </a:lnTo>
                        <a:lnTo>
                          <a:pt x="26" y="47"/>
                        </a:lnTo>
                        <a:lnTo>
                          <a:pt x="11" y="25"/>
                        </a:lnTo>
                        <a:lnTo>
                          <a:pt x="0" y="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375880" y="3798000"/>
                    <a:ext cx="92160" cy="141840"/>
                  </a:xfrm>
                  <a:custGeom>
                    <a:avLst/>
                    <a:gdLst/>
                    <a:ahLst/>
                    <a:rect l="l" t="t" r="r" b="b"/>
                    <a:pathLst>
                      <a:path w="118" h="194">
                        <a:moveTo>
                          <a:pt x="8" y="0"/>
                        </a:moveTo>
                        <a:lnTo>
                          <a:pt x="20" y="0"/>
                        </a:lnTo>
                        <a:lnTo>
                          <a:pt x="30" y="20"/>
                        </a:lnTo>
                        <a:lnTo>
                          <a:pt x="27" y="39"/>
                        </a:lnTo>
                        <a:lnTo>
                          <a:pt x="34" y="46"/>
                        </a:lnTo>
                        <a:lnTo>
                          <a:pt x="37" y="58"/>
                        </a:lnTo>
                        <a:lnTo>
                          <a:pt x="45" y="64"/>
                        </a:lnTo>
                        <a:lnTo>
                          <a:pt x="53" y="65"/>
                        </a:lnTo>
                        <a:lnTo>
                          <a:pt x="68" y="75"/>
                        </a:lnTo>
                        <a:lnTo>
                          <a:pt x="76" y="88"/>
                        </a:lnTo>
                        <a:lnTo>
                          <a:pt x="78" y="88"/>
                        </a:lnTo>
                        <a:lnTo>
                          <a:pt x="89" y="96"/>
                        </a:lnTo>
                        <a:lnTo>
                          <a:pt x="89" y="120"/>
                        </a:lnTo>
                        <a:lnTo>
                          <a:pt x="93" y="132"/>
                        </a:lnTo>
                        <a:lnTo>
                          <a:pt x="96" y="138"/>
                        </a:lnTo>
                        <a:lnTo>
                          <a:pt x="101" y="143"/>
                        </a:lnTo>
                        <a:lnTo>
                          <a:pt x="105" y="152"/>
                        </a:lnTo>
                        <a:lnTo>
                          <a:pt x="106" y="161"/>
                        </a:lnTo>
                        <a:lnTo>
                          <a:pt x="118" y="168"/>
                        </a:lnTo>
                        <a:lnTo>
                          <a:pt x="116" y="178"/>
                        </a:lnTo>
                        <a:lnTo>
                          <a:pt x="106" y="180"/>
                        </a:lnTo>
                        <a:lnTo>
                          <a:pt x="102" y="174"/>
                        </a:lnTo>
                        <a:lnTo>
                          <a:pt x="96" y="174"/>
                        </a:lnTo>
                        <a:lnTo>
                          <a:pt x="96" y="194"/>
                        </a:lnTo>
                        <a:lnTo>
                          <a:pt x="90" y="194"/>
                        </a:lnTo>
                        <a:lnTo>
                          <a:pt x="83" y="184"/>
                        </a:lnTo>
                        <a:lnTo>
                          <a:pt x="79" y="178"/>
                        </a:lnTo>
                        <a:lnTo>
                          <a:pt x="79" y="168"/>
                        </a:lnTo>
                        <a:lnTo>
                          <a:pt x="71" y="168"/>
                        </a:lnTo>
                        <a:lnTo>
                          <a:pt x="67" y="178"/>
                        </a:lnTo>
                        <a:lnTo>
                          <a:pt x="64" y="168"/>
                        </a:lnTo>
                        <a:lnTo>
                          <a:pt x="61" y="156"/>
                        </a:lnTo>
                        <a:lnTo>
                          <a:pt x="74" y="152"/>
                        </a:lnTo>
                        <a:lnTo>
                          <a:pt x="81" y="154"/>
                        </a:lnTo>
                        <a:lnTo>
                          <a:pt x="81" y="135"/>
                        </a:lnTo>
                        <a:lnTo>
                          <a:pt x="75" y="130"/>
                        </a:lnTo>
                        <a:lnTo>
                          <a:pt x="71" y="114"/>
                        </a:lnTo>
                        <a:lnTo>
                          <a:pt x="68" y="94"/>
                        </a:lnTo>
                        <a:lnTo>
                          <a:pt x="55" y="90"/>
                        </a:lnTo>
                        <a:lnTo>
                          <a:pt x="49" y="80"/>
                        </a:lnTo>
                        <a:lnTo>
                          <a:pt x="41" y="75"/>
                        </a:lnTo>
                        <a:lnTo>
                          <a:pt x="45" y="91"/>
                        </a:lnTo>
                        <a:lnTo>
                          <a:pt x="34" y="100"/>
                        </a:lnTo>
                        <a:lnTo>
                          <a:pt x="27" y="83"/>
                        </a:lnTo>
                        <a:lnTo>
                          <a:pt x="23" y="75"/>
                        </a:lnTo>
                        <a:lnTo>
                          <a:pt x="23" y="65"/>
                        </a:lnTo>
                        <a:lnTo>
                          <a:pt x="13" y="52"/>
                        </a:lnTo>
                        <a:lnTo>
                          <a:pt x="4" y="46"/>
                        </a:lnTo>
                        <a:lnTo>
                          <a:pt x="0" y="38"/>
                        </a:lnTo>
                        <a:lnTo>
                          <a:pt x="2" y="30"/>
                        </a:lnTo>
                        <a:lnTo>
                          <a:pt x="9" y="36"/>
                        </a:lnTo>
                        <a:lnTo>
                          <a:pt x="11" y="26"/>
                        </a:lnTo>
                        <a:lnTo>
                          <a:pt x="9" y="16"/>
                        </a:lnTo>
                        <a:lnTo>
                          <a:pt x="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355720" y="3563280"/>
                    <a:ext cx="66960" cy="117360"/>
                  </a:xfrm>
                  <a:custGeom>
                    <a:avLst/>
                    <a:gdLst/>
                    <a:ahLst/>
                    <a:rect l="l" t="t" r="r" b="b"/>
                    <a:pathLst>
                      <a:path w="86" h="162">
                        <a:moveTo>
                          <a:pt x="19" y="0"/>
                        </a:moveTo>
                        <a:lnTo>
                          <a:pt x="34" y="9"/>
                        </a:lnTo>
                        <a:lnTo>
                          <a:pt x="46" y="22"/>
                        </a:lnTo>
                        <a:lnTo>
                          <a:pt x="52" y="35"/>
                        </a:lnTo>
                        <a:lnTo>
                          <a:pt x="56" y="35"/>
                        </a:lnTo>
                        <a:lnTo>
                          <a:pt x="56" y="43"/>
                        </a:lnTo>
                        <a:lnTo>
                          <a:pt x="61" y="52"/>
                        </a:lnTo>
                        <a:lnTo>
                          <a:pt x="67" y="61"/>
                        </a:lnTo>
                        <a:lnTo>
                          <a:pt x="78" y="78"/>
                        </a:lnTo>
                        <a:lnTo>
                          <a:pt x="86" y="101"/>
                        </a:lnTo>
                        <a:lnTo>
                          <a:pt x="71" y="100"/>
                        </a:lnTo>
                        <a:lnTo>
                          <a:pt x="60" y="96"/>
                        </a:lnTo>
                        <a:lnTo>
                          <a:pt x="68" y="112"/>
                        </a:lnTo>
                        <a:lnTo>
                          <a:pt x="68" y="122"/>
                        </a:lnTo>
                        <a:lnTo>
                          <a:pt x="68" y="130"/>
                        </a:lnTo>
                        <a:lnTo>
                          <a:pt x="63" y="128"/>
                        </a:lnTo>
                        <a:lnTo>
                          <a:pt x="57" y="120"/>
                        </a:lnTo>
                        <a:lnTo>
                          <a:pt x="49" y="107"/>
                        </a:lnTo>
                        <a:lnTo>
                          <a:pt x="42" y="104"/>
                        </a:lnTo>
                        <a:lnTo>
                          <a:pt x="33" y="107"/>
                        </a:lnTo>
                        <a:lnTo>
                          <a:pt x="27" y="112"/>
                        </a:lnTo>
                        <a:lnTo>
                          <a:pt x="30" y="120"/>
                        </a:lnTo>
                        <a:lnTo>
                          <a:pt x="39" y="128"/>
                        </a:lnTo>
                        <a:lnTo>
                          <a:pt x="49" y="132"/>
                        </a:lnTo>
                        <a:lnTo>
                          <a:pt x="53" y="143"/>
                        </a:lnTo>
                        <a:lnTo>
                          <a:pt x="52" y="158"/>
                        </a:lnTo>
                        <a:lnTo>
                          <a:pt x="52" y="162"/>
                        </a:lnTo>
                        <a:lnTo>
                          <a:pt x="49" y="162"/>
                        </a:lnTo>
                        <a:lnTo>
                          <a:pt x="42" y="158"/>
                        </a:lnTo>
                        <a:lnTo>
                          <a:pt x="39" y="156"/>
                        </a:lnTo>
                        <a:lnTo>
                          <a:pt x="37" y="154"/>
                        </a:lnTo>
                        <a:lnTo>
                          <a:pt x="33" y="159"/>
                        </a:lnTo>
                        <a:lnTo>
                          <a:pt x="27" y="162"/>
                        </a:lnTo>
                        <a:lnTo>
                          <a:pt x="24" y="156"/>
                        </a:lnTo>
                        <a:lnTo>
                          <a:pt x="24" y="142"/>
                        </a:lnTo>
                        <a:lnTo>
                          <a:pt x="23" y="133"/>
                        </a:lnTo>
                        <a:lnTo>
                          <a:pt x="17" y="128"/>
                        </a:lnTo>
                        <a:lnTo>
                          <a:pt x="10" y="138"/>
                        </a:lnTo>
                        <a:lnTo>
                          <a:pt x="1" y="138"/>
                        </a:lnTo>
                        <a:lnTo>
                          <a:pt x="0" y="130"/>
                        </a:lnTo>
                        <a:lnTo>
                          <a:pt x="1" y="113"/>
                        </a:lnTo>
                        <a:lnTo>
                          <a:pt x="9" y="106"/>
                        </a:lnTo>
                        <a:lnTo>
                          <a:pt x="8" y="81"/>
                        </a:lnTo>
                        <a:lnTo>
                          <a:pt x="8" y="74"/>
                        </a:lnTo>
                        <a:lnTo>
                          <a:pt x="13" y="71"/>
                        </a:lnTo>
                        <a:lnTo>
                          <a:pt x="20" y="78"/>
                        </a:lnTo>
                        <a:lnTo>
                          <a:pt x="30" y="84"/>
                        </a:lnTo>
                        <a:lnTo>
                          <a:pt x="30" y="70"/>
                        </a:lnTo>
                        <a:lnTo>
                          <a:pt x="24" y="65"/>
                        </a:lnTo>
                        <a:lnTo>
                          <a:pt x="24" y="61"/>
                        </a:lnTo>
                        <a:lnTo>
                          <a:pt x="26" y="61"/>
                        </a:lnTo>
                        <a:lnTo>
                          <a:pt x="28" y="61"/>
                        </a:lnTo>
                        <a:lnTo>
                          <a:pt x="30" y="61"/>
                        </a:lnTo>
                        <a:lnTo>
                          <a:pt x="33" y="61"/>
                        </a:lnTo>
                        <a:lnTo>
                          <a:pt x="37" y="55"/>
                        </a:lnTo>
                        <a:lnTo>
                          <a:pt x="35" y="52"/>
                        </a:lnTo>
                        <a:lnTo>
                          <a:pt x="31" y="39"/>
                        </a:lnTo>
                        <a:lnTo>
                          <a:pt x="24" y="29"/>
                        </a:lnTo>
                        <a:lnTo>
                          <a:pt x="17" y="23"/>
                        </a:lnTo>
                        <a:lnTo>
                          <a:pt x="12" y="16"/>
                        </a:lnTo>
                        <a:lnTo>
                          <a:pt x="1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279400" y="3421440"/>
                    <a:ext cx="71640" cy="95400"/>
                  </a:xfrm>
                  <a:custGeom>
                    <a:avLst/>
                    <a:gdLst/>
                    <a:ahLst/>
                    <a:rect l="l" t="t" r="r" b="b"/>
                    <a:pathLst>
                      <a:path w="92" h="134">
                        <a:moveTo>
                          <a:pt x="0" y="0"/>
                        </a:moveTo>
                        <a:lnTo>
                          <a:pt x="7" y="0"/>
                        </a:lnTo>
                        <a:lnTo>
                          <a:pt x="11" y="11"/>
                        </a:lnTo>
                        <a:lnTo>
                          <a:pt x="25" y="24"/>
                        </a:lnTo>
                        <a:lnTo>
                          <a:pt x="30" y="40"/>
                        </a:lnTo>
                        <a:lnTo>
                          <a:pt x="39" y="41"/>
                        </a:lnTo>
                        <a:lnTo>
                          <a:pt x="45" y="42"/>
                        </a:lnTo>
                        <a:lnTo>
                          <a:pt x="51" y="51"/>
                        </a:lnTo>
                        <a:lnTo>
                          <a:pt x="58" y="51"/>
                        </a:lnTo>
                        <a:lnTo>
                          <a:pt x="66" y="57"/>
                        </a:lnTo>
                        <a:lnTo>
                          <a:pt x="73" y="66"/>
                        </a:lnTo>
                        <a:lnTo>
                          <a:pt x="80" y="73"/>
                        </a:lnTo>
                        <a:lnTo>
                          <a:pt x="78" y="77"/>
                        </a:lnTo>
                        <a:lnTo>
                          <a:pt x="74" y="79"/>
                        </a:lnTo>
                        <a:lnTo>
                          <a:pt x="70" y="79"/>
                        </a:lnTo>
                        <a:lnTo>
                          <a:pt x="69" y="83"/>
                        </a:lnTo>
                        <a:lnTo>
                          <a:pt x="77" y="93"/>
                        </a:lnTo>
                        <a:lnTo>
                          <a:pt x="82" y="102"/>
                        </a:lnTo>
                        <a:lnTo>
                          <a:pt x="92" y="113"/>
                        </a:lnTo>
                        <a:lnTo>
                          <a:pt x="87" y="124"/>
                        </a:lnTo>
                        <a:lnTo>
                          <a:pt x="81" y="125"/>
                        </a:lnTo>
                        <a:lnTo>
                          <a:pt x="81" y="134"/>
                        </a:lnTo>
                        <a:lnTo>
                          <a:pt x="73" y="134"/>
                        </a:lnTo>
                        <a:lnTo>
                          <a:pt x="70" y="128"/>
                        </a:lnTo>
                        <a:lnTo>
                          <a:pt x="61" y="118"/>
                        </a:lnTo>
                        <a:lnTo>
                          <a:pt x="55" y="105"/>
                        </a:lnTo>
                        <a:lnTo>
                          <a:pt x="47" y="84"/>
                        </a:lnTo>
                        <a:lnTo>
                          <a:pt x="36" y="73"/>
                        </a:lnTo>
                        <a:lnTo>
                          <a:pt x="26" y="51"/>
                        </a:lnTo>
                        <a:lnTo>
                          <a:pt x="18" y="45"/>
                        </a:lnTo>
                        <a:lnTo>
                          <a:pt x="13" y="41"/>
                        </a:lnTo>
                        <a:lnTo>
                          <a:pt x="10" y="29"/>
                        </a:lnTo>
                        <a:lnTo>
                          <a:pt x="2" y="19"/>
                        </a:lnTo>
                        <a:lnTo>
                          <a:pt x="2"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 name=""/>
                <p:cNvSpPr/>
                <p:nvPr/>
              </p:nvSpPr>
              <p:spPr>
                <a:xfrm>
                  <a:off x="4321440" y="3616560"/>
                  <a:ext cx="530280" cy="734040"/>
                </a:xfrm>
                <a:custGeom>
                  <a:avLst/>
                  <a:gdLst/>
                  <a:ahLst/>
                  <a:rect l="l" t="t" r="r" b="b"/>
                  <a:pathLst>
                    <a:path w="680" h="1014">
                      <a:moveTo>
                        <a:pt x="510" y="121"/>
                      </a:moveTo>
                      <a:lnTo>
                        <a:pt x="521" y="164"/>
                      </a:lnTo>
                      <a:lnTo>
                        <a:pt x="544" y="229"/>
                      </a:lnTo>
                      <a:lnTo>
                        <a:pt x="584" y="334"/>
                      </a:lnTo>
                      <a:lnTo>
                        <a:pt x="601" y="345"/>
                      </a:lnTo>
                      <a:lnTo>
                        <a:pt x="609" y="377"/>
                      </a:lnTo>
                      <a:lnTo>
                        <a:pt x="643" y="376"/>
                      </a:lnTo>
                      <a:lnTo>
                        <a:pt x="666" y="365"/>
                      </a:lnTo>
                      <a:lnTo>
                        <a:pt x="680" y="365"/>
                      </a:lnTo>
                      <a:lnTo>
                        <a:pt x="679" y="405"/>
                      </a:lnTo>
                      <a:lnTo>
                        <a:pt x="676" y="428"/>
                      </a:lnTo>
                      <a:lnTo>
                        <a:pt x="615" y="518"/>
                      </a:lnTo>
                      <a:lnTo>
                        <a:pt x="558" y="612"/>
                      </a:lnTo>
                      <a:lnTo>
                        <a:pt x="558" y="649"/>
                      </a:lnTo>
                      <a:lnTo>
                        <a:pt x="576" y="675"/>
                      </a:lnTo>
                      <a:lnTo>
                        <a:pt x="566" y="694"/>
                      </a:lnTo>
                      <a:lnTo>
                        <a:pt x="573" y="723"/>
                      </a:lnTo>
                      <a:lnTo>
                        <a:pt x="566" y="744"/>
                      </a:lnTo>
                      <a:lnTo>
                        <a:pt x="554" y="760"/>
                      </a:lnTo>
                      <a:lnTo>
                        <a:pt x="544" y="760"/>
                      </a:lnTo>
                      <a:lnTo>
                        <a:pt x="524" y="790"/>
                      </a:lnTo>
                      <a:lnTo>
                        <a:pt x="507" y="826"/>
                      </a:lnTo>
                      <a:lnTo>
                        <a:pt x="510" y="862"/>
                      </a:lnTo>
                      <a:lnTo>
                        <a:pt x="495" y="880"/>
                      </a:lnTo>
                      <a:lnTo>
                        <a:pt x="477" y="919"/>
                      </a:lnTo>
                      <a:lnTo>
                        <a:pt x="459" y="957"/>
                      </a:lnTo>
                      <a:lnTo>
                        <a:pt x="448" y="968"/>
                      </a:lnTo>
                      <a:lnTo>
                        <a:pt x="440" y="972"/>
                      </a:lnTo>
                      <a:lnTo>
                        <a:pt x="425" y="997"/>
                      </a:lnTo>
                      <a:lnTo>
                        <a:pt x="398" y="1010"/>
                      </a:lnTo>
                      <a:lnTo>
                        <a:pt x="366" y="1014"/>
                      </a:lnTo>
                      <a:lnTo>
                        <a:pt x="350" y="997"/>
                      </a:lnTo>
                      <a:lnTo>
                        <a:pt x="345" y="983"/>
                      </a:lnTo>
                      <a:lnTo>
                        <a:pt x="343" y="961"/>
                      </a:lnTo>
                      <a:lnTo>
                        <a:pt x="331" y="951"/>
                      </a:lnTo>
                      <a:lnTo>
                        <a:pt x="319" y="913"/>
                      </a:lnTo>
                      <a:lnTo>
                        <a:pt x="317" y="893"/>
                      </a:lnTo>
                      <a:lnTo>
                        <a:pt x="315" y="868"/>
                      </a:lnTo>
                      <a:lnTo>
                        <a:pt x="310" y="852"/>
                      </a:lnTo>
                      <a:lnTo>
                        <a:pt x="310" y="842"/>
                      </a:lnTo>
                      <a:lnTo>
                        <a:pt x="300" y="825"/>
                      </a:lnTo>
                      <a:lnTo>
                        <a:pt x="288" y="810"/>
                      </a:lnTo>
                      <a:lnTo>
                        <a:pt x="280" y="786"/>
                      </a:lnTo>
                      <a:lnTo>
                        <a:pt x="276" y="770"/>
                      </a:lnTo>
                      <a:lnTo>
                        <a:pt x="278" y="741"/>
                      </a:lnTo>
                      <a:lnTo>
                        <a:pt x="292" y="700"/>
                      </a:lnTo>
                      <a:lnTo>
                        <a:pt x="297" y="652"/>
                      </a:lnTo>
                      <a:lnTo>
                        <a:pt x="285" y="602"/>
                      </a:lnTo>
                      <a:lnTo>
                        <a:pt x="267" y="581"/>
                      </a:lnTo>
                      <a:lnTo>
                        <a:pt x="255" y="551"/>
                      </a:lnTo>
                      <a:lnTo>
                        <a:pt x="260" y="507"/>
                      </a:lnTo>
                      <a:lnTo>
                        <a:pt x="251" y="477"/>
                      </a:lnTo>
                      <a:lnTo>
                        <a:pt x="230" y="473"/>
                      </a:lnTo>
                      <a:lnTo>
                        <a:pt x="207" y="447"/>
                      </a:lnTo>
                      <a:lnTo>
                        <a:pt x="179" y="435"/>
                      </a:lnTo>
                      <a:lnTo>
                        <a:pt x="149" y="455"/>
                      </a:lnTo>
                      <a:lnTo>
                        <a:pt x="74" y="449"/>
                      </a:lnTo>
                      <a:lnTo>
                        <a:pt x="34" y="394"/>
                      </a:lnTo>
                      <a:lnTo>
                        <a:pt x="0" y="323"/>
                      </a:lnTo>
                      <a:lnTo>
                        <a:pt x="6" y="297"/>
                      </a:lnTo>
                      <a:lnTo>
                        <a:pt x="22" y="274"/>
                      </a:lnTo>
                      <a:lnTo>
                        <a:pt x="26" y="225"/>
                      </a:lnTo>
                      <a:lnTo>
                        <a:pt x="38" y="189"/>
                      </a:lnTo>
                      <a:lnTo>
                        <a:pt x="67" y="148"/>
                      </a:lnTo>
                      <a:lnTo>
                        <a:pt x="97" y="129"/>
                      </a:lnTo>
                      <a:lnTo>
                        <a:pt x="125" y="89"/>
                      </a:lnTo>
                      <a:lnTo>
                        <a:pt x="130" y="71"/>
                      </a:lnTo>
                      <a:lnTo>
                        <a:pt x="167" y="26"/>
                      </a:lnTo>
                      <a:lnTo>
                        <a:pt x="191" y="45"/>
                      </a:lnTo>
                      <a:lnTo>
                        <a:pt x="207" y="45"/>
                      </a:lnTo>
                      <a:lnTo>
                        <a:pt x="229" y="19"/>
                      </a:lnTo>
                      <a:lnTo>
                        <a:pt x="251" y="16"/>
                      </a:lnTo>
                      <a:lnTo>
                        <a:pt x="267" y="22"/>
                      </a:lnTo>
                      <a:lnTo>
                        <a:pt x="281" y="3"/>
                      </a:lnTo>
                      <a:lnTo>
                        <a:pt x="301" y="0"/>
                      </a:lnTo>
                      <a:lnTo>
                        <a:pt x="306" y="32"/>
                      </a:lnTo>
                      <a:lnTo>
                        <a:pt x="317" y="58"/>
                      </a:lnTo>
                      <a:lnTo>
                        <a:pt x="354" y="84"/>
                      </a:lnTo>
                      <a:lnTo>
                        <a:pt x="382" y="90"/>
                      </a:lnTo>
                      <a:lnTo>
                        <a:pt x="384" y="63"/>
                      </a:lnTo>
                      <a:lnTo>
                        <a:pt x="406" y="63"/>
                      </a:lnTo>
                      <a:lnTo>
                        <a:pt x="433" y="79"/>
                      </a:lnTo>
                      <a:lnTo>
                        <a:pt x="462" y="89"/>
                      </a:lnTo>
                      <a:lnTo>
                        <a:pt x="487" y="79"/>
                      </a:lnTo>
                      <a:lnTo>
                        <a:pt x="510" y="1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 name=""/>
                <p:cNvGrpSpPr/>
                <p:nvPr/>
              </p:nvGrpSpPr>
              <p:grpSpPr>
                <a:xfrm>
                  <a:off x="4359240" y="3224160"/>
                  <a:ext cx="234000" cy="248760"/>
                  <a:chOff x="4359240" y="3224160"/>
                  <a:chExt cx="234000" cy="248760"/>
                </a:xfrm>
              </p:grpSpPr>
              <p:grpSp>
                <p:nvGrpSpPr>
                  <p:cNvPr id="71" name=""/>
                  <p:cNvGrpSpPr/>
                  <p:nvPr/>
                </p:nvGrpSpPr>
                <p:grpSpPr>
                  <a:xfrm>
                    <a:off x="4451040" y="3378960"/>
                    <a:ext cx="73080" cy="93960"/>
                    <a:chOff x="4451040" y="3378960"/>
                    <a:chExt cx="73080" cy="93960"/>
                  </a:xfrm>
                </p:grpSpPr>
                <p:sp>
                  <p:nvSpPr>
                    <p:cNvPr id="72" name=""/>
                    <p:cNvSpPr/>
                    <p:nvPr/>
                  </p:nvSpPr>
                  <p:spPr>
                    <a:xfrm>
                      <a:off x="4451040" y="3413520"/>
                      <a:ext cx="34200" cy="51840"/>
                    </a:xfrm>
                    <a:custGeom>
                      <a:avLst/>
                      <a:gdLst/>
                      <a:ahLst/>
                      <a:rect l="l" t="t" r="r" b="b"/>
                      <a:pathLst>
                        <a:path w="44" h="73">
                          <a:moveTo>
                            <a:pt x="11" y="25"/>
                          </a:moveTo>
                          <a:lnTo>
                            <a:pt x="15" y="16"/>
                          </a:lnTo>
                          <a:lnTo>
                            <a:pt x="23" y="16"/>
                          </a:lnTo>
                          <a:lnTo>
                            <a:pt x="33" y="0"/>
                          </a:lnTo>
                          <a:lnTo>
                            <a:pt x="37" y="10"/>
                          </a:lnTo>
                          <a:lnTo>
                            <a:pt x="41" y="10"/>
                          </a:lnTo>
                          <a:lnTo>
                            <a:pt x="44" y="16"/>
                          </a:lnTo>
                          <a:lnTo>
                            <a:pt x="41" y="25"/>
                          </a:lnTo>
                          <a:lnTo>
                            <a:pt x="37" y="25"/>
                          </a:lnTo>
                          <a:lnTo>
                            <a:pt x="37" y="34"/>
                          </a:lnTo>
                          <a:lnTo>
                            <a:pt x="37" y="35"/>
                          </a:lnTo>
                          <a:lnTo>
                            <a:pt x="34" y="41"/>
                          </a:lnTo>
                          <a:lnTo>
                            <a:pt x="37" y="47"/>
                          </a:lnTo>
                          <a:lnTo>
                            <a:pt x="33" y="52"/>
                          </a:lnTo>
                          <a:lnTo>
                            <a:pt x="29" y="57"/>
                          </a:lnTo>
                          <a:lnTo>
                            <a:pt x="26" y="57"/>
                          </a:lnTo>
                          <a:lnTo>
                            <a:pt x="25" y="57"/>
                          </a:lnTo>
                          <a:lnTo>
                            <a:pt x="25" y="63"/>
                          </a:lnTo>
                          <a:lnTo>
                            <a:pt x="19" y="65"/>
                          </a:lnTo>
                          <a:lnTo>
                            <a:pt x="19" y="63"/>
                          </a:lnTo>
                          <a:lnTo>
                            <a:pt x="13" y="67"/>
                          </a:lnTo>
                          <a:lnTo>
                            <a:pt x="11" y="67"/>
                          </a:lnTo>
                          <a:lnTo>
                            <a:pt x="6" y="73"/>
                          </a:lnTo>
                          <a:lnTo>
                            <a:pt x="4" y="73"/>
                          </a:lnTo>
                          <a:lnTo>
                            <a:pt x="3" y="68"/>
                          </a:lnTo>
                          <a:lnTo>
                            <a:pt x="1" y="63"/>
                          </a:lnTo>
                          <a:lnTo>
                            <a:pt x="0" y="61"/>
                          </a:lnTo>
                          <a:lnTo>
                            <a:pt x="0" y="55"/>
                          </a:lnTo>
                          <a:lnTo>
                            <a:pt x="4" y="51"/>
                          </a:lnTo>
                          <a:lnTo>
                            <a:pt x="8" y="50"/>
                          </a:lnTo>
                          <a:lnTo>
                            <a:pt x="9" y="41"/>
                          </a:lnTo>
                          <a:lnTo>
                            <a:pt x="13" y="41"/>
                          </a:lnTo>
                          <a:lnTo>
                            <a:pt x="16" y="47"/>
                          </a:lnTo>
                          <a:lnTo>
                            <a:pt x="19" y="41"/>
                          </a:lnTo>
                          <a:lnTo>
                            <a:pt x="16" y="41"/>
                          </a:lnTo>
                          <a:lnTo>
                            <a:pt x="11" y="25"/>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3" name=""/>
                    <p:cNvSpPr/>
                    <p:nvPr/>
                  </p:nvSpPr>
                  <p:spPr>
                    <a:xfrm>
                      <a:off x="4483800" y="3378960"/>
                      <a:ext cx="40320" cy="93960"/>
                    </a:xfrm>
                    <a:custGeom>
                      <a:avLst/>
                      <a:gdLst/>
                      <a:ahLst/>
                      <a:rect l="l" t="t" r="r" b="b"/>
                      <a:pathLst>
                        <a:path w="53" h="131">
                          <a:moveTo>
                            <a:pt x="16" y="19"/>
                          </a:moveTo>
                          <a:lnTo>
                            <a:pt x="22" y="15"/>
                          </a:lnTo>
                          <a:lnTo>
                            <a:pt x="29" y="16"/>
                          </a:lnTo>
                          <a:lnTo>
                            <a:pt x="32" y="12"/>
                          </a:lnTo>
                          <a:lnTo>
                            <a:pt x="34" y="9"/>
                          </a:lnTo>
                          <a:lnTo>
                            <a:pt x="36" y="9"/>
                          </a:lnTo>
                          <a:lnTo>
                            <a:pt x="39" y="6"/>
                          </a:lnTo>
                          <a:lnTo>
                            <a:pt x="41" y="5"/>
                          </a:lnTo>
                          <a:lnTo>
                            <a:pt x="48" y="0"/>
                          </a:lnTo>
                          <a:lnTo>
                            <a:pt x="53" y="3"/>
                          </a:lnTo>
                          <a:lnTo>
                            <a:pt x="52" y="9"/>
                          </a:lnTo>
                          <a:lnTo>
                            <a:pt x="51" y="12"/>
                          </a:lnTo>
                          <a:lnTo>
                            <a:pt x="48" y="15"/>
                          </a:lnTo>
                          <a:lnTo>
                            <a:pt x="44" y="16"/>
                          </a:lnTo>
                          <a:lnTo>
                            <a:pt x="37" y="19"/>
                          </a:lnTo>
                          <a:lnTo>
                            <a:pt x="37" y="27"/>
                          </a:lnTo>
                          <a:lnTo>
                            <a:pt x="39" y="31"/>
                          </a:lnTo>
                          <a:lnTo>
                            <a:pt x="45" y="27"/>
                          </a:lnTo>
                          <a:lnTo>
                            <a:pt x="52" y="21"/>
                          </a:lnTo>
                          <a:lnTo>
                            <a:pt x="53" y="27"/>
                          </a:lnTo>
                          <a:lnTo>
                            <a:pt x="53" y="35"/>
                          </a:lnTo>
                          <a:lnTo>
                            <a:pt x="48" y="37"/>
                          </a:lnTo>
                          <a:lnTo>
                            <a:pt x="44" y="37"/>
                          </a:lnTo>
                          <a:lnTo>
                            <a:pt x="40" y="42"/>
                          </a:lnTo>
                          <a:lnTo>
                            <a:pt x="39" y="45"/>
                          </a:lnTo>
                          <a:lnTo>
                            <a:pt x="39" y="48"/>
                          </a:lnTo>
                          <a:lnTo>
                            <a:pt x="41" y="56"/>
                          </a:lnTo>
                          <a:lnTo>
                            <a:pt x="45" y="61"/>
                          </a:lnTo>
                          <a:lnTo>
                            <a:pt x="48" y="67"/>
                          </a:lnTo>
                          <a:lnTo>
                            <a:pt x="51" y="73"/>
                          </a:lnTo>
                          <a:lnTo>
                            <a:pt x="51" y="77"/>
                          </a:lnTo>
                          <a:lnTo>
                            <a:pt x="53" y="85"/>
                          </a:lnTo>
                          <a:lnTo>
                            <a:pt x="53" y="98"/>
                          </a:lnTo>
                          <a:lnTo>
                            <a:pt x="51" y="103"/>
                          </a:lnTo>
                          <a:lnTo>
                            <a:pt x="45" y="109"/>
                          </a:lnTo>
                          <a:lnTo>
                            <a:pt x="44" y="111"/>
                          </a:lnTo>
                          <a:lnTo>
                            <a:pt x="48" y="115"/>
                          </a:lnTo>
                          <a:lnTo>
                            <a:pt x="51" y="124"/>
                          </a:lnTo>
                          <a:lnTo>
                            <a:pt x="41" y="124"/>
                          </a:lnTo>
                          <a:lnTo>
                            <a:pt x="36" y="124"/>
                          </a:lnTo>
                          <a:lnTo>
                            <a:pt x="34" y="121"/>
                          </a:lnTo>
                          <a:lnTo>
                            <a:pt x="29" y="121"/>
                          </a:lnTo>
                          <a:lnTo>
                            <a:pt x="25" y="124"/>
                          </a:lnTo>
                          <a:lnTo>
                            <a:pt x="22" y="125"/>
                          </a:lnTo>
                          <a:lnTo>
                            <a:pt x="16" y="125"/>
                          </a:lnTo>
                          <a:lnTo>
                            <a:pt x="14" y="129"/>
                          </a:lnTo>
                          <a:lnTo>
                            <a:pt x="9" y="131"/>
                          </a:lnTo>
                          <a:lnTo>
                            <a:pt x="8" y="131"/>
                          </a:lnTo>
                          <a:lnTo>
                            <a:pt x="7" y="125"/>
                          </a:lnTo>
                          <a:lnTo>
                            <a:pt x="3" y="124"/>
                          </a:lnTo>
                          <a:lnTo>
                            <a:pt x="0" y="124"/>
                          </a:lnTo>
                          <a:lnTo>
                            <a:pt x="0" y="115"/>
                          </a:lnTo>
                          <a:lnTo>
                            <a:pt x="3" y="109"/>
                          </a:lnTo>
                          <a:lnTo>
                            <a:pt x="7" y="109"/>
                          </a:lnTo>
                          <a:lnTo>
                            <a:pt x="9" y="109"/>
                          </a:lnTo>
                          <a:lnTo>
                            <a:pt x="14" y="109"/>
                          </a:lnTo>
                          <a:lnTo>
                            <a:pt x="14" y="105"/>
                          </a:lnTo>
                          <a:lnTo>
                            <a:pt x="9" y="103"/>
                          </a:lnTo>
                          <a:lnTo>
                            <a:pt x="9" y="99"/>
                          </a:lnTo>
                          <a:lnTo>
                            <a:pt x="9" y="95"/>
                          </a:lnTo>
                          <a:lnTo>
                            <a:pt x="14" y="95"/>
                          </a:lnTo>
                          <a:lnTo>
                            <a:pt x="15" y="89"/>
                          </a:lnTo>
                          <a:lnTo>
                            <a:pt x="18" y="89"/>
                          </a:lnTo>
                          <a:lnTo>
                            <a:pt x="22" y="89"/>
                          </a:lnTo>
                          <a:lnTo>
                            <a:pt x="25" y="87"/>
                          </a:lnTo>
                          <a:lnTo>
                            <a:pt x="25" y="73"/>
                          </a:lnTo>
                          <a:lnTo>
                            <a:pt x="27" y="67"/>
                          </a:lnTo>
                          <a:lnTo>
                            <a:pt x="27" y="61"/>
                          </a:lnTo>
                          <a:lnTo>
                            <a:pt x="22" y="58"/>
                          </a:lnTo>
                          <a:lnTo>
                            <a:pt x="23" y="51"/>
                          </a:lnTo>
                          <a:lnTo>
                            <a:pt x="16" y="47"/>
                          </a:lnTo>
                          <a:lnTo>
                            <a:pt x="12" y="47"/>
                          </a:lnTo>
                          <a:lnTo>
                            <a:pt x="18" y="37"/>
                          </a:lnTo>
                          <a:lnTo>
                            <a:pt x="16" y="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 name=""/>
                  <p:cNvSpPr/>
                  <p:nvPr/>
                </p:nvSpPr>
                <p:spPr>
                  <a:xfrm>
                    <a:off x="4359240" y="3224160"/>
                    <a:ext cx="234000" cy="156240"/>
                  </a:xfrm>
                  <a:custGeom>
                    <a:avLst/>
                    <a:gdLst/>
                    <a:ahLst/>
                    <a:rect l="l" t="t" r="r" b="b"/>
                    <a:pathLst>
                      <a:path w="301" h="217">
                        <a:moveTo>
                          <a:pt x="0" y="217"/>
                        </a:moveTo>
                        <a:lnTo>
                          <a:pt x="20" y="210"/>
                        </a:lnTo>
                        <a:lnTo>
                          <a:pt x="24" y="204"/>
                        </a:lnTo>
                        <a:lnTo>
                          <a:pt x="30" y="194"/>
                        </a:lnTo>
                        <a:lnTo>
                          <a:pt x="31" y="191"/>
                        </a:lnTo>
                        <a:lnTo>
                          <a:pt x="37" y="191"/>
                        </a:lnTo>
                        <a:lnTo>
                          <a:pt x="41" y="187"/>
                        </a:lnTo>
                        <a:lnTo>
                          <a:pt x="45" y="187"/>
                        </a:lnTo>
                        <a:lnTo>
                          <a:pt x="50" y="187"/>
                        </a:lnTo>
                        <a:lnTo>
                          <a:pt x="53" y="187"/>
                        </a:lnTo>
                        <a:lnTo>
                          <a:pt x="56" y="187"/>
                        </a:lnTo>
                        <a:lnTo>
                          <a:pt x="61" y="181"/>
                        </a:lnTo>
                        <a:lnTo>
                          <a:pt x="64" y="177"/>
                        </a:lnTo>
                        <a:lnTo>
                          <a:pt x="68" y="171"/>
                        </a:lnTo>
                        <a:lnTo>
                          <a:pt x="72" y="171"/>
                        </a:lnTo>
                        <a:lnTo>
                          <a:pt x="76" y="165"/>
                        </a:lnTo>
                        <a:lnTo>
                          <a:pt x="81" y="162"/>
                        </a:lnTo>
                        <a:lnTo>
                          <a:pt x="83" y="162"/>
                        </a:lnTo>
                        <a:lnTo>
                          <a:pt x="90" y="158"/>
                        </a:lnTo>
                        <a:lnTo>
                          <a:pt x="94" y="155"/>
                        </a:lnTo>
                        <a:lnTo>
                          <a:pt x="98" y="151"/>
                        </a:lnTo>
                        <a:lnTo>
                          <a:pt x="104" y="152"/>
                        </a:lnTo>
                        <a:lnTo>
                          <a:pt x="112" y="155"/>
                        </a:lnTo>
                        <a:lnTo>
                          <a:pt x="122" y="155"/>
                        </a:lnTo>
                        <a:lnTo>
                          <a:pt x="132" y="151"/>
                        </a:lnTo>
                        <a:lnTo>
                          <a:pt x="138" y="148"/>
                        </a:lnTo>
                        <a:lnTo>
                          <a:pt x="141" y="141"/>
                        </a:lnTo>
                        <a:lnTo>
                          <a:pt x="144" y="135"/>
                        </a:lnTo>
                        <a:lnTo>
                          <a:pt x="152" y="125"/>
                        </a:lnTo>
                        <a:lnTo>
                          <a:pt x="156" y="122"/>
                        </a:lnTo>
                        <a:lnTo>
                          <a:pt x="156" y="115"/>
                        </a:lnTo>
                        <a:lnTo>
                          <a:pt x="160" y="110"/>
                        </a:lnTo>
                        <a:lnTo>
                          <a:pt x="164" y="106"/>
                        </a:lnTo>
                        <a:lnTo>
                          <a:pt x="167" y="103"/>
                        </a:lnTo>
                        <a:lnTo>
                          <a:pt x="169" y="100"/>
                        </a:lnTo>
                        <a:lnTo>
                          <a:pt x="182" y="90"/>
                        </a:lnTo>
                        <a:lnTo>
                          <a:pt x="182" y="100"/>
                        </a:lnTo>
                        <a:lnTo>
                          <a:pt x="178" y="104"/>
                        </a:lnTo>
                        <a:lnTo>
                          <a:pt x="182" y="109"/>
                        </a:lnTo>
                        <a:lnTo>
                          <a:pt x="187" y="110"/>
                        </a:lnTo>
                        <a:lnTo>
                          <a:pt x="192" y="110"/>
                        </a:lnTo>
                        <a:lnTo>
                          <a:pt x="196" y="106"/>
                        </a:lnTo>
                        <a:lnTo>
                          <a:pt x="200" y="100"/>
                        </a:lnTo>
                        <a:lnTo>
                          <a:pt x="200" y="94"/>
                        </a:lnTo>
                        <a:lnTo>
                          <a:pt x="204" y="90"/>
                        </a:lnTo>
                        <a:lnTo>
                          <a:pt x="204" y="84"/>
                        </a:lnTo>
                        <a:lnTo>
                          <a:pt x="208" y="80"/>
                        </a:lnTo>
                        <a:lnTo>
                          <a:pt x="211" y="77"/>
                        </a:lnTo>
                        <a:lnTo>
                          <a:pt x="215" y="77"/>
                        </a:lnTo>
                        <a:lnTo>
                          <a:pt x="224" y="77"/>
                        </a:lnTo>
                        <a:lnTo>
                          <a:pt x="234" y="70"/>
                        </a:lnTo>
                        <a:lnTo>
                          <a:pt x="242" y="61"/>
                        </a:lnTo>
                        <a:lnTo>
                          <a:pt x="250" y="57"/>
                        </a:lnTo>
                        <a:lnTo>
                          <a:pt x="260" y="51"/>
                        </a:lnTo>
                        <a:lnTo>
                          <a:pt x="264" y="38"/>
                        </a:lnTo>
                        <a:lnTo>
                          <a:pt x="277" y="22"/>
                        </a:lnTo>
                        <a:lnTo>
                          <a:pt x="285" y="16"/>
                        </a:lnTo>
                        <a:lnTo>
                          <a:pt x="291" y="10"/>
                        </a:lnTo>
                        <a:lnTo>
                          <a:pt x="301" y="2"/>
                        </a:lnTo>
                        <a:lnTo>
                          <a:pt x="287" y="0"/>
                        </a:lnTo>
                        <a:lnTo>
                          <a:pt x="272" y="0"/>
                        </a:lnTo>
                        <a:lnTo>
                          <a:pt x="261" y="4"/>
                        </a:lnTo>
                        <a:lnTo>
                          <a:pt x="254" y="10"/>
                        </a:lnTo>
                        <a:lnTo>
                          <a:pt x="242" y="15"/>
                        </a:lnTo>
                        <a:lnTo>
                          <a:pt x="231" y="15"/>
                        </a:lnTo>
                        <a:lnTo>
                          <a:pt x="223" y="19"/>
                        </a:lnTo>
                        <a:lnTo>
                          <a:pt x="211" y="25"/>
                        </a:lnTo>
                        <a:lnTo>
                          <a:pt x="200" y="28"/>
                        </a:lnTo>
                        <a:lnTo>
                          <a:pt x="192" y="36"/>
                        </a:lnTo>
                        <a:lnTo>
                          <a:pt x="182" y="41"/>
                        </a:lnTo>
                        <a:lnTo>
                          <a:pt x="169" y="42"/>
                        </a:lnTo>
                        <a:lnTo>
                          <a:pt x="159" y="51"/>
                        </a:lnTo>
                        <a:lnTo>
                          <a:pt x="150" y="57"/>
                        </a:lnTo>
                        <a:lnTo>
                          <a:pt x="144" y="67"/>
                        </a:lnTo>
                        <a:lnTo>
                          <a:pt x="138" y="73"/>
                        </a:lnTo>
                        <a:lnTo>
                          <a:pt x="132" y="77"/>
                        </a:lnTo>
                        <a:lnTo>
                          <a:pt x="119" y="84"/>
                        </a:lnTo>
                        <a:lnTo>
                          <a:pt x="108" y="94"/>
                        </a:lnTo>
                        <a:lnTo>
                          <a:pt x="94" y="106"/>
                        </a:lnTo>
                        <a:lnTo>
                          <a:pt x="81" y="120"/>
                        </a:lnTo>
                        <a:lnTo>
                          <a:pt x="71" y="130"/>
                        </a:lnTo>
                        <a:lnTo>
                          <a:pt x="63" y="139"/>
                        </a:lnTo>
                        <a:lnTo>
                          <a:pt x="53" y="151"/>
                        </a:lnTo>
                        <a:lnTo>
                          <a:pt x="45" y="161"/>
                        </a:lnTo>
                        <a:lnTo>
                          <a:pt x="37" y="171"/>
                        </a:lnTo>
                        <a:lnTo>
                          <a:pt x="27" y="177"/>
                        </a:lnTo>
                        <a:lnTo>
                          <a:pt x="20" y="183"/>
                        </a:lnTo>
                        <a:lnTo>
                          <a:pt x="0" y="21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 name=""/>
                <p:cNvSpPr/>
                <p:nvPr/>
              </p:nvSpPr>
              <p:spPr>
                <a:xfrm>
                  <a:off x="4773960" y="4117680"/>
                  <a:ext cx="70200" cy="156240"/>
                </a:xfrm>
                <a:custGeom>
                  <a:avLst/>
                  <a:gdLst/>
                  <a:ahLst/>
                  <a:rect l="l" t="t" r="r" b="b"/>
                  <a:pathLst>
                    <a:path w="89" h="218">
                      <a:moveTo>
                        <a:pt x="17" y="69"/>
                      </a:moveTo>
                      <a:lnTo>
                        <a:pt x="15" y="113"/>
                      </a:lnTo>
                      <a:lnTo>
                        <a:pt x="7" y="139"/>
                      </a:lnTo>
                      <a:lnTo>
                        <a:pt x="0" y="166"/>
                      </a:lnTo>
                      <a:lnTo>
                        <a:pt x="0" y="183"/>
                      </a:lnTo>
                      <a:lnTo>
                        <a:pt x="3" y="197"/>
                      </a:lnTo>
                      <a:lnTo>
                        <a:pt x="11" y="212"/>
                      </a:lnTo>
                      <a:lnTo>
                        <a:pt x="17" y="213"/>
                      </a:lnTo>
                      <a:lnTo>
                        <a:pt x="22" y="213"/>
                      </a:lnTo>
                      <a:lnTo>
                        <a:pt x="28" y="218"/>
                      </a:lnTo>
                      <a:lnTo>
                        <a:pt x="34" y="206"/>
                      </a:lnTo>
                      <a:lnTo>
                        <a:pt x="37" y="176"/>
                      </a:lnTo>
                      <a:lnTo>
                        <a:pt x="47" y="160"/>
                      </a:lnTo>
                      <a:lnTo>
                        <a:pt x="48" y="129"/>
                      </a:lnTo>
                      <a:lnTo>
                        <a:pt x="52" y="119"/>
                      </a:lnTo>
                      <a:lnTo>
                        <a:pt x="58" y="109"/>
                      </a:lnTo>
                      <a:lnTo>
                        <a:pt x="61" y="89"/>
                      </a:lnTo>
                      <a:lnTo>
                        <a:pt x="68" y="79"/>
                      </a:lnTo>
                      <a:lnTo>
                        <a:pt x="70" y="67"/>
                      </a:lnTo>
                      <a:lnTo>
                        <a:pt x="77" y="61"/>
                      </a:lnTo>
                      <a:lnTo>
                        <a:pt x="77" y="57"/>
                      </a:lnTo>
                      <a:lnTo>
                        <a:pt x="87" y="45"/>
                      </a:lnTo>
                      <a:lnTo>
                        <a:pt x="88" y="26"/>
                      </a:lnTo>
                      <a:lnTo>
                        <a:pt x="89" y="16"/>
                      </a:lnTo>
                      <a:lnTo>
                        <a:pt x="80" y="13"/>
                      </a:lnTo>
                      <a:lnTo>
                        <a:pt x="76" y="0"/>
                      </a:lnTo>
                      <a:lnTo>
                        <a:pt x="68" y="13"/>
                      </a:lnTo>
                      <a:lnTo>
                        <a:pt x="61" y="29"/>
                      </a:lnTo>
                      <a:lnTo>
                        <a:pt x="52" y="42"/>
                      </a:lnTo>
                      <a:lnTo>
                        <a:pt x="47" y="55"/>
                      </a:lnTo>
                      <a:lnTo>
                        <a:pt x="43" y="55"/>
                      </a:lnTo>
                      <a:lnTo>
                        <a:pt x="37" y="61"/>
                      </a:lnTo>
                      <a:lnTo>
                        <a:pt x="34" y="67"/>
                      </a:lnTo>
                      <a:lnTo>
                        <a:pt x="17" y="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326760" y="3280680"/>
                  <a:ext cx="563040" cy="631440"/>
                </a:xfrm>
                <a:custGeom>
                  <a:avLst/>
                  <a:gdLst/>
                  <a:ahLst/>
                  <a:rect l="l" t="t" r="r" b="b"/>
                  <a:pathLst>
                    <a:path w="722" h="874">
                      <a:moveTo>
                        <a:pt x="0" y="225"/>
                      </a:moveTo>
                      <a:lnTo>
                        <a:pt x="34" y="194"/>
                      </a:lnTo>
                      <a:lnTo>
                        <a:pt x="54" y="183"/>
                      </a:lnTo>
                      <a:lnTo>
                        <a:pt x="57" y="165"/>
                      </a:lnTo>
                      <a:lnTo>
                        <a:pt x="41" y="152"/>
                      </a:lnTo>
                      <a:lnTo>
                        <a:pt x="39" y="131"/>
                      </a:lnTo>
                      <a:lnTo>
                        <a:pt x="46" y="126"/>
                      </a:lnTo>
                      <a:lnTo>
                        <a:pt x="45" y="115"/>
                      </a:lnTo>
                      <a:lnTo>
                        <a:pt x="71" y="110"/>
                      </a:lnTo>
                      <a:lnTo>
                        <a:pt x="79" y="96"/>
                      </a:lnTo>
                      <a:lnTo>
                        <a:pt x="81" y="79"/>
                      </a:lnTo>
                      <a:lnTo>
                        <a:pt x="102" y="74"/>
                      </a:lnTo>
                      <a:lnTo>
                        <a:pt x="105" y="61"/>
                      </a:lnTo>
                      <a:lnTo>
                        <a:pt x="82" y="52"/>
                      </a:lnTo>
                      <a:lnTo>
                        <a:pt x="94" y="44"/>
                      </a:lnTo>
                      <a:lnTo>
                        <a:pt x="127" y="44"/>
                      </a:lnTo>
                      <a:lnTo>
                        <a:pt x="138" y="31"/>
                      </a:lnTo>
                      <a:lnTo>
                        <a:pt x="153" y="28"/>
                      </a:lnTo>
                      <a:lnTo>
                        <a:pt x="162" y="18"/>
                      </a:lnTo>
                      <a:lnTo>
                        <a:pt x="174" y="37"/>
                      </a:lnTo>
                      <a:lnTo>
                        <a:pt x="215" y="35"/>
                      </a:lnTo>
                      <a:lnTo>
                        <a:pt x="236" y="52"/>
                      </a:lnTo>
                      <a:lnTo>
                        <a:pt x="301" y="47"/>
                      </a:lnTo>
                      <a:lnTo>
                        <a:pt x="310" y="38"/>
                      </a:lnTo>
                      <a:lnTo>
                        <a:pt x="335" y="52"/>
                      </a:lnTo>
                      <a:lnTo>
                        <a:pt x="360" y="68"/>
                      </a:lnTo>
                      <a:lnTo>
                        <a:pt x="374" y="63"/>
                      </a:lnTo>
                      <a:lnTo>
                        <a:pt x="381" y="52"/>
                      </a:lnTo>
                      <a:lnTo>
                        <a:pt x="402" y="61"/>
                      </a:lnTo>
                      <a:lnTo>
                        <a:pt x="388" y="47"/>
                      </a:lnTo>
                      <a:lnTo>
                        <a:pt x="375" y="48"/>
                      </a:lnTo>
                      <a:lnTo>
                        <a:pt x="353" y="52"/>
                      </a:lnTo>
                      <a:lnTo>
                        <a:pt x="345" y="37"/>
                      </a:lnTo>
                      <a:lnTo>
                        <a:pt x="334" y="28"/>
                      </a:lnTo>
                      <a:lnTo>
                        <a:pt x="334" y="15"/>
                      </a:lnTo>
                      <a:lnTo>
                        <a:pt x="335" y="2"/>
                      </a:lnTo>
                      <a:lnTo>
                        <a:pt x="347" y="0"/>
                      </a:lnTo>
                      <a:lnTo>
                        <a:pt x="358" y="12"/>
                      </a:lnTo>
                      <a:lnTo>
                        <a:pt x="360" y="5"/>
                      </a:lnTo>
                      <a:lnTo>
                        <a:pt x="372" y="0"/>
                      </a:lnTo>
                      <a:lnTo>
                        <a:pt x="384" y="9"/>
                      </a:lnTo>
                      <a:lnTo>
                        <a:pt x="390" y="2"/>
                      </a:lnTo>
                      <a:lnTo>
                        <a:pt x="396" y="12"/>
                      </a:lnTo>
                      <a:lnTo>
                        <a:pt x="397" y="25"/>
                      </a:lnTo>
                      <a:lnTo>
                        <a:pt x="416" y="35"/>
                      </a:lnTo>
                      <a:lnTo>
                        <a:pt x="407" y="44"/>
                      </a:lnTo>
                      <a:lnTo>
                        <a:pt x="407" y="57"/>
                      </a:lnTo>
                      <a:lnTo>
                        <a:pt x="439" y="61"/>
                      </a:lnTo>
                      <a:lnTo>
                        <a:pt x="447" y="44"/>
                      </a:lnTo>
                      <a:lnTo>
                        <a:pt x="441" y="35"/>
                      </a:lnTo>
                      <a:lnTo>
                        <a:pt x="427" y="37"/>
                      </a:lnTo>
                      <a:lnTo>
                        <a:pt x="430" y="18"/>
                      </a:lnTo>
                      <a:lnTo>
                        <a:pt x="458" y="28"/>
                      </a:lnTo>
                      <a:lnTo>
                        <a:pt x="464" y="42"/>
                      </a:lnTo>
                      <a:lnTo>
                        <a:pt x="487" y="42"/>
                      </a:lnTo>
                      <a:lnTo>
                        <a:pt x="507" y="58"/>
                      </a:lnTo>
                      <a:lnTo>
                        <a:pt x="518" y="52"/>
                      </a:lnTo>
                      <a:lnTo>
                        <a:pt x="529" y="68"/>
                      </a:lnTo>
                      <a:lnTo>
                        <a:pt x="518" y="84"/>
                      </a:lnTo>
                      <a:lnTo>
                        <a:pt x="507" y="73"/>
                      </a:lnTo>
                      <a:lnTo>
                        <a:pt x="501" y="77"/>
                      </a:lnTo>
                      <a:lnTo>
                        <a:pt x="492" y="87"/>
                      </a:lnTo>
                      <a:lnTo>
                        <a:pt x="477" y="99"/>
                      </a:lnTo>
                      <a:lnTo>
                        <a:pt x="485" y="110"/>
                      </a:lnTo>
                      <a:lnTo>
                        <a:pt x="471" y="113"/>
                      </a:lnTo>
                      <a:lnTo>
                        <a:pt x="462" y="132"/>
                      </a:lnTo>
                      <a:lnTo>
                        <a:pt x="448" y="155"/>
                      </a:lnTo>
                      <a:lnTo>
                        <a:pt x="467" y="177"/>
                      </a:lnTo>
                      <a:lnTo>
                        <a:pt x="478" y="200"/>
                      </a:lnTo>
                      <a:lnTo>
                        <a:pt x="504" y="205"/>
                      </a:lnTo>
                      <a:lnTo>
                        <a:pt x="526" y="200"/>
                      </a:lnTo>
                      <a:lnTo>
                        <a:pt x="537" y="210"/>
                      </a:lnTo>
                      <a:lnTo>
                        <a:pt x="529" y="219"/>
                      </a:lnTo>
                      <a:lnTo>
                        <a:pt x="525" y="231"/>
                      </a:lnTo>
                      <a:lnTo>
                        <a:pt x="536" y="251"/>
                      </a:lnTo>
                      <a:lnTo>
                        <a:pt x="538" y="271"/>
                      </a:lnTo>
                      <a:lnTo>
                        <a:pt x="551" y="277"/>
                      </a:lnTo>
                      <a:lnTo>
                        <a:pt x="568" y="261"/>
                      </a:lnTo>
                      <a:lnTo>
                        <a:pt x="563" y="241"/>
                      </a:lnTo>
                      <a:lnTo>
                        <a:pt x="548" y="225"/>
                      </a:lnTo>
                      <a:lnTo>
                        <a:pt x="565" y="205"/>
                      </a:lnTo>
                      <a:lnTo>
                        <a:pt x="551" y="168"/>
                      </a:lnTo>
                      <a:lnTo>
                        <a:pt x="538" y="155"/>
                      </a:lnTo>
                      <a:lnTo>
                        <a:pt x="548" y="142"/>
                      </a:lnTo>
                      <a:lnTo>
                        <a:pt x="545" y="126"/>
                      </a:lnTo>
                      <a:lnTo>
                        <a:pt x="554" y="113"/>
                      </a:lnTo>
                      <a:lnTo>
                        <a:pt x="568" y="126"/>
                      </a:lnTo>
                      <a:lnTo>
                        <a:pt x="599" y="167"/>
                      </a:lnTo>
                      <a:lnTo>
                        <a:pt x="618" y="171"/>
                      </a:lnTo>
                      <a:lnTo>
                        <a:pt x="622" y="163"/>
                      </a:lnTo>
                      <a:lnTo>
                        <a:pt x="618" y="139"/>
                      </a:lnTo>
                      <a:lnTo>
                        <a:pt x="630" y="142"/>
                      </a:lnTo>
                      <a:lnTo>
                        <a:pt x="647" y="168"/>
                      </a:lnTo>
                      <a:lnTo>
                        <a:pt x="650" y="181"/>
                      </a:lnTo>
                      <a:lnTo>
                        <a:pt x="663" y="189"/>
                      </a:lnTo>
                      <a:lnTo>
                        <a:pt x="685" y="203"/>
                      </a:lnTo>
                      <a:lnTo>
                        <a:pt x="696" y="221"/>
                      </a:lnTo>
                      <a:lnTo>
                        <a:pt x="713" y="235"/>
                      </a:lnTo>
                      <a:lnTo>
                        <a:pt x="721" y="241"/>
                      </a:lnTo>
                      <a:lnTo>
                        <a:pt x="722" y="251"/>
                      </a:lnTo>
                      <a:lnTo>
                        <a:pt x="710" y="260"/>
                      </a:lnTo>
                      <a:lnTo>
                        <a:pt x="703" y="251"/>
                      </a:lnTo>
                      <a:lnTo>
                        <a:pt x="695" y="251"/>
                      </a:lnTo>
                      <a:lnTo>
                        <a:pt x="692" y="273"/>
                      </a:lnTo>
                      <a:lnTo>
                        <a:pt x="681" y="277"/>
                      </a:lnTo>
                      <a:lnTo>
                        <a:pt x="670" y="267"/>
                      </a:lnTo>
                      <a:lnTo>
                        <a:pt x="644" y="267"/>
                      </a:lnTo>
                      <a:lnTo>
                        <a:pt x="640" y="291"/>
                      </a:lnTo>
                      <a:lnTo>
                        <a:pt x="647" y="305"/>
                      </a:lnTo>
                      <a:lnTo>
                        <a:pt x="659" y="296"/>
                      </a:lnTo>
                      <a:lnTo>
                        <a:pt x="667" y="291"/>
                      </a:lnTo>
                      <a:lnTo>
                        <a:pt x="676" y="303"/>
                      </a:lnTo>
                      <a:lnTo>
                        <a:pt x="663" y="318"/>
                      </a:lnTo>
                      <a:lnTo>
                        <a:pt x="676" y="334"/>
                      </a:lnTo>
                      <a:lnTo>
                        <a:pt x="695" y="339"/>
                      </a:lnTo>
                      <a:lnTo>
                        <a:pt x="692" y="349"/>
                      </a:lnTo>
                      <a:lnTo>
                        <a:pt x="687" y="351"/>
                      </a:lnTo>
                      <a:lnTo>
                        <a:pt x="670" y="403"/>
                      </a:lnTo>
                      <a:lnTo>
                        <a:pt x="670" y="370"/>
                      </a:lnTo>
                      <a:lnTo>
                        <a:pt x="679" y="354"/>
                      </a:lnTo>
                      <a:lnTo>
                        <a:pt x="670" y="344"/>
                      </a:lnTo>
                      <a:lnTo>
                        <a:pt x="661" y="354"/>
                      </a:lnTo>
                      <a:lnTo>
                        <a:pt x="666" y="364"/>
                      </a:lnTo>
                      <a:lnTo>
                        <a:pt x="659" y="371"/>
                      </a:lnTo>
                      <a:lnTo>
                        <a:pt x="648" y="380"/>
                      </a:lnTo>
                      <a:lnTo>
                        <a:pt x="650" y="399"/>
                      </a:lnTo>
                      <a:lnTo>
                        <a:pt x="640" y="409"/>
                      </a:lnTo>
                      <a:lnTo>
                        <a:pt x="624" y="413"/>
                      </a:lnTo>
                      <a:lnTo>
                        <a:pt x="630" y="425"/>
                      </a:lnTo>
                      <a:lnTo>
                        <a:pt x="624" y="439"/>
                      </a:lnTo>
                      <a:lnTo>
                        <a:pt x="630" y="451"/>
                      </a:lnTo>
                      <a:lnTo>
                        <a:pt x="621" y="475"/>
                      </a:lnTo>
                      <a:lnTo>
                        <a:pt x="618" y="496"/>
                      </a:lnTo>
                      <a:lnTo>
                        <a:pt x="603" y="510"/>
                      </a:lnTo>
                      <a:lnTo>
                        <a:pt x="587" y="544"/>
                      </a:lnTo>
                      <a:lnTo>
                        <a:pt x="587" y="564"/>
                      </a:lnTo>
                      <a:lnTo>
                        <a:pt x="591" y="586"/>
                      </a:lnTo>
                      <a:lnTo>
                        <a:pt x="599" y="612"/>
                      </a:lnTo>
                      <a:lnTo>
                        <a:pt x="602" y="633"/>
                      </a:lnTo>
                      <a:lnTo>
                        <a:pt x="595" y="644"/>
                      </a:lnTo>
                      <a:lnTo>
                        <a:pt x="587" y="638"/>
                      </a:lnTo>
                      <a:lnTo>
                        <a:pt x="587" y="626"/>
                      </a:lnTo>
                      <a:lnTo>
                        <a:pt x="582" y="596"/>
                      </a:lnTo>
                      <a:lnTo>
                        <a:pt x="574" y="590"/>
                      </a:lnTo>
                      <a:lnTo>
                        <a:pt x="570" y="575"/>
                      </a:lnTo>
                      <a:lnTo>
                        <a:pt x="562" y="575"/>
                      </a:lnTo>
                      <a:lnTo>
                        <a:pt x="551" y="564"/>
                      </a:lnTo>
                      <a:lnTo>
                        <a:pt x="541" y="568"/>
                      </a:lnTo>
                      <a:lnTo>
                        <a:pt x="529" y="560"/>
                      </a:lnTo>
                      <a:lnTo>
                        <a:pt x="518" y="568"/>
                      </a:lnTo>
                      <a:lnTo>
                        <a:pt x="497" y="562"/>
                      </a:lnTo>
                      <a:lnTo>
                        <a:pt x="511" y="584"/>
                      </a:lnTo>
                      <a:lnTo>
                        <a:pt x="492" y="581"/>
                      </a:lnTo>
                      <a:lnTo>
                        <a:pt x="478" y="564"/>
                      </a:lnTo>
                      <a:lnTo>
                        <a:pt x="456" y="564"/>
                      </a:lnTo>
                      <a:lnTo>
                        <a:pt x="462" y="590"/>
                      </a:lnTo>
                      <a:lnTo>
                        <a:pt x="443" y="584"/>
                      </a:lnTo>
                      <a:lnTo>
                        <a:pt x="436" y="612"/>
                      </a:lnTo>
                      <a:lnTo>
                        <a:pt x="441" y="622"/>
                      </a:lnTo>
                      <a:lnTo>
                        <a:pt x="436" y="649"/>
                      </a:lnTo>
                      <a:lnTo>
                        <a:pt x="443" y="686"/>
                      </a:lnTo>
                      <a:lnTo>
                        <a:pt x="452" y="707"/>
                      </a:lnTo>
                      <a:lnTo>
                        <a:pt x="462" y="729"/>
                      </a:lnTo>
                      <a:lnTo>
                        <a:pt x="492" y="728"/>
                      </a:lnTo>
                      <a:lnTo>
                        <a:pt x="504" y="726"/>
                      </a:lnTo>
                      <a:lnTo>
                        <a:pt x="507" y="707"/>
                      </a:lnTo>
                      <a:lnTo>
                        <a:pt x="500" y="696"/>
                      </a:lnTo>
                      <a:lnTo>
                        <a:pt x="501" y="686"/>
                      </a:lnTo>
                      <a:lnTo>
                        <a:pt x="519" y="687"/>
                      </a:lnTo>
                      <a:lnTo>
                        <a:pt x="540" y="684"/>
                      </a:lnTo>
                      <a:lnTo>
                        <a:pt x="540" y="696"/>
                      </a:lnTo>
                      <a:lnTo>
                        <a:pt x="534" y="716"/>
                      </a:lnTo>
                      <a:lnTo>
                        <a:pt x="525" y="732"/>
                      </a:lnTo>
                      <a:lnTo>
                        <a:pt x="522" y="754"/>
                      </a:lnTo>
                      <a:lnTo>
                        <a:pt x="536" y="764"/>
                      </a:lnTo>
                      <a:lnTo>
                        <a:pt x="551" y="762"/>
                      </a:lnTo>
                      <a:lnTo>
                        <a:pt x="562" y="765"/>
                      </a:lnTo>
                      <a:lnTo>
                        <a:pt x="570" y="765"/>
                      </a:lnTo>
                      <a:lnTo>
                        <a:pt x="574" y="778"/>
                      </a:lnTo>
                      <a:lnTo>
                        <a:pt x="566" y="801"/>
                      </a:lnTo>
                      <a:lnTo>
                        <a:pt x="573" y="812"/>
                      </a:lnTo>
                      <a:lnTo>
                        <a:pt x="574" y="838"/>
                      </a:lnTo>
                      <a:lnTo>
                        <a:pt x="587" y="857"/>
                      </a:lnTo>
                      <a:lnTo>
                        <a:pt x="599" y="859"/>
                      </a:lnTo>
                      <a:lnTo>
                        <a:pt x="610" y="857"/>
                      </a:lnTo>
                      <a:lnTo>
                        <a:pt x="615" y="858"/>
                      </a:lnTo>
                      <a:lnTo>
                        <a:pt x="633" y="858"/>
                      </a:lnTo>
                      <a:lnTo>
                        <a:pt x="648" y="859"/>
                      </a:lnTo>
                      <a:lnTo>
                        <a:pt x="655" y="848"/>
                      </a:lnTo>
                      <a:lnTo>
                        <a:pt x="640" y="868"/>
                      </a:lnTo>
                      <a:lnTo>
                        <a:pt x="630" y="867"/>
                      </a:lnTo>
                      <a:lnTo>
                        <a:pt x="619" y="868"/>
                      </a:lnTo>
                      <a:lnTo>
                        <a:pt x="599" y="874"/>
                      </a:lnTo>
                      <a:lnTo>
                        <a:pt x="584" y="864"/>
                      </a:lnTo>
                      <a:lnTo>
                        <a:pt x="568" y="857"/>
                      </a:lnTo>
                      <a:lnTo>
                        <a:pt x="561" y="858"/>
                      </a:lnTo>
                      <a:lnTo>
                        <a:pt x="562" y="846"/>
                      </a:lnTo>
                      <a:lnTo>
                        <a:pt x="561" y="828"/>
                      </a:lnTo>
                      <a:lnTo>
                        <a:pt x="547" y="812"/>
                      </a:lnTo>
                      <a:lnTo>
                        <a:pt x="519" y="804"/>
                      </a:lnTo>
                      <a:lnTo>
                        <a:pt x="515" y="796"/>
                      </a:lnTo>
                      <a:lnTo>
                        <a:pt x="507" y="799"/>
                      </a:lnTo>
                      <a:lnTo>
                        <a:pt x="499" y="790"/>
                      </a:lnTo>
                      <a:lnTo>
                        <a:pt x="488" y="781"/>
                      </a:lnTo>
                      <a:lnTo>
                        <a:pt x="474" y="762"/>
                      </a:lnTo>
                      <a:lnTo>
                        <a:pt x="459" y="754"/>
                      </a:lnTo>
                      <a:lnTo>
                        <a:pt x="450" y="765"/>
                      </a:lnTo>
                      <a:lnTo>
                        <a:pt x="440" y="758"/>
                      </a:lnTo>
                      <a:lnTo>
                        <a:pt x="427" y="758"/>
                      </a:lnTo>
                      <a:lnTo>
                        <a:pt x="403" y="749"/>
                      </a:lnTo>
                      <a:lnTo>
                        <a:pt x="358" y="710"/>
                      </a:lnTo>
                      <a:lnTo>
                        <a:pt x="355" y="671"/>
                      </a:lnTo>
                      <a:lnTo>
                        <a:pt x="351" y="658"/>
                      </a:lnTo>
                      <a:lnTo>
                        <a:pt x="344" y="644"/>
                      </a:lnTo>
                      <a:lnTo>
                        <a:pt x="334" y="623"/>
                      </a:lnTo>
                      <a:lnTo>
                        <a:pt x="286" y="548"/>
                      </a:lnTo>
                      <a:lnTo>
                        <a:pt x="286" y="575"/>
                      </a:lnTo>
                      <a:lnTo>
                        <a:pt x="316" y="628"/>
                      </a:lnTo>
                      <a:lnTo>
                        <a:pt x="328" y="668"/>
                      </a:lnTo>
                      <a:lnTo>
                        <a:pt x="310" y="659"/>
                      </a:lnTo>
                      <a:lnTo>
                        <a:pt x="305" y="633"/>
                      </a:lnTo>
                      <a:lnTo>
                        <a:pt x="282" y="619"/>
                      </a:lnTo>
                      <a:lnTo>
                        <a:pt x="297" y="612"/>
                      </a:lnTo>
                      <a:lnTo>
                        <a:pt x="264" y="581"/>
                      </a:lnTo>
                      <a:lnTo>
                        <a:pt x="277" y="564"/>
                      </a:lnTo>
                      <a:lnTo>
                        <a:pt x="267" y="533"/>
                      </a:lnTo>
                      <a:lnTo>
                        <a:pt x="229" y="468"/>
                      </a:lnTo>
                      <a:lnTo>
                        <a:pt x="224" y="432"/>
                      </a:lnTo>
                      <a:lnTo>
                        <a:pt x="226" y="399"/>
                      </a:lnTo>
                      <a:lnTo>
                        <a:pt x="236" y="371"/>
                      </a:lnTo>
                      <a:lnTo>
                        <a:pt x="236" y="339"/>
                      </a:lnTo>
                      <a:lnTo>
                        <a:pt x="229" y="319"/>
                      </a:lnTo>
                      <a:lnTo>
                        <a:pt x="249" y="313"/>
                      </a:lnTo>
                      <a:lnTo>
                        <a:pt x="224" y="277"/>
                      </a:lnTo>
                      <a:lnTo>
                        <a:pt x="226" y="260"/>
                      </a:lnTo>
                      <a:lnTo>
                        <a:pt x="215" y="235"/>
                      </a:lnTo>
                      <a:lnTo>
                        <a:pt x="219" y="221"/>
                      </a:lnTo>
                      <a:lnTo>
                        <a:pt x="210" y="213"/>
                      </a:lnTo>
                      <a:lnTo>
                        <a:pt x="210" y="199"/>
                      </a:lnTo>
                      <a:lnTo>
                        <a:pt x="201" y="184"/>
                      </a:lnTo>
                      <a:lnTo>
                        <a:pt x="210" y="174"/>
                      </a:lnTo>
                      <a:lnTo>
                        <a:pt x="200" y="168"/>
                      </a:lnTo>
                      <a:lnTo>
                        <a:pt x="187" y="178"/>
                      </a:lnTo>
                      <a:lnTo>
                        <a:pt x="175" y="155"/>
                      </a:lnTo>
                      <a:lnTo>
                        <a:pt x="157" y="148"/>
                      </a:lnTo>
                      <a:lnTo>
                        <a:pt x="137" y="148"/>
                      </a:lnTo>
                      <a:lnTo>
                        <a:pt x="122" y="168"/>
                      </a:lnTo>
                      <a:lnTo>
                        <a:pt x="115" y="165"/>
                      </a:lnTo>
                      <a:lnTo>
                        <a:pt x="126" y="136"/>
                      </a:lnTo>
                      <a:lnTo>
                        <a:pt x="115" y="142"/>
                      </a:lnTo>
                      <a:lnTo>
                        <a:pt x="94" y="168"/>
                      </a:lnTo>
                      <a:lnTo>
                        <a:pt x="70" y="194"/>
                      </a:lnTo>
                      <a:lnTo>
                        <a:pt x="49" y="203"/>
                      </a:lnTo>
                      <a:lnTo>
                        <a:pt x="13" y="225"/>
                      </a:lnTo>
                      <a:lnTo>
                        <a:pt x="0" y="22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730680" y="3220200"/>
                  <a:ext cx="193320" cy="166320"/>
                </a:xfrm>
                <a:custGeom>
                  <a:avLst/>
                  <a:gdLst/>
                  <a:ahLst/>
                  <a:rect l="l" t="t" r="r" b="b"/>
                  <a:pathLst>
                    <a:path w="248" h="229">
                      <a:moveTo>
                        <a:pt x="0" y="45"/>
                      </a:moveTo>
                      <a:lnTo>
                        <a:pt x="5" y="29"/>
                      </a:lnTo>
                      <a:lnTo>
                        <a:pt x="5" y="16"/>
                      </a:lnTo>
                      <a:lnTo>
                        <a:pt x="12" y="0"/>
                      </a:lnTo>
                      <a:lnTo>
                        <a:pt x="58" y="8"/>
                      </a:lnTo>
                      <a:lnTo>
                        <a:pt x="135" y="29"/>
                      </a:lnTo>
                      <a:lnTo>
                        <a:pt x="166" y="46"/>
                      </a:lnTo>
                      <a:lnTo>
                        <a:pt x="205" y="62"/>
                      </a:lnTo>
                      <a:lnTo>
                        <a:pt x="227" y="91"/>
                      </a:lnTo>
                      <a:lnTo>
                        <a:pt x="248" y="108"/>
                      </a:lnTo>
                      <a:lnTo>
                        <a:pt x="239" y="119"/>
                      </a:lnTo>
                      <a:lnTo>
                        <a:pt x="239" y="133"/>
                      </a:lnTo>
                      <a:lnTo>
                        <a:pt x="231" y="134"/>
                      </a:lnTo>
                      <a:lnTo>
                        <a:pt x="225" y="149"/>
                      </a:lnTo>
                      <a:lnTo>
                        <a:pt x="231" y="161"/>
                      </a:lnTo>
                      <a:lnTo>
                        <a:pt x="231" y="169"/>
                      </a:lnTo>
                      <a:lnTo>
                        <a:pt x="223" y="185"/>
                      </a:lnTo>
                      <a:lnTo>
                        <a:pt x="224" y="195"/>
                      </a:lnTo>
                      <a:lnTo>
                        <a:pt x="238" y="211"/>
                      </a:lnTo>
                      <a:lnTo>
                        <a:pt x="238" y="221"/>
                      </a:lnTo>
                      <a:lnTo>
                        <a:pt x="235" y="227"/>
                      </a:lnTo>
                      <a:lnTo>
                        <a:pt x="220" y="229"/>
                      </a:lnTo>
                      <a:lnTo>
                        <a:pt x="211" y="223"/>
                      </a:lnTo>
                      <a:lnTo>
                        <a:pt x="200" y="208"/>
                      </a:lnTo>
                      <a:lnTo>
                        <a:pt x="196" y="208"/>
                      </a:lnTo>
                      <a:lnTo>
                        <a:pt x="190" y="198"/>
                      </a:lnTo>
                      <a:lnTo>
                        <a:pt x="183" y="182"/>
                      </a:lnTo>
                      <a:lnTo>
                        <a:pt x="178" y="175"/>
                      </a:lnTo>
                      <a:lnTo>
                        <a:pt x="163" y="166"/>
                      </a:lnTo>
                      <a:lnTo>
                        <a:pt x="150" y="159"/>
                      </a:lnTo>
                      <a:lnTo>
                        <a:pt x="131" y="143"/>
                      </a:lnTo>
                      <a:lnTo>
                        <a:pt x="125" y="129"/>
                      </a:lnTo>
                      <a:lnTo>
                        <a:pt x="126" y="120"/>
                      </a:lnTo>
                      <a:lnTo>
                        <a:pt x="133" y="113"/>
                      </a:lnTo>
                      <a:lnTo>
                        <a:pt x="127" y="100"/>
                      </a:lnTo>
                      <a:lnTo>
                        <a:pt x="120" y="108"/>
                      </a:lnTo>
                      <a:lnTo>
                        <a:pt x="109" y="91"/>
                      </a:lnTo>
                      <a:lnTo>
                        <a:pt x="107" y="100"/>
                      </a:lnTo>
                      <a:lnTo>
                        <a:pt x="98" y="100"/>
                      </a:lnTo>
                      <a:lnTo>
                        <a:pt x="95" y="94"/>
                      </a:lnTo>
                      <a:lnTo>
                        <a:pt x="95" y="84"/>
                      </a:lnTo>
                      <a:lnTo>
                        <a:pt x="90" y="77"/>
                      </a:lnTo>
                      <a:lnTo>
                        <a:pt x="83" y="78"/>
                      </a:lnTo>
                      <a:lnTo>
                        <a:pt x="75" y="61"/>
                      </a:lnTo>
                      <a:lnTo>
                        <a:pt x="70" y="58"/>
                      </a:lnTo>
                      <a:lnTo>
                        <a:pt x="57" y="50"/>
                      </a:lnTo>
                      <a:lnTo>
                        <a:pt x="37" y="55"/>
                      </a:lnTo>
                      <a:lnTo>
                        <a:pt x="17" y="50"/>
                      </a:lnTo>
                      <a:lnTo>
                        <a:pt x="0" y="4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690000" y="3279600"/>
                  <a:ext cx="123120" cy="85320"/>
                </a:xfrm>
                <a:custGeom>
                  <a:avLst/>
                  <a:gdLst/>
                  <a:ahLst/>
                  <a:rect l="l" t="t" r="r" b="b"/>
                  <a:pathLst>
                    <a:path w="158" h="117">
                      <a:moveTo>
                        <a:pt x="4" y="0"/>
                      </a:moveTo>
                      <a:lnTo>
                        <a:pt x="0" y="7"/>
                      </a:lnTo>
                      <a:lnTo>
                        <a:pt x="0" y="19"/>
                      </a:lnTo>
                      <a:lnTo>
                        <a:pt x="10" y="32"/>
                      </a:lnTo>
                      <a:lnTo>
                        <a:pt x="15" y="29"/>
                      </a:lnTo>
                      <a:lnTo>
                        <a:pt x="20" y="33"/>
                      </a:lnTo>
                      <a:lnTo>
                        <a:pt x="28" y="36"/>
                      </a:lnTo>
                      <a:lnTo>
                        <a:pt x="30" y="27"/>
                      </a:lnTo>
                      <a:lnTo>
                        <a:pt x="47" y="29"/>
                      </a:lnTo>
                      <a:lnTo>
                        <a:pt x="48" y="36"/>
                      </a:lnTo>
                      <a:lnTo>
                        <a:pt x="55" y="39"/>
                      </a:lnTo>
                      <a:lnTo>
                        <a:pt x="69" y="38"/>
                      </a:lnTo>
                      <a:lnTo>
                        <a:pt x="73" y="43"/>
                      </a:lnTo>
                      <a:lnTo>
                        <a:pt x="78" y="45"/>
                      </a:lnTo>
                      <a:lnTo>
                        <a:pt x="84" y="58"/>
                      </a:lnTo>
                      <a:lnTo>
                        <a:pt x="84" y="69"/>
                      </a:lnTo>
                      <a:lnTo>
                        <a:pt x="80" y="71"/>
                      </a:lnTo>
                      <a:lnTo>
                        <a:pt x="81" y="78"/>
                      </a:lnTo>
                      <a:lnTo>
                        <a:pt x="76" y="85"/>
                      </a:lnTo>
                      <a:lnTo>
                        <a:pt x="76" y="97"/>
                      </a:lnTo>
                      <a:lnTo>
                        <a:pt x="85" y="97"/>
                      </a:lnTo>
                      <a:lnTo>
                        <a:pt x="91" y="94"/>
                      </a:lnTo>
                      <a:lnTo>
                        <a:pt x="94" y="88"/>
                      </a:lnTo>
                      <a:lnTo>
                        <a:pt x="96" y="94"/>
                      </a:lnTo>
                      <a:lnTo>
                        <a:pt x="102" y="90"/>
                      </a:lnTo>
                      <a:lnTo>
                        <a:pt x="115" y="97"/>
                      </a:lnTo>
                      <a:lnTo>
                        <a:pt x="122" y="107"/>
                      </a:lnTo>
                      <a:lnTo>
                        <a:pt x="125" y="107"/>
                      </a:lnTo>
                      <a:lnTo>
                        <a:pt x="125" y="114"/>
                      </a:lnTo>
                      <a:lnTo>
                        <a:pt x="133" y="117"/>
                      </a:lnTo>
                      <a:lnTo>
                        <a:pt x="143" y="117"/>
                      </a:lnTo>
                      <a:lnTo>
                        <a:pt x="136" y="111"/>
                      </a:lnTo>
                      <a:lnTo>
                        <a:pt x="139" y="106"/>
                      </a:lnTo>
                      <a:lnTo>
                        <a:pt x="147" y="111"/>
                      </a:lnTo>
                      <a:lnTo>
                        <a:pt x="154" y="111"/>
                      </a:lnTo>
                      <a:lnTo>
                        <a:pt x="155" y="104"/>
                      </a:lnTo>
                      <a:lnTo>
                        <a:pt x="148" y="97"/>
                      </a:lnTo>
                      <a:lnTo>
                        <a:pt x="142" y="97"/>
                      </a:lnTo>
                      <a:lnTo>
                        <a:pt x="133" y="85"/>
                      </a:lnTo>
                      <a:lnTo>
                        <a:pt x="142" y="85"/>
                      </a:lnTo>
                      <a:lnTo>
                        <a:pt x="148" y="94"/>
                      </a:lnTo>
                      <a:lnTo>
                        <a:pt x="158" y="94"/>
                      </a:lnTo>
                      <a:lnTo>
                        <a:pt x="155" y="84"/>
                      </a:lnTo>
                      <a:lnTo>
                        <a:pt x="147" y="74"/>
                      </a:lnTo>
                      <a:lnTo>
                        <a:pt x="139" y="71"/>
                      </a:lnTo>
                      <a:lnTo>
                        <a:pt x="129" y="62"/>
                      </a:lnTo>
                      <a:lnTo>
                        <a:pt x="118" y="59"/>
                      </a:lnTo>
                      <a:lnTo>
                        <a:pt x="107" y="53"/>
                      </a:lnTo>
                      <a:lnTo>
                        <a:pt x="99" y="39"/>
                      </a:lnTo>
                      <a:lnTo>
                        <a:pt x="94" y="19"/>
                      </a:lnTo>
                      <a:lnTo>
                        <a:pt x="85" y="19"/>
                      </a:lnTo>
                      <a:lnTo>
                        <a:pt x="84" y="16"/>
                      </a:lnTo>
                      <a:lnTo>
                        <a:pt x="78" y="17"/>
                      </a:lnTo>
                      <a:lnTo>
                        <a:pt x="71" y="10"/>
                      </a:lnTo>
                      <a:lnTo>
                        <a:pt x="58" y="6"/>
                      </a:lnTo>
                      <a:lnTo>
                        <a:pt x="52" y="10"/>
                      </a:lnTo>
                      <a:lnTo>
                        <a:pt x="40" y="6"/>
                      </a:lnTo>
                      <a:lnTo>
                        <a:pt x="32" y="6"/>
                      </a:lnTo>
                      <a:lnTo>
                        <a:pt x="30" y="1"/>
                      </a:lnTo>
                      <a:lnTo>
                        <a:pt x="25" y="0"/>
                      </a:lnTo>
                      <a:lnTo>
                        <a:pt x="20" y="1"/>
                      </a:lnTo>
                      <a:lnTo>
                        <a:pt x="4" y="0"/>
                      </a:lnTo>
                      <a:close/>
                    </a:path>
                  </a:pathLst>
                </a:custGeom>
                <a:solidFill>
                  <a:srgbClr val="008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 name=""/>
                <p:cNvSpPr/>
                <p:nvPr/>
              </p:nvSpPr>
              <p:spPr>
                <a:xfrm>
                  <a:off x="3760200" y="3757320"/>
                  <a:ext cx="87120" cy="37440"/>
                </a:xfrm>
                <a:custGeom>
                  <a:avLst/>
                  <a:gdLst/>
                  <a:ahLst/>
                  <a:rect l="l" t="t" r="r" b="b"/>
                  <a:pathLst>
                    <a:path w="114" h="51">
                      <a:moveTo>
                        <a:pt x="0" y="27"/>
                      </a:moveTo>
                      <a:lnTo>
                        <a:pt x="11" y="9"/>
                      </a:lnTo>
                      <a:lnTo>
                        <a:pt x="15" y="9"/>
                      </a:lnTo>
                      <a:lnTo>
                        <a:pt x="23" y="2"/>
                      </a:lnTo>
                      <a:lnTo>
                        <a:pt x="32" y="2"/>
                      </a:lnTo>
                      <a:lnTo>
                        <a:pt x="34" y="0"/>
                      </a:lnTo>
                      <a:lnTo>
                        <a:pt x="37" y="0"/>
                      </a:lnTo>
                      <a:lnTo>
                        <a:pt x="48" y="9"/>
                      </a:lnTo>
                      <a:lnTo>
                        <a:pt x="52" y="15"/>
                      </a:lnTo>
                      <a:lnTo>
                        <a:pt x="55" y="11"/>
                      </a:lnTo>
                      <a:lnTo>
                        <a:pt x="63" y="19"/>
                      </a:lnTo>
                      <a:lnTo>
                        <a:pt x="69" y="19"/>
                      </a:lnTo>
                      <a:lnTo>
                        <a:pt x="75" y="25"/>
                      </a:lnTo>
                      <a:lnTo>
                        <a:pt x="81" y="27"/>
                      </a:lnTo>
                      <a:lnTo>
                        <a:pt x="81" y="35"/>
                      </a:lnTo>
                      <a:lnTo>
                        <a:pt x="95" y="35"/>
                      </a:lnTo>
                      <a:lnTo>
                        <a:pt x="100" y="41"/>
                      </a:lnTo>
                      <a:lnTo>
                        <a:pt x="108" y="41"/>
                      </a:lnTo>
                      <a:lnTo>
                        <a:pt x="114" y="51"/>
                      </a:lnTo>
                      <a:lnTo>
                        <a:pt x="111" y="51"/>
                      </a:lnTo>
                      <a:lnTo>
                        <a:pt x="108" y="48"/>
                      </a:lnTo>
                      <a:lnTo>
                        <a:pt x="107" y="47"/>
                      </a:lnTo>
                      <a:lnTo>
                        <a:pt x="100" y="48"/>
                      </a:lnTo>
                      <a:lnTo>
                        <a:pt x="95" y="51"/>
                      </a:lnTo>
                      <a:lnTo>
                        <a:pt x="91" y="51"/>
                      </a:lnTo>
                      <a:lnTo>
                        <a:pt x="80" y="51"/>
                      </a:lnTo>
                      <a:lnTo>
                        <a:pt x="75" y="51"/>
                      </a:lnTo>
                      <a:lnTo>
                        <a:pt x="75" y="47"/>
                      </a:lnTo>
                      <a:lnTo>
                        <a:pt x="63" y="35"/>
                      </a:lnTo>
                      <a:lnTo>
                        <a:pt x="63" y="27"/>
                      </a:lnTo>
                      <a:lnTo>
                        <a:pt x="52" y="27"/>
                      </a:lnTo>
                      <a:lnTo>
                        <a:pt x="47" y="25"/>
                      </a:lnTo>
                      <a:lnTo>
                        <a:pt x="44" y="27"/>
                      </a:lnTo>
                      <a:lnTo>
                        <a:pt x="41" y="22"/>
                      </a:lnTo>
                      <a:lnTo>
                        <a:pt x="37" y="22"/>
                      </a:lnTo>
                      <a:lnTo>
                        <a:pt x="37" y="12"/>
                      </a:lnTo>
                      <a:lnTo>
                        <a:pt x="34" y="9"/>
                      </a:lnTo>
                      <a:lnTo>
                        <a:pt x="25" y="11"/>
                      </a:lnTo>
                      <a:lnTo>
                        <a:pt x="18" y="22"/>
                      </a:lnTo>
                      <a:lnTo>
                        <a:pt x="10" y="25"/>
                      </a:lnTo>
                      <a:lnTo>
                        <a:pt x="0" y="27"/>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0" name=""/>
                <p:cNvSpPr/>
                <p:nvPr/>
              </p:nvSpPr>
              <p:spPr>
                <a:xfrm>
                  <a:off x="3837960" y="3784680"/>
                  <a:ext cx="56160" cy="33120"/>
                </a:xfrm>
                <a:custGeom>
                  <a:avLst/>
                  <a:gdLst/>
                  <a:ahLst/>
                  <a:rect l="l" t="t" r="r" b="b"/>
                  <a:pathLst>
                    <a:path w="71" h="45">
                      <a:moveTo>
                        <a:pt x="0" y="35"/>
                      </a:moveTo>
                      <a:lnTo>
                        <a:pt x="6" y="36"/>
                      </a:lnTo>
                      <a:lnTo>
                        <a:pt x="20" y="35"/>
                      </a:lnTo>
                      <a:lnTo>
                        <a:pt x="28" y="42"/>
                      </a:lnTo>
                      <a:lnTo>
                        <a:pt x="36" y="45"/>
                      </a:lnTo>
                      <a:lnTo>
                        <a:pt x="42" y="35"/>
                      </a:lnTo>
                      <a:lnTo>
                        <a:pt x="39" y="31"/>
                      </a:lnTo>
                      <a:lnTo>
                        <a:pt x="43" y="29"/>
                      </a:lnTo>
                      <a:lnTo>
                        <a:pt x="53" y="35"/>
                      </a:lnTo>
                      <a:lnTo>
                        <a:pt x="60" y="35"/>
                      </a:lnTo>
                      <a:lnTo>
                        <a:pt x="60" y="29"/>
                      </a:lnTo>
                      <a:lnTo>
                        <a:pt x="64" y="29"/>
                      </a:lnTo>
                      <a:lnTo>
                        <a:pt x="71" y="23"/>
                      </a:lnTo>
                      <a:lnTo>
                        <a:pt x="65" y="23"/>
                      </a:lnTo>
                      <a:lnTo>
                        <a:pt x="65" y="13"/>
                      </a:lnTo>
                      <a:lnTo>
                        <a:pt x="65" y="6"/>
                      </a:lnTo>
                      <a:lnTo>
                        <a:pt x="57" y="5"/>
                      </a:lnTo>
                      <a:lnTo>
                        <a:pt x="50" y="6"/>
                      </a:lnTo>
                      <a:lnTo>
                        <a:pt x="42" y="6"/>
                      </a:lnTo>
                      <a:lnTo>
                        <a:pt x="32" y="5"/>
                      </a:lnTo>
                      <a:lnTo>
                        <a:pt x="24" y="0"/>
                      </a:lnTo>
                      <a:lnTo>
                        <a:pt x="20" y="5"/>
                      </a:lnTo>
                      <a:lnTo>
                        <a:pt x="20" y="13"/>
                      </a:lnTo>
                      <a:lnTo>
                        <a:pt x="13" y="13"/>
                      </a:lnTo>
                      <a:lnTo>
                        <a:pt x="10" y="23"/>
                      </a:lnTo>
                      <a:lnTo>
                        <a:pt x="6" y="26"/>
                      </a:lnTo>
                      <a:lnTo>
                        <a:pt x="0" y="35"/>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1" name=""/>
                <p:cNvSpPr/>
                <p:nvPr/>
              </p:nvSpPr>
              <p:spPr>
                <a:xfrm>
                  <a:off x="3802320" y="3881520"/>
                  <a:ext cx="357120" cy="690840"/>
                </a:xfrm>
                <a:custGeom>
                  <a:avLst/>
                  <a:gdLst/>
                  <a:ahLst/>
                  <a:rect l="l" t="t" r="r" b="b"/>
                  <a:pathLst>
                    <a:path w="459" h="955">
                      <a:moveTo>
                        <a:pt x="36" y="42"/>
                      </a:moveTo>
                      <a:lnTo>
                        <a:pt x="40" y="32"/>
                      </a:lnTo>
                      <a:lnTo>
                        <a:pt x="52" y="16"/>
                      </a:lnTo>
                      <a:lnTo>
                        <a:pt x="69" y="6"/>
                      </a:lnTo>
                      <a:lnTo>
                        <a:pt x="78" y="0"/>
                      </a:lnTo>
                      <a:lnTo>
                        <a:pt x="86" y="2"/>
                      </a:lnTo>
                      <a:lnTo>
                        <a:pt x="85" y="11"/>
                      </a:lnTo>
                      <a:lnTo>
                        <a:pt x="74" y="18"/>
                      </a:lnTo>
                      <a:lnTo>
                        <a:pt x="71" y="34"/>
                      </a:lnTo>
                      <a:lnTo>
                        <a:pt x="74" y="44"/>
                      </a:lnTo>
                      <a:lnTo>
                        <a:pt x="82" y="44"/>
                      </a:lnTo>
                      <a:lnTo>
                        <a:pt x="86" y="32"/>
                      </a:lnTo>
                      <a:lnTo>
                        <a:pt x="89" y="18"/>
                      </a:lnTo>
                      <a:lnTo>
                        <a:pt x="96" y="21"/>
                      </a:lnTo>
                      <a:lnTo>
                        <a:pt x="101" y="29"/>
                      </a:lnTo>
                      <a:lnTo>
                        <a:pt x="111" y="28"/>
                      </a:lnTo>
                      <a:lnTo>
                        <a:pt x="119" y="34"/>
                      </a:lnTo>
                      <a:lnTo>
                        <a:pt x="123" y="40"/>
                      </a:lnTo>
                      <a:lnTo>
                        <a:pt x="138" y="38"/>
                      </a:lnTo>
                      <a:lnTo>
                        <a:pt x="172" y="34"/>
                      </a:lnTo>
                      <a:lnTo>
                        <a:pt x="185" y="60"/>
                      </a:lnTo>
                      <a:lnTo>
                        <a:pt x="205" y="70"/>
                      </a:lnTo>
                      <a:lnTo>
                        <a:pt x="204" y="80"/>
                      </a:lnTo>
                      <a:lnTo>
                        <a:pt x="215" y="76"/>
                      </a:lnTo>
                      <a:lnTo>
                        <a:pt x="223" y="76"/>
                      </a:lnTo>
                      <a:lnTo>
                        <a:pt x="234" y="86"/>
                      </a:lnTo>
                      <a:lnTo>
                        <a:pt x="250" y="84"/>
                      </a:lnTo>
                      <a:lnTo>
                        <a:pt x="263" y="86"/>
                      </a:lnTo>
                      <a:lnTo>
                        <a:pt x="282" y="106"/>
                      </a:lnTo>
                      <a:lnTo>
                        <a:pt x="304" y="132"/>
                      </a:lnTo>
                      <a:lnTo>
                        <a:pt x="314" y="163"/>
                      </a:lnTo>
                      <a:lnTo>
                        <a:pt x="305" y="183"/>
                      </a:lnTo>
                      <a:lnTo>
                        <a:pt x="333" y="189"/>
                      </a:lnTo>
                      <a:lnTo>
                        <a:pt x="375" y="202"/>
                      </a:lnTo>
                      <a:lnTo>
                        <a:pt x="419" y="212"/>
                      </a:lnTo>
                      <a:lnTo>
                        <a:pt x="446" y="238"/>
                      </a:lnTo>
                      <a:lnTo>
                        <a:pt x="459" y="261"/>
                      </a:lnTo>
                      <a:lnTo>
                        <a:pt x="459" y="290"/>
                      </a:lnTo>
                      <a:lnTo>
                        <a:pt x="448" y="316"/>
                      </a:lnTo>
                      <a:lnTo>
                        <a:pt x="436" y="331"/>
                      </a:lnTo>
                      <a:lnTo>
                        <a:pt x="427" y="342"/>
                      </a:lnTo>
                      <a:lnTo>
                        <a:pt x="419" y="363"/>
                      </a:lnTo>
                      <a:lnTo>
                        <a:pt x="418" y="379"/>
                      </a:lnTo>
                      <a:lnTo>
                        <a:pt x="419" y="399"/>
                      </a:lnTo>
                      <a:lnTo>
                        <a:pt x="414" y="423"/>
                      </a:lnTo>
                      <a:lnTo>
                        <a:pt x="409" y="428"/>
                      </a:lnTo>
                      <a:lnTo>
                        <a:pt x="405" y="441"/>
                      </a:lnTo>
                      <a:lnTo>
                        <a:pt x="396" y="451"/>
                      </a:lnTo>
                      <a:lnTo>
                        <a:pt x="395" y="461"/>
                      </a:lnTo>
                      <a:lnTo>
                        <a:pt x="386" y="473"/>
                      </a:lnTo>
                      <a:lnTo>
                        <a:pt x="371" y="493"/>
                      </a:lnTo>
                      <a:lnTo>
                        <a:pt x="356" y="502"/>
                      </a:lnTo>
                      <a:lnTo>
                        <a:pt x="348" y="499"/>
                      </a:lnTo>
                      <a:lnTo>
                        <a:pt x="331" y="513"/>
                      </a:lnTo>
                      <a:lnTo>
                        <a:pt x="315" y="534"/>
                      </a:lnTo>
                      <a:lnTo>
                        <a:pt x="309" y="545"/>
                      </a:lnTo>
                      <a:lnTo>
                        <a:pt x="309" y="557"/>
                      </a:lnTo>
                      <a:lnTo>
                        <a:pt x="315" y="571"/>
                      </a:lnTo>
                      <a:lnTo>
                        <a:pt x="305" y="586"/>
                      </a:lnTo>
                      <a:lnTo>
                        <a:pt x="305" y="596"/>
                      </a:lnTo>
                      <a:lnTo>
                        <a:pt x="293" y="612"/>
                      </a:lnTo>
                      <a:lnTo>
                        <a:pt x="285" y="618"/>
                      </a:lnTo>
                      <a:lnTo>
                        <a:pt x="275" y="632"/>
                      </a:lnTo>
                      <a:lnTo>
                        <a:pt x="272" y="648"/>
                      </a:lnTo>
                      <a:lnTo>
                        <a:pt x="260" y="664"/>
                      </a:lnTo>
                      <a:lnTo>
                        <a:pt x="257" y="661"/>
                      </a:lnTo>
                      <a:lnTo>
                        <a:pt x="248" y="661"/>
                      </a:lnTo>
                      <a:lnTo>
                        <a:pt x="235" y="668"/>
                      </a:lnTo>
                      <a:lnTo>
                        <a:pt x="245" y="676"/>
                      </a:lnTo>
                      <a:lnTo>
                        <a:pt x="245" y="692"/>
                      </a:lnTo>
                      <a:lnTo>
                        <a:pt x="245" y="702"/>
                      </a:lnTo>
                      <a:lnTo>
                        <a:pt x="238" y="712"/>
                      </a:lnTo>
                      <a:lnTo>
                        <a:pt x="223" y="716"/>
                      </a:lnTo>
                      <a:lnTo>
                        <a:pt x="212" y="720"/>
                      </a:lnTo>
                      <a:lnTo>
                        <a:pt x="206" y="728"/>
                      </a:lnTo>
                      <a:lnTo>
                        <a:pt x="206" y="744"/>
                      </a:lnTo>
                      <a:lnTo>
                        <a:pt x="193" y="747"/>
                      </a:lnTo>
                      <a:lnTo>
                        <a:pt x="182" y="744"/>
                      </a:lnTo>
                      <a:lnTo>
                        <a:pt x="179" y="752"/>
                      </a:lnTo>
                      <a:lnTo>
                        <a:pt x="185" y="760"/>
                      </a:lnTo>
                      <a:lnTo>
                        <a:pt x="182" y="780"/>
                      </a:lnTo>
                      <a:lnTo>
                        <a:pt x="176" y="800"/>
                      </a:lnTo>
                      <a:lnTo>
                        <a:pt x="162" y="800"/>
                      </a:lnTo>
                      <a:lnTo>
                        <a:pt x="156" y="810"/>
                      </a:lnTo>
                      <a:lnTo>
                        <a:pt x="157" y="826"/>
                      </a:lnTo>
                      <a:lnTo>
                        <a:pt x="168" y="826"/>
                      </a:lnTo>
                      <a:lnTo>
                        <a:pt x="172" y="835"/>
                      </a:lnTo>
                      <a:lnTo>
                        <a:pt x="169" y="851"/>
                      </a:lnTo>
                      <a:lnTo>
                        <a:pt x="161" y="851"/>
                      </a:lnTo>
                      <a:lnTo>
                        <a:pt x="149" y="858"/>
                      </a:lnTo>
                      <a:lnTo>
                        <a:pt x="145" y="870"/>
                      </a:lnTo>
                      <a:lnTo>
                        <a:pt x="145" y="890"/>
                      </a:lnTo>
                      <a:lnTo>
                        <a:pt x="137" y="899"/>
                      </a:lnTo>
                      <a:lnTo>
                        <a:pt x="164" y="931"/>
                      </a:lnTo>
                      <a:lnTo>
                        <a:pt x="172" y="945"/>
                      </a:lnTo>
                      <a:lnTo>
                        <a:pt x="168" y="955"/>
                      </a:lnTo>
                      <a:lnTo>
                        <a:pt x="156" y="948"/>
                      </a:lnTo>
                      <a:lnTo>
                        <a:pt x="145" y="936"/>
                      </a:lnTo>
                      <a:lnTo>
                        <a:pt x="131" y="926"/>
                      </a:lnTo>
                      <a:lnTo>
                        <a:pt x="117" y="910"/>
                      </a:lnTo>
                      <a:lnTo>
                        <a:pt x="107" y="894"/>
                      </a:lnTo>
                      <a:lnTo>
                        <a:pt x="107" y="877"/>
                      </a:lnTo>
                      <a:lnTo>
                        <a:pt x="108" y="864"/>
                      </a:lnTo>
                      <a:lnTo>
                        <a:pt x="107" y="762"/>
                      </a:lnTo>
                      <a:lnTo>
                        <a:pt x="104" y="744"/>
                      </a:lnTo>
                      <a:lnTo>
                        <a:pt x="96" y="723"/>
                      </a:lnTo>
                      <a:lnTo>
                        <a:pt x="96" y="707"/>
                      </a:lnTo>
                      <a:lnTo>
                        <a:pt x="101" y="687"/>
                      </a:lnTo>
                      <a:lnTo>
                        <a:pt x="107" y="661"/>
                      </a:lnTo>
                      <a:lnTo>
                        <a:pt x="104" y="635"/>
                      </a:lnTo>
                      <a:lnTo>
                        <a:pt x="103" y="626"/>
                      </a:lnTo>
                      <a:lnTo>
                        <a:pt x="103" y="613"/>
                      </a:lnTo>
                      <a:lnTo>
                        <a:pt x="106" y="606"/>
                      </a:lnTo>
                      <a:lnTo>
                        <a:pt x="107" y="577"/>
                      </a:lnTo>
                      <a:lnTo>
                        <a:pt x="106" y="564"/>
                      </a:lnTo>
                      <a:lnTo>
                        <a:pt x="110" y="529"/>
                      </a:lnTo>
                      <a:lnTo>
                        <a:pt x="106" y="499"/>
                      </a:lnTo>
                      <a:lnTo>
                        <a:pt x="108" y="486"/>
                      </a:lnTo>
                      <a:lnTo>
                        <a:pt x="114" y="454"/>
                      </a:lnTo>
                      <a:lnTo>
                        <a:pt x="108" y="435"/>
                      </a:lnTo>
                      <a:lnTo>
                        <a:pt x="97" y="421"/>
                      </a:lnTo>
                      <a:lnTo>
                        <a:pt x="96" y="408"/>
                      </a:lnTo>
                      <a:lnTo>
                        <a:pt x="82" y="392"/>
                      </a:lnTo>
                      <a:lnTo>
                        <a:pt x="69" y="383"/>
                      </a:lnTo>
                      <a:lnTo>
                        <a:pt x="51" y="379"/>
                      </a:lnTo>
                      <a:lnTo>
                        <a:pt x="40" y="355"/>
                      </a:lnTo>
                      <a:lnTo>
                        <a:pt x="29" y="337"/>
                      </a:lnTo>
                      <a:lnTo>
                        <a:pt x="27" y="316"/>
                      </a:lnTo>
                      <a:lnTo>
                        <a:pt x="26" y="303"/>
                      </a:lnTo>
                      <a:lnTo>
                        <a:pt x="23" y="290"/>
                      </a:lnTo>
                      <a:lnTo>
                        <a:pt x="16" y="279"/>
                      </a:lnTo>
                      <a:lnTo>
                        <a:pt x="8" y="273"/>
                      </a:lnTo>
                      <a:lnTo>
                        <a:pt x="0" y="261"/>
                      </a:lnTo>
                      <a:lnTo>
                        <a:pt x="8" y="248"/>
                      </a:lnTo>
                      <a:lnTo>
                        <a:pt x="8" y="222"/>
                      </a:lnTo>
                      <a:lnTo>
                        <a:pt x="5" y="209"/>
                      </a:lnTo>
                      <a:lnTo>
                        <a:pt x="0" y="193"/>
                      </a:lnTo>
                      <a:lnTo>
                        <a:pt x="5" y="174"/>
                      </a:lnTo>
                      <a:lnTo>
                        <a:pt x="22" y="122"/>
                      </a:lnTo>
                      <a:lnTo>
                        <a:pt x="23" y="102"/>
                      </a:lnTo>
                      <a:lnTo>
                        <a:pt x="33" y="80"/>
                      </a:lnTo>
                      <a:lnTo>
                        <a:pt x="33" y="66"/>
                      </a:lnTo>
                      <a:lnTo>
                        <a:pt x="36" y="4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2" name=""/>
            <p:cNvGrpSpPr/>
            <p:nvPr/>
          </p:nvGrpSpPr>
          <p:grpSpPr>
            <a:xfrm>
              <a:off x="3929760" y="3720240"/>
              <a:ext cx="1238760" cy="2070720"/>
              <a:chOff x="3929760" y="3720240"/>
              <a:chExt cx="1238760" cy="2070720"/>
            </a:xfrm>
          </p:grpSpPr>
          <p:sp>
            <p:nvSpPr>
              <p:cNvPr id="83" name=""/>
              <p:cNvSpPr/>
              <p:nvPr/>
            </p:nvSpPr>
            <p:spPr>
              <a:xfrm>
                <a:off x="3929760" y="3720240"/>
                <a:ext cx="767880" cy="2070720"/>
              </a:xfrm>
              <a:custGeom>
                <a:avLst/>
                <a:gdLst/>
                <a:ahLst/>
                <a:rect l="l" t="t" r="r" b="b"/>
                <a:pathLst>
                  <a:path w="984" h="2860">
                    <a:moveTo>
                      <a:pt x="375" y="89"/>
                    </a:moveTo>
                    <a:lnTo>
                      <a:pt x="337" y="119"/>
                    </a:lnTo>
                    <a:lnTo>
                      <a:pt x="298" y="167"/>
                    </a:lnTo>
                    <a:lnTo>
                      <a:pt x="288" y="199"/>
                    </a:lnTo>
                    <a:lnTo>
                      <a:pt x="304" y="265"/>
                    </a:lnTo>
                    <a:lnTo>
                      <a:pt x="304" y="305"/>
                    </a:lnTo>
                    <a:lnTo>
                      <a:pt x="331" y="367"/>
                    </a:lnTo>
                    <a:lnTo>
                      <a:pt x="358" y="386"/>
                    </a:lnTo>
                    <a:lnTo>
                      <a:pt x="351" y="435"/>
                    </a:lnTo>
                    <a:lnTo>
                      <a:pt x="321" y="477"/>
                    </a:lnTo>
                    <a:lnTo>
                      <a:pt x="166" y="555"/>
                    </a:lnTo>
                    <a:lnTo>
                      <a:pt x="0" y="954"/>
                    </a:lnTo>
                    <a:lnTo>
                      <a:pt x="183" y="1262"/>
                    </a:lnTo>
                    <a:lnTo>
                      <a:pt x="242" y="1112"/>
                    </a:lnTo>
                    <a:lnTo>
                      <a:pt x="194" y="1048"/>
                    </a:lnTo>
                    <a:lnTo>
                      <a:pt x="165" y="991"/>
                    </a:lnTo>
                    <a:lnTo>
                      <a:pt x="145" y="945"/>
                    </a:lnTo>
                    <a:lnTo>
                      <a:pt x="199" y="865"/>
                    </a:lnTo>
                    <a:lnTo>
                      <a:pt x="280" y="1096"/>
                    </a:lnTo>
                    <a:lnTo>
                      <a:pt x="243" y="1110"/>
                    </a:lnTo>
                    <a:lnTo>
                      <a:pt x="203" y="1212"/>
                    </a:lnTo>
                    <a:lnTo>
                      <a:pt x="260" y="1259"/>
                    </a:lnTo>
                    <a:lnTo>
                      <a:pt x="226" y="1637"/>
                    </a:lnTo>
                    <a:lnTo>
                      <a:pt x="251" y="1637"/>
                    </a:lnTo>
                    <a:lnTo>
                      <a:pt x="227" y="2075"/>
                    </a:lnTo>
                    <a:lnTo>
                      <a:pt x="217" y="2279"/>
                    </a:lnTo>
                    <a:lnTo>
                      <a:pt x="226" y="2746"/>
                    </a:lnTo>
                    <a:lnTo>
                      <a:pt x="256" y="2757"/>
                    </a:lnTo>
                    <a:lnTo>
                      <a:pt x="260" y="2825"/>
                    </a:lnTo>
                    <a:lnTo>
                      <a:pt x="279" y="2840"/>
                    </a:lnTo>
                    <a:lnTo>
                      <a:pt x="314" y="2847"/>
                    </a:lnTo>
                    <a:lnTo>
                      <a:pt x="350" y="2836"/>
                    </a:lnTo>
                    <a:lnTo>
                      <a:pt x="371" y="2814"/>
                    </a:lnTo>
                    <a:lnTo>
                      <a:pt x="375" y="2749"/>
                    </a:lnTo>
                    <a:lnTo>
                      <a:pt x="402" y="2723"/>
                    </a:lnTo>
                    <a:lnTo>
                      <a:pt x="402" y="2314"/>
                    </a:lnTo>
                    <a:lnTo>
                      <a:pt x="424" y="1927"/>
                    </a:lnTo>
                    <a:lnTo>
                      <a:pt x="460" y="1671"/>
                    </a:lnTo>
                    <a:lnTo>
                      <a:pt x="486" y="1669"/>
                    </a:lnTo>
                    <a:lnTo>
                      <a:pt x="530" y="2033"/>
                    </a:lnTo>
                    <a:lnTo>
                      <a:pt x="546" y="2084"/>
                    </a:lnTo>
                    <a:lnTo>
                      <a:pt x="570" y="2430"/>
                    </a:lnTo>
                    <a:lnTo>
                      <a:pt x="605" y="2727"/>
                    </a:lnTo>
                    <a:lnTo>
                      <a:pt x="625" y="2752"/>
                    </a:lnTo>
                    <a:lnTo>
                      <a:pt x="626" y="2840"/>
                    </a:lnTo>
                    <a:lnTo>
                      <a:pt x="642" y="2860"/>
                    </a:lnTo>
                    <a:lnTo>
                      <a:pt x="663" y="2857"/>
                    </a:lnTo>
                    <a:lnTo>
                      <a:pt x="689" y="2860"/>
                    </a:lnTo>
                    <a:lnTo>
                      <a:pt x="727" y="2834"/>
                    </a:lnTo>
                    <a:lnTo>
                      <a:pt x="763" y="2804"/>
                    </a:lnTo>
                    <a:lnTo>
                      <a:pt x="805" y="2788"/>
                    </a:lnTo>
                    <a:lnTo>
                      <a:pt x="866" y="2720"/>
                    </a:lnTo>
                    <a:lnTo>
                      <a:pt x="871" y="2691"/>
                    </a:lnTo>
                    <a:lnTo>
                      <a:pt x="852" y="2673"/>
                    </a:lnTo>
                    <a:lnTo>
                      <a:pt x="778" y="2685"/>
                    </a:lnTo>
                    <a:lnTo>
                      <a:pt x="790" y="2668"/>
                    </a:lnTo>
                    <a:lnTo>
                      <a:pt x="701" y="2116"/>
                    </a:lnTo>
                    <a:lnTo>
                      <a:pt x="711" y="2053"/>
                    </a:lnTo>
                    <a:lnTo>
                      <a:pt x="701" y="1969"/>
                    </a:lnTo>
                    <a:lnTo>
                      <a:pt x="686" y="1614"/>
                    </a:lnTo>
                    <a:lnTo>
                      <a:pt x="713" y="1552"/>
                    </a:lnTo>
                    <a:lnTo>
                      <a:pt x="635" y="1112"/>
                    </a:lnTo>
                    <a:lnTo>
                      <a:pt x="635" y="961"/>
                    </a:lnTo>
                    <a:lnTo>
                      <a:pt x="660" y="693"/>
                    </a:lnTo>
                    <a:lnTo>
                      <a:pt x="748" y="654"/>
                    </a:lnTo>
                    <a:lnTo>
                      <a:pt x="825" y="591"/>
                    </a:lnTo>
                    <a:lnTo>
                      <a:pt x="845" y="549"/>
                    </a:lnTo>
                    <a:lnTo>
                      <a:pt x="925" y="344"/>
                    </a:lnTo>
                    <a:lnTo>
                      <a:pt x="903" y="283"/>
                    </a:lnTo>
                    <a:lnTo>
                      <a:pt x="916" y="277"/>
                    </a:lnTo>
                    <a:lnTo>
                      <a:pt x="930" y="265"/>
                    </a:lnTo>
                    <a:lnTo>
                      <a:pt x="945" y="235"/>
                    </a:lnTo>
                    <a:lnTo>
                      <a:pt x="956" y="205"/>
                    </a:lnTo>
                    <a:lnTo>
                      <a:pt x="955" y="184"/>
                    </a:lnTo>
                    <a:lnTo>
                      <a:pt x="964" y="148"/>
                    </a:lnTo>
                    <a:lnTo>
                      <a:pt x="958" y="135"/>
                    </a:lnTo>
                    <a:lnTo>
                      <a:pt x="962" y="106"/>
                    </a:lnTo>
                    <a:lnTo>
                      <a:pt x="956" y="87"/>
                    </a:lnTo>
                    <a:lnTo>
                      <a:pt x="973" y="32"/>
                    </a:lnTo>
                    <a:lnTo>
                      <a:pt x="984" y="5"/>
                    </a:lnTo>
                    <a:lnTo>
                      <a:pt x="977" y="0"/>
                    </a:lnTo>
                    <a:lnTo>
                      <a:pt x="967" y="15"/>
                    </a:lnTo>
                    <a:lnTo>
                      <a:pt x="956" y="41"/>
                    </a:lnTo>
                    <a:lnTo>
                      <a:pt x="937" y="79"/>
                    </a:lnTo>
                    <a:lnTo>
                      <a:pt x="915" y="132"/>
                    </a:lnTo>
                    <a:lnTo>
                      <a:pt x="893" y="139"/>
                    </a:lnTo>
                    <a:lnTo>
                      <a:pt x="890" y="113"/>
                    </a:lnTo>
                    <a:lnTo>
                      <a:pt x="889" y="89"/>
                    </a:lnTo>
                    <a:lnTo>
                      <a:pt x="885" y="68"/>
                    </a:lnTo>
                    <a:lnTo>
                      <a:pt x="874" y="61"/>
                    </a:lnTo>
                    <a:lnTo>
                      <a:pt x="878" y="95"/>
                    </a:lnTo>
                    <a:lnTo>
                      <a:pt x="856" y="151"/>
                    </a:lnTo>
                    <a:lnTo>
                      <a:pt x="849" y="250"/>
                    </a:lnTo>
                    <a:lnTo>
                      <a:pt x="842" y="236"/>
                    </a:lnTo>
                    <a:lnTo>
                      <a:pt x="794" y="393"/>
                    </a:lnTo>
                    <a:lnTo>
                      <a:pt x="770" y="432"/>
                    </a:lnTo>
                    <a:lnTo>
                      <a:pt x="773" y="445"/>
                    </a:lnTo>
                    <a:lnTo>
                      <a:pt x="760" y="435"/>
                    </a:lnTo>
                    <a:lnTo>
                      <a:pt x="731" y="455"/>
                    </a:lnTo>
                    <a:lnTo>
                      <a:pt x="623" y="468"/>
                    </a:lnTo>
                    <a:lnTo>
                      <a:pt x="528" y="455"/>
                    </a:lnTo>
                    <a:lnTo>
                      <a:pt x="515" y="470"/>
                    </a:lnTo>
                    <a:lnTo>
                      <a:pt x="489" y="442"/>
                    </a:lnTo>
                    <a:lnTo>
                      <a:pt x="519" y="328"/>
                    </a:lnTo>
                    <a:lnTo>
                      <a:pt x="513" y="283"/>
                    </a:lnTo>
                    <a:lnTo>
                      <a:pt x="522" y="250"/>
                    </a:lnTo>
                    <a:lnTo>
                      <a:pt x="522" y="200"/>
                    </a:lnTo>
                    <a:lnTo>
                      <a:pt x="542" y="183"/>
                    </a:lnTo>
                    <a:lnTo>
                      <a:pt x="531" y="181"/>
                    </a:lnTo>
                    <a:lnTo>
                      <a:pt x="541" y="168"/>
                    </a:lnTo>
                    <a:lnTo>
                      <a:pt x="505" y="148"/>
                    </a:lnTo>
                    <a:lnTo>
                      <a:pt x="476" y="110"/>
                    </a:lnTo>
                    <a:lnTo>
                      <a:pt x="445" y="100"/>
                    </a:lnTo>
                    <a:lnTo>
                      <a:pt x="408" y="77"/>
                    </a:lnTo>
                    <a:lnTo>
                      <a:pt x="37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 name=""/>
              <p:cNvGrpSpPr/>
              <p:nvPr/>
            </p:nvGrpSpPr>
            <p:grpSpPr>
              <a:xfrm>
                <a:off x="4641480" y="3738960"/>
                <a:ext cx="527040" cy="2007360"/>
                <a:chOff x="4641480" y="3738960"/>
                <a:chExt cx="527040" cy="2007360"/>
              </a:xfrm>
            </p:grpSpPr>
            <p:sp>
              <p:nvSpPr>
                <p:cNvPr id="85" name=""/>
                <p:cNvSpPr/>
                <p:nvPr/>
              </p:nvSpPr>
              <p:spPr>
                <a:xfrm>
                  <a:off x="4641480" y="3738960"/>
                  <a:ext cx="527040" cy="2007360"/>
                </a:xfrm>
                <a:custGeom>
                  <a:avLst/>
                  <a:gdLst/>
                  <a:ahLst/>
                  <a:rect l="l" t="t" r="r" b="b"/>
                  <a:pathLst>
                    <a:path w="676" h="2772">
                      <a:moveTo>
                        <a:pt x="166" y="106"/>
                      </a:moveTo>
                      <a:lnTo>
                        <a:pt x="188" y="51"/>
                      </a:lnTo>
                      <a:lnTo>
                        <a:pt x="240" y="28"/>
                      </a:lnTo>
                      <a:lnTo>
                        <a:pt x="287" y="2"/>
                      </a:lnTo>
                      <a:lnTo>
                        <a:pt x="316" y="0"/>
                      </a:lnTo>
                      <a:lnTo>
                        <a:pt x="347" y="21"/>
                      </a:lnTo>
                      <a:lnTo>
                        <a:pt x="360" y="31"/>
                      </a:lnTo>
                      <a:lnTo>
                        <a:pt x="413" y="93"/>
                      </a:lnTo>
                      <a:lnTo>
                        <a:pt x="427" y="166"/>
                      </a:lnTo>
                      <a:lnTo>
                        <a:pt x="399" y="252"/>
                      </a:lnTo>
                      <a:lnTo>
                        <a:pt x="399" y="276"/>
                      </a:lnTo>
                      <a:lnTo>
                        <a:pt x="406" y="267"/>
                      </a:lnTo>
                      <a:lnTo>
                        <a:pt x="417" y="293"/>
                      </a:lnTo>
                      <a:lnTo>
                        <a:pt x="426" y="281"/>
                      </a:lnTo>
                      <a:lnTo>
                        <a:pt x="443" y="339"/>
                      </a:lnTo>
                      <a:lnTo>
                        <a:pt x="538" y="422"/>
                      </a:lnTo>
                      <a:lnTo>
                        <a:pt x="549" y="438"/>
                      </a:lnTo>
                      <a:lnTo>
                        <a:pt x="602" y="634"/>
                      </a:lnTo>
                      <a:lnTo>
                        <a:pt x="676" y="887"/>
                      </a:lnTo>
                      <a:lnTo>
                        <a:pt x="676" y="925"/>
                      </a:lnTo>
                      <a:lnTo>
                        <a:pt x="556" y="1106"/>
                      </a:lnTo>
                      <a:lnTo>
                        <a:pt x="623" y="1442"/>
                      </a:lnTo>
                      <a:lnTo>
                        <a:pt x="521" y="1555"/>
                      </a:lnTo>
                      <a:lnTo>
                        <a:pt x="524" y="1908"/>
                      </a:lnTo>
                      <a:lnTo>
                        <a:pt x="545" y="2288"/>
                      </a:lnTo>
                      <a:lnTo>
                        <a:pt x="530" y="2501"/>
                      </a:lnTo>
                      <a:lnTo>
                        <a:pt x="528" y="2659"/>
                      </a:lnTo>
                      <a:lnTo>
                        <a:pt x="489" y="2681"/>
                      </a:lnTo>
                      <a:lnTo>
                        <a:pt x="454" y="2675"/>
                      </a:lnTo>
                      <a:lnTo>
                        <a:pt x="426" y="2659"/>
                      </a:lnTo>
                      <a:lnTo>
                        <a:pt x="386" y="2659"/>
                      </a:lnTo>
                      <a:lnTo>
                        <a:pt x="341" y="2663"/>
                      </a:lnTo>
                      <a:lnTo>
                        <a:pt x="324" y="2653"/>
                      </a:lnTo>
                      <a:lnTo>
                        <a:pt x="310" y="2756"/>
                      </a:lnTo>
                      <a:lnTo>
                        <a:pt x="224" y="2763"/>
                      </a:lnTo>
                      <a:lnTo>
                        <a:pt x="206" y="2752"/>
                      </a:lnTo>
                      <a:lnTo>
                        <a:pt x="150" y="2763"/>
                      </a:lnTo>
                      <a:lnTo>
                        <a:pt x="46" y="2772"/>
                      </a:lnTo>
                      <a:lnTo>
                        <a:pt x="0" y="2757"/>
                      </a:lnTo>
                      <a:lnTo>
                        <a:pt x="0" y="2713"/>
                      </a:lnTo>
                      <a:lnTo>
                        <a:pt x="98" y="2668"/>
                      </a:lnTo>
                      <a:lnTo>
                        <a:pt x="139" y="2611"/>
                      </a:lnTo>
                      <a:lnTo>
                        <a:pt x="158" y="2288"/>
                      </a:lnTo>
                      <a:lnTo>
                        <a:pt x="175" y="2003"/>
                      </a:lnTo>
                      <a:lnTo>
                        <a:pt x="157" y="1919"/>
                      </a:lnTo>
                      <a:lnTo>
                        <a:pt x="179" y="1638"/>
                      </a:lnTo>
                      <a:lnTo>
                        <a:pt x="200" y="1396"/>
                      </a:lnTo>
                      <a:lnTo>
                        <a:pt x="190" y="1314"/>
                      </a:lnTo>
                      <a:lnTo>
                        <a:pt x="183" y="1248"/>
                      </a:lnTo>
                      <a:lnTo>
                        <a:pt x="191" y="1106"/>
                      </a:lnTo>
                      <a:lnTo>
                        <a:pt x="183" y="1074"/>
                      </a:lnTo>
                      <a:lnTo>
                        <a:pt x="183" y="973"/>
                      </a:lnTo>
                      <a:lnTo>
                        <a:pt x="183" y="881"/>
                      </a:lnTo>
                      <a:lnTo>
                        <a:pt x="240" y="570"/>
                      </a:lnTo>
                      <a:lnTo>
                        <a:pt x="257" y="526"/>
                      </a:lnTo>
                      <a:lnTo>
                        <a:pt x="269" y="474"/>
                      </a:lnTo>
                      <a:lnTo>
                        <a:pt x="269" y="450"/>
                      </a:lnTo>
                      <a:lnTo>
                        <a:pt x="288" y="392"/>
                      </a:lnTo>
                      <a:lnTo>
                        <a:pt x="298" y="383"/>
                      </a:lnTo>
                      <a:lnTo>
                        <a:pt x="287" y="370"/>
                      </a:lnTo>
                      <a:lnTo>
                        <a:pt x="235" y="380"/>
                      </a:lnTo>
                      <a:lnTo>
                        <a:pt x="225" y="367"/>
                      </a:lnTo>
                      <a:lnTo>
                        <a:pt x="220" y="341"/>
                      </a:lnTo>
                      <a:lnTo>
                        <a:pt x="212" y="331"/>
                      </a:lnTo>
                      <a:lnTo>
                        <a:pt x="209" y="318"/>
                      </a:lnTo>
                      <a:lnTo>
                        <a:pt x="209" y="299"/>
                      </a:lnTo>
                      <a:lnTo>
                        <a:pt x="207" y="287"/>
                      </a:lnTo>
                      <a:lnTo>
                        <a:pt x="183" y="281"/>
                      </a:lnTo>
                      <a:lnTo>
                        <a:pt x="198" y="215"/>
                      </a:lnTo>
                      <a:lnTo>
                        <a:pt x="187" y="192"/>
                      </a:lnTo>
                      <a:lnTo>
                        <a:pt x="191" y="129"/>
                      </a:lnTo>
                      <a:lnTo>
                        <a:pt x="16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783320" y="3931200"/>
                  <a:ext cx="185400" cy="567720"/>
                </a:xfrm>
                <a:custGeom>
                  <a:avLst/>
                  <a:gdLst/>
                  <a:ahLst/>
                  <a:rect l="l" t="t" r="r" b="b"/>
                  <a:pathLst>
                    <a:path w="239" h="782">
                      <a:moveTo>
                        <a:pt x="227" y="0"/>
                      </a:moveTo>
                      <a:lnTo>
                        <a:pt x="239" y="36"/>
                      </a:lnTo>
                      <a:lnTo>
                        <a:pt x="88" y="403"/>
                      </a:lnTo>
                      <a:lnTo>
                        <a:pt x="80" y="666"/>
                      </a:lnTo>
                      <a:lnTo>
                        <a:pt x="139" y="768"/>
                      </a:lnTo>
                      <a:lnTo>
                        <a:pt x="0" y="782"/>
                      </a:lnTo>
                      <a:lnTo>
                        <a:pt x="0" y="591"/>
                      </a:lnTo>
                      <a:lnTo>
                        <a:pt x="59" y="307"/>
                      </a:lnTo>
                      <a:lnTo>
                        <a:pt x="88" y="210"/>
                      </a:lnTo>
                      <a:lnTo>
                        <a:pt x="124" y="172"/>
                      </a:lnTo>
                      <a:lnTo>
                        <a:pt x="107" y="125"/>
                      </a:lnTo>
                      <a:lnTo>
                        <a:pt x="2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781880" y="4025520"/>
                  <a:ext cx="98280" cy="359280"/>
                </a:xfrm>
                <a:custGeom>
                  <a:avLst/>
                  <a:gdLst/>
                  <a:ahLst/>
                  <a:rect l="l" t="t" r="r" b="b"/>
                  <a:pathLst>
                    <a:path w="127" h="497">
                      <a:moveTo>
                        <a:pt x="108" y="0"/>
                      </a:moveTo>
                      <a:lnTo>
                        <a:pt x="127" y="46"/>
                      </a:lnTo>
                      <a:lnTo>
                        <a:pt x="100" y="80"/>
                      </a:lnTo>
                      <a:lnTo>
                        <a:pt x="33" y="481"/>
                      </a:lnTo>
                      <a:lnTo>
                        <a:pt x="9" y="497"/>
                      </a:lnTo>
                      <a:lnTo>
                        <a:pt x="0" y="465"/>
                      </a:lnTo>
                      <a:lnTo>
                        <a:pt x="61" y="180"/>
                      </a:lnTo>
                      <a:lnTo>
                        <a:pt x="72" y="142"/>
                      </a:lnTo>
                      <a:lnTo>
                        <a:pt x="92" y="80"/>
                      </a:lnTo>
                      <a:lnTo>
                        <a:pt x="90" y="55"/>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575F8444-8FC4-4A7A-A7C1-4882D4C057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yeáu toá xaõ hoäi (Social Factors)</a:t>
            </a:r>
            <a:endParaRPr b="1" i="1" lang="en-US" sz="3400" spc="-1" strike="noStrike">
              <a:solidFill>
                <a:srgbClr val="ffff00"/>
              </a:solidFill>
              <a:latin typeface="VNI-Helve"/>
            </a:endParaRPr>
          </a:p>
        </p:txBody>
      </p:sp>
      <p:sp>
        <p:nvSpPr>
          <p:cNvPr id="153"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soáng (Living standard)</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ong caùch soáng (life style)</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Xu höôùng tieâu duøng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ëc ñieåm daân soá</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æ leä taêng daân soá/Dòch chuyeån daân soá/Di daâ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ëc ñieåm vaên hoùa</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Vai troø phuï nöõ trong xaõ hoäi</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1F267C1C-322E-4988-9678-5D96B1A6D3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yeáu toá xaõ hoäi (Social Factors)</a:t>
            </a:r>
            <a:endParaRPr b="1" i="1" lang="en-US" sz="3400" spc="-1" strike="noStrike">
              <a:solidFill>
                <a:srgbClr val="ffff00"/>
              </a:solidFill>
              <a:latin typeface="VNI-Helve"/>
            </a:endParaRPr>
          </a:p>
        </p:txBody>
      </p:sp>
      <p:sp>
        <p:nvSpPr>
          <p:cNvPr id="155" name=""/>
          <p:cNvSpPr/>
          <p:nvPr/>
        </p:nvSpPr>
        <p:spPr>
          <a:xfrm>
            <a:off x="3646440" y="1676520"/>
            <a:ext cx="1542960" cy="56520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NI-Helve"/>
              </a:rPr>
              <a:t>Soá phuï nöõ ñöôïc ñaøo taïo ÑH taêng</a:t>
            </a:r>
            <a:endParaRPr b="0" lang="en-US" sz="1300" spc="-1" strike="noStrike">
              <a:solidFill>
                <a:srgbClr val="000000"/>
              </a:solidFill>
              <a:latin typeface="Times New Roman"/>
            </a:endParaRPr>
          </a:p>
        </p:txBody>
      </p:sp>
      <p:sp>
        <p:nvSpPr>
          <p:cNvPr id="156" name=""/>
          <p:cNvSpPr/>
          <p:nvPr/>
        </p:nvSpPr>
        <p:spPr>
          <a:xfrm>
            <a:off x="3276720" y="2882880"/>
            <a:ext cx="2255760" cy="698400"/>
          </a:xfrm>
          <a:prstGeom prst="rect">
            <a:avLst/>
          </a:prstGeom>
          <a:solidFill>
            <a:srgbClr val="ffff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VNI-Helve"/>
              </a:rPr>
              <a:t>Quan ñieåm cuûa phuï nöõ vaø quan ñieåm veà phuï nöõ thay ñoåi</a:t>
            </a:r>
            <a:endParaRPr b="0" lang="en-US" sz="1300" spc="-1" strike="noStrike">
              <a:solidFill>
                <a:srgbClr val="000000"/>
              </a:solidFill>
              <a:latin typeface="Times New Roman"/>
            </a:endParaRPr>
          </a:p>
        </p:txBody>
      </p:sp>
      <p:sp>
        <p:nvSpPr>
          <p:cNvPr id="157" name=""/>
          <p:cNvSpPr/>
          <p:nvPr/>
        </p:nvSpPr>
        <p:spPr>
          <a:xfrm>
            <a:off x="3646440" y="4011480"/>
            <a:ext cx="1542960" cy="75888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NI-Helve"/>
              </a:rPr>
              <a:t>Chaêm soùc söùc khoûe vaø laøm ñeïp  nhieàu hôn</a:t>
            </a:r>
            <a:endParaRPr b="0" lang="en-US" sz="1300" spc="-1" strike="noStrike">
              <a:solidFill>
                <a:srgbClr val="000000"/>
              </a:solidFill>
              <a:latin typeface="Times New Roman"/>
            </a:endParaRPr>
          </a:p>
        </p:txBody>
      </p:sp>
      <p:sp>
        <p:nvSpPr>
          <p:cNvPr id="158" name=""/>
          <p:cNvSpPr/>
          <p:nvPr/>
        </p:nvSpPr>
        <p:spPr>
          <a:xfrm>
            <a:off x="5533920" y="2155680"/>
            <a:ext cx="1781280" cy="663840"/>
          </a:xfrm>
          <a:prstGeom prst="rect">
            <a:avLst/>
          </a:prstGeom>
          <a:solidFill>
            <a:srgbClr val="99cc00"/>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NI-Helve"/>
              </a:rPr>
              <a:t>Moái quan taâm ñeán coâng vieäc vaø söï nghieäp taêng</a:t>
            </a:r>
            <a:endParaRPr b="0" lang="en-US" sz="1300" spc="-1" strike="noStrike">
              <a:solidFill>
                <a:srgbClr val="000000"/>
              </a:solidFill>
              <a:latin typeface="Times New Roman"/>
            </a:endParaRPr>
          </a:p>
        </p:txBody>
      </p:sp>
      <p:sp>
        <p:nvSpPr>
          <p:cNvPr id="159" name=""/>
          <p:cNvSpPr/>
          <p:nvPr/>
        </p:nvSpPr>
        <p:spPr>
          <a:xfrm>
            <a:off x="5653080" y="3527280"/>
            <a:ext cx="1542960" cy="78588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NI-Helve"/>
              </a:rPr>
              <a:t>Thôøi gian daønh cho coâng vieäc gia ñình ít hôn</a:t>
            </a:r>
            <a:endParaRPr b="0" lang="en-US" sz="1300" spc="-1" strike="noStrike">
              <a:solidFill>
                <a:srgbClr val="000000"/>
              </a:solidFill>
              <a:latin typeface="Times New Roman"/>
            </a:endParaRPr>
          </a:p>
        </p:txBody>
      </p:sp>
      <p:sp>
        <p:nvSpPr>
          <p:cNvPr id="160" name=""/>
          <p:cNvSpPr/>
          <p:nvPr/>
        </p:nvSpPr>
        <p:spPr>
          <a:xfrm>
            <a:off x="1474920" y="2236680"/>
            <a:ext cx="1542960" cy="565200"/>
          </a:xfrm>
          <a:prstGeom prst="rect">
            <a:avLst/>
          </a:prstGeom>
          <a:solidFill>
            <a:srgbClr val="99cc00"/>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NI-Helve"/>
              </a:rPr>
              <a:t>Löông cao hôn</a:t>
            </a:r>
            <a:endParaRPr b="0" lang="en-US" sz="1300" spc="-1" strike="noStrike">
              <a:solidFill>
                <a:srgbClr val="000000"/>
              </a:solidFill>
              <a:latin typeface="Times New Roman"/>
            </a:endParaRPr>
          </a:p>
        </p:txBody>
      </p:sp>
      <p:sp>
        <p:nvSpPr>
          <p:cNvPr id="161" name=""/>
          <p:cNvSpPr/>
          <p:nvPr/>
        </p:nvSpPr>
        <p:spPr>
          <a:xfrm>
            <a:off x="1474920" y="3527280"/>
            <a:ext cx="1542960" cy="565200"/>
          </a:xfrm>
          <a:prstGeom prst="rect">
            <a:avLst/>
          </a:prstGeom>
          <a:solidFill>
            <a:srgbClr val="99cc00"/>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NI-Helve"/>
              </a:rPr>
              <a:t>Nhu caàu theå hieän mình cao hôn</a:t>
            </a:r>
            <a:endParaRPr b="0" lang="en-US" sz="1300" spc="-1" strike="noStrike">
              <a:solidFill>
                <a:srgbClr val="000000"/>
              </a:solidFill>
              <a:latin typeface="Times New Roman"/>
            </a:endParaRPr>
          </a:p>
        </p:txBody>
      </p:sp>
      <p:sp>
        <p:nvSpPr>
          <p:cNvPr id="162" name=""/>
          <p:cNvSpPr/>
          <p:nvPr/>
        </p:nvSpPr>
        <p:spPr>
          <a:xfrm>
            <a:off x="3646440" y="5462640"/>
            <a:ext cx="1542960" cy="565200"/>
          </a:xfrm>
          <a:prstGeom prst="rect">
            <a:avLst/>
          </a:prstGeom>
          <a:solidFill>
            <a:srgbClr val="00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VNI-Helve"/>
              </a:rPr>
              <a:t>???</a:t>
            </a:r>
            <a:endParaRPr b="0" lang="en-US" sz="2600" spc="-1" strike="noStrike">
              <a:solidFill>
                <a:srgbClr val="000000"/>
              </a:solidFill>
              <a:latin typeface="Times New Roman"/>
            </a:endParaRPr>
          </a:p>
        </p:txBody>
      </p:sp>
      <p:sp>
        <p:nvSpPr>
          <p:cNvPr id="163" name=""/>
          <p:cNvSpPr/>
          <p:nvPr/>
        </p:nvSpPr>
        <p:spPr>
          <a:xfrm flipV="1">
            <a:off x="4346640" y="2236320"/>
            <a:ext cx="0" cy="64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343400" y="3581280"/>
            <a:ext cx="3240" cy="43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H="1" flipV="1">
            <a:off x="3039840" y="2479320"/>
            <a:ext cx="617400" cy="41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5016960" y="2475000"/>
            <a:ext cx="462600" cy="37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a:off x="3039840" y="3581280"/>
            <a:ext cx="541080" cy="26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029200" y="3581280"/>
            <a:ext cx="581040" cy="34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4267080" y="4898880"/>
            <a:ext cx="236520" cy="482760"/>
          </a:xfrm>
          <a:prstGeom prst="downArrow">
            <a:avLst>
              <a:gd name="adj1" fmla="val 50000"/>
              <a:gd name="adj2" fmla="val 5102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616040" y="4898880"/>
            <a:ext cx="5343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32867E9-B163-4201-9199-EB21D15DFD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yeáu toá coâng ngheä </a:t>
            </a:r>
            <a:br>
              <a:rPr sz="3400"/>
            </a:br>
            <a:r>
              <a:rPr b="1" i="1" lang="en-US" sz="3400" spc="-1" strike="noStrike">
                <a:solidFill>
                  <a:srgbClr val="ffff00"/>
                </a:solidFill>
                <a:latin typeface="VNI-Helve"/>
              </a:rPr>
              <a:t>(Technology Factors) </a:t>
            </a:r>
            <a:endParaRPr b="1" i="1" lang="en-US" sz="3400" spc="-1" strike="noStrike">
              <a:solidFill>
                <a:srgbClr val="ffff00"/>
              </a:solidFill>
              <a:latin typeface="VNI-Helve"/>
            </a:endParaRPr>
          </a:p>
        </p:txBody>
      </p:sp>
      <p:sp>
        <p:nvSpPr>
          <p:cNvPr id="172"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thaønh töïu khoa hoïc</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Xu höôùng coâng ngheä/Toác ñoä phaùt trieån cuûa coâng ngheä</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uyeån giao coâng ngheä</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ính saùch ñaàu tö cho nghieân cöùu vaø phaùt trieån (R&amp;D)</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 phí cho nghieân cöùu vaø phaùt trieån</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ính saùch baûo veä baûn quyeàn</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qui ñònh ñoái vôùi saûn phaåm</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73072299-8176-4B06-BB74-2DD88B42FF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yeáu toá coâng ngheä </a:t>
            </a:r>
            <a:br>
              <a:rPr sz="3400"/>
            </a:br>
            <a:r>
              <a:rPr b="1" i="1" lang="en-US" sz="3400" spc="-1" strike="noStrike">
                <a:solidFill>
                  <a:srgbClr val="ffff00"/>
                </a:solidFill>
                <a:latin typeface="VNI-Helve"/>
              </a:rPr>
              <a:t>(Technology Factors) </a:t>
            </a:r>
            <a:endParaRPr b="1" i="1" lang="en-US" sz="3400" spc="-1" strike="noStrike">
              <a:solidFill>
                <a:srgbClr val="ffff00"/>
              </a:solidFill>
              <a:latin typeface="VNI-Helve"/>
            </a:endParaRPr>
          </a:p>
        </p:txBody>
      </p:sp>
      <p:sp>
        <p:nvSpPr>
          <p:cNvPr id="174" name=""/>
          <p:cNvSpPr/>
          <p:nvPr/>
        </p:nvSpPr>
        <p:spPr>
          <a:xfrm flipV="1">
            <a:off x="2293920" y="2058480"/>
            <a:ext cx="0" cy="241956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293920" y="4478400"/>
            <a:ext cx="4749840" cy="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684680" y="2057400"/>
            <a:ext cx="1425600" cy="322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NI-Helve"/>
              </a:rPr>
              <a:t>Coâng ngheä B</a:t>
            </a:r>
            <a:endParaRPr b="0" lang="en-US" sz="1200" spc="-1" strike="noStrike">
              <a:solidFill>
                <a:srgbClr val="000000"/>
              </a:solidFill>
              <a:latin typeface="Times New Roman"/>
            </a:endParaRPr>
          </a:p>
        </p:txBody>
      </p:sp>
      <p:sp>
        <p:nvSpPr>
          <p:cNvPr id="177" name=""/>
          <p:cNvSpPr/>
          <p:nvPr/>
        </p:nvSpPr>
        <p:spPr>
          <a:xfrm>
            <a:off x="3189240" y="2946240"/>
            <a:ext cx="1424160" cy="322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NI-Helve"/>
              </a:rPr>
              <a:t>Coâng ngheä A</a:t>
            </a:r>
            <a:endParaRPr b="0" lang="en-US" sz="1200" spc="-1" strike="noStrike">
              <a:solidFill>
                <a:srgbClr val="000000"/>
              </a:solidFill>
              <a:latin typeface="Times New Roman"/>
            </a:endParaRPr>
          </a:p>
        </p:txBody>
      </p:sp>
      <p:sp>
        <p:nvSpPr>
          <p:cNvPr id="178" name=""/>
          <p:cNvSpPr/>
          <p:nvPr/>
        </p:nvSpPr>
        <p:spPr>
          <a:xfrm>
            <a:off x="5381640" y="4719600"/>
            <a:ext cx="1781280" cy="56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NI-Helve"/>
              </a:rPr>
              <a:t>Noã löïc nghieân cöùu phaùt trieån coâng nghieäp</a:t>
            </a:r>
            <a:endParaRPr b="0" lang="en-US" sz="1200" spc="-1" strike="noStrike">
              <a:solidFill>
                <a:srgbClr val="000000"/>
              </a:solidFill>
              <a:latin typeface="Times New Roman"/>
            </a:endParaRPr>
          </a:p>
        </p:txBody>
      </p:sp>
      <p:sp>
        <p:nvSpPr>
          <p:cNvPr id="179" name=""/>
          <p:cNvSpPr/>
          <p:nvPr/>
        </p:nvSpPr>
        <p:spPr>
          <a:xfrm>
            <a:off x="1411200" y="2787480"/>
            <a:ext cx="901800" cy="1613160"/>
          </a:xfrm>
          <a:prstGeom prst="rect">
            <a:avLst/>
          </a:prstGeom>
          <a:noFill/>
          <a:ln w="0">
            <a:noFill/>
          </a:ln>
        </p:spPr>
        <p:style>
          <a:lnRef idx="0"/>
          <a:fillRef idx="0"/>
          <a:effectRef idx="0"/>
          <a:fontRef idx="minor"/>
        </p:style>
        <p:txBody>
          <a:bodyPr lIns="90000" rIns="90000" tIns="46800" bIns="46800" anchor="t"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NI-Helve"/>
              </a:rPr>
              <a:t>Hoaøn thaønh nghieân cöùu vaø phaùt trieån hoaëc tieán boä coâng nghieäp</a:t>
            </a:r>
            <a:endParaRPr b="0" lang="en-US" sz="1200" spc="-1" strike="noStrike">
              <a:solidFill>
                <a:srgbClr val="000000"/>
              </a:solidFill>
              <a:latin typeface="Times New Roman"/>
            </a:endParaRPr>
          </a:p>
        </p:txBody>
      </p:sp>
      <p:sp>
        <p:nvSpPr>
          <p:cNvPr id="180" name=""/>
          <p:cNvSpPr/>
          <p:nvPr/>
        </p:nvSpPr>
        <p:spPr>
          <a:xfrm>
            <a:off x="4613400" y="2457360"/>
            <a:ext cx="761760" cy="1086120"/>
          </a:xfrm>
          <a:custGeom>
            <a:avLst/>
            <a:gdLst/>
            <a:ahLst/>
            <a:rect l="l" t="t" r="r" b="b"/>
            <a:pathLst>
              <a:path w="1200" h="1620">
                <a:moveTo>
                  <a:pt x="1200" y="0"/>
                </a:moveTo>
                <a:cubicBezTo>
                  <a:pt x="1175" y="5"/>
                  <a:pt x="1149" y="6"/>
                  <a:pt x="1125" y="15"/>
                </a:cubicBezTo>
                <a:cubicBezTo>
                  <a:pt x="1061" y="39"/>
                  <a:pt x="1094" y="46"/>
                  <a:pt x="1050" y="90"/>
                </a:cubicBezTo>
                <a:cubicBezTo>
                  <a:pt x="1037" y="103"/>
                  <a:pt x="1020" y="110"/>
                  <a:pt x="1005" y="120"/>
                </a:cubicBezTo>
                <a:cubicBezTo>
                  <a:pt x="955" y="195"/>
                  <a:pt x="905" y="270"/>
                  <a:pt x="855" y="345"/>
                </a:cubicBezTo>
                <a:cubicBezTo>
                  <a:pt x="828" y="386"/>
                  <a:pt x="812" y="475"/>
                  <a:pt x="795" y="525"/>
                </a:cubicBezTo>
                <a:cubicBezTo>
                  <a:pt x="785" y="555"/>
                  <a:pt x="770" y="584"/>
                  <a:pt x="765" y="615"/>
                </a:cubicBezTo>
                <a:cubicBezTo>
                  <a:pt x="734" y="802"/>
                  <a:pt x="710" y="987"/>
                  <a:pt x="660" y="1170"/>
                </a:cubicBezTo>
                <a:cubicBezTo>
                  <a:pt x="649" y="1210"/>
                  <a:pt x="646" y="1252"/>
                  <a:pt x="630" y="1290"/>
                </a:cubicBezTo>
                <a:cubicBezTo>
                  <a:pt x="616" y="1323"/>
                  <a:pt x="581" y="1346"/>
                  <a:pt x="570" y="1380"/>
                </a:cubicBezTo>
                <a:cubicBezTo>
                  <a:pt x="558" y="1415"/>
                  <a:pt x="508" y="1493"/>
                  <a:pt x="480" y="1515"/>
                </a:cubicBezTo>
                <a:cubicBezTo>
                  <a:pt x="468" y="1525"/>
                  <a:pt x="449" y="1523"/>
                  <a:pt x="435" y="1530"/>
                </a:cubicBezTo>
                <a:cubicBezTo>
                  <a:pt x="419" y="1538"/>
                  <a:pt x="406" y="1553"/>
                  <a:pt x="390" y="1560"/>
                </a:cubicBezTo>
                <a:cubicBezTo>
                  <a:pt x="268" y="1614"/>
                  <a:pt x="131" y="1620"/>
                  <a:pt x="0" y="162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306600" y="3314880"/>
            <a:ext cx="963720" cy="922320"/>
          </a:xfrm>
          <a:custGeom>
            <a:avLst/>
            <a:gdLst/>
            <a:ahLst/>
            <a:rect l="l" t="t" r="r" b="b"/>
            <a:pathLst>
              <a:path w="1200" h="1620">
                <a:moveTo>
                  <a:pt x="1200" y="0"/>
                </a:moveTo>
                <a:cubicBezTo>
                  <a:pt x="1175" y="5"/>
                  <a:pt x="1149" y="6"/>
                  <a:pt x="1125" y="15"/>
                </a:cubicBezTo>
                <a:cubicBezTo>
                  <a:pt x="1061" y="39"/>
                  <a:pt x="1094" y="46"/>
                  <a:pt x="1050" y="90"/>
                </a:cubicBezTo>
                <a:cubicBezTo>
                  <a:pt x="1037" y="103"/>
                  <a:pt x="1020" y="110"/>
                  <a:pt x="1005" y="120"/>
                </a:cubicBezTo>
                <a:cubicBezTo>
                  <a:pt x="955" y="195"/>
                  <a:pt x="905" y="270"/>
                  <a:pt x="855" y="345"/>
                </a:cubicBezTo>
                <a:cubicBezTo>
                  <a:pt x="828" y="386"/>
                  <a:pt x="812" y="475"/>
                  <a:pt x="795" y="525"/>
                </a:cubicBezTo>
                <a:cubicBezTo>
                  <a:pt x="785" y="555"/>
                  <a:pt x="770" y="584"/>
                  <a:pt x="765" y="615"/>
                </a:cubicBezTo>
                <a:cubicBezTo>
                  <a:pt x="734" y="802"/>
                  <a:pt x="710" y="987"/>
                  <a:pt x="660" y="1170"/>
                </a:cubicBezTo>
                <a:cubicBezTo>
                  <a:pt x="649" y="1210"/>
                  <a:pt x="646" y="1252"/>
                  <a:pt x="630" y="1290"/>
                </a:cubicBezTo>
                <a:cubicBezTo>
                  <a:pt x="616" y="1323"/>
                  <a:pt x="581" y="1346"/>
                  <a:pt x="570" y="1380"/>
                </a:cubicBezTo>
                <a:cubicBezTo>
                  <a:pt x="558" y="1415"/>
                  <a:pt x="508" y="1493"/>
                  <a:pt x="480" y="1515"/>
                </a:cubicBezTo>
                <a:cubicBezTo>
                  <a:pt x="468" y="1525"/>
                  <a:pt x="449" y="1523"/>
                  <a:pt x="435" y="1530"/>
                </a:cubicBezTo>
                <a:cubicBezTo>
                  <a:pt x="419" y="1538"/>
                  <a:pt x="406" y="1553"/>
                  <a:pt x="390" y="1560"/>
                </a:cubicBezTo>
                <a:cubicBezTo>
                  <a:pt x="268" y="1614"/>
                  <a:pt x="131" y="1620"/>
                  <a:pt x="0" y="162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033280" y="5516640"/>
            <a:ext cx="526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VNI-Helve"/>
              </a:rPr>
              <a:t>Chu kyø soáng cuûa coâng ngheä</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4C44501-AFE0-4C03-AEFB-EEE2C59B10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yeáu toá coâng ngheä </a:t>
            </a:r>
            <a:br>
              <a:rPr sz="3400"/>
            </a:br>
            <a:r>
              <a:rPr b="1" i="1" lang="en-US" sz="3400" spc="-1" strike="noStrike">
                <a:solidFill>
                  <a:srgbClr val="ffff00"/>
                </a:solidFill>
                <a:latin typeface="VNI-Helve"/>
              </a:rPr>
              <a:t>(Technology Factors) </a:t>
            </a:r>
            <a:endParaRPr b="1" i="1" lang="en-US" sz="3400" spc="-1" strike="noStrike">
              <a:solidFill>
                <a:srgbClr val="ffff00"/>
              </a:solidFill>
              <a:latin typeface="VNI-Helve"/>
            </a:endParaRPr>
          </a:p>
        </p:txBody>
      </p:sp>
      <p:pic>
        <p:nvPicPr>
          <p:cNvPr id="184" name="" descr=""/>
          <p:cNvPicPr/>
          <p:nvPr/>
        </p:nvPicPr>
        <p:blipFill>
          <a:blip r:embed="rId1"/>
          <a:stretch/>
        </p:blipFill>
        <p:spPr>
          <a:xfrm>
            <a:off x="609480" y="1676520"/>
            <a:ext cx="7925040" cy="4714920"/>
          </a:xfrm>
          <a:prstGeom prst="rect">
            <a:avLst/>
          </a:prstGeom>
          <a:ln w="0">
            <a:noFill/>
          </a:ln>
        </p:spPr>
      </p:pic>
      <p:sp>
        <p:nvSpPr>
          <p:cNvPr id="185" name=""/>
          <p:cNvSpPr/>
          <p:nvPr/>
        </p:nvSpPr>
        <p:spPr>
          <a:xfrm>
            <a:off x="674640" y="6361200"/>
            <a:ext cx="1701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ource: John Vu, Boeing</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56FB73CA-3C19-41AD-AA4E-28A7E0B444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yeáu toá töï nhieân (Natural Factors) </a:t>
            </a:r>
            <a:endParaRPr b="1" i="1" lang="en-US" sz="3400" spc="-1" strike="noStrike">
              <a:solidFill>
                <a:srgbClr val="ffff00"/>
              </a:solidFill>
              <a:latin typeface="VNI-Helve"/>
            </a:endParaRPr>
          </a:p>
        </p:txBody>
      </p:sp>
      <p:sp>
        <p:nvSpPr>
          <p:cNvPr id="187"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òa lyù</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oâi tröôøng</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ôïng</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øi nguyeân thieân nhieâ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77188922-2A2D-4A80-AB26-FE41237E4A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MOÂI TRÖÔØNG TAÙC NGHIEÄP</a:t>
            </a:r>
            <a:br>
              <a:rPr sz="3400"/>
            </a:br>
            <a:r>
              <a:rPr b="1" i="1" lang="en-US" sz="3400" spc="-1" strike="noStrike">
                <a:solidFill>
                  <a:srgbClr val="ffff00"/>
                </a:solidFill>
                <a:latin typeface="VNI-Helve"/>
              </a:rPr>
              <a:t>(Moâi tröôøng vi moâ / Taùc löïc caïnh tranh)</a:t>
            </a:r>
            <a:endParaRPr b="1" i="1" lang="en-US" sz="3400" spc="-1" strike="noStrike">
              <a:solidFill>
                <a:srgbClr val="ffff00"/>
              </a:solidFill>
              <a:latin typeface="VNI-Helve"/>
            </a:endParaRPr>
          </a:p>
        </p:txBody>
      </p:sp>
      <p:sp>
        <p:nvSpPr>
          <p:cNvPr id="18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Helve"/>
              </a:rPr>
              <a:t>Ngaønh coâng nghieäp</a:t>
            </a:r>
            <a:endParaRPr b="0" lang="en-US" sz="3200" spc="-1" strike="noStrike">
              <a:solidFill>
                <a:srgbClr val="000000"/>
              </a:solidFill>
              <a:latin typeface="VNI-Helv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Helve"/>
            </a:endParaRPr>
          </a:p>
          <a:p>
            <a:pPr lvl="1" marL="743040" indent="-28584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ònh nghóa: ngaønh coâng nghieäp laø moät nhoùm coâng ty saûn xuaát caùc saûn phaåm töông töï/ thay theá gaàn guõi cho nhau</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0F82F22D-C661-4F60-BF45-D59520C6E4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Moâ hình Naêm Taùc Löïc – Five Forces Model</a:t>
            </a:r>
            <a:br>
              <a:rPr sz="3400"/>
            </a:br>
            <a:r>
              <a:rPr b="1" i="1" lang="en-US" sz="3400" spc="-1" strike="noStrike">
                <a:solidFill>
                  <a:srgbClr val="ffff00"/>
                </a:solidFill>
                <a:latin typeface="VNI-Helve"/>
              </a:rPr>
              <a:t>(Micheal E. Porter)</a:t>
            </a:r>
            <a:endParaRPr b="1" i="1" lang="en-US" sz="3400" spc="-1" strike="noStrike">
              <a:solidFill>
                <a:srgbClr val="ffff00"/>
              </a:solidFill>
              <a:latin typeface="VNI-Helve"/>
            </a:endParaRPr>
          </a:p>
        </p:txBody>
      </p:sp>
      <p:sp>
        <p:nvSpPr>
          <p:cNvPr id="191" name=""/>
          <p:cNvSpPr/>
          <p:nvPr/>
        </p:nvSpPr>
        <p:spPr>
          <a:xfrm>
            <a:off x="3557520" y="1468440"/>
            <a:ext cx="1427400" cy="565200"/>
          </a:xfrm>
          <a:prstGeom prst="rect">
            <a:avLst/>
          </a:prstGeom>
          <a:solidFill>
            <a:srgbClr val="33cccc"/>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Helve"/>
              </a:rPr>
              <a:t>Caùc ñoái thuû tieàm aån</a:t>
            </a:r>
            <a:endParaRPr b="0" lang="en-US" sz="1600" spc="-1" strike="noStrike">
              <a:solidFill>
                <a:srgbClr val="000000"/>
              </a:solidFill>
              <a:latin typeface="Times New Roman"/>
            </a:endParaRPr>
          </a:p>
        </p:txBody>
      </p:sp>
      <p:sp>
        <p:nvSpPr>
          <p:cNvPr id="192" name=""/>
          <p:cNvSpPr/>
          <p:nvPr/>
        </p:nvSpPr>
        <p:spPr>
          <a:xfrm>
            <a:off x="1066680" y="3726000"/>
            <a:ext cx="1062000" cy="564840"/>
          </a:xfrm>
          <a:prstGeom prst="rect">
            <a:avLst/>
          </a:prstGeom>
          <a:solidFill>
            <a:srgbClr val="33cccc"/>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Helve"/>
              </a:rPr>
              <a:t>Ngöôøi cung caáp</a:t>
            </a:r>
            <a:endParaRPr b="0" lang="en-US" sz="1600" spc="-1" strike="noStrike">
              <a:solidFill>
                <a:srgbClr val="000000"/>
              </a:solidFill>
              <a:latin typeface="Times New Roman"/>
            </a:endParaRPr>
          </a:p>
        </p:txBody>
      </p:sp>
      <p:sp>
        <p:nvSpPr>
          <p:cNvPr id="193" name=""/>
          <p:cNvSpPr/>
          <p:nvPr/>
        </p:nvSpPr>
        <p:spPr>
          <a:xfrm>
            <a:off x="6407280" y="3726000"/>
            <a:ext cx="984240" cy="564840"/>
          </a:xfrm>
          <a:prstGeom prst="rect">
            <a:avLst/>
          </a:prstGeom>
          <a:solidFill>
            <a:srgbClr val="33cccc"/>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Helve"/>
              </a:rPr>
              <a:t>Ngöôøi mua</a:t>
            </a:r>
            <a:endParaRPr b="0" lang="en-US" sz="1600" spc="-1" strike="noStrike">
              <a:solidFill>
                <a:srgbClr val="000000"/>
              </a:solidFill>
              <a:latin typeface="Times New Roman"/>
            </a:endParaRPr>
          </a:p>
        </p:txBody>
      </p:sp>
      <p:sp>
        <p:nvSpPr>
          <p:cNvPr id="194" name=""/>
          <p:cNvSpPr/>
          <p:nvPr/>
        </p:nvSpPr>
        <p:spPr>
          <a:xfrm>
            <a:off x="3556080" y="2919240"/>
            <a:ext cx="1546200" cy="2340000"/>
          </a:xfrm>
          <a:prstGeom prst="rect">
            <a:avLst/>
          </a:prstGeom>
          <a:solidFill>
            <a:srgbClr val="ffcc66"/>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Helve"/>
              </a:rPr>
              <a:t>Caùc coâng ty trong cuøng ngaønh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Helve"/>
              </a:rPr>
              <a:t>Möùc ñoä caïnh tranh giöõa caùc coâng ty trong cuøng ngaønh coâng nghieäp</a:t>
            </a:r>
            <a:endParaRPr b="0" lang="en-US" sz="1200" spc="-1" strike="noStrike">
              <a:solidFill>
                <a:srgbClr val="000000"/>
              </a:solidFill>
              <a:latin typeface="Times New Roman"/>
            </a:endParaRPr>
          </a:p>
        </p:txBody>
      </p:sp>
      <p:sp>
        <p:nvSpPr>
          <p:cNvPr id="195" name=""/>
          <p:cNvSpPr/>
          <p:nvPr/>
        </p:nvSpPr>
        <p:spPr>
          <a:xfrm flipV="1">
            <a:off x="4060800" y="3733200"/>
            <a:ext cx="476280" cy="484200"/>
          </a:xfrm>
          <a:custGeom>
            <a:avLst/>
            <a:gdLst>
              <a:gd name="textAreaLeft" fmla="*/ 0 w 476280"/>
              <a:gd name="textAreaRight" fmla="*/ 476640 w 476280"/>
              <a:gd name="textAreaTop" fmla="*/ -360 h 484200"/>
              <a:gd name="textAreaBottom" fmla="*/ 484200 h 484200"/>
            </a:gdLst>
            <a:ahLst/>
            <a:rect l="textAreaLeft" t="textAreaTop" r="textAreaRight" b="textAreaBottom"/>
            <a:pathLst>
              <a:path w="21600" h="21600">
                <a:moveTo>
                  <a:pt x="2607" y="3763"/>
                </a:moveTo>
                <a:arcTo wR="-10800" hR="-10800" stAng="-8360406" swAng="-16241597"/>
                <a:lnTo>
                  <a:pt x="3863" y="19077"/>
                </a:lnTo>
                <a:arcTo wR="10800" hR="10800" stAng="7797997" swAng="16241597"/>
                <a:lnTo>
                  <a:pt x="21041" y="19596"/>
                </a:lnTo>
                <a:lnTo>
                  <a:pt x="17234" y="19885"/>
                </a:lnTo>
                <a:lnTo>
                  <a:pt x="16945" y="16078"/>
                </a:lnTo>
                <a:close/>
              </a:path>
            </a:pathLst>
          </a:custGeom>
          <a:solidFill>
            <a:srgbClr val="ffffff"/>
          </a:solidFill>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270320" y="2033640"/>
            <a:ext cx="0" cy="885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308480" y="2193840"/>
            <a:ext cx="1544760" cy="484200"/>
          </a:xfrm>
          <a:prstGeom prst="rect">
            <a:avLst/>
          </a:prstGeom>
          <a:solidFill>
            <a:srgbClr val="ffffff"/>
          </a:solidFill>
          <a:ln w="0">
            <a:noFill/>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VNI-Helve"/>
              </a:rPr>
              <a:t>Nguy cô coù caùc ñoái thuû caïnh tranh môùi</a:t>
            </a:r>
            <a:endParaRPr b="0" lang="en-US" sz="1200" spc="-1" strike="noStrike">
              <a:solidFill>
                <a:srgbClr val="000000"/>
              </a:solidFill>
              <a:latin typeface="Times New Roman"/>
            </a:endParaRPr>
          </a:p>
        </p:txBody>
      </p:sp>
      <p:sp>
        <p:nvSpPr>
          <p:cNvPr id="198" name=""/>
          <p:cNvSpPr/>
          <p:nvPr/>
        </p:nvSpPr>
        <p:spPr>
          <a:xfrm>
            <a:off x="4308480" y="5410080"/>
            <a:ext cx="1749600" cy="427320"/>
          </a:xfrm>
          <a:prstGeom prst="rect">
            <a:avLst/>
          </a:prstGeom>
          <a:solidFill>
            <a:srgbClr val="ffffff"/>
          </a:solidFill>
          <a:ln w="0">
            <a:noFill/>
          </a:ln>
        </p:spPr>
        <p:style>
          <a:lnRef idx="0"/>
          <a:fillRef idx="0"/>
          <a:effectRef idx="0"/>
          <a:fontRef idx="minor"/>
        </p:style>
        <p:txBody>
          <a:bodyPr lIns="18000" rIns="18000" tIns="10800" bIns="10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VNI-Helve"/>
              </a:rPr>
              <a:t>Nguy cô do caùc saûn phaåm vaø dòch vuï thay theá</a:t>
            </a:r>
            <a:endParaRPr b="0" lang="en-US" sz="1200" spc="-1" strike="noStrike">
              <a:solidFill>
                <a:srgbClr val="000000"/>
              </a:solidFill>
              <a:latin typeface="Times New Roman"/>
            </a:endParaRPr>
          </a:p>
        </p:txBody>
      </p:sp>
      <p:sp>
        <p:nvSpPr>
          <p:cNvPr id="199" name=""/>
          <p:cNvSpPr/>
          <p:nvPr/>
        </p:nvSpPr>
        <p:spPr>
          <a:xfrm flipV="1">
            <a:off x="4270320" y="5258880"/>
            <a:ext cx="0" cy="806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133720" y="3968640"/>
            <a:ext cx="14238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H="1">
            <a:off x="5101920" y="3968640"/>
            <a:ext cx="13050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247840" y="3200400"/>
            <a:ext cx="1260360" cy="485640"/>
          </a:xfrm>
          <a:prstGeom prst="rect">
            <a:avLst/>
          </a:prstGeom>
          <a:noFill/>
          <a:ln w="0">
            <a:noFill/>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VNI-Helve"/>
              </a:rPr>
              <a:t>Khaû naêng thöông löôïngù cuûa ngöôøi cung caáp </a:t>
            </a:r>
            <a:endParaRPr b="0" lang="en-US" sz="1200" spc="-1" strike="noStrike">
              <a:solidFill>
                <a:srgbClr val="000000"/>
              </a:solidFill>
              <a:latin typeface="Times New Roman"/>
            </a:endParaRPr>
          </a:p>
        </p:txBody>
      </p:sp>
      <p:sp>
        <p:nvSpPr>
          <p:cNvPr id="203" name=""/>
          <p:cNvSpPr/>
          <p:nvPr/>
        </p:nvSpPr>
        <p:spPr>
          <a:xfrm>
            <a:off x="5219640" y="3276720"/>
            <a:ext cx="1187640" cy="463320"/>
          </a:xfrm>
          <a:prstGeom prst="rect">
            <a:avLst/>
          </a:prstGeom>
          <a:noFill/>
          <a:ln w="0">
            <a:noFill/>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VNI-Helve"/>
              </a:rPr>
              <a:t>Khaû naêng thöông löôïngù cuûa ngöôøi mua</a:t>
            </a:r>
            <a:endParaRPr b="0" lang="en-US" sz="1200" spc="-1" strike="noStrike">
              <a:solidFill>
                <a:srgbClr val="000000"/>
              </a:solidFill>
              <a:latin typeface="Times New Roman"/>
            </a:endParaRPr>
          </a:p>
        </p:txBody>
      </p:sp>
      <p:sp>
        <p:nvSpPr>
          <p:cNvPr id="204" name=""/>
          <p:cNvSpPr/>
          <p:nvPr/>
        </p:nvSpPr>
        <p:spPr>
          <a:xfrm>
            <a:off x="3581280" y="6019920"/>
            <a:ext cx="1427400" cy="565200"/>
          </a:xfrm>
          <a:prstGeom prst="rect">
            <a:avLst/>
          </a:prstGeom>
          <a:solidFill>
            <a:srgbClr val="33cccc"/>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Helve"/>
              </a:rPr>
              <a:t>Saûn phaåm thay theá</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834F5E8E-82D8-497F-B668-FA82060C80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ïnh tranh cuûa caùc coâng ty trong cuøng ngaønh coâng nghieäp</a:t>
            </a:r>
            <a:endParaRPr b="1" i="1" lang="en-US" sz="3400" spc="-1" strike="noStrike">
              <a:solidFill>
                <a:srgbClr val="ffff00"/>
              </a:solidFill>
              <a:latin typeface="VNI-Helve"/>
            </a:endParaRPr>
          </a:p>
        </p:txBody>
      </p:sp>
      <p:sp>
        <p:nvSpPr>
          <p:cNvPr id="206"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aïnh tranh </a:t>
            </a:r>
            <a:r>
              <a:rPr b="0" lang="en-US" sz="2400" spc="-1" strike="noStrike">
                <a:solidFill>
                  <a:srgbClr val="000000"/>
                </a:solidFill>
                <a:latin typeface="Wingdings"/>
                <a:ea typeface="Wingdings"/>
              </a:rPr>
              <a:t></a:t>
            </a:r>
            <a:r>
              <a:rPr b="0" lang="en-US" sz="2400" spc="-1" strike="noStrike">
                <a:solidFill>
                  <a:srgbClr val="000000"/>
                </a:solidFill>
                <a:latin typeface="VNI-Helve"/>
              </a:rPr>
              <a:t> vò theá toát</a:t>
            </a:r>
            <a:endParaRPr b="0" lang="en-US" sz="24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ình thöùc caïnh tranh: Giaù, quaûng caùo, saûn phaåm, dòch vuï, chaát löôïng, … </a:t>
            </a:r>
            <a:r>
              <a:rPr b="0" lang="en-US" sz="2400" spc="-1" strike="noStrike">
                <a:solidFill>
                  <a:srgbClr val="000000"/>
                </a:solidFill>
                <a:latin typeface="Wingdings"/>
                <a:ea typeface="Wingdings"/>
              </a:rPr>
              <a:t></a:t>
            </a:r>
            <a:r>
              <a:rPr b="0" lang="en-US" sz="2400" spc="-1" strike="noStrike">
                <a:solidFill>
                  <a:srgbClr val="000000"/>
                </a:solidFill>
                <a:latin typeface="VNI-Helve"/>
              </a:rPr>
              <a:t> thuyeát phuïc ngöôøi mua/khaùch haøng</a:t>
            </a:r>
            <a:endParaRPr b="0" lang="en-US" sz="24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aïnh tranh gay gaét phuï thuoäc vaøo:</a:t>
            </a:r>
            <a:endParaRPr b="0" lang="en-US" sz="24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Soá löôïng ñoái thuû</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oác ñoä taêng tröôûng cuûa ngaønh</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hi phí coá ñònh vaø chi phí löu kho</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Lôïi theá theo qui moâ</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Khaû naêng khaùc bieät hoùa saûn phaåm thaáp</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aùc ñoái thuû caïnh tranh ña daïng</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haùi ñoä caïnh tranh cuûa ñoái thuû</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Raøo caûn ruùt lui cao</a:t>
            </a:r>
            <a:endParaRPr b="0" lang="en-US" sz="2000" spc="-1" strike="noStrike">
              <a:solidFill>
                <a:srgbClr val="000000"/>
              </a:solidFill>
              <a:latin typeface="VNI-Helve"/>
            </a:endParaRPr>
          </a:p>
        </p:txBody>
      </p:sp>
      <p:sp>
        <p:nvSpPr>
          <p:cNvPr id="4" name="PlaceHolder 3"/>
          <p:cNvSpPr>
            <a:spLocks noGrp="1"/>
          </p:cNvSpPr>
          <p:nvPr>
            <p:ph type="sldNum" idx="3"/>
          </p:nvPr>
        </p:nvSpPr>
        <p:spPr/>
        <p:txBody>
          <a:bodyPr/>
          <a:p>
            <a:fld id="{0911A415-7A10-49CE-AAA8-26B4CEA0D3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Phaân tích ñoái thuû caïnh tranh </a:t>
            </a:r>
            <a:endParaRPr b="1" i="1" lang="en-US" sz="3400" spc="-1" strike="noStrike">
              <a:solidFill>
                <a:srgbClr val="ffff00"/>
              </a:solidFill>
              <a:latin typeface="VNI-Helve"/>
            </a:endParaRPr>
          </a:p>
        </p:txBody>
      </p:sp>
      <p:sp>
        <p:nvSpPr>
          <p:cNvPr id="208"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6000"/>
          </a:bodyPr>
          <a:p>
            <a:pPr marL="329040" indent="-3290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uïc tieâu töông lai</a:t>
            </a:r>
            <a:endParaRPr b="0" lang="en-US" sz="2800" spc="-1" strike="noStrike">
              <a:solidFill>
                <a:srgbClr val="000000"/>
              </a:solidFill>
              <a:latin typeface="VNI-Helve"/>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13160" indent="-2743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uïc tieâu cuûa coâng ty meï</a:t>
            </a:r>
            <a:endParaRPr b="0" lang="en-US" sz="2400" spc="-1" strike="noStrike">
              <a:solidFill>
                <a:srgbClr val="000000"/>
              </a:solidFill>
              <a:latin typeface="VNI-Helve"/>
            </a:endParaRPr>
          </a:p>
          <a:p>
            <a:pPr lvl="1" marL="71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13160" indent="-2743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uïc tieâu cuûa caùc ñôn vò kinh doanh/coâng ty con</a:t>
            </a:r>
            <a:endParaRPr b="0" lang="en-US" sz="2400" spc="-1" strike="noStrike">
              <a:solidFill>
                <a:srgbClr val="000000"/>
              </a:solidFill>
              <a:latin typeface="VNI-Helve"/>
            </a:endParaRPr>
          </a:p>
          <a:p>
            <a:pPr lvl="1" marL="71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13160" indent="-2743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aân tích danh muïc kinh doanh</a:t>
            </a:r>
            <a:endParaRPr b="0" lang="en-US" sz="2400" spc="-1" strike="noStrike">
              <a:solidFill>
                <a:srgbClr val="000000"/>
              </a:solidFill>
              <a:latin typeface="VNI-Helve"/>
            </a:endParaRPr>
          </a:p>
          <a:p>
            <a:pPr lvl="1" marL="71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13160" indent="-2743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aùc muïc tieâu quan troïng vaø öu tieân cuûa ñoái thuû caïnh tranh</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10BD3CC8-5E19-4E8E-8BB9-D52C02CE58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Noäi dung</a:t>
            </a:r>
            <a:endParaRPr b="1" i="1" lang="en-US" sz="3400" spc="-1" strike="noStrike">
              <a:solidFill>
                <a:srgbClr val="ffff00"/>
              </a:solidFill>
              <a:latin typeface="VNI-Helve"/>
            </a:endParaRPr>
          </a:p>
        </p:txBody>
      </p:sp>
      <p:sp>
        <p:nvSpPr>
          <p:cNvPr id="8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oâi tröôøng vó moâ</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hính trò – Phaùp lyù</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inh teá</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aõ hoäi</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oâng ngheä</a:t>
            </a: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oâi tröôøng taùc nghieäp</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aønh coâng nghieäp</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oâ hình Naêm Taùc Löïc</a:t>
            </a: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tích cô hoäi, nguy cô</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4EE50E1C-CE88-4005-9864-8ACAF97389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hieán löôïc hieän taïi </a:t>
            </a:r>
            <a:endParaRPr b="1" i="1" lang="en-US" sz="3400" spc="-1" strike="noStrike">
              <a:solidFill>
                <a:srgbClr val="ffff00"/>
              </a:solidFill>
              <a:latin typeface="VNI-Helve"/>
            </a:endParaRPr>
          </a:p>
        </p:txBody>
      </p:sp>
      <p:sp>
        <p:nvSpPr>
          <p:cNvPr id="210"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öõng chính saùch then choát / hoaït ñoäng quan troïng trong töøng hoaït ñoäng chöùc naêng</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öï phoái hôïp giöõa caùc boä phaän chöùc naêng</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öõng hoaït ñoäng ñaùng quan taâm cuûa ñoái thuû</a:t>
            </a:r>
            <a:endParaRPr b="0" lang="en-US" sz="2800" spc="-1" strike="noStrike">
              <a:solidFill>
                <a:srgbClr val="000000"/>
              </a:solidFill>
              <a:latin typeface="VNI-Helv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06C8ED2F-99D9-4F33-9438-7A56F856D9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Nhaän ñònh</a:t>
            </a:r>
            <a:endParaRPr b="1" i="1" lang="en-US" sz="3400" spc="-1" strike="noStrike">
              <a:solidFill>
                <a:srgbClr val="ffff00"/>
              </a:solidFill>
              <a:latin typeface="VNI-Helve"/>
            </a:endParaRPr>
          </a:p>
        </p:txBody>
      </p:sp>
      <p:sp>
        <p:nvSpPr>
          <p:cNvPr id="212"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oái thuû caïnh tranh töï ñaùnh giaù theá naøo veà hoï ?</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oái thuû caïnh tranh ñaùnh giaù caùc ñoái thuû khaùc nhö theá naøo? </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oái thuû caïnh tranh nhaän ñònh veà trieån voïng ngaønh?</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4EE5F40A-7204-464B-8443-5F2DE7F38B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Naêng löïc cuûa ñoái thuû caïnh tranh</a:t>
            </a:r>
            <a:endParaRPr b="1" i="1" lang="en-US" sz="3400" spc="-1" strike="noStrike">
              <a:solidFill>
                <a:srgbClr val="ffff00"/>
              </a:solidFill>
              <a:latin typeface="VNI-Helve"/>
            </a:endParaRPr>
          </a:p>
        </p:txBody>
      </p:sp>
      <p:sp>
        <p:nvSpPr>
          <p:cNvPr id="214" name="PlaceHolder 2"/>
          <p:cNvSpPr>
            <a:spLocks noGrp="1"/>
          </p:cNvSpPr>
          <p:nvPr>
            <p:ph/>
          </p:nvPr>
        </p:nvSpPr>
        <p:spPr>
          <a:xfrm>
            <a:off x="457200" y="1447920"/>
            <a:ext cx="8305920" cy="449568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aûn xuaát</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ieáp thò</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ghieân cöùu vaø phaùt trieån - R&amp;D</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guoàn nhaân löïc</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øi chính</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eä thoáng thoâng ti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oâng taùc quaûn lyù</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866C7748-111A-47FE-B143-14877E10DE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KHAÙCH HAØNG / NGÖÔØI MUA </a:t>
            </a:r>
            <a:endParaRPr b="1" i="1" lang="en-US" sz="3400" spc="-1" strike="noStrike">
              <a:solidFill>
                <a:srgbClr val="ffff00"/>
              </a:solidFill>
              <a:latin typeface="VNI-Helve"/>
            </a:endParaRPr>
          </a:p>
        </p:txBody>
      </p:sp>
      <p:sp>
        <p:nvSpPr>
          <p:cNvPr id="216" name="PlaceHolder 2"/>
          <p:cNvSpPr>
            <a:spLocks noGrp="1"/>
          </p:cNvSpPr>
          <p:nvPr>
            <p:ph/>
          </p:nvPr>
        </p:nvSpPr>
        <p:spPr>
          <a:xfrm>
            <a:off x="457200" y="1447920"/>
            <a:ext cx="8305920" cy="4495680"/>
          </a:xfrm>
          <a:prstGeom prst="rect">
            <a:avLst/>
          </a:prstGeom>
          <a:noFill/>
          <a:ln w="0">
            <a:noFill/>
          </a:ln>
        </p:spPr>
        <p:txBody>
          <a:bodyPr lIns="90000" rIns="90000" tIns="46800" bIns="46800" anchor="t">
            <a:normAutofit fontScale="99000"/>
          </a:bodyPr>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ùch haøng </a:t>
            </a:r>
            <a:r>
              <a:rPr b="0" lang="en-US" sz="2800" spc="-1" strike="noStrike">
                <a:solidFill>
                  <a:srgbClr val="000000"/>
                </a:solidFill>
                <a:latin typeface="Wingdings"/>
                <a:ea typeface="Wingdings"/>
              </a:rPr>
              <a:t></a:t>
            </a:r>
            <a:r>
              <a:rPr b="0" lang="en-US" sz="2800" spc="-1" strike="noStrike">
                <a:solidFill>
                  <a:srgbClr val="000000"/>
                </a:solidFill>
                <a:latin typeface="VNI-Helve"/>
              </a:rPr>
              <a:t> Taùc löïc cô baûn quyeát ñònh khaû naêng sinh lôïi tieàm taøng cuûa ngaønh cuõng nhö khaû naêng toàn taïi cuûa coâng ty.</a:t>
            </a:r>
            <a:endParaRPr b="0" lang="en-US" sz="2800" spc="-1" strike="noStrike">
              <a:solidFill>
                <a:srgbClr val="000000"/>
              </a:solidFill>
              <a:latin typeface="VNI-Helve"/>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ùch haøng khaùc nhau veà nhu caàu mua haøng </a:t>
            </a:r>
            <a:r>
              <a:rPr b="0" lang="en-US" sz="2800" spc="-1" strike="noStrike">
                <a:solidFill>
                  <a:srgbClr val="000000"/>
                </a:solidFill>
                <a:latin typeface="Wingdings"/>
                <a:ea typeface="Wingdings"/>
              </a:rPr>
              <a:t></a:t>
            </a:r>
            <a:r>
              <a:rPr b="0" lang="en-US" sz="2800" spc="-1" strike="noStrike">
                <a:solidFill>
                  <a:srgbClr val="000000"/>
                </a:solidFill>
                <a:latin typeface="VNI-Helve"/>
              </a:rPr>
              <a:t> ñoøi hoûi khaùc nhau veà möùc ñoä dòch vuï, chaát löôïng vaø ñaëc ñieåm cuûa saûn phaåm, keânh phaân phoái, … </a:t>
            </a:r>
            <a:r>
              <a:rPr b="0" lang="en-US" sz="2800" spc="-1" strike="noStrike">
                <a:solidFill>
                  <a:srgbClr val="000000"/>
                </a:solidFill>
                <a:latin typeface="Wingdings"/>
                <a:ea typeface="Wingdings"/>
              </a:rPr>
              <a:t></a:t>
            </a:r>
            <a:r>
              <a:rPr b="0" lang="en-US" sz="2800" spc="-1" strike="noStrike">
                <a:solidFill>
                  <a:srgbClr val="000000"/>
                </a:solidFill>
                <a:latin typeface="VNI-Helve"/>
              </a:rPr>
              <a:t> khaû naêng thöông löôïng cuûa khaùch haøng</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D3B380B3-B7AC-441B-A18D-7AB10F2110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KHAÙCH HAØNG / NGÖÔØI MUA </a:t>
            </a:r>
            <a:endParaRPr b="1" i="1" lang="en-US" sz="3400" spc="-1" strike="noStrike">
              <a:solidFill>
                <a:srgbClr val="ffff00"/>
              </a:solidFill>
              <a:latin typeface="VNI-Helve"/>
            </a:endParaRPr>
          </a:p>
        </p:txBody>
      </p:sp>
      <p:sp>
        <p:nvSpPr>
          <p:cNvPr id="218" name="PlaceHolder 2"/>
          <p:cNvSpPr>
            <a:spLocks noGrp="1"/>
          </p:cNvSpPr>
          <p:nvPr>
            <p:ph/>
          </p:nvPr>
        </p:nvSpPr>
        <p:spPr>
          <a:xfrm>
            <a:off x="457200" y="1447560"/>
            <a:ext cx="8305920" cy="472428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thöông löôïng (traû giaù) cuûa khaùch haøng</a:t>
            </a: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öôïng haøng mua</a:t>
            </a: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oá löôïng nhaø cung caáp</a:t>
            </a: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choïn löïa ñoái vôùi saûn phaåm thay theá.</a:t>
            </a: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töï cung caáp</a:t>
            </a: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ñoä quan troïng cuûa saûn phaåm ñoái vôùi K.Haøng</a:t>
            </a: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öôïng thoâng tin cuûa khaùch haøng</a:t>
            </a: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0DFBBE1E-C010-4D7D-A1D9-703B2F1212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NHAØ CUNG  CAÁP</a:t>
            </a:r>
            <a:endParaRPr b="1" i="1" lang="en-US" sz="3400" spc="-1" strike="noStrike">
              <a:solidFill>
                <a:srgbClr val="ffff00"/>
              </a:solidFill>
              <a:latin typeface="VNI-Helve"/>
            </a:endParaRPr>
          </a:p>
        </p:txBody>
      </p:sp>
      <p:sp>
        <p:nvSpPr>
          <p:cNvPr id="220" name="PlaceHolder 2"/>
          <p:cNvSpPr>
            <a:spLocks noGrp="1"/>
          </p:cNvSpPr>
          <p:nvPr>
            <p:ph/>
          </p:nvPr>
        </p:nvSpPr>
        <p:spPr>
          <a:xfrm>
            <a:off x="457200" y="1294920"/>
            <a:ext cx="8305920" cy="5257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aø cung caáp </a:t>
            </a:r>
            <a:r>
              <a:rPr b="0" lang="en-US" sz="2800" spc="-1" strike="noStrike">
                <a:solidFill>
                  <a:srgbClr val="000000"/>
                </a:solidFill>
                <a:latin typeface="Wingdings"/>
                <a:ea typeface="Wingdings"/>
              </a:rPr>
              <a:t></a:t>
            </a:r>
            <a:r>
              <a:rPr b="0" lang="en-US" sz="2800" spc="-1" strike="noStrike">
                <a:solidFill>
                  <a:srgbClr val="000000"/>
                </a:solidFill>
                <a:latin typeface="VNI-Helve"/>
              </a:rPr>
              <a:t> Taùc löïc cô baûn quyeát ñònh khaû naêng caïnh tranh cuûa coâng ty.</a:t>
            </a:r>
            <a:endParaRPr b="0" lang="en-US" sz="2800" spc="-1" strike="noStrike">
              <a:solidFill>
                <a:srgbClr val="000000"/>
              </a:solidFill>
              <a:latin typeface="VNI-Helve"/>
            </a:endParaRPr>
          </a:p>
          <a:p>
            <a:pPr marL="318960" indent="-31896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thöông löôïng (naâng giaù, giaûm chaát löôïng haøng hoaù) cuûa nhaø cung  caáp</a:t>
            </a:r>
            <a:endParaRPr b="0" lang="en-US" sz="28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û naêng löïa choïn saûn phaåm thay theá cuûa Cty. </a:t>
            </a:r>
            <a:endParaRPr b="0" lang="en-US" sz="24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öôïng haøng mua</a:t>
            </a:r>
            <a:endParaRPr b="0" lang="en-US" sz="24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öùc ñoä quan troïng cuûa saûn phaåm ñoái vôùi coâng ty</a:t>
            </a:r>
            <a:endParaRPr b="0" lang="en-US" sz="24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haø cung caáp coù öu theá vì chuyeân bieät hoùa saûn phaåm</a:t>
            </a:r>
            <a:endParaRPr b="0" lang="en-US" sz="24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û naêng töï  cung caáp cuûa coâng ty</a:t>
            </a:r>
            <a:endParaRPr b="0" lang="en-US" sz="24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û naêng keát hôïp veà phía tröôùc cuûa nhaø cung caáp</a:t>
            </a:r>
            <a:endParaRPr b="0" lang="en-US" sz="24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A830B870-6B0C-4A9F-91A8-D833857A55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SAÛN PHAÅM THAY THEÁ</a:t>
            </a:r>
            <a:endParaRPr b="1" i="1" lang="en-US" sz="3400" spc="-1" strike="noStrike">
              <a:solidFill>
                <a:srgbClr val="ffff00"/>
              </a:solidFill>
              <a:latin typeface="VNI-Helve"/>
            </a:endParaRPr>
          </a:p>
        </p:txBody>
      </p:sp>
      <p:sp>
        <p:nvSpPr>
          <p:cNvPr id="222" name="PlaceHolder 2"/>
          <p:cNvSpPr>
            <a:spLocks noGrp="1"/>
          </p:cNvSpPr>
          <p:nvPr>
            <p:ph/>
          </p:nvPr>
        </p:nvSpPr>
        <p:spPr>
          <a:xfrm>
            <a:off x="457200" y="1447920"/>
            <a:ext cx="830592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aûn phaåm thay theá</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Ví duï:</a:t>
            </a:r>
            <a:r>
              <a:rPr b="0" lang="en-US" sz="2800" spc="-1" strike="noStrike">
                <a:solidFill>
                  <a:srgbClr val="000000"/>
                </a:solidFill>
                <a:latin typeface="VNI-Helve"/>
              </a:rPr>
              <a:t>	</a:t>
            </a:r>
            <a:r>
              <a:rPr b="0" lang="en-US" sz="2800" spc="-1" strike="noStrike">
                <a:solidFill>
                  <a:srgbClr val="000000"/>
                </a:solidFill>
                <a:latin typeface="VNI-Helve"/>
              </a:rPr>
              <a:t>Coca Cola – Pepsi Cola</a:t>
            </a:r>
            <a:endParaRPr b="0" lang="en-US" sz="28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	</a:t>
            </a:r>
            <a:r>
              <a:rPr b="0" lang="en-US" sz="2400" spc="-1" strike="noStrike">
                <a:solidFill>
                  <a:srgbClr val="000000"/>
                </a:solidFill>
                <a:latin typeface="VNI-Helve"/>
              </a:rPr>
              <a:t>Traø Dilmal – Cafeù Trung nguyeân</a:t>
            </a:r>
            <a:endParaRPr b="0" lang="en-US" sz="24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	</a:t>
            </a:r>
            <a:r>
              <a:rPr b="0" lang="en-US" sz="2400" spc="-1" strike="noStrike">
                <a:solidFill>
                  <a:srgbClr val="000000"/>
                </a:solidFill>
                <a:latin typeface="VNI-Helve"/>
              </a:rPr>
              <a:t>Ñaàu DVD Tieán Ñaït – Ñaàu DVD VTB</a:t>
            </a:r>
            <a:endParaRPr b="0" lang="en-US" sz="2400" spc="-1" strike="noStrike">
              <a:solidFill>
                <a:srgbClr val="000000"/>
              </a:solidFill>
              <a:latin typeface="VNI-Helve"/>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iaù &amp; Nhu caàu khaùc bieät veà saûn phaåm </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öï phaùt trieån cuûa coâng ngheä</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Wingdings"/>
                <a:ea typeface="Wingdings"/>
              </a:rPr>
              <a:t></a:t>
            </a:r>
            <a:r>
              <a:rPr b="1" i="1" lang="en-US" sz="2400" spc="-1" strike="noStrike">
                <a:solidFill>
                  <a:srgbClr val="ff0000"/>
                </a:solidFill>
                <a:latin typeface="VNI-Helve"/>
              </a:rPr>
              <a:t> </a:t>
            </a:r>
            <a:r>
              <a:rPr b="1" i="1" lang="en-US" sz="2400" spc="-1" strike="noStrike">
                <a:solidFill>
                  <a:srgbClr val="ff0000"/>
                </a:solidFill>
                <a:latin typeface="VNI-Helve"/>
              </a:rPr>
              <a:t>Saûn phaåm thay theá</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250513F2-4334-4C1D-B280-07D7AB837E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ÑOÁI THUÛ CAÏNH TRANH TIEÀM AÅN </a:t>
            </a:r>
            <a:endParaRPr b="1" i="1" lang="en-US" sz="3400" spc="-1" strike="noStrike">
              <a:solidFill>
                <a:srgbClr val="ffff00"/>
              </a:solidFill>
              <a:latin typeface="VNI-Helve"/>
            </a:endParaRPr>
          </a:p>
        </p:txBody>
      </p:sp>
      <p:sp>
        <p:nvSpPr>
          <p:cNvPr id="224"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 daïng hoùa saûn phaåm</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ôïi theá nhôø qui moâ</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øi  chính – ñaàu tö</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oâng ngheä</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now-how</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ính saùch cuûa chính phuû</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Wingdings"/>
                <a:ea typeface="Wingdings"/>
              </a:rPr>
              <a:t></a:t>
            </a:r>
            <a:r>
              <a:rPr b="1" i="1" lang="en-US" sz="2400" spc="-1" strike="noStrike">
                <a:solidFill>
                  <a:srgbClr val="ff0000"/>
                </a:solidFill>
                <a:latin typeface="VNI-Helve"/>
              </a:rPr>
              <a:t> </a:t>
            </a:r>
            <a:r>
              <a:rPr b="1" i="1" lang="en-US" sz="2400" spc="-1" strike="noStrike">
                <a:solidFill>
                  <a:srgbClr val="ff0000"/>
                </a:solidFill>
                <a:latin typeface="VNI-Helve"/>
              </a:rPr>
              <a:t>Raøo caûn gia nhaäp (Entry barrier)</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6FE41306-6571-4BCA-9A61-E6644E8A54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VNI-Helve"/>
              </a:rPr>
              <a:t>Cô hoäi vaø nguy cô </a:t>
            </a:r>
            <a:endParaRPr b="1" i="1" lang="en-US" sz="3000" spc="-1" strike="noStrike">
              <a:solidFill>
                <a:srgbClr val="ffff00"/>
              </a:solidFill>
              <a:latin typeface="VNI-Helve"/>
            </a:endParaRPr>
          </a:p>
        </p:txBody>
      </p:sp>
      <p:sp>
        <p:nvSpPr>
          <p:cNvPr id="226"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3000"/>
          </a:bodyPr>
          <a:p>
            <a:pPr marL="318960" indent="-31896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tích moâi tröôøng beân ngoaøi nhaèm ñeå öôùc löôïng nhöõng cô hoäi vaø nguy cô ñeå töø ñoù coù nhöõng haønh ñoäng chieán löôïc tranh thuû cô hoäi vaø giaûm thieåu nguy cô.</a:t>
            </a:r>
            <a:endParaRPr b="0" lang="en-US" sz="2800" spc="-1" strike="noStrike">
              <a:solidFill>
                <a:srgbClr val="000000"/>
              </a:solidFill>
              <a:latin typeface="VNI-Helve"/>
            </a:endParaRPr>
          </a:p>
          <a:p>
            <a:pPr marL="318960" indent="-31896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ô hoäi kinh doanh laø nhöõng ñieàu kieän moâi tröôøng beân ngoaøi coù lôïi cho coâng ty. </a:t>
            </a:r>
            <a:endParaRPr b="0" lang="en-US" sz="2800" spc="-1" strike="noStrike">
              <a:solidFill>
                <a:srgbClr val="000000"/>
              </a:solidFill>
              <a:latin typeface="VNI-Helve"/>
            </a:endParaRPr>
          </a:p>
          <a:p>
            <a:pPr marL="318960" indent="-31896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guy cô thò tröôøng laø nhöõng ñieàu kieän moâi tröôøng beân ngoaøi gaây baát lôïi cho coâng ty, coù aûnh höôûng ñeán khaû naêng sinh lôïi cuõng nhö vò trí treân thò tröôøng cuûa coâng ty.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D8A6C41D-BC51-4AAF-9C91-157A9C372B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0" y="579132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567000" y="1295280"/>
            <a:ext cx="8030880" cy="21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Phaân tích</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MOÂI TRÖÔØNG BEÂN TRONG</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9" name=""/>
          <p:cNvSpPr/>
          <p:nvPr/>
        </p:nvSpPr>
        <p:spPr>
          <a:xfrm>
            <a:off x="0" y="106668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0" name=""/>
          <p:cNvGrpSpPr/>
          <p:nvPr/>
        </p:nvGrpSpPr>
        <p:grpSpPr>
          <a:xfrm>
            <a:off x="3281400" y="3019320"/>
            <a:ext cx="2585880" cy="2771640"/>
            <a:chOff x="3281400" y="3019320"/>
            <a:chExt cx="2585880" cy="2771640"/>
          </a:xfrm>
        </p:grpSpPr>
        <p:grpSp>
          <p:nvGrpSpPr>
            <p:cNvPr id="231" name=""/>
            <p:cNvGrpSpPr/>
            <p:nvPr/>
          </p:nvGrpSpPr>
          <p:grpSpPr>
            <a:xfrm>
              <a:off x="3281400" y="3019320"/>
              <a:ext cx="2585880" cy="2068920"/>
              <a:chOff x="3281400" y="3019320"/>
              <a:chExt cx="2585880" cy="2068920"/>
            </a:xfrm>
          </p:grpSpPr>
          <p:sp>
            <p:nvSpPr>
              <p:cNvPr id="232" name=""/>
              <p:cNvSpPr/>
              <p:nvPr/>
            </p:nvSpPr>
            <p:spPr>
              <a:xfrm>
                <a:off x="3281400" y="3019320"/>
                <a:ext cx="2585880" cy="20689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3" name=""/>
              <p:cNvGrpSpPr/>
              <p:nvPr/>
            </p:nvGrpSpPr>
            <p:grpSpPr>
              <a:xfrm>
                <a:off x="3326760" y="3220200"/>
                <a:ext cx="2493360" cy="1352160"/>
                <a:chOff x="3326760" y="3220200"/>
                <a:chExt cx="2493360" cy="1352160"/>
              </a:xfrm>
            </p:grpSpPr>
            <p:sp>
              <p:nvSpPr>
                <p:cNvPr id="234" name=""/>
                <p:cNvSpPr/>
                <p:nvPr/>
              </p:nvSpPr>
              <p:spPr>
                <a:xfrm>
                  <a:off x="4582440" y="3601080"/>
                  <a:ext cx="14040" cy="14400"/>
                </a:xfrm>
                <a:custGeom>
                  <a:avLst/>
                  <a:gdLst/>
                  <a:ahLst/>
                  <a:rect l="l" t="t" r="r" b="b"/>
                  <a:pathLst>
                    <a:path w="18" h="22">
                      <a:moveTo>
                        <a:pt x="18" y="0"/>
                      </a:moveTo>
                      <a:lnTo>
                        <a:pt x="18" y="19"/>
                      </a:lnTo>
                      <a:lnTo>
                        <a:pt x="11" y="22"/>
                      </a:lnTo>
                      <a:lnTo>
                        <a:pt x="0" y="3"/>
                      </a:lnTo>
                      <a:lnTo>
                        <a:pt x="6" y="0"/>
                      </a:lnTo>
                      <a:lnTo>
                        <a:pt x="18" y="0"/>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5" name=""/>
                <p:cNvSpPr/>
                <p:nvPr/>
              </p:nvSpPr>
              <p:spPr>
                <a:xfrm>
                  <a:off x="4557240" y="3569040"/>
                  <a:ext cx="12600" cy="24480"/>
                </a:xfrm>
                <a:custGeom>
                  <a:avLst/>
                  <a:gdLst/>
                  <a:ahLst/>
                  <a:rect l="l" t="t" r="r" b="b"/>
                  <a:pathLst>
                    <a:path w="14" h="34">
                      <a:moveTo>
                        <a:pt x="14" y="0"/>
                      </a:moveTo>
                      <a:lnTo>
                        <a:pt x="0" y="10"/>
                      </a:lnTo>
                      <a:lnTo>
                        <a:pt x="3" y="34"/>
                      </a:lnTo>
                      <a:lnTo>
                        <a:pt x="12" y="33"/>
                      </a:lnTo>
                      <a:lnTo>
                        <a:pt x="14" y="0"/>
                      </a:lnTo>
                      <a:close/>
                    </a:path>
                  </a:pathLst>
                </a:custGeom>
                <a:solidFill>
                  <a:srgbClr val="008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236" name=""/>
                <p:cNvGrpSpPr/>
                <p:nvPr/>
              </p:nvGrpSpPr>
              <p:grpSpPr>
                <a:xfrm>
                  <a:off x="5600520" y="4342320"/>
                  <a:ext cx="219600" cy="137160"/>
                  <a:chOff x="5600520" y="4342320"/>
                  <a:chExt cx="219600" cy="137160"/>
                </a:xfrm>
              </p:grpSpPr>
              <p:sp>
                <p:nvSpPr>
                  <p:cNvPr id="237" name=""/>
                  <p:cNvSpPr/>
                  <p:nvPr/>
                </p:nvSpPr>
                <p:spPr>
                  <a:xfrm>
                    <a:off x="5785920" y="4342320"/>
                    <a:ext cx="34200" cy="83880"/>
                  </a:xfrm>
                  <a:custGeom>
                    <a:avLst/>
                    <a:gdLst/>
                    <a:ahLst/>
                    <a:rect l="l" t="t" r="r" b="b"/>
                    <a:pathLst>
                      <a:path w="43" h="116">
                        <a:moveTo>
                          <a:pt x="14" y="1"/>
                        </a:moveTo>
                        <a:lnTo>
                          <a:pt x="18" y="0"/>
                        </a:lnTo>
                        <a:lnTo>
                          <a:pt x="26" y="14"/>
                        </a:lnTo>
                        <a:lnTo>
                          <a:pt x="25" y="49"/>
                        </a:lnTo>
                        <a:lnTo>
                          <a:pt x="30" y="49"/>
                        </a:lnTo>
                        <a:lnTo>
                          <a:pt x="32" y="56"/>
                        </a:lnTo>
                        <a:lnTo>
                          <a:pt x="33" y="59"/>
                        </a:lnTo>
                        <a:lnTo>
                          <a:pt x="36" y="67"/>
                        </a:lnTo>
                        <a:lnTo>
                          <a:pt x="39" y="64"/>
                        </a:lnTo>
                        <a:lnTo>
                          <a:pt x="41" y="58"/>
                        </a:lnTo>
                        <a:lnTo>
                          <a:pt x="43" y="59"/>
                        </a:lnTo>
                        <a:lnTo>
                          <a:pt x="40" y="68"/>
                        </a:lnTo>
                        <a:lnTo>
                          <a:pt x="39" y="72"/>
                        </a:lnTo>
                        <a:lnTo>
                          <a:pt x="37" y="82"/>
                        </a:lnTo>
                        <a:lnTo>
                          <a:pt x="33" y="85"/>
                        </a:lnTo>
                        <a:lnTo>
                          <a:pt x="29" y="88"/>
                        </a:lnTo>
                        <a:lnTo>
                          <a:pt x="25" y="94"/>
                        </a:lnTo>
                        <a:lnTo>
                          <a:pt x="23" y="98"/>
                        </a:lnTo>
                        <a:lnTo>
                          <a:pt x="25" y="101"/>
                        </a:lnTo>
                        <a:lnTo>
                          <a:pt x="26" y="109"/>
                        </a:lnTo>
                        <a:lnTo>
                          <a:pt x="22" y="111"/>
                        </a:lnTo>
                        <a:lnTo>
                          <a:pt x="18" y="114"/>
                        </a:lnTo>
                        <a:lnTo>
                          <a:pt x="14" y="116"/>
                        </a:lnTo>
                        <a:lnTo>
                          <a:pt x="10" y="114"/>
                        </a:lnTo>
                        <a:lnTo>
                          <a:pt x="6" y="111"/>
                        </a:lnTo>
                        <a:lnTo>
                          <a:pt x="3" y="109"/>
                        </a:lnTo>
                        <a:lnTo>
                          <a:pt x="6" y="104"/>
                        </a:lnTo>
                        <a:lnTo>
                          <a:pt x="10" y="101"/>
                        </a:lnTo>
                        <a:lnTo>
                          <a:pt x="14" y="96"/>
                        </a:lnTo>
                        <a:lnTo>
                          <a:pt x="14" y="93"/>
                        </a:lnTo>
                        <a:lnTo>
                          <a:pt x="10" y="88"/>
                        </a:lnTo>
                        <a:lnTo>
                          <a:pt x="6" y="84"/>
                        </a:lnTo>
                        <a:lnTo>
                          <a:pt x="3" y="84"/>
                        </a:lnTo>
                        <a:lnTo>
                          <a:pt x="0" y="82"/>
                        </a:lnTo>
                        <a:lnTo>
                          <a:pt x="0" y="80"/>
                        </a:lnTo>
                        <a:lnTo>
                          <a:pt x="0" y="74"/>
                        </a:lnTo>
                        <a:lnTo>
                          <a:pt x="3" y="74"/>
                        </a:lnTo>
                        <a:lnTo>
                          <a:pt x="6" y="72"/>
                        </a:lnTo>
                        <a:lnTo>
                          <a:pt x="10" y="68"/>
                        </a:lnTo>
                        <a:lnTo>
                          <a:pt x="11" y="67"/>
                        </a:lnTo>
                        <a:lnTo>
                          <a:pt x="15" y="49"/>
                        </a:lnTo>
                        <a:lnTo>
                          <a:pt x="11" y="46"/>
                        </a:lnTo>
                        <a:lnTo>
                          <a:pt x="9" y="40"/>
                        </a:lnTo>
                        <a:lnTo>
                          <a:pt x="7" y="32"/>
                        </a:lnTo>
                        <a:lnTo>
                          <a:pt x="9" y="23"/>
                        </a:lnTo>
                        <a:lnTo>
                          <a:pt x="10" y="17"/>
                        </a:lnTo>
                        <a:lnTo>
                          <a:pt x="14" y="1"/>
                        </a:lnTo>
                        <a:close/>
                      </a:path>
                    </a:pathLst>
                  </a:custGeom>
                  <a:solidFill>
                    <a:srgbClr val="008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8" name=""/>
                  <p:cNvSpPr/>
                  <p:nvPr/>
                </p:nvSpPr>
                <p:spPr>
                  <a:xfrm>
                    <a:off x="5719320" y="4410000"/>
                    <a:ext cx="63360" cy="69480"/>
                  </a:xfrm>
                  <a:custGeom>
                    <a:avLst/>
                    <a:gdLst/>
                    <a:ahLst/>
                    <a:rect l="l" t="t" r="r" b="b"/>
                    <a:pathLst>
                      <a:path w="81" h="95">
                        <a:moveTo>
                          <a:pt x="56" y="0"/>
                        </a:moveTo>
                        <a:lnTo>
                          <a:pt x="68" y="0"/>
                        </a:lnTo>
                        <a:lnTo>
                          <a:pt x="81" y="27"/>
                        </a:lnTo>
                        <a:lnTo>
                          <a:pt x="67" y="47"/>
                        </a:lnTo>
                        <a:lnTo>
                          <a:pt x="67" y="58"/>
                        </a:lnTo>
                        <a:lnTo>
                          <a:pt x="64" y="60"/>
                        </a:lnTo>
                        <a:lnTo>
                          <a:pt x="52" y="60"/>
                        </a:lnTo>
                        <a:lnTo>
                          <a:pt x="42" y="71"/>
                        </a:lnTo>
                        <a:lnTo>
                          <a:pt x="33" y="85"/>
                        </a:lnTo>
                        <a:lnTo>
                          <a:pt x="27" y="95"/>
                        </a:lnTo>
                        <a:lnTo>
                          <a:pt x="27" y="85"/>
                        </a:lnTo>
                        <a:lnTo>
                          <a:pt x="14" y="89"/>
                        </a:lnTo>
                        <a:lnTo>
                          <a:pt x="7" y="89"/>
                        </a:lnTo>
                        <a:lnTo>
                          <a:pt x="0" y="89"/>
                        </a:lnTo>
                        <a:lnTo>
                          <a:pt x="12" y="71"/>
                        </a:lnTo>
                        <a:lnTo>
                          <a:pt x="16" y="65"/>
                        </a:lnTo>
                        <a:lnTo>
                          <a:pt x="20" y="65"/>
                        </a:lnTo>
                        <a:lnTo>
                          <a:pt x="30" y="49"/>
                        </a:lnTo>
                        <a:lnTo>
                          <a:pt x="33" y="49"/>
                        </a:lnTo>
                        <a:lnTo>
                          <a:pt x="38" y="45"/>
                        </a:lnTo>
                        <a:lnTo>
                          <a:pt x="42" y="45"/>
                        </a:lnTo>
                        <a:lnTo>
                          <a:pt x="41" y="31"/>
                        </a:lnTo>
                        <a:lnTo>
                          <a:pt x="42" y="31"/>
                        </a:lnTo>
                        <a:lnTo>
                          <a:pt x="48" y="26"/>
                        </a:lnTo>
                        <a:lnTo>
                          <a:pt x="48" y="29"/>
                        </a:lnTo>
                        <a:lnTo>
                          <a:pt x="60" y="18"/>
                        </a:lnTo>
                        <a:lnTo>
                          <a:pt x="56" y="0"/>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39" name=""/>
                  <p:cNvSpPr/>
                  <p:nvPr/>
                </p:nvSpPr>
                <p:spPr>
                  <a:xfrm>
                    <a:off x="5600520" y="4414320"/>
                    <a:ext cx="24840" cy="37440"/>
                  </a:xfrm>
                  <a:custGeom>
                    <a:avLst/>
                    <a:gdLst/>
                    <a:ahLst/>
                    <a:rect l="l" t="t" r="r" b="b"/>
                    <a:pathLst>
                      <a:path w="31" h="53">
                        <a:moveTo>
                          <a:pt x="0" y="0"/>
                        </a:moveTo>
                        <a:lnTo>
                          <a:pt x="7" y="0"/>
                        </a:lnTo>
                        <a:lnTo>
                          <a:pt x="15" y="6"/>
                        </a:lnTo>
                        <a:lnTo>
                          <a:pt x="31" y="6"/>
                        </a:lnTo>
                        <a:lnTo>
                          <a:pt x="28" y="16"/>
                        </a:lnTo>
                        <a:lnTo>
                          <a:pt x="31" y="24"/>
                        </a:lnTo>
                        <a:lnTo>
                          <a:pt x="26" y="24"/>
                        </a:lnTo>
                        <a:lnTo>
                          <a:pt x="24" y="26"/>
                        </a:lnTo>
                        <a:lnTo>
                          <a:pt x="21" y="28"/>
                        </a:lnTo>
                        <a:lnTo>
                          <a:pt x="24" y="53"/>
                        </a:lnTo>
                        <a:lnTo>
                          <a:pt x="15" y="50"/>
                        </a:lnTo>
                        <a:lnTo>
                          <a:pt x="5" y="42"/>
                        </a:lnTo>
                        <a:lnTo>
                          <a:pt x="5" y="26"/>
                        </a:lnTo>
                        <a:lnTo>
                          <a:pt x="5" y="22"/>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240" name=""/>
                <p:cNvSpPr/>
                <p:nvPr/>
              </p:nvSpPr>
              <p:spPr>
                <a:xfrm>
                  <a:off x="5644440" y="4020840"/>
                  <a:ext cx="40320" cy="40320"/>
                </a:xfrm>
                <a:custGeom>
                  <a:avLst/>
                  <a:gdLst/>
                  <a:ahLst/>
                  <a:rect l="l" t="t" r="r" b="b"/>
                  <a:pathLst>
                    <a:path w="51" h="55">
                      <a:moveTo>
                        <a:pt x="10" y="22"/>
                      </a:moveTo>
                      <a:lnTo>
                        <a:pt x="0" y="45"/>
                      </a:lnTo>
                      <a:lnTo>
                        <a:pt x="3" y="54"/>
                      </a:lnTo>
                      <a:lnTo>
                        <a:pt x="18" y="55"/>
                      </a:lnTo>
                      <a:lnTo>
                        <a:pt x="29" y="55"/>
                      </a:lnTo>
                      <a:lnTo>
                        <a:pt x="36" y="48"/>
                      </a:lnTo>
                      <a:lnTo>
                        <a:pt x="38" y="38"/>
                      </a:lnTo>
                      <a:lnTo>
                        <a:pt x="51" y="38"/>
                      </a:lnTo>
                      <a:lnTo>
                        <a:pt x="48" y="23"/>
                      </a:lnTo>
                      <a:lnTo>
                        <a:pt x="48" y="12"/>
                      </a:lnTo>
                      <a:lnTo>
                        <a:pt x="37" y="0"/>
                      </a:lnTo>
                      <a:lnTo>
                        <a:pt x="34" y="18"/>
                      </a:lnTo>
                      <a:lnTo>
                        <a:pt x="41" y="26"/>
                      </a:lnTo>
                      <a:lnTo>
                        <a:pt x="28" y="26"/>
                      </a:lnTo>
                      <a:lnTo>
                        <a:pt x="24" y="32"/>
                      </a:lnTo>
                      <a:lnTo>
                        <a:pt x="10" y="22"/>
                      </a:lnTo>
                      <a:close/>
                    </a:path>
                  </a:pathLst>
                </a:cu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241" name=""/>
                <p:cNvGrpSpPr/>
                <p:nvPr/>
              </p:nvGrpSpPr>
              <p:grpSpPr>
                <a:xfrm>
                  <a:off x="5209560" y="3421440"/>
                  <a:ext cx="464400" cy="974160"/>
                  <a:chOff x="5209560" y="3421440"/>
                  <a:chExt cx="464400" cy="974160"/>
                </a:xfrm>
              </p:grpSpPr>
              <p:grpSp>
                <p:nvGrpSpPr>
                  <p:cNvPr id="242" name=""/>
                  <p:cNvGrpSpPr/>
                  <p:nvPr/>
                </p:nvGrpSpPr>
                <p:grpSpPr>
                  <a:xfrm>
                    <a:off x="5284080" y="3521160"/>
                    <a:ext cx="104040" cy="291960"/>
                    <a:chOff x="5284080" y="3521160"/>
                    <a:chExt cx="104040" cy="291960"/>
                  </a:xfrm>
                </p:grpSpPr>
                <p:sp>
                  <p:nvSpPr>
                    <p:cNvPr id="243" name=""/>
                    <p:cNvSpPr/>
                    <p:nvPr/>
                  </p:nvSpPr>
                  <p:spPr>
                    <a:xfrm>
                      <a:off x="5284080" y="3783240"/>
                      <a:ext cx="23040" cy="29880"/>
                    </a:xfrm>
                    <a:custGeom>
                      <a:avLst/>
                      <a:gdLst/>
                      <a:ahLst/>
                      <a:rect l="l" t="t" r="r" b="b"/>
                      <a:pathLst>
                        <a:path w="31" h="40">
                          <a:moveTo>
                            <a:pt x="0" y="30"/>
                          </a:moveTo>
                          <a:lnTo>
                            <a:pt x="5" y="40"/>
                          </a:lnTo>
                          <a:lnTo>
                            <a:pt x="12" y="37"/>
                          </a:lnTo>
                          <a:lnTo>
                            <a:pt x="23" y="40"/>
                          </a:lnTo>
                          <a:lnTo>
                            <a:pt x="30" y="40"/>
                          </a:lnTo>
                          <a:lnTo>
                            <a:pt x="31" y="27"/>
                          </a:lnTo>
                          <a:lnTo>
                            <a:pt x="28" y="16"/>
                          </a:lnTo>
                          <a:lnTo>
                            <a:pt x="24" y="6"/>
                          </a:lnTo>
                          <a:lnTo>
                            <a:pt x="19" y="6"/>
                          </a:lnTo>
                          <a:lnTo>
                            <a:pt x="15" y="0"/>
                          </a:lnTo>
                          <a:lnTo>
                            <a:pt x="8" y="0"/>
                          </a:lnTo>
                          <a:lnTo>
                            <a:pt x="8" y="11"/>
                          </a:lnTo>
                          <a:lnTo>
                            <a:pt x="0" y="30"/>
                          </a:lnTo>
                          <a:close/>
                        </a:path>
                      </a:pathLst>
                    </a:custGeom>
                    <a:solidFill>
                      <a:srgbClr val="008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44" name=""/>
                    <p:cNvSpPr/>
                    <p:nvPr/>
                  </p:nvSpPr>
                  <p:spPr>
                    <a:xfrm>
                      <a:off x="5351040" y="3731040"/>
                      <a:ext cx="23040" cy="36000"/>
                    </a:xfrm>
                    <a:custGeom>
                      <a:avLst/>
                      <a:gdLst/>
                      <a:ahLst/>
                      <a:rect l="l" t="t" r="r" b="b"/>
                      <a:pathLst>
                        <a:path w="30" h="51">
                          <a:moveTo>
                            <a:pt x="6" y="0"/>
                          </a:moveTo>
                          <a:lnTo>
                            <a:pt x="18" y="3"/>
                          </a:lnTo>
                          <a:lnTo>
                            <a:pt x="25" y="16"/>
                          </a:lnTo>
                          <a:lnTo>
                            <a:pt x="30" y="25"/>
                          </a:lnTo>
                          <a:lnTo>
                            <a:pt x="26" y="31"/>
                          </a:lnTo>
                          <a:lnTo>
                            <a:pt x="30" y="38"/>
                          </a:lnTo>
                          <a:lnTo>
                            <a:pt x="27" y="47"/>
                          </a:lnTo>
                          <a:lnTo>
                            <a:pt x="23" y="51"/>
                          </a:lnTo>
                          <a:lnTo>
                            <a:pt x="14" y="51"/>
                          </a:lnTo>
                          <a:lnTo>
                            <a:pt x="7" y="51"/>
                          </a:lnTo>
                          <a:lnTo>
                            <a:pt x="4" y="45"/>
                          </a:lnTo>
                          <a:lnTo>
                            <a:pt x="0" y="36"/>
                          </a:lnTo>
                          <a:lnTo>
                            <a:pt x="0" y="31"/>
                          </a:lnTo>
                          <a:lnTo>
                            <a:pt x="0" y="19"/>
                          </a:lnTo>
                          <a:lnTo>
                            <a:pt x="6" y="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45" name=""/>
                    <p:cNvSpPr/>
                    <p:nvPr/>
                  </p:nvSpPr>
                  <p:spPr>
                    <a:xfrm>
                      <a:off x="5344560" y="3521160"/>
                      <a:ext cx="43560" cy="33120"/>
                    </a:xfrm>
                    <a:custGeom>
                      <a:avLst/>
                      <a:gdLst/>
                      <a:ahLst/>
                      <a:rect l="l" t="t" r="r" b="b"/>
                      <a:pathLst>
                        <a:path w="55" h="46">
                          <a:moveTo>
                            <a:pt x="8" y="0"/>
                          </a:moveTo>
                          <a:lnTo>
                            <a:pt x="15" y="5"/>
                          </a:lnTo>
                          <a:lnTo>
                            <a:pt x="23" y="4"/>
                          </a:lnTo>
                          <a:lnTo>
                            <a:pt x="34" y="5"/>
                          </a:lnTo>
                          <a:lnTo>
                            <a:pt x="41" y="5"/>
                          </a:lnTo>
                          <a:lnTo>
                            <a:pt x="45" y="10"/>
                          </a:lnTo>
                          <a:lnTo>
                            <a:pt x="51" y="20"/>
                          </a:lnTo>
                          <a:lnTo>
                            <a:pt x="55" y="23"/>
                          </a:lnTo>
                          <a:lnTo>
                            <a:pt x="42" y="27"/>
                          </a:lnTo>
                          <a:lnTo>
                            <a:pt x="38" y="31"/>
                          </a:lnTo>
                          <a:lnTo>
                            <a:pt x="42" y="39"/>
                          </a:lnTo>
                          <a:lnTo>
                            <a:pt x="42" y="46"/>
                          </a:lnTo>
                          <a:lnTo>
                            <a:pt x="31" y="39"/>
                          </a:lnTo>
                          <a:lnTo>
                            <a:pt x="22" y="36"/>
                          </a:lnTo>
                          <a:lnTo>
                            <a:pt x="15" y="36"/>
                          </a:lnTo>
                          <a:lnTo>
                            <a:pt x="15" y="46"/>
                          </a:lnTo>
                          <a:lnTo>
                            <a:pt x="8" y="46"/>
                          </a:lnTo>
                          <a:lnTo>
                            <a:pt x="7" y="39"/>
                          </a:lnTo>
                          <a:lnTo>
                            <a:pt x="5" y="27"/>
                          </a:lnTo>
                          <a:lnTo>
                            <a:pt x="0" y="26"/>
                          </a:lnTo>
                          <a:lnTo>
                            <a:pt x="5" y="20"/>
                          </a:lnTo>
                          <a:lnTo>
                            <a:pt x="10" y="15"/>
                          </a:lnTo>
                          <a:lnTo>
                            <a:pt x="8"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246" name=""/>
                  <p:cNvSpPr/>
                  <p:nvPr/>
                </p:nvSpPr>
                <p:spPr>
                  <a:xfrm>
                    <a:off x="5382360" y="4113360"/>
                    <a:ext cx="291600" cy="282240"/>
                  </a:xfrm>
                  <a:custGeom>
                    <a:avLst/>
                    <a:gdLst/>
                    <a:ahLst/>
                    <a:rect l="l" t="t" r="r" b="b"/>
                    <a:pathLst>
                      <a:path w="376" h="391">
                        <a:moveTo>
                          <a:pt x="270" y="0"/>
                        </a:moveTo>
                        <a:lnTo>
                          <a:pt x="289" y="0"/>
                        </a:lnTo>
                        <a:lnTo>
                          <a:pt x="289" y="31"/>
                        </a:lnTo>
                        <a:lnTo>
                          <a:pt x="298" y="42"/>
                        </a:lnTo>
                        <a:lnTo>
                          <a:pt x="301" y="47"/>
                        </a:lnTo>
                        <a:lnTo>
                          <a:pt x="304" y="47"/>
                        </a:lnTo>
                        <a:lnTo>
                          <a:pt x="307" y="52"/>
                        </a:lnTo>
                        <a:lnTo>
                          <a:pt x="309" y="84"/>
                        </a:lnTo>
                        <a:lnTo>
                          <a:pt x="319" y="104"/>
                        </a:lnTo>
                        <a:lnTo>
                          <a:pt x="337" y="133"/>
                        </a:lnTo>
                        <a:lnTo>
                          <a:pt x="337" y="139"/>
                        </a:lnTo>
                        <a:lnTo>
                          <a:pt x="355" y="165"/>
                        </a:lnTo>
                        <a:lnTo>
                          <a:pt x="355" y="168"/>
                        </a:lnTo>
                        <a:lnTo>
                          <a:pt x="374" y="188"/>
                        </a:lnTo>
                        <a:lnTo>
                          <a:pt x="376" y="224"/>
                        </a:lnTo>
                        <a:lnTo>
                          <a:pt x="374" y="256"/>
                        </a:lnTo>
                        <a:lnTo>
                          <a:pt x="366" y="272"/>
                        </a:lnTo>
                        <a:lnTo>
                          <a:pt x="360" y="279"/>
                        </a:lnTo>
                        <a:lnTo>
                          <a:pt x="357" y="297"/>
                        </a:lnTo>
                        <a:lnTo>
                          <a:pt x="351" y="311"/>
                        </a:lnTo>
                        <a:lnTo>
                          <a:pt x="346" y="314"/>
                        </a:lnTo>
                        <a:lnTo>
                          <a:pt x="348" y="321"/>
                        </a:lnTo>
                        <a:lnTo>
                          <a:pt x="339" y="331"/>
                        </a:lnTo>
                        <a:lnTo>
                          <a:pt x="337" y="350"/>
                        </a:lnTo>
                        <a:lnTo>
                          <a:pt x="335" y="363"/>
                        </a:lnTo>
                        <a:lnTo>
                          <a:pt x="329" y="366"/>
                        </a:lnTo>
                        <a:lnTo>
                          <a:pt x="327" y="373"/>
                        </a:lnTo>
                        <a:lnTo>
                          <a:pt x="323" y="381"/>
                        </a:lnTo>
                        <a:lnTo>
                          <a:pt x="316" y="381"/>
                        </a:lnTo>
                        <a:lnTo>
                          <a:pt x="309" y="385"/>
                        </a:lnTo>
                        <a:lnTo>
                          <a:pt x="302" y="391"/>
                        </a:lnTo>
                        <a:lnTo>
                          <a:pt x="290" y="376"/>
                        </a:lnTo>
                        <a:lnTo>
                          <a:pt x="281" y="381"/>
                        </a:lnTo>
                        <a:lnTo>
                          <a:pt x="277" y="381"/>
                        </a:lnTo>
                        <a:lnTo>
                          <a:pt x="261" y="384"/>
                        </a:lnTo>
                        <a:lnTo>
                          <a:pt x="253" y="373"/>
                        </a:lnTo>
                        <a:lnTo>
                          <a:pt x="244" y="357"/>
                        </a:lnTo>
                        <a:lnTo>
                          <a:pt x="241" y="360"/>
                        </a:lnTo>
                        <a:lnTo>
                          <a:pt x="237" y="349"/>
                        </a:lnTo>
                        <a:lnTo>
                          <a:pt x="234" y="340"/>
                        </a:lnTo>
                        <a:lnTo>
                          <a:pt x="233" y="337"/>
                        </a:lnTo>
                        <a:lnTo>
                          <a:pt x="233" y="321"/>
                        </a:lnTo>
                        <a:lnTo>
                          <a:pt x="233" y="311"/>
                        </a:lnTo>
                        <a:lnTo>
                          <a:pt x="230" y="305"/>
                        </a:lnTo>
                        <a:lnTo>
                          <a:pt x="222" y="308"/>
                        </a:lnTo>
                        <a:lnTo>
                          <a:pt x="217" y="311"/>
                        </a:lnTo>
                        <a:lnTo>
                          <a:pt x="209" y="311"/>
                        </a:lnTo>
                        <a:lnTo>
                          <a:pt x="207" y="311"/>
                        </a:lnTo>
                        <a:lnTo>
                          <a:pt x="203" y="311"/>
                        </a:lnTo>
                        <a:lnTo>
                          <a:pt x="197" y="301"/>
                        </a:lnTo>
                        <a:lnTo>
                          <a:pt x="191" y="291"/>
                        </a:lnTo>
                        <a:lnTo>
                          <a:pt x="190" y="291"/>
                        </a:lnTo>
                        <a:lnTo>
                          <a:pt x="182" y="291"/>
                        </a:lnTo>
                        <a:lnTo>
                          <a:pt x="180" y="285"/>
                        </a:lnTo>
                        <a:lnTo>
                          <a:pt x="173" y="291"/>
                        </a:lnTo>
                        <a:lnTo>
                          <a:pt x="168" y="291"/>
                        </a:lnTo>
                        <a:lnTo>
                          <a:pt x="159" y="291"/>
                        </a:lnTo>
                        <a:lnTo>
                          <a:pt x="156" y="285"/>
                        </a:lnTo>
                        <a:lnTo>
                          <a:pt x="153" y="291"/>
                        </a:lnTo>
                        <a:lnTo>
                          <a:pt x="142" y="292"/>
                        </a:lnTo>
                        <a:lnTo>
                          <a:pt x="141" y="291"/>
                        </a:lnTo>
                        <a:lnTo>
                          <a:pt x="136" y="297"/>
                        </a:lnTo>
                        <a:lnTo>
                          <a:pt x="129" y="305"/>
                        </a:lnTo>
                        <a:lnTo>
                          <a:pt x="123" y="305"/>
                        </a:lnTo>
                        <a:lnTo>
                          <a:pt x="117" y="314"/>
                        </a:lnTo>
                        <a:lnTo>
                          <a:pt x="108" y="314"/>
                        </a:lnTo>
                        <a:lnTo>
                          <a:pt x="99" y="314"/>
                        </a:lnTo>
                        <a:lnTo>
                          <a:pt x="90" y="321"/>
                        </a:lnTo>
                        <a:lnTo>
                          <a:pt x="86" y="328"/>
                        </a:lnTo>
                        <a:lnTo>
                          <a:pt x="82" y="327"/>
                        </a:lnTo>
                        <a:lnTo>
                          <a:pt x="80" y="333"/>
                        </a:lnTo>
                        <a:lnTo>
                          <a:pt x="74" y="334"/>
                        </a:lnTo>
                        <a:lnTo>
                          <a:pt x="69" y="340"/>
                        </a:lnTo>
                        <a:lnTo>
                          <a:pt x="50" y="340"/>
                        </a:lnTo>
                        <a:lnTo>
                          <a:pt x="43" y="331"/>
                        </a:lnTo>
                        <a:lnTo>
                          <a:pt x="42" y="327"/>
                        </a:lnTo>
                        <a:lnTo>
                          <a:pt x="41" y="331"/>
                        </a:lnTo>
                        <a:lnTo>
                          <a:pt x="37" y="321"/>
                        </a:lnTo>
                        <a:lnTo>
                          <a:pt x="38" y="302"/>
                        </a:lnTo>
                        <a:lnTo>
                          <a:pt x="41" y="291"/>
                        </a:lnTo>
                        <a:lnTo>
                          <a:pt x="37" y="279"/>
                        </a:lnTo>
                        <a:lnTo>
                          <a:pt x="34" y="272"/>
                        </a:lnTo>
                        <a:lnTo>
                          <a:pt x="34" y="260"/>
                        </a:lnTo>
                        <a:lnTo>
                          <a:pt x="27" y="253"/>
                        </a:lnTo>
                        <a:lnTo>
                          <a:pt x="25" y="253"/>
                        </a:lnTo>
                        <a:lnTo>
                          <a:pt x="24" y="249"/>
                        </a:lnTo>
                        <a:lnTo>
                          <a:pt x="17" y="234"/>
                        </a:lnTo>
                        <a:lnTo>
                          <a:pt x="6" y="201"/>
                        </a:lnTo>
                        <a:lnTo>
                          <a:pt x="4" y="176"/>
                        </a:lnTo>
                        <a:lnTo>
                          <a:pt x="4" y="165"/>
                        </a:lnTo>
                        <a:lnTo>
                          <a:pt x="0" y="159"/>
                        </a:lnTo>
                        <a:lnTo>
                          <a:pt x="1" y="144"/>
                        </a:lnTo>
                        <a:lnTo>
                          <a:pt x="4" y="140"/>
                        </a:lnTo>
                        <a:lnTo>
                          <a:pt x="17" y="124"/>
                        </a:lnTo>
                        <a:lnTo>
                          <a:pt x="28" y="124"/>
                        </a:lnTo>
                        <a:lnTo>
                          <a:pt x="32" y="129"/>
                        </a:lnTo>
                        <a:lnTo>
                          <a:pt x="46" y="129"/>
                        </a:lnTo>
                        <a:lnTo>
                          <a:pt x="48" y="124"/>
                        </a:lnTo>
                        <a:lnTo>
                          <a:pt x="50" y="124"/>
                        </a:lnTo>
                        <a:lnTo>
                          <a:pt x="57" y="120"/>
                        </a:lnTo>
                        <a:lnTo>
                          <a:pt x="60" y="120"/>
                        </a:lnTo>
                        <a:lnTo>
                          <a:pt x="64" y="118"/>
                        </a:lnTo>
                        <a:lnTo>
                          <a:pt x="62" y="113"/>
                        </a:lnTo>
                        <a:lnTo>
                          <a:pt x="65" y="102"/>
                        </a:lnTo>
                        <a:lnTo>
                          <a:pt x="69" y="98"/>
                        </a:lnTo>
                        <a:lnTo>
                          <a:pt x="67" y="94"/>
                        </a:lnTo>
                        <a:lnTo>
                          <a:pt x="69" y="89"/>
                        </a:lnTo>
                        <a:lnTo>
                          <a:pt x="67" y="88"/>
                        </a:lnTo>
                        <a:lnTo>
                          <a:pt x="74" y="78"/>
                        </a:lnTo>
                        <a:lnTo>
                          <a:pt x="83" y="76"/>
                        </a:lnTo>
                        <a:lnTo>
                          <a:pt x="94" y="58"/>
                        </a:lnTo>
                        <a:lnTo>
                          <a:pt x="106" y="42"/>
                        </a:lnTo>
                        <a:lnTo>
                          <a:pt x="112" y="42"/>
                        </a:lnTo>
                        <a:lnTo>
                          <a:pt x="115" y="36"/>
                        </a:lnTo>
                        <a:lnTo>
                          <a:pt x="120" y="36"/>
                        </a:lnTo>
                        <a:lnTo>
                          <a:pt x="130" y="50"/>
                        </a:lnTo>
                        <a:lnTo>
                          <a:pt x="135" y="52"/>
                        </a:lnTo>
                        <a:lnTo>
                          <a:pt x="138" y="47"/>
                        </a:lnTo>
                        <a:lnTo>
                          <a:pt x="143" y="36"/>
                        </a:lnTo>
                        <a:lnTo>
                          <a:pt x="148" y="34"/>
                        </a:lnTo>
                        <a:lnTo>
                          <a:pt x="153" y="21"/>
                        </a:lnTo>
                        <a:lnTo>
                          <a:pt x="157" y="21"/>
                        </a:lnTo>
                        <a:lnTo>
                          <a:pt x="163" y="18"/>
                        </a:lnTo>
                        <a:lnTo>
                          <a:pt x="168" y="10"/>
                        </a:lnTo>
                        <a:lnTo>
                          <a:pt x="173" y="10"/>
                        </a:lnTo>
                        <a:lnTo>
                          <a:pt x="179" y="5"/>
                        </a:lnTo>
                        <a:lnTo>
                          <a:pt x="185" y="5"/>
                        </a:lnTo>
                        <a:lnTo>
                          <a:pt x="193" y="5"/>
                        </a:lnTo>
                        <a:lnTo>
                          <a:pt x="203" y="5"/>
                        </a:lnTo>
                        <a:lnTo>
                          <a:pt x="209" y="16"/>
                        </a:lnTo>
                        <a:lnTo>
                          <a:pt x="211" y="20"/>
                        </a:lnTo>
                        <a:lnTo>
                          <a:pt x="213" y="21"/>
                        </a:lnTo>
                        <a:lnTo>
                          <a:pt x="215" y="30"/>
                        </a:lnTo>
                        <a:lnTo>
                          <a:pt x="213" y="31"/>
                        </a:lnTo>
                        <a:lnTo>
                          <a:pt x="213" y="42"/>
                        </a:lnTo>
                        <a:lnTo>
                          <a:pt x="211" y="47"/>
                        </a:lnTo>
                        <a:lnTo>
                          <a:pt x="228" y="63"/>
                        </a:lnTo>
                        <a:lnTo>
                          <a:pt x="233" y="72"/>
                        </a:lnTo>
                        <a:lnTo>
                          <a:pt x="240" y="74"/>
                        </a:lnTo>
                        <a:lnTo>
                          <a:pt x="245" y="78"/>
                        </a:lnTo>
                        <a:lnTo>
                          <a:pt x="251" y="84"/>
                        </a:lnTo>
                        <a:lnTo>
                          <a:pt x="259" y="76"/>
                        </a:lnTo>
                        <a:lnTo>
                          <a:pt x="263" y="63"/>
                        </a:lnTo>
                        <a:lnTo>
                          <a:pt x="265" y="52"/>
                        </a:lnTo>
                        <a:lnTo>
                          <a:pt x="267" y="30"/>
                        </a:lnTo>
                        <a:lnTo>
                          <a:pt x="270" y="21"/>
                        </a:lnTo>
                        <a:lnTo>
                          <a:pt x="27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5313600" y="4053960"/>
                    <a:ext cx="160560" cy="37440"/>
                  </a:xfrm>
                  <a:custGeom>
                    <a:avLst/>
                    <a:gdLst/>
                    <a:ahLst/>
                    <a:rect l="l" t="t" r="r" b="b"/>
                    <a:pathLst>
                      <a:path w="206" h="52">
                        <a:moveTo>
                          <a:pt x="0" y="0"/>
                        </a:moveTo>
                        <a:lnTo>
                          <a:pt x="14" y="7"/>
                        </a:lnTo>
                        <a:lnTo>
                          <a:pt x="29" y="7"/>
                        </a:lnTo>
                        <a:lnTo>
                          <a:pt x="40" y="7"/>
                        </a:lnTo>
                        <a:lnTo>
                          <a:pt x="48" y="7"/>
                        </a:lnTo>
                        <a:lnTo>
                          <a:pt x="55" y="9"/>
                        </a:lnTo>
                        <a:lnTo>
                          <a:pt x="64" y="13"/>
                        </a:lnTo>
                        <a:lnTo>
                          <a:pt x="70" y="25"/>
                        </a:lnTo>
                        <a:lnTo>
                          <a:pt x="74" y="29"/>
                        </a:lnTo>
                        <a:lnTo>
                          <a:pt x="81" y="29"/>
                        </a:lnTo>
                        <a:lnTo>
                          <a:pt x="91" y="29"/>
                        </a:lnTo>
                        <a:lnTo>
                          <a:pt x="101" y="35"/>
                        </a:lnTo>
                        <a:lnTo>
                          <a:pt x="107" y="39"/>
                        </a:lnTo>
                        <a:lnTo>
                          <a:pt x="111" y="39"/>
                        </a:lnTo>
                        <a:lnTo>
                          <a:pt x="112" y="29"/>
                        </a:lnTo>
                        <a:lnTo>
                          <a:pt x="115" y="25"/>
                        </a:lnTo>
                        <a:lnTo>
                          <a:pt x="129" y="29"/>
                        </a:lnTo>
                        <a:lnTo>
                          <a:pt x="140" y="29"/>
                        </a:lnTo>
                        <a:lnTo>
                          <a:pt x="151" y="29"/>
                        </a:lnTo>
                        <a:lnTo>
                          <a:pt x="158" y="33"/>
                        </a:lnTo>
                        <a:lnTo>
                          <a:pt x="162" y="36"/>
                        </a:lnTo>
                        <a:lnTo>
                          <a:pt x="170" y="35"/>
                        </a:lnTo>
                        <a:lnTo>
                          <a:pt x="176" y="33"/>
                        </a:lnTo>
                        <a:lnTo>
                          <a:pt x="181" y="29"/>
                        </a:lnTo>
                        <a:lnTo>
                          <a:pt x="188" y="29"/>
                        </a:lnTo>
                        <a:lnTo>
                          <a:pt x="195" y="25"/>
                        </a:lnTo>
                        <a:lnTo>
                          <a:pt x="202" y="23"/>
                        </a:lnTo>
                        <a:lnTo>
                          <a:pt x="206" y="23"/>
                        </a:lnTo>
                        <a:lnTo>
                          <a:pt x="204" y="33"/>
                        </a:lnTo>
                        <a:lnTo>
                          <a:pt x="202" y="39"/>
                        </a:lnTo>
                        <a:lnTo>
                          <a:pt x="199" y="42"/>
                        </a:lnTo>
                        <a:lnTo>
                          <a:pt x="195" y="42"/>
                        </a:lnTo>
                        <a:lnTo>
                          <a:pt x="193" y="42"/>
                        </a:lnTo>
                        <a:lnTo>
                          <a:pt x="186" y="45"/>
                        </a:lnTo>
                        <a:lnTo>
                          <a:pt x="182" y="49"/>
                        </a:lnTo>
                        <a:lnTo>
                          <a:pt x="180" y="49"/>
                        </a:lnTo>
                        <a:lnTo>
                          <a:pt x="173" y="46"/>
                        </a:lnTo>
                        <a:lnTo>
                          <a:pt x="169" y="49"/>
                        </a:lnTo>
                        <a:lnTo>
                          <a:pt x="165" y="49"/>
                        </a:lnTo>
                        <a:lnTo>
                          <a:pt x="161" y="49"/>
                        </a:lnTo>
                        <a:lnTo>
                          <a:pt x="158" y="52"/>
                        </a:lnTo>
                        <a:lnTo>
                          <a:pt x="151" y="52"/>
                        </a:lnTo>
                        <a:lnTo>
                          <a:pt x="147" y="49"/>
                        </a:lnTo>
                        <a:lnTo>
                          <a:pt x="141" y="42"/>
                        </a:lnTo>
                        <a:lnTo>
                          <a:pt x="136" y="49"/>
                        </a:lnTo>
                        <a:lnTo>
                          <a:pt x="132" y="52"/>
                        </a:lnTo>
                        <a:lnTo>
                          <a:pt x="128" y="52"/>
                        </a:lnTo>
                        <a:lnTo>
                          <a:pt x="121" y="42"/>
                        </a:lnTo>
                        <a:lnTo>
                          <a:pt x="119" y="45"/>
                        </a:lnTo>
                        <a:lnTo>
                          <a:pt x="114" y="45"/>
                        </a:lnTo>
                        <a:lnTo>
                          <a:pt x="110" y="49"/>
                        </a:lnTo>
                        <a:lnTo>
                          <a:pt x="104" y="49"/>
                        </a:lnTo>
                        <a:lnTo>
                          <a:pt x="96" y="49"/>
                        </a:lnTo>
                        <a:lnTo>
                          <a:pt x="93" y="46"/>
                        </a:lnTo>
                        <a:lnTo>
                          <a:pt x="89" y="42"/>
                        </a:lnTo>
                        <a:lnTo>
                          <a:pt x="82" y="45"/>
                        </a:lnTo>
                        <a:lnTo>
                          <a:pt x="77" y="49"/>
                        </a:lnTo>
                        <a:lnTo>
                          <a:pt x="73" y="49"/>
                        </a:lnTo>
                        <a:lnTo>
                          <a:pt x="64" y="46"/>
                        </a:lnTo>
                        <a:lnTo>
                          <a:pt x="56" y="41"/>
                        </a:lnTo>
                        <a:lnTo>
                          <a:pt x="50" y="41"/>
                        </a:lnTo>
                        <a:lnTo>
                          <a:pt x="37" y="36"/>
                        </a:lnTo>
                        <a:lnTo>
                          <a:pt x="29" y="33"/>
                        </a:lnTo>
                        <a:lnTo>
                          <a:pt x="23" y="33"/>
                        </a:lnTo>
                        <a:lnTo>
                          <a:pt x="14" y="29"/>
                        </a:lnTo>
                        <a:lnTo>
                          <a:pt x="7" y="23"/>
                        </a:lnTo>
                        <a:lnTo>
                          <a:pt x="3" y="23"/>
                        </a:lnTo>
                        <a:lnTo>
                          <a:pt x="0" y="20"/>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48" name=""/>
                  <p:cNvSpPr/>
                  <p:nvPr/>
                </p:nvSpPr>
                <p:spPr>
                  <a:xfrm>
                    <a:off x="5401080" y="3977280"/>
                    <a:ext cx="73080" cy="75240"/>
                  </a:xfrm>
                  <a:custGeom>
                    <a:avLst/>
                    <a:gdLst/>
                    <a:ahLst/>
                    <a:rect l="l" t="t" r="r" b="b"/>
                    <a:pathLst>
                      <a:path w="94" h="103">
                        <a:moveTo>
                          <a:pt x="24" y="0"/>
                        </a:moveTo>
                        <a:lnTo>
                          <a:pt x="46" y="3"/>
                        </a:lnTo>
                        <a:lnTo>
                          <a:pt x="69" y="3"/>
                        </a:lnTo>
                        <a:lnTo>
                          <a:pt x="80" y="0"/>
                        </a:lnTo>
                        <a:lnTo>
                          <a:pt x="94" y="8"/>
                        </a:lnTo>
                        <a:lnTo>
                          <a:pt x="86" y="13"/>
                        </a:lnTo>
                        <a:lnTo>
                          <a:pt x="80" y="17"/>
                        </a:lnTo>
                        <a:lnTo>
                          <a:pt x="74" y="19"/>
                        </a:lnTo>
                        <a:lnTo>
                          <a:pt x="73" y="23"/>
                        </a:lnTo>
                        <a:lnTo>
                          <a:pt x="73" y="29"/>
                        </a:lnTo>
                        <a:lnTo>
                          <a:pt x="73" y="30"/>
                        </a:lnTo>
                        <a:lnTo>
                          <a:pt x="68" y="34"/>
                        </a:lnTo>
                        <a:lnTo>
                          <a:pt x="61" y="34"/>
                        </a:lnTo>
                        <a:lnTo>
                          <a:pt x="58" y="34"/>
                        </a:lnTo>
                        <a:lnTo>
                          <a:pt x="53" y="34"/>
                        </a:lnTo>
                        <a:lnTo>
                          <a:pt x="50" y="30"/>
                        </a:lnTo>
                        <a:lnTo>
                          <a:pt x="46" y="24"/>
                        </a:lnTo>
                        <a:lnTo>
                          <a:pt x="42" y="19"/>
                        </a:lnTo>
                        <a:lnTo>
                          <a:pt x="33" y="19"/>
                        </a:lnTo>
                        <a:lnTo>
                          <a:pt x="32" y="19"/>
                        </a:lnTo>
                        <a:lnTo>
                          <a:pt x="28" y="30"/>
                        </a:lnTo>
                        <a:lnTo>
                          <a:pt x="29" y="34"/>
                        </a:lnTo>
                        <a:lnTo>
                          <a:pt x="29" y="40"/>
                        </a:lnTo>
                        <a:lnTo>
                          <a:pt x="32" y="45"/>
                        </a:lnTo>
                        <a:lnTo>
                          <a:pt x="36" y="45"/>
                        </a:lnTo>
                        <a:lnTo>
                          <a:pt x="42" y="39"/>
                        </a:lnTo>
                        <a:lnTo>
                          <a:pt x="46" y="39"/>
                        </a:lnTo>
                        <a:lnTo>
                          <a:pt x="49" y="43"/>
                        </a:lnTo>
                        <a:lnTo>
                          <a:pt x="49" y="45"/>
                        </a:lnTo>
                        <a:lnTo>
                          <a:pt x="47" y="50"/>
                        </a:lnTo>
                        <a:lnTo>
                          <a:pt x="46" y="52"/>
                        </a:lnTo>
                        <a:lnTo>
                          <a:pt x="46" y="56"/>
                        </a:lnTo>
                        <a:lnTo>
                          <a:pt x="46" y="62"/>
                        </a:lnTo>
                        <a:lnTo>
                          <a:pt x="47" y="68"/>
                        </a:lnTo>
                        <a:lnTo>
                          <a:pt x="51" y="72"/>
                        </a:lnTo>
                        <a:lnTo>
                          <a:pt x="53" y="71"/>
                        </a:lnTo>
                        <a:lnTo>
                          <a:pt x="53" y="77"/>
                        </a:lnTo>
                        <a:lnTo>
                          <a:pt x="50" y="82"/>
                        </a:lnTo>
                        <a:lnTo>
                          <a:pt x="49" y="87"/>
                        </a:lnTo>
                        <a:lnTo>
                          <a:pt x="47" y="97"/>
                        </a:lnTo>
                        <a:lnTo>
                          <a:pt x="43" y="98"/>
                        </a:lnTo>
                        <a:lnTo>
                          <a:pt x="40" y="98"/>
                        </a:lnTo>
                        <a:lnTo>
                          <a:pt x="37" y="98"/>
                        </a:lnTo>
                        <a:lnTo>
                          <a:pt x="37" y="91"/>
                        </a:lnTo>
                        <a:lnTo>
                          <a:pt x="36" y="81"/>
                        </a:lnTo>
                        <a:lnTo>
                          <a:pt x="32" y="77"/>
                        </a:lnTo>
                        <a:lnTo>
                          <a:pt x="32" y="72"/>
                        </a:lnTo>
                        <a:lnTo>
                          <a:pt x="32" y="65"/>
                        </a:lnTo>
                        <a:lnTo>
                          <a:pt x="28" y="59"/>
                        </a:lnTo>
                        <a:lnTo>
                          <a:pt x="20" y="65"/>
                        </a:lnTo>
                        <a:lnTo>
                          <a:pt x="17" y="59"/>
                        </a:lnTo>
                        <a:lnTo>
                          <a:pt x="13" y="66"/>
                        </a:lnTo>
                        <a:lnTo>
                          <a:pt x="17" y="71"/>
                        </a:lnTo>
                        <a:lnTo>
                          <a:pt x="23" y="71"/>
                        </a:lnTo>
                        <a:lnTo>
                          <a:pt x="24" y="75"/>
                        </a:lnTo>
                        <a:lnTo>
                          <a:pt x="28" y="81"/>
                        </a:lnTo>
                        <a:lnTo>
                          <a:pt x="28" y="85"/>
                        </a:lnTo>
                        <a:lnTo>
                          <a:pt x="24" y="91"/>
                        </a:lnTo>
                        <a:lnTo>
                          <a:pt x="20" y="101"/>
                        </a:lnTo>
                        <a:lnTo>
                          <a:pt x="17" y="103"/>
                        </a:lnTo>
                        <a:lnTo>
                          <a:pt x="17" y="97"/>
                        </a:lnTo>
                        <a:lnTo>
                          <a:pt x="17" y="91"/>
                        </a:lnTo>
                        <a:lnTo>
                          <a:pt x="18" y="85"/>
                        </a:lnTo>
                        <a:lnTo>
                          <a:pt x="13" y="81"/>
                        </a:lnTo>
                        <a:lnTo>
                          <a:pt x="9" y="77"/>
                        </a:lnTo>
                        <a:lnTo>
                          <a:pt x="7" y="71"/>
                        </a:lnTo>
                        <a:lnTo>
                          <a:pt x="0" y="71"/>
                        </a:lnTo>
                        <a:lnTo>
                          <a:pt x="2" y="59"/>
                        </a:lnTo>
                        <a:lnTo>
                          <a:pt x="7" y="55"/>
                        </a:lnTo>
                        <a:lnTo>
                          <a:pt x="10" y="49"/>
                        </a:lnTo>
                        <a:lnTo>
                          <a:pt x="13" y="40"/>
                        </a:lnTo>
                        <a:lnTo>
                          <a:pt x="13" y="33"/>
                        </a:lnTo>
                        <a:lnTo>
                          <a:pt x="13" y="24"/>
                        </a:lnTo>
                        <a:lnTo>
                          <a:pt x="16" y="20"/>
                        </a:lnTo>
                        <a:lnTo>
                          <a:pt x="17" y="19"/>
                        </a:lnTo>
                        <a:lnTo>
                          <a:pt x="13" y="13"/>
                        </a:lnTo>
                        <a:lnTo>
                          <a:pt x="24"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49" name=""/>
                  <p:cNvSpPr/>
                  <p:nvPr/>
                </p:nvSpPr>
                <p:spPr>
                  <a:xfrm>
                    <a:off x="5324760" y="3942720"/>
                    <a:ext cx="79560" cy="105480"/>
                  </a:xfrm>
                  <a:custGeom>
                    <a:avLst/>
                    <a:gdLst/>
                    <a:ahLst/>
                    <a:rect l="l" t="t" r="r" b="b"/>
                    <a:pathLst>
                      <a:path w="103" h="145">
                        <a:moveTo>
                          <a:pt x="0" y="51"/>
                        </a:moveTo>
                        <a:lnTo>
                          <a:pt x="20" y="26"/>
                        </a:lnTo>
                        <a:lnTo>
                          <a:pt x="33" y="16"/>
                        </a:lnTo>
                        <a:lnTo>
                          <a:pt x="37" y="10"/>
                        </a:lnTo>
                        <a:lnTo>
                          <a:pt x="53" y="0"/>
                        </a:lnTo>
                        <a:lnTo>
                          <a:pt x="64" y="20"/>
                        </a:lnTo>
                        <a:lnTo>
                          <a:pt x="71" y="13"/>
                        </a:lnTo>
                        <a:lnTo>
                          <a:pt x="75" y="9"/>
                        </a:lnTo>
                        <a:lnTo>
                          <a:pt x="82" y="0"/>
                        </a:lnTo>
                        <a:lnTo>
                          <a:pt x="89" y="0"/>
                        </a:lnTo>
                        <a:lnTo>
                          <a:pt x="89" y="10"/>
                        </a:lnTo>
                        <a:lnTo>
                          <a:pt x="89" y="14"/>
                        </a:lnTo>
                        <a:lnTo>
                          <a:pt x="86" y="20"/>
                        </a:lnTo>
                        <a:lnTo>
                          <a:pt x="86" y="26"/>
                        </a:lnTo>
                        <a:lnTo>
                          <a:pt x="96" y="46"/>
                        </a:lnTo>
                        <a:lnTo>
                          <a:pt x="98" y="56"/>
                        </a:lnTo>
                        <a:lnTo>
                          <a:pt x="101" y="56"/>
                        </a:lnTo>
                        <a:lnTo>
                          <a:pt x="103" y="65"/>
                        </a:lnTo>
                        <a:lnTo>
                          <a:pt x="98" y="71"/>
                        </a:lnTo>
                        <a:lnTo>
                          <a:pt x="96" y="67"/>
                        </a:lnTo>
                        <a:lnTo>
                          <a:pt x="89" y="72"/>
                        </a:lnTo>
                        <a:lnTo>
                          <a:pt x="89" y="84"/>
                        </a:lnTo>
                        <a:lnTo>
                          <a:pt x="79" y="93"/>
                        </a:lnTo>
                        <a:lnTo>
                          <a:pt x="79" y="114"/>
                        </a:lnTo>
                        <a:lnTo>
                          <a:pt x="79" y="126"/>
                        </a:lnTo>
                        <a:lnTo>
                          <a:pt x="75" y="133"/>
                        </a:lnTo>
                        <a:lnTo>
                          <a:pt x="71" y="145"/>
                        </a:lnTo>
                        <a:lnTo>
                          <a:pt x="67" y="139"/>
                        </a:lnTo>
                        <a:lnTo>
                          <a:pt x="61" y="136"/>
                        </a:lnTo>
                        <a:lnTo>
                          <a:pt x="56" y="133"/>
                        </a:lnTo>
                        <a:lnTo>
                          <a:pt x="50" y="125"/>
                        </a:lnTo>
                        <a:lnTo>
                          <a:pt x="34" y="125"/>
                        </a:lnTo>
                        <a:lnTo>
                          <a:pt x="22" y="120"/>
                        </a:lnTo>
                        <a:lnTo>
                          <a:pt x="13" y="107"/>
                        </a:lnTo>
                        <a:lnTo>
                          <a:pt x="8" y="98"/>
                        </a:lnTo>
                        <a:lnTo>
                          <a:pt x="3" y="93"/>
                        </a:lnTo>
                        <a:lnTo>
                          <a:pt x="3" y="78"/>
                        </a:lnTo>
                        <a:lnTo>
                          <a:pt x="0" y="5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496120" y="4003560"/>
                    <a:ext cx="154440" cy="95400"/>
                  </a:xfrm>
                  <a:custGeom>
                    <a:avLst/>
                    <a:gdLst/>
                    <a:ahLst/>
                    <a:rect l="l" t="t" r="r" b="b"/>
                    <a:pathLst>
                      <a:path w="198" h="132">
                        <a:moveTo>
                          <a:pt x="0" y="0"/>
                        </a:moveTo>
                        <a:lnTo>
                          <a:pt x="18" y="0"/>
                        </a:lnTo>
                        <a:lnTo>
                          <a:pt x="32" y="2"/>
                        </a:lnTo>
                        <a:lnTo>
                          <a:pt x="38" y="21"/>
                        </a:lnTo>
                        <a:lnTo>
                          <a:pt x="39" y="28"/>
                        </a:lnTo>
                        <a:lnTo>
                          <a:pt x="41" y="32"/>
                        </a:lnTo>
                        <a:lnTo>
                          <a:pt x="46" y="25"/>
                        </a:lnTo>
                        <a:lnTo>
                          <a:pt x="53" y="25"/>
                        </a:lnTo>
                        <a:lnTo>
                          <a:pt x="59" y="32"/>
                        </a:lnTo>
                        <a:lnTo>
                          <a:pt x="60" y="31"/>
                        </a:lnTo>
                        <a:lnTo>
                          <a:pt x="67" y="21"/>
                        </a:lnTo>
                        <a:lnTo>
                          <a:pt x="68" y="21"/>
                        </a:lnTo>
                        <a:lnTo>
                          <a:pt x="74" y="16"/>
                        </a:lnTo>
                        <a:lnTo>
                          <a:pt x="80" y="16"/>
                        </a:lnTo>
                        <a:lnTo>
                          <a:pt x="96" y="25"/>
                        </a:lnTo>
                        <a:lnTo>
                          <a:pt x="106" y="25"/>
                        </a:lnTo>
                        <a:lnTo>
                          <a:pt x="113" y="37"/>
                        </a:lnTo>
                        <a:lnTo>
                          <a:pt x="120" y="37"/>
                        </a:lnTo>
                        <a:lnTo>
                          <a:pt x="127" y="43"/>
                        </a:lnTo>
                        <a:lnTo>
                          <a:pt x="133" y="44"/>
                        </a:lnTo>
                        <a:lnTo>
                          <a:pt x="148" y="51"/>
                        </a:lnTo>
                        <a:lnTo>
                          <a:pt x="154" y="63"/>
                        </a:lnTo>
                        <a:lnTo>
                          <a:pt x="157" y="69"/>
                        </a:lnTo>
                        <a:lnTo>
                          <a:pt x="156" y="73"/>
                        </a:lnTo>
                        <a:lnTo>
                          <a:pt x="161" y="77"/>
                        </a:lnTo>
                        <a:lnTo>
                          <a:pt x="166" y="79"/>
                        </a:lnTo>
                        <a:lnTo>
                          <a:pt x="168" y="80"/>
                        </a:lnTo>
                        <a:lnTo>
                          <a:pt x="174" y="83"/>
                        </a:lnTo>
                        <a:lnTo>
                          <a:pt x="185" y="93"/>
                        </a:lnTo>
                        <a:lnTo>
                          <a:pt x="185" y="99"/>
                        </a:lnTo>
                        <a:lnTo>
                          <a:pt x="189" y="105"/>
                        </a:lnTo>
                        <a:lnTo>
                          <a:pt x="190" y="109"/>
                        </a:lnTo>
                        <a:lnTo>
                          <a:pt x="198" y="119"/>
                        </a:lnTo>
                        <a:lnTo>
                          <a:pt x="190" y="132"/>
                        </a:lnTo>
                        <a:lnTo>
                          <a:pt x="189" y="132"/>
                        </a:lnTo>
                        <a:lnTo>
                          <a:pt x="182" y="132"/>
                        </a:lnTo>
                        <a:lnTo>
                          <a:pt x="179" y="127"/>
                        </a:lnTo>
                        <a:lnTo>
                          <a:pt x="177" y="127"/>
                        </a:lnTo>
                        <a:lnTo>
                          <a:pt x="171" y="127"/>
                        </a:lnTo>
                        <a:lnTo>
                          <a:pt x="156" y="103"/>
                        </a:lnTo>
                        <a:lnTo>
                          <a:pt x="146" y="105"/>
                        </a:lnTo>
                        <a:lnTo>
                          <a:pt x="135" y="103"/>
                        </a:lnTo>
                        <a:lnTo>
                          <a:pt x="133" y="106"/>
                        </a:lnTo>
                        <a:lnTo>
                          <a:pt x="129" y="111"/>
                        </a:lnTo>
                        <a:lnTo>
                          <a:pt x="129" y="109"/>
                        </a:lnTo>
                        <a:lnTo>
                          <a:pt x="126" y="116"/>
                        </a:lnTo>
                        <a:lnTo>
                          <a:pt x="117" y="127"/>
                        </a:lnTo>
                        <a:lnTo>
                          <a:pt x="111" y="121"/>
                        </a:lnTo>
                        <a:lnTo>
                          <a:pt x="106" y="119"/>
                        </a:lnTo>
                        <a:lnTo>
                          <a:pt x="98" y="119"/>
                        </a:lnTo>
                        <a:lnTo>
                          <a:pt x="94" y="116"/>
                        </a:lnTo>
                        <a:lnTo>
                          <a:pt x="90" y="119"/>
                        </a:lnTo>
                        <a:lnTo>
                          <a:pt x="86" y="103"/>
                        </a:lnTo>
                        <a:lnTo>
                          <a:pt x="79" y="89"/>
                        </a:lnTo>
                        <a:lnTo>
                          <a:pt x="69" y="73"/>
                        </a:lnTo>
                        <a:lnTo>
                          <a:pt x="65" y="63"/>
                        </a:lnTo>
                        <a:lnTo>
                          <a:pt x="59" y="53"/>
                        </a:lnTo>
                        <a:lnTo>
                          <a:pt x="46" y="53"/>
                        </a:lnTo>
                        <a:lnTo>
                          <a:pt x="37" y="57"/>
                        </a:lnTo>
                        <a:lnTo>
                          <a:pt x="30" y="51"/>
                        </a:lnTo>
                        <a:lnTo>
                          <a:pt x="18" y="47"/>
                        </a:lnTo>
                        <a:lnTo>
                          <a:pt x="12" y="43"/>
                        </a:lnTo>
                        <a:lnTo>
                          <a:pt x="12" y="22"/>
                        </a:lnTo>
                        <a:lnTo>
                          <a:pt x="13"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5209560" y="3935520"/>
                    <a:ext cx="95040" cy="124200"/>
                  </a:xfrm>
                  <a:custGeom>
                    <a:avLst/>
                    <a:gdLst/>
                    <a:ahLst/>
                    <a:rect l="l" t="t" r="r" b="b"/>
                    <a:pathLst>
                      <a:path w="121" h="173">
                        <a:moveTo>
                          <a:pt x="0" y="6"/>
                        </a:moveTo>
                        <a:lnTo>
                          <a:pt x="12" y="0"/>
                        </a:lnTo>
                        <a:lnTo>
                          <a:pt x="26" y="6"/>
                        </a:lnTo>
                        <a:lnTo>
                          <a:pt x="28" y="15"/>
                        </a:lnTo>
                        <a:lnTo>
                          <a:pt x="28" y="21"/>
                        </a:lnTo>
                        <a:lnTo>
                          <a:pt x="34" y="22"/>
                        </a:lnTo>
                        <a:lnTo>
                          <a:pt x="34" y="25"/>
                        </a:lnTo>
                        <a:lnTo>
                          <a:pt x="37" y="26"/>
                        </a:lnTo>
                        <a:lnTo>
                          <a:pt x="37" y="32"/>
                        </a:lnTo>
                        <a:lnTo>
                          <a:pt x="49" y="48"/>
                        </a:lnTo>
                        <a:lnTo>
                          <a:pt x="52" y="48"/>
                        </a:lnTo>
                        <a:lnTo>
                          <a:pt x="55" y="54"/>
                        </a:lnTo>
                        <a:lnTo>
                          <a:pt x="58" y="60"/>
                        </a:lnTo>
                        <a:lnTo>
                          <a:pt x="60" y="60"/>
                        </a:lnTo>
                        <a:lnTo>
                          <a:pt x="69" y="67"/>
                        </a:lnTo>
                        <a:lnTo>
                          <a:pt x="89" y="68"/>
                        </a:lnTo>
                        <a:lnTo>
                          <a:pt x="91" y="90"/>
                        </a:lnTo>
                        <a:lnTo>
                          <a:pt x="93" y="94"/>
                        </a:lnTo>
                        <a:lnTo>
                          <a:pt x="92" y="103"/>
                        </a:lnTo>
                        <a:lnTo>
                          <a:pt x="103" y="112"/>
                        </a:lnTo>
                        <a:lnTo>
                          <a:pt x="115" y="116"/>
                        </a:lnTo>
                        <a:lnTo>
                          <a:pt x="115" y="151"/>
                        </a:lnTo>
                        <a:lnTo>
                          <a:pt x="121" y="168"/>
                        </a:lnTo>
                        <a:lnTo>
                          <a:pt x="116" y="171"/>
                        </a:lnTo>
                        <a:lnTo>
                          <a:pt x="110" y="173"/>
                        </a:lnTo>
                        <a:lnTo>
                          <a:pt x="109" y="163"/>
                        </a:lnTo>
                        <a:lnTo>
                          <a:pt x="96" y="173"/>
                        </a:lnTo>
                        <a:lnTo>
                          <a:pt x="91" y="157"/>
                        </a:lnTo>
                        <a:lnTo>
                          <a:pt x="86" y="142"/>
                        </a:lnTo>
                        <a:lnTo>
                          <a:pt x="73" y="126"/>
                        </a:lnTo>
                        <a:lnTo>
                          <a:pt x="67" y="126"/>
                        </a:lnTo>
                        <a:lnTo>
                          <a:pt x="55" y="115"/>
                        </a:lnTo>
                        <a:lnTo>
                          <a:pt x="54" y="106"/>
                        </a:lnTo>
                        <a:lnTo>
                          <a:pt x="54" y="100"/>
                        </a:lnTo>
                        <a:lnTo>
                          <a:pt x="45" y="74"/>
                        </a:lnTo>
                        <a:lnTo>
                          <a:pt x="40" y="60"/>
                        </a:lnTo>
                        <a:lnTo>
                          <a:pt x="26" y="47"/>
                        </a:lnTo>
                        <a:lnTo>
                          <a:pt x="11" y="25"/>
                        </a:lnTo>
                        <a:lnTo>
                          <a:pt x="0" y="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5375880" y="3798000"/>
                    <a:ext cx="92160" cy="141840"/>
                  </a:xfrm>
                  <a:custGeom>
                    <a:avLst/>
                    <a:gdLst/>
                    <a:ahLst/>
                    <a:rect l="l" t="t" r="r" b="b"/>
                    <a:pathLst>
                      <a:path w="118" h="194">
                        <a:moveTo>
                          <a:pt x="8" y="0"/>
                        </a:moveTo>
                        <a:lnTo>
                          <a:pt x="20" y="0"/>
                        </a:lnTo>
                        <a:lnTo>
                          <a:pt x="30" y="20"/>
                        </a:lnTo>
                        <a:lnTo>
                          <a:pt x="27" y="39"/>
                        </a:lnTo>
                        <a:lnTo>
                          <a:pt x="34" y="46"/>
                        </a:lnTo>
                        <a:lnTo>
                          <a:pt x="37" y="58"/>
                        </a:lnTo>
                        <a:lnTo>
                          <a:pt x="45" y="64"/>
                        </a:lnTo>
                        <a:lnTo>
                          <a:pt x="53" y="65"/>
                        </a:lnTo>
                        <a:lnTo>
                          <a:pt x="68" y="75"/>
                        </a:lnTo>
                        <a:lnTo>
                          <a:pt x="76" y="88"/>
                        </a:lnTo>
                        <a:lnTo>
                          <a:pt x="78" y="88"/>
                        </a:lnTo>
                        <a:lnTo>
                          <a:pt x="89" y="96"/>
                        </a:lnTo>
                        <a:lnTo>
                          <a:pt x="89" y="120"/>
                        </a:lnTo>
                        <a:lnTo>
                          <a:pt x="93" y="132"/>
                        </a:lnTo>
                        <a:lnTo>
                          <a:pt x="96" y="138"/>
                        </a:lnTo>
                        <a:lnTo>
                          <a:pt x="101" y="143"/>
                        </a:lnTo>
                        <a:lnTo>
                          <a:pt x="105" y="152"/>
                        </a:lnTo>
                        <a:lnTo>
                          <a:pt x="106" y="161"/>
                        </a:lnTo>
                        <a:lnTo>
                          <a:pt x="118" y="168"/>
                        </a:lnTo>
                        <a:lnTo>
                          <a:pt x="116" y="178"/>
                        </a:lnTo>
                        <a:lnTo>
                          <a:pt x="106" y="180"/>
                        </a:lnTo>
                        <a:lnTo>
                          <a:pt x="102" y="174"/>
                        </a:lnTo>
                        <a:lnTo>
                          <a:pt x="96" y="174"/>
                        </a:lnTo>
                        <a:lnTo>
                          <a:pt x="96" y="194"/>
                        </a:lnTo>
                        <a:lnTo>
                          <a:pt x="90" y="194"/>
                        </a:lnTo>
                        <a:lnTo>
                          <a:pt x="83" y="184"/>
                        </a:lnTo>
                        <a:lnTo>
                          <a:pt x="79" y="178"/>
                        </a:lnTo>
                        <a:lnTo>
                          <a:pt x="79" y="168"/>
                        </a:lnTo>
                        <a:lnTo>
                          <a:pt x="71" y="168"/>
                        </a:lnTo>
                        <a:lnTo>
                          <a:pt x="67" y="178"/>
                        </a:lnTo>
                        <a:lnTo>
                          <a:pt x="64" y="168"/>
                        </a:lnTo>
                        <a:lnTo>
                          <a:pt x="61" y="156"/>
                        </a:lnTo>
                        <a:lnTo>
                          <a:pt x="74" y="152"/>
                        </a:lnTo>
                        <a:lnTo>
                          <a:pt x="81" y="154"/>
                        </a:lnTo>
                        <a:lnTo>
                          <a:pt x="81" y="135"/>
                        </a:lnTo>
                        <a:lnTo>
                          <a:pt x="75" y="130"/>
                        </a:lnTo>
                        <a:lnTo>
                          <a:pt x="71" y="114"/>
                        </a:lnTo>
                        <a:lnTo>
                          <a:pt x="68" y="94"/>
                        </a:lnTo>
                        <a:lnTo>
                          <a:pt x="55" y="90"/>
                        </a:lnTo>
                        <a:lnTo>
                          <a:pt x="49" y="80"/>
                        </a:lnTo>
                        <a:lnTo>
                          <a:pt x="41" y="75"/>
                        </a:lnTo>
                        <a:lnTo>
                          <a:pt x="45" y="91"/>
                        </a:lnTo>
                        <a:lnTo>
                          <a:pt x="34" y="100"/>
                        </a:lnTo>
                        <a:lnTo>
                          <a:pt x="27" y="83"/>
                        </a:lnTo>
                        <a:lnTo>
                          <a:pt x="23" y="75"/>
                        </a:lnTo>
                        <a:lnTo>
                          <a:pt x="23" y="65"/>
                        </a:lnTo>
                        <a:lnTo>
                          <a:pt x="13" y="52"/>
                        </a:lnTo>
                        <a:lnTo>
                          <a:pt x="4" y="46"/>
                        </a:lnTo>
                        <a:lnTo>
                          <a:pt x="0" y="38"/>
                        </a:lnTo>
                        <a:lnTo>
                          <a:pt x="2" y="30"/>
                        </a:lnTo>
                        <a:lnTo>
                          <a:pt x="9" y="36"/>
                        </a:lnTo>
                        <a:lnTo>
                          <a:pt x="11" y="26"/>
                        </a:lnTo>
                        <a:lnTo>
                          <a:pt x="9" y="16"/>
                        </a:lnTo>
                        <a:lnTo>
                          <a:pt x="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5355720" y="3563280"/>
                    <a:ext cx="66960" cy="117360"/>
                  </a:xfrm>
                  <a:custGeom>
                    <a:avLst/>
                    <a:gdLst/>
                    <a:ahLst/>
                    <a:rect l="l" t="t" r="r" b="b"/>
                    <a:pathLst>
                      <a:path w="86" h="162">
                        <a:moveTo>
                          <a:pt x="19" y="0"/>
                        </a:moveTo>
                        <a:lnTo>
                          <a:pt x="34" y="9"/>
                        </a:lnTo>
                        <a:lnTo>
                          <a:pt x="46" y="22"/>
                        </a:lnTo>
                        <a:lnTo>
                          <a:pt x="52" y="35"/>
                        </a:lnTo>
                        <a:lnTo>
                          <a:pt x="56" y="35"/>
                        </a:lnTo>
                        <a:lnTo>
                          <a:pt x="56" y="43"/>
                        </a:lnTo>
                        <a:lnTo>
                          <a:pt x="61" y="52"/>
                        </a:lnTo>
                        <a:lnTo>
                          <a:pt x="67" y="61"/>
                        </a:lnTo>
                        <a:lnTo>
                          <a:pt x="78" y="78"/>
                        </a:lnTo>
                        <a:lnTo>
                          <a:pt x="86" y="101"/>
                        </a:lnTo>
                        <a:lnTo>
                          <a:pt x="71" y="100"/>
                        </a:lnTo>
                        <a:lnTo>
                          <a:pt x="60" y="96"/>
                        </a:lnTo>
                        <a:lnTo>
                          <a:pt x="68" y="112"/>
                        </a:lnTo>
                        <a:lnTo>
                          <a:pt x="68" y="122"/>
                        </a:lnTo>
                        <a:lnTo>
                          <a:pt x="68" y="130"/>
                        </a:lnTo>
                        <a:lnTo>
                          <a:pt x="63" y="128"/>
                        </a:lnTo>
                        <a:lnTo>
                          <a:pt x="57" y="120"/>
                        </a:lnTo>
                        <a:lnTo>
                          <a:pt x="49" y="107"/>
                        </a:lnTo>
                        <a:lnTo>
                          <a:pt x="42" y="104"/>
                        </a:lnTo>
                        <a:lnTo>
                          <a:pt x="33" y="107"/>
                        </a:lnTo>
                        <a:lnTo>
                          <a:pt x="27" y="112"/>
                        </a:lnTo>
                        <a:lnTo>
                          <a:pt x="30" y="120"/>
                        </a:lnTo>
                        <a:lnTo>
                          <a:pt x="39" y="128"/>
                        </a:lnTo>
                        <a:lnTo>
                          <a:pt x="49" y="132"/>
                        </a:lnTo>
                        <a:lnTo>
                          <a:pt x="53" y="143"/>
                        </a:lnTo>
                        <a:lnTo>
                          <a:pt x="52" y="158"/>
                        </a:lnTo>
                        <a:lnTo>
                          <a:pt x="52" y="162"/>
                        </a:lnTo>
                        <a:lnTo>
                          <a:pt x="49" y="162"/>
                        </a:lnTo>
                        <a:lnTo>
                          <a:pt x="42" y="158"/>
                        </a:lnTo>
                        <a:lnTo>
                          <a:pt x="39" y="156"/>
                        </a:lnTo>
                        <a:lnTo>
                          <a:pt x="37" y="154"/>
                        </a:lnTo>
                        <a:lnTo>
                          <a:pt x="33" y="159"/>
                        </a:lnTo>
                        <a:lnTo>
                          <a:pt x="27" y="162"/>
                        </a:lnTo>
                        <a:lnTo>
                          <a:pt x="24" y="156"/>
                        </a:lnTo>
                        <a:lnTo>
                          <a:pt x="24" y="142"/>
                        </a:lnTo>
                        <a:lnTo>
                          <a:pt x="23" y="133"/>
                        </a:lnTo>
                        <a:lnTo>
                          <a:pt x="17" y="128"/>
                        </a:lnTo>
                        <a:lnTo>
                          <a:pt x="10" y="138"/>
                        </a:lnTo>
                        <a:lnTo>
                          <a:pt x="1" y="138"/>
                        </a:lnTo>
                        <a:lnTo>
                          <a:pt x="0" y="130"/>
                        </a:lnTo>
                        <a:lnTo>
                          <a:pt x="1" y="113"/>
                        </a:lnTo>
                        <a:lnTo>
                          <a:pt x="9" y="106"/>
                        </a:lnTo>
                        <a:lnTo>
                          <a:pt x="8" y="81"/>
                        </a:lnTo>
                        <a:lnTo>
                          <a:pt x="8" y="74"/>
                        </a:lnTo>
                        <a:lnTo>
                          <a:pt x="13" y="71"/>
                        </a:lnTo>
                        <a:lnTo>
                          <a:pt x="20" y="78"/>
                        </a:lnTo>
                        <a:lnTo>
                          <a:pt x="30" y="84"/>
                        </a:lnTo>
                        <a:lnTo>
                          <a:pt x="30" y="70"/>
                        </a:lnTo>
                        <a:lnTo>
                          <a:pt x="24" y="65"/>
                        </a:lnTo>
                        <a:lnTo>
                          <a:pt x="24" y="61"/>
                        </a:lnTo>
                        <a:lnTo>
                          <a:pt x="26" y="61"/>
                        </a:lnTo>
                        <a:lnTo>
                          <a:pt x="28" y="61"/>
                        </a:lnTo>
                        <a:lnTo>
                          <a:pt x="30" y="61"/>
                        </a:lnTo>
                        <a:lnTo>
                          <a:pt x="33" y="61"/>
                        </a:lnTo>
                        <a:lnTo>
                          <a:pt x="37" y="55"/>
                        </a:lnTo>
                        <a:lnTo>
                          <a:pt x="35" y="52"/>
                        </a:lnTo>
                        <a:lnTo>
                          <a:pt x="31" y="39"/>
                        </a:lnTo>
                        <a:lnTo>
                          <a:pt x="24" y="29"/>
                        </a:lnTo>
                        <a:lnTo>
                          <a:pt x="17" y="23"/>
                        </a:lnTo>
                        <a:lnTo>
                          <a:pt x="12" y="16"/>
                        </a:lnTo>
                        <a:lnTo>
                          <a:pt x="1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279400" y="3421440"/>
                    <a:ext cx="71640" cy="95400"/>
                  </a:xfrm>
                  <a:custGeom>
                    <a:avLst/>
                    <a:gdLst/>
                    <a:ahLst/>
                    <a:rect l="l" t="t" r="r" b="b"/>
                    <a:pathLst>
                      <a:path w="92" h="134">
                        <a:moveTo>
                          <a:pt x="0" y="0"/>
                        </a:moveTo>
                        <a:lnTo>
                          <a:pt x="7" y="0"/>
                        </a:lnTo>
                        <a:lnTo>
                          <a:pt x="11" y="11"/>
                        </a:lnTo>
                        <a:lnTo>
                          <a:pt x="25" y="24"/>
                        </a:lnTo>
                        <a:lnTo>
                          <a:pt x="30" y="40"/>
                        </a:lnTo>
                        <a:lnTo>
                          <a:pt x="39" y="41"/>
                        </a:lnTo>
                        <a:lnTo>
                          <a:pt x="45" y="42"/>
                        </a:lnTo>
                        <a:lnTo>
                          <a:pt x="51" y="51"/>
                        </a:lnTo>
                        <a:lnTo>
                          <a:pt x="58" y="51"/>
                        </a:lnTo>
                        <a:lnTo>
                          <a:pt x="66" y="57"/>
                        </a:lnTo>
                        <a:lnTo>
                          <a:pt x="73" y="66"/>
                        </a:lnTo>
                        <a:lnTo>
                          <a:pt x="80" y="73"/>
                        </a:lnTo>
                        <a:lnTo>
                          <a:pt x="78" y="77"/>
                        </a:lnTo>
                        <a:lnTo>
                          <a:pt x="74" y="79"/>
                        </a:lnTo>
                        <a:lnTo>
                          <a:pt x="70" y="79"/>
                        </a:lnTo>
                        <a:lnTo>
                          <a:pt x="69" y="83"/>
                        </a:lnTo>
                        <a:lnTo>
                          <a:pt x="77" y="93"/>
                        </a:lnTo>
                        <a:lnTo>
                          <a:pt x="82" y="102"/>
                        </a:lnTo>
                        <a:lnTo>
                          <a:pt x="92" y="113"/>
                        </a:lnTo>
                        <a:lnTo>
                          <a:pt x="87" y="124"/>
                        </a:lnTo>
                        <a:lnTo>
                          <a:pt x="81" y="125"/>
                        </a:lnTo>
                        <a:lnTo>
                          <a:pt x="81" y="134"/>
                        </a:lnTo>
                        <a:lnTo>
                          <a:pt x="73" y="134"/>
                        </a:lnTo>
                        <a:lnTo>
                          <a:pt x="70" y="128"/>
                        </a:lnTo>
                        <a:lnTo>
                          <a:pt x="61" y="118"/>
                        </a:lnTo>
                        <a:lnTo>
                          <a:pt x="55" y="105"/>
                        </a:lnTo>
                        <a:lnTo>
                          <a:pt x="47" y="84"/>
                        </a:lnTo>
                        <a:lnTo>
                          <a:pt x="36" y="73"/>
                        </a:lnTo>
                        <a:lnTo>
                          <a:pt x="26" y="51"/>
                        </a:lnTo>
                        <a:lnTo>
                          <a:pt x="18" y="45"/>
                        </a:lnTo>
                        <a:lnTo>
                          <a:pt x="13" y="41"/>
                        </a:lnTo>
                        <a:lnTo>
                          <a:pt x="10" y="29"/>
                        </a:lnTo>
                        <a:lnTo>
                          <a:pt x="2" y="19"/>
                        </a:lnTo>
                        <a:lnTo>
                          <a:pt x="2"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5" name=""/>
                <p:cNvSpPr/>
                <p:nvPr/>
              </p:nvSpPr>
              <p:spPr>
                <a:xfrm>
                  <a:off x="4321440" y="3616560"/>
                  <a:ext cx="530280" cy="734040"/>
                </a:xfrm>
                <a:custGeom>
                  <a:avLst/>
                  <a:gdLst/>
                  <a:ahLst/>
                  <a:rect l="l" t="t" r="r" b="b"/>
                  <a:pathLst>
                    <a:path w="680" h="1014">
                      <a:moveTo>
                        <a:pt x="510" y="121"/>
                      </a:moveTo>
                      <a:lnTo>
                        <a:pt x="521" y="164"/>
                      </a:lnTo>
                      <a:lnTo>
                        <a:pt x="544" y="229"/>
                      </a:lnTo>
                      <a:lnTo>
                        <a:pt x="584" y="334"/>
                      </a:lnTo>
                      <a:lnTo>
                        <a:pt x="601" y="345"/>
                      </a:lnTo>
                      <a:lnTo>
                        <a:pt x="609" y="377"/>
                      </a:lnTo>
                      <a:lnTo>
                        <a:pt x="643" y="376"/>
                      </a:lnTo>
                      <a:lnTo>
                        <a:pt x="666" y="365"/>
                      </a:lnTo>
                      <a:lnTo>
                        <a:pt x="680" y="365"/>
                      </a:lnTo>
                      <a:lnTo>
                        <a:pt x="679" y="405"/>
                      </a:lnTo>
                      <a:lnTo>
                        <a:pt x="676" y="428"/>
                      </a:lnTo>
                      <a:lnTo>
                        <a:pt x="615" y="518"/>
                      </a:lnTo>
                      <a:lnTo>
                        <a:pt x="558" y="612"/>
                      </a:lnTo>
                      <a:lnTo>
                        <a:pt x="558" y="649"/>
                      </a:lnTo>
                      <a:lnTo>
                        <a:pt x="576" y="675"/>
                      </a:lnTo>
                      <a:lnTo>
                        <a:pt x="566" y="694"/>
                      </a:lnTo>
                      <a:lnTo>
                        <a:pt x="573" y="723"/>
                      </a:lnTo>
                      <a:lnTo>
                        <a:pt x="566" y="744"/>
                      </a:lnTo>
                      <a:lnTo>
                        <a:pt x="554" y="760"/>
                      </a:lnTo>
                      <a:lnTo>
                        <a:pt x="544" y="760"/>
                      </a:lnTo>
                      <a:lnTo>
                        <a:pt x="524" y="790"/>
                      </a:lnTo>
                      <a:lnTo>
                        <a:pt x="507" y="826"/>
                      </a:lnTo>
                      <a:lnTo>
                        <a:pt x="510" y="862"/>
                      </a:lnTo>
                      <a:lnTo>
                        <a:pt x="495" y="880"/>
                      </a:lnTo>
                      <a:lnTo>
                        <a:pt x="477" y="919"/>
                      </a:lnTo>
                      <a:lnTo>
                        <a:pt x="459" y="957"/>
                      </a:lnTo>
                      <a:lnTo>
                        <a:pt x="448" y="968"/>
                      </a:lnTo>
                      <a:lnTo>
                        <a:pt x="440" y="972"/>
                      </a:lnTo>
                      <a:lnTo>
                        <a:pt x="425" y="997"/>
                      </a:lnTo>
                      <a:lnTo>
                        <a:pt x="398" y="1010"/>
                      </a:lnTo>
                      <a:lnTo>
                        <a:pt x="366" y="1014"/>
                      </a:lnTo>
                      <a:lnTo>
                        <a:pt x="350" y="997"/>
                      </a:lnTo>
                      <a:lnTo>
                        <a:pt x="345" y="983"/>
                      </a:lnTo>
                      <a:lnTo>
                        <a:pt x="343" y="961"/>
                      </a:lnTo>
                      <a:lnTo>
                        <a:pt x="331" y="951"/>
                      </a:lnTo>
                      <a:lnTo>
                        <a:pt x="319" y="913"/>
                      </a:lnTo>
                      <a:lnTo>
                        <a:pt x="317" y="893"/>
                      </a:lnTo>
                      <a:lnTo>
                        <a:pt x="315" y="868"/>
                      </a:lnTo>
                      <a:lnTo>
                        <a:pt x="310" y="852"/>
                      </a:lnTo>
                      <a:lnTo>
                        <a:pt x="310" y="842"/>
                      </a:lnTo>
                      <a:lnTo>
                        <a:pt x="300" y="825"/>
                      </a:lnTo>
                      <a:lnTo>
                        <a:pt x="288" y="810"/>
                      </a:lnTo>
                      <a:lnTo>
                        <a:pt x="280" y="786"/>
                      </a:lnTo>
                      <a:lnTo>
                        <a:pt x="276" y="770"/>
                      </a:lnTo>
                      <a:lnTo>
                        <a:pt x="278" y="741"/>
                      </a:lnTo>
                      <a:lnTo>
                        <a:pt x="292" y="700"/>
                      </a:lnTo>
                      <a:lnTo>
                        <a:pt x="297" y="652"/>
                      </a:lnTo>
                      <a:lnTo>
                        <a:pt x="285" y="602"/>
                      </a:lnTo>
                      <a:lnTo>
                        <a:pt x="267" y="581"/>
                      </a:lnTo>
                      <a:lnTo>
                        <a:pt x="255" y="551"/>
                      </a:lnTo>
                      <a:lnTo>
                        <a:pt x="260" y="507"/>
                      </a:lnTo>
                      <a:lnTo>
                        <a:pt x="251" y="477"/>
                      </a:lnTo>
                      <a:lnTo>
                        <a:pt x="230" y="473"/>
                      </a:lnTo>
                      <a:lnTo>
                        <a:pt x="207" y="447"/>
                      </a:lnTo>
                      <a:lnTo>
                        <a:pt x="179" y="435"/>
                      </a:lnTo>
                      <a:lnTo>
                        <a:pt x="149" y="455"/>
                      </a:lnTo>
                      <a:lnTo>
                        <a:pt x="74" y="449"/>
                      </a:lnTo>
                      <a:lnTo>
                        <a:pt x="34" y="394"/>
                      </a:lnTo>
                      <a:lnTo>
                        <a:pt x="0" y="323"/>
                      </a:lnTo>
                      <a:lnTo>
                        <a:pt x="6" y="297"/>
                      </a:lnTo>
                      <a:lnTo>
                        <a:pt x="22" y="274"/>
                      </a:lnTo>
                      <a:lnTo>
                        <a:pt x="26" y="225"/>
                      </a:lnTo>
                      <a:lnTo>
                        <a:pt x="38" y="189"/>
                      </a:lnTo>
                      <a:lnTo>
                        <a:pt x="67" y="148"/>
                      </a:lnTo>
                      <a:lnTo>
                        <a:pt x="97" y="129"/>
                      </a:lnTo>
                      <a:lnTo>
                        <a:pt x="125" y="89"/>
                      </a:lnTo>
                      <a:lnTo>
                        <a:pt x="130" y="71"/>
                      </a:lnTo>
                      <a:lnTo>
                        <a:pt x="167" y="26"/>
                      </a:lnTo>
                      <a:lnTo>
                        <a:pt x="191" y="45"/>
                      </a:lnTo>
                      <a:lnTo>
                        <a:pt x="207" y="45"/>
                      </a:lnTo>
                      <a:lnTo>
                        <a:pt x="229" y="19"/>
                      </a:lnTo>
                      <a:lnTo>
                        <a:pt x="251" y="16"/>
                      </a:lnTo>
                      <a:lnTo>
                        <a:pt x="267" y="22"/>
                      </a:lnTo>
                      <a:lnTo>
                        <a:pt x="281" y="3"/>
                      </a:lnTo>
                      <a:lnTo>
                        <a:pt x="301" y="0"/>
                      </a:lnTo>
                      <a:lnTo>
                        <a:pt x="306" y="32"/>
                      </a:lnTo>
                      <a:lnTo>
                        <a:pt x="317" y="58"/>
                      </a:lnTo>
                      <a:lnTo>
                        <a:pt x="354" y="84"/>
                      </a:lnTo>
                      <a:lnTo>
                        <a:pt x="382" y="90"/>
                      </a:lnTo>
                      <a:lnTo>
                        <a:pt x="384" y="63"/>
                      </a:lnTo>
                      <a:lnTo>
                        <a:pt x="406" y="63"/>
                      </a:lnTo>
                      <a:lnTo>
                        <a:pt x="433" y="79"/>
                      </a:lnTo>
                      <a:lnTo>
                        <a:pt x="462" y="89"/>
                      </a:lnTo>
                      <a:lnTo>
                        <a:pt x="487" y="79"/>
                      </a:lnTo>
                      <a:lnTo>
                        <a:pt x="510" y="1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6" name=""/>
                <p:cNvGrpSpPr/>
                <p:nvPr/>
              </p:nvGrpSpPr>
              <p:grpSpPr>
                <a:xfrm>
                  <a:off x="4359240" y="3224160"/>
                  <a:ext cx="234000" cy="248760"/>
                  <a:chOff x="4359240" y="3224160"/>
                  <a:chExt cx="234000" cy="248760"/>
                </a:xfrm>
              </p:grpSpPr>
              <p:grpSp>
                <p:nvGrpSpPr>
                  <p:cNvPr id="257" name=""/>
                  <p:cNvGrpSpPr/>
                  <p:nvPr/>
                </p:nvGrpSpPr>
                <p:grpSpPr>
                  <a:xfrm>
                    <a:off x="4451040" y="3378960"/>
                    <a:ext cx="73080" cy="93960"/>
                    <a:chOff x="4451040" y="3378960"/>
                    <a:chExt cx="73080" cy="93960"/>
                  </a:xfrm>
                </p:grpSpPr>
                <p:sp>
                  <p:nvSpPr>
                    <p:cNvPr id="258" name=""/>
                    <p:cNvSpPr/>
                    <p:nvPr/>
                  </p:nvSpPr>
                  <p:spPr>
                    <a:xfrm>
                      <a:off x="4451040" y="3413520"/>
                      <a:ext cx="34200" cy="51840"/>
                    </a:xfrm>
                    <a:custGeom>
                      <a:avLst/>
                      <a:gdLst/>
                      <a:ahLst/>
                      <a:rect l="l" t="t" r="r" b="b"/>
                      <a:pathLst>
                        <a:path w="44" h="73">
                          <a:moveTo>
                            <a:pt x="11" y="25"/>
                          </a:moveTo>
                          <a:lnTo>
                            <a:pt x="15" y="16"/>
                          </a:lnTo>
                          <a:lnTo>
                            <a:pt x="23" y="16"/>
                          </a:lnTo>
                          <a:lnTo>
                            <a:pt x="33" y="0"/>
                          </a:lnTo>
                          <a:lnTo>
                            <a:pt x="37" y="10"/>
                          </a:lnTo>
                          <a:lnTo>
                            <a:pt x="41" y="10"/>
                          </a:lnTo>
                          <a:lnTo>
                            <a:pt x="44" y="16"/>
                          </a:lnTo>
                          <a:lnTo>
                            <a:pt x="41" y="25"/>
                          </a:lnTo>
                          <a:lnTo>
                            <a:pt x="37" y="25"/>
                          </a:lnTo>
                          <a:lnTo>
                            <a:pt x="37" y="34"/>
                          </a:lnTo>
                          <a:lnTo>
                            <a:pt x="37" y="35"/>
                          </a:lnTo>
                          <a:lnTo>
                            <a:pt x="34" y="41"/>
                          </a:lnTo>
                          <a:lnTo>
                            <a:pt x="37" y="47"/>
                          </a:lnTo>
                          <a:lnTo>
                            <a:pt x="33" y="52"/>
                          </a:lnTo>
                          <a:lnTo>
                            <a:pt x="29" y="57"/>
                          </a:lnTo>
                          <a:lnTo>
                            <a:pt x="26" y="57"/>
                          </a:lnTo>
                          <a:lnTo>
                            <a:pt x="25" y="57"/>
                          </a:lnTo>
                          <a:lnTo>
                            <a:pt x="25" y="63"/>
                          </a:lnTo>
                          <a:lnTo>
                            <a:pt x="19" y="65"/>
                          </a:lnTo>
                          <a:lnTo>
                            <a:pt x="19" y="63"/>
                          </a:lnTo>
                          <a:lnTo>
                            <a:pt x="13" y="67"/>
                          </a:lnTo>
                          <a:lnTo>
                            <a:pt x="11" y="67"/>
                          </a:lnTo>
                          <a:lnTo>
                            <a:pt x="6" y="73"/>
                          </a:lnTo>
                          <a:lnTo>
                            <a:pt x="4" y="73"/>
                          </a:lnTo>
                          <a:lnTo>
                            <a:pt x="3" y="68"/>
                          </a:lnTo>
                          <a:lnTo>
                            <a:pt x="1" y="63"/>
                          </a:lnTo>
                          <a:lnTo>
                            <a:pt x="0" y="61"/>
                          </a:lnTo>
                          <a:lnTo>
                            <a:pt x="0" y="55"/>
                          </a:lnTo>
                          <a:lnTo>
                            <a:pt x="4" y="51"/>
                          </a:lnTo>
                          <a:lnTo>
                            <a:pt x="8" y="50"/>
                          </a:lnTo>
                          <a:lnTo>
                            <a:pt x="9" y="41"/>
                          </a:lnTo>
                          <a:lnTo>
                            <a:pt x="13" y="41"/>
                          </a:lnTo>
                          <a:lnTo>
                            <a:pt x="16" y="47"/>
                          </a:lnTo>
                          <a:lnTo>
                            <a:pt x="19" y="41"/>
                          </a:lnTo>
                          <a:lnTo>
                            <a:pt x="16" y="41"/>
                          </a:lnTo>
                          <a:lnTo>
                            <a:pt x="11" y="25"/>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59" name=""/>
                    <p:cNvSpPr/>
                    <p:nvPr/>
                  </p:nvSpPr>
                  <p:spPr>
                    <a:xfrm>
                      <a:off x="4483800" y="3378960"/>
                      <a:ext cx="40320" cy="93960"/>
                    </a:xfrm>
                    <a:custGeom>
                      <a:avLst/>
                      <a:gdLst/>
                      <a:ahLst/>
                      <a:rect l="l" t="t" r="r" b="b"/>
                      <a:pathLst>
                        <a:path w="53" h="131">
                          <a:moveTo>
                            <a:pt x="16" y="19"/>
                          </a:moveTo>
                          <a:lnTo>
                            <a:pt x="22" y="15"/>
                          </a:lnTo>
                          <a:lnTo>
                            <a:pt x="29" y="16"/>
                          </a:lnTo>
                          <a:lnTo>
                            <a:pt x="32" y="12"/>
                          </a:lnTo>
                          <a:lnTo>
                            <a:pt x="34" y="9"/>
                          </a:lnTo>
                          <a:lnTo>
                            <a:pt x="36" y="9"/>
                          </a:lnTo>
                          <a:lnTo>
                            <a:pt x="39" y="6"/>
                          </a:lnTo>
                          <a:lnTo>
                            <a:pt x="41" y="5"/>
                          </a:lnTo>
                          <a:lnTo>
                            <a:pt x="48" y="0"/>
                          </a:lnTo>
                          <a:lnTo>
                            <a:pt x="53" y="3"/>
                          </a:lnTo>
                          <a:lnTo>
                            <a:pt x="52" y="9"/>
                          </a:lnTo>
                          <a:lnTo>
                            <a:pt x="51" y="12"/>
                          </a:lnTo>
                          <a:lnTo>
                            <a:pt x="48" y="15"/>
                          </a:lnTo>
                          <a:lnTo>
                            <a:pt x="44" y="16"/>
                          </a:lnTo>
                          <a:lnTo>
                            <a:pt x="37" y="19"/>
                          </a:lnTo>
                          <a:lnTo>
                            <a:pt x="37" y="27"/>
                          </a:lnTo>
                          <a:lnTo>
                            <a:pt x="39" y="31"/>
                          </a:lnTo>
                          <a:lnTo>
                            <a:pt x="45" y="27"/>
                          </a:lnTo>
                          <a:lnTo>
                            <a:pt x="52" y="21"/>
                          </a:lnTo>
                          <a:lnTo>
                            <a:pt x="53" y="27"/>
                          </a:lnTo>
                          <a:lnTo>
                            <a:pt x="53" y="35"/>
                          </a:lnTo>
                          <a:lnTo>
                            <a:pt x="48" y="37"/>
                          </a:lnTo>
                          <a:lnTo>
                            <a:pt x="44" y="37"/>
                          </a:lnTo>
                          <a:lnTo>
                            <a:pt x="40" y="42"/>
                          </a:lnTo>
                          <a:lnTo>
                            <a:pt x="39" y="45"/>
                          </a:lnTo>
                          <a:lnTo>
                            <a:pt x="39" y="48"/>
                          </a:lnTo>
                          <a:lnTo>
                            <a:pt x="41" y="56"/>
                          </a:lnTo>
                          <a:lnTo>
                            <a:pt x="45" y="61"/>
                          </a:lnTo>
                          <a:lnTo>
                            <a:pt x="48" y="67"/>
                          </a:lnTo>
                          <a:lnTo>
                            <a:pt x="51" y="73"/>
                          </a:lnTo>
                          <a:lnTo>
                            <a:pt x="51" y="77"/>
                          </a:lnTo>
                          <a:lnTo>
                            <a:pt x="53" y="85"/>
                          </a:lnTo>
                          <a:lnTo>
                            <a:pt x="53" y="98"/>
                          </a:lnTo>
                          <a:lnTo>
                            <a:pt x="51" y="103"/>
                          </a:lnTo>
                          <a:lnTo>
                            <a:pt x="45" y="109"/>
                          </a:lnTo>
                          <a:lnTo>
                            <a:pt x="44" y="111"/>
                          </a:lnTo>
                          <a:lnTo>
                            <a:pt x="48" y="115"/>
                          </a:lnTo>
                          <a:lnTo>
                            <a:pt x="51" y="124"/>
                          </a:lnTo>
                          <a:lnTo>
                            <a:pt x="41" y="124"/>
                          </a:lnTo>
                          <a:lnTo>
                            <a:pt x="36" y="124"/>
                          </a:lnTo>
                          <a:lnTo>
                            <a:pt x="34" y="121"/>
                          </a:lnTo>
                          <a:lnTo>
                            <a:pt x="29" y="121"/>
                          </a:lnTo>
                          <a:lnTo>
                            <a:pt x="25" y="124"/>
                          </a:lnTo>
                          <a:lnTo>
                            <a:pt x="22" y="125"/>
                          </a:lnTo>
                          <a:lnTo>
                            <a:pt x="16" y="125"/>
                          </a:lnTo>
                          <a:lnTo>
                            <a:pt x="14" y="129"/>
                          </a:lnTo>
                          <a:lnTo>
                            <a:pt x="9" y="131"/>
                          </a:lnTo>
                          <a:lnTo>
                            <a:pt x="8" y="131"/>
                          </a:lnTo>
                          <a:lnTo>
                            <a:pt x="7" y="125"/>
                          </a:lnTo>
                          <a:lnTo>
                            <a:pt x="3" y="124"/>
                          </a:lnTo>
                          <a:lnTo>
                            <a:pt x="0" y="124"/>
                          </a:lnTo>
                          <a:lnTo>
                            <a:pt x="0" y="115"/>
                          </a:lnTo>
                          <a:lnTo>
                            <a:pt x="3" y="109"/>
                          </a:lnTo>
                          <a:lnTo>
                            <a:pt x="7" y="109"/>
                          </a:lnTo>
                          <a:lnTo>
                            <a:pt x="9" y="109"/>
                          </a:lnTo>
                          <a:lnTo>
                            <a:pt x="14" y="109"/>
                          </a:lnTo>
                          <a:lnTo>
                            <a:pt x="14" y="105"/>
                          </a:lnTo>
                          <a:lnTo>
                            <a:pt x="9" y="103"/>
                          </a:lnTo>
                          <a:lnTo>
                            <a:pt x="9" y="99"/>
                          </a:lnTo>
                          <a:lnTo>
                            <a:pt x="9" y="95"/>
                          </a:lnTo>
                          <a:lnTo>
                            <a:pt x="14" y="95"/>
                          </a:lnTo>
                          <a:lnTo>
                            <a:pt x="15" y="89"/>
                          </a:lnTo>
                          <a:lnTo>
                            <a:pt x="18" y="89"/>
                          </a:lnTo>
                          <a:lnTo>
                            <a:pt x="22" y="89"/>
                          </a:lnTo>
                          <a:lnTo>
                            <a:pt x="25" y="87"/>
                          </a:lnTo>
                          <a:lnTo>
                            <a:pt x="25" y="73"/>
                          </a:lnTo>
                          <a:lnTo>
                            <a:pt x="27" y="67"/>
                          </a:lnTo>
                          <a:lnTo>
                            <a:pt x="27" y="61"/>
                          </a:lnTo>
                          <a:lnTo>
                            <a:pt x="22" y="58"/>
                          </a:lnTo>
                          <a:lnTo>
                            <a:pt x="23" y="51"/>
                          </a:lnTo>
                          <a:lnTo>
                            <a:pt x="16" y="47"/>
                          </a:lnTo>
                          <a:lnTo>
                            <a:pt x="12" y="47"/>
                          </a:lnTo>
                          <a:lnTo>
                            <a:pt x="18" y="37"/>
                          </a:lnTo>
                          <a:lnTo>
                            <a:pt x="16" y="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0" name=""/>
                  <p:cNvSpPr/>
                  <p:nvPr/>
                </p:nvSpPr>
                <p:spPr>
                  <a:xfrm>
                    <a:off x="4359240" y="3224160"/>
                    <a:ext cx="234000" cy="156240"/>
                  </a:xfrm>
                  <a:custGeom>
                    <a:avLst/>
                    <a:gdLst/>
                    <a:ahLst/>
                    <a:rect l="l" t="t" r="r" b="b"/>
                    <a:pathLst>
                      <a:path w="301" h="217">
                        <a:moveTo>
                          <a:pt x="0" y="217"/>
                        </a:moveTo>
                        <a:lnTo>
                          <a:pt x="20" y="210"/>
                        </a:lnTo>
                        <a:lnTo>
                          <a:pt x="24" y="204"/>
                        </a:lnTo>
                        <a:lnTo>
                          <a:pt x="30" y="194"/>
                        </a:lnTo>
                        <a:lnTo>
                          <a:pt x="31" y="191"/>
                        </a:lnTo>
                        <a:lnTo>
                          <a:pt x="37" y="191"/>
                        </a:lnTo>
                        <a:lnTo>
                          <a:pt x="41" y="187"/>
                        </a:lnTo>
                        <a:lnTo>
                          <a:pt x="45" y="187"/>
                        </a:lnTo>
                        <a:lnTo>
                          <a:pt x="50" y="187"/>
                        </a:lnTo>
                        <a:lnTo>
                          <a:pt x="53" y="187"/>
                        </a:lnTo>
                        <a:lnTo>
                          <a:pt x="56" y="187"/>
                        </a:lnTo>
                        <a:lnTo>
                          <a:pt x="61" y="181"/>
                        </a:lnTo>
                        <a:lnTo>
                          <a:pt x="64" y="177"/>
                        </a:lnTo>
                        <a:lnTo>
                          <a:pt x="68" y="171"/>
                        </a:lnTo>
                        <a:lnTo>
                          <a:pt x="72" y="171"/>
                        </a:lnTo>
                        <a:lnTo>
                          <a:pt x="76" y="165"/>
                        </a:lnTo>
                        <a:lnTo>
                          <a:pt x="81" y="162"/>
                        </a:lnTo>
                        <a:lnTo>
                          <a:pt x="83" y="162"/>
                        </a:lnTo>
                        <a:lnTo>
                          <a:pt x="90" y="158"/>
                        </a:lnTo>
                        <a:lnTo>
                          <a:pt x="94" y="155"/>
                        </a:lnTo>
                        <a:lnTo>
                          <a:pt x="98" y="151"/>
                        </a:lnTo>
                        <a:lnTo>
                          <a:pt x="104" y="152"/>
                        </a:lnTo>
                        <a:lnTo>
                          <a:pt x="112" y="155"/>
                        </a:lnTo>
                        <a:lnTo>
                          <a:pt x="122" y="155"/>
                        </a:lnTo>
                        <a:lnTo>
                          <a:pt x="132" y="151"/>
                        </a:lnTo>
                        <a:lnTo>
                          <a:pt x="138" y="148"/>
                        </a:lnTo>
                        <a:lnTo>
                          <a:pt x="141" y="141"/>
                        </a:lnTo>
                        <a:lnTo>
                          <a:pt x="144" y="135"/>
                        </a:lnTo>
                        <a:lnTo>
                          <a:pt x="152" y="125"/>
                        </a:lnTo>
                        <a:lnTo>
                          <a:pt x="156" y="122"/>
                        </a:lnTo>
                        <a:lnTo>
                          <a:pt x="156" y="115"/>
                        </a:lnTo>
                        <a:lnTo>
                          <a:pt x="160" y="110"/>
                        </a:lnTo>
                        <a:lnTo>
                          <a:pt x="164" y="106"/>
                        </a:lnTo>
                        <a:lnTo>
                          <a:pt x="167" y="103"/>
                        </a:lnTo>
                        <a:lnTo>
                          <a:pt x="169" y="100"/>
                        </a:lnTo>
                        <a:lnTo>
                          <a:pt x="182" y="90"/>
                        </a:lnTo>
                        <a:lnTo>
                          <a:pt x="182" y="100"/>
                        </a:lnTo>
                        <a:lnTo>
                          <a:pt x="178" y="104"/>
                        </a:lnTo>
                        <a:lnTo>
                          <a:pt x="182" y="109"/>
                        </a:lnTo>
                        <a:lnTo>
                          <a:pt x="187" y="110"/>
                        </a:lnTo>
                        <a:lnTo>
                          <a:pt x="192" y="110"/>
                        </a:lnTo>
                        <a:lnTo>
                          <a:pt x="196" y="106"/>
                        </a:lnTo>
                        <a:lnTo>
                          <a:pt x="200" y="100"/>
                        </a:lnTo>
                        <a:lnTo>
                          <a:pt x="200" y="94"/>
                        </a:lnTo>
                        <a:lnTo>
                          <a:pt x="204" y="90"/>
                        </a:lnTo>
                        <a:lnTo>
                          <a:pt x="204" y="84"/>
                        </a:lnTo>
                        <a:lnTo>
                          <a:pt x="208" y="80"/>
                        </a:lnTo>
                        <a:lnTo>
                          <a:pt x="211" y="77"/>
                        </a:lnTo>
                        <a:lnTo>
                          <a:pt x="215" y="77"/>
                        </a:lnTo>
                        <a:lnTo>
                          <a:pt x="224" y="77"/>
                        </a:lnTo>
                        <a:lnTo>
                          <a:pt x="234" y="70"/>
                        </a:lnTo>
                        <a:lnTo>
                          <a:pt x="242" y="61"/>
                        </a:lnTo>
                        <a:lnTo>
                          <a:pt x="250" y="57"/>
                        </a:lnTo>
                        <a:lnTo>
                          <a:pt x="260" y="51"/>
                        </a:lnTo>
                        <a:lnTo>
                          <a:pt x="264" y="38"/>
                        </a:lnTo>
                        <a:lnTo>
                          <a:pt x="277" y="22"/>
                        </a:lnTo>
                        <a:lnTo>
                          <a:pt x="285" y="16"/>
                        </a:lnTo>
                        <a:lnTo>
                          <a:pt x="291" y="10"/>
                        </a:lnTo>
                        <a:lnTo>
                          <a:pt x="301" y="2"/>
                        </a:lnTo>
                        <a:lnTo>
                          <a:pt x="287" y="0"/>
                        </a:lnTo>
                        <a:lnTo>
                          <a:pt x="272" y="0"/>
                        </a:lnTo>
                        <a:lnTo>
                          <a:pt x="261" y="4"/>
                        </a:lnTo>
                        <a:lnTo>
                          <a:pt x="254" y="10"/>
                        </a:lnTo>
                        <a:lnTo>
                          <a:pt x="242" y="15"/>
                        </a:lnTo>
                        <a:lnTo>
                          <a:pt x="231" y="15"/>
                        </a:lnTo>
                        <a:lnTo>
                          <a:pt x="223" y="19"/>
                        </a:lnTo>
                        <a:lnTo>
                          <a:pt x="211" y="25"/>
                        </a:lnTo>
                        <a:lnTo>
                          <a:pt x="200" y="28"/>
                        </a:lnTo>
                        <a:lnTo>
                          <a:pt x="192" y="36"/>
                        </a:lnTo>
                        <a:lnTo>
                          <a:pt x="182" y="41"/>
                        </a:lnTo>
                        <a:lnTo>
                          <a:pt x="169" y="42"/>
                        </a:lnTo>
                        <a:lnTo>
                          <a:pt x="159" y="51"/>
                        </a:lnTo>
                        <a:lnTo>
                          <a:pt x="150" y="57"/>
                        </a:lnTo>
                        <a:lnTo>
                          <a:pt x="144" y="67"/>
                        </a:lnTo>
                        <a:lnTo>
                          <a:pt x="138" y="73"/>
                        </a:lnTo>
                        <a:lnTo>
                          <a:pt x="132" y="77"/>
                        </a:lnTo>
                        <a:lnTo>
                          <a:pt x="119" y="84"/>
                        </a:lnTo>
                        <a:lnTo>
                          <a:pt x="108" y="94"/>
                        </a:lnTo>
                        <a:lnTo>
                          <a:pt x="94" y="106"/>
                        </a:lnTo>
                        <a:lnTo>
                          <a:pt x="81" y="120"/>
                        </a:lnTo>
                        <a:lnTo>
                          <a:pt x="71" y="130"/>
                        </a:lnTo>
                        <a:lnTo>
                          <a:pt x="63" y="139"/>
                        </a:lnTo>
                        <a:lnTo>
                          <a:pt x="53" y="151"/>
                        </a:lnTo>
                        <a:lnTo>
                          <a:pt x="45" y="161"/>
                        </a:lnTo>
                        <a:lnTo>
                          <a:pt x="37" y="171"/>
                        </a:lnTo>
                        <a:lnTo>
                          <a:pt x="27" y="177"/>
                        </a:lnTo>
                        <a:lnTo>
                          <a:pt x="20" y="183"/>
                        </a:lnTo>
                        <a:lnTo>
                          <a:pt x="0" y="21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1" name=""/>
                <p:cNvSpPr/>
                <p:nvPr/>
              </p:nvSpPr>
              <p:spPr>
                <a:xfrm>
                  <a:off x="4773960" y="4117680"/>
                  <a:ext cx="70200" cy="156240"/>
                </a:xfrm>
                <a:custGeom>
                  <a:avLst/>
                  <a:gdLst/>
                  <a:ahLst/>
                  <a:rect l="l" t="t" r="r" b="b"/>
                  <a:pathLst>
                    <a:path w="89" h="218">
                      <a:moveTo>
                        <a:pt x="17" y="69"/>
                      </a:moveTo>
                      <a:lnTo>
                        <a:pt x="15" y="113"/>
                      </a:lnTo>
                      <a:lnTo>
                        <a:pt x="7" y="139"/>
                      </a:lnTo>
                      <a:lnTo>
                        <a:pt x="0" y="166"/>
                      </a:lnTo>
                      <a:lnTo>
                        <a:pt x="0" y="183"/>
                      </a:lnTo>
                      <a:lnTo>
                        <a:pt x="3" y="197"/>
                      </a:lnTo>
                      <a:lnTo>
                        <a:pt x="11" y="212"/>
                      </a:lnTo>
                      <a:lnTo>
                        <a:pt x="17" y="213"/>
                      </a:lnTo>
                      <a:lnTo>
                        <a:pt x="22" y="213"/>
                      </a:lnTo>
                      <a:lnTo>
                        <a:pt x="28" y="218"/>
                      </a:lnTo>
                      <a:lnTo>
                        <a:pt x="34" y="206"/>
                      </a:lnTo>
                      <a:lnTo>
                        <a:pt x="37" y="176"/>
                      </a:lnTo>
                      <a:lnTo>
                        <a:pt x="47" y="160"/>
                      </a:lnTo>
                      <a:lnTo>
                        <a:pt x="48" y="129"/>
                      </a:lnTo>
                      <a:lnTo>
                        <a:pt x="52" y="119"/>
                      </a:lnTo>
                      <a:lnTo>
                        <a:pt x="58" y="109"/>
                      </a:lnTo>
                      <a:lnTo>
                        <a:pt x="61" y="89"/>
                      </a:lnTo>
                      <a:lnTo>
                        <a:pt x="68" y="79"/>
                      </a:lnTo>
                      <a:lnTo>
                        <a:pt x="70" y="67"/>
                      </a:lnTo>
                      <a:lnTo>
                        <a:pt x="77" y="61"/>
                      </a:lnTo>
                      <a:lnTo>
                        <a:pt x="77" y="57"/>
                      </a:lnTo>
                      <a:lnTo>
                        <a:pt x="87" y="45"/>
                      </a:lnTo>
                      <a:lnTo>
                        <a:pt x="88" y="26"/>
                      </a:lnTo>
                      <a:lnTo>
                        <a:pt x="89" y="16"/>
                      </a:lnTo>
                      <a:lnTo>
                        <a:pt x="80" y="13"/>
                      </a:lnTo>
                      <a:lnTo>
                        <a:pt x="76" y="0"/>
                      </a:lnTo>
                      <a:lnTo>
                        <a:pt x="68" y="13"/>
                      </a:lnTo>
                      <a:lnTo>
                        <a:pt x="61" y="29"/>
                      </a:lnTo>
                      <a:lnTo>
                        <a:pt x="52" y="42"/>
                      </a:lnTo>
                      <a:lnTo>
                        <a:pt x="47" y="55"/>
                      </a:lnTo>
                      <a:lnTo>
                        <a:pt x="43" y="55"/>
                      </a:lnTo>
                      <a:lnTo>
                        <a:pt x="37" y="61"/>
                      </a:lnTo>
                      <a:lnTo>
                        <a:pt x="34" y="67"/>
                      </a:lnTo>
                      <a:lnTo>
                        <a:pt x="17" y="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3326760" y="3280680"/>
                  <a:ext cx="563040" cy="631440"/>
                </a:xfrm>
                <a:custGeom>
                  <a:avLst/>
                  <a:gdLst/>
                  <a:ahLst/>
                  <a:rect l="l" t="t" r="r" b="b"/>
                  <a:pathLst>
                    <a:path w="722" h="874">
                      <a:moveTo>
                        <a:pt x="0" y="225"/>
                      </a:moveTo>
                      <a:lnTo>
                        <a:pt x="34" y="194"/>
                      </a:lnTo>
                      <a:lnTo>
                        <a:pt x="54" y="183"/>
                      </a:lnTo>
                      <a:lnTo>
                        <a:pt x="57" y="165"/>
                      </a:lnTo>
                      <a:lnTo>
                        <a:pt x="41" y="152"/>
                      </a:lnTo>
                      <a:lnTo>
                        <a:pt x="39" y="131"/>
                      </a:lnTo>
                      <a:lnTo>
                        <a:pt x="46" y="126"/>
                      </a:lnTo>
                      <a:lnTo>
                        <a:pt x="45" y="115"/>
                      </a:lnTo>
                      <a:lnTo>
                        <a:pt x="71" y="110"/>
                      </a:lnTo>
                      <a:lnTo>
                        <a:pt x="79" y="96"/>
                      </a:lnTo>
                      <a:lnTo>
                        <a:pt x="81" y="79"/>
                      </a:lnTo>
                      <a:lnTo>
                        <a:pt x="102" y="74"/>
                      </a:lnTo>
                      <a:lnTo>
                        <a:pt x="105" y="61"/>
                      </a:lnTo>
                      <a:lnTo>
                        <a:pt x="82" y="52"/>
                      </a:lnTo>
                      <a:lnTo>
                        <a:pt x="94" y="44"/>
                      </a:lnTo>
                      <a:lnTo>
                        <a:pt x="127" y="44"/>
                      </a:lnTo>
                      <a:lnTo>
                        <a:pt x="138" y="31"/>
                      </a:lnTo>
                      <a:lnTo>
                        <a:pt x="153" y="28"/>
                      </a:lnTo>
                      <a:lnTo>
                        <a:pt x="162" y="18"/>
                      </a:lnTo>
                      <a:lnTo>
                        <a:pt x="174" y="37"/>
                      </a:lnTo>
                      <a:lnTo>
                        <a:pt x="215" y="35"/>
                      </a:lnTo>
                      <a:lnTo>
                        <a:pt x="236" y="52"/>
                      </a:lnTo>
                      <a:lnTo>
                        <a:pt x="301" y="47"/>
                      </a:lnTo>
                      <a:lnTo>
                        <a:pt x="310" y="38"/>
                      </a:lnTo>
                      <a:lnTo>
                        <a:pt x="335" y="52"/>
                      </a:lnTo>
                      <a:lnTo>
                        <a:pt x="360" y="68"/>
                      </a:lnTo>
                      <a:lnTo>
                        <a:pt x="374" y="63"/>
                      </a:lnTo>
                      <a:lnTo>
                        <a:pt x="381" y="52"/>
                      </a:lnTo>
                      <a:lnTo>
                        <a:pt x="402" y="61"/>
                      </a:lnTo>
                      <a:lnTo>
                        <a:pt x="388" y="47"/>
                      </a:lnTo>
                      <a:lnTo>
                        <a:pt x="375" y="48"/>
                      </a:lnTo>
                      <a:lnTo>
                        <a:pt x="353" y="52"/>
                      </a:lnTo>
                      <a:lnTo>
                        <a:pt x="345" y="37"/>
                      </a:lnTo>
                      <a:lnTo>
                        <a:pt x="334" y="28"/>
                      </a:lnTo>
                      <a:lnTo>
                        <a:pt x="334" y="15"/>
                      </a:lnTo>
                      <a:lnTo>
                        <a:pt x="335" y="2"/>
                      </a:lnTo>
                      <a:lnTo>
                        <a:pt x="347" y="0"/>
                      </a:lnTo>
                      <a:lnTo>
                        <a:pt x="358" y="12"/>
                      </a:lnTo>
                      <a:lnTo>
                        <a:pt x="360" y="5"/>
                      </a:lnTo>
                      <a:lnTo>
                        <a:pt x="372" y="0"/>
                      </a:lnTo>
                      <a:lnTo>
                        <a:pt x="384" y="9"/>
                      </a:lnTo>
                      <a:lnTo>
                        <a:pt x="390" y="2"/>
                      </a:lnTo>
                      <a:lnTo>
                        <a:pt x="396" y="12"/>
                      </a:lnTo>
                      <a:lnTo>
                        <a:pt x="397" y="25"/>
                      </a:lnTo>
                      <a:lnTo>
                        <a:pt x="416" y="35"/>
                      </a:lnTo>
                      <a:lnTo>
                        <a:pt x="407" y="44"/>
                      </a:lnTo>
                      <a:lnTo>
                        <a:pt x="407" y="57"/>
                      </a:lnTo>
                      <a:lnTo>
                        <a:pt x="439" y="61"/>
                      </a:lnTo>
                      <a:lnTo>
                        <a:pt x="447" y="44"/>
                      </a:lnTo>
                      <a:lnTo>
                        <a:pt x="441" y="35"/>
                      </a:lnTo>
                      <a:lnTo>
                        <a:pt x="427" y="37"/>
                      </a:lnTo>
                      <a:lnTo>
                        <a:pt x="430" y="18"/>
                      </a:lnTo>
                      <a:lnTo>
                        <a:pt x="458" y="28"/>
                      </a:lnTo>
                      <a:lnTo>
                        <a:pt x="464" y="42"/>
                      </a:lnTo>
                      <a:lnTo>
                        <a:pt x="487" y="42"/>
                      </a:lnTo>
                      <a:lnTo>
                        <a:pt x="507" y="58"/>
                      </a:lnTo>
                      <a:lnTo>
                        <a:pt x="518" y="52"/>
                      </a:lnTo>
                      <a:lnTo>
                        <a:pt x="529" y="68"/>
                      </a:lnTo>
                      <a:lnTo>
                        <a:pt x="518" y="84"/>
                      </a:lnTo>
                      <a:lnTo>
                        <a:pt x="507" y="73"/>
                      </a:lnTo>
                      <a:lnTo>
                        <a:pt x="501" y="77"/>
                      </a:lnTo>
                      <a:lnTo>
                        <a:pt x="492" y="87"/>
                      </a:lnTo>
                      <a:lnTo>
                        <a:pt x="477" y="99"/>
                      </a:lnTo>
                      <a:lnTo>
                        <a:pt x="485" y="110"/>
                      </a:lnTo>
                      <a:lnTo>
                        <a:pt x="471" y="113"/>
                      </a:lnTo>
                      <a:lnTo>
                        <a:pt x="462" y="132"/>
                      </a:lnTo>
                      <a:lnTo>
                        <a:pt x="448" y="155"/>
                      </a:lnTo>
                      <a:lnTo>
                        <a:pt x="467" y="177"/>
                      </a:lnTo>
                      <a:lnTo>
                        <a:pt x="478" y="200"/>
                      </a:lnTo>
                      <a:lnTo>
                        <a:pt x="504" y="205"/>
                      </a:lnTo>
                      <a:lnTo>
                        <a:pt x="526" y="200"/>
                      </a:lnTo>
                      <a:lnTo>
                        <a:pt x="537" y="210"/>
                      </a:lnTo>
                      <a:lnTo>
                        <a:pt x="529" y="219"/>
                      </a:lnTo>
                      <a:lnTo>
                        <a:pt x="525" y="231"/>
                      </a:lnTo>
                      <a:lnTo>
                        <a:pt x="536" y="251"/>
                      </a:lnTo>
                      <a:lnTo>
                        <a:pt x="538" y="271"/>
                      </a:lnTo>
                      <a:lnTo>
                        <a:pt x="551" y="277"/>
                      </a:lnTo>
                      <a:lnTo>
                        <a:pt x="568" y="261"/>
                      </a:lnTo>
                      <a:lnTo>
                        <a:pt x="563" y="241"/>
                      </a:lnTo>
                      <a:lnTo>
                        <a:pt x="548" y="225"/>
                      </a:lnTo>
                      <a:lnTo>
                        <a:pt x="565" y="205"/>
                      </a:lnTo>
                      <a:lnTo>
                        <a:pt x="551" y="168"/>
                      </a:lnTo>
                      <a:lnTo>
                        <a:pt x="538" y="155"/>
                      </a:lnTo>
                      <a:lnTo>
                        <a:pt x="548" y="142"/>
                      </a:lnTo>
                      <a:lnTo>
                        <a:pt x="545" y="126"/>
                      </a:lnTo>
                      <a:lnTo>
                        <a:pt x="554" y="113"/>
                      </a:lnTo>
                      <a:lnTo>
                        <a:pt x="568" y="126"/>
                      </a:lnTo>
                      <a:lnTo>
                        <a:pt x="599" y="167"/>
                      </a:lnTo>
                      <a:lnTo>
                        <a:pt x="618" y="171"/>
                      </a:lnTo>
                      <a:lnTo>
                        <a:pt x="622" y="163"/>
                      </a:lnTo>
                      <a:lnTo>
                        <a:pt x="618" y="139"/>
                      </a:lnTo>
                      <a:lnTo>
                        <a:pt x="630" y="142"/>
                      </a:lnTo>
                      <a:lnTo>
                        <a:pt x="647" y="168"/>
                      </a:lnTo>
                      <a:lnTo>
                        <a:pt x="650" y="181"/>
                      </a:lnTo>
                      <a:lnTo>
                        <a:pt x="663" y="189"/>
                      </a:lnTo>
                      <a:lnTo>
                        <a:pt x="685" y="203"/>
                      </a:lnTo>
                      <a:lnTo>
                        <a:pt x="696" y="221"/>
                      </a:lnTo>
                      <a:lnTo>
                        <a:pt x="713" y="235"/>
                      </a:lnTo>
                      <a:lnTo>
                        <a:pt x="721" y="241"/>
                      </a:lnTo>
                      <a:lnTo>
                        <a:pt x="722" y="251"/>
                      </a:lnTo>
                      <a:lnTo>
                        <a:pt x="710" y="260"/>
                      </a:lnTo>
                      <a:lnTo>
                        <a:pt x="703" y="251"/>
                      </a:lnTo>
                      <a:lnTo>
                        <a:pt x="695" y="251"/>
                      </a:lnTo>
                      <a:lnTo>
                        <a:pt x="692" y="273"/>
                      </a:lnTo>
                      <a:lnTo>
                        <a:pt x="681" y="277"/>
                      </a:lnTo>
                      <a:lnTo>
                        <a:pt x="670" y="267"/>
                      </a:lnTo>
                      <a:lnTo>
                        <a:pt x="644" y="267"/>
                      </a:lnTo>
                      <a:lnTo>
                        <a:pt x="640" y="291"/>
                      </a:lnTo>
                      <a:lnTo>
                        <a:pt x="647" y="305"/>
                      </a:lnTo>
                      <a:lnTo>
                        <a:pt x="659" y="296"/>
                      </a:lnTo>
                      <a:lnTo>
                        <a:pt x="667" y="291"/>
                      </a:lnTo>
                      <a:lnTo>
                        <a:pt x="676" y="303"/>
                      </a:lnTo>
                      <a:lnTo>
                        <a:pt x="663" y="318"/>
                      </a:lnTo>
                      <a:lnTo>
                        <a:pt x="676" y="334"/>
                      </a:lnTo>
                      <a:lnTo>
                        <a:pt x="695" y="339"/>
                      </a:lnTo>
                      <a:lnTo>
                        <a:pt x="692" y="349"/>
                      </a:lnTo>
                      <a:lnTo>
                        <a:pt x="687" y="351"/>
                      </a:lnTo>
                      <a:lnTo>
                        <a:pt x="670" y="403"/>
                      </a:lnTo>
                      <a:lnTo>
                        <a:pt x="670" y="370"/>
                      </a:lnTo>
                      <a:lnTo>
                        <a:pt x="679" y="354"/>
                      </a:lnTo>
                      <a:lnTo>
                        <a:pt x="670" y="344"/>
                      </a:lnTo>
                      <a:lnTo>
                        <a:pt x="661" y="354"/>
                      </a:lnTo>
                      <a:lnTo>
                        <a:pt x="666" y="364"/>
                      </a:lnTo>
                      <a:lnTo>
                        <a:pt x="659" y="371"/>
                      </a:lnTo>
                      <a:lnTo>
                        <a:pt x="648" y="380"/>
                      </a:lnTo>
                      <a:lnTo>
                        <a:pt x="650" y="399"/>
                      </a:lnTo>
                      <a:lnTo>
                        <a:pt x="640" y="409"/>
                      </a:lnTo>
                      <a:lnTo>
                        <a:pt x="624" y="413"/>
                      </a:lnTo>
                      <a:lnTo>
                        <a:pt x="630" y="425"/>
                      </a:lnTo>
                      <a:lnTo>
                        <a:pt x="624" y="439"/>
                      </a:lnTo>
                      <a:lnTo>
                        <a:pt x="630" y="451"/>
                      </a:lnTo>
                      <a:lnTo>
                        <a:pt x="621" y="475"/>
                      </a:lnTo>
                      <a:lnTo>
                        <a:pt x="618" y="496"/>
                      </a:lnTo>
                      <a:lnTo>
                        <a:pt x="603" y="510"/>
                      </a:lnTo>
                      <a:lnTo>
                        <a:pt x="587" y="544"/>
                      </a:lnTo>
                      <a:lnTo>
                        <a:pt x="587" y="564"/>
                      </a:lnTo>
                      <a:lnTo>
                        <a:pt x="591" y="586"/>
                      </a:lnTo>
                      <a:lnTo>
                        <a:pt x="599" y="612"/>
                      </a:lnTo>
                      <a:lnTo>
                        <a:pt x="602" y="633"/>
                      </a:lnTo>
                      <a:lnTo>
                        <a:pt x="595" y="644"/>
                      </a:lnTo>
                      <a:lnTo>
                        <a:pt x="587" y="638"/>
                      </a:lnTo>
                      <a:lnTo>
                        <a:pt x="587" y="626"/>
                      </a:lnTo>
                      <a:lnTo>
                        <a:pt x="582" y="596"/>
                      </a:lnTo>
                      <a:lnTo>
                        <a:pt x="574" y="590"/>
                      </a:lnTo>
                      <a:lnTo>
                        <a:pt x="570" y="575"/>
                      </a:lnTo>
                      <a:lnTo>
                        <a:pt x="562" y="575"/>
                      </a:lnTo>
                      <a:lnTo>
                        <a:pt x="551" y="564"/>
                      </a:lnTo>
                      <a:lnTo>
                        <a:pt x="541" y="568"/>
                      </a:lnTo>
                      <a:lnTo>
                        <a:pt x="529" y="560"/>
                      </a:lnTo>
                      <a:lnTo>
                        <a:pt x="518" y="568"/>
                      </a:lnTo>
                      <a:lnTo>
                        <a:pt x="497" y="562"/>
                      </a:lnTo>
                      <a:lnTo>
                        <a:pt x="511" y="584"/>
                      </a:lnTo>
                      <a:lnTo>
                        <a:pt x="492" y="581"/>
                      </a:lnTo>
                      <a:lnTo>
                        <a:pt x="478" y="564"/>
                      </a:lnTo>
                      <a:lnTo>
                        <a:pt x="456" y="564"/>
                      </a:lnTo>
                      <a:lnTo>
                        <a:pt x="462" y="590"/>
                      </a:lnTo>
                      <a:lnTo>
                        <a:pt x="443" y="584"/>
                      </a:lnTo>
                      <a:lnTo>
                        <a:pt x="436" y="612"/>
                      </a:lnTo>
                      <a:lnTo>
                        <a:pt x="441" y="622"/>
                      </a:lnTo>
                      <a:lnTo>
                        <a:pt x="436" y="649"/>
                      </a:lnTo>
                      <a:lnTo>
                        <a:pt x="443" y="686"/>
                      </a:lnTo>
                      <a:lnTo>
                        <a:pt x="452" y="707"/>
                      </a:lnTo>
                      <a:lnTo>
                        <a:pt x="462" y="729"/>
                      </a:lnTo>
                      <a:lnTo>
                        <a:pt x="492" y="728"/>
                      </a:lnTo>
                      <a:lnTo>
                        <a:pt x="504" y="726"/>
                      </a:lnTo>
                      <a:lnTo>
                        <a:pt x="507" y="707"/>
                      </a:lnTo>
                      <a:lnTo>
                        <a:pt x="500" y="696"/>
                      </a:lnTo>
                      <a:lnTo>
                        <a:pt x="501" y="686"/>
                      </a:lnTo>
                      <a:lnTo>
                        <a:pt x="519" y="687"/>
                      </a:lnTo>
                      <a:lnTo>
                        <a:pt x="540" y="684"/>
                      </a:lnTo>
                      <a:lnTo>
                        <a:pt x="540" y="696"/>
                      </a:lnTo>
                      <a:lnTo>
                        <a:pt x="534" y="716"/>
                      </a:lnTo>
                      <a:lnTo>
                        <a:pt x="525" y="732"/>
                      </a:lnTo>
                      <a:lnTo>
                        <a:pt x="522" y="754"/>
                      </a:lnTo>
                      <a:lnTo>
                        <a:pt x="536" y="764"/>
                      </a:lnTo>
                      <a:lnTo>
                        <a:pt x="551" y="762"/>
                      </a:lnTo>
                      <a:lnTo>
                        <a:pt x="562" y="765"/>
                      </a:lnTo>
                      <a:lnTo>
                        <a:pt x="570" y="765"/>
                      </a:lnTo>
                      <a:lnTo>
                        <a:pt x="574" y="778"/>
                      </a:lnTo>
                      <a:lnTo>
                        <a:pt x="566" y="801"/>
                      </a:lnTo>
                      <a:lnTo>
                        <a:pt x="573" y="812"/>
                      </a:lnTo>
                      <a:lnTo>
                        <a:pt x="574" y="838"/>
                      </a:lnTo>
                      <a:lnTo>
                        <a:pt x="587" y="857"/>
                      </a:lnTo>
                      <a:lnTo>
                        <a:pt x="599" y="859"/>
                      </a:lnTo>
                      <a:lnTo>
                        <a:pt x="610" y="857"/>
                      </a:lnTo>
                      <a:lnTo>
                        <a:pt x="615" y="858"/>
                      </a:lnTo>
                      <a:lnTo>
                        <a:pt x="633" y="858"/>
                      </a:lnTo>
                      <a:lnTo>
                        <a:pt x="648" y="859"/>
                      </a:lnTo>
                      <a:lnTo>
                        <a:pt x="655" y="848"/>
                      </a:lnTo>
                      <a:lnTo>
                        <a:pt x="640" y="868"/>
                      </a:lnTo>
                      <a:lnTo>
                        <a:pt x="630" y="867"/>
                      </a:lnTo>
                      <a:lnTo>
                        <a:pt x="619" y="868"/>
                      </a:lnTo>
                      <a:lnTo>
                        <a:pt x="599" y="874"/>
                      </a:lnTo>
                      <a:lnTo>
                        <a:pt x="584" y="864"/>
                      </a:lnTo>
                      <a:lnTo>
                        <a:pt x="568" y="857"/>
                      </a:lnTo>
                      <a:lnTo>
                        <a:pt x="561" y="858"/>
                      </a:lnTo>
                      <a:lnTo>
                        <a:pt x="562" y="846"/>
                      </a:lnTo>
                      <a:lnTo>
                        <a:pt x="561" y="828"/>
                      </a:lnTo>
                      <a:lnTo>
                        <a:pt x="547" y="812"/>
                      </a:lnTo>
                      <a:lnTo>
                        <a:pt x="519" y="804"/>
                      </a:lnTo>
                      <a:lnTo>
                        <a:pt x="515" y="796"/>
                      </a:lnTo>
                      <a:lnTo>
                        <a:pt x="507" y="799"/>
                      </a:lnTo>
                      <a:lnTo>
                        <a:pt x="499" y="790"/>
                      </a:lnTo>
                      <a:lnTo>
                        <a:pt x="488" y="781"/>
                      </a:lnTo>
                      <a:lnTo>
                        <a:pt x="474" y="762"/>
                      </a:lnTo>
                      <a:lnTo>
                        <a:pt x="459" y="754"/>
                      </a:lnTo>
                      <a:lnTo>
                        <a:pt x="450" y="765"/>
                      </a:lnTo>
                      <a:lnTo>
                        <a:pt x="440" y="758"/>
                      </a:lnTo>
                      <a:lnTo>
                        <a:pt x="427" y="758"/>
                      </a:lnTo>
                      <a:lnTo>
                        <a:pt x="403" y="749"/>
                      </a:lnTo>
                      <a:lnTo>
                        <a:pt x="358" y="710"/>
                      </a:lnTo>
                      <a:lnTo>
                        <a:pt x="355" y="671"/>
                      </a:lnTo>
                      <a:lnTo>
                        <a:pt x="351" y="658"/>
                      </a:lnTo>
                      <a:lnTo>
                        <a:pt x="344" y="644"/>
                      </a:lnTo>
                      <a:lnTo>
                        <a:pt x="334" y="623"/>
                      </a:lnTo>
                      <a:lnTo>
                        <a:pt x="286" y="548"/>
                      </a:lnTo>
                      <a:lnTo>
                        <a:pt x="286" y="575"/>
                      </a:lnTo>
                      <a:lnTo>
                        <a:pt x="316" y="628"/>
                      </a:lnTo>
                      <a:lnTo>
                        <a:pt x="328" y="668"/>
                      </a:lnTo>
                      <a:lnTo>
                        <a:pt x="310" y="659"/>
                      </a:lnTo>
                      <a:lnTo>
                        <a:pt x="305" y="633"/>
                      </a:lnTo>
                      <a:lnTo>
                        <a:pt x="282" y="619"/>
                      </a:lnTo>
                      <a:lnTo>
                        <a:pt x="297" y="612"/>
                      </a:lnTo>
                      <a:lnTo>
                        <a:pt x="264" y="581"/>
                      </a:lnTo>
                      <a:lnTo>
                        <a:pt x="277" y="564"/>
                      </a:lnTo>
                      <a:lnTo>
                        <a:pt x="267" y="533"/>
                      </a:lnTo>
                      <a:lnTo>
                        <a:pt x="229" y="468"/>
                      </a:lnTo>
                      <a:lnTo>
                        <a:pt x="224" y="432"/>
                      </a:lnTo>
                      <a:lnTo>
                        <a:pt x="226" y="399"/>
                      </a:lnTo>
                      <a:lnTo>
                        <a:pt x="236" y="371"/>
                      </a:lnTo>
                      <a:lnTo>
                        <a:pt x="236" y="339"/>
                      </a:lnTo>
                      <a:lnTo>
                        <a:pt x="229" y="319"/>
                      </a:lnTo>
                      <a:lnTo>
                        <a:pt x="249" y="313"/>
                      </a:lnTo>
                      <a:lnTo>
                        <a:pt x="224" y="277"/>
                      </a:lnTo>
                      <a:lnTo>
                        <a:pt x="226" y="260"/>
                      </a:lnTo>
                      <a:lnTo>
                        <a:pt x="215" y="235"/>
                      </a:lnTo>
                      <a:lnTo>
                        <a:pt x="219" y="221"/>
                      </a:lnTo>
                      <a:lnTo>
                        <a:pt x="210" y="213"/>
                      </a:lnTo>
                      <a:lnTo>
                        <a:pt x="210" y="199"/>
                      </a:lnTo>
                      <a:lnTo>
                        <a:pt x="201" y="184"/>
                      </a:lnTo>
                      <a:lnTo>
                        <a:pt x="210" y="174"/>
                      </a:lnTo>
                      <a:lnTo>
                        <a:pt x="200" y="168"/>
                      </a:lnTo>
                      <a:lnTo>
                        <a:pt x="187" y="178"/>
                      </a:lnTo>
                      <a:lnTo>
                        <a:pt x="175" y="155"/>
                      </a:lnTo>
                      <a:lnTo>
                        <a:pt x="157" y="148"/>
                      </a:lnTo>
                      <a:lnTo>
                        <a:pt x="137" y="148"/>
                      </a:lnTo>
                      <a:lnTo>
                        <a:pt x="122" y="168"/>
                      </a:lnTo>
                      <a:lnTo>
                        <a:pt x="115" y="165"/>
                      </a:lnTo>
                      <a:lnTo>
                        <a:pt x="126" y="136"/>
                      </a:lnTo>
                      <a:lnTo>
                        <a:pt x="115" y="142"/>
                      </a:lnTo>
                      <a:lnTo>
                        <a:pt x="94" y="168"/>
                      </a:lnTo>
                      <a:lnTo>
                        <a:pt x="70" y="194"/>
                      </a:lnTo>
                      <a:lnTo>
                        <a:pt x="49" y="203"/>
                      </a:lnTo>
                      <a:lnTo>
                        <a:pt x="13" y="225"/>
                      </a:lnTo>
                      <a:lnTo>
                        <a:pt x="0" y="22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730680" y="3220200"/>
                  <a:ext cx="193320" cy="166320"/>
                </a:xfrm>
                <a:custGeom>
                  <a:avLst/>
                  <a:gdLst/>
                  <a:ahLst/>
                  <a:rect l="l" t="t" r="r" b="b"/>
                  <a:pathLst>
                    <a:path w="248" h="229">
                      <a:moveTo>
                        <a:pt x="0" y="45"/>
                      </a:moveTo>
                      <a:lnTo>
                        <a:pt x="5" y="29"/>
                      </a:lnTo>
                      <a:lnTo>
                        <a:pt x="5" y="16"/>
                      </a:lnTo>
                      <a:lnTo>
                        <a:pt x="12" y="0"/>
                      </a:lnTo>
                      <a:lnTo>
                        <a:pt x="58" y="8"/>
                      </a:lnTo>
                      <a:lnTo>
                        <a:pt x="135" y="29"/>
                      </a:lnTo>
                      <a:lnTo>
                        <a:pt x="166" y="46"/>
                      </a:lnTo>
                      <a:lnTo>
                        <a:pt x="205" y="62"/>
                      </a:lnTo>
                      <a:lnTo>
                        <a:pt x="227" y="91"/>
                      </a:lnTo>
                      <a:lnTo>
                        <a:pt x="248" y="108"/>
                      </a:lnTo>
                      <a:lnTo>
                        <a:pt x="239" y="119"/>
                      </a:lnTo>
                      <a:lnTo>
                        <a:pt x="239" y="133"/>
                      </a:lnTo>
                      <a:lnTo>
                        <a:pt x="231" y="134"/>
                      </a:lnTo>
                      <a:lnTo>
                        <a:pt x="225" y="149"/>
                      </a:lnTo>
                      <a:lnTo>
                        <a:pt x="231" y="161"/>
                      </a:lnTo>
                      <a:lnTo>
                        <a:pt x="231" y="169"/>
                      </a:lnTo>
                      <a:lnTo>
                        <a:pt x="223" y="185"/>
                      </a:lnTo>
                      <a:lnTo>
                        <a:pt x="224" y="195"/>
                      </a:lnTo>
                      <a:lnTo>
                        <a:pt x="238" y="211"/>
                      </a:lnTo>
                      <a:lnTo>
                        <a:pt x="238" y="221"/>
                      </a:lnTo>
                      <a:lnTo>
                        <a:pt x="235" y="227"/>
                      </a:lnTo>
                      <a:lnTo>
                        <a:pt x="220" y="229"/>
                      </a:lnTo>
                      <a:lnTo>
                        <a:pt x="211" y="223"/>
                      </a:lnTo>
                      <a:lnTo>
                        <a:pt x="200" y="208"/>
                      </a:lnTo>
                      <a:lnTo>
                        <a:pt x="196" y="208"/>
                      </a:lnTo>
                      <a:lnTo>
                        <a:pt x="190" y="198"/>
                      </a:lnTo>
                      <a:lnTo>
                        <a:pt x="183" y="182"/>
                      </a:lnTo>
                      <a:lnTo>
                        <a:pt x="178" y="175"/>
                      </a:lnTo>
                      <a:lnTo>
                        <a:pt x="163" y="166"/>
                      </a:lnTo>
                      <a:lnTo>
                        <a:pt x="150" y="159"/>
                      </a:lnTo>
                      <a:lnTo>
                        <a:pt x="131" y="143"/>
                      </a:lnTo>
                      <a:lnTo>
                        <a:pt x="125" y="129"/>
                      </a:lnTo>
                      <a:lnTo>
                        <a:pt x="126" y="120"/>
                      </a:lnTo>
                      <a:lnTo>
                        <a:pt x="133" y="113"/>
                      </a:lnTo>
                      <a:lnTo>
                        <a:pt x="127" y="100"/>
                      </a:lnTo>
                      <a:lnTo>
                        <a:pt x="120" y="108"/>
                      </a:lnTo>
                      <a:lnTo>
                        <a:pt x="109" y="91"/>
                      </a:lnTo>
                      <a:lnTo>
                        <a:pt x="107" y="100"/>
                      </a:lnTo>
                      <a:lnTo>
                        <a:pt x="98" y="100"/>
                      </a:lnTo>
                      <a:lnTo>
                        <a:pt x="95" y="94"/>
                      </a:lnTo>
                      <a:lnTo>
                        <a:pt x="95" y="84"/>
                      </a:lnTo>
                      <a:lnTo>
                        <a:pt x="90" y="77"/>
                      </a:lnTo>
                      <a:lnTo>
                        <a:pt x="83" y="78"/>
                      </a:lnTo>
                      <a:lnTo>
                        <a:pt x="75" y="61"/>
                      </a:lnTo>
                      <a:lnTo>
                        <a:pt x="70" y="58"/>
                      </a:lnTo>
                      <a:lnTo>
                        <a:pt x="57" y="50"/>
                      </a:lnTo>
                      <a:lnTo>
                        <a:pt x="37" y="55"/>
                      </a:lnTo>
                      <a:lnTo>
                        <a:pt x="17" y="50"/>
                      </a:lnTo>
                      <a:lnTo>
                        <a:pt x="0" y="4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690000" y="3279600"/>
                  <a:ext cx="123120" cy="85320"/>
                </a:xfrm>
                <a:custGeom>
                  <a:avLst/>
                  <a:gdLst/>
                  <a:ahLst/>
                  <a:rect l="l" t="t" r="r" b="b"/>
                  <a:pathLst>
                    <a:path w="158" h="117">
                      <a:moveTo>
                        <a:pt x="4" y="0"/>
                      </a:moveTo>
                      <a:lnTo>
                        <a:pt x="0" y="7"/>
                      </a:lnTo>
                      <a:lnTo>
                        <a:pt x="0" y="19"/>
                      </a:lnTo>
                      <a:lnTo>
                        <a:pt x="10" y="32"/>
                      </a:lnTo>
                      <a:lnTo>
                        <a:pt x="15" y="29"/>
                      </a:lnTo>
                      <a:lnTo>
                        <a:pt x="20" y="33"/>
                      </a:lnTo>
                      <a:lnTo>
                        <a:pt x="28" y="36"/>
                      </a:lnTo>
                      <a:lnTo>
                        <a:pt x="30" y="27"/>
                      </a:lnTo>
                      <a:lnTo>
                        <a:pt x="47" y="29"/>
                      </a:lnTo>
                      <a:lnTo>
                        <a:pt x="48" y="36"/>
                      </a:lnTo>
                      <a:lnTo>
                        <a:pt x="55" y="39"/>
                      </a:lnTo>
                      <a:lnTo>
                        <a:pt x="69" y="38"/>
                      </a:lnTo>
                      <a:lnTo>
                        <a:pt x="73" y="43"/>
                      </a:lnTo>
                      <a:lnTo>
                        <a:pt x="78" y="45"/>
                      </a:lnTo>
                      <a:lnTo>
                        <a:pt x="84" y="58"/>
                      </a:lnTo>
                      <a:lnTo>
                        <a:pt x="84" y="69"/>
                      </a:lnTo>
                      <a:lnTo>
                        <a:pt x="80" y="71"/>
                      </a:lnTo>
                      <a:lnTo>
                        <a:pt x="81" y="78"/>
                      </a:lnTo>
                      <a:lnTo>
                        <a:pt x="76" y="85"/>
                      </a:lnTo>
                      <a:lnTo>
                        <a:pt x="76" y="97"/>
                      </a:lnTo>
                      <a:lnTo>
                        <a:pt x="85" y="97"/>
                      </a:lnTo>
                      <a:lnTo>
                        <a:pt x="91" y="94"/>
                      </a:lnTo>
                      <a:lnTo>
                        <a:pt x="94" y="88"/>
                      </a:lnTo>
                      <a:lnTo>
                        <a:pt x="96" y="94"/>
                      </a:lnTo>
                      <a:lnTo>
                        <a:pt x="102" y="90"/>
                      </a:lnTo>
                      <a:lnTo>
                        <a:pt x="115" y="97"/>
                      </a:lnTo>
                      <a:lnTo>
                        <a:pt x="122" y="107"/>
                      </a:lnTo>
                      <a:lnTo>
                        <a:pt x="125" y="107"/>
                      </a:lnTo>
                      <a:lnTo>
                        <a:pt x="125" y="114"/>
                      </a:lnTo>
                      <a:lnTo>
                        <a:pt x="133" y="117"/>
                      </a:lnTo>
                      <a:lnTo>
                        <a:pt x="143" y="117"/>
                      </a:lnTo>
                      <a:lnTo>
                        <a:pt x="136" y="111"/>
                      </a:lnTo>
                      <a:lnTo>
                        <a:pt x="139" y="106"/>
                      </a:lnTo>
                      <a:lnTo>
                        <a:pt x="147" y="111"/>
                      </a:lnTo>
                      <a:lnTo>
                        <a:pt x="154" y="111"/>
                      </a:lnTo>
                      <a:lnTo>
                        <a:pt x="155" y="104"/>
                      </a:lnTo>
                      <a:lnTo>
                        <a:pt x="148" y="97"/>
                      </a:lnTo>
                      <a:lnTo>
                        <a:pt x="142" y="97"/>
                      </a:lnTo>
                      <a:lnTo>
                        <a:pt x="133" y="85"/>
                      </a:lnTo>
                      <a:lnTo>
                        <a:pt x="142" y="85"/>
                      </a:lnTo>
                      <a:lnTo>
                        <a:pt x="148" y="94"/>
                      </a:lnTo>
                      <a:lnTo>
                        <a:pt x="158" y="94"/>
                      </a:lnTo>
                      <a:lnTo>
                        <a:pt x="155" y="84"/>
                      </a:lnTo>
                      <a:lnTo>
                        <a:pt x="147" y="74"/>
                      </a:lnTo>
                      <a:lnTo>
                        <a:pt x="139" y="71"/>
                      </a:lnTo>
                      <a:lnTo>
                        <a:pt x="129" y="62"/>
                      </a:lnTo>
                      <a:lnTo>
                        <a:pt x="118" y="59"/>
                      </a:lnTo>
                      <a:lnTo>
                        <a:pt x="107" y="53"/>
                      </a:lnTo>
                      <a:lnTo>
                        <a:pt x="99" y="39"/>
                      </a:lnTo>
                      <a:lnTo>
                        <a:pt x="94" y="19"/>
                      </a:lnTo>
                      <a:lnTo>
                        <a:pt x="85" y="19"/>
                      </a:lnTo>
                      <a:lnTo>
                        <a:pt x="84" y="16"/>
                      </a:lnTo>
                      <a:lnTo>
                        <a:pt x="78" y="17"/>
                      </a:lnTo>
                      <a:lnTo>
                        <a:pt x="71" y="10"/>
                      </a:lnTo>
                      <a:lnTo>
                        <a:pt x="58" y="6"/>
                      </a:lnTo>
                      <a:lnTo>
                        <a:pt x="52" y="10"/>
                      </a:lnTo>
                      <a:lnTo>
                        <a:pt x="40" y="6"/>
                      </a:lnTo>
                      <a:lnTo>
                        <a:pt x="32" y="6"/>
                      </a:lnTo>
                      <a:lnTo>
                        <a:pt x="30" y="1"/>
                      </a:lnTo>
                      <a:lnTo>
                        <a:pt x="25" y="0"/>
                      </a:lnTo>
                      <a:lnTo>
                        <a:pt x="20" y="1"/>
                      </a:lnTo>
                      <a:lnTo>
                        <a:pt x="4" y="0"/>
                      </a:lnTo>
                      <a:close/>
                    </a:path>
                  </a:pathLst>
                </a:custGeom>
                <a:solidFill>
                  <a:srgbClr val="008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5" name=""/>
                <p:cNvSpPr/>
                <p:nvPr/>
              </p:nvSpPr>
              <p:spPr>
                <a:xfrm>
                  <a:off x="3760200" y="3757320"/>
                  <a:ext cx="87120" cy="37440"/>
                </a:xfrm>
                <a:custGeom>
                  <a:avLst/>
                  <a:gdLst/>
                  <a:ahLst/>
                  <a:rect l="l" t="t" r="r" b="b"/>
                  <a:pathLst>
                    <a:path w="114" h="51">
                      <a:moveTo>
                        <a:pt x="0" y="27"/>
                      </a:moveTo>
                      <a:lnTo>
                        <a:pt x="11" y="9"/>
                      </a:lnTo>
                      <a:lnTo>
                        <a:pt x="15" y="9"/>
                      </a:lnTo>
                      <a:lnTo>
                        <a:pt x="23" y="2"/>
                      </a:lnTo>
                      <a:lnTo>
                        <a:pt x="32" y="2"/>
                      </a:lnTo>
                      <a:lnTo>
                        <a:pt x="34" y="0"/>
                      </a:lnTo>
                      <a:lnTo>
                        <a:pt x="37" y="0"/>
                      </a:lnTo>
                      <a:lnTo>
                        <a:pt x="48" y="9"/>
                      </a:lnTo>
                      <a:lnTo>
                        <a:pt x="52" y="15"/>
                      </a:lnTo>
                      <a:lnTo>
                        <a:pt x="55" y="11"/>
                      </a:lnTo>
                      <a:lnTo>
                        <a:pt x="63" y="19"/>
                      </a:lnTo>
                      <a:lnTo>
                        <a:pt x="69" y="19"/>
                      </a:lnTo>
                      <a:lnTo>
                        <a:pt x="75" y="25"/>
                      </a:lnTo>
                      <a:lnTo>
                        <a:pt x="81" y="27"/>
                      </a:lnTo>
                      <a:lnTo>
                        <a:pt x="81" y="35"/>
                      </a:lnTo>
                      <a:lnTo>
                        <a:pt x="95" y="35"/>
                      </a:lnTo>
                      <a:lnTo>
                        <a:pt x="100" y="41"/>
                      </a:lnTo>
                      <a:lnTo>
                        <a:pt x="108" y="41"/>
                      </a:lnTo>
                      <a:lnTo>
                        <a:pt x="114" y="51"/>
                      </a:lnTo>
                      <a:lnTo>
                        <a:pt x="111" y="51"/>
                      </a:lnTo>
                      <a:lnTo>
                        <a:pt x="108" y="48"/>
                      </a:lnTo>
                      <a:lnTo>
                        <a:pt x="107" y="47"/>
                      </a:lnTo>
                      <a:lnTo>
                        <a:pt x="100" y="48"/>
                      </a:lnTo>
                      <a:lnTo>
                        <a:pt x="95" y="51"/>
                      </a:lnTo>
                      <a:lnTo>
                        <a:pt x="91" y="51"/>
                      </a:lnTo>
                      <a:lnTo>
                        <a:pt x="80" y="51"/>
                      </a:lnTo>
                      <a:lnTo>
                        <a:pt x="75" y="51"/>
                      </a:lnTo>
                      <a:lnTo>
                        <a:pt x="75" y="47"/>
                      </a:lnTo>
                      <a:lnTo>
                        <a:pt x="63" y="35"/>
                      </a:lnTo>
                      <a:lnTo>
                        <a:pt x="63" y="27"/>
                      </a:lnTo>
                      <a:lnTo>
                        <a:pt x="52" y="27"/>
                      </a:lnTo>
                      <a:lnTo>
                        <a:pt x="47" y="25"/>
                      </a:lnTo>
                      <a:lnTo>
                        <a:pt x="44" y="27"/>
                      </a:lnTo>
                      <a:lnTo>
                        <a:pt x="41" y="22"/>
                      </a:lnTo>
                      <a:lnTo>
                        <a:pt x="37" y="22"/>
                      </a:lnTo>
                      <a:lnTo>
                        <a:pt x="37" y="12"/>
                      </a:lnTo>
                      <a:lnTo>
                        <a:pt x="34" y="9"/>
                      </a:lnTo>
                      <a:lnTo>
                        <a:pt x="25" y="11"/>
                      </a:lnTo>
                      <a:lnTo>
                        <a:pt x="18" y="22"/>
                      </a:lnTo>
                      <a:lnTo>
                        <a:pt x="10" y="25"/>
                      </a:lnTo>
                      <a:lnTo>
                        <a:pt x="0" y="27"/>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66" name=""/>
                <p:cNvSpPr/>
                <p:nvPr/>
              </p:nvSpPr>
              <p:spPr>
                <a:xfrm>
                  <a:off x="3837960" y="3784680"/>
                  <a:ext cx="56160" cy="33120"/>
                </a:xfrm>
                <a:custGeom>
                  <a:avLst/>
                  <a:gdLst/>
                  <a:ahLst/>
                  <a:rect l="l" t="t" r="r" b="b"/>
                  <a:pathLst>
                    <a:path w="71" h="45">
                      <a:moveTo>
                        <a:pt x="0" y="35"/>
                      </a:moveTo>
                      <a:lnTo>
                        <a:pt x="6" y="36"/>
                      </a:lnTo>
                      <a:lnTo>
                        <a:pt x="20" y="35"/>
                      </a:lnTo>
                      <a:lnTo>
                        <a:pt x="28" y="42"/>
                      </a:lnTo>
                      <a:lnTo>
                        <a:pt x="36" y="45"/>
                      </a:lnTo>
                      <a:lnTo>
                        <a:pt x="42" y="35"/>
                      </a:lnTo>
                      <a:lnTo>
                        <a:pt x="39" y="31"/>
                      </a:lnTo>
                      <a:lnTo>
                        <a:pt x="43" y="29"/>
                      </a:lnTo>
                      <a:lnTo>
                        <a:pt x="53" y="35"/>
                      </a:lnTo>
                      <a:lnTo>
                        <a:pt x="60" y="35"/>
                      </a:lnTo>
                      <a:lnTo>
                        <a:pt x="60" y="29"/>
                      </a:lnTo>
                      <a:lnTo>
                        <a:pt x="64" y="29"/>
                      </a:lnTo>
                      <a:lnTo>
                        <a:pt x="71" y="23"/>
                      </a:lnTo>
                      <a:lnTo>
                        <a:pt x="65" y="23"/>
                      </a:lnTo>
                      <a:lnTo>
                        <a:pt x="65" y="13"/>
                      </a:lnTo>
                      <a:lnTo>
                        <a:pt x="65" y="6"/>
                      </a:lnTo>
                      <a:lnTo>
                        <a:pt x="57" y="5"/>
                      </a:lnTo>
                      <a:lnTo>
                        <a:pt x="50" y="6"/>
                      </a:lnTo>
                      <a:lnTo>
                        <a:pt x="42" y="6"/>
                      </a:lnTo>
                      <a:lnTo>
                        <a:pt x="32" y="5"/>
                      </a:lnTo>
                      <a:lnTo>
                        <a:pt x="24" y="0"/>
                      </a:lnTo>
                      <a:lnTo>
                        <a:pt x="20" y="5"/>
                      </a:lnTo>
                      <a:lnTo>
                        <a:pt x="20" y="13"/>
                      </a:lnTo>
                      <a:lnTo>
                        <a:pt x="13" y="13"/>
                      </a:lnTo>
                      <a:lnTo>
                        <a:pt x="10" y="23"/>
                      </a:lnTo>
                      <a:lnTo>
                        <a:pt x="6" y="26"/>
                      </a:lnTo>
                      <a:lnTo>
                        <a:pt x="0" y="35"/>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67" name=""/>
                <p:cNvSpPr/>
                <p:nvPr/>
              </p:nvSpPr>
              <p:spPr>
                <a:xfrm>
                  <a:off x="3802320" y="3881520"/>
                  <a:ext cx="357120" cy="690840"/>
                </a:xfrm>
                <a:custGeom>
                  <a:avLst/>
                  <a:gdLst/>
                  <a:ahLst/>
                  <a:rect l="l" t="t" r="r" b="b"/>
                  <a:pathLst>
                    <a:path w="459" h="955">
                      <a:moveTo>
                        <a:pt x="36" y="42"/>
                      </a:moveTo>
                      <a:lnTo>
                        <a:pt x="40" y="32"/>
                      </a:lnTo>
                      <a:lnTo>
                        <a:pt x="52" y="16"/>
                      </a:lnTo>
                      <a:lnTo>
                        <a:pt x="69" y="6"/>
                      </a:lnTo>
                      <a:lnTo>
                        <a:pt x="78" y="0"/>
                      </a:lnTo>
                      <a:lnTo>
                        <a:pt x="86" y="2"/>
                      </a:lnTo>
                      <a:lnTo>
                        <a:pt x="85" y="11"/>
                      </a:lnTo>
                      <a:lnTo>
                        <a:pt x="74" y="18"/>
                      </a:lnTo>
                      <a:lnTo>
                        <a:pt x="71" y="34"/>
                      </a:lnTo>
                      <a:lnTo>
                        <a:pt x="74" y="44"/>
                      </a:lnTo>
                      <a:lnTo>
                        <a:pt x="82" y="44"/>
                      </a:lnTo>
                      <a:lnTo>
                        <a:pt x="86" y="32"/>
                      </a:lnTo>
                      <a:lnTo>
                        <a:pt x="89" y="18"/>
                      </a:lnTo>
                      <a:lnTo>
                        <a:pt x="96" y="21"/>
                      </a:lnTo>
                      <a:lnTo>
                        <a:pt x="101" y="29"/>
                      </a:lnTo>
                      <a:lnTo>
                        <a:pt x="111" y="28"/>
                      </a:lnTo>
                      <a:lnTo>
                        <a:pt x="119" y="34"/>
                      </a:lnTo>
                      <a:lnTo>
                        <a:pt x="123" y="40"/>
                      </a:lnTo>
                      <a:lnTo>
                        <a:pt x="138" y="38"/>
                      </a:lnTo>
                      <a:lnTo>
                        <a:pt x="172" y="34"/>
                      </a:lnTo>
                      <a:lnTo>
                        <a:pt x="185" y="60"/>
                      </a:lnTo>
                      <a:lnTo>
                        <a:pt x="205" y="70"/>
                      </a:lnTo>
                      <a:lnTo>
                        <a:pt x="204" y="80"/>
                      </a:lnTo>
                      <a:lnTo>
                        <a:pt x="215" y="76"/>
                      </a:lnTo>
                      <a:lnTo>
                        <a:pt x="223" y="76"/>
                      </a:lnTo>
                      <a:lnTo>
                        <a:pt x="234" y="86"/>
                      </a:lnTo>
                      <a:lnTo>
                        <a:pt x="250" y="84"/>
                      </a:lnTo>
                      <a:lnTo>
                        <a:pt x="263" y="86"/>
                      </a:lnTo>
                      <a:lnTo>
                        <a:pt x="282" y="106"/>
                      </a:lnTo>
                      <a:lnTo>
                        <a:pt x="304" y="132"/>
                      </a:lnTo>
                      <a:lnTo>
                        <a:pt x="314" y="163"/>
                      </a:lnTo>
                      <a:lnTo>
                        <a:pt x="305" y="183"/>
                      </a:lnTo>
                      <a:lnTo>
                        <a:pt x="333" y="189"/>
                      </a:lnTo>
                      <a:lnTo>
                        <a:pt x="375" y="202"/>
                      </a:lnTo>
                      <a:lnTo>
                        <a:pt x="419" y="212"/>
                      </a:lnTo>
                      <a:lnTo>
                        <a:pt x="446" y="238"/>
                      </a:lnTo>
                      <a:lnTo>
                        <a:pt x="459" y="261"/>
                      </a:lnTo>
                      <a:lnTo>
                        <a:pt x="459" y="290"/>
                      </a:lnTo>
                      <a:lnTo>
                        <a:pt x="448" y="316"/>
                      </a:lnTo>
                      <a:lnTo>
                        <a:pt x="436" y="331"/>
                      </a:lnTo>
                      <a:lnTo>
                        <a:pt x="427" y="342"/>
                      </a:lnTo>
                      <a:lnTo>
                        <a:pt x="419" y="363"/>
                      </a:lnTo>
                      <a:lnTo>
                        <a:pt x="418" y="379"/>
                      </a:lnTo>
                      <a:lnTo>
                        <a:pt x="419" y="399"/>
                      </a:lnTo>
                      <a:lnTo>
                        <a:pt x="414" y="423"/>
                      </a:lnTo>
                      <a:lnTo>
                        <a:pt x="409" y="428"/>
                      </a:lnTo>
                      <a:lnTo>
                        <a:pt x="405" y="441"/>
                      </a:lnTo>
                      <a:lnTo>
                        <a:pt x="396" y="451"/>
                      </a:lnTo>
                      <a:lnTo>
                        <a:pt x="395" y="461"/>
                      </a:lnTo>
                      <a:lnTo>
                        <a:pt x="386" y="473"/>
                      </a:lnTo>
                      <a:lnTo>
                        <a:pt x="371" y="493"/>
                      </a:lnTo>
                      <a:lnTo>
                        <a:pt x="356" y="502"/>
                      </a:lnTo>
                      <a:lnTo>
                        <a:pt x="348" y="499"/>
                      </a:lnTo>
                      <a:lnTo>
                        <a:pt x="331" y="513"/>
                      </a:lnTo>
                      <a:lnTo>
                        <a:pt x="315" y="534"/>
                      </a:lnTo>
                      <a:lnTo>
                        <a:pt x="309" y="545"/>
                      </a:lnTo>
                      <a:lnTo>
                        <a:pt x="309" y="557"/>
                      </a:lnTo>
                      <a:lnTo>
                        <a:pt x="315" y="571"/>
                      </a:lnTo>
                      <a:lnTo>
                        <a:pt x="305" y="586"/>
                      </a:lnTo>
                      <a:lnTo>
                        <a:pt x="305" y="596"/>
                      </a:lnTo>
                      <a:lnTo>
                        <a:pt x="293" y="612"/>
                      </a:lnTo>
                      <a:lnTo>
                        <a:pt x="285" y="618"/>
                      </a:lnTo>
                      <a:lnTo>
                        <a:pt x="275" y="632"/>
                      </a:lnTo>
                      <a:lnTo>
                        <a:pt x="272" y="648"/>
                      </a:lnTo>
                      <a:lnTo>
                        <a:pt x="260" y="664"/>
                      </a:lnTo>
                      <a:lnTo>
                        <a:pt x="257" y="661"/>
                      </a:lnTo>
                      <a:lnTo>
                        <a:pt x="248" y="661"/>
                      </a:lnTo>
                      <a:lnTo>
                        <a:pt x="235" y="668"/>
                      </a:lnTo>
                      <a:lnTo>
                        <a:pt x="245" y="676"/>
                      </a:lnTo>
                      <a:lnTo>
                        <a:pt x="245" y="692"/>
                      </a:lnTo>
                      <a:lnTo>
                        <a:pt x="245" y="702"/>
                      </a:lnTo>
                      <a:lnTo>
                        <a:pt x="238" y="712"/>
                      </a:lnTo>
                      <a:lnTo>
                        <a:pt x="223" y="716"/>
                      </a:lnTo>
                      <a:lnTo>
                        <a:pt x="212" y="720"/>
                      </a:lnTo>
                      <a:lnTo>
                        <a:pt x="206" y="728"/>
                      </a:lnTo>
                      <a:lnTo>
                        <a:pt x="206" y="744"/>
                      </a:lnTo>
                      <a:lnTo>
                        <a:pt x="193" y="747"/>
                      </a:lnTo>
                      <a:lnTo>
                        <a:pt x="182" y="744"/>
                      </a:lnTo>
                      <a:lnTo>
                        <a:pt x="179" y="752"/>
                      </a:lnTo>
                      <a:lnTo>
                        <a:pt x="185" y="760"/>
                      </a:lnTo>
                      <a:lnTo>
                        <a:pt x="182" y="780"/>
                      </a:lnTo>
                      <a:lnTo>
                        <a:pt x="176" y="800"/>
                      </a:lnTo>
                      <a:lnTo>
                        <a:pt x="162" y="800"/>
                      </a:lnTo>
                      <a:lnTo>
                        <a:pt x="156" y="810"/>
                      </a:lnTo>
                      <a:lnTo>
                        <a:pt x="157" y="826"/>
                      </a:lnTo>
                      <a:lnTo>
                        <a:pt x="168" y="826"/>
                      </a:lnTo>
                      <a:lnTo>
                        <a:pt x="172" y="835"/>
                      </a:lnTo>
                      <a:lnTo>
                        <a:pt x="169" y="851"/>
                      </a:lnTo>
                      <a:lnTo>
                        <a:pt x="161" y="851"/>
                      </a:lnTo>
                      <a:lnTo>
                        <a:pt x="149" y="858"/>
                      </a:lnTo>
                      <a:lnTo>
                        <a:pt x="145" y="870"/>
                      </a:lnTo>
                      <a:lnTo>
                        <a:pt x="145" y="890"/>
                      </a:lnTo>
                      <a:lnTo>
                        <a:pt x="137" y="899"/>
                      </a:lnTo>
                      <a:lnTo>
                        <a:pt x="164" y="931"/>
                      </a:lnTo>
                      <a:lnTo>
                        <a:pt x="172" y="945"/>
                      </a:lnTo>
                      <a:lnTo>
                        <a:pt x="168" y="955"/>
                      </a:lnTo>
                      <a:lnTo>
                        <a:pt x="156" y="948"/>
                      </a:lnTo>
                      <a:lnTo>
                        <a:pt x="145" y="936"/>
                      </a:lnTo>
                      <a:lnTo>
                        <a:pt x="131" y="926"/>
                      </a:lnTo>
                      <a:lnTo>
                        <a:pt x="117" y="910"/>
                      </a:lnTo>
                      <a:lnTo>
                        <a:pt x="107" y="894"/>
                      </a:lnTo>
                      <a:lnTo>
                        <a:pt x="107" y="877"/>
                      </a:lnTo>
                      <a:lnTo>
                        <a:pt x="108" y="864"/>
                      </a:lnTo>
                      <a:lnTo>
                        <a:pt x="107" y="762"/>
                      </a:lnTo>
                      <a:lnTo>
                        <a:pt x="104" y="744"/>
                      </a:lnTo>
                      <a:lnTo>
                        <a:pt x="96" y="723"/>
                      </a:lnTo>
                      <a:lnTo>
                        <a:pt x="96" y="707"/>
                      </a:lnTo>
                      <a:lnTo>
                        <a:pt x="101" y="687"/>
                      </a:lnTo>
                      <a:lnTo>
                        <a:pt x="107" y="661"/>
                      </a:lnTo>
                      <a:lnTo>
                        <a:pt x="104" y="635"/>
                      </a:lnTo>
                      <a:lnTo>
                        <a:pt x="103" y="626"/>
                      </a:lnTo>
                      <a:lnTo>
                        <a:pt x="103" y="613"/>
                      </a:lnTo>
                      <a:lnTo>
                        <a:pt x="106" y="606"/>
                      </a:lnTo>
                      <a:lnTo>
                        <a:pt x="107" y="577"/>
                      </a:lnTo>
                      <a:lnTo>
                        <a:pt x="106" y="564"/>
                      </a:lnTo>
                      <a:lnTo>
                        <a:pt x="110" y="529"/>
                      </a:lnTo>
                      <a:lnTo>
                        <a:pt x="106" y="499"/>
                      </a:lnTo>
                      <a:lnTo>
                        <a:pt x="108" y="486"/>
                      </a:lnTo>
                      <a:lnTo>
                        <a:pt x="114" y="454"/>
                      </a:lnTo>
                      <a:lnTo>
                        <a:pt x="108" y="435"/>
                      </a:lnTo>
                      <a:lnTo>
                        <a:pt x="97" y="421"/>
                      </a:lnTo>
                      <a:lnTo>
                        <a:pt x="96" y="408"/>
                      </a:lnTo>
                      <a:lnTo>
                        <a:pt x="82" y="392"/>
                      </a:lnTo>
                      <a:lnTo>
                        <a:pt x="69" y="383"/>
                      </a:lnTo>
                      <a:lnTo>
                        <a:pt x="51" y="379"/>
                      </a:lnTo>
                      <a:lnTo>
                        <a:pt x="40" y="355"/>
                      </a:lnTo>
                      <a:lnTo>
                        <a:pt x="29" y="337"/>
                      </a:lnTo>
                      <a:lnTo>
                        <a:pt x="27" y="316"/>
                      </a:lnTo>
                      <a:lnTo>
                        <a:pt x="26" y="303"/>
                      </a:lnTo>
                      <a:lnTo>
                        <a:pt x="23" y="290"/>
                      </a:lnTo>
                      <a:lnTo>
                        <a:pt x="16" y="279"/>
                      </a:lnTo>
                      <a:lnTo>
                        <a:pt x="8" y="273"/>
                      </a:lnTo>
                      <a:lnTo>
                        <a:pt x="0" y="261"/>
                      </a:lnTo>
                      <a:lnTo>
                        <a:pt x="8" y="248"/>
                      </a:lnTo>
                      <a:lnTo>
                        <a:pt x="8" y="222"/>
                      </a:lnTo>
                      <a:lnTo>
                        <a:pt x="5" y="209"/>
                      </a:lnTo>
                      <a:lnTo>
                        <a:pt x="0" y="193"/>
                      </a:lnTo>
                      <a:lnTo>
                        <a:pt x="5" y="174"/>
                      </a:lnTo>
                      <a:lnTo>
                        <a:pt x="22" y="122"/>
                      </a:lnTo>
                      <a:lnTo>
                        <a:pt x="23" y="102"/>
                      </a:lnTo>
                      <a:lnTo>
                        <a:pt x="33" y="80"/>
                      </a:lnTo>
                      <a:lnTo>
                        <a:pt x="33" y="66"/>
                      </a:lnTo>
                      <a:lnTo>
                        <a:pt x="36" y="4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68" name=""/>
            <p:cNvGrpSpPr/>
            <p:nvPr/>
          </p:nvGrpSpPr>
          <p:grpSpPr>
            <a:xfrm>
              <a:off x="3929760" y="3720240"/>
              <a:ext cx="1238760" cy="2070720"/>
              <a:chOff x="3929760" y="3720240"/>
              <a:chExt cx="1238760" cy="2070720"/>
            </a:xfrm>
          </p:grpSpPr>
          <p:sp>
            <p:nvSpPr>
              <p:cNvPr id="269" name=""/>
              <p:cNvSpPr/>
              <p:nvPr/>
            </p:nvSpPr>
            <p:spPr>
              <a:xfrm>
                <a:off x="3929760" y="3720240"/>
                <a:ext cx="767880" cy="2070720"/>
              </a:xfrm>
              <a:custGeom>
                <a:avLst/>
                <a:gdLst/>
                <a:ahLst/>
                <a:rect l="l" t="t" r="r" b="b"/>
                <a:pathLst>
                  <a:path w="984" h="2860">
                    <a:moveTo>
                      <a:pt x="375" y="89"/>
                    </a:moveTo>
                    <a:lnTo>
                      <a:pt x="337" y="119"/>
                    </a:lnTo>
                    <a:lnTo>
                      <a:pt x="298" y="167"/>
                    </a:lnTo>
                    <a:lnTo>
                      <a:pt x="288" y="199"/>
                    </a:lnTo>
                    <a:lnTo>
                      <a:pt x="304" y="265"/>
                    </a:lnTo>
                    <a:lnTo>
                      <a:pt x="304" y="305"/>
                    </a:lnTo>
                    <a:lnTo>
                      <a:pt x="331" y="367"/>
                    </a:lnTo>
                    <a:lnTo>
                      <a:pt x="358" y="386"/>
                    </a:lnTo>
                    <a:lnTo>
                      <a:pt x="351" y="435"/>
                    </a:lnTo>
                    <a:lnTo>
                      <a:pt x="321" y="477"/>
                    </a:lnTo>
                    <a:lnTo>
                      <a:pt x="166" y="555"/>
                    </a:lnTo>
                    <a:lnTo>
                      <a:pt x="0" y="954"/>
                    </a:lnTo>
                    <a:lnTo>
                      <a:pt x="183" y="1262"/>
                    </a:lnTo>
                    <a:lnTo>
                      <a:pt x="242" y="1112"/>
                    </a:lnTo>
                    <a:lnTo>
                      <a:pt x="194" y="1048"/>
                    </a:lnTo>
                    <a:lnTo>
                      <a:pt x="165" y="991"/>
                    </a:lnTo>
                    <a:lnTo>
                      <a:pt x="145" y="945"/>
                    </a:lnTo>
                    <a:lnTo>
                      <a:pt x="199" y="865"/>
                    </a:lnTo>
                    <a:lnTo>
                      <a:pt x="280" y="1096"/>
                    </a:lnTo>
                    <a:lnTo>
                      <a:pt x="243" y="1110"/>
                    </a:lnTo>
                    <a:lnTo>
                      <a:pt x="203" y="1212"/>
                    </a:lnTo>
                    <a:lnTo>
                      <a:pt x="260" y="1259"/>
                    </a:lnTo>
                    <a:lnTo>
                      <a:pt x="226" y="1637"/>
                    </a:lnTo>
                    <a:lnTo>
                      <a:pt x="251" y="1637"/>
                    </a:lnTo>
                    <a:lnTo>
                      <a:pt x="227" y="2075"/>
                    </a:lnTo>
                    <a:lnTo>
                      <a:pt x="217" y="2279"/>
                    </a:lnTo>
                    <a:lnTo>
                      <a:pt x="226" y="2746"/>
                    </a:lnTo>
                    <a:lnTo>
                      <a:pt x="256" y="2757"/>
                    </a:lnTo>
                    <a:lnTo>
                      <a:pt x="260" y="2825"/>
                    </a:lnTo>
                    <a:lnTo>
                      <a:pt x="279" y="2840"/>
                    </a:lnTo>
                    <a:lnTo>
                      <a:pt x="314" y="2847"/>
                    </a:lnTo>
                    <a:lnTo>
                      <a:pt x="350" y="2836"/>
                    </a:lnTo>
                    <a:lnTo>
                      <a:pt x="371" y="2814"/>
                    </a:lnTo>
                    <a:lnTo>
                      <a:pt x="375" y="2749"/>
                    </a:lnTo>
                    <a:lnTo>
                      <a:pt x="402" y="2723"/>
                    </a:lnTo>
                    <a:lnTo>
                      <a:pt x="402" y="2314"/>
                    </a:lnTo>
                    <a:lnTo>
                      <a:pt x="424" y="1927"/>
                    </a:lnTo>
                    <a:lnTo>
                      <a:pt x="460" y="1671"/>
                    </a:lnTo>
                    <a:lnTo>
                      <a:pt x="486" y="1669"/>
                    </a:lnTo>
                    <a:lnTo>
                      <a:pt x="530" y="2033"/>
                    </a:lnTo>
                    <a:lnTo>
                      <a:pt x="546" y="2084"/>
                    </a:lnTo>
                    <a:lnTo>
                      <a:pt x="570" y="2430"/>
                    </a:lnTo>
                    <a:lnTo>
                      <a:pt x="605" y="2727"/>
                    </a:lnTo>
                    <a:lnTo>
                      <a:pt x="625" y="2752"/>
                    </a:lnTo>
                    <a:lnTo>
                      <a:pt x="626" y="2840"/>
                    </a:lnTo>
                    <a:lnTo>
                      <a:pt x="642" y="2860"/>
                    </a:lnTo>
                    <a:lnTo>
                      <a:pt x="663" y="2857"/>
                    </a:lnTo>
                    <a:lnTo>
                      <a:pt x="689" y="2860"/>
                    </a:lnTo>
                    <a:lnTo>
                      <a:pt x="727" y="2834"/>
                    </a:lnTo>
                    <a:lnTo>
                      <a:pt x="763" y="2804"/>
                    </a:lnTo>
                    <a:lnTo>
                      <a:pt x="805" y="2788"/>
                    </a:lnTo>
                    <a:lnTo>
                      <a:pt x="866" y="2720"/>
                    </a:lnTo>
                    <a:lnTo>
                      <a:pt x="871" y="2691"/>
                    </a:lnTo>
                    <a:lnTo>
                      <a:pt x="852" y="2673"/>
                    </a:lnTo>
                    <a:lnTo>
                      <a:pt x="778" y="2685"/>
                    </a:lnTo>
                    <a:lnTo>
                      <a:pt x="790" y="2668"/>
                    </a:lnTo>
                    <a:lnTo>
                      <a:pt x="701" y="2116"/>
                    </a:lnTo>
                    <a:lnTo>
                      <a:pt x="711" y="2053"/>
                    </a:lnTo>
                    <a:lnTo>
                      <a:pt x="701" y="1969"/>
                    </a:lnTo>
                    <a:lnTo>
                      <a:pt x="686" y="1614"/>
                    </a:lnTo>
                    <a:lnTo>
                      <a:pt x="713" y="1552"/>
                    </a:lnTo>
                    <a:lnTo>
                      <a:pt x="635" y="1112"/>
                    </a:lnTo>
                    <a:lnTo>
                      <a:pt x="635" y="961"/>
                    </a:lnTo>
                    <a:lnTo>
                      <a:pt x="660" y="693"/>
                    </a:lnTo>
                    <a:lnTo>
                      <a:pt x="748" y="654"/>
                    </a:lnTo>
                    <a:lnTo>
                      <a:pt x="825" y="591"/>
                    </a:lnTo>
                    <a:lnTo>
                      <a:pt x="845" y="549"/>
                    </a:lnTo>
                    <a:lnTo>
                      <a:pt x="925" y="344"/>
                    </a:lnTo>
                    <a:lnTo>
                      <a:pt x="903" y="283"/>
                    </a:lnTo>
                    <a:lnTo>
                      <a:pt x="916" y="277"/>
                    </a:lnTo>
                    <a:lnTo>
                      <a:pt x="930" y="265"/>
                    </a:lnTo>
                    <a:lnTo>
                      <a:pt x="945" y="235"/>
                    </a:lnTo>
                    <a:lnTo>
                      <a:pt x="956" y="205"/>
                    </a:lnTo>
                    <a:lnTo>
                      <a:pt x="955" y="184"/>
                    </a:lnTo>
                    <a:lnTo>
                      <a:pt x="964" y="148"/>
                    </a:lnTo>
                    <a:lnTo>
                      <a:pt x="958" y="135"/>
                    </a:lnTo>
                    <a:lnTo>
                      <a:pt x="962" y="106"/>
                    </a:lnTo>
                    <a:lnTo>
                      <a:pt x="956" y="87"/>
                    </a:lnTo>
                    <a:lnTo>
                      <a:pt x="973" y="32"/>
                    </a:lnTo>
                    <a:lnTo>
                      <a:pt x="984" y="5"/>
                    </a:lnTo>
                    <a:lnTo>
                      <a:pt x="977" y="0"/>
                    </a:lnTo>
                    <a:lnTo>
                      <a:pt x="967" y="15"/>
                    </a:lnTo>
                    <a:lnTo>
                      <a:pt x="956" y="41"/>
                    </a:lnTo>
                    <a:lnTo>
                      <a:pt x="937" y="79"/>
                    </a:lnTo>
                    <a:lnTo>
                      <a:pt x="915" y="132"/>
                    </a:lnTo>
                    <a:lnTo>
                      <a:pt x="893" y="139"/>
                    </a:lnTo>
                    <a:lnTo>
                      <a:pt x="890" y="113"/>
                    </a:lnTo>
                    <a:lnTo>
                      <a:pt x="889" y="89"/>
                    </a:lnTo>
                    <a:lnTo>
                      <a:pt x="885" y="68"/>
                    </a:lnTo>
                    <a:lnTo>
                      <a:pt x="874" y="61"/>
                    </a:lnTo>
                    <a:lnTo>
                      <a:pt x="878" y="95"/>
                    </a:lnTo>
                    <a:lnTo>
                      <a:pt x="856" y="151"/>
                    </a:lnTo>
                    <a:lnTo>
                      <a:pt x="849" y="250"/>
                    </a:lnTo>
                    <a:lnTo>
                      <a:pt x="842" y="236"/>
                    </a:lnTo>
                    <a:lnTo>
                      <a:pt x="794" y="393"/>
                    </a:lnTo>
                    <a:lnTo>
                      <a:pt x="770" y="432"/>
                    </a:lnTo>
                    <a:lnTo>
                      <a:pt x="773" y="445"/>
                    </a:lnTo>
                    <a:lnTo>
                      <a:pt x="760" y="435"/>
                    </a:lnTo>
                    <a:lnTo>
                      <a:pt x="731" y="455"/>
                    </a:lnTo>
                    <a:lnTo>
                      <a:pt x="623" y="468"/>
                    </a:lnTo>
                    <a:lnTo>
                      <a:pt x="528" y="455"/>
                    </a:lnTo>
                    <a:lnTo>
                      <a:pt x="515" y="470"/>
                    </a:lnTo>
                    <a:lnTo>
                      <a:pt x="489" y="442"/>
                    </a:lnTo>
                    <a:lnTo>
                      <a:pt x="519" y="328"/>
                    </a:lnTo>
                    <a:lnTo>
                      <a:pt x="513" y="283"/>
                    </a:lnTo>
                    <a:lnTo>
                      <a:pt x="522" y="250"/>
                    </a:lnTo>
                    <a:lnTo>
                      <a:pt x="522" y="200"/>
                    </a:lnTo>
                    <a:lnTo>
                      <a:pt x="542" y="183"/>
                    </a:lnTo>
                    <a:lnTo>
                      <a:pt x="531" y="181"/>
                    </a:lnTo>
                    <a:lnTo>
                      <a:pt x="541" y="168"/>
                    </a:lnTo>
                    <a:lnTo>
                      <a:pt x="505" y="148"/>
                    </a:lnTo>
                    <a:lnTo>
                      <a:pt x="476" y="110"/>
                    </a:lnTo>
                    <a:lnTo>
                      <a:pt x="445" y="100"/>
                    </a:lnTo>
                    <a:lnTo>
                      <a:pt x="408" y="77"/>
                    </a:lnTo>
                    <a:lnTo>
                      <a:pt x="37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0" name=""/>
              <p:cNvGrpSpPr/>
              <p:nvPr/>
            </p:nvGrpSpPr>
            <p:grpSpPr>
              <a:xfrm>
                <a:off x="4641480" y="3738960"/>
                <a:ext cx="527040" cy="2007360"/>
                <a:chOff x="4641480" y="3738960"/>
                <a:chExt cx="527040" cy="2007360"/>
              </a:xfrm>
            </p:grpSpPr>
            <p:sp>
              <p:nvSpPr>
                <p:cNvPr id="271" name=""/>
                <p:cNvSpPr/>
                <p:nvPr/>
              </p:nvSpPr>
              <p:spPr>
                <a:xfrm>
                  <a:off x="4641480" y="3738960"/>
                  <a:ext cx="527040" cy="2007360"/>
                </a:xfrm>
                <a:custGeom>
                  <a:avLst/>
                  <a:gdLst/>
                  <a:ahLst/>
                  <a:rect l="l" t="t" r="r" b="b"/>
                  <a:pathLst>
                    <a:path w="676" h="2772">
                      <a:moveTo>
                        <a:pt x="166" y="106"/>
                      </a:moveTo>
                      <a:lnTo>
                        <a:pt x="188" y="51"/>
                      </a:lnTo>
                      <a:lnTo>
                        <a:pt x="240" y="28"/>
                      </a:lnTo>
                      <a:lnTo>
                        <a:pt x="287" y="2"/>
                      </a:lnTo>
                      <a:lnTo>
                        <a:pt x="316" y="0"/>
                      </a:lnTo>
                      <a:lnTo>
                        <a:pt x="347" y="21"/>
                      </a:lnTo>
                      <a:lnTo>
                        <a:pt x="360" y="31"/>
                      </a:lnTo>
                      <a:lnTo>
                        <a:pt x="413" y="93"/>
                      </a:lnTo>
                      <a:lnTo>
                        <a:pt x="427" y="166"/>
                      </a:lnTo>
                      <a:lnTo>
                        <a:pt x="399" y="252"/>
                      </a:lnTo>
                      <a:lnTo>
                        <a:pt x="399" y="276"/>
                      </a:lnTo>
                      <a:lnTo>
                        <a:pt x="406" y="267"/>
                      </a:lnTo>
                      <a:lnTo>
                        <a:pt x="417" y="293"/>
                      </a:lnTo>
                      <a:lnTo>
                        <a:pt x="426" y="281"/>
                      </a:lnTo>
                      <a:lnTo>
                        <a:pt x="443" y="339"/>
                      </a:lnTo>
                      <a:lnTo>
                        <a:pt x="538" y="422"/>
                      </a:lnTo>
                      <a:lnTo>
                        <a:pt x="549" y="438"/>
                      </a:lnTo>
                      <a:lnTo>
                        <a:pt x="602" y="634"/>
                      </a:lnTo>
                      <a:lnTo>
                        <a:pt x="676" y="887"/>
                      </a:lnTo>
                      <a:lnTo>
                        <a:pt x="676" y="925"/>
                      </a:lnTo>
                      <a:lnTo>
                        <a:pt x="556" y="1106"/>
                      </a:lnTo>
                      <a:lnTo>
                        <a:pt x="623" y="1442"/>
                      </a:lnTo>
                      <a:lnTo>
                        <a:pt x="521" y="1555"/>
                      </a:lnTo>
                      <a:lnTo>
                        <a:pt x="524" y="1908"/>
                      </a:lnTo>
                      <a:lnTo>
                        <a:pt x="545" y="2288"/>
                      </a:lnTo>
                      <a:lnTo>
                        <a:pt x="530" y="2501"/>
                      </a:lnTo>
                      <a:lnTo>
                        <a:pt x="528" y="2659"/>
                      </a:lnTo>
                      <a:lnTo>
                        <a:pt x="489" y="2681"/>
                      </a:lnTo>
                      <a:lnTo>
                        <a:pt x="454" y="2675"/>
                      </a:lnTo>
                      <a:lnTo>
                        <a:pt x="426" y="2659"/>
                      </a:lnTo>
                      <a:lnTo>
                        <a:pt x="386" y="2659"/>
                      </a:lnTo>
                      <a:lnTo>
                        <a:pt x="341" y="2663"/>
                      </a:lnTo>
                      <a:lnTo>
                        <a:pt x="324" y="2653"/>
                      </a:lnTo>
                      <a:lnTo>
                        <a:pt x="310" y="2756"/>
                      </a:lnTo>
                      <a:lnTo>
                        <a:pt x="224" y="2763"/>
                      </a:lnTo>
                      <a:lnTo>
                        <a:pt x="206" y="2752"/>
                      </a:lnTo>
                      <a:lnTo>
                        <a:pt x="150" y="2763"/>
                      </a:lnTo>
                      <a:lnTo>
                        <a:pt x="46" y="2772"/>
                      </a:lnTo>
                      <a:lnTo>
                        <a:pt x="0" y="2757"/>
                      </a:lnTo>
                      <a:lnTo>
                        <a:pt x="0" y="2713"/>
                      </a:lnTo>
                      <a:lnTo>
                        <a:pt x="98" y="2668"/>
                      </a:lnTo>
                      <a:lnTo>
                        <a:pt x="139" y="2611"/>
                      </a:lnTo>
                      <a:lnTo>
                        <a:pt x="158" y="2288"/>
                      </a:lnTo>
                      <a:lnTo>
                        <a:pt x="175" y="2003"/>
                      </a:lnTo>
                      <a:lnTo>
                        <a:pt x="157" y="1919"/>
                      </a:lnTo>
                      <a:lnTo>
                        <a:pt x="179" y="1638"/>
                      </a:lnTo>
                      <a:lnTo>
                        <a:pt x="200" y="1396"/>
                      </a:lnTo>
                      <a:lnTo>
                        <a:pt x="190" y="1314"/>
                      </a:lnTo>
                      <a:lnTo>
                        <a:pt x="183" y="1248"/>
                      </a:lnTo>
                      <a:lnTo>
                        <a:pt x="191" y="1106"/>
                      </a:lnTo>
                      <a:lnTo>
                        <a:pt x="183" y="1074"/>
                      </a:lnTo>
                      <a:lnTo>
                        <a:pt x="183" y="973"/>
                      </a:lnTo>
                      <a:lnTo>
                        <a:pt x="183" y="881"/>
                      </a:lnTo>
                      <a:lnTo>
                        <a:pt x="240" y="570"/>
                      </a:lnTo>
                      <a:lnTo>
                        <a:pt x="257" y="526"/>
                      </a:lnTo>
                      <a:lnTo>
                        <a:pt x="269" y="474"/>
                      </a:lnTo>
                      <a:lnTo>
                        <a:pt x="269" y="450"/>
                      </a:lnTo>
                      <a:lnTo>
                        <a:pt x="288" y="392"/>
                      </a:lnTo>
                      <a:lnTo>
                        <a:pt x="298" y="383"/>
                      </a:lnTo>
                      <a:lnTo>
                        <a:pt x="287" y="370"/>
                      </a:lnTo>
                      <a:lnTo>
                        <a:pt x="235" y="380"/>
                      </a:lnTo>
                      <a:lnTo>
                        <a:pt x="225" y="367"/>
                      </a:lnTo>
                      <a:lnTo>
                        <a:pt x="220" y="341"/>
                      </a:lnTo>
                      <a:lnTo>
                        <a:pt x="212" y="331"/>
                      </a:lnTo>
                      <a:lnTo>
                        <a:pt x="209" y="318"/>
                      </a:lnTo>
                      <a:lnTo>
                        <a:pt x="209" y="299"/>
                      </a:lnTo>
                      <a:lnTo>
                        <a:pt x="207" y="287"/>
                      </a:lnTo>
                      <a:lnTo>
                        <a:pt x="183" y="281"/>
                      </a:lnTo>
                      <a:lnTo>
                        <a:pt x="198" y="215"/>
                      </a:lnTo>
                      <a:lnTo>
                        <a:pt x="187" y="192"/>
                      </a:lnTo>
                      <a:lnTo>
                        <a:pt x="191" y="129"/>
                      </a:lnTo>
                      <a:lnTo>
                        <a:pt x="16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783320" y="3931200"/>
                  <a:ext cx="185400" cy="567720"/>
                </a:xfrm>
                <a:custGeom>
                  <a:avLst/>
                  <a:gdLst/>
                  <a:ahLst/>
                  <a:rect l="l" t="t" r="r" b="b"/>
                  <a:pathLst>
                    <a:path w="239" h="782">
                      <a:moveTo>
                        <a:pt x="227" y="0"/>
                      </a:moveTo>
                      <a:lnTo>
                        <a:pt x="239" y="36"/>
                      </a:lnTo>
                      <a:lnTo>
                        <a:pt x="88" y="403"/>
                      </a:lnTo>
                      <a:lnTo>
                        <a:pt x="80" y="666"/>
                      </a:lnTo>
                      <a:lnTo>
                        <a:pt x="139" y="768"/>
                      </a:lnTo>
                      <a:lnTo>
                        <a:pt x="0" y="782"/>
                      </a:lnTo>
                      <a:lnTo>
                        <a:pt x="0" y="591"/>
                      </a:lnTo>
                      <a:lnTo>
                        <a:pt x="59" y="307"/>
                      </a:lnTo>
                      <a:lnTo>
                        <a:pt x="88" y="210"/>
                      </a:lnTo>
                      <a:lnTo>
                        <a:pt x="124" y="172"/>
                      </a:lnTo>
                      <a:lnTo>
                        <a:pt x="107" y="125"/>
                      </a:lnTo>
                      <a:lnTo>
                        <a:pt x="2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781880" y="4025520"/>
                  <a:ext cx="98280" cy="359280"/>
                </a:xfrm>
                <a:custGeom>
                  <a:avLst/>
                  <a:gdLst/>
                  <a:ahLst/>
                  <a:rect l="l" t="t" r="r" b="b"/>
                  <a:pathLst>
                    <a:path w="127" h="497">
                      <a:moveTo>
                        <a:pt x="108" y="0"/>
                      </a:moveTo>
                      <a:lnTo>
                        <a:pt x="127" y="46"/>
                      </a:lnTo>
                      <a:lnTo>
                        <a:pt x="100" y="80"/>
                      </a:lnTo>
                      <a:lnTo>
                        <a:pt x="33" y="481"/>
                      </a:lnTo>
                      <a:lnTo>
                        <a:pt x="9" y="497"/>
                      </a:lnTo>
                      <a:lnTo>
                        <a:pt x="0" y="465"/>
                      </a:lnTo>
                      <a:lnTo>
                        <a:pt x="61" y="180"/>
                      </a:lnTo>
                      <a:lnTo>
                        <a:pt x="72" y="142"/>
                      </a:lnTo>
                      <a:lnTo>
                        <a:pt x="92" y="80"/>
                      </a:lnTo>
                      <a:lnTo>
                        <a:pt x="90" y="55"/>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B2E56537-344D-43DA-A5BD-141636D8D8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OÄI DUNG</a:t>
            </a:r>
            <a:endParaRPr b="1" i="1" lang="en-US" sz="3400" spc="-1" strike="noStrike">
              <a:solidFill>
                <a:srgbClr val="ffff00"/>
              </a:solidFill>
              <a:latin typeface="VNI-Helve"/>
            </a:endParaRPr>
          </a:p>
        </p:txBody>
      </p:sp>
      <p:sp>
        <p:nvSpPr>
          <p:cNvPr id="9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tích caùc hoaït ñoäng</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Saûn xuaát</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ieáp thò</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hieân cöùu &amp; phaùt trieån (R&amp;D)</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eä thoáng thoâng tin</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øi chính</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haân söï</a:t>
            </a: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tích ñieåm maïnh, ñieåm yeáu</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45D4A178-C072-4B1B-A195-92F3821F8B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OÄI DUNG</a:t>
            </a:r>
            <a:endParaRPr b="1" i="1" lang="en-US" sz="3400" spc="-1" strike="noStrike">
              <a:solidFill>
                <a:srgbClr val="ffff00"/>
              </a:solidFill>
              <a:latin typeface="VNI-Helve"/>
            </a:endParaRPr>
          </a:p>
        </p:txBody>
      </p:sp>
      <p:sp>
        <p:nvSpPr>
          <p:cNvPr id="275"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tích caùc hoaït ñoäng</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Saûn xuaát</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ieáp thò</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hieân cöùu &amp; phaùt trieån (R&amp;D)</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eä thoáng thoâng tin</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øi chính</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haân söï</a:t>
            </a: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tích ñieåm maïnh, ñieåm yeáu</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1D82B24D-0913-42CD-A284-98E49B1D49E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MOÂI TRÖÔØNG BEÂN TRONG COÂNG TY</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277" name=""/>
          <p:cNvSpPr/>
          <p:nvPr/>
        </p:nvSpPr>
        <p:spPr>
          <a:xfrm>
            <a:off x="533520" y="2514600"/>
            <a:ext cx="1676160" cy="2362320"/>
          </a:xfrm>
          <a:prstGeom prst="rect">
            <a:avLst/>
          </a:prstGeom>
          <a:solidFill>
            <a:srgbClr val="ff6600"/>
          </a:solidFill>
          <a:ln w="9360">
            <a:solidFill>
              <a:srgbClr val="ff66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Xem xeùt, ñaùnh giaù nguoàn löïc Coâng ty</a:t>
            </a:r>
            <a:endParaRPr b="0" lang="en-US" sz="1600" spc="-1" strike="noStrike">
              <a:solidFill>
                <a:srgbClr val="000000"/>
              </a:solidFill>
              <a:latin typeface="Times New Roman"/>
            </a:endParaRPr>
          </a:p>
        </p:txBody>
      </p:sp>
      <p:sp>
        <p:nvSpPr>
          <p:cNvPr id="278" name=""/>
          <p:cNvSpPr/>
          <p:nvPr/>
        </p:nvSpPr>
        <p:spPr>
          <a:xfrm>
            <a:off x="2590920" y="2514600"/>
            <a:ext cx="1752480" cy="2362320"/>
          </a:xfrm>
          <a:prstGeom prst="rect">
            <a:avLst/>
          </a:prstGeom>
          <a:solidFill>
            <a:srgbClr val="ff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Naêng löïc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cuû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Coâng ty</a:t>
            </a:r>
            <a:endParaRPr b="0" lang="en-US" sz="1600" spc="-1" strike="noStrike">
              <a:solidFill>
                <a:srgbClr val="000000"/>
              </a:solidFill>
              <a:latin typeface="Times New Roman"/>
            </a:endParaRPr>
          </a:p>
        </p:txBody>
      </p:sp>
      <p:sp>
        <p:nvSpPr>
          <p:cNvPr id="279" name=""/>
          <p:cNvSpPr/>
          <p:nvPr/>
        </p:nvSpPr>
        <p:spPr>
          <a:xfrm>
            <a:off x="4724280" y="2514600"/>
            <a:ext cx="1828800" cy="236232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Naêng löïc chuû ñaïo vaø Naêng löïc khaùc bieät cuûa Cty</a:t>
            </a:r>
            <a:endParaRPr b="0" lang="en-US" sz="1600" spc="-1" strike="noStrike">
              <a:solidFill>
                <a:srgbClr val="000000"/>
              </a:solidFill>
              <a:latin typeface="Times New Roman"/>
            </a:endParaRPr>
          </a:p>
        </p:txBody>
      </p:sp>
      <p:sp>
        <p:nvSpPr>
          <p:cNvPr id="280" name=""/>
          <p:cNvSpPr/>
          <p:nvPr/>
        </p:nvSpPr>
        <p:spPr>
          <a:xfrm>
            <a:off x="6934320" y="2514600"/>
            <a:ext cx="1676160" cy="2362320"/>
          </a:xfrm>
          <a:prstGeom prst="rect">
            <a:avLst/>
          </a:prstGeom>
          <a:solidFill>
            <a:srgbClr val="00ff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Naêng löïc caïnh tranh cuûa Coâng ty</a:t>
            </a:r>
            <a:endParaRPr b="0" lang="en-US" sz="1600" spc="-1" strike="noStrike">
              <a:solidFill>
                <a:srgbClr val="000000"/>
              </a:solidFill>
              <a:latin typeface="Times New Roman"/>
            </a:endParaRPr>
          </a:p>
        </p:txBody>
      </p:sp>
      <p:sp>
        <p:nvSpPr>
          <p:cNvPr id="281" name=""/>
          <p:cNvSpPr/>
          <p:nvPr/>
        </p:nvSpPr>
        <p:spPr>
          <a:xfrm>
            <a:off x="2209680" y="3733920"/>
            <a:ext cx="38124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343400" y="3733920"/>
            <a:ext cx="3808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6553080" y="3733920"/>
            <a:ext cx="38124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4B8B009-9ECB-4E3F-9C02-36320A63E15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AÊNG LÖÏC (COMPETENCIES)</a:t>
            </a:r>
            <a:endParaRPr b="1" i="1" lang="en-US" sz="3400" spc="-1" strike="noStrike">
              <a:solidFill>
                <a:srgbClr val="ffff00"/>
              </a:solidFill>
              <a:latin typeface="VNI-Helve"/>
            </a:endParaRPr>
          </a:p>
        </p:txBody>
      </p:sp>
      <p:sp>
        <p:nvSpPr>
          <p:cNvPr id="285"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chuû ñaïo (Core competencies):</a:t>
            </a:r>
            <a:endParaRPr b="0" lang="en-US" sz="2800" spc="-1" strike="noStrike">
              <a:solidFill>
                <a:srgbClr val="000000"/>
              </a:solidFill>
              <a:latin typeface="VNI-Helve"/>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 nhöõng naêng löïc maø Coâng ty coù theå thöïc hieän toát hôn nhöõng naêng löïc khaùc trong noäi boä coâng ty</a:t>
            </a:r>
            <a:endParaRPr b="0" lang="en-US" sz="2400" spc="-1" strike="noStrike">
              <a:solidFill>
                <a:srgbClr val="000000"/>
              </a:solidFill>
              <a:latin typeface="VNI-Helve"/>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 nhöõng naêng löïc mang tính trung taâm ñoái vôùi khaû naêng caïnh tranh cuûa Coâng ty</a:t>
            </a:r>
            <a:endParaRPr b="0" lang="en-US" sz="2400" spc="-1" strike="noStrike">
              <a:solidFill>
                <a:srgbClr val="000000"/>
              </a:solidFill>
              <a:latin typeface="VNI-Helv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FDFB3442-E4DD-4952-8693-703E566373C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AÊNG LÖÏC KHAÙC BIEÄT</a:t>
            </a:r>
            <a:br>
              <a:rPr sz="3400"/>
            </a:br>
            <a:r>
              <a:rPr b="1" lang="en-US" sz="3400" spc="-1" strike="noStrike">
                <a:solidFill>
                  <a:srgbClr val="ffff00"/>
                </a:solidFill>
                <a:latin typeface="VNI-Helve"/>
              </a:rPr>
              <a:t>(Distinctive Competencies)</a:t>
            </a:r>
            <a:endParaRPr b="1" i="1" lang="en-US" sz="3400" spc="-1" strike="noStrike">
              <a:solidFill>
                <a:srgbClr val="ffff00"/>
              </a:solidFill>
              <a:latin typeface="VNI-Helve"/>
            </a:endParaRPr>
          </a:p>
        </p:txBody>
      </p:sp>
      <p:sp>
        <p:nvSpPr>
          <p:cNvPr id="287" name="PlaceHolder 2"/>
          <p:cNvSpPr>
            <a:spLocks noGrp="1"/>
          </p:cNvSpPr>
          <p:nvPr>
            <p:ph/>
          </p:nvPr>
        </p:nvSpPr>
        <p:spPr>
          <a:xfrm>
            <a:off x="152280" y="1523880"/>
            <a:ext cx="8686800" cy="4572000"/>
          </a:xfrm>
          <a:prstGeom prst="rect">
            <a:avLst/>
          </a:prstGeom>
          <a:noFill/>
          <a:ln w="0">
            <a:noFill/>
          </a:ln>
        </p:spPr>
        <p:txBody>
          <a:bodyPr lIns="90000" rIns="90000" tIns="46800" bIns="46800"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khaùc bieät (Distinctive Competencies):</a:t>
            </a:r>
            <a:endParaRPr b="0" lang="en-US" sz="2800" spc="-1" strike="noStrike">
              <a:solidFill>
                <a:srgbClr val="000000"/>
              </a:solidFill>
              <a:latin typeface="VNI-Helve"/>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 nhöõng naêng löïc maø coâng ty coù theå thöïc hieän toát hôn ñoái thuû caïnh tranh </a:t>
            </a:r>
            <a:endParaRPr b="0" lang="en-US" sz="2400" spc="-1" strike="noStrike">
              <a:solidFill>
                <a:srgbClr val="000000"/>
              </a:solidFill>
              <a:latin typeface="VNI-Helve"/>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aêng löïc khaùc bieät cho pheùp Coâng ty taïo ra lôïi theá caïnh tranh (competitive advantage)</a:t>
            </a:r>
            <a:endParaRPr b="0" lang="en-US" sz="2400" spc="-1" strike="noStrike">
              <a:solidFill>
                <a:srgbClr val="000000"/>
              </a:solidFill>
              <a:latin typeface="VNI-Helv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08C08519-ED25-4A25-A7CE-2768076F2F3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MOÄT SOÁ VÍ DUÏ </a:t>
            </a:r>
            <a:endParaRPr b="1" i="1" lang="en-US" sz="3400" spc="-1" strike="noStrike">
              <a:solidFill>
                <a:srgbClr val="ffff00"/>
              </a:solidFill>
              <a:latin typeface="VNI-Helve"/>
            </a:endParaRPr>
          </a:p>
        </p:txBody>
      </p:sp>
      <p:sp>
        <p:nvSpPr>
          <p:cNvPr id="289" name="PlaceHolder 2"/>
          <p:cNvSpPr>
            <a:spLocks noGrp="1"/>
          </p:cNvSpPr>
          <p:nvPr>
            <p:ph/>
          </p:nvPr>
        </p:nvSpPr>
        <p:spPr>
          <a:xfrm>
            <a:off x="457200" y="990720"/>
            <a:ext cx="8305920" cy="5333760"/>
          </a:xfrm>
          <a:prstGeom prst="rect">
            <a:avLst/>
          </a:prstGeom>
          <a:noFill/>
          <a:ln w="0">
            <a:noFill/>
          </a:ln>
        </p:spPr>
        <p:txBody>
          <a:bodyPr lIns="90000" rIns="90000" tIns="46800" bIns="46800" anchor="t">
            <a:normAutofit fontScale="89000"/>
          </a:bodyPr>
          <a:p>
            <a:pPr marL="3052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05280" indent="-305280" algn="just">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khaùc bieät cuûa Toyota, Honda vaø Nissan - saûn xuaát ôû möùc chi phí thaáp, chaát löôïng cao, chu kyø thieát keá saûn phaåm môùi tung ra thò tröôøng ngaén.</a:t>
            </a:r>
            <a:endParaRPr b="0" lang="en-US" sz="2800" spc="-1" strike="noStrike">
              <a:solidFill>
                <a:srgbClr val="000000"/>
              </a:solidFill>
              <a:latin typeface="VNI-Helve"/>
            </a:endParaRPr>
          </a:p>
          <a:p>
            <a:pPr marL="3052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05280" indent="-305280" algn="just">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khaùc bieät cuûa Intel laø phaùt trieån chip baùn daãn theá heä môùi cho maùy tính caù nhaân.</a:t>
            </a:r>
            <a:endParaRPr b="0" lang="en-US" sz="2800" spc="-1" strike="noStrike">
              <a:solidFill>
                <a:srgbClr val="000000"/>
              </a:solidFill>
              <a:latin typeface="VNI-Helve"/>
            </a:endParaRPr>
          </a:p>
          <a:p>
            <a:pPr marL="3052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05280" indent="-3052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chuû ñaïo cuûa Motorola laø khaû naêng saûn xuaát khoâng pheá phaåm (chaát löôïng six sigma – tæ leä pheá phaåm laø 1/1 trieäu saûn phaåm)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725DE7D3-39A0-43DD-935A-FEC119B16FD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LÔÏI THEÁ CAÏNH TRANH BEÀN VÖÕNG </a:t>
            </a:r>
            <a:endParaRPr b="1" i="1" lang="en-US" sz="3400" spc="-1" strike="noStrike">
              <a:solidFill>
                <a:srgbClr val="ffff00"/>
              </a:solidFill>
              <a:latin typeface="VNI-Helve"/>
            </a:endParaRPr>
          </a:p>
        </p:txBody>
      </p:sp>
      <p:sp>
        <p:nvSpPr>
          <p:cNvPr id="29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ñoù coù deã daøng bò baét chöôùc hay khoâng?</a:t>
            </a:r>
            <a:endParaRPr b="0" lang="en-US" sz="28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eá maïnh cuûa naêng löïc coù theå duy trì ñöôïc bao laâu? </a:t>
            </a:r>
            <a:endParaRPr b="0" lang="en-US" sz="28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cuûa Coâng ty coù thaät söï vöôït troäi hay khoâng? </a:t>
            </a:r>
            <a:endParaRPr b="0" lang="en-US" sz="28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cuûa coâng ty coù bò taùc ñoäng bôûi nhaø cung caáp khoâng?</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0B950ED1-4ED4-4B07-81D1-1145E6E552F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CAÙC HOAÏT ÑOÄNG</a:t>
            </a:r>
            <a:br>
              <a:rPr sz="3400"/>
            </a:br>
            <a:r>
              <a:rPr b="1" lang="en-US" sz="3400" spc="-1" strike="noStrike">
                <a:solidFill>
                  <a:srgbClr val="ffff00"/>
                </a:solidFill>
                <a:latin typeface="VNI-Helve"/>
              </a:rPr>
              <a:t>Saûn xuaát</a:t>
            </a:r>
            <a:endParaRPr b="1" i="1" lang="en-US" sz="3400" spc="-1" strike="noStrike">
              <a:solidFill>
                <a:srgbClr val="ffff00"/>
              </a:solidFill>
              <a:latin typeface="VNI-Helve"/>
            </a:endParaRPr>
          </a:p>
        </p:txBody>
      </p:sp>
      <p:sp>
        <p:nvSpPr>
          <p:cNvPr id="293"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i trình saûn xuaát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oâng suaát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òa ñieåm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 phí nguyeân vaät lieäu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iaù thaønh saûn phaåm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aûn lyù saûn xuaát vaø taùc vuï</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 …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0384B2F8-FADE-4B7A-9BB0-713BB8E60A4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CAÙC HOAÏT ÑOÄNG</a:t>
            </a:r>
            <a:br>
              <a:rPr sz="3400"/>
            </a:br>
            <a:r>
              <a:rPr b="1" lang="en-US" sz="3400" spc="-1" strike="noStrike">
                <a:solidFill>
                  <a:srgbClr val="ffff00"/>
                </a:solidFill>
                <a:latin typeface="VNI-Helve"/>
              </a:rPr>
              <a:t>Tieáp thò</a:t>
            </a:r>
            <a:endParaRPr b="1" i="1" lang="en-US" sz="3400" spc="-1" strike="noStrike">
              <a:solidFill>
                <a:srgbClr val="ffff00"/>
              </a:solidFill>
              <a:latin typeface="VNI-Helve"/>
            </a:endParaRPr>
          </a:p>
        </p:txBody>
      </p:sp>
      <p:sp>
        <p:nvSpPr>
          <p:cNvPr id="295"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ò phaàn, Doanh soá</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Vò trí treân thò tröôøng</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öông hieäu</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nghieân cöùu thò tröôøng</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saûn phaåm</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giaù</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eä thoáng phaân phoái</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chieâu thò</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gaân saùch cho tieáp thò</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ñoä trung thaønh cuûa khaùch haøng</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311D8036-E5D6-469C-B786-BF2EA391529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CAÙC HOAÏT ÑOÄNG</a:t>
            </a:r>
            <a:br>
              <a:rPr sz="3400"/>
            </a:br>
            <a:r>
              <a:rPr b="1" lang="en-US" sz="3400" spc="-1" strike="noStrike">
                <a:solidFill>
                  <a:srgbClr val="ffff00"/>
                </a:solidFill>
                <a:latin typeface="VNI-Helve"/>
              </a:rPr>
              <a:t>Nghieân cöùu vaø phaùt trieån (R&amp;D)</a:t>
            </a:r>
            <a:endParaRPr b="1" i="1" lang="en-US" sz="3400" spc="-1" strike="noStrike">
              <a:solidFill>
                <a:srgbClr val="ffff00"/>
              </a:solidFill>
              <a:latin typeface="VNI-Helve"/>
            </a:endParaRPr>
          </a:p>
        </p:txBody>
      </p:sp>
      <p:sp>
        <p:nvSpPr>
          <p:cNvPr id="297"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nghieân cöùu cô baûn vaø kyõ thuaät (daãn ñaàu, theo sau,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gaân saùch daønh cho nghieân cöùu vaø phaùt trieå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rình ñoä coâng ngheä</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ñoåi môùi saûn phaåm</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phaùt trieån saûn phaåm</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ñoåi môùi qui trình</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5711BB5D-E88D-4A8E-96D0-CB06537BE29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CAÙC HOAÏT ÑOÄNG</a:t>
            </a:r>
            <a:br>
              <a:rPr sz="3400"/>
            </a:br>
            <a:r>
              <a:rPr b="1" lang="en-US" sz="3400" spc="-1" strike="noStrike">
                <a:solidFill>
                  <a:srgbClr val="ffff00"/>
                </a:solidFill>
                <a:latin typeface="VNI-Helve"/>
              </a:rPr>
              <a:t>Heä thoáng thoâng tin</a:t>
            </a:r>
            <a:endParaRPr b="1" i="1" lang="en-US" sz="3400" spc="-1" strike="noStrike">
              <a:solidFill>
                <a:srgbClr val="ffff00"/>
              </a:solidFill>
              <a:latin typeface="VNI-Helve"/>
            </a:endParaRPr>
          </a:p>
        </p:txBody>
      </p:sp>
      <p:sp>
        <p:nvSpPr>
          <p:cNvPr id="299"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eä thoáng thoâng tin quaûn lyù (MIS)</a:t>
            </a:r>
            <a:endParaRPr b="0" lang="en-US" sz="24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Saûn xuaát / Taùc nghieäp</a:t>
            </a:r>
            <a:endParaRPr b="0" lang="en-US" sz="20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aøi chính</a:t>
            </a:r>
            <a:endParaRPr b="0" lang="en-US" sz="20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Nhaân söï</a:t>
            </a:r>
            <a:endParaRPr b="0" lang="en-US" sz="20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a:t>
            </a:r>
            <a:endParaRPr b="0" lang="en-US" sz="2000" spc="-1" strike="noStrike">
              <a:solidFill>
                <a:srgbClr val="000000"/>
              </a:solidFill>
              <a:latin typeface="VNI-Helve"/>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NI-Helve"/>
              </a:rPr>
              <a:t>Beân trong</a:t>
            </a:r>
            <a:endParaRPr b="0" lang="en-US" sz="2400" spc="-1" strike="noStrike">
              <a:solidFill>
                <a:srgbClr val="000000"/>
              </a:solidFill>
              <a:latin typeface="VNI-Helve"/>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Helve"/>
              </a:rPr>
              <a:t>  </a:t>
            </a:r>
            <a:r>
              <a:rPr b="0" lang="en-US" sz="2400" spc="-1" strike="noStrike">
                <a:solidFill>
                  <a:srgbClr val="000000"/>
                </a:solidFill>
                <a:latin typeface="VNI-Helve"/>
              </a:rPr>
              <a:t>Heä thoáng thoâng tin chieán löôïc (SIS)</a:t>
            </a:r>
            <a:endParaRPr b="0" lang="en-US" sz="24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aïnh tranh</a:t>
            </a:r>
            <a:endParaRPr b="0" lang="en-US" sz="20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Ñoái thuû</a:t>
            </a:r>
            <a:endParaRPr b="0" lang="en-US" sz="20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Moâi tröôøng hoaït ñoäng</a:t>
            </a:r>
            <a:endParaRPr b="0" lang="en-US" sz="20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a:t>
            </a:r>
            <a:endParaRPr b="0" lang="en-US" sz="2000" spc="-1" strike="noStrike">
              <a:solidFill>
                <a:srgbClr val="000000"/>
              </a:solidFill>
              <a:latin typeface="VNI-Helve"/>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Wingdings"/>
                <a:ea typeface="Wingdings"/>
              </a:rPr>
              <a:t></a:t>
            </a:r>
            <a:r>
              <a:rPr b="1" lang="en-US" sz="2400" spc="-1" strike="noStrike">
                <a:solidFill>
                  <a:srgbClr val="ff0000"/>
                </a:solidFill>
                <a:latin typeface="VNI-Helve"/>
              </a:rPr>
              <a:t> </a:t>
            </a:r>
            <a:r>
              <a:rPr b="1" lang="en-US" sz="2400" spc="-1" strike="noStrike">
                <a:solidFill>
                  <a:srgbClr val="ff0000"/>
                </a:solidFill>
                <a:latin typeface="VNI-Helve"/>
              </a:rPr>
              <a:t>Beân trong vaø beân ngoaøi</a:t>
            </a:r>
            <a:r>
              <a:rPr b="0" lang="en-US" sz="2400" spc="-1" strike="noStrike">
                <a:solidFill>
                  <a:srgbClr val="ff0000"/>
                </a:solidFill>
                <a:latin typeface="VNI-Helve"/>
              </a:rPr>
              <a:t> </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F17A3F71-261E-4700-B58D-37BD6FF626C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0" y="579132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380520" y="1174680"/>
            <a:ext cx="8366040" cy="21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Phaân tích</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MOÂI TRÖÔØNG BEÂN NGOAØI</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
          <p:cNvSpPr/>
          <p:nvPr/>
        </p:nvSpPr>
        <p:spPr>
          <a:xfrm>
            <a:off x="0" y="106668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 name=""/>
          <p:cNvGrpSpPr/>
          <p:nvPr/>
        </p:nvGrpSpPr>
        <p:grpSpPr>
          <a:xfrm>
            <a:off x="3281400" y="3019320"/>
            <a:ext cx="2585880" cy="2771640"/>
            <a:chOff x="3281400" y="3019320"/>
            <a:chExt cx="2585880" cy="2771640"/>
          </a:xfrm>
        </p:grpSpPr>
        <p:grpSp>
          <p:nvGrpSpPr>
            <p:cNvPr id="96" name=""/>
            <p:cNvGrpSpPr/>
            <p:nvPr/>
          </p:nvGrpSpPr>
          <p:grpSpPr>
            <a:xfrm>
              <a:off x="3281400" y="3019320"/>
              <a:ext cx="2585880" cy="2068920"/>
              <a:chOff x="3281400" y="3019320"/>
              <a:chExt cx="2585880" cy="2068920"/>
            </a:xfrm>
          </p:grpSpPr>
          <p:sp>
            <p:nvSpPr>
              <p:cNvPr id="97" name=""/>
              <p:cNvSpPr/>
              <p:nvPr/>
            </p:nvSpPr>
            <p:spPr>
              <a:xfrm>
                <a:off x="3281400" y="3019320"/>
                <a:ext cx="2585880" cy="20689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 name=""/>
              <p:cNvGrpSpPr/>
              <p:nvPr/>
            </p:nvGrpSpPr>
            <p:grpSpPr>
              <a:xfrm>
                <a:off x="3326760" y="3220200"/>
                <a:ext cx="2493360" cy="1352160"/>
                <a:chOff x="3326760" y="3220200"/>
                <a:chExt cx="2493360" cy="1352160"/>
              </a:xfrm>
            </p:grpSpPr>
            <p:sp>
              <p:nvSpPr>
                <p:cNvPr id="99" name=""/>
                <p:cNvSpPr/>
                <p:nvPr/>
              </p:nvSpPr>
              <p:spPr>
                <a:xfrm>
                  <a:off x="4582440" y="3601080"/>
                  <a:ext cx="14040" cy="14400"/>
                </a:xfrm>
                <a:custGeom>
                  <a:avLst/>
                  <a:gdLst/>
                  <a:ahLst/>
                  <a:rect l="l" t="t" r="r" b="b"/>
                  <a:pathLst>
                    <a:path w="18" h="22">
                      <a:moveTo>
                        <a:pt x="18" y="0"/>
                      </a:moveTo>
                      <a:lnTo>
                        <a:pt x="18" y="19"/>
                      </a:lnTo>
                      <a:lnTo>
                        <a:pt x="11" y="22"/>
                      </a:lnTo>
                      <a:lnTo>
                        <a:pt x="0" y="3"/>
                      </a:lnTo>
                      <a:lnTo>
                        <a:pt x="6" y="0"/>
                      </a:lnTo>
                      <a:lnTo>
                        <a:pt x="18" y="0"/>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0" name=""/>
                <p:cNvSpPr/>
                <p:nvPr/>
              </p:nvSpPr>
              <p:spPr>
                <a:xfrm>
                  <a:off x="4557240" y="3569040"/>
                  <a:ext cx="12600" cy="24480"/>
                </a:xfrm>
                <a:custGeom>
                  <a:avLst/>
                  <a:gdLst/>
                  <a:ahLst/>
                  <a:rect l="l" t="t" r="r" b="b"/>
                  <a:pathLst>
                    <a:path w="14" h="34">
                      <a:moveTo>
                        <a:pt x="14" y="0"/>
                      </a:moveTo>
                      <a:lnTo>
                        <a:pt x="0" y="10"/>
                      </a:lnTo>
                      <a:lnTo>
                        <a:pt x="3" y="34"/>
                      </a:lnTo>
                      <a:lnTo>
                        <a:pt x="12" y="33"/>
                      </a:lnTo>
                      <a:lnTo>
                        <a:pt x="14" y="0"/>
                      </a:lnTo>
                      <a:close/>
                    </a:path>
                  </a:pathLst>
                </a:custGeom>
                <a:solidFill>
                  <a:srgbClr val="008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101" name=""/>
                <p:cNvGrpSpPr/>
                <p:nvPr/>
              </p:nvGrpSpPr>
              <p:grpSpPr>
                <a:xfrm>
                  <a:off x="5600520" y="4342320"/>
                  <a:ext cx="219600" cy="137160"/>
                  <a:chOff x="5600520" y="4342320"/>
                  <a:chExt cx="219600" cy="137160"/>
                </a:xfrm>
              </p:grpSpPr>
              <p:sp>
                <p:nvSpPr>
                  <p:cNvPr id="102" name=""/>
                  <p:cNvSpPr/>
                  <p:nvPr/>
                </p:nvSpPr>
                <p:spPr>
                  <a:xfrm>
                    <a:off x="5785920" y="4342320"/>
                    <a:ext cx="34200" cy="83880"/>
                  </a:xfrm>
                  <a:custGeom>
                    <a:avLst/>
                    <a:gdLst/>
                    <a:ahLst/>
                    <a:rect l="l" t="t" r="r" b="b"/>
                    <a:pathLst>
                      <a:path w="43" h="116">
                        <a:moveTo>
                          <a:pt x="14" y="1"/>
                        </a:moveTo>
                        <a:lnTo>
                          <a:pt x="18" y="0"/>
                        </a:lnTo>
                        <a:lnTo>
                          <a:pt x="26" y="14"/>
                        </a:lnTo>
                        <a:lnTo>
                          <a:pt x="25" y="49"/>
                        </a:lnTo>
                        <a:lnTo>
                          <a:pt x="30" y="49"/>
                        </a:lnTo>
                        <a:lnTo>
                          <a:pt x="32" y="56"/>
                        </a:lnTo>
                        <a:lnTo>
                          <a:pt x="33" y="59"/>
                        </a:lnTo>
                        <a:lnTo>
                          <a:pt x="36" y="67"/>
                        </a:lnTo>
                        <a:lnTo>
                          <a:pt x="39" y="64"/>
                        </a:lnTo>
                        <a:lnTo>
                          <a:pt x="41" y="58"/>
                        </a:lnTo>
                        <a:lnTo>
                          <a:pt x="43" y="59"/>
                        </a:lnTo>
                        <a:lnTo>
                          <a:pt x="40" y="68"/>
                        </a:lnTo>
                        <a:lnTo>
                          <a:pt x="39" y="72"/>
                        </a:lnTo>
                        <a:lnTo>
                          <a:pt x="37" y="82"/>
                        </a:lnTo>
                        <a:lnTo>
                          <a:pt x="33" y="85"/>
                        </a:lnTo>
                        <a:lnTo>
                          <a:pt x="29" y="88"/>
                        </a:lnTo>
                        <a:lnTo>
                          <a:pt x="25" y="94"/>
                        </a:lnTo>
                        <a:lnTo>
                          <a:pt x="23" y="98"/>
                        </a:lnTo>
                        <a:lnTo>
                          <a:pt x="25" y="101"/>
                        </a:lnTo>
                        <a:lnTo>
                          <a:pt x="26" y="109"/>
                        </a:lnTo>
                        <a:lnTo>
                          <a:pt x="22" y="111"/>
                        </a:lnTo>
                        <a:lnTo>
                          <a:pt x="18" y="114"/>
                        </a:lnTo>
                        <a:lnTo>
                          <a:pt x="14" y="116"/>
                        </a:lnTo>
                        <a:lnTo>
                          <a:pt x="10" y="114"/>
                        </a:lnTo>
                        <a:lnTo>
                          <a:pt x="6" y="111"/>
                        </a:lnTo>
                        <a:lnTo>
                          <a:pt x="3" y="109"/>
                        </a:lnTo>
                        <a:lnTo>
                          <a:pt x="6" y="104"/>
                        </a:lnTo>
                        <a:lnTo>
                          <a:pt x="10" y="101"/>
                        </a:lnTo>
                        <a:lnTo>
                          <a:pt x="14" y="96"/>
                        </a:lnTo>
                        <a:lnTo>
                          <a:pt x="14" y="93"/>
                        </a:lnTo>
                        <a:lnTo>
                          <a:pt x="10" y="88"/>
                        </a:lnTo>
                        <a:lnTo>
                          <a:pt x="6" y="84"/>
                        </a:lnTo>
                        <a:lnTo>
                          <a:pt x="3" y="84"/>
                        </a:lnTo>
                        <a:lnTo>
                          <a:pt x="0" y="82"/>
                        </a:lnTo>
                        <a:lnTo>
                          <a:pt x="0" y="80"/>
                        </a:lnTo>
                        <a:lnTo>
                          <a:pt x="0" y="74"/>
                        </a:lnTo>
                        <a:lnTo>
                          <a:pt x="3" y="74"/>
                        </a:lnTo>
                        <a:lnTo>
                          <a:pt x="6" y="72"/>
                        </a:lnTo>
                        <a:lnTo>
                          <a:pt x="10" y="68"/>
                        </a:lnTo>
                        <a:lnTo>
                          <a:pt x="11" y="67"/>
                        </a:lnTo>
                        <a:lnTo>
                          <a:pt x="15" y="49"/>
                        </a:lnTo>
                        <a:lnTo>
                          <a:pt x="11" y="46"/>
                        </a:lnTo>
                        <a:lnTo>
                          <a:pt x="9" y="40"/>
                        </a:lnTo>
                        <a:lnTo>
                          <a:pt x="7" y="32"/>
                        </a:lnTo>
                        <a:lnTo>
                          <a:pt x="9" y="23"/>
                        </a:lnTo>
                        <a:lnTo>
                          <a:pt x="10" y="17"/>
                        </a:lnTo>
                        <a:lnTo>
                          <a:pt x="14" y="1"/>
                        </a:lnTo>
                        <a:close/>
                      </a:path>
                    </a:pathLst>
                  </a:custGeom>
                  <a:solidFill>
                    <a:srgbClr val="008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3" name=""/>
                  <p:cNvSpPr/>
                  <p:nvPr/>
                </p:nvSpPr>
                <p:spPr>
                  <a:xfrm>
                    <a:off x="5719320" y="4410000"/>
                    <a:ext cx="63360" cy="69480"/>
                  </a:xfrm>
                  <a:custGeom>
                    <a:avLst/>
                    <a:gdLst/>
                    <a:ahLst/>
                    <a:rect l="l" t="t" r="r" b="b"/>
                    <a:pathLst>
                      <a:path w="81" h="95">
                        <a:moveTo>
                          <a:pt x="56" y="0"/>
                        </a:moveTo>
                        <a:lnTo>
                          <a:pt x="68" y="0"/>
                        </a:lnTo>
                        <a:lnTo>
                          <a:pt x="81" y="27"/>
                        </a:lnTo>
                        <a:lnTo>
                          <a:pt x="67" y="47"/>
                        </a:lnTo>
                        <a:lnTo>
                          <a:pt x="67" y="58"/>
                        </a:lnTo>
                        <a:lnTo>
                          <a:pt x="64" y="60"/>
                        </a:lnTo>
                        <a:lnTo>
                          <a:pt x="52" y="60"/>
                        </a:lnTo>
                        <a:lnTo>
                          <a:pt x="42" y="71"/>
                        </a:lnTo>
                        <a:lnTo>
                          <a:pt x="33" y="85"/>
                        </a:lnTo>
                        <a:lnTo>
                          <a:pt x="27" y="95"/>
                        </a:lnTo>
                        <a:lnTo>
                          <a:pt x="27" y="85"/>
                        </a:lnTo>
                        <a:lnTo>
                          <a:pt x="14" y="89"/>
                        </a:lnTo>
                        <a:lnTo>
                          <a:pt x="7" y="89"/>
                        </a:lnTo>
                        <a:lnTo>
                          <a:pt x="0" y="89"/>
                        </a:lnTo>
                        <a:lnTo>
                          <a:pt x="12" y="71"/>
                        </a:lnTo>
                        <a:lnTo>
                          <a:pt x="16" y="65"/>
                        </a:lnTo>
                        <a:lnTo>
                          <a:pt x="20" y="65"/>
                        </a:lnTo>
                        <a:lnTo>
                          <a:pt x="30" y="49"/>
                        </a:lnTo>
                        <a:lnTo>
                          <a:pt x="33" y="49"/>
                        </a:lnTo>
                        <a:lnTo>
                          <a:pt x="38" y="45"/>
                        </a:lnTo>
                        <a:lnTo>
                          <a:pt x="42" y="45"/>
                        </a:lnTo>
                        <a:lnTo>
                          <a:pt x="41" y="31"/>
                        </a:lnTo>
                        <a:lnTo>
                          <a:pt x="42" y="31"/>
                        </a:lnTo>
                        <a:lnTo>
                          <a:pt x="48" y="26"/>
                        </a:lnTo>
                        <a:lnTo>
                          <a:pt x="48" y="29"/>
                        </a:lnTo>
                        <a:lnTo>
                          <a:pt x="60" y="18"/>
                        </a:lnTo>
                        <a:lnTo>
                          <a:pt x="56" y="0"/>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4" name=""/>
                  <p:cNvSpPr/>
                  <p:nvPr/>
                </p:nvSpPr>
                <p:spPr>
                  <a:xfrm>
                    <a:off x="5600520" y="4414320"/>
                    <a:ext cx="24840" cy="37440"/>
                  </a:xfrm>
                  <a:custGeom>
                    <a:avLst/>
                    <a:gdLst/>
                    <a:ahLst/>
                    <a:rect l="l" t="t" r="r" b="b"/>
                    <a:pathLst>
                      <a:path w="31" h="53">
                        <a:moveTo>
                          <a:pt x="0" y="0"/>
                        </a:moveTo>
                        <a:lnTo>
                          <a:pt x="7" y="0"/>
                        </a:lnTo>
                        <a:lnTo>
                          <a:pt x="15" y="6"/>
                        </a:lnTo>
                        <a:lnTo>
                          <a:pt x="31" y="6"/>
                        </a:lnTo>
                        <a:lnTo>
                          <a:pt x="28" y="16"/>
                        </a:lnTo>
                        <a:lnTo>
                          <a:pt x="31" y="24"/>
                        </a:lnTo>
                        <a:lnTo>
                          <a:pt x="26" y="24"/>
                        </a:lnTo>
                        <a:lnTo>
                          <a:pt x="24" y="26"/>
                        </a:lnTo>
                        <a:lnTo>
                          <a:pt x="21" y="28"/>
                        </a:lnTo>
                        <a:lnTo>
                          <a:pt x="24" y="53"/>
                        </a:lnTo>
                        <a:lnTo>
                          <a:pt x="15" y="50"/>
                        </a:lnTo>
                        <a:lnTo>
                          <a:pt x="5" y="42"/>
                        </a:lnTo>
                        <a:lnTo>
                          <a:pt x="5" y="26"/>
                        </a:lnTo>
                        <a:lnTo>
                          <a:pt x="5" y="22"/>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105" name=""/>
                <p:cNvSpPr/>
                <p:nvPr/>
              </p:nvSpPr>
              <p:spPr>
                <a:xfrm>
                  <a:off x="5644440" y="4020840"/>
                  <a:ext cx="40320" cy="40320"/>
                </a:xfrm>
                <a:custGeom>
                  <a:avLst/>
                  <a:gdLst/>
                  <a:ahLst/>
                  <a:rect l="l" t="t" r="r" b="b"/>
                  <a:pathLst>
                    <a:path w="51" h="55">
                      <a:moveTo>
                        <a:pt x="10" y="22"/>
                      </a:moveTo>
                      <a:lnTo>
                        <a:pt x="0" y="45"/>
                      </a:lnTo>
                      <a:lnTo>
                        <a:pt x="3" y="54"/>
                      </a:lnTo>
                      <a:lnTo>
                        <a:pt x="18" y="55"/>
                      </a:lnTo>
                      <a:lnTo>
                        <a:pt x="29" y="55"/>
                      </a:lnTo>
                      <a:lnTo>
                        <a:pt x="36" y="48"/>
                      </a:lnTo>
                      <a:lnTo>
                        <a:pt x="38" y="38"/>
                      </a:lnTo>
                      <a:lnTo>
                        <a:pt x="51" y="38"/>
                      </a:lnTo>
                      <a:lnTo>
                        <a:pt x="48" y="23"/>
                      </a:lnTo>
                      <a:lnTo>
                        <a:pt x="48" y="12"/>
                      </a:lnTo>
                      <a:lnTo>
                        <a:pt x="37" y="0"/>
                      </a:lnTo>
                      <a:lnTo>
                        <a:pt x="34" y="18"/>
                      </a:lnTo>
                      <a:lnTo>
                        <a:pt x="41" y="26"/>
                      </a:lnTo>
                      <a:lnTo>
                        <a:pt x="28" y="26"/>
                      </a:lnTo>
                      <a:lnTo>
                        <a:pt x="24" y="32"/>
                      </a:lnTo>
                      <a:lnTo>
                        <a:pt x="10" y="22"/>
                      </a:lnTo>
                      <a:close/>
                    </a:path>
                  </a:pathLst>
                </a:cu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106" name=""/>
                <p:cNvGrpSpPr/>
                <p:nvPr/>
              </p:nvGrpSpPr>
              <p:grpSpPr>
                <a:xfrm>
                  <a:off x="5209560" y="3421440"/>
                  <a:ext cx="464400" cy="974160"/>
                  <a:chOff x="5209560" y="3421440"/>
                  <a:chExt cx="464400" cy="974160"/>
                </a:xfrm>
              </p:grpSpPr>
              <p:grpSp>
                <p:nvGrpSpPr>
                  <p:cNvPr id="107" name=""/>
                  <p:cNvGrpSpPr/>
                  <p:nvPr/>
                </p:nvGrpSpPr>
                <p:grpSpPr>
                  <a:xfrm>
                    <a:off x="5284080" y="3521160"/>
                    <a:ext cx="104040" cy="291960"/>
                    <a:chOff x="5284080" y="3521160"/>
                    <a:chExt cx="104040" cy="291960"/>
                  </a:xfrm>
                </p:grpSpPr>
                <p:sp>
                  <p:nvSpPr>
                    <p:cNvPr id="108" name=""/>
                    <p:cNvSpPr/>
                    <p:nvPr/>
                  </p:nvSpPr>
                  <p:spPr>
                    <a:xfrm>
                      <a:off x="5284080" y="3783240"/>
                      <a:ext cx="23040" cy="29880"/>
                    </a:xfrm>
                    <a:custGeom>
                      <a:avLst/>
                      <a:gdLst/>
                      <a:ahLst/>
                      <a:rect l="l" t="t" r="r" b="b"/>
                      <a:pathLst>
                        <a:path w="31" h="40">
                          <a:moveTo>
                            <a:pt x="0" y="30"/>
                          </a:moveTo>
                          <a:lnTo>
                            <a:pt x="5" y="40"/>
                          </a:lnTo>
                          <a:lnTo>
                            <a:pt x="12" y="37"/>
                          </a:lnTo>
                          <a:lnTo>
                            <a:pt x="23" y="40"/>
                          </a:lnTo>
                          <a:lnTo>
                            <a:pt x="30" y="40"/>
                          </a:lnTo>
                          <a:lnTo>
                            <a:pt x="31" y="27"/>
                          </a:lnTo>
                          <a:lnTo>
                            <a:pt x="28" y="16"/>
                          </a:lnTo>
                          <a:lnTo>
                            <a:pt x="24" y="6"/>
                          </a:lnTo>
                          <a:lnTo>
                            <a:pt x="19" y="6"/>
                          </a:lnTo>
                          <a:lnTo>
                            <a:pt x="15" y="0"/>
                          </a:lnTo>
                          <a:lnTo>
                            <a:pt x="8" y="0"/>
                          </a:lnTo>
                          <a:lnTo>
                            <a:pt x="8" y="11"/>
                          </a:lnTo>
                          <a:lnTo>
                            <a:pt x="0" y="30"/>
                          </a:lnTo>
                          <a:close/>
                        </a:path>
                      </a:pathLst>
                    </a:custGeom>
                    <a:solidFill>
                      <a:srgbClr val="008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9" name=""/>
                    <p:cNvSpPr/>
                    <p:nvPr/>
                  </p:nvSpPr>
                  <p:spPr>
                    <a:xfrm>
                      <a:off x="5351040" y="3731040"/>
                      <a:ext cx="23040" cy="36000"/>
                    </a:xfrm>
                    <a:custGeom>
                      <a:avLst/>
                      <a:gdLst/>
                      <a:ahLst/>
                      <a:rect l="l" t="t" r="r" b="b"/>
                      <a:pathLst>
                        <a:path w="30" h="51">
                          <a:moveTo>
                            <a:pt x="6" y="0"/>
                          </a:moveTo>
                          <a:lnTo>
                            <a:pt x="18" y="3"/>
                          </a:lnTo>
                          <a:lnTo>
                            <a:pt x="25" y="16"/>
                          </a:lnTo>
                          <a:lnTo>
                            <a:pt x="30" y="25"/>
                          </a:lnTo>
                          <a:lnTo>
                            <a:pt x="26" y="31"/>
                          </a:lnTo>
                          <a:lnTo>
                            <a:pt x="30" y="38"/>
                          </a:lnTo>
                          <a:lnTo>
                            <a:pt x="27" y="47"/>
                          </a:lnTo>
                          <a:lnTo>
                            <a:pt x="23" y="51"/>
                          </a:lnTo>
                          <a:lnTo>
                            <a:pt x="14" y="51"/>
                          </a:lnTo>
                          <a:lnTo>
                            <a:pt x="7" y="51"/>
                          </a:lnTo>
                          <a:lnTo>
                            <a:pt x="4" y="45"/>
                          </a:lnTo>
                          <a:lnTo>
                            <a:pt x="0" y="36"/>
                          </a:lnTo>
                          <a:lnTo>
                            <a:pt x="0" y="31"/>
                          </a:lnTo>
                          <a:lnTo>
                            <a:pt x="0" y="19"/>
                          </a:lnTo>
                          <a:lnTo>
                            <a:pt x="6" y="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0" name=""/>
                    <p:cNvSpPr/>
                    <p:nvPr/>
                  </p:nvSpPr>
                  <p:spPr>
                    <a:xfrm>
                      <a:off x="5344560" y="3521160"/>
                      <a:ext cx="43560" cy="33120"/>
                    </a:xfrm>
                    <a:custGeom>
                      <a:avLst/>
                      <a:gdLst/>
                      <a:ahLst/>
                      <a:rect l="l" t="t" r="r" b="b"/>
                      <a:pathLst>
                        <a:path w="55" h="46">
                          <a:moveTo>
                            <a:pt x="8" y="0"/>
                          </a:moveTo>
                          <a:lnTo>
                            <a:pt x="15" y="5"/>
                          </a:lnTo>
                          <a:lnTo>
                            <a:pt x="23" y="4"/>
                          </a:lnTo>
                          <a:lnTo>
                            <a:pt x="34" y="5"/>
                          </a:lnTo>
                          <a:lnTo>
                            <a:pt x="41" y="5"/>
                          </a:lnTo>
                          <a:lnTo>
                            <a:pt x="45" y="10"/>
                          </a:lnTo>
                          <a:lnTo>
                            <a:pt x="51" y="20"/>
                          </a:lnTo>
                          <a:lnTo>
                            <a:pt x="55" y="23"/>
                          </a:lnTo>
                          <a:lnTo>
                            <a:pt x="42" y="27"/>
                          </a:lnTo>
                          <a:lnTo>
                            <a:pt x="38" y="31"/>
                          </a:lnTo>
                          <a:lnTo>
                            <a:pt x="42" y="39"/>
                          </a:lnTo>
                          <a:lnTo>
                            <a:pt x="42" y="46"/>
                          </a:lnTo>
                          <a:lnTo>
                            <a:pt x="31" y="39"/>
                          </a:lnTo>
                          <a:lnTo>
                            <a:pt x="22" y="36"/>
                          </a:lnTo>
                          <a:lnTo>
                            <a:pt x="15" y="36"/>
                          </a:lnTo>
                          <a:lnTo>
                            <a:pt x="15" y="46"/>
                          </a:lnTo>
                          <a:lnTo>
                            <a:pt x="8" y="46"/>
                          </a:lnTo>
                          <a:lnTo>
                            <a:pt x="7" y="39"/>
                          </a:lnTo>
                          <a:lnTo>
                            <a:pt x="5" y="27"/>
                          </a:lnTo>
                          <a:lnTo>
                            <a:pt x="0" y="26"/>
                          </a:lnTo>
                          <a:lnTo>
                            <a:pt x="5" y="20"/>
                          </a:lnTo>
                          <a:lnTo>
                            <a:pt x="10" y="15"/>
                          </a:lnTo>
                          <a:lnTo>
                            <a:pt x="8"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111" name=""/>
                  <p:cNvSpPr/>
                  <p:nvPr/>
                </p:nvSpPr>
                <p:spPr>
                  <a:xfrm>
                    <a:off x="5382360" y="4113360"/>
                    <a:ext cx="291600" cy="282240"/>
                  </a:xfrm>
                  <a:custGeom>
                    <a:avLst/>
                    <a:gdLst/>
                    <a:ahLst/>
                    <a:rect l="l" t="t" r="r" b="b"/>
                    <a:pathLst>
                      <a:path w="376" h="391">
                        <a:moveTo>
                          <a:pt x="270" y="0"/>
                        </a:moveTo>
                        <a:lnTo>
                          <a:pt x="289" y="0"/>
                        </a:lnTo>
                        <a:lnTo>
                          <a:pt x="289" y="31"/>
                        </a:lnTo>
                        <a:lnTo>
                          <a:pt x="298" y="42"/>
                        </a:lnTo>
                        <a:lnTo>
                          <a:pt x="301" y="47"/>
                        </a:lnTo>
                        <a:lnTo>
                          <a:pt x="304" y="47"/>
                        </a:lnTo>
                        <a:lnTo>
                          <a:pt x="307" y="52"/>
                        </a:lnTo>
                        <a:lnTo>
                          <a:pt x="309" y="84"/>
                        </a:lnTo>
                        <a:lnTo>
                          <a:pt x="319" y="104"/>
                        </a:lnTo>
                        <a:lnTo>
                          <a:pt x="337" y="133"/>
                        </a:lnTo>
                        <a:lnTo>
                          <a:pt x="337" y="139"/>
                        </a:lnTo>
                        <a:lnTo>
                          <a:pt x="355" y="165"/>
                        </a:lnTo>
                        <a:lnTo>
                          <a:pt x="355" y="168"/>
                        </a:lnTo>
                        <a:lnTo>
                          <a:pt x="374" y="188"/>
                        </a:lnTo>
                        <a:lnTo>
                          <a:pt x="376" y="224"/>
                        </a:lnTo>
                        <a:lnTo>
                          <a:pt x="374" y="256"/>
                        </a:lnTo>
                        <a:lnTo>
                          <a:pt x="366" y="272"/>
                        </a:lnTo>
                        <a:lnTo>
                          <a:pt x="360" y="279"/>
                        </a:lnTo>
                        <a:lnTo>
                          <a:pt x="357" y="297"/>
                        </a:lnTo>
                        <a:lnTo>
                          <a:pt x="351" y="311"/>
                        </a:lnTo>
                        <a:lnTo>
                          <a:pt x="346" y="314"/>
                        </a:lnTo>
                        <a:lnTo>
                          <a:pt x="348" y="321"/>
                        </a:lnTo>
                        <a:lnTo>
                          <a:pt x="339" y="331"/>
                        </a:lnTo>
                        <a:lnTo>
                          <a:pt x="337" y="350"/>
                        </a:lnTo>
                        <a:lnTo>
                          <a:pt x="335" y="363"/>
                        </a:lnTo>
                        <a:lnTo>
                          <a:pt x="329" y="366"/>
                        </a:lnTo>
                        <a:lnTo>
                          <a:pt x="327" y="373"/>
                        </a:lnTo>
                        <a:lnTo>
                          <a:pt x="323" y="381"/>
                        </a:lnTo>
                        <a:lnTo>
                          <a:pt x="316" y="381"/>
                        </a:lnTo>
                        <a:lnTo>
                          <a:pt x="309" y="385"/>
                        </a:lnTo>
                        <a:lnTo>
                          <a:pt x="302" y="391"/>
                        </a:lnTo>
                        <a:lnTo>
                          <a:pt x="290" y="376"/>
                        </a:lnTo>
                        <a:lnTo>
                          <a:pt x="281" y="381"/>
                        </a:lnTo>
                        <a:lnTo>
                          <a:pt x="277" y="381"/>
                        </a:lnTo>
                        <a:lnTo>
                          <a:pt x="261" y="384"/>
                        </a:lnTo>
                        <a:lnTo>
                          <a:pt x="253" y="373"/>
                        </a:lnTo>
                        <a:lnTo>
                          <a:pt x="244" y="357"/>
                        </a:lnTo>
                        <a:lnTo>
                          <a:pt x="241" y="360"/>
                        </a:lnTo>
                        <a:lnTo>
                          <a:pt x="237" y="349"/>
                        </a:lnTo>
                        <a:lnTo>
                          <a:pt x="234" y="340"/>
                        </a:lnTo>
                        <a:lnTo>
                          <a:pt x="233" y="337"/>
                        </a:lnTo>
                        <a:lnTo>
                          <a:pt x="233" y="321"/>
                        </a:lnTo>
                        <a:lnTo>
                          <a:pt x="233" y="311"/>
                        </a:lnTo>
                        <a:lnTo>
                          <a:pt x="230" y="305"/>
                        </a:lnTo>
                        <a:lnTo>
                          <a:pt x="222" y="308"/>
                        </a:lnTo>
                        <a:lnTo>
                          <a:pt x="217" y="311"/>
                        </a:lnTo>
                        <a:lnTo>
                          <a:pt x="209" y="311"/>
                        </a:lnTo>
                        <a:lnTo>
                          <a:pt x="207" y="311"/>
                        </a:lnTo>
                        <a:lnTo>
                          <a:pt x="203" y="311"/>
                        </a:lnTo>
                        <a:lnTo>
                          <a:pt x="197" y="301"/>
                        </a:lnTo>
                        <a:lnTo>
                          <a:pt x="191" y="291"/>
                        </a:lnTo>
                        <a:lnTo>
                          <a:pt x="190" y="291"/>
                        </a:lnTo>
                        <a:lnTo>
                          <a:pt x="182" y="291"/>
                        </a:lnTo>
                        <a:lnTo>
                          <a:pt x="180" y="285"/>
                        </a:lnTo>
                        <a:lnTo>
                          <a:pt x="173" y="291"/>
                        </a:lnTo>
                        <a:lnTo>
                          <a:pt x="168" y="291"/>
                        </a:lnTo>
                        <a:lnTo>
                          <a:pt x="159" y="291"/>
                        </a:lnTo>
                        <a:lnTo>
                          <a:pt x="156" y="285"/>
                        </a:lnTo>
                        <a:lnTo>
                          <a:pt x="153" y="291"/>
                        </a:lnTo>
                        <a:lnTo>
                          <a:pt x="142" y="292"/>
                        </a:lnTo>
                        <a:lnTo>
                          <a:pt x="141" y="291"/>
                        </a:lnTo>
                        <a:lnTo>
                          <a:pt x="136" y="297"/>
                        </a:lnTo>
                        <a:lnTo>
                          <a:pt x="129" y="305"/>
                        </a:lnTo>
                        <a:lnTo>
                          <a:pt x="123" y="305"/>
                        </a:lnTo>
                        <a:lnTo>
                          <a:pt x="117" y="314"/>
                        </a:lnTo>
                        <a:lnTo>
                          <a:pt x="108" y="314"/>
                        </a:lnTo>
                        <a:lnTo>
                          <a:pt x="99" y="314"/>
                        </a:lnTo>
                        <a:lnTo>
                          <a:pt x="90" y="321"/>
                        </a:lnTo>
                        <a:lnTo>
                          <a:pt x="86" y="328"/>
                        </a:lnTo>
                        <a:lnTo>
                          <a:pt x="82" y="327"/>
                        </a:lnTo>
                        <a:lnTo>
                          <a:pt x="80" y="333"/>
                        </a:lnTo>
                        <a:lnTo>
                          <a:pt x="74" y="334"/>
                        </a:lnTo>
                        <a:lnTo>
                          <a:pt x="69" y="340"/>
                        </a:lnTo>
                        <a:lnTo>
                          <a:pt x="50" y="340"/>
                        </a:lnTo>
                        <a:lnTo>
                          <a:pt x="43" y="331"/>
                        </a:lnTo>
                        <a:lnTo>
                          <a:pt x="42" y="327"/>
                        </a:lnTo>
                        <a:lnTo>
                          <a:pt x="41" y="331"/>
                        </a:lnTo>
                        <a:lnTo>
                          <a:pt x="37" y="321"/>
                        </a:lnTo>
                        <a:lnTo>
                          <a:pt x="38" y="302"/>
                        </a:lnTo>
                        <a:lnTo>
                          <a:pt x="41" y="291"/>
                        </a:lnTo>
                        <a:lnTo>
                          <a:pt x="37" y="279"/>
                        </a:lnTo>
                        <a:lnTo>
                          <a:pt x="34" y="272"/>
                        </a:lnTo>
                        <a:lnTo>
                          <a:pt x="34" y="260"/>
                        </a:lnTo>
                        <a:lnTo>
                          <a:pt x="27" y="253"/>
                        </a:lnTo>
                        <a:lnTo>
                          <a:pt x="25" y="253"/>
                        </a:lnTo>
                        <a:lnTo>
                          <a:pt x="24" y="249"/>
                        </a:lnTo>
                        <a:lnTo>
                          <a:pt x="17" y="234"/>
                        </a:lnTo>
                        <a:lnTo>
                          <a:pt x="6" y="201"/>
                        </a:lnTo>
                        <a:lnTo>
                          <a:pt x="4" y="176"/>
                        </a:lnTo>
                        <a:lnTo>
                          <a:pt x="4" y="165"/>
                        </a:lnTo>
                        <a:lnTo>
                          <a:pt x="0" y="159"/>
                        </a:lnTo>
                        <a:lnTo>
                          <a:pt x="1" y="144"/>
                        </a:lnTo>
                        <a:lnTo>
                          <a:pt x="4" y="140"/>
                        </a:lnTo>
                        <a:lnTo>
                          <a:pt x="17" y="124"/>
                        </a:lnTo>
                        <a:lnTo>
                          <a:pt x="28" y="124"/>
                        </a:lnTo>
                        <a:lnTo>
                          <a:pt x="32" y="129"/>
                        </a:lnTo>
                        <a:lnTo>
                          <a:pt x="46" y="129"/>
                        </a:lnTo>
                        <a:lnTo>
                          <a:pt x="48" y="124"/>
                        </a:lnTo>
                        <a:lnTo>
                          <a:pt x="50" y="124"/>
                        </a:lnTo>
                        <a:lnTo>
                          <a:pt x="57" y="120"/>
                        </a:lnTo>
                        <a:lnTo>
                          <a:pt x="60" y="120"/>
                        </a:lnTo>
                        <a:lnTo>
                          <a:pt x="64" y="118"/>
                        </a:lnTo>
                        <a:lnTo>
                          <a:pt x="62" y="113"/>
                        </a:lnTo>
                        <a:lnTo>
                          <a:pt x="65" y="102"/>
                        </a:lnTo>
                        <a:lnTo>
                          <a:pt x="69" y="98"/>
                        </a:lnTo>
                        <a:lnTo>
                          <a:pt x="67" y="94"/>
                        </a:lnTo>
                        <a:lnTo>
                          <a:pt x="69" y="89"/>
                        </a:lnTo>
                        <a:lnTo>
                          <a:pt x="67" y="88"/>
                        </a:lnTo>
                        <a:lnTo>
                          <a:pt x="74" y="78"/>
                        </a:lnTo>
                        <a:lnTo>
                          <a:pt x="83" y="76"/>
                        </a:lnTo>
                        <a:lnTo>
                          <a:pt x="94" y="58"/>
                        </a:lnTo>
                        <a:lnTo>
                          <a:pt x="106" y="42"/>
                        </a:lnTo>
                        <a:lnTo>
                          <a:pt x="112" y="42"/>
                        </a:lnTo>
                        <a:lnTo>
                          <a:pt x="115" y="36"/>
                        </a:lnTo>
                        <a:lnTo>
                          <a:pt x="120" y="36"/>
                        </a:lnTo>
                        <a:lnTo>
                          <a:pt x="130" y="50"/>
                        </a:lnTo>
                        <a:lnTo>
                          <a:pt x="135" y="52"/>
                        </a:lnTo>
                        <a:lnTo>
                          <a:pt x="138" y="47"/>
                        </a:lnTo>
                        <a:lnTo>
                          <a:pt x="143" y="36"/>
                        </a:lnTo>
                        <a:lnTo>
                          <a:pt x="148" y="34"/>
                        </a:lnTo>
                        <a:lnTo>
                          <a:pt x="153" y="21"/>
                        </a:lnTo>
                        <a:lnTo>
                          <a:pt x="157" y="21"/>
                        </a:lnTo>
                        <a:lnTo>
                          <a:pt x="163" y="18"/>
                        </a:lnTo>
                        <a:lnTo>
                          <a:pt x="168" y="10"/>
                        </a:lnTo>
                        <a:lnTo>
                          <a:pt x="173" y="10"/>
                        </a:lnTo>
                        <a:lnTo>
                          <a:pt x="179" y="5"/>
                        </a:lnTo>
                        <a:lnTo>
                          <a:pt x="185" y="5"/>
                        </a:lnTo>
                        <a:lnTo>
                          <a:pt x="193" y="5"/>
                        </a:lnTo>
                        <a:lnTo>
                          <a:pt x="203" y="5"/>
                        </a:lnTo>
                        <a:lnTo>
                          <a:pt x="209" y="16"/>
                        </a:lnTo>
                        <a:lnTo>
                          <a:pt x="211" y="20"/>
                        </a:lnTo>
                        <a:lnTo>
                          <a:pt x="213" y="21"/>
                        </a:lnTo>
                        <a:lnTo>
                          <a:pt x="215" y="30"/>
                        </a:lnTo>
                        <a:lnTo>
                          <a:pt x="213" y="31"/>
                        </a:lnTo>
                        <a:lnTo>
                          <a:pt x="213" y="42"/>
                        </a:lnTo>
                        <a:lnTo>
                          <a:pt x="211" y="47"/>
                        </a:lnTo>
                        <a:lnTo>
                          <a:pt x="228" y="63"/>
                        </a:lnTo>
                        <a:lnTo>
                          <a:pt x="233" y="72"/>
                        </a:lnTo>
                        <a:lnTo>
                          <a:pt x="240" y="74"/>
                        </a:lnTo>
                        <a:lnTo>
                          <a:pt x="245" y="78"/>
                        </a:lnTo>
                        <a:lnTo>
                          <a:pt x="251" y="84"/>
                        </a:lnTo>
                        <a:lnTo>
                          <a:pt x="259" y="76"/>
                        </a:lnTo>
                        <a:lnTo>
                          <a:pt x="263" y="63"/>
                        </a:lnTo>
                        <a:lnTo>
                          <a:pt x="265" y="52"/>
                        </a:lnTo>
                        <a:lnTo>
                          <a:pt x="267" y="30"/>
                        </a:lnTo>
                        <a:lnTo>
                          <a:pt x="270" y="21"/>
                        </a:lnTo>
                        <a:lnTo>
                          <a:pt x="27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313600" y="4053960"/>
                    <a:ext cx="160560" cy="37440"/>
                  </a:xfrm>
                  <a:custGeom>
                    <a:avLst/>
                    <a:gdLst/>
                    <a:ahLst/>
                    <a:rect l="l" t="t" r="r" b="b"/>
                    <a:pathLst>
                      <a:path w="206" h="52">
                        <a:moveTo>
                          <a:pt x="0" y="0"/>
                        </a:moveTo>
                        <a:lnTo>
                          <a:pt x="14" y="7"/>
                        </a:lnTo>
                        <a:lnTo>
                          <a:pt x="29" y="7"/>
                        </a:lnTo>
                        <a:lnTo>
                          <a:pt x="40" y="7"/>
                        </a:lnTo>
                        <a:lnTo>
                          <a:pt x="48" y="7"/>
                        </a:lnTo>
                        <a:lnTo>
                          <a:pt x="55" y="9"/>
                        </a:lnTo>
                        <a:lnTo>
                          <a:pt x="64" y="13"/>
                        </a:lnTo>
                        <a:lnTo>
                          <a:pt x="70" y="25"/>
                        </a:lnTo>
                        <a:lnTo>
                          <a:pt x="74" y="29"/>
                        </a:lnTo>
                        <a:lnTo>
                          <a:pt x="81" y="29"/>
                        </a:lnTo>
                        <a:lnTo>
                          <a:pt x="91" y="29"/>
                        </a:lnTo>
                        <a:lnTo>
                          <a:pt x="101" y="35"/>
                        </a:lnTo>
                        <a:lnTo>
                          <a:pt x="107" y="39"/>
                        </a:lnTo>
                        <a:lnTo>
                          <a:pt x="111" y="39"/>
                        </a:lnTo>
                        <a:lnTo>
                          <a:pt x="112" y="29"/>
                        </a:lnTo>
                        <a:lnTo>
                          <a:pt x="115" y="25"/>
                        </a:lnTo>
                        <a:lnTo>
                          <a:pt x="129" y="29"/>
                        </a:lnTo>
                        <a:lnTo>
                          <a:pt x="140" y="29"/>
                        </a:lnTo>
                        <a:lnTo>
                          <a:pt x="151" y="29"/>
                        </a:lnTo>
                        <a:lnTo>
                          <a:pt x="158" y="33"/>
                        </a:lnTo>
                        <a:lnTo>
                          <a:pt x="162" y="36"/>
                        </a:lnTo>
                        <a:lnTo>
                          <a:pt x="170" y="35"/>
                        </a:lnTo>
                        <a:lnTo>
                          <a:pt x="176" y="33"/>
                        </a:lnTo>
                        <a:lnTo>
                          <a:pt x="181" y="29"/>
                        </a:lnTo>
                        <a:lnTo>
                          <a:pt x="188" y="29"/>
                        </a:lnTo>
                        <a:lnTo>
                          <a:pt x="195" y="25"/>
                        </a:lnTo>
                        <a:lnTo>
                          <a:pt x="202" y="23"/>
                        </a:lnTo>
                        <a:lnTo>
                          <a:pt x="206" y="23"/>
                        </a:lnTo>
                        <a:lnTo>
                          <a:pt x="204" y="33"/>
                        </a:lnTo>
                        <a:lnTo>
                          <a:pt x="202" y="39"/>
                        </a:lnTo>
                        <a:lnTo>
                          <a:pt x="199" y="42"/>
                        </a:lnTo>
                        <a:lnTo>
                          <a:pt x="195" y="42"/>
                        </a:lnTo>
                        <a:lnTo>
                          <a:pt x="193" y="42"/>
                        </a:lnTo>
                        <a:lnTo>
                          <a:pt x="186" y="45"/>
                        </a:lnTo>
                        <a:lnTo>
                          <a:pt x="182" y="49"/>
                        </a:lnTo>
                        <a:lnTo>
                          <a:pt x="180" y="49"/>
                        </a:lnTo>
                        <a:lnTo>
                          <a:pt x="173" y="46"/>
                        </a:lnTo>
                        <a:lnTo>
                          <a:pt x="169" y="49"/>
                        </a:lnTo>
                        <a:lnTo>
                          <a:pt x="165" y="49"/>
                        </a:lnTo>
                        <a:lnTo>
                          <a:pt x="161" y="49"/>
                        </a:lnTo>
                        <a:lnTo>
                          <a:pt x="158" y="52"/>
                        </a:lnTo>
                        <a:lnTo>
                          <a:pt x="151" y="52"/>
                        </a:lnTo>
                        <a:lnTo>
                          <a:pt x="147" y="49"/>
                        </a:lnTo>
                        <a:lnTo>
                          <a:pt x="141" y="42"/>
                        </a:lnTo>
                        <a:lnTo>
                          <a:pt x="136" y="49"/>
                        </a:lnTo>
                        <a:lnTo>
                          <a:pt x="132" y="52"/>
                        </a:lnTo>
                        <a:lnTo>
                          <a:pt x="128" y="52"/>
                        </a:lnTo>
                        <a:lnTo>
                          <a:pt x="121" y="42"/>
                        </a:lnTo>
                        <a:lnTo>
                          <a:pt x="119" y="45"/>
                        </a:lnTo>
                        <a:lnTo>
                          <a:pt x="114" y="45"/>
                        </a:lnTo>
                        <a:lnTo>
                          <a:pt x="110" y="49"/>
                        </a:lnTo>
                        <a:lnTo>
                          <a:pt x="104" y="49"/>
                        </a:lnTo>
                        <a:lnTo>
                          <a:pt x="96" y="49"/>
                        </a:lnTo>
                        <a:lnTo>
                          <a:pt x="93" y="46"/>
                        </a:lnTo>
                        <a:lnTo>
                          <a:pt x="89" y="42"/>
                        </a:lnTo>
                        <a:lnTo>
                          <a:pt x="82" y="45"/>
                        </a:lnTo>
                        <a:lnTo>
                          <a:pt x="77" y="49"/>
                        </a:lnTo>
                        <a:lnTo>
                          <a:pt x="73" y="49"/>
                        </a:lnTo>
                        <a:lnTo>
                          <a:pt x="64" y="46"/>
                        </a:lnTo>
                        <a:lnTo>
                          <a:pt x="56" y="41"/>
                        </a:lnTo>
                        <a:lnTo>
                          <a:pt x="50" y="41"/>
                        </a:lnTo>
                        <a:lnTo>
                          <a:pt x="37" y="36"/>
                        </a:lnTo>
                        <a:lnTo>
                          <a:pt x="29" y="33"/>
                        </a:lnTo>
                        <a:lnTo>
                          <a:pt x="23" y="33"/>
                        </a:lnTo>
                        <a:lnTo>
                          <a:pt x="14" y="29"/>
                        </a:lnTo>
                        <a:lnTo>
                          <a:pt x="7" y="23"/>
                        </a:lnTo>
                        <a:lnTo>
                          <a:pt x="3" y="23"/>
                        </a:lnTo>
                        <a:lnTo>
                          <a:pt x="0" y="20"/>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13" name=""/>
                  <p:cNvSpPr/>
                  <p:nvPr/>
                </p:nvSpPr>
                <p:spPr>
                  <a:xfrm>
                    <a:off x="5401080" y="3977280"/>
                    <a:ext cx="73080" cy="75240"/>
                  </a:xfrm>
                  <a:custGeom>
                    <a:avLst/>
                    <a:gdLst/>
                    <a:ahLst/>
                    <a:rect l="l" t="t" r="r" b="b"/>
                    <a:pathLst>
                      <a:path w="94" h="103">
                        <a:moveTo>
                          <a:pt x="24" y="0"/>
                        </a:moveTo>
                        <a:lnTo>
                          <a:pt x="46" y="3"/>
                        </a:lnTo>
                        <a:lnTo>
                          <a:pt x="69" y="3"/>
                        </a:lnTo>
                        <a:lnTo>
                          <a:pt x="80" y="0"/>
                        </a:lnTo>
                        <a:lnTo>
                          <a:pt x="94" y="8"/>
                        </a:lnTo>
                        <a:lnTo>
                          <a:pt x="86" y="13"/>
                        </a:lnTo>
                        <a:lnTo>
                          <a:pt x="80" y="17"/>
                        </a:lnTo>
                        <a:lnTo>
                          <a:pt x="74" y="19"/>
                        </a:lnTo>
                        <a:lnTo>
                          <a:pt x="73" y="23"/>
                        </a:lnTo>
                        <a:lnTo>
                          <a:pt x="73" y="29"/>
                        </a:lnTo>
                        <a:lnTo>
                          <a:pt x="73" y="30"/>
                        </a:lnTo>
                        <a:lnTo>
                          <a:pt x="68" y="34"/>
                        </a:lnTo>
                        <a:lnTo>
                          <a:pt x="61" y="34"/>
                        </a:lnTo>
                        <a:lnTo>
                          <a:pt x="58" y="34"/>
                        </a:lnTo>
                        <a:lnTo>
                          <a:pt x="53" y="34"/>
                        </a:lnTo>
                        <a:lnTo>
                          <a:pt x="50" y="30"/>
                        </a:lnTo>
                        <a:lnTo>
                          <a:pt x="46" y="24"/>
                        </a:lnTo>
                        <a:lnTo>
                          <a:pt x="42" y="19"/>
                        </a:lnTo>
                        <a:lnTo>
                          <a:pt x="33" y="19"/>
                        </a:lnTo>
                        <a:lnTo>
                          <a:pt x="32" y="19"/>
                        </a:lnTo>
                        <a:lnTo>
                          <a:pt x="28" y="30"/>
                        </a:lnTo>
                        <a:lnTo>
                          <a:pt x="29" y="34"/>
                        </a:lnTo>
                        <a:lnTo>
                          <a:pt x="29" y="40"/>
                        </a:lnTo>
                        <a:lnTo>
                          <a:pt x="32" y="45"/>
                        </a:lnTo>
                        <a:lnTo>
                          <a:pt x="36" y="45"/>
                        </a:lnTo>
                        <a:lnTo>
                          <a:pt x="42" y="39"/>
                        </a:lnTo>
                        <a:lnTo>
                          <a:pt x="46" y="39"/>
                        </a:lnTo>
                        <a:lnTo>
                          <a:pt x="49" y="43"/>
                        </a:lnTo>
                        <a:lnTo>
                          <a:pt x="49" y="45"/>
                        </a:lnTo>
                        <a:lnTo>
                          <a:pt x="47" y="50"/>
                        </a:lnTo>
                        <a:lnTo>
                          <a:pt x="46" y="52"/>
                        </a:lnTo>
                        <a:lnTo>
                          <a:pt x="46" y="56"/>
                        </a:lnTo>
                        <a:lnTo>
                          <a:pt x="46" y="62"/>
                        </a:lnTo>
                        <a:lnTo>
                          <a:pt x="47" y="68"/>
                        </a:lnTo>
                        <a:lnTo>
                          <a:pt x="51" y="72"/>
                        </a:lnTo>
                        <a:lnTo>
                          <a:pt x="53" y="71"/>
                        </a:lnTo>
                        <a:lnTo>
                          <a:pt x="53" y="77"/>
                        </a:lnTo>
                        <a:lnTo>
                          <a:pt x="50" y="82"/>
                        </a:lnTo>
                        <a:lnTo>
                          <a:pt x="49" y="87"/>
                        </a:lnTo>
                        <a:lnTo>
                          <a:pt x="47" y="97"/>
                        </a:lnTo>
                        <a:lnTo>
                          <a:pt x="43" y="98"/>
                        </a:lnTo>
                        <a:lnTo>
                          <a:pt x="40" y="98"/>
                        </a:lnTo>
                        <a:lnTo>
                          <a:pt x="37" y="98"/>
                        </a:lnTo>
                        <a:lnTo>
                          <a:pt x="37" y="91"/>
                        </a:lnTo>
                        <a:lnTo>
                          <a:pt x="36" y="81"/>
                        </a:lnTo>
                        <a:lnTo>
                          <a:pt x="32" y="77"/>
                        </a:lnTo>
                        <a:lnTo>
                          <a:pt x="32" y="72"/>
                        </a:lnTo>
                        <a:lnTo>
                          <a:pt x="32" y="65"/>
                        </a:lnTo>
                        <a:lnTo>
                          <a:pt x="28" y="59"/>
                        </a:lnTo>
                        <a:lnTo>
                          <a:pt x="20" y="65"/>
                        </a:lnTo>
                        <a:lnTo>
                          <a:pt x="17" y="59"/>
                        </a:lnTo>
                        <a:lnTo>
                          <a:pt x="13" y="66"/>
                        </a:lnTo>
                        <a:lnTo>
                          <a:pt x="17" y="71"/>
                        </a:lnTo>
                        <a:lnTo>
                          <a:pt x="23" y="71"/>
                        </a:lnTo>
                        <a:lnTo>
                          <a:pt x="24" y="75"/>
                        </a:lnTo>
                        <a:lnTo>
                          <a:pt x="28" y="81"/>
                        </a:lnTo>
                        <a:lnTo>
                          <a:pt x="28" y="85"/>
                        </a:lnTo>
                        <a:lnTo>
                          <a:pt x="24" y="91"/>
                        </a:lnTo>
                        <a:lnTo>
                          <a:pt x="20" y="101"/>
                        </a:lnTo>
                        <a:lnTo>
                          <a:pt x="17" y="103"/>
                        </a:lnTo>
                        <a:lnTo>
                          <a:pt x="17" y="97"/>
                        </a:lnTo>
                        <a:lnTo>
                          <a:pt x="17" y="91"/>
                        </a:lnTo>
                        <a:lnTo>
                          <a:pt x="18" y="85"/>
                        </a:lnTo>
                        <a:lnTo>
                          <a:pt x="13" y="81"/>
                        </a:lnTo>
                        <a:lnTo>
                          <a:pt x="9" y="77"/>
                        </a:lnTo>
                        <a:lnTo>
                          <a:pt x="7" y="71"/>
                        </a:lnTo>
                        <a:lnTo>
                          <a:pt x="0" y="71"/>
                        </a:lnTo>
                        <a:lnTo>
                          <a:pt x="2" y="59"/>
                        </a:lnTo>
                        <a:lnTo>
                          <a:pt x="7" y="55"/>
                        </a:lnTo>
                        <a:lnTo>
                          <a:pt x="10" y="49"/>
                        </a:lnTo>
                        <a:lnTo>
                          <a:pt x="13" y="40"/>
                        </a:lnTo>
                        <a:lnTo>
                          <a:pt x="13" y="33"/>
                        </a:lnTo>
                        <a:lnTo>
                          <a:pt x="13" y="24"/>
                        </a:lnTo>
                        <a:lnTo>
                          <a:pt x="16" y="20"/>
                        </a:lnTo>
                        <a:lnTo>
                          <a:pt x="17" y="19"/>
                        </a:lnTo>
                        <a:lnTo>
                          <a:pt x="13" y="13"/>
                        </a:lnTo>
                        <a:lnTo>
                          <a:pt x="24"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4" name=""/>
                  <p:cNvSpPr/>
                  <p:nvPr/>
                </p:nvSpPr>
                <p:spPr>
                  <a:xfrm>
                    <a:off x="5324760" y="3942720"/>
                    <a:ext cx="79560" cy="105480"/>
                  </a:xfrm>
                  <a:custGeom>
                    <a:avLst/>
                    <a:gdLst/>
                    <a:ahLst/>
                    <a:rect l="l" t="t" r="r" b="b"/>
                    <a:pathLst>
                      <a:path w="103" h="145">
                        <a:moveTo>
                          <a:pt x="0" y="51"/>
                        </a:moveTo>
                        <a:lnTo>
                          <a:pt x="20" y="26"/>
                        </a:lnTo>
                        <a:lnTo>
                          <a:pt x="33" y="16"/>
                        </a:lnTo>
                        <a:lnTo>
                          <a:pt x="37" y="10"/>
                        </a:lnTo>
                        <a:lnTo>
                          <a:pt x="53" y="0"/>
                        </a:lnTo>
                        <a:lnTo>
                          <a:pt x="64" y="20"/>
                        </a:lnTo>
                        <a:lnTo>
                          <a:pt x="71" y="13"/>
                        </a:lnTo>
                        <a:lnTo>
                          <a:pt x="75" y="9"/>
                        </a:lnTo>
                        <a:lnTo>
                          <a:pt x="82" y="0"/>
                        </a:lnTo>
                        <a:lnTo>
                          <a:pt x="89" y="0"/>
                        </a:lnTo>
                        <a:lnTo>
                          <a:pt x="89" y="10"/>
                        </a:lnTo>
                        <a:lnTo>
                          <a:pt x="89" y="14"/>
                        </a:lnTo>
                        <a:lnTo>
                          <a:pt x="86" y="20"/>
                        </a:lnTo>
                        <a:lnTo>
                          <a:pt x="86" y="26"/>
                        </a:lnTo>
                        <a:lnTo>
                          <a:pt x="96" y="46"/>
                        </a:lnTo>
                        <a:lnTo>
                          <a:pt x="98" y="56"/>
                        </a:lnTo>
                        <a:lnTo>
                          <a:pt x="101" y="56"/>
                        </a:lnTo>
                        <a:lnTo>
                          <a:pt x="103" y="65"/>
                        </a:lnTo>
                        <a:lnTo>
                          <a:pt x="98" y="71"/>
                        </a:lnTo>
                        <a:lnTo>
                          <a:pt x="96" y="67"/>
                        </a:lnTo>
                        <a:lnTo>
                          <a:pt x="89" y="72"/>
                        </a:lnTo>
                        <a:lnTo>
                          <a:pt x="89" y="84"/>
                        </a:lnTo>
                        <a:lnTo>
                          <a:pt x="79" y="93"/>
                        </a:lnTo>
                        <a:lnTo>
                          <a:pt x="79" y="114"/>
                        </a:lnTo>
                        <a:lnTo>
                          <a:pt x="79" y="126"/>
                        </a:lnTo>
                        <a:lnTo>
                          <a:pt x="75" y="133"/>
                        </a:lnTo>
                        <a:lnTo>
                          <a:pt x="71" y="145"/>
                        </a:lnTo>
                        <a:lnTo>
                          <a:pt x="67" y="139"/>
                        </a:lnTo>
                        <a:lnTo>
                          <a:pt x="61" y="136"/>
                        </a:lnTo>
                        <a:lnTo>
                          <a:pt x="56" y="133"/>
                        </a:lnTo>
                        <a:lnTo>
                          <a:pt x="50" y="125"/>
                        </a:lnTo>
                        <a:lnTo>
                          <a:pt x="34" y="125"/>
                        </a:lnTo>
                        <a:lnTo>
                          <a:pt x="22" y="120"/>
                        </a:lnTo>
                        <a:lnTo>
                          <a:pt x="13" y="107"/>
                        </a:lnTo>
                        <a:lnTo>
                          <a:pt x="8" y="98"/>
                        </a:lnTo>
                        <a:lnTo>
                          <a:pt x="3" y="93"/>
                        </a:lnTo>
                        <a:lnTo>
                          <a:pt x="3" y="78"/>
                        </a:lnTo>
                        <a:lnTo>
                          <a:pt x="0" y="5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496120" y="4003560"/>
                    <a:ext cx="154440" cy="95400"/>
                  </a:xfrm>
                  <a:custGeom>
                    <a:avLst/>
                    <a:gdLst/>
                    <a:ahLst/>
                    <a:rect l="l" t="t" r="r" b="b"/>
                    <a:pathLst>
                      <a:path w="198" h="132">
                        <a:moveTo>
                          <a:pt x="0" y="0"/>
                        </a:moveTo>
                        <a:lnTo>
                          <a:pt x="18" y="0"/>
                        </a:lnTo>
                        <a:lnTo>
                          <a:pt x="32" y="2"/>
                        </a:lnTo>
                        <a:lnTo>
                          <a:pt x="38" y="21"/>
                        </a:lnTo>
                        <a:lnTo>
                          <a:pt x="39" y="28"/>
                        </a:lnTo>
                        <a:lnTo>
                          <a:pt x="41" y="32"/>
                        </a:lnTo>
                        <a:lnTo>
                          <a:pt x="46" y="25"/>
                        </a:lnTo>
                        <a:lnTo>
                          <a:pt x="53" y="25"/>
                        </a:lnTo>
                        <a:lnTo>
                          <a:pt x="59" y="32"/>
                        </a:lnTo>
                        <a:lnTo>
                          <a:pt x="60" y="31"/>
                        </a:lnTo>
                        <a:lnTo>
                          <a:pt x="67" y="21"/>
                        </a:lnTo>
                        <a:lnTo>
                          <a:pt x="68" y="21"/>
                        </a:lnTo>
                        <a:lnTo>
                          <a:pt x="74" y="16"/>
                        </a:lnTo>
                        <a:lnTo>
                          <a:pt x="80" y="16"/>
                        </a:lnTo>
                        <a:lnTo>
                          <a:pt x="96" y="25"/>
                        </a:lnTo>
                        <a:lnTo>
                          <a:pt x="106" y="25"/>
                        </a:lnTo>
                        <a:lnTo>
                          <a:pt x="113" y="37"/>
                        </a:lnTo>
                        <a:lnTo>
                          <a:pt x="120" y="37"/>
                        </a:lnTo>
                        <a:lnTo>
                          <a:pt x="127" y="43"/>
                        </a:lnTo>
                        <a:lnTo>
                          <a:pt x="133" y="44"/>
                        </a:lnTo>
                        <a:lnTo>
                          <a:pt x="148" y="51"/>
                        </a:lnTo>
                        <a:lnTo>
                          <a:pt x="154" y="63"/>
                        </a:lnTo>
                        <a:lnTo>
                          <a:pt x="157" y="69"/>
                        </a:lnTo>
                        <a:lnTo>
                          <a:pt x="156" y="73"/>
                        </a:lnTo>
                        <a:lnTo>
                          <a:pt x="161" y="77"/>
                        </a:lnTo>
                        <a:lnTo>
                          <a:pt x="166" y="79"/>
                        </a:lnTo>
                        <a:lnTo>
                          <a:pt x="168" y="80"/>
                        </a:lnTo>
                        <a:lnTo>
                          <a:pt x="174" y="83"/>
                        </a:lnTo>
                        <a:lnTo>
                          <a:pt x="185" y="93"/>
                        </a:lnTo>
                        <a:lnTo>
                          <a:pt x="185" y="99"/>
                        </a:lnTo>
                        <a:lnTo>
                          <a:pt x="189" y="105"/>
                        </a:lnTo>
                        <a:lnTo>
                          <a:pt x="190" y="109"/>
                        </a:lnTo>
                        <a:lnTo>
                          <a:pt x="198" y="119"/>
                        </a:lnTo>
                        <a:lnTo>
                          <a:pt x="190" y="132"/>
                        </a:lnTo>
                        <a:lnTo>
                          <a:pt x="189" y="132"/>
                        </a:lnTo>
                        <a:lnTo>
                          <a:pt x="182" y="132"/>
                        </a:lnTo>
                        <a:lnTo>
                          <a:pt x="179" y="127"/>
                        </a:lnTo>
                        <a:lnTo>
                          <a:pt x="177" y="127"/>
                        </a:lnTo>
                        <a:lnTo>
                          <a:pt x="171" y="127"/>
                        </a:lnTo>
                        <a:lnTo>
                          <a:pt x="156" y="103"/>
                        </a:lnTo>
                        <a:lnTo>
                          <a:pt x="146" y="105"/>
                        </a:lnTo>
                        <a:lnTo>
                          <a:pt x="135" y="103"/>
                        </a:lnTo>
                        <a:lnTo>
                          <a:pt x="133" y="106"/>
                        </a:lnTo>
                        <a:lnTo>
                          <a:pt x="129" y="111"/>
                        </a:lnTo>
                        <a:lnTo>
                          <a:pt x="129" y="109"/>
                        </a:lnTo>
                        <a:lnTo>
                          <a:pt x="126" y="116"/>
                        </a:lnTo>
                        <a:lnTo>
                          <a:pt x="117" y="127"/>
                        </a:lnTo>
                        <a:lnTo>
                          <a:pt x="111" y="121"/>
                        </a:lnTo>
                        <a:lnTo>
                          <a:pt x="106" y="119"/>
                        </a:lnTo>
                        <a:lnTo>
                          <a:pt x="98" y="119"/>
                        </a:lnTo>
                        <a:lnTo>
                          <a:pt x="94" y="116"/>
                        </a:lnTo>
                        <a:lnTo>
                          <a:pt x="90" y="119"/>
                        </a:lnTo>
                        <a:lnTo>
                          <a:pt x="86" y="103"/>
                        </a:lnTo>
                        <a:lnTo>
                          <a:pt x="79" y="89"/>
                        </a:lnTo>
                        <a:lnTo>
                          <a:pt x="69" y="73"/>
                        </a:lnTo>
                        <a:lnTo>
                          <a:pt x="65" y="63"/>
                        </a:lnTo>
                        <a:lnTo>
                          <a:pt x="59" y="53"/>
                        </a:lnTo>
                        <a:lnTo>
                          <a:pt x="46" y="53"/>
                        </a:lnTo>
                        <a:lnTo>
                          <a:pt x="37" y="57"/>
                        </a:lnTo>
                        <a:lnTo>
                          <a:pt x="30" y="51"/>
                        </a:lnTo>
                        <a:lnTo>
                          <a:pt x="18" y="47"/>
                        </a:lnTo>
                        <a:lnTo>
                          <a:pt x="12" y="43"/>
                        </a:lnTo>
                        <a:lnTo>
                          <a:pt x="12" y="22"/>
                        </a:lnTo>
                        <a:lnTo>
                          <a:pt x="13"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209560" y="3935520"/>
                    <a:ext cx="95040" cy="124200"/>
                  </a:xfrm>
                  <a:custGeom>
                    <a:avLst/>
                    <a:gdLst/>
                    <a:ahLst/>
                    <a:rect l="l" t="t" r="r" b="b"/>
                    <a:pathLst>
                      <a:path w="121" h="173">
                        <a:moveTo>
                          <a:pt x="0" y="6"/>
                        </a:moveTo>
                        <a:lnTo>
                          <a:pt x="12" y="0"/>
                        </a:lnTo>
                        <a:lnTo>
                          <a:pt x="26" y="6"/>
                        </a:lnTo>
                        <a:lnTo>
                          <a:pt x="28" y="15"/>
                        </a:lnTo>
                        <a:lnTo>
                          <a:pt x="28" y="21"/>
                        </a:lnTo>
                        <a:lnTo>
                          <a:pt x="34" y="22"/>
                        </a:lnTo>
                        <a:lnTo>
                          <a:pt x="34" y="25"/>
                        </a:lnTo>
                        <a:lnTo>
                          <a:pt x="37" y="26"/>
                        </a:lnTo>
                        <a:lnTo>
                          <a:pt x="37" y="32"/>
                        </a:lnTo>
                        <a:lnTo>
                          <a:pt x="49" y="48"/>
                        </a:lnTo>
                        <a:lnTo>
                          <a:pt x="52" y="48"/>
                        </a:lnTo>
                        <a:lnTo>
                          <a:pt x="55" y="54"/>
                        </a:lnTo>
                        <a:lnTo>
                          <a:pt x="58" y="60"/>
                        </a:lnTo>
                        <a:lnTo>
                          <a:pt x="60" y="60"/>
                        </a:lnTo>
                        <a:lnTo>
                          <a:pt x="69" y="67"/>
                        </a:lnTo>
                        <a:lnTo>
                          <a:pt x="89" y="68"/>
                        </a:lnTo>
                        <a:lnTo>
                          <a:pt x="91" y="90"/>
                        </a:lnTo>
                        <a:lnTo>
                          <a:pt x="93" y="94"/>
                        </a:lnTo>
                        <a:lnTo>
                          <a:pt x="92" y="103"/>
                        </a:lnTo>
                        <a:lnTo>
                          <a:pt x="103" y="112"/>
                        </a:lnTo>
                        <a:lnTo>
                          <a:pt x="115" y="116"/>
                        </a:lnTo>
                        <a:lnTo>
                          <a:pt x="115" y="151"/>
                        </a:lnTo>
                        <a:lnTo>
                          <a:pt x="121" y="168"/>
                        </a:lnTo>
                        <a:lnTo>
                          <a:pt x="116" y="171"/>
                        </a:lnTo>
                        <a:lnTo>
                          <a:pt x="110" y="173"/>
                        </a:lnTo>
                        <a:lnTo>
                          <a:pt x="109" y="163"/>
                        </a:lnTo>
                        <a:lnTo>
                          <a:pt x="96" y="173"/>
                        </a:lnTo>
                        <a:lnTo>
                          <a:pt x="91" y="157"/>
                        </a:lnTo>
                        <a:lnTo>
                          <a:pt x="86" y="142"/>
                        </a:lnTo>
                        <a:lnTo>
                          <a:pt x="73" y="126"/>
                        </a:lnTo>
                        <a:lnTo>
                          <a:pt x="67" y="126"/>
                        </a:lnTo>
                        <a:lnTo>
                          <a:pt x="55" y="115"/>
                        </a:lnTo>
                        <a:lnTo>
                          <a:pt x="54" y="106"/>
                        </a:lnTo>
                        <a:lnTo>
                          <a:pt x="54" y="100"/>
                        </a:lnTo>
                        <a:lnTo>
                          <a:pt x="45" y="74"/>
                        </a:lnTo>
                        <a:lnTo>
                          <a:pt x="40" y="60"/>
                        </a:lnTo>
                        <a:lnTo>
                          <a:pt x="26" y="47"/>
                        </a:lnTo>
                        <a:lnTo>
                          <a:pt x="11" y="25"/>
                        </a:lnTo>
                        <a:lnTo>
                          <a:pt x="0" y="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375880" y="3798000"/>
                    <a:ext cx="92160" cy="141840"/>
                  </a:xfrm>
                  <a:custGeom>
                    <a:avLst/>
                    <a:gdLst/>
                    <a:ahLst/>
                    <a:rect l="l" t="t" r="r" b="b"/>
                    <a:pathLst>
                      <a:path w="118" h="194">
                        <a:moveTo>
                          <a:pt x="8" y="0"/>
                        </a:moveTo>
                        <a:lnTo>
                          <a:pt x="20" y="0"/>
                        </a:lnTo>
                        <a:lnTo>
                          <a:pt x="30" y="20"/>
                        </a:lnTo>
                        <a:lnTo>
                          <a:pt x="27" y="39"/>
                        </a:lnTo>
                        <a:lnTo>
                          <a:pt x="34" y="46"/>
                        </a:lnTo>
                        <a:lnTo>
                          <a:pt x="37" y="58"/>
                        </a:lnTo>
                        <a:lnTo>
                          <a:pt x="45" y="64"/>
                        </a:lnTo>
                        <a:lnTo>
                          <a:pt x="53" y="65"/>
                        </a:lnTo>
                        <a:lnTo>
                          <a:pt x="68" y="75"/>
                        </a:lnTo>
                        <a:lnTo>
                          <a:pt x="76" y="88"/>
                        </a:lnTo>
                        <a:lnTo>
                          <a:pt x="78" y="88"/>
                        </a:lnTo>
                        <a:lnTo>
                          <a:pt x="89" y="96"/>
                        </a:lnTo>
                        <a:lnTo>
                          <a:pt x="89" y="120"/>
                        </a:lnTo>
                        <a:lnTo>
                          <a:pt x="93" y="132"/>
                        </a:lnTo>
                        <a:lnTo>
                          <a:pt x="96" y="138"/>
                        </a:lnTo>
                        <a:lnTo>
                          <a:pt x="101" y="143"/>
                        </a:lnTo>
                        <a:lnTo>
                          <a:pt x="105" y="152"/>
                        </a:lnTo>
                        <a:lnTo>
                          <a:pt x="106" y="161"/>
                        </a:lnTo>
                        <a:lnTo>
                          <a:pt x="118" y="168"/>
                        </a:lnTo>
                        <a:lnTo>
                          <a:pt x="116" y="178"/>
                        </a:lnTo>
                        <a:lnTo>
                          <a:pt x="106" y="180"/>
                        </a:lnTo>
                        <a:lnTo>
                          <a:pt x="102" y="174"/>
                        </a:lnTo>
                        <a:lnTo>
                          <a:pt x="96" y="174"/>
                        </a:lnTo>
                        <a:lnTo>
                          <a:pt x="96" y="194"/>
                        </a:lnTo>
                        <a:lnTo>
                          <a:pt x="90" y="194"/>
                        </a:lnTo>
                        <a:lnTo>
                          <a:pt x="83" y="184"/>
                        </a:lnTo>
                        <a:lnTo>
                          <a:pt x="79" y="178"/>
                        </a:lnTo>
                        <a:lnTo>
                          <a:pt x="79" y="168"/>
                        </a:lnTo>
                        <a:lnTo>
                          <a:pt x="71" y="168"/>
                        </a:lnTo>
                        <a:lnTo>
                          <a:pt x="67" y="178"/>
                        </a:lnTo>
                        <a:lnTo>
                          <a:pt x="64" y="168"/>
                        </a:lnTo>
                        <a:lnTo>
                          <a:pt x="61" y="156"/>
                        </a:lnTo>
                        <a:lnTo>
                          <a:pt x="74" y="152"/>
                        </a:lnTo>
                        <a:lnTo>
                          <a:pt x="81" y="154"/>
                        </a:lnTo>
                        <a:lnTo>
                          <a:pt x="81" y="135"/>
                        </a:lnTo>
                        <a:lnTo>
                          <a:pt x="75" y="130"/>
                        </a:lnTo>
                        <a:lnTo>
                          <a:pt x="71" y="114"/>
                        </a:lnTo>
                        <a:lnTo>
                          <a:pt x="68" y="94"/>
                        </a:lnTo>
                        <a:lnTo>
                          <a:pt x="55" y="90"/>
                        </a:lnTo>
                        <a:lnTo>
                          <a:pt x="49" y="80"/>
                        </a:lnTo>
                        <a:lnTo>
                          <a:pt x="41" y="75"/>
                        </a:lnTo>
                        <a:lnTo>
                          <a:pt x="45" y="91"/>
                        </a:lnTo>
                        <a:lnTo>
                          <a:pt x="34" y="100"/>
                        </a:lnTo>
                        <a:lnTo>
                          <a:pt x="27" y="83"/>
                        </a:lnTo>
                        <a:lnTo>
                          <a:pt x="23" y="75"/>
                        </a:lnTo>
                        <a:lnTo>
                          <a:pt x="23" y="65"/>
                        </a:lnTo>
                        <a:lnTo>
                          <a:pt x="13" y="52"/>
                        </a:lnTo>
                        <a:lnTo>
                          <a:pt x="4" y="46"/>
                        </a:lnTo>
                        <a:lnTo>
                          <a:pt x="0" y="38"/>
                        </a:lnTo>
                        <a:lnTo>
                          <a:pt x="2" y="30"/>
                        </a:lnTo>
                        <a:lnTo>
                          <a:pt x="9" y="36"/>
                        </a:lnTo>
                        <a:lnTo>
                          <a:pt x="11" y="26"/>
                        </a:lnTo>
                        <a:lnTo>
                          <a:pt x="9" y="16"/>
                        </a:lnTo>
                        <a:lnTo>
                          <a:pt x="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355720" y="3563280"/>
                    <a:ext cx="66960" cy="117360"/>
                  </a:xfrm>
                  <a:custGeom>
                    <a:avLst/>
                    <a:gdLst/>
                    <a:ahLst/>
                    <a:rect l="l" t="t" r="r" b="b"/>
                    <a:pathLst>
                      <a:path w="86" h="162">
                        <a:moveTo>
                          <a:pt x="19" y="0"/>
                        </a:moveTo>
                        <a:lnTo>
                          <a:pt x="34" y="9"/>
                        </a:lnTo>
                        <a:lnTo>
                          <a:pt x="46" y="22"/>
                        </a:lnTo>
                        <a:lnTo>
                          <a:pt x="52" y="35"/>
                        </a:lnTo>
                        <a:lnTo>
                          <a:pt x="56" y="35"/>
                        </a:lnTo>
                        <a:lnTo>
                          <a:pt x="56" y="43"/>
                        </a:lnTo>
                        <a:lnTo>
                          <a:pt x="61" y="52"/>
                        </a:lnTo>
                        <a:lnTo>
                          <a:pt x="67" y="61"/>
                        </a:lnTo>
                        <a:lnTo>
                          <a:pt x="78" y="78"/>
                        </a:lnTo>
                        <a:lnTo>
                          <a:pt x="86" y="101"/>
                        </a:lnTo>
                        <a:lnTo>
                          <a:pt x="71" y="100"/>
                        </a:lnTo>
                        <a:lnTo>
                          <a:pt x="60" y="96"/>
                        </a:lnTo>
                        <a:lnTo>
                          <a:pt x="68" y="112"/>
                        </a:lnTo>
                        <a:lnTo>
                          <a:pt x="68" y="122"/>
                        </a:lnTo>
                        <a:lnTo>
                          <a:pt x="68" y="130"/>
                        </a:lnTo>
                        <a:lnTo>
                          <a:pt x="63" y="128"/>
                        </a:lnTo>
                        <a:lnTo>
                          <a:pt x="57" y="120"/>
                        </a:lnTo>
                        <a:lnTo>
                          <a:pt x="49" y="107"/>
                        </a:lnTo>
                        <a:lnTo>
                          <a:pt x="42" y="104"/>
                        </a:lnTo>
                        <a:lnTo>
                          <a:pt x="33" y="107"/>
                        </a:lnTo>
                        <a:lnTo>
                          <a:pt x="27" y="112"/>
                        </a:lnTo>
                        <a:lnTo>
                          <a:pt x="30" y="120"/>
                        </a:lnTo>
                        <a:lnTo>
                          <a:pt x="39" y="128"/>
                        </a:lnTo>
                        <a:lnTo>
                          <a:pt x="49" y="132"/>
                        </a:lnTo>
                        <a:lnTo>
                          <a:pt x="53" y="143"/>
                        </a:lnTo>
                        <a:lnTo>
                          <a:pt x="52" y="158"/>
                        </a:lnTo>
                        <a:lnTo>
                          <a:pt x="52" y="162"/>
                        </a:lnTo>
                        <a:lnTo>
                          <a:pt x="49" y="162"/>
                        </a:lnTo>
                        <a:lnTo>
                          <a:pt x="42" y="158"/>
                        </a:lnTo>
                        <a:lnTo>
                          <a:pt x="39" y="156"/>
                        </a:lnTo>
                        <a:lnTo>
                          <a:pt x="37" y="154"/>
                        </a:lnTo>
                        <a:lnTo>
                          <a:pt x="33" y="159"/>
                        </a:lnTo>
                        <a:lnTo>
                          <a:pt x="27" y="162"/>
                        </a:lnTo>
                        <a:lnTo>
                          <a:pt x="24" y="156"/>
                        </a:lnTo>
                        <a:lnTo>
                          <a:pt x="24" y="142"/>
                        </a:lnTo>
                        <a:lnTo>
                          <a:pt x="23" y="133"/>
                        </a:lnTo>
                        <a:lnTo>
                          <a:pt x="17" y="128"/>
                        </a:lnTo>
                        <a:lnTo>
                          <a:pt x="10" y="138"/>
                        </a:lnTo>
                        <a:lnTo>
                          <a:pt x="1" y="138"/>
                        </a:lnTo>
                        <a:lnTo>
                          <a:pt x="0" y="130"/>
                        </a:lnTo>
                        <a:lnTo>
                          <a:pt x="1" y="113"/>
                        </a:lnTo>
                        <a:lnTo>
                          <a:pt x="9" y="106"/>
                        </a:lnTo>
                        <a:lnTo>
                          <a:pt x="8" y="81"/>
                        </a:lnTo>
                        <a:lnTo>
                          <a:pt x="8" y="74"/>
                        </a:lnTo>
                        <a:lnTo>
                          <a:pt x="13" y="71"/>
                        </a:lnTo>
                        <a:lnTo>
                          <a:pt x="20" y="78"/>
                        </a:lnTo>
                        <a:lnTo>
                          <a:pt x="30" y="84"/>
                        </a:lnTo>
                        <a:lnTo>
                          <a:pt x="30" y="70"/>
                        </a:lnTo>
                        <a:lnTo>
                          <a:pt x="24" y="65"/>
                        </a:lnTo>
                        <a:lnTo>
                          <a:pt x="24" y="61"/>
                        </a:lnTo>
                        <a:lnTo>
                          <a:pt x="26" y="61"/>
                        </a:lnTo>
                        <a:lnTo>
                          <a:pt x="28" y="61"/>
                        </a:lnTo>
                        <a:lnTo>
                          <a:pt x="30" y="61"/>
                        </a:lnTo>
                        <a:lnTo>
                          <a:pt x="33" y="61"/>
                        </a:lnTo>
                        <a:lnTo>
                          <a:pt x="37" y="55"/>
                        </a:lnTo>
                        <a:lnTo>
                          <a:pt x="35" y="52"/>
                        </a:lnTo>
                        <a:lnTo>
                          <a:pt x="31" y="39"/>
                        </a:lnTo>
                        <a:lnTo>
                          <a:pt x="24" y="29"/>
                        </a:lnTo>
                        <a:lnTo>
                          <a:pt x="17" y="23"/>
                        </a:lnTo>
                        <a:lnTo>
                          <a:pt x="12" y="16"/>
                        </a:lnTo>
                        <a:lnTo>
                          <a:pt x="1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279400" y="3421440"/>
                    <a:ext cx="71640" cy="95400"/>
                  </a:xfrm>
                  <a:custGeom>
                    <a:avLst/>
                    <a:gdLst/>
                    <a:ahLst/>
                    <a:rect l="l" t="t" r="r" b="b"/>
                    <a:pathLst>
                      <a:path w="92" h="134">
                        <a:moveTo>
                          <a:pt x="0" y="0"/>
                        </a:moveTo>
                        <a:lnTo>
                          <a:pt x="7" y="0"/>
                        </a:lnTo>
                        <a:lnTo>
                          <a:pt x="11" y="11"/>
                        </a:lnTo>
                        <a:lnTo>
                          <a:pt x="25" y="24"/>
                        </a:lnTo>
                        <a:lnTo>
                          <a:pt x="30" y="40"/>
                        </a:lnTo>
                        <a:lnTo>
                          <a:pt x="39" y="41"/>
                        </a:lnTo>
                        <a:lnTo>
                          <a:pt x="45" y="42"/>
                        </a:lnTo>
                        <a:lnTo>
                          <a:pt x="51" y="51"/>
                        </a:lnTo>
                        <a:lnTo>
                          <a:pt x="58" y="51"/>
                        </a:lnTo>
                        <a:lnTo>
                          <a:pt x="66" y="57"/>
                        </a:lnTo>
                        <a:lnTo>
                          <a:pt x="73" y="66"/>
                        </a:lnTo>
                        <a:lnTo>
                          <a:pt x="80" y="73"/>
                        </a:lnTo>
                        <a:lnTo>
                          <a:pt x="78" y="77"/>
                        </a:lnTo>
                        <a:lnTo>
                          <a:pt x="74" y="79"/>
                        </a:lnTo>
                        <a:lnTo>
                          <a:pt x="70" y="79"/>
                        </a:lnTo>
                        <a:lnTo>
                          <a:pt x="69" y="83"/>
                        </a:lnTo>
                        <a:lnTo>
                          <a:pt x="77" y="93"/>
                        </a:lnTo>
                        <a:lnTo>
                          <a:pt x="82" y="102"/>
                        </a:lnTo>
                        <a:lnTo>
                          <a:pt x="92" y="113"/>
                        </a:lnTo>
                        <a:lnTo>
                          <a:pt x="87" y="124"/>
                        </a:lnTo>
                        <a:lnTo>
                          <a:pt x="81" y="125"/>
                        </a:lnTo>
                        <a:lnTo>
                          <a:pt x="81" y="134"/>
                        </a:lnTo>
                        <a:lnTo>
                          <a:pt x="73" y="134"/>
                        </a:lnTo>
                        <a:lnTo>
                          <a:pt x="70" y="128"/>
                        </a:lnTo>
                        <a:lnTo>
                          <a:pt x="61" y="118"/>
                        </a:lnTo>
                        <a:lnTo>
                          <a:pt x="55" y="105"/>
                        </a:lnTo>
                        <a:lnTo>
                          <a:pt x="47" y="84"/>
                        </a:lnTo>
                        <a:lnTo>
                          <a:pt x="36" y="73"/>
                        </a:lnTo>
                        <a:lnTo>
                          <a:pt x="26" y="51"/>
                        </a:lnTo>
                        <a:lnTo>
                          <a:pt x="18" y="45"/>
                        </a:lnTo>
                        <a:lnTo>
                          <a:pt x="13" y="41"/>
                        </a:lnTo>
                        <a:lnTo>
                          <a:pt x="10" y="29"/>
                        </a:lnTo>
                        <a:lnTo>
                          <a:pt x="2" y="19"/>
                        </a:lnTo>
                        <a:lnTo>
                          <a:pt x="2"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 name=""/>
                <p:cNvSpPr/>
                <p:nvPr/>
              </p:nvSpPr>
              <p:spPr>
                <a:xfrm>
                  <a:off x="4321440" y="3616560"/>
                  <a:ext cx="530280" cy="734040"/>
                </a:xfrm>
                <a:custGeom>
                  <a:avLst/>
                  <a:gdLst/>
                  <a:ahLst/>
                  <a:rect l="l" t="t" r="r" b="b"/>
                  <a:pathLst>
                    <a:path w="680" h="1014">
                      <a:moveTo>
                        <a:pt x="510" y="121"/>
                      </a:moveTo>
                      <a:lnTo>
                        <a:pt x="521" y="164"/>
                      </a:lnTo>
                      <a:lnTo>
                        <a:pt x="544" y="229"/>
                      </a:lnTo>
                      <a:lnTo>
                        <a:pt x="584" y="334"/>
                      </a:lnTo>
                      <a:lnTo>
                        <a:pt x="601" y="345"/>
                      </a:lnTo>
                      <a:lnTo>
                        <a:pt x="609" y="377"/>
                      </a:lnTo>
                      <a:lnTo>
                        <a:pt x="643" y="376"/>
                      </a:lnTo>
                      <a:lnTo>
                        <a:pt x="666" y="365"/>
                      </a:lnTo>
                      <a:lnTo>
                        <a:pt x="680" y="365"/>
                      </a:lnTo>
                      <a:lnTo>
                        <a:pt x="679" y="405"/>
                      </a:lnTo>
                      <a:lnTo>
                        <a:pt x="676" y="428"/>
                      </a:lnTo>
                      <a:lnTo>
                        <a:pt x="615" y="518"/>
                      </a:lnTo>
                      <a:lnTo>
                        <a:pt x="558" y="612"/>
                      </a:lnTo>
                      <a:lnTo>
                        <a:pt x="558" y="649"/>
                      </a:lnTo>
                      <a:lnTo>
                        <a:pt x="576" y="675"/>
                      </a:lnTo>
                      <a:lnTo>
                        <a:pt x="566" y="694"/>
                      </a:lnTo>
                      <a:lnTo>
                        <a:pt x="573" y="723"/>
                      </a:lnTo>
                      <a:lnTo>
                        <a:pt x="566" y="744"/>
                      </a:lnTo>
                      <a:lnTo>
                        <a:pt x="554" y="760"/>
                      </a:lnTo>
                      <a:lnTo>
                        <a:pt x="544" y="760"/>
                      </a:lnTo>
                      <a:lnTo>
                        <a:pt x="524" y="790"/>
                      </a:lnTo>
                      <a:lnTo>
                        <a:pt x="507" y="826"/>
                      </a:lnTo>
                      <a:lnTo>
                        <a:pt x="510" y="862"/>
                      </a:lnTo>
                      <a:lnTo>
                        <a:pt x="495" y="880"/>
                      </a:lnTo>
                      <a:lnTo>
                        <a:pt x="477" y="919"/>
                      </a:lnTo>
                      <a:lnTo>
                        <a:pt x="459" y="957"/>
                      </a:lnTo>
                      <a:lnTo>
                        <a:pt x="448" y="968"/>
                      </a:lnTo>
                      <a:lnTo>
                        <a:pt x="440" y="972"/>
                      </a:lnTo>
                      <a:lnTo>
                        <a:pt x="425" y="997"/>
                      </a:lnTo>
                      <a:lnTo>
                        <a:pt x="398" y="1010"/>
                      </a:lnTo>
                      <a:lnTo>
                        <a:pt x="366" y="1014"/>
                      </a:lnTo>
                      <a:lnTo>
                        <a:pt x="350" y="997"/>
                      </a:lnTo>
                      <a:lnTo>
                        <a:pt x="345" y="983"/>
                      </a:lnTo>
                      <a:lnTo>
                        <a:pt x="343" y="961"/>
                      </a:lnTo>
                      <a:lnTo>
                        <a:pt x="331" y="951"/>
                      </a:lnTo>
                      <a:lnTo>
                        <a:pt x="319" y="913"/>
                      </a:lnTo>
                      <a:lnTo>
                        <a:pt x="317" y="893"/>
                      </a:lnTo>
                      <a:lnTo>
                        <a:pt x="315" y="868"/>
                      </a:lnTo>
                      <a:lnTo>
                        <a:pt x="310" y="852"/>
                      </a:lnTo>
                      <a:lnTo>
                        <a:pt x="310" y="842"/>
                      </a:lnTo>
                      <a:lnTo>
                        <a:pt x="300" y="825"/>
                      </a:lnTo>
                      <a:lnTo>
                        <a:pt x="288" y="810"/>
                      </a:lnTo>
                      <a:lnTo>
                        <a:pt x="280" y="786"/>
                      </a:lnTo>
                      <a:lnTo>
                        <a:pt x="276" y="770"/>
                      </a:lnTo>
                      <a:lnTo>
                        <a:pt x="278" y="741"/>
                      </a:lnTo>
                      <a:lnTo>
                        <a:pt x="292" y="700"/>
                      </a:lnTo>
                      <a:lnTo>
                        <a:pt x="297" y="652"/>
                      </a:lnTo>
                      <a:lnTo>
                        <a:pt x="285" y="602"/>
                      </a:lnTo>
                      <a:lnTo>
                        <a:pt x="267" y="581"/>
                      </a:lnTo>
                      <a:lnTo>
                        <a:pt x="255" y="551"/>
                      </a:lnTo>
                      <a:lnTo>
                        <a:pt x="260" y="507"/>
                      </a:lnTo>
                      <a:lnTo>
                        <a:pt x="251" y="477"/>
                      </a:lnTo>
                      <a:lnTo>
                        <a:pt x="230" y="473"/>
                      </a:lnTo>
                      <a:lnTo>
                        <a:pt x="207" y="447"/>
                      </a:lnTo>
                      <a:lnTo>
                        <a:pt x="179" y="435"/>
                      </a:lnTo>
                      <a:lnTo>
                        <a:pt x="149" y="455"/>
                      </a:lnTo>
                      <a:lnTo>
                        <a:pt x="74" y="449"/>
                      </a:lnTo>
                      <a:lnTo>
                        <a:pt x="34" y="394"/>
                      </a:lnTo>
                      <a:lnTo>
                        <a:pt x="0" y="323"/>
                      </a:lnTo>
                      <a:lnTo>
                        <a:pt x="6" y="297"/>
                      </a:lnTo>
                      <a:lnTo>
                        <a:pt x="22" y="274"/>
                      </a:lnTo>
                      <a:lnTo>
                        <a:pt x="26" y="225"/>
                      </a:lnTo>
                      <a:lnTo>
                        <a:pt x="38" y="189"/>
                      </a:lnTo>
                      <a:lnTo>
                        <a:pt x="67" y="148"/>
                      </a:lnTo>
                      <a:lnTo>
                        <a:pt x="97" y="129"/>
                      </a:lnTo>
                      <a:lnTo>
                        <a:pt x="125" y="89"/>
                      </a:lnTo>
                      <a:lnTo>
                        <a:pt x="130" y="71"/>
                      </a:lnTo>
                      <a:lnTo>
                        <a:pt x="167" y="26"/>
                      </a:lnTo>
                      <a:lnTo>
                        <a:pt x="191" y="45"/>
                      </a:lnTo>
                      <a:lnTo>
                        <a:pt x="207" y="45"/>
                      </a:lnTo>
                      <a:lnTo>
                        <a:pt x="229" y="19"/>
                      </a:lnTo>
                      <a:lnTo>
                        <a:pt x="251" y="16"/>
                      </a:lnTo>
                      <a:lnTo>
                        <a:pt x="267" y="22"/>
                      </a:lnTo>
                      <a:lnTo>
                        <a:pt x="281" y="3"/>
                      </a:lnTo>
                      <a:lnTo>
                        <a:pt x="301" y="0"/>
                      </a:lnTo>
                      <a:lnTo>
                        <a:pt x="306" y="32"/>
                      </a:lnTo>
                      <a:lnTo>
                        <a:pt x="317" y="58"/>
                      </a:lnTo>
                      <a:lnTo>
                        <a:pt x="354" y="84"/>
                      </a:lnTo>
                      <a:lnTo>
                        <a:pt x="382" y="90"/>
                      </a:lnTo>
                      <a:lnTo>
                        <a:pt x="384" y="63"/>
                      </a:lnTo>
                      <a:lnTo>
                        <a:pt x="406" y="63"/>
                      </a:lnTo>
                      <a:lnTo>
                        <a:pt x="433" y="79"/>
                      </a:lnTo>
                      <a:lnTo>
                        <a:pt x="462" y="89"/>
                      </a:lnTo>
                      <a:lnTo>
                        <a:pt x="487" y="79"/>
                      </a:lnTo>
                      <a:lnTo>
                        <a:pt x="510" y="1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 name=""/>
                <p:cNvGrpSpPr/>
                <p:nvPr/>
              </p:nvGrpSpPr>
              <p:grpSpPr>
                <a:xfrm>
                  <a:off x="4359240" y="3224160"/>
                  <a:ext cx="234000" cy="248760"/>
                  <a:chOff x="4359240" y="3224160"/>
                  <a:chExt cx="234000" cy="248760"/>
                </a:xfrm>
              </p:grpSpPr>
              <p:grpSp>
                <p:nvGrpSpPr>
                  <p:cNvPr id="122" name=""/>
                  <p:cNvGrpSpPr/>
                  <p:nvPr/>
                </p:nvGrpSpPr>
                <p:grpSpPr>
                  <a:xfrm>
                    <a:off x="4451040" y="3378960"/>
                    <a:ext cx="73080" cy="93960"/>
                    <a:chOff x="4451040" y="3378960"/>
                    <a:chExt cx="73080" cy="93960"/>
                  </a:xfrm>
                </p:grpSpPr>
                <p:sp>
                  <p:nvSpPr>
                    <p:cNvPr id="123" name=""/>
                    <p:cNvSpPr/>
                    <p:nvPr/>
                  </p:nvSpPr>
                  <p:spPr>
                    <a:xfrm>
                      <a:off x="4451040" y="3413520"/>
                      <a:ext cx="34200" cy="51840"/>
                    </a:xfrm>
                    <a:custGeom>
                      <a:avLst/>
                      <a:gdLst/>
                      <a:ahLst/>
                      <a:rect l="l" t="t" r="r" b="b"/>
                      <a:pathLst>
                        <a:path w="44" h="73">
                          <a:moveTo>
                            <a:pt x="11" y="25"/>
                          </a:moveTo>
                          <a:lnTo>
                            <a:pt x="15" y="16"/>
                          </a:lnTo>
                          <a:lnTo>
                            <a:pt x="23" y="16"/>
                          </a:lnTo>
                          <a:lnTo>
                            <a:pt x="33" y="0"/>
                          </a:lnTo>
                          <a:lnTo>
                            <a:pt x="37" y="10"/>
                          </a:lnTo>
                          <a:lnTo>
                            <a:pt x="41" y="10"/>
                          </a:lnTo>
                          <a:lnTo>
                            <a:pt x="44" y="16"/>
                          </a:lnTo>
                          <a:lnTo>
                            <a:pt x="41" y="25"/>
                          </a:lnTo>
                          <a:lnTo>
                            <a:pt x="37" y="25"/>
                          </a:lnTo>
                          <a:lnTo>
                            <a:pt x="37" y="34"/>
                          </a:lnTo>
                          <a:lnTo>
                            <a:pt x="37" y="35"/>
                          </a:lnTo>
                          <a:lnTo>
                            <a:pt x="34" y="41"/>
                          </a:lnTo>
                          <a:lnTo>
                            <a:pt x="37" y="47"/>
                          </a:lnTo>
                          <a:lnTo>
                            <a:pt x="33" y="52"/>
                          </a:lnTo>
                          <a:lnTo>
                            <a:pt x="29" y="57"/>
                          </a:lnTo>
                          <a:lnTo>
                            <a:pt x="26" y="57"/>
                          </a:lnTo>
                          <a:lnTo>
                            <a:pt x="25" y="57"/>
                          </a:lnTo>
                          <a:lnTo>
                            <a:pt x="25" y="63"/>
                          </a:lnTo>
                          <a:lnTo>
                            <a:pt x="19" y="65"/>
                          </a:lnTo>
                          <a:lnTo>
                            <a:pt x="19" y="63"/>
                          </a:lnTo>
                          <a:lnTo>
                            <a:pt x="13" y="67"/>
                          </a:lnTo>
                          <a:lnTo>
                            <a:pt x="11" y="67"/>
                          </a:lnTo>
                          <a:lnTo>
                            <a:pt x="6" y="73"/>
                          </a:lnTo>
                          <a:lnTo>
                            <a:pt x="4" y="73"/>
                          </a:lnTo>
                          <a:lnTo>
                            <a:pt x="3" y="68"/>
                          </a:lnTo>
                          <a:lnTo>
                            <a:pt x="1" y="63"/>
                          </a:lnTo>
                          <a:lnTo>
                            <a:pt x="0" y="61"/>
                          </a:lnTo>
                          <a:lnTo>
                            <a:pt x="0" y="55"/>
                          </a:lnTo>
                          <a:lnTo>
                            <a:pt x="4" y="51"/>
                          </a:lnTo>
                          <a:lnTo>
                            <a:pt x="8" y="50"/>
                          </a:lnTo>
                          <a:lnTo>
                            <a:pt x="9" y="41"/>
                          </a:lnTo>
                          <a:lnTo>
                            <a:pt x="13" y="41"/>
                          </a:lnTo>
                          <a:lnTo>
                            <a:pt x="16" y="47"/>
                          </a:lnTo>
                          <a:lnTo>
                            <a:pt x="19" y="41"/>
                          </a:lnTo>
                          <a:lnTo>
                            <a:pt x="16" y="41"/>
                          </a:lnTo>
                          <a:lnTo>
                            <a:pt x="11" y="25"/>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4" name=""/>
                    <p:cNvSpPr/>
                    <p:nvPr/>
                  </p:nvSpPr>
                  <p:spPr>
                    <a:xfrm>
                      <a:off x="4483800" y="3378960"/>
                      <a:ext cx="40320" cy="93960"/>
                    </a:xfrm>
                    <a:custGeom>
                      <a:avLst/>
                      <a:gdLst/>
                      <a:ahLst/>
                      <a:rect l="l" t="t" r="r" b="b"/>
                      <a:pathLst>
                        <a:path w="53" h="131">
                          <a:moveTo>
                            <a:pt x="16" y="19"/>
                          </a:moveTo>
                          <a:lnTo>
                            <a:pt x="22" y="15"/>
                          </a:lnTo>
                          <a:lnTo>
                            <a:pt x="29" y="16"/>
                          </a:lnTo>
                          <a:lnTo>
                            <a:pt x="32" y="12"/>
                          </a:lnTo>
                          <a:lnTo>
                            <a:pt x="34" y="9"/>
                          </a:lnTo>
                          <a:lnTo>
                            <a:pt x="36" y="9"/>
                          </a:lnTo>
                          <a:lnTo>
                            <a:pt x="39" y="6"/>
                          </a:lnTo>
                          <a:lnTo>
                            <a:pt x="41" y="5"/>
                          </a:lnTo>
                          <a:lnTo>
                            <a:pt x="48" y="0"/>
                          </a:lnTo>
                          <a:lnTo>
                            <a:pt x="53" y="3"/>
                          </a:lnTo>
                          <a:lnTo>
                            <a:pt x="52" y="9"/>
                          </a:lnTo>
                          <a:lnTo>
                            <a:pt x="51" y="12"/>
                          </a:lnTo>
                          <a:lnTo>
                            <a:pt x="48" y="15"/>
                          </a:lnTo>
                          <a:lnTo>
                            <a:pt x="44" y="16"/>
                          </a:lnTo>
                          <a:lnTo>
                            <a:pt x="37" y="19"/>
                          </a:lnTo>
                          <a:lnTo>
                            <a:pt x="37" y="27"/>
                          </a:lnTo>
                          <a:lnTo>
                            <a:pt x="39" y="31"/>
                          </a:lnTo>
                          <a:lnTo>
                            <a:pt x="45" y="27"/>
                          </a:lnTo>
                          <a:lnTo>
                            <a:pt x="52" y="21"/>
                          </a:lnTo>
                          <a:lnTo>
                            <a:pt x="53" y="27"/>
                          </a:lnTo>
                          <a:lnTo>
                            <a:pt x="53" y="35"/>
                          </a:lnTo>
                          <a:lnTo>
                            <a:pt x="48" y="37"/>
                          </a:lnTo>
                          <a:lnTo>
                            <a:pt x="44" y="37"/>
                          </a:lnTo>
                          <a:lnTo>
                            <a:pt x="40" y="42"/>
                          </a:lnTo>
                          <a:lnTo>
                            <a:pt x="39" y="45"/>
                          </a:lnTo>
                          <a:lnTo>
                            <a:pt x="39" y="48"/>
                          </a:lnTo>
                          <a:lnTo>
                            <a:pt x="41" y="56"/>
                          </a:lnTo>
                          <a:lnTo>
                            <a:pt x="45" y="61"/>
                          </a:lnTo>
                          <a:lnTo>
                            <a:pt x="48" y="67"/>
                          </a:lnTo>
                          <a:lnTo>
                            <a:pt x="51" y="73"/>
                          </a:lnTo>
                          <a:lnTo>
                            <a:pt x="51" y="77"/>
                          </a:lnTo>
                          <a:lnTo>
                            <a:pt x="53" y="85"/>
                          </a:lnTo>
                          <a:lnTo>
                            <a:pt x="53" y="98"/>
                          </a:lnTo>
                          <a:lnTo>
                            <a:pt x="51" y="103"/>
                          </a:lnTo>
                          <a:lnTo>
                            <a:pt x="45" y="109"/>
                          </a:lnTo>
                          <a:lnTo>
                            <a:pt x="44" y="111"/>
                          </a:lnTo>
                          <a:lnTo>
                            <a:pt x="48" y="115"/>
                          </a:lnTo>
                          <a:lnTo>
                            <a:pt x="51" y="124"/>
                          </a:lnTo>
                          <a:lnTo>
                            <a:pt x="41" y="124"/>
                          </a:lnTo>
                          <a:lnTo>
                            <a:pt x="36" y="124"/>
                          </a:lnTo>
                          <a:lnTo>
                            <a:pt x="34" y="121"/>
                          </a:lnTo>
                          <a:lnTo>
                            <a:pt x="29" y="121"/>
                          </a:lnTo>
                          <a:lnTo>
                            <a:pt x="25" y="124"/>
                          </a:lnTo>
                          <a:lnTo>
                            <a:pt x="22" y="125"/>
                          </a:lnTo>
                          <a:lnTo>
                            <a:pt x="16" y="125"/>
                          </a:lnTo>
                          <a:lnTo>
                            <a:pt x="14" y="129"/>
                          </a:lnTo>
                          <a:lnTo>
                            <a:pt x="9" y="131"/>
                          </a:lnTo>
                          <a:lnTo>
                            <a:pt x="8" y="131"/>
                          </a:lnTo>
                          <a:lnTo>
                            <a:pt x="7" y="125"/>
                          </a:lnTo>
                          <a:lnTo>
                            <a:pt x="3" y="124"/>
                          </a:lnTo>
                          <a:lnTo>
                            <a:pt x="0" y="124"/>
                          </a:lnTo>
                          <a:lnTo>
                            <a:pt x="0" y="115"/>
                          </a:lnTo>
                          <a:lnTo>
                            <a:pt x="3" y="109"/>
                          </a:lnTo>
                          <a:lnTo>
                            <a:pt x="7" y="109"/>
                          </a:lnTo>
                          <a:lnTo>
                            <a:pt x="9" y="109"/>
                          </a:lnTo>
                          <a:lnTo>
                            <a:pt x="14" y="109"/>
                          </a:lnTo>
                          <a:lnTo>
                            <a:pt x="14" y="105"/>
                          </a:lnTo>
                          <a:lnTo>
                            <a:pt x="9" y="103"/>
                          </a:lnTo>
                          <a:lnTo>
                            <a:pt x="9" y="99"/>
                          </a:lnTo>
                          <a:lnTo>
                            <a:pt x="9" y="95"/>
                          </a:lnTo>
                          <a:lnTo>
                            <a:pt x="14" y="95"/>
                          </a:lnTo>
                          <a:lnTo>
                            <a:pt x="15" y="89"/>
                          </a:lnTo>
                          <a:lnTo>
                            <a:pt x="18" y="89"/>
                          </a:lnTo>
                          <a:lnTo>
                            <a:pt x="22" y="89"/>
                          </a:lnTo>
                          <a:lnTo>
                            <a:pt x="25" y="87"/>
                          </a:lnTo>
                          <a:lnTo>
                            <a:pt x="25" y="73"/>
                          </a:lnTo>
                          <a:lnTo>
                            <a:pt x="27" y="67"/>
                          </a:lnTo>
                          <a:lnTo>
                            <a:pt x="27" y="61"/>
                          </a:lnTo>
                          <a:lnTo>
                            <a:pt x="22" y="58"/>
                          </a:lnTo>
                          <a:lnTo>
                            <a:pt x="23" y="51"/>
                          </a:lnTo>
                          <a:lnTo>
                            <a:pt x="16" y="47"/>
                          </a:lnTo>
                          <a:lnTo>
                            <a:pt x="12" y="47"/>
                          </a:lnTo>
                          <a:lnTo>
                            <a:pt x="18" y="37"/>
                          </a:lnTo>
                          <a:lnTo>
                            <a:pt x="16" y="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 name=""/>
                  <p:cNvSpPr/>
                  <p:nvPr/>
                </p:nvSpPr>
                <p:spPr>
                  <a:xfrm>
                    <a:off x="4359240" y="3224160"/>
                    <a:ext cx="234000" cy="156240"/>
                  </a:xfrm>
                  <a:custGeom>
                    <a:avLst/>
                    <a:gdLst/>
                    <a:ahLst/>
                    <a:rect l="l" t="t" r="r" b="b"/>
                    <a:pathLst>
                      <a:path w="301" h="217">
                        <a:moveTo>
                          <a:pt x="0" y="217"/>
                        </a:moveTo>
                        <a:lnTo>
                          <a:pt x="20" y="210"/>
                        </a:lnTo>
                        <a:lnTo>
                          <a:pt x="24" y="204"/>
                        </a:lnTo>
                        <a:lnTo>
                          <a:pt x="30" y="194"/>
                        </a:lnTo>
                        <a:lnTo>
                          <a:pt x="31" y="191"/>
                        </a:lnTo>
                        <a:lnTo>
                          <a:pt x="37" y="191"/>
                        </a:lnTo>
                        <a:lnTo>
                          <a:pt x="41" y="187"/>
                        </a:lnTo>
                        <a:lnTo>
                          <a:pt x="45" y="187"/>
                        </a:lnTo>
                        <a:lnTo>
                          <a:pt x="50" y="187"/>
                        </a:lnTo>
                        <a:lnTo>
                          <a:pt x="53" y="187"/>
                        </a:lnTo>
                        <a:lnTo>
                          <a:pt x="56" y="187"/>
                        </a:lnTo>
                        <a:lnTo>
                          <a:pt x="61" y="181"/>
                        </a:lnTo>
                        <a:lnTo>
                          <a:pt x="64" y="177"/>
                        </a:lnTo>
                        <a:lnTo>
                          <a:pt x="68" y="171"/>
                        </a:lnTo>
                        <a:lnTo>
                          <a:pt x="72" y="171"/>
                        </a:lnTo>
                        <a:lnTo>
                          <a:pt x="76" y="165"/>
                        </a:lnTo>
                        <a:lnTo>
                          <a:pt x="81" y="162"/>
                        </a:lnTo>
                        <a:lnTo>
                          <a:pt x="83" y="162"/>
                        </a:lnTo>
                        <a:lnTo>
                          <a:pt x="90" y="158"/>
                        </a:lnTo>
                        <a:lnTo>
                          <a:pt x="94" y="155"/>
                        </a:lnTo>
                        <a:lnTo>
                          <a:pt x="98" y="151"/>
                        </a:lnTo>
                        <a:lnTo>
                          <a:pt x="104" y="152"/>
                        </a:lnTo>
                        <a:lnTo>
                          <a:pt x="112" y="155"/>
                        </a:lnTo>
                        <a:lnTo>
                          <a:pt x="122" y="155"/>
                        </a:lnTo>
                        <a:lnTo>
                          <a:pt x="132" y="151"/>
                        </a:lnTo>
                        <a:lnTo>
                          <a:pt x="138" y="148"/>
                        </a:lnTo>
                        <a:lnTo>
                          <a:pt x="141" y="141"/>
                        </a:lnTo>
                        <a:lnTo>
                          <a:pt x="144" y="135"/>
                        </a:lnTo>
                        <a:lnTo>
                          <a:pt x="152" y="125"/>
                        </a:lnTo>
                        <a:lnTo>
                          <a:pt x="156" y="122"/>
                        </a:lnTo>
                        <a:lnTo>
                          <a:pt x="156" y="115"/>
                        </a:lnTo>
                        <a:lnTo>
                          <a:pt x="160" y="110"/>
                        </a:lnTo>
                        <a:lnTo>
                          <a:pt x="164" y="106"/>
                        </a:lnTo>
                        <a:lnTo>
                          <a:pt x="167" y="103"/>
                        </a:lnTo>
                        <a:lnTo>
                          <a:pt x="169" y="100"/>
                        </a:lnTo>
                        <a:lnTo>
                          <a:pt x="182" y="90"/>
                        </a:lnTo>
                        <a:lnTo>
                          <a:pt x="182" y="100"/>
                        </a:lnTo>
                        <a:lnTo>
                          <a:pt x="178" y="104"/>
                        </a:lnTo>
                        <a:lnTo>
                          <a:pt x="182" y="109"/>
                        </a:lnTo>
                        <a:lnTo>
                          <a:pt x="187" y="110"/>
                        </a:lnTo>
                        <a:lnTo>
                          <a:pt x="192" y="110"/>
                        </a:lnTo>
                        <a:lnTo>
                          <a:pt x="196" y="106"/>
                        </a:lnTo>
                        <a:lnTo>
                          <a:pt x="200" y="100"/>
                        </a:lnTo>
                        <a:lnTo>
                          <a:pt x="200" y="94"/>
                        </a:lnTo>
                        <a:lnTo>
                          <a:pt x="204" y="90"/>
                        </a:lnTo>
                        <a:lnTo>
                          <a:pt x="204" y="84"/>
                        </a:lnTo>
                        <a:lnTo>
                          <a:pt x="208" y="80"/>
                        </a:lnTo>
                        <a:lnTo>
                          <a:pt x="211" y="77"/>
                        </a:lnTo>
                        <a:lnTo>
                          <a:pt x="215" y="77"/>
                        </a:lnTo>
                        <a:lnTo>
                          <a:pt x="224" y="77"/>
                        </a:lnTo>
                        <a:lnTo>
                          <a:pt x="234" y="70"/>
                        </a:lnTo>
                        <a:lnTo>
                          <a:pt x="242" y="61"/>
                        </a:lnTo>
                        <a:lnTo>
                          <a:pt x="250" y="57"/>
                        </a:lnTo>
                        <a:lnTo>
                          <a:pt x="260" y="51"/>
                        </a:lnTo>
                        <a:lnTo>
                          <a:pt x="264" y="38"/>
                        </a:lnTo>
                        <a:lnTo>
                          <a:pt x="277" y="22"/>
                        </a:lnTo>
                        <a:lnTo>
                          <a:pt x="285" y="16"/>
                        </a:lnTo>
                        <a:lnTo>
                          <a:pt x="291" y="10"/>
                        </a:lnTo>
                        <a:lnTo>
                          <a:pt x="301" y="2"/>
                        </a:lnTo>
                        <a:lnTo>
                          <a:pt x="287" y="0"/>
                        </a:lnTo>
                        <a:lnTo>
                          <a:pt x="272" y="0"/>
                        </a:lnTo>
                        <a:lnTo>
                          <a:pt x="261" y="4"/>
                        </a:lnTo>
                        <a:lnTo>
                          <a:pt x="254" y="10"/>
                        </a:lnTo>
                        <a:lnTo>
                          <a:pt x="242" y="15"/>
                        </a:lnTo>
                        <a:lnTo>
                          <a:pt x="231" y="15"/>
                        </a:lnTo>
                        <a:lnTo>
                          <a:pt x="223" y="19"/>
                        </a:lnTo>
                        <a:lnTo>
                          <a:pt x="211" y="25"/>
                        </a:lnTo>
                        <a:lnTo>
                          <a:pt x="200" y="28"/>
                        </a:lnTo>
                        <a:lnTo>
                          <a:pt x="192" y="36"/>
                        </a:lnTo>
                        <a:lnTo>
                          <a:pt x="182" y="41"/>
                        </a:lnTo>
                        <a:lnTo>
                          <a:pt x="169" y="42"/>
                        </a:lnTo>
                        <a:lnTo>
                          <a:pt x="159" y="51"/>
                        </a:lnTo>
                        <a:lnTo>
                          <a:pt x="150" y="57"/>
                        </a:lnTo>
                        <a:lnTo>
                          <a:pt x="144" y="67"/>
                        </a:lnTo>
                        <a:lnTo>
                          <a:pt x="138" y="73"/>
                        </a:lnTo>
                        <a:lnTo>
                          <a:pt x="132" y="77"/>
                        </a:lnTo>
                        <a:lnTo>
                          <a:pt x="119" y="84"/>
                        </a:lnTo>
                        <a:lnTo>
                          <a:pt x="108" y="94"/>
                        </a:lnTo>
                        <a:lnTo>
                          <a:pt x="94" y="106"/>
                        </a:lnTo>
                        <a:lnTo>
                          <a:pt x="81" y="120"/>
                        </a:lnTo>
                        <a:lnTo>
                          <a:pt x="71" y="130"/>
                        </a:lnTo>
                        <a:lnTo>
                          <a:pt x="63" y="139"/>
                        </a:lnTo>
                        <a:lnTo>
                          <a:pt x="53" y="151"/>
                        </a:lnTo>
                        <a:lnTo>
                          <a:pt x="45" y="161"/>
                        </a:lnTo>
                        <a:lnTo>
                          <a:pt x="37" y="171"/>
                        </a:lnTo>
                        <a:lnTo>
                          <a:pt x="27" y="177"/>
                        </a:lnTo>
                        <a:lnTo>
                          <a:pt x="20" y="183"/>
                        </a:lnTo>
                        <a:lnTo>
                          <a:pt x="0" y="21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 name=""/>
                <p:cNvSpPr/>
                <p:nvPr/>
              </p:nvSpPr>
              <p:spPr>
                <a:xfrm>
                  <a:off x="4773960" y="4117680"/>
                  <a:ext cx="70200" cy="156240"/>
                </a:xfrm>
                <a:custGeom>
                  <a:avLst/>
                  <a:gdLst/>
                  <a:ahLst/>
                  <a:rect l="l" t="t" r="r" b="b"/>
                  <a:pathLst>
                    <a:path w="89" h="218">
                      <a:moveTo>
                        <a:pt x="17" y="69"/>
                      </a:moveTo>
                      <a:lnTo>
                        <a:pt x="15" y="113"/>
                      </a:lnTo>
                      <a:lnTo>
                        <a:pt x="7" y="139"/>
                      </a:lnTo>
                      <a:lnTo>
                        <a:pt x="0" y="166"/>
                      </a:lnTo>
                      <a:lnTo>
                        <a:pt x="0" y="183"/>
                      </a:lnTo>
                      <a:lnTo>
                        <a:pt x="3" y="197"/>
                      </a:lnTo>
                      <a:lnTo>
                        <a:pt x="11" y="212"/>
                      </a:lnTo>
                      <a:lnTo>
                        <a:pt x="17" y="213"/>
                      </a:lnTo>
                      <a:lnTo>
                        <a:pt x="22" y="213"/>
                      </a:lnTo>
                      <a:lnTo>
                        <a:pt x="28" y="218"/>
                      </a:lnTo>
                      <a:lnTo>
                        <a:pt x="34" y="206"/>
                      </a:lnTo>
                      <a:lnTo>
                        <a:pt x="37" y="176"/>
                      </a:lnTo>
                      <a:lnTo>
                        <a:pt x="47" y="160"/>
                      </a:lnTo>
                      <a:lnTo>
                        <a:pt x="48" y="129"/>
                      </a:lnTo>
                      <a:lnTo>
                        <a:pt x="52" y="119"/>
                      </a:lnTo>
                      <a:lnTo>
                        <a:pt x="58" y="109"/>
                      </a:lnTo>
                      <a:lnTo>
                        <a:pt x="61" y="89"/>
                      </a:lnTo>
                      <a:lnTo>
                        <a:pt x="68" y="79"/>
                      </a:lnTo>
                      <a:lnTo>
                        <a:pt x="70" y="67"/>
                      </a:lnTo>
                      <a:lnTo>
                        <a:pt x="77" y="61"/>
                      </a:lnTo>
                      <a:lnTo>
                        <a:pt x="77" y="57"/>
                      </a:lnTo>
                      <a:lnTo>
                        <a:pt x="87" y="45"/>
                      </a:lnTo>
                      <a:lnTo>
                        <a:pt x="88" y="26"/>
                      </a:lnTo>
                      <a:lnTo>
                        <a:pt x="89" y="16"/>
                      </a:lnTo>
                      <a:lnTo>
                        <a:pt x="80" y="13"/>
                      </a:lnTo>
                      <a:lnTo>
                        <a:pt x="76" y="0"/>
                      </a:lnTo>
                      <a:lnTo>
                        <a:pt x="68" y="13"/>
                      </a:lnTo>
                      <a:lnTo>
                        <a:pt x="61" y="29"/>
                      </a:lnTo>
                      <a:lnTo>
                        <a:pt x="52" y="42"/>
                      </a:lnTo>
                      <a:lnTo>
                        <a:pt x="47" y="55"/>
                      </a:lnTo>
                      <a:lnTo>
                        <a:pt x="43" y="55"/>
                      </a:lnTo>
                      <a:lnTo>
                        <a:pt x="37" y="61"/>
                      </a:lnTo>
                      <a:lnTo>
                        <a:pt x="34" y="67"/>
                      </a:lnTo>
                      <a:lnTo>
                        <a:pt x="17" y="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326760" y="3280680"/>
                  <a:ext cx="563040" cy="631440"/>
                </a:xfrm>
                <a:custGeom>
                  <a:avLst/>
                  <a:gdLst/>
                  <a:ahLst/>
                  <a:rect l="l" t="t" r="r" b="b"/>
                  <a:pathLst>
                    <a:path w="722" h="874">
                      <a:moveTo>
                        <a:pt x="0" y="225"/>
                      </a:moveTo>
                      <a:lnTo>
                        <a:pt x="34" y="194"/>
                      </a:lnTo>
                      <a:lnTo>
                        <a:pt x="54" y="183"/>
                      </a:lnTo>
                      <a:lnTo>
                        <a:pt x="57" y="165"/>
                      </a:lnTo>
                      <a:lnTo>
                        <a:pt x="41" y="152"/>
                      </a:lnTo>
                      <a:lnTo>
                        <a:pt x="39" y="131"/>
                      </a:lnTo>
                      <a:lnTo>
                        <a:pt x="46" y="126"/>
                      </a:lnTo>
                      <a:lnTo>
                        <a:pt x="45" y="115"/>
                      </a:lnTo>
                      <a:lnTo>
                        <a:pt x="71" y="110"/>
                      </a:lnTo>
                      <a:lnTo>
                        <a:pt x="79" y="96"/>
                      </a:lnTo>
                      <a:lnTo>
                        <a:pt x="81" y="79"/>
                      </a:lnTo>
                      <a:lnTo>
                        <a:pt x="102" y="74"/>
                      </a:lnTo>
                      <a:lnTo>
                        <a:pt x="105" y="61"/>
                      </a:lnTo>
                      <a:lnTo>
                        <a:pt x="82" y="52"/>
                      </a:lnTo>
                      <a:lnTo>
                        <a:pt x="94" y="44"/>
                      </a:lnTo>
                      <a:lnTo>
                        <a:pt x="127" y="44"/>
                      </a:lnTo>
                      <a:lnTo>
                        <a:pt x="138" y="31"/>
                      </a:lnTo>
                      <a:lnTo>
                        <a:pt x="153" y="28"/>
                      </a:lnTo>
                      <a:lnTo>
                        <a:pt x="162" y="18"/>
                      </a:lnTo>
                      <a:lnTo>
                        <a:pt x="174" y="37"/>
                      </a:lnTo>
                      <a:lnTo>
                        <a:pt x="215" y="35"/>
                      </a:lnTo>
                      <a:lnTo>
                        <a:pt x="236" y="52"/>
                      </a:lnTo>
                      <a:lnTo>
                        <a:pt x="301" y="47"/>
                      </a:lnTo>
                      <a:lnTo>
                        <a:pt x="310" y="38"/>
                      </a:lnTo>
                      <a:lnTo>
                        <a:pt x="335" y="52"/>
                      </a:lnTo>
                      <a:lnTo>
                        <a:pt x="360" y="68"/>
                      </a:lnTo>
                      <a:lnTo>
                        <a:pt x="374" y="63"/>
                      </a:lnTo>
                      <a:lnTo>
                        <a:pt x="381" y="52"/>
                      </a:lnTo>
                      <a:lnTo>
                        <a:pt x="402" y="61"/>
                      </a:lnTo>
                      <a:lnTo>
                        <a:pt x="388" y="47"/>
                      </a:lnTo>
                      <a:lnTo>
                        <a:pt x="375" y="48"/>
                      </a:lnTo>
                      <a:lnTo>
                        <a:pt x="353" y="52"/>
                      </a:lnTo>
                      <a:lnTo>
                        <a:pt x="345" y="37"/>
                      </a:lnTo>
                      <a:lnTo>
                        <a:pt x="334" y="28"/>
                      </a:lnTo>
                      <a:lnTo>
                        <a:pt x="334" y="15"/>
                      </a:lnTo>
                      <a:lnTo>
                        <a:pt x="335" y="2"/>
                      </a:lnTo>
                      <a:lnTo>
                        <a:pt x="347" y="0"/>
                      </a:lnTo>
                      <a:lnTo>
                        <a:pt x="358" y="12"/>
                      </a:lnTo>
                      <a:lnTo>
                        <a:pt x="360" y="5"/>
                      </a:lnTo>
                      <a:lnTo>
                        <a:pt x="372" y="0"/>
                      </a:lnTo>
                      <a:lnTo>
                        <a:pt x="384" y="9"/>
                      </a:lnTo>
                      <a:lnTo>
                        <a:pt x="390" y="2"/>
                      </a:lnTo>
                      <a:lnTo>
                        <a:pt x="396" y="12"/>
                      </a:lnTo>
                      <a:lnTo>
                        <a:pt x="397" y="25"/>
                      </a:lnTo>
                      <a:lnTo>
                        <a:pt x="416" y="35"/>
                      </a:lnTo>
                      <a:lnTo>
                        <a:pt x="407" y="44"/>
                      </a:lnTo>
                      <a:lnTo>
                        <a:pt x="407" y="57"/>
                      </a:lnTo>
                      <a:lnTo>
                        <a:pt x="439" y="61"/>
                      </a:lnTo>
                      <a:lnTo>
                        <a:pt x="447" y="44"/>
                      </a:lnTo>
                      <a:lnTo>
                        <a:pt x="441" y="35"/>
                      </a:lnTo>
                      <a:lnTo>
                        <a:pt x="427" y="37"/>
                      </a:lnTo>
                      <a:lnTo>
                        <a:pt x="430" y="18"/>
                      </a:lnTo>
                      <a:lnTo>
                        <a:pt x="458" y="28"/>
                      </a:lnTo>
                      <a:lnTo>
                        <a:pt x="464" y="42"/>
                      </a:lnTo>
                      <a:lnTo>
                        <a:pt x="487" y="42"/>
                      </a:lnTo>
                      <a:lnTo>
                        <a:pt x="507" y="58"/>
                      </a:lnTo>
                      <a:lnTo>
                        <a:pt x="518" y="52"/>
                      </a:lnTo>
                      <a:lnTo>
                        <a:pt x="529" y="68"/>
                      </a:lnTo>
                      <a:lnTo>
                        <a:pt x="518" y="84"/>
                      </a:lnTo>
                      <a:lnTo>
                        <a:pt x="507" y="73"/>
                      </a:lnTo>
                      <a:lnTo>
                        <a:pt x="501" y="77"/>
                      </a:lnTo>
                      <a:lnTo>
                        <a:pt x="492" y="87"/>
                      </a:lnTo>
                      <a:lnTo>
                        <a:pt x="477" y="99"/>
                      </a:lnTo>
                      <a:lnTo>
                        <a:pt x="485" y="110"/>
                      </a:lnTo>
                      <a:lnTo>
                        <a:pt x="471" y="113"/>
                      </a:lnTo>
                      <a:lnTo>
                        <a:pt x="462" y="132"/>
                      </a:lnTo>
                      <a:lnTo>
                        <a:pt x="448" y="155"/>
                      </a:lnTo>
                      <a:lnTo>
                        <a:pt x="467" y="177"/>
                      </a:lnTo>
                      <a:lnTo>
                        <a:pt x="478" y="200"/>
                      </a:lnTo>
                      <a:lnTo>
                        <a:pt x="504" y="205"/>
                      </a:lnTo>
                      <a:lnTo>
                        <a:pt x="526" y="200"/>
                      </a:lnTo>
                      <a:lnTo>
                        <a:pt x="537" y="210"/>
                      </a:lnTo>
                      <a:lnTo>
                        <a:pt x="529" y="219"/>
                      </a:lnTo>
                      <a:lnTo>
                        <a:pt x="525" y="231"/>
                      </a:lnTo>
                      <a:lnTo>
                        <a:pt x="536" y="251"/>
                      </a:lnTo>
                      <a:lnTo>
                        <a:pt x="538" y="271"/>
                      </a:lnTo>
                      <a:lnTo>
                        <a:pt x="551" y="277"/>
                      </a:lnTo>
                      <a:lnTo>
                        <a:pt x="568" y="261"/>
                      </a:lnTo>
                      <a:lnTo>
                        <a:pt x="563" y="241"/>
                      </a:lnTo>
                      <a:lnTo>
                        <a:pt x="548" y="225"/>
                      </a:lnTo>
                      <a:lnTo>
                        <a:pt x="565" y="205"/>
                      </a:lnTo>
                      <a:lnTo>
                        <a:pt x="551" y="168"/>
                      </a:lnTo>
                      <a:lnTo>
                        <a:pt x="538" y="155"/>
                      </a:lnTo>
                      <a:lnTo>
                        <a:pt x="548" y="142"/>
                      </a:lnTo>
                      <a:lnTo>
                        <a:pt x="545" y="126"/>
                      </a:lnTo>
                      <a:lnTo>
                        <a:pt x="554" y="113"/>
                      </a:lnTo>
                      <a:lnTo>
                        <a:pt x="568" y="126"/>
                      </a:lnTo>
                      <a:lnTo>
                        <a:pt x="599" y="167"/>
                      </a:lnTo>
                      <a:lnTo>
                        <a:pt x="618" y="171"/>
                      </a:lnTo>
                      <a:lnTo>
                        <a:pt x="622" y="163"/>
                      </a:lnTo>
                      <a:lnTo>
                        <a:pt x="618" y="139"/>
                      </a:lnTo>
                      <a:lnTo>
                        <a:pt x="630" y="142"/>
                      </a:lnTo>
                      <a:lnTo>
                        <a:pt x="647" y="168"/>
                      </a:lnTo>
                      <a:lnTo>
                        <a:pt x="650" y="181"/>
                      </a:lnTo>
                      <a:lnTo>
                        <a:pt x="663" y="189"/>
                      </a:lnTo>
                      <a:lnTo>
                        <a:pt x="685" y="203"/>
                      </a:lnTo>
                      <a:lnTo>
                        <a:pt x="696" y="221"/>
                      </a:lnTo>
                      <a:lnTo>
                        <a:pt x="713" y="235"/>
                      </a:lnTo>
                      <a:lnTo>
                        <a:pt x="721" y="241"/>
                      </a:lnTo>
                      <a:lnTo>
                        <a:pt x="722" y="251"/>
                      </a:lnTo>
                      <a:lnTo>
                        <a:pt x="710" y="260"/>
                      </a:lnTo>
                      <a:lnTo>
                        <a:pt x="703" y="251"/>
                      </a:lnTo>
                      <a:lnTo>
                        <a:pt x="695" y="251"/>
                      </a:lnTo>
                      <a:lnTo>
                        <a:pt x="692" y="273"/>
                      </a:lnTo>
                      <a:lnTo>
                        <a:pt x="681" y="277"/>
                      </a:lnTo>
                      <a:lnTo>
                        <a:pt x="670" y="267"/>
                      </a:lnTo>
                      <a:lnTo>
                        <a:pt x="644" y="267"/>
                      </a:lnTo>
                      <a:lnTo>
                        <a:pt x="640" y="291"/>
                      </a:lnTo>
                      <a:lnTo>
                        <a:pt x="647" y="305"/>
                      </a:lnTo>
                      <a:lnTo>
                        <a:pt x="659" y="296"/>
                      </a:lnTo>
                      <a:lnTo>
                        <a:pt x="667" y="291"/>
                      </a:lnTo>
                      <a:lnTo>
                        <a:pt x="676" y="303"/>
                      </a:lnTo>
                      <a:lnTo>
                        <a:pt x="663" y="318"/>
                      </a:lnTo>
                      <a:lnTo>
                        <a:pt x="676" y="334"/>
                      </a:lnTo>
                      <a:lnTo>
                        <a:pt x="695" y="339"/>
                      </a:lnTo>
                      <a:lnTo>
                        <a:pt x="692" y="349"/>
                      </a:lnTo>
                      <a:lnTo>
                        <a:pt x="687" y="351"/>
                      </a:lnTo>
                      <a:lnTo>
                        <a:pt x="670" y="403"/>
                      </a:lnTo>
                      <a:lnTo>
                        <a:pt x="670" y="370"/>
                      </a:lnTo>
                      <a:lnTo>
                        <a:pt x="679" y="354"/>
                      </a:lnTo>
                      <a:lnTo>
                        <a:pt x="670" y="344"/>
                      </a:lnTo>
                      <a:lnTo>
                        <a:pt x="661" y="354"/>
                      </a:lnTo>
                      <a:lnTo>
                        <a:pt x="666" y="364"/>
                      </a:lnTo>
                      <a:lnTo>
                        <a:pt x="659" y="371"/>
                      </a:lnTo>
                      <a:lnTo>
                        <a:pt x="648" y="380"/>
                      </a:lnTo>
                      <a:lnTo>
                        <a:pt x="650" y="399"/>
                      </a:lnTo>
                      <a:lnTo>
                        <a:pt x="640" y="409"/>
                      </a:lnTo>
                      <a:lnTo>
                        <a:pt x="624" y="413"/>
                      </a:lnTo>
                      <a:lnTo>
                        <a:pt x="630" y="425"/>
                      </a:lnTo>
                      <a:lnTo>
                        <a:pt x="624" y="439"/>
                      </a:lnTo>
                      <a:lnTo>
                        <a:pt x="630" y="451"/>
                      </a:lnTo>
                      <a:lnTo>
                        <a:pt x="621" y="475"/>
                      </a:lnTo>
                      <a:lnTo>
                        <a:pt x="618" y="496"/>
                      </a:lnTo>
                      <a:lnTo>
                        <a:pt x="603" y="510"/>
                      </a:lnTo>
                      <a:lnTo>
                        <a:pt x="587" y="544"/>
                      </a:lnTo>
                      <a:lnTo>
                        <a:pt x="587" y="564"/>
                      </a:lnTo>
                      <a:lnTo>
                        <a:pt x="591" y="586"/>
                      </a:lnTo>
                      <a:lnTo>
                        <a:pt x="599" y="612"/>
                      </a:lnTo>
                      <a:lnTo>
                        <a:pt x="602" y="633"/>
                      </a:lnTo>
                      <a:lnTo>
                        <a:pt x="595" y="644"/>
                      </a:lnTo>
                      <a:lnTo>
                        <a:pt x="587" y="638"/>
                      </a:lnTo>
                      <a:lnTo>
                        <a:pt x="587" y="626"/>
                      </a:lnTo>
                      <a:lnTo>
                        <a:pt x="582" y="596"/>
                      </a:lnTo>
                      <a:lnTo>
                        <a:pt x="574" y="590"/>
                      </a:lnTo>
                      <a:lnTo>
                        <a:pt x="570" y="575"/>
                      </a:lnTo>
                      <a:lnTo>
                        <a:pt x="562" y="575"/>
                      </a:lnTo>
                      <a:lnTo>
                        <a:pt x="551" y="564"/>
                      </a:lnTo>
                      <a:lnTo>
                        <a:pt x="541" y="568"/>
                      </a:lnTo>
                      <a:lnTo>
                        <a:pt x="529" y="560"/>
                      </a:lnTo>
                      <a:lnTo>
                        <a:pt x="518" y="568"/>
                      </a:lnTo>
                      <a:lnTo>
                        <a:pt x="497" y="562"/>
                      </a:lnTo>
                      <a:lnTo>
                        <a:pt x="511" y="584"/>
                      </a:lnTo>
                      <a:lnTo>
                        <a:pt x="492" y="581"/>
                      </a:lnTo>
                      <a:lnTo>
                        <a:pt x="478" y="564"/>
                      </a:lnTo>
                      <a:lnTo>
                        <a:pt x="456" y="564"/>
                      </a:lnTo>
                      <a:lnTo>
                        <a:pt x="462" y="590"/>
                      </a:lnTo>
                      <a:lnTo>
                        <a:pt x="443" y="584"/>
                      </a:lnTo>
                      <a:lnTo>
                        <a:pt x="436" y="612"/>
                      </a:lnTo>
                      <a:lnTo>
                        <a:pt x="441" y="622"/>
                      </a:lnTo>
                      <a:lnTo>
                        <a:pt x="436" y="649"/>
                      </a:lnTo>
                      <a:lnTo>
                        <a:pt x="443" y="686"/>
                      </a:lnTo>
                      <a:lnTo>
                        <a:pt x="452" y="707"/>
                      </a:lnTo>
                      <a:lnTo>
                        <a:pt x="462" y="729"/>
                      </a:lnTo>
                      <a:lnTo>
                        <a:pt x="492" y="728"/>
                      </a:lnTo>
                      <a:lnTo>
                        <a:pt x="504" y="726"/>
                      </a:lnTo>
                      <a:lnTo>
                        <a:pt x="507" y="707"/>
                      </a:lnTo>
                      <a:lnTo>
                        <a:pt x="500" y="696"/>
                      </a:lnTo>
                      <a:lnTo>
                        <a:pt x="501" y="686"/>
                      </a:lnTo>
                      <a:lnTo>
                        <a:pt x="519" y="687"/>
                      </a:lnTo>
                      <a:lnTo>
                        <a:pt x="540" y="684"/>
                      </a:lnTo>
                      <a:lnTo>
                        <a:pt x="540" y="696"/>
                      </a:lnTo>
                      <a:lnTo>
                        <a:pt x="534" y="716"/>
                      </a:lnTo>
                      <a:lnTo>
                        <a:pt x="525" y="732"/>
                      </a:lnTo>
                      <a:lnTo>
                        <a:pt x="522" y="754"/>
                      </a:lnTo>
                      <a:lnTo>
                        <a:pt x="536" y="764"/>
                      </a:lnTo>
                      <a:lnTo>
                        <a:pt x="551" y="762"/>
                      </a:lnTo>
                      <a:lnTo>
                        <a:pt x="562" y="765"/>
                      </a:lnTo>
                      <a:lnTo>
                        <a:pt x="570" y="765"/>
                      </a:lnTo>
                      <a:lnTo>
                        <a:pt x="574" y="778"/>
                      </a:lnTo>
                      <a:lnTo>
                        <a:pt x="566" y="801"/>
                      </a:lnTo>
                      <a:lnTo>
                        <a:pt x="573" y="812"/>
                      </a:lnTo>
                      <a:lnTo>
                        <a:pt x="574" y="838"/>
                      </a:lnTo>
                      <a:lnTo>
                        <a:pt x="587" y="857"/>
                      </a:lnTo>
                      <a:lnTo>
                        <a:pt x="599" y="859"/>
                      </a:lnTo>
                      <a:lnTo>
                        <a:pt x="610" y="857"/>
                      </a:lnTo>
                      <a:lnTo>
                        <a:pt x="615" y="858"/>
                      </a:lnTo>
                      <a:lnTo>
                        <a:pt x="633" y="858"/>
                      </a:lnTo>
                      <a:lnTo>
                        <a:pt x="648" y="859"/>
                      </a:lnTo>
                      <a:lnTo>
                        <a:pt x="655" y="848"/>
                      </a:lnTo>
                      <a:lnTo>
                        <a:pt x="640" y="868"/>
                      </a:lnTo>
                      <a:lnTo>
                        <a:pt x="630" y="867"/>
                      </a:lnTo>
                      <a:lnTo>
                        <a:pt x="619" y="868"/>
                      </a:lnTo>
                      <a:lnTo>
                        <a:pt x="599" y="874"/>
                      </a:lnTo>
                      <a:lnTo>
                        <a:pt x="584" y="864"/>
                      </a:lnTo>
                      <a:lnTo>
                        <a:pt x="568" y="857"/>
                      </a:lnTo>
                      <a:lnTo>
                        <a:pt x="561" y="858"/>
                      </a:lnTo>
                      <a:lnTo>
                        <a:pt x="562" y="846"/>
                      </a:lnTo>
                      <a:lnTo>
                        <a:pt x="561" y="828"/>
                      </a:lnTo>
                      <a:lnTo>
                        <a:pt x="547" y="812"/>
                      </a:lnTo>
                      <a:lnTo>
                        <a:pt x="519" y="804"/>
                      </a:lnTo>
                      <a:lnTo>
                        <a:pt x="515" y="796"/>
                      </a:lnTo>
                      <a:lnTo>
                        <a:pt x="507" y="799"/>
                      </a:lnTo>
                      <a:lnTo>
                        <a:pt x="499" y="790"/>
                      </a:lnTo>
                      <a:lnTo>
                        <a:pt x="488" y="781"/>
                      </a:lnTo>
                      <a:lnTo>
                        <a:pt x="474" y="762"/>
                      </a:lnTo>
                      <a:lnTo>
                        <a:pt x="459" y="754"/>
                      </a:lnTo>
                      <a:lnTo>
                        <a:pt x="450" y="765"/>
                      </a:lnTo>
                      <a:lnTo>
                        <a:pt x="440" y="758"/>
                      </a:lnTo>
                      <a:lnTo>
                        <a:pt x="427" y="758"/>
                      </a:lnTo>
                      <a:lnTo>
                        <a:pt x="403" y="749"/>
                      </a:lnTo>
                      <a:lnTo>
                        <a:pt x="358" y="710"/>
                      </a:lnTo>
                      <a:lnTo>
                        <a:pt x="355" y="671"/>
                      </a:lnTo>
                      <a:lnTo>
                        <a:pt x="351" y="658"/>
                      </a:lnTo>
                      <a:lnTo>
                        <a:pt x="344" y="644"/>
                      </a:lnTo>
                      <a:lnTo>
                        <a:pt x="334" y="623"/>
                      </a:lnTo>
                      <a:lnTo>
                        <a:pt x="286" y="548"/>
                      </a:lnTo>
                      <a:lnTo>
                        <a:pt x="286" y="575"/>
                      </a:lnTo>
                      <a:lnTo>
                        <a:pt x="316" y="628"/>
                      </a:lnTo>
                      <a:lnTo>
                        <a:pt x="328" y="668"/>
                      </a:lnTo>
                      <a:lnTo>
                        <a:pt x="310" y="659"/>
                      </a:lnTo>
                      <a:lnTo>
                        <a:pt x="305" y="633"/>
                      </a:lnTo>
                      <a:lnTo>
                        <a:pt x="282" y="619"/>
                      </a:lnTo>
                      <a:lnTo>
                        <a:pt x="297" y="612"/>
                      </a:lnTo>
                      <a:lnTo>
                        <a:pt x="264" y="581"/>
                      </a:lnTo>
                      <a:lnTo>
                        <a:pt x="277" y="564"/>
                      </a:lnTo>
                      <a:lnTo>
                        <a:pt x="267" y="533"/>
                      </a:lnTo>
                      <a:lnTo>
                        <a:pt x="229" y="468"/>
                      </a:lnTo>
                      <a:lnTo>
                        <a:pt x="224" y="432"/>
                      </a:lnTo>
                      <a:lnTo>
                        <a:pt x="226" y="399"/>
                      </a:lnTo>
                      <a:lnTo>
                        <a:pt x="236" y="371"/>
                      </a:lnTo>
                      <a:lnTo>
                        <a:pt x="236" y="339"/>
                      </a:lnTo>
                      <a:lnTo>
                        <a:pt x="229" y="319"/>
                      </a:lnTo>
                      <a:lnTo>
                        <a:pt x="249" y="313"/>
                      </a:lnTo>
                      <a:lnTo>
                        <a:pt x="224" y="277"/>
                      </a:lnTo>
                      <a:lnTo>
                        <a:pt x="226" y="260"/>
                      </a:lnTo>
                      <a:lnTo>
                        <a:pt x="215" y="235"/>
                      </a:lnTo>
                      <a:lnTo>
                        <a:pt x="219" y="221"/>
                      </a:lnTo>
                      <a:lnTo>
                        <a:pt x="210" y="213"/>
                      </a:lnTo>
                      <a:lnTo>
                        <a:pt x="210" y="199"/>
                      </a:lnTo>
                      <a:lnTo>
                        <a:pt x="201" y="184"/>
                      </a:lnTo>
                      <a:lnTo>
                        <a:pt x="210" y="174"/>
                      </a:lnTo>
                      <a:lnTo>
                        <a:pt x="200" y="168"/>
                      </a:lnTo>
                      <a:lnTo>
                        <a:pt x="187" y="178"/>
                      </a:lnTo>
                      <a:lnTo>
                        <a:pt x="175" y="155"/>
                      </a:lnTo>
                      <a:lnTo>
                        <a:pt x="157" y="148"/>
                      </a:lnTo>
                      <a:lnTo>
                        <a:pt x="137" y="148"/>
                      </a:lnTo>
                      <a:lnTo>
                        <a:pt x="122" y="168"/>
                      </a:lnTo>
                      <a:lnTo>
                        <a:pt x="115" y="165"/>
                      </a:lnTo>
                      <a:lnTo>
                        <a:pt x="126" y="136"/>
                      </a:lnTo>
                      <a:lnTo>
                        <a:pt x="115" y="142"/>
                      </a:lnTo>
                      <a:lnTo>
                        <a:pt x="94" y="168"/>
                      </a:lnTo>
                      <a:lnTo>
                        <a:pt x="70" y="194"/>
                      </a:lnTo>
                      <a:lnTo>
                        <a:pt x="49" y="203"/>
                      </a:lnTo>
                      <a:lnTo>
                        <a:pt x="13" y="225"/>
                      </a:lnTo>
                      <a:lnTo>
                        <a:pt x="0" y="22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730680" y="3220200"/>
                  <a:ext cx="193320" cy="166320"/>
                </a:xfrm>
                <a:custGeom>
                  <a:avLst/>
                  <a:gdLst/>
                  <a:ahLst/>
                  <a:rect l="l" t="t" r="r" b="b"/>
                  <a:pathLst>
                    <a:path w="248" h="229">
                      <a:moveTo>
                        <a:pt x="0" y="45"/>
                      </a:moveTo>
                      <a:lnTo>
                        <a:pt x="5" y="29"/>
                      </a:lnTo>
                      <a:lnTo>
                        <a:pt x="5" y="16"/>
                      </a:lnTo>
                      <a:lnTo>
                        <a:pt x="12" y="0"/>
                      </a:lnTo>
                      <a:lnTo>
                        <a:pt x="58" y="8"/>
                      </a:lnTo>
                      <a:lnTo>
                        <a:pt x="135" y="29"/>
                      </a:lnTo>
                      <a:lnTo>
                        <a:pt x="166" y="46"/>
                      </a:lnTo>
                      <a:lnTo>
                        <a:pt x="205" y="62"/>
                      </a:lnTo>
                      <a:lnTo>
                        <a:pt x="227" y="91"/>
                      </a:lnTo>
                      <a:lnTo>
                        <a:pt x="248" y="108"/>
                      </a:lnTo>
                      <a:lnTo>
                        <a:pt x="239" y="119"/>
                      </a:lnTo>
                      <a:lnTo>
                        <a:pt x="239" y="133"/>
                      </a:lnTo>
                      <a:lnTo>
                        <a:pt x="231" y="134"/>
                      </a:lnTo>
                      <a:lnTo>
                        <a:pt x="225" y="149"/>
                      </a:lnTo>
                      <a:lnTo>
                        <a:pt x="231" y="161"/>
                      </a:lnTo>
                      <a:lnTo>
                        <a:pt x="231" y="169"/>
                      </a:lnTo>
                      <a:lnTo>
                        <a:pt x="223" y="185"/>
                      </a:lnTo>
                      <a:lnTo>
                        <a:pt x="224" y="195"/>
                      </a:lnTo>
                      <a:lnTo>
                        <a:pt x="238" y="211"/>
                      </a:lnTo>
                      <a:lnTo>
                        <a:pt x="238" y="221"/>
                      </a:lnTo>
                      <a:lnTo>
                        <a:pt x="235" y="227"/>
                      </a:lnTo>
                      <a:lnTo>
                        <a:pt x="220" y="229"/>
                      </a:lnTo>
                      <a:lnTo>
                        <a:pt x="211" y="223"/>
                      </a:lnTo>
                      <a:lnTo>
                        <a:pt x="200" y="208"/>
                      </a:lnTo>
                      <a:lnTo>
                        <a:pt x="196" y="208"/>
                      </a:lnTo>
                      <a:lnTo>
                        <a:pt x="190" y="198"/>
                      </a:lnTo>
                      <a:lnTo>
                        <a:pt x="183" y="182"/>
                      </a:lnTo>
                      <a:lnTo>
                        <a:pt x="178" y="175"/>
                      </a:lnTo>
                      <a:lnTo>
                        <a:pt x="163" y="166"/>
                      </a:lnTo>
                      <a:lnTo>
                        <a:pt x="150" y="159"/>
                      </a:lnTo>
                      <a:lnTo>
                        <a:pt x="131" y="143"/>
                      </a:lnTo>
                      <a:lnTo>
                        <a:pt x="125" y="129"/>
                      </a:lnTo>
                      <a:lnTo>
                        <a:pt x="126" y="120"/>
                      </a:lnTo>
                      <a:lnTo>
                        <a:pt x="133" y="113"/>
                      </a:lnTo>
                      <a:lnTo>
                        <a:pt x="127" y="100"/>
                      </a:lnTo>
                      <a:lnTo>
                        <a:pt x="120" y="108"/>
                      </a:lnTo>
                      <a:lnTo>
                        <a:pt x="109" y="91"/>
                      </a:lnTo>
                      <a:lnTo>
                        <a:pt x="107" y="100"/>
                      </a:lnTo>
                      <a:lnTo>
                        <a:pt x="98" y="100"/>
                      </a:lnTo>
                      <a:lnTo>
                        <a:pt x="95" y="94"/>
                      </a:lnTo>
                      <a:lnTo>
                        <a:pt x="95" y="84"/>
                      </a:lnTo>
                      <a:lnTo>
                        <a:pt x="90" y="77"/>
                      </a:lnTo>
                      <a:lnTo>
                        <a:pt x="83" y="78"/>
                      </a:lnTo>
                      <a:lnTo>
                        <a:pt x="75" y="61"/>
                      </a:lnTo>
                      <a:lnTo>
                        <a:pt x="70" y="58"/>
                      </a:lnTo>
                      <a:lnTo>
                        <a:pt x="57" y="50"/>
                      </a:lnTo>
                      <a:lnTo>
                        <a:pt x="37" y="55"/>
                      </a:lnTo>
                      <a:lnTo>
                        <a:pt x="17" y="50"/>
                      </a:lnTo>
                      <a:lnTo>
                        <a:pt x="0" y="4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690000" y="3279600"/>
                  <a:ext cx="123120" cy="85320"/>
                </a:xfrm>
                <a:custGeom>
                  <a:avLst/>
                  <a:gdLst/>
                  <a:ahLst/>
                  <a:rect l="l" t="t" r="r" b="b"/>
                  <a:pathLst>
                    <a:path w="158" h="117">
                      <a:moveTo>
                        <a:pt x="4" y="0"/>
                      </a:moveTo>
                      <a:lnTo>
                        <a:pt x="0" y="7"/>
                      </a:lnTo>
                      <a:lnTo>
                        <a:pt x="0" y="19"/>
                      </a:lnTo>
                      <a:lnTo>
                        <a:pt x="10" y="32"/>
                      </a:lnTo>
                      <a:lnTo>
                        <a:pt x="15" y="29"/>
                      </a:lnTo>
                      <a:lnTo>
                        <a:pt x="20" y="33"/>
                      </a:lnTo>
                      <a:lnTo>
                        <a:pt x="28" y="36"/>
                      </a:lnTo>
                      <a:lnTo>
                        <a:pt x="30" y="27"/>
                      </a:lnTo>
                      <a:lnTo>
                        <a:pt x="47" y="29"/>
                      </a:lnTo>
                      <a:lnTo>
                        <a:pt x="48" y="36"/>
                      </a:lnTo>
                      <a:lnTo>
                        <a:pt x="55" y="39"/>
                      </a:lnTo>
                      <a:lnTo>
                        <a:pt x="69" y="38"/>
                      </a:lnTo>
                      <a:lnTo>
                        <a:pt x="73" y="43"/>
                      </a:lnTo>
                      <a:lnTo>
                        <a:pt x="78" y="45"/>
                      </a:lnTo>
                      <a:lnTo>
                        <a:pt x="84" y="58"/>
                      </a:lnTo>
                      <a:lnTo>
                        <a:pt x="84" y="69"/>
                      </a:lnTo>
                      <a:lnTo>
                        <a:pt x="80" y="71"/>
                      </a:lnTo>
                      <a:lnTo>
                        <a:pt x="81" y="78"/>
                      </a:lnTo>
                      <a:lnTo>
                        <a:pt x="76" y="85"/>
                      </a:lnTo>
                      <a:lnTo>
                        <a:pt x="76" y="97"/>
                      </a:lnTo>
                      <a:lnTo>
                        <a:pt x="85" y="97"/>
                      </a:lnTo>
                      <a:lnTo>
                        <a:pt x="91" y="94"/>
                      </a:lnTo>
                      <a:lnTo>
                        <a:pt x="94" y="88"/>
                      </a:lnTo>
                      <a:lnTo>
                        <a:pt x="96" y="94"/>
                      </a:lnTo>
                      <a:lnTo>
                        <a:pt x="102" y="90"/>
                      </a:lnTo>
                      <a:lnTo>
                        <a:pt x="115" y="97"/>
                      </a:lnTo>
                      <a:lnTo>
                        <a:pt x="122" y="107"/>
                      </a:lnTo>
                      <a:lnTo>
                        <a:pt x="125" y="107"/>
                      </a:lnTo>
                      <a:lnTo>
                        <a:pt x="125" y="114"/>
                      </a:lnTo>
                      <a:lnTo>
                        <a:pt x="133" y="117"/>
                      </a:lnTo>
                      <a:lnTo>
                        <a:pt x="143" y="117"/>
                      </a:lnTo>
                      <a:lnTo>
                        <a:pt x="136" y="111"/>
                      </a:lnTo>
                      <a:lnTo>
                        <a:pt x="139" y="106"/>
                      </a:lnTo>
                      <a:lnTo>
                        <a:pt x="147" y="111"/>
                      </a:lnTo>
                      <a:lnTo>
                        <a:pt x="154" y="111"/>
                      </a:lnTo>
                      <a:lnTo>
                        <a:pt x="155" y="104"/>
                      </a:lnTo>
                      <a:lnTo>
                        <a:pt x="148" y="97"/>
                      </a:lnTo>
                      <a:lnTo>
                        <a:pt x="142" y="97"/>
                      </a:lnTo>
                      <a:lnTo>
                        <a:pt x="133" y="85"/>
                      </a:lnTo>
                      <a:lnTo>
                        <a:pt x="142" y="85"/>
                      </a:lnTo>
                      <a:lnTo>
                        <a:pt x="148" y="94"/>
                      </a:lnTo>
                      <a:lnTo>
                        <a:pt x="158" y="94"/>
                      </a:lnTo>
                      <a:lnTo>
                        <a:pt x="155" y="84"/>
                      </a:lnTo>
                      <a:lnTo>
                        <a:pt x="147" y="74"/>
                      </a:lnTo>
                      <a:lnTo>
                        <a:pt x="139" y="71"/>
                      </a:lnTo>
                      <a:lnTo>
                        <a:pt x="129" y="62"/>
                      </a:lnTo>
                      <a:lnTo>
                        <a:pt x="118" y="59"/>
                      </a:lnTo>
                      <a:lnTo>
                        <a:pt x="107" y="53"/>
                      </a:lnTo>
                      <a:lnTo>
                        <a:pt x="99" y="39"/>
                      </a:lnTo>
                      <a:lnTo>
                        <a:pt x="94" y="19"/>
                      </a:lnTo>
                      <a:lnTo>
                        <a:pt x="85" y="19"/>
                      </a:lnTo>
                      <a:lnTo>
                        <a:pt x="84" y="16"/>
                      </a:lnTo>
                      <a:lnTo>
                        <a:pt x="78" y="17"/>
                      </a:lnTo>
                      <a:lnTo>
                        <a:pt x="71" y="10"/>
                      </a:lnTo>
                      <a:lnTo>
                        <a:pt x="58" y="6"/>
                      </a:lnTo>
                      <a:lnTo>
                        <a:pt x="52" y="10"/>
                      </a:lnTo>
                      <a:lnTo>
                        <a:pt x="40" y="6"/>
                      </a:lnTo>
                      <a:lnTo>
                        <a:pt x="32" y="6"/>
                      </a:lnTo>
                      <a:lnTo>
                        <a:pt x="30" y="1"/>
                      </a:lnTo>
                      <a:lnTo>
                        <a:pt x="25" y="0"/>
                      </a:lnTo>
                      <a:lnTo>
                        <a:pt x="20" y="1"/>
                      </a:lnTo>
                      <a:lnTo>
                        <a:pt x="4" y="0"/>
                      </a:lnTo>
                      <a:close/>
                    </a:path>
                  </a:pathLst>
                </a:custGeom>
                <a:solidFill>
                  <a:srgbClr val="008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 name=""/>
                <p:cNvSpPr/>
                <p:nvPr/>
              </p:nvSpPr>
              <p:spPr>
                <a:xfrm>
                  <a:off x="3760200" y="3757320"/>
                  <a:ext cx="87120" cy="37440"/>
                </a:xfrm>
                <a:custGeom>
                  <a:avLst/>
                  <a:gdLst/>
                  <a:ahLst/>
                  <a:rect l="l" t="t" r="r" b="b"/>
                  <a:pathLst>
                    <a:path w="114" h="51">
                      <a:moveTo>
                        <a:pt x="0" y="27"/>
                      </a:moveTo>
                      <a:lnTo>
                        <a:pt x="11" y="9"/>
                      </a:lnTo>
                      <a:lnTo>
                        <a:pt x="15" y="9"/>
                      </a:lnTo>
                      <a:lnTo>
                        <a:pt x="23" y="2"/>
                      </a:lnTo>
                      <a:lnTo>
                        <a:pt x="32" y="2"/>
                      </a:lnTo>
                      <a:lnTo>
                        <a:pt x="34" y="0"/>
                      </a:lnTo>
                      <a:lnTo>
                        <a:pt x="37" y="0"/>
                      </a:lnTo>
                      <a:lnTo>
                        <a:pt x="48" y="9"/>
                      </a:lnTo>
                      <a:lnTo>
                        <a:pt x="52" y="15"/>
                      </a:lnTo>
                      <a:lnTo>
                        <a:pt x="55" y="11"/>
                      </a:lnTo>
                      <a:lnTo>
                        <a:pt x="63" y="19"/>
                      </a:lnTo>
                      <a:lnTo>
                        <a:pt x="69" y="19"/>
                      </a:lnTo>
                      <a:lnTo>
                        <a:pt x="75" y="25"/>
                      </a:lnTo>
                      <a:lnTo>
                        <a:pt x="81" y="27"/>
                      </a:lnTo>
                      <a:lnTo>
                        <a:pt x="81" y="35"/>
                      </a:lnTo>
                      <a:lnTo>
                        <a:pt x="95" y="35"/>
                      </a:lnTo>
                      <a:lnTo>
                        <a:pt x="100" y="41"/>
                      </a:lnTo>
                      <a:lnTo>
                        <a:pt x="108" y="41"/>
                      </a:lnTo>
                      <a:lnTo>
                        <a:pt x="114" y="51"/>
                      </a:lnTo>
                      <a:lnTo>
                        <a:pt x="111" y="51"/>
                      </a:lnTo>
                      <a:lnTo>
                        <a:pt x="108" y="48"/>
                      </a:lnTo>
                      <a:lnTo>
                        <a:pt x="107" y="47"/>
                      </a:lnTo>
                      <a:lnTo>
                        <a:pt x="100" y="48"/>
                      </a:lnTo>
                      <a:lnTo>
                        <a:pt x="95" y="51"/>
                      </a:lnTo>
                      <a:lnTo>
                        <a:pt x="91" y="51"/>
                      </a:lnTo>
                      <a:lnTo>
                        <a:pt x="80" y="51"/>
                      </a:lnTo>
                      <a:lnTo>
                        <a:pt x="75" y="51"/>
                      </a:lnTo>
                      <a:lnTo>
                        <a:pt x="75" y="47"/>
                      </a:lnTo>
                      <a:lnTo>
                        <a:pt x="63" y="35"/>
                      </a:lnTo>
                      <a:lnTo>
                        <a:pt x="63" y="27"/>
                      </a:lnTo>
                      <a:lnTo>
                        <a:pt x="52" y="27"/>
                      </a:lnTo>
                      <a:lnTo>
                        <a:pt x="47" y="25"/>
                      </a:lnTo>
                      <a:lnTo>
                        <a:pt x="44" y="27"/>
                      </a:lnTo>
                      <a:lnTo>
                        <a:pt x="41" y="22"/>
                      </a:lnTo>
                      <a:lnTo>
                        <a:pt x="37" y="22"/>
                      </a:lnTo>
                      <a:lnTo>
                        <a:pt x="37" y="12"/>
                      </a:lnTo>
                      <a:lnTo>
                        <a:pt x="34" y="9"/>
                      </a:lnTo>
                      <a:lnTo>
                        <a:pt x="25" y="11"/>
                      </a:lnTo>
                      <a:lnTo>
                        <a:pt x="18" y="22"/>
                      </a:lnTo>
                      <a:lnTo>
                        <a:pt x="10" y="25"/>
                      </a:lnTo>
                      <a:lnTo>
                        <a:pt x="0" y="27"/>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31" name=""/>
                <p:cNvSpPr/>
                <p:nvPr/>
              </p:nvSpPr>
              <p:spPr>
                <a:xfrm>
                  <a:off x="3837960" y="3784680"/>
                  <a:ext cx="56160" cy="33120"/>
                </a:xfrm>
                <a:custGeom>
                  <a:avLst/>
                  <a:gdLst/>
                  <a:ahLst/>
                  <a:rect l="l" t="t" r="r" b="b"/>
                  <a:pathLst>
                    <a:path w="71" h="45">
                      <a:moveTo>
                        <a:pt x="0" y="35"/>
                      </a:moveTo>
                      <a:lnTo>
                        <a:pt x="6" y="36"/>
                      </a:lnTo>
                      <a:lnTo>
                        <a:pt x="20" y="35"/>
                      </a:lnTo>
                      <a:lnTo>
                        <a:pt x="28" y="42"/>
                      </a:lnTo>
                      <a:lnTo>
                        <a:pt x="36" y="45"/>
                      </a:lnTo>
                      <a:lnTo>
                        <a:pt x="42" y="35"/>
                      </a:lnTo>
                      <a:lnTo>
                        <a:pt x="39" y="31"/>
                      </a:lnTo>
                      <a:lnTo>
                        <a:pt x="43" y="29"/>
                      </a:lnTo>
                      <a:lnTo>
                        <a:pt x="53" y="35"/>
                      </a:lnTo>
                      <a:lnTo>
                        <a:pt x="60" y="35"/>
                      </a:lnTo>
                      <a:lnTo>
                        <a:pt x="60" y="29"/>
                      </a:lnTo>
                      <a:lnTo>
                        <a:pt x="64" y="29"/>
                      </a:lnTo>
                      <a:lnTo>
                        <a:pt x="71" y="23"/>
                      </a:lnTo>
                      <a:lnTo>
                        <a:pt x="65" y="23"/>
                      </a:lnTo>
                      <a:lnTo>
                        <a:pt x="65" y="13"/>
                      </a:lnTo>
                      <a:lnTo>
                        <a:pt x="65" y="6"/>
                      </a:lnTo>
                      <a:lnTo>
                        <a:pt x="57" y="5"/>
                      </a:lnTo>
                      <a:lnTo>
                        <a:pt x="50" y="6"/>
                      </a:lnTo>
                      <a:lnTo>
                        <a:pt x="42" y="6"/>
                      </a:lnTo>
                      <a:lnTo>
                        <a:pt x="32" y="5"/>
                      </a:lnTo>
                      <a:lnTo>
                        <a:pt x="24" y="0"/>
                      </a:lnTo>
                      <a:lnTo>
                        <a:pt x="20" y="5"/>
                      </a:lnTo>
                      <a:lnTo>
                        <a:pt x="20" y="13"/>
                      </a:lnTo>
                      <a:lnTo>
                        <a:pt x="13" y="13"/>
                      </a:lnTo>
                      <a:lnTo>
                        <a:pt x="10" y="23"/>
                      </a:lnTo>
                      <a:lnTo>
                        <a:pt x="6" y="26"/>
                      </a:lnTo>
                      <a:lnTo>
                        <a:pt x="0" y="35"/>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2" name=""/>
                <p:cNvSpPr/>
                <p:nvPr/>
              </p:nvSpPr>
              <p:spPr>
                <a:xfrm>
                  <a:off x="3802320" y="3881520"/>
                  <a:ext cx="357120" cy="690840"/>
                </a:xfrm>
                <a:custGeom>
                  <a:avLst/>
                  <a:gdLst/>
                  <a:ahLst/>
                  <a:rect l="l" t="t" r="r" b="b"/>
                  <a:pathLst>
                    <a:path w="459" h="955">
                      <a:moveTo>
                        <a:pt x="36" y="42"/>
                      </a:moveTo>
                      <a:lnTo>
                        <a:pt x="40" y="32"/>
                      </a:lnTo>
                      <a:lnTo>
                        <a:pt x="52" y="16"/>
                      </a:lnTo>
                      <a:lnTo>
                        <a:pt x="69" y="6"/>
                      </a:lnTo>
                      <a:lnTo>
                        <a:pt x="78" y="0"/>
                      </a:lnTo>
                      <a:lnTo>
                        <a:pt x="86" y="2"/>
                      </a:lnTo>
                      <a:lnTo>
                        <a:pt x="85" y="11"/>
                      </a:lnTo>
                      <a:lnTo>
                        <a:pt x="74" y="18"/>
                      </a:lnTo>
                      <a:lnTo>
                        <a:pt x="71" y="34"/>
                      </a:lnTo>
                      <a:lnTo>
                        <a:pt x="74" y="44"/>
                      </a:lnTo>
                      <a:lnTo>
                        <a:pt x="82" y="44"/>
                      </a:lnTo>
                      <a:lnTo>
                        <a:pt x="86" y="32"/>
                      </a:lnTo>
                      <a:lnTo>
                        <a:pt x="89" y="18"/>
                      </a:lnTo>
                      <a:lnTo>
                        <a:pt x="96" y="21"/>
                      </a:lnTo>
                      <a:lnTo>
                        <a:pt x="101" y="29"/>
                      </a:lnTo>
                      <a:lnTo>
                        <a:pt x="111" y="28"/>
                      </a:lnTo>
                      <a:lnTo>
                        <a:pt x="119" y="34"/>
                      </a:lnTo>
                      <a:lnTo>
                        <a:pt x="123" y="40"/>
                      </a:lnTo>
                      <a:lnTo>
                        <a:pt x="138" y="38"/>
                      </a:lnTo>
                      <a:lnTo>
                        <a:pt x="172" y="34"/>
                      </a:lnTo>
                      <a:lnTo>
                        <a:pt x="185" y="60"/>
                      </a:lnTo>
                      <a:lnTo>
                        <a:pt x="205" y="70"/>
                      </a:lnTo>
                      <a:lnTo>
                        <a:pt x="204" y="80"/>
                      </a:lnTo>
                      <a:lnTo>
                        <a:pt x="215" y="76"/>
                      </a:lnTo>
                      <a:lnTo>
                        <a:pt x="223" y="76"/>
                      </a:lnTo>
                      <a:lnTo>
                        <a:pt x="234" y="86"/>
                      </a:lnTo>
                      <a:lnTo>
                        <a:pt x="250" y="84"/>
                      </a:lnTo>
                      <a:lnTo>
                        <a:pt x="263" y="86"/>
                      </a:lnTo>
                      <a:lnTo>
                        <a:pt x="282" y="106"/>
                      </a:lnTo>
                      <a:lnTo>
                        <a:pt x="304" y="132"/>
                      </a:lnTo>
                      <a:lnTo>
                        <a:pt x="314" y="163"/>
                      </a:lnTo>
                      <a:lnTo>
                        <a:pt x="305" y="183"/>
                      </a:lnTo>
                      <a:lnTo>
                        <a:pt x="333" y="189"/>
                      </a:lnTo>
                      <a:lnTo>
                        <a:pt x="375" y="202"/>
                      </a:lnTo>
                      <a:lnTo>
                        <a:pt x="419" y="212"/>
                      </a:lnTo>
                      <a:lnTo>
                        <a:pt x="446" y="238"/>
                      </a:lnTo>
                      <a:lnTo>
                        <a:pt x="459" y="261"/>
                      </a:lnTo>
                      <a:lnTo>
                        <a:pt x="459" y="290"/>
                      </a:lnTo>
                      <a:lnTo>
                        <a:pt x="448" y="316"/>
                      </a:lnTo>
                      <a:lnTo>
                        <a:pt x="436" y="331"/>
                      </a:lnTo>
                      <a:lnTo>
                        <a:pt x="427" y="342"/>
                      </a:lnTo>
                      <a:lnTo>
                        <a:pt x="419" y="363"/>
                      </a:lnTo>
                      <a:lnTo>
                        <a:pt x="418" y="379"/>
                      </a:lnTo>
                      <a:lnTo>
                        <a:pt x="419" y="399"/>
                      </a:lnTo>
                      <a:lnTo>
                        <a:pt x="414" y="423"/>
                      </a:lnTo>
                      <a:lnTo>
                        <a:pt x="409" y="428"/>
                      </a:lnTo>
                      <a:lnTo>
                        <a:pt x="405" y="441"/>
                      </a:lnTo>
                      <a:lnTo>
                        <a:pt x="396" y="451"/>
                      </a:lnTo>
                      <a:lnTo>
                        <a:pt x="395" y="461"/>
                      </a:lnTo>
                      <a:lnTo>
                        <a:pt x="386" y="473"/>
                      </a:lnTo>
                      <a:lnTo>
                        <a:pt x="371" y="493"/>
                      </a:lnTo>
                      <a:lnTo>
                        <a:pt x="356" y="502"/>
                      </a:lnTo>
                      <a:lnTo>
                        <a:pt x="348" y="499"/>
                      </a:lnTo>
                      <a:lnTo>
                        <a:pt x="331" y="513"/>
                      </a:lnTo>
                      <a:lnTo>
                        <a:pt x="315" y="534"/>
                      </a:lnTo>
                      <a:lnTo>
                        <a:pt x="309" y="545"/>
                      </a:lnTo>
                      <a:lnTo>
                        <a:pt x="309" y="557"/>
                      </a:lnTo>
                      <a:lnTo>
                        <a:pt x="315" y="571"/>
                      </a:lnTo>
                      <a:lnTo>
                        <a:pt x="305" y="586"/>
                      </a:lnTo>
                      <a:lnTo>
                        <a:pt x="305" y="596"/>
                      </a:lnTo>
                      <a:lnTo>
                        <a:pt x="293" y="612"/>
                      </a:lnTo>
                      <a:lnTo>
                        <a:pt x="285" y="618"/>
                      </a:lnTo>
                      <a:lnTo>
                        <a:pt x="275" y="632"/>
                      </a:lnTo>
                      <a:lnTo>
                        <a:pt x="272" y="648"/>
                      </a:lnTo>
                      <a:lnTo>
                        <a:pt x="260" y="664"/>
                      </a:lnTo>
                      <a:lnTo>
                        <a:pt x="257" y="661"/>
                      </a:lnTo>
                      <a:lnTo>
                        <a:pt x="248" y="661"/>
                      </a:lnTo>
                      <a:lnTo>
                        <a:pt x="235" y="668"/>
                      </a:lnTo>
                      <a:lnTo>
                        <a:pt x="245" y="676"/>
                      </a:lnTo>
                      <a:lnTo>
                        <a:pt x="245" y="692"/>
                      </a:lnTo>
                      <a:lnTo>
                        <a:pt x="245" y="702"/>
                      </a:lnTo>
                      <a:lnTo>
                        <a:pt x="238" y="712"/>
                      </a:lnTo>
                      <a:lnTo>
                        <a:pt x="223" y="716"/>
                      </a:lnTo>
                      <a:lnTo>
                        <a:pt x="212" y="720"/>
                      </a:lnTo>
                      <a:lnTo>
                        <a:pt x="206" y="728"/>
                      </a:lnTo>
                      <a:lnTo>
                        <a:pt x="206" y="744"/>
                      </a:lnTo>
                      <a:lnTo>
                        <a:pt x="193" y="747"/>
                      </a:lnTo>
                      <a:lnTo>
                        <a:pt x="182" y="744"/>
                      </a:lnTo>
                      <a:lnTo>
                        <a:pt x="179" y="752"/>
                      </a:lnTo>
                      <a:lnTo>
                        <a:pt x="185" y="760"/>
                      </a:lnTo>
                      <a:lnTo>
                        <a:pt x="182" y="780"/>
                      </a:lnTo>
                      <a:lnTo>
                        <a:pt x="176" y="800"/>
                      </a:lnTo>
                      <a:lnTo>
                        <a:pt x="162" y="800"/>
                      </a:lnTo>
                      <a:lnTo>
                        <a:pt x="156" y="810"/>
                      </a:lnTo>
                      <a:lnTo>
                        <a:pt x="157" y="826"/>
                      </a:lnTo>
                      <a:lnTo>
                        <a:pt x="168" y="826"/>
                      </a:lnTo>
                      <a:lnTo>
                        <a:pt x="172" y="835"/>
                      </a:lnTo>
                      <a:lnTo>
                        <a:pt x="169" y="851"/>
                      </a:lnTo>
                      <a:lnTo>
                        <a:pt x="161" y="851"/>
                      </a:lnTo>
                      <a:lnTo>
                        <a:pt x="149" y="858"/>
                      </a:lnTo>
                      <a:lnTo>
                        <a:pt x="145" y="870"/>
                      </a:lnTo>
                      <a:lnTo>
                        <a:pt x="145" y="890"/>
                      </a:lnTo>
                      <a:lnTo>
                        <a:pt x="137" y="899"/>
                      </a:lnTo>
                      <a:lnTo>
                        <a:pt x="164" y="931"/>
                      </a:lnTo>
                      <a:lnTo>
                        <a:pt x="172" y="945"/>
                      </a:lnTo>
                      <a:lnTo>
                        <a:pt x="168" y="955"/>
                      </a:lnTo>
                      <a:lnTo>
                        <a:pt x="156" y="948"/>
                      </a:lnTo>
                      <a:lnTo>
                        <a:pt x="145" y="936"/>
                      </a:lnTo>
                      <a:lnTo>
                        <a:pt x="131" y="926"/>
                      </a:lnTo>
                      <a:lnTo>
                        <a:pt x="117" y="910"/>
                      </a:lnTo>
                      <a:lnTo>
                        <a:pt x="107" y="894"/>
                      </a:lnTo>
                      <a:lnTo>
                        <a:pt x="107" y="877"/>
                      </a:lnTo>
                      <a:lnTo>
                        <a:pt x="108" y="864"/>
                      </a:lnTo>
                      <a:lnTo>
                        <a:pt x="107" y="762"/>
                      </a:lnTo>
                      <a:lnTo>
                        <a:pt x="104" y="744"/>
                      </a:lnTo>
                      <a:lnTo>
                        <a:pt x="96" y="723"/>
                      </a:lnTo>
                      <a:lnTo>
                        <a:pt x="96" y="707"/>
                      </a:lnTo>
                      <a:lnTo>
                        <a:pt x="101" y="687"/>
                      </a:lnTo>
                      <a:lnTo>
                        <a:pt x="107" y="661"/>
                      </a:lnTo>
                      <a:lnTo>
                        <a:pt x="104" y="635"/>
                      </a:lnTo>
                      <a:lnTo>
                        <a:pt x="103" y="626"/>
                      </a:lnTo>
                      <a:lnTo>
                        <a:pt x="103" y="613"/>
                      </a:lnTo>
                      <a:lnTo>
                        <a:pt x="106" y="606"/>
                      </a:lnTo>
                      <a:lnTo>
                        <a:pt x="107" y="577"/>
                      </a:lnTo>
                      <a:lnTo>
                        <a:pt x="106" y="564"/>
                      </a:lnTo>
                      <a:lnTo>
                        <a:pt x="110" y="529"/>
                      </a:lnTo>
                      <a:lnTo>
                        <a:pt x="106" y="499"/>
                      </a:lnTo>
                      <a:lnTo>
                        <a:pt x="108" y="486"/>
                      </a:lnTo>
                      <a:lnTo>
                        <a:pt x="114" y="454"/>
                      </a:lnTo>
                      <a:lnTo>
                        <a:pt x="108" y="435"/>
                      </a:lnTo>
                      <a:lnTo>
                        <a:pt x="97" y="421"/>
                      </a:lnTo>
                      <a:lnTo>
                        <a:pt x="96" y="408"/>
                      </a:lnTo>
                      <a:lnTo>
                        <a:pt x="82" y="392"/>
                      </a:lnTo>
                      <a:lnTo>
                        <a:pt x="69" y="383"/>
                      </a:lnTo>
                      <a:lnTo>
                        <a:pt x="51" y="379"/>
                      </a:lnTo>
                      <a:lnTo>
                        <a:pt x="40" y="355"/>
                      </a:lnTo>
                      <a:lnTo>
                        <a:pt x="29" y="337"/>
                      </a:lnTo>
                      <a:lnTo>
                        <a:pt x="27" y="316"/>
                      </a:lnTo>
                      <a:lnTo>
                        <a:pt x="26" y="303"/>
                      </a:lnTo>
                      <a:lnTo>
                        <a:pt x="23" y="290"/>
                      </a:lnTo>
                      <a:lnTo>
                        <a:pt x="16" y="279"/>
                      </a:lnTo>
                      <a:lnTo>
                        <a:pt x="8" y="273"/>
                      </a:lnTo>
                      <a:lnTo>
                        <a:pt x="0" y="261"/>
                      </a:lnTo>
                      <a:lnTo>
                        <a:pt x="8" y="248"/>
                      </a:lnTo>
                      <a:lnTo>
                        <a:pt x="8" y="222"/>
                      </a:lnTo>
                      <a:lnTo>
                        <a:pt x="5" y="209"/>
                      </a:lnTo>
                      <a:lnTo>
                        <a:pt x="0" y="193"/>
                      </a:lnTo>
                      <a:lnTo>
                        <a:pt x="5" y="174"/>
                      </a:lnTo>
                      <a:lnTo>
                        <a:pt x="22" y="122"/>
                      </a:lnTo>
                      <a:lnTo>
                        <a:pt x="23" y="102"/>
                      </a:lnTo>
                      <a:lnTo>
                        <a:pt x="33" y="80"/>
                      </a:lnTo>
                      <a:lnTo>
                        <a:pt x="33" y="66"/>
                      </a:lnTo>
                      <a:lnTo>
                        <a:pt x="36" y="4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 name=""/>
            <p:cNvGrpSpPr/>
            <p:nvPr/>
          </p:nvGrpSpPr>
          <p:grpSpPr>
            <a:xfrm>
              <a:off x="3929760" y="3720240"/>
              <a:ext cx="1238760" cy="2070720"/>
              <a:chOff x="3929760" y="3720240"/>
              <a:chExt cx="1238760" cy="2070720"/>
            </a:xfrm>
          </p:grpSpPr>
          <p:sp>
            <p:nvSpPr>
              <p:cNvPr id="134" name=""/>
              <p:cNvSpPr/>
              <p:nvPr/>
            </p:nvSpPr>
            <p:spPr>
              <a:xfrm>
                <a:off x="3929760" y="3720240"/>
                <a:ext cx="767880" cy="2070720"/>
              </a:xfrm>
              <a:custGeom>
                <a:avLst/>
                <a:gdLst/>
                <a:ahLst/>
                <a:rect l="l" t="t" r="r" b="b"/>
                <a:pathLst>
                  <a:path w="984" h="2860">
                    <a:moveTo>
                      <a:pt x="375" y="89"/>
                    </a:moveTo>
                    <a:lnTo>
                      <a:pt x="337" y="119"/>
                    </a:lnTo>
                    <a:lnTo>
                      <a:pt x="298" y="167"/>
                    </a:lnTo>
                    <a:lnTo>
                      <a:pt x="288" y="199"/>
                    </a:lnTo>
                    <a:lnTo>
                      <a:pt x="304" y="265"/>
                    </a:lnTo>
                    <a:lnTo>
                      <a:pt x="304" y="305"/>
                    </a:lnTo>
                    <a:lnTo>
                      <a:pt x="331" y="367"/>
                    </a:lnTo>
                    <a:lnTo>
                      <a:pt x="358" y="386"/>
                    </a:lnTo>
                    <a:lnTo>
                      <a:pt x="351" y="435"/>
                    </a:lnTo>
                    <a:lnTo>
                      <a:pt x="321" y="477"/>
                    </a:lnTo>
                    <a:lnTo>
                      <a:pt x="166" y="555"/>
                    </a:lnTo>
                    <a:lnTo>
                      <a:pt x="0" y="954"/>
                    </a:lnTo>
                    <a:lnTo>
                      <a:pt x="183" y="1262"/>
                    </a:lnTo>
                    <a:lnTo>
                      <a:pt x="242" y="1112"/>
                    </a:lnTo>
                    <a:lnTo>
                      <a:pt x="194" y="1048"/>
                    </a:lnTo>
                    <a:lnTo>
                      <a:pt x="165" y="991"/>
                    </a:lnTo>
                    <a:lnTo>
                      <a:pt x="145" y="945"/>
                    </a:lnTo>
                    <a:lnTo>
                      <a:pt x="199" y="865"/>
                    </a:lnTo>
                    <a:lnTo>
                      <a:pt x="280" y="1096"/>
                    </a:lnTo>
                    <a:lnTo>
                      <a:pt x="243" y="1110"/>
                    </a:lnTo>
                    <a:lnTo>
                      <a:pt x="203" y="1212"/>
                    </a:lnTo>
                    <a:lnTo>
                      <a:pt x="260" y="1259"/>
                    </a:lnTo>
                    <a:lnTo>
                      <a:pt x="226" y="1637"/>
                    </a:lnTo>
                    <a:lnTo>
                      <a:pt x="251" y="1637"/>
                    </a:lnTo>
                    <a:lnTo>
                      <a:pt x="227" y="2075"/>
                    </a:lnTo>
                    <a:lnTo>
                      <a:pt x="217" y="2279"/>
                    </a:lnTo>
                    <a:lnTo>
                      <a:pt x="226" y="2746"/>
                    </a:lnTo>
                    <a:lnTo>
                      <a:pt x="256" y="2757"/>
                    </a:lnTo>
                    <a:lnTo>
                      <a:pt x="260" y="2825"/>
                    </a:lnTo>
                    <a:lnTo>
                      <a:pt x="279" y="2840"/>
                    </a:lnTo>
                    <a:lnTo>
                      <a:pt x="314" y="2847"/>
                    </a:lnTo>
                    <a:lnTo>
                      <a:pt x="350" y="2836"/>
                    </a:lnTo>
                    <a:lnTo>
                      <a:pt x="371" y="2814"/>
                    </a:lnTo>
                    <a:lnTo>
                      <a:pt x="375" y="2749"/>
                    </a:lnTo>
                    <a:lnTo>
                      <a:pt x="402" y="2723"/>
                    </a:lnTo>
                    <a:lnTo>
                      <a:pt x="402" y="2314"/>
                    </a:lnTo>
                    <a:lnTo>
                      <a:pt x="424" y="1927"/>
                    </a:lnTo>
                    <a:lnTo>
                      <a:pt x="460" y="1671"/>
                    </a:lnTo>
                    <a:lnTo>
                      <a:pt x="486" y="1669"/>
                    </a:lnTo>
                    <a:lnTo>
                      <a:pt x="530" y="2033"/>
                    </a:lnTo>
                    <a:lnTo>
                      <a:pt x="546" y="2084"/>
                    </a:lnTo>
                    <a:lnTo>
                      <a:pt x="570" y="2430"/>
                    </a:lnTo>
                    <a:lnTo>
                      <a:pt x="605" y="2727"/>
                    </a:lnTo>
                    <a:lnTo>
                      <a:pt x="625" y="2752"/>
                    </a:lnTo>
                    <a:lnTo>
                      <a:pt x="626" y="2840"/>
                    </a:lnTo>
                    <a:lnTo>
                      <a:pt x="642" y="2860"/>
                    </a:lnTo>
                    <a:lnTo>
                      <a:pt x="663" y="2857"/>
                    </a:lnTo>
                    <a:lnTo>
                      <a:pt x="689" y="2860"/>
                    </a:lnTo>
                    <a:lnTo>
                      <a:pt x="727" y="2834"/>
                    </a:lnTo>
                    <a:lnTo>
                      <a:pt x="763" y="2804"/>
                    </a:lnTo>
                    <a:lnTo>
                      <a:pt x="805" y="2788"/>
                    </a:lnTo>
                    <a:lnTo>
                      <a:pt x="866" y="2720"/>
                    </a:lnTo>
                    <a:lnTo>
                      <a:pt x="871" y="2691"/>
                    </a:lnTo>
                    <a:lnTo>
                      <a:pt x="852" y="2673"/>
                    </a:lnTo>
                    <a:lnTo>
                      <a:pt x="778" y="2685"/>
                    </a:lnTo>
                    <a:lnTo>
                      <a:pt x="790" y="2668"/>
                    </a:lnTo>
                    <a:lnTo>
                      <a:pt x="701" y="2116"/>
                    </a:lnTo>
                    <a:lnTo>
                      <a:pt x="711" y="2053"/>
                    </a:lnTo>
                    <a:lnTo>
                      <a:pt x="701" y="1969"/>
                    </a:lnTo>
                    <a:lnTo>
                      <a:pt x="686" y="1614"/>
                    </a:lnTo>
                    <a:lnTo>
                      <a:pt x="713" y="1552"/>
                    </a:lnTo>
                    <a:lnTo>
                      <a:pt x="635" y="1112"/>
                    </a:lnTo>
                    <a:lnTo>
                      <a:pt x="635" y="961"/>
                    </a:lnTo>
                    <a:lnTo>
                      <a:pt x="660" y="693"/>
                    </a:lnTo>
                    <a:lnTo>
                      <a:pt x="748" y="654"/>
                    </a:lnTo>
                    <a:lnTo>
                      <a:pt x="825" y="591"/>
                    </a:lnTo>
                    <a:lnTo>
                      <a:pt x="845" y="549"/>
                    </a:lnTo>
                    <a:lnTo>
                      <a:pt x="925" y="344"/>
                    </a:lnTo>
                    <a:lnTo>
                      <a:pt x="903" y="283"/>
                    </a:lnTo>
                    <a:lnTo>
                      <a:pt x="916" y="277"/>
                    </a:lnTo>
                    <a:lnTo>
                      <a:pt x="930" y="265"/>
                    </a:lnTo>
                    <a:lnTo>
                      <a:pt x="945" y="235"/>
                    </a:lnTo>
                    <a:lnTo>
                      <a:pt x="956" y="205"/>
                    </a:lnTo>
                    <a:lnTo>
                      <a:pt x="955" y="184"/>
                    </a:lnTo>
                    <a:lnTo>
                      <a:pt x="964" y="148"/>
                    </a:lnTo>
                    <a:lnTo>
                      <a:pt x="958" y="135"/>
                    </a:lnTo>
                    <a:lnTo>
                      <a:pt x="962" y="106"/>
                    </a:lnTo>
                    <a:lnTo>
                      <a:pt x="956" y="87"/>
                    </a:lnTo>
                    <a:lnTo>
                      <a:pt x="973" y="32"/>
                    </a:lnTo>
                    <a:lnTo>
                      <a:pt x="984" y="5"/>
                    </a:lnTo>
                    <a:lnTo>
                      <a:pt x="977" y="0"/>
                    </a:lnTo>
                    <a:lnTo>
                      <a:pt x="967" y="15"/>
                    </a:lnTo>
                    <a:lnTo>
                      <a:pt x="956" y="41"/>
                    </a:lnTo>
                    <a:lnTo>
                      <a:pt x="937" y="79"/>
                    </a:lnTo>
                    <a:lnTo>
                      <a:pt x="915" y="132"/>
                    </a:lnTo>
                    <a:lnTo>
                      <a:pt x="893" y="139"/>
                    </a:lnTo>
                    <a:lnTo>
                      <a:pt x="890" y="113"/>
                    </a:lnTo>
                    <a:lnTo>
                      <a:pt x="889" y="89"/>
                    </a:lnTo>
                    <a:lnTo>
                      <a:pt x="885" y="68"/>
                    </a:lnTo>
                    <a:lnTo>
                      <a:pt x="874" y="61"/>
                    </a:lnTo>
                    <a:lnTo>
                      <a:pt x="878" y="95"/>
                    </a:lnTo>
                    <a:lnTo>
                      <a:pt x="856" y="151"/>
                    </a:lnTo>
                    <a:lnTo>
                      <a:pt x="849" y="250"/>
                    </a:lnTo>
                    <a:lnTo>
                      <a:pt x="842" y="236"/>
                    </a:lnTo>
                    <a:lnTo>
                      <a:pt x="794" y="393"/>
                    </a:lnTo>
                    <a:lnTo>
                      <a:pt x="770" y="432"/>
                    </a:lnTo>
                    <a:lnTo>
                      <a:pt x="773" y="445"/>
                    </a:lnTo>
                    <a:lnTo>
                      <a:pt x="760" y="435"/>
                    </a:lnTo>
                    <a:lnTo>
                      <a:pt x="731" y="455"/>
                    </a:lnTo>
                    <a:lnTo>
                      <a:pt x="623" y="468"/>
                    </a:lnTo>
                    <a:lnTo>
                      <a:pt x="528" y="455"/>
                    </a:lnTo>
                    <a:lnTo>
                      <a:pt x="515" y="470"/>
                    </a:lnTo>
                    <a:lnTo>
                      <a:pt x="489" y="442"/>
                    </a:lnTo>
                    <a:lnTo>
                      <a:pt x="519" y="328"/>
                    </a:lnTo>
                    <a:lnTo>
                      <a:pt x="513" y="283"/>
                    </a:lnTo>
                    <a:lnTo>
                      <a:pt x="522" y="250"/>
                    </a:lnTo>
                    <a:lnTo>
                      <a:pt x="522" y="200"/>
                    </a:lnTo>
                    <a:lnTo>
                      <a:pt x="542" y="183"/>
                    </a:lnTo>
                    <a:lnTo>
                      <a:pt x="531" y="181"/>
                    </a:lnTo>
                    <a:lnTo>
                      <a:pt x="541" y="168"/>
                    </a:lnTo>
                    <a:lnTo>
                      <a:pt x="505" y="148"/>
                    </a:lnTo>
                    <a:lnTo>
                      <a:pt x="476" y="110"/>
                    </a:lnTo>
                    <a:lnTo>
                      <a:pt x="445" y="100"/>
                    </a:lnTo>
                    <a:lnTo>
                      <a:pt x="408" y="77"/>
                    </a:lnTo>
                    <a:lnTo>
                      <a:pt x="37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5" name=""/>
              <p:cNvGrpSpPr/>
              <p:nvPr/>
            </p:nvGrpSpPr>
            <p:grpSpPr>
              <a:xfrm>
                <a:off x="4641480" y="3738960"/>
                <a:ext cx="527040" cy="2007360"/>
                <a:chOff x="4641480" y="3738960"/>
                <a:chExt cx="527040" cy="2007360"/>
              </a:xfrm>
            </p:grpSpPr>
            <p:sp>
              <p:nvSpPr>
                <p:cNvPr id="136" name=""/>
                <p:cNvSpPr/>
                <p:nvPr/>
              </p:nvSpPr>
              <p:spPr>
                <a:xfrm>
                  <a:off x="4641480" y="3738960"/>
                  <a:ext cx="527040" cy="2007360"/>
                </a:xfrm>
                <a:custGeom>
                  <a:avLst/>
                  <a:gdLst/>
                  <a:ahLst/>
                  <a:rect l="l" t="t" r="r" b="b"/>
                  <a:pathLst>
                    <a:path w="676" h="2772">
                      <a:moveTo>
                        <a:pt x="166" y="106"/>
                      </a:moveTo>
                      <a:lnTo>
                        <a:pt x="188" y="51"/>
                      </a:lnTo>
                      <a:lnTo>
                        <a:pt x="240" y="28"/>
                      </a:lnTo>
                      <a:lnTo>
                        <a:pt x="287" y="2"/>
                      </a:lnTo>
                      <a:lnTo>
                        <a:pt x="316" y="0"/>
                      </a:lnTo>
                      <a:lnTo>
                        <a:pt x="347" y="21"/>
                      </a:lnTo>
                      <a:lnTo>
                        <a:pt x="360" y="31"/>
                      </a:lnTo>
                      <a:lnTo>
                        <a:pt x="413" y="93"/>
                      </a:lnTo>
                      <a:lnTo>
                        <a:pt x="427" y="166"/>
                      </a:lnTo>
                      <a:lnTo>
                        <a:pt x="399" y="252"/>
                      </a:lnTo>
                      <a:lnTo>
                        <a:pt x="399" y="276"/>
                      </a:lnTo>
                      <a:lnTo>
                        <a:pt x="406" y="267"/>
                      </a:lnTo>
                      <a:lnTo>
                        <a:pt x="417" y="293"/>
                      </a:lnTo>
                      <a:lnTo>
                        <a:pt x="426" y="281"/>
                      </a:lnTo>
                      <a:lnTo>
                        <a:pt x="443" y="339"/>
                      </a:lnTo>
                      <a:lnTo>
                        <a:pt x="538" y="422"/>
                      </a:lnTo>
                      <a:lnTo>
                        <a:pt x="549" y="438"/>
                      </a:lnTo>
                      <a:lnTo>
                        <a:pt x="602" y="634"/>
                      </a:lnTo>
                      <a:lnTo>
                        <a:pt x="676" y="887"/>
                      </a:lnTo>
                      <a:lnTo>
                        <a:pt x="676" y="925"/>
                      </a:lnTo>
                      <a:lnTo>
                        <a:pt x="556" y="1106"/>
                      </a:lnTo>
                      <a:lnTo>
                        <a:pt x="623" y="1442"/>
                      </a:lnTo>
                      <a:lnTo>
                        <a:pt x="521" y="1555"/>
                      </a:lnTo>
                      <a:lnTo>
                        <a:pt x="524" y="1908"/>
                      </a:lnTo>
                      <a:lnTo>
                        <a:pt x="545" y="2288"/>
                      </a:lnTo>
                      <a:lnTo>
                        <a:pt x="530" y="2501"/>
                      </a:lnTo>
                      <a:lnTo>
                        <a:pt x="528" y="2659"/>
                      </a:lnTo>
                      <a:lnTo>
                        <a:pt x="489" y="2681"/>
                      </a:lnTo>
                      <a:lnTo>
                        <a:pt x="454" y="2675"/>
                      </a:lnTo>
                      <a:lnTo>
                        <a:pt x="426" y="2659"/>
                      </a:lnTo>
                      <a:lnTo>
                        <a:pt x="386" y="2659"/>
                      </a:lnTo>
                      <a:lnTo>
                        <a:pt x="341" y="2663"/>
                      </a:lnTo>
                      <a:lnTo>
                        <a:pt x="324" y="2653"/>
                      </a:lnTo>
                      <a:lnTo>
                        <a:pt x="310" y="2756"/>
                      </a:lnTo>
                      <a:lnTo>
                        <a:pt x="224" y="2763"/>
                      </a:lnTo>
                      <a:lnTo>
                        <a:pt x="206" y="2752"/>
                      </a:lnTo>
                      <a:lnTo>
                        <a:pt x="150" y="2763"/>
                      </a:lnTo>
                      <a:lnTo>
                        <a:pt x="46" y="2772"/>
                      </a:lnTo>
                      <a:lnTo>
                        <a:pt x="0" y="2757"/>
                      </a:lnTo>
                      <a:lnTo>
                        <a:pt x="0" y="2713"/>
                      </a:lnTo>
                      <a:lnTo>
                        <a:pt x="98" y="2668"/>
                      </a:lnTo>
                      <a:lnTo>
                        <a:pt x="139" y="2611"/>
                      </a:lnTo>
                      <a:lnTo>
                        <a:pt x="158" y="2288"/>
                      </a:lnTo>
                      <a:lnTo>
                        <a:pt x="175" y="2003"/>
                      </a:lnTo>
                      <a:lnTo>
                        <a:pt x="157" y="1919"/>
                      </a:lnTo>
                      <a:lnTo>
                        <a:pt x="179" y="1638"/>
                      </a:lnTo>
                      <a:lnTo>
                        <a:pt x="200" y="1396"/>
                      </a:lnTo>
                      <a:lnTo>
                        <a:pt x="190" y="1314"/>
                      </a:lnTo>
                      <a:lnTo>
                        <a:pt x="183" y="1248"/>
                      </a:lnTo>
                      <a:lnTo>
                        <a:pt x="191" y="1106"/>
                      </a:lnTo>
                      <a:lnTo>
                        <a:pt x="183" y="1074"/>
                      </a:lnTo>
                      <a:lnTo>
                        <a:pt x="183" y="973"/>
                      </a:lnTo>
                      <a:lnTo>
                        <a:pt x="183" y="881"/>
                      </a:lnTo>
                      <a:lnTo>
                        <a:pt x="240" y="570"/>
                      </a:lnTo>
                      <a:lnTo>
                        <a:pt x="257" y="526"/>
                      </a:lnTo>
                      <a:lnTo>
                        <a:pt x="269" y="474"/>
                      </a:lnTo>
                      <a:lnTo>
                        <a:pt x="269" y="450"/>
                      </a:lnTo>
                      <a:lnTo>
                        <a:pt x="288" y="392"/>
                      </a:lnTo>
                      <a:lnTo>
                        <a:pt x="298" y="383"/>
                      </a:lnTo>
                      <a:lnTo>
                        <a:pt x="287" y="370"/>
                      </a:lnTo>
                      <a:lnTo>
                        <a:pt x="235" y="380"/>
                      </a:lnTo>
                      <a:lnTo>
                        <a:pt x="225" y="367"/>
                      </a:lnTo>
                      <a:lnTo>
                        <a:pt x="220" y="341"/>
                      </a:lnTo>
                      <a:lnTo>
                        <a:pt x="212" y="331"/>
                      </a:lnTo>
                      <a:lnTo>
                        <a:pt x="209" y="318"/>
                      </a:lnTo>
                      <a:lnTo>
                        <a:pt x="209" y="299"/>
                      </a:lnTo>
                      <a:lnTo>
                        <a:pt x="207" y="287"/>
                      </a:lnTo>
                      <a:lnTo>
                        <a:pt x="183" y="281"/>
                      </a:lnTo>
                      <a:lnTo>
                        <a:pt x="198" y="215"/>
                      </a:lnTo>
                      <a:lnTo>
                        <a:pt x="187" y="192"/>
                      </a:lnTo>
                      <a:lnTo>
                        <a:pt x="191" y="129"/>
                      </a:lnTo>
                      <a:lnTo>
                        <a:pt x="16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783320" y="3931200"/>
                  <a:ext cx="185400" cy="567720"/>
                </a:xfrm>
                <a:custGeom>
                  <a:avLst/>
                  <a:gdLst/>
                  <a:ahLst/>
                  <a:rect l="l" t="t" r="r" b="b"/>
                  <a:pathLst>
                    <a:path w="239" h="782">
                      <a:moveTo>
                        <a:pt x="227" y="0"/>
                      </a:moveTo>
                      <a:lnTo>
                        <a:pt x="239" y="36"/>
                      </a:lnTo>
                      <a:lnTo>
                        <a:pt x="88" y="403"/>
                      </a:lnTo>
                      <a:lnTo>
                        <a:pt x="80" y="666"/>
                      </a:lnTo>
                      <a:lnTo>
                        <a:pt x="139" y="768"/>
                      </a:lnTo>
                      <a:lnTo>
                        <a:pt x="0" y="782"/>
                      </a:lnTo>
                      <a:lnTo>
                        <a:pt x="0" y="591"/>
                      </a:lnTo>
                      <a:lnTo>
                        <a:pt x="59" y="307"/>
                      </a:lnTo>
                      <a:lnTo>
                        <a:pt x="88" y="210"/>
                      </a:lnTo>
                      <a:lnTo>
                        <a:pt x="124" y="172"/>
                      </a:lnTo>
                      <a:lnTo>
                        <a:pt x="107" y="125"/>
                      </a:lnTo>
                      <a:lnTo>
                        <a:pt x="2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781880" y="4025520"/>
                  <a:ext cx="98280" cy="359280"/>
                </a:xfrm>
                <a:custGeom>
                  <a:avLst/>
                  <a:gdLst/>
                  <a:ahLst/>
                  <a:rect l="l" t="t" r="r" b="b"/>
                  <a:pathLst>
                    <a:path w="127" h="497">
                      <a:moveTo>
                        <a:pt x="108" y="0"/>
                      </a:moveTo>
                      <a:lnTo>
                        <a:pt x="127" y="46"/>
                      </a:lnTo>
                      <a:lnTo>
                        <a:pt x="100" y="80"/>
                      </a:lnTo>
                      <a:lnTo>
                        <a:pt x="33" y="481"/>
                      </a:lnTo>
                      <a:lnTo>
                        <a:pt x="9" y="497"/>
                      </a:lnTo>
                      <a:lnTo>
                        <a:pt x="0" y="465"/>
                      </a:lnTo>
                      <a:lnTo>
                        <a:pt x="61" y="180"/>
                      </a:lnTo>
                      <a:lnTo>
                        <a:pt x="72" y="142"/>
                      </a:lnTo>
                      <a:lnTo>
                        <a:pt x="92" y="80"/>
                      </a:lnTo>
                      <a:lnTo>
                        <a:pt x="90" y="55"/>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C58A3154-9E02-49F1-9A4C-062F37904C6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CAÙC HOAÏT ÑOÄNG</a:t>
            </a:r>
            <a:br>
              <a:rPr sz="3400"/>
            </a:br>
            <a:r>
              <a:rPr b="1" lang="en-US" sz="3400" spc="-1" strike="noStrike">
                <a:solidFill>
                  <a:srgbClr val="ffff00"/>
                </a:solidFill>
                <a:latin typeface="VNI-Helve"/>
              </a:rPr>
              <a:t>Taøi chính</a:t>
            </a:r>
            <a:endParaRPr b="1" i="1" lang="en-US" sz="3400" spc="-1" strike="noStrike">
              <a:solidFill>
                <a:srgbClr val="ffff00"/>
              </a:solidFill>
              <a:latin typeface="VNI-Helve"/>
            </a:endParaRPr>
          </a:p>
        </p:txBody>
      </p:sp>
      <p:sp>
        <p:nvSpPr>
          <p:cNvPr id="301"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huy ñoäng voá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boå nguoàn voá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ính saùch coå töùc</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taêng tröôûng</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sinh lôïi</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thanh toaù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oøn caân nôï</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BE8752C2-44E3-4FE2-B835-FDD48D593CF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CAÙC HOAÏT ÑOÄNG</a:t>
            </a:r>
            <a:br>
              <a:rPr sz="3400"/>
            </a:br>
            <a:r>
              <a:rPr b="1" lang="en-US" sz="3400" spc="-1" strike="noStrike">
                <a:solidFill>
                  <a:srgbClr val="ffff00"/>
                </a:solidFill>
                <a:latin typeface="VNI-Helve"/>
              </a:rPr>
              <a:t>Nhaân söï</a:t>
            </a:r>
            <a:endParaRPr b="1" i="1" lang="en-US" sz="3400" spc="-1" strike="noStrike">
              <a:solidFill>
                <a:srgbClr val="ffff00"/>
              </a:solidFill>
              <a:latin typeface="VNI-Helve"/>
            </a:endParaRPr>
          </a:p>
        </p:txBody>
      </p:sp>
      <p:sp>
        <p:nvSpPr>
          <p:cNvPr id="303"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aân löïc chuû choát</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rình ñoä tay ngheà</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rình ñoä chuyeân moâ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ñoä oån ñònh</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ính saùch thu huùt nguoàn nhaân löïc</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ính saùch ñaøo taïo vaø phaùt trieå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ính saùch duy trì nguoàn nhaân löïc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884F922C-6980-470F-82CB-69CFD257E02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CAÙC HOAÏT ÑOÄNG</a:t>
            </a:r>
            <a:br>
              <a:rPr sz="3400"/>
            </a:br>
            <a:r>
              <a:rPr b="1" lang="en-US" sz="3400" spc="-1" strike="noStrike">
                <a:solidFill>
                  <a:srgbClr val="ffff00"/>
                </a:solidFill>
                <a:latin typeface="VNI-Helve"/>
              </a:rPr>
              <a:t>Vaên hoùa coâng ty</a:t>
            </a:r>
            <a:endParaRPr b="1" i="1" lang="en-US" sz="3400" spc="-1" strike="noStrike">
              <a:solidFill>
                <a:srgbClr val="ffff00"/>
              </a:solidFill>
              <a:latin typeface="VNI-Helve"/>
            </a:endParaRPr>
          </a:p>
        </p:txBody>
      </p:sp>
      <p:sp>
        <p:nvSpPr>
          <p:cNvPr id="305" name="PlaceHolder 2"/>
          <p:cNvSpPr>
            <a:spLocks noGrp="1"/>
          </p:cNvSpPr>
          <p:nvPr>
            <p:ph/>
          </p:nvPr>
        </p:nvSpPr>
        <p:spPr>
          <a:xfrm>
            <a:off x="457200" y="1904760"/>
            <a:ext cx="8305920" cy="4724280"/>
          </a:xfrm>
          <a:prstGeom prst="rect">
            <a:avLst/>
          </a:prstGeom>
          <a:noFill/>
          <a:ln w="0">
            <a:noFill/>
          </a:ln>
        </p:spPr>
        <p:txBody>
          <a:bodyPr lIns="90000" rIns="90000" tIns="46800" bIns="46800" anchor="t">
            <a:normAutofit fontScale="99000"/>
          </a:bodyPr>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Vaên hoùa laø taäp hôïp caùc giaù trò, nieàm tin, thaùi ñoä, taäp quaùn, qui ñònh, caù tính vaø nhöõng gì duøng ñeå moâ taû coâng ty. </a:t>
            </a:r>
            <a:endParaRPr b="0" lang="en-US" sz="2800" spc="-1" strike="noStrike">
              <a:solidFill>
                <a:srgbClr val="000000"/>
              </a:solidFill>
              <a:latin typeface="VNI-Helve"/>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35480" indent="-2829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eä thoáng caùc quan ñieåm, trieát lyù kinh doanh</a:t>
            </a:r>
            <a:endParaRPr b="0" lang="en-US" sz="2400" spc="-1" strike="noStrike">
              <a:solidFill>
                <a:srgbClr val="000000"/>
              </a:solidFill>
              <a:latin typeface="VNI-Helve"/>
            </a:endParaRPr>
          </a:p>
          <a:p>
            <a:pPr lvl="1" marL="735480" indent="-2829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eä thoáng caùc kyù hieäu, bieåu tröng cho coâng ty</a:t>
            </a:r>
            <a:endParaRPr b="0" lang="en-US" sz="2400" spc="-1" strike="noStrike">
              <a:solidFill>
                <a:srgbClr val="000000"/>
              </a:solidFill>
              <a:latin typeface="VNI-Helve"/>
            </a:endParaRPr>
          </a:p>
          <a:p>
            <a:pPr lvl="1" marL="735480" indent="-2829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eä thoáng taäp quaùn veà thaùi ñoä vaø haønh vi öùng xöû haøng ngaøy cuûa moãi thaønh vieân trong coâng ty</a:t>
            </a:r>
            <a:endParaRPr b="0" lang="en-US" sz="2400" spc="-1" strike="noStrike">
              <a:solidFill>
                <a:srgbClr val="000000"/>
              </a:solidFill>
              <a:latin typeface="VNI-Helve"/>
            </a:endParaRPr>
          </a:p>
          <a:p>
            <a:pPr lvl="1" marL="735480" indent="-2829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eàn neáp taøi chính coâng ty</a:t>
            </a:r>
            <a:endParaRPr b="0" lang="en-US" sz="2400" spc="-1" strike="noStrike">
              <a:solidFill>
                <a:srgbClr val="000000"/>
              </a:solidFill>
              <a:latin typeface="VNI-Helve"/>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7D234274-16CD-493A-9BD4-A8F87DD83C0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ÑAÙNH GIAÙ</a:t>
            </a:r>
            <a:endParaRPr b="1" i="1" lang="en-US" sz="3400" spc="-1" strike="noStrike">
              <a:solidFill>
                <a:srgbClr val="ffff00"/>
              </a:solidFill>
              <a:latin typeface="VNI-Helve"/>
            </a:endParaRPr>
          </a:p>
        </p:txBody>
      </p:sp>
      <p:sp>
        <p:nvSpPr>
          <p:cNvPr id="307" name="PlaceHolder 2"/>
          <p:cNvSpPr>
            <a:spLocks noGrp="1"/>
          </p:cNvSpPr>
          <p:nvPr>
            <p:ph/>
          </p:nvPr>
        </p:nvSpPr>
        <p:spPr>
          <a:xfrm>
            <a:off x="457200" y="1904760"/>
            <a:ext cx="8305920" cy="472428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Hieäu naêng (efficiency)</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Hieäu quaû (effectiveness)</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Möùc ñoä thoûa maõn coå ñoâng</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Möùc ñoä thoaû maõn khaùch haøng</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53921C99-1B3A-4A2C-BF09-C7074E8D56F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VNI-Helve"/>
              </a:rPr>
              <a:t>MA TRAÄN ÑAÙNH GIAÙ CAÙC YEÁU TOÁ NOÄI BOÄ </a:t>
            </a:r>
            <a:br>
              <a:rPr sz="3000"/>
            </a:br>
            <a:r>
              <a:rPr b="1" lang="en-US" sz="3000" spc="-1" strike="noStrike">
                <a:solidFill>
                  <a:srgbClr val="ffff00"/>
                </a:solidFill>
                <a:latin typeface="VNI-Helve"/>
              </a:rPr>
              <a:t>(Internal Factor Evaluation Matrix --IFE Matrix)</a:t>
            </a:r>
            <a:endParaRPr b="1" i="1" lang="en-US" sz="3000" spc="-1" strike="noStrike">
              <a:solidFill>
                <a:srgbClr val="ffff00"/>
              </a:solidFill>
              <a:latin typeface="VNI-Helve"/>
            </a:endParaRPr>
          </a:p>
        </p:txBody>
      </p:sp>
      <p:sp>
        <p:nvSpPr>
          <p:cNvPr id="30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a traän giuùp toùm taét vaø ñaùnh giaù caùc yeáu toá noäi boä, möùc ñoä quan troïng cuûa moãi yeáu toá ñeå xaùc ñònh ñieåm maïnh vaø ñieåm yeáu cuûa coâng ty cuõng nhö khaû naêng vaø naêng löïc cuûa coâng ty laøm cô sôû xaây döïng chieán löôïc cho phuø hôïp</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öông phaùp chuyeân gia thöôøng ñöôïc söû duïng ñeå xaây döïng ma traän</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76A2C389-D1DF-4D67-98C8-7DB147D188B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VNI-Helve"/>
              </a:rPr>
              <a:t>PHAÂN TÍCH ÑIEÅM MAÏNH – ÑIEÅM YEÁU</a:t>
            </a:r>
            <a:r>
              <a:rPr b="1" i="1" lang="en-US" sz="3800" spc="-1" strike="noStrike">
                <a:solidFill>
                  <a:srgbClr val="ffff00"/>
                </a:solidFill>
                <a:latin typeface="VNI-Helve"/>
              </a:rPr>
              <a:t> </a:t>
            </a:r>
            <a:endParaRPr b="1" i="1" lang="en-US" sz="3800" spc="-1" strike="noStrike">
              <a:solidFill>
                <a:srgbClr val="ffff00"/>
              </a:solidFill>
              <a:latin typeface="VNI-Helve"/>
            </a:endParaRPr>
          </a:p>
        </p:txBody>
      </p:sp>
      <p:sp>
        <p:nvSpPr>
          <p:cNvPr id="31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ieåm maïnh laø nhöõng gì maø coâng ty ñaõ laøm toát laøm toát hôn so vôùi coâng ty khaùc hoaëc chuùng giuùp laøm taêng khaû naêng caïnh tranh.</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öõng ñieåm yeáu laø nhöõng gì maø coâng ty thieáu/ khoâng coù hay thöïc hieän coøn keùm / chöa toát khi so vôùi coâng ty khaùc hoaëc nhöõng ñieàu laøm cho coâng ty maát lôïi theá caïnh tranh.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2ACB2F8E-AA32-42B5-A849-8234F88A976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0" y="0"/>
            <a:ext cx="9144000" cy="93672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Ñaùnh giaù vaø taän duïng cô hoäi</a:t>
            </a:r>
            <a:endParaRPr b="1" i="1" lang="en-US" sz="3400" spc="-1" strike="noStrike">
              <a:solidFill>
                <a:srgbClr val="ffff00"/>
              </a:solidFill>
              <a:latin typeface="VNI-Helve"/>
            </a:endParaRPr>
          </a:p>
        </p:txBody>
      </p:sp>
      <p:sp>
        <p:nvSpPr>
          <p:cNvPr id="313" name=""/>
          <p:cNvSpPr/>
          <p:nvPr/>
        </p:nvSpPr>
        <p:spPr>
          <a:xfrm>
            <a:off x="2687760" y="2460600"/>
            <a:ext cx="4430520" cy="1530360"/>
          </a:xfrm>
          <a:custGeom>
            <a:avLst/>
            <a:gdLst>
              <a:gd name="textAreaLeft" fmla="*/ 1334520 w 4430520"/>
              <a:gd name="textAreaRight" fmla="*/ 3096000 w 4430520"/>
              <a:gd name="textAreaTop" fmla="*/ 460800 h 1530360"/>
              <a:gd name="textAreaBottom" fmla="*/ 1069560 h 1530360"/>
            </a:gdLst>
            <a:ahLst/>
            <a:rect l="textAreaLeft" t="textAreaTop" r="textAreaRight" b="textAreaBottom"/>
            <a:pathLst>
              <a:path w="21600" h="21600">
                <a:moveTo>
                  <a:pt x="0" y="0"/>
                </a:moveTo>
                <a:lnTo>
                  <a:pt x="21600" y="0"/>
                </a:lnTo>
                <a:lnTo>
                  <a:pt x="13039" y="21600"/>
                </a:lnTo>
                <a:lnTo>
                  <a:pt x="8561" y="21600"/>
                </a:lnTo>
                <a:close/>
              </a:path>
            </a:pathLst>
          </a:custGeom>
          <a:gradFill rotWithShape="0">
            <a:gsLst>
              <a:gs pos="0">
                <a:srgbClr val="ada597"/>
              </a:gs>
              <a:gs pos="50000">
                <a:srgbClr val="4f4c45"/>
              </a:gs>
              <a:gs pos="100000">
                <a:srgbClr val="ada597"/>
              </a:gs>
            </a:gsLst>
            <a:lin ang="10800000"/>
          </a:gradFill>
          <a:ln w="936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4030560" y="4587840"/>
            <a:ext cx="1803600" cy="969840"/>
          </a:xfrm>
          <a:custGeom>
            <a:avLst/>
            <a:gdLst>
              <a:gd name="textAreaLeft" fmla="*/ 541080 w 1803600"/>
              <a:gd name="textAreaRight" fmla="*/ 1262520 w 1803600"/>
              <a:gd name="textAreaTop" fmla="*/ 290880 h 969840"/>
              <a:gd name="textAreaBottom" fmla="*/ 678960 h 969840"/>
            </a:gdLst>
            <a:ahLst/>
            <a:rect l="textAreaLeft" t="textAreaTop" r="textAreaRight" b="textAreaBottom"/>
            <a:pathLst>
              <a:path w="21600" h="21600">
                <a:moveTo>
                  <a:pt x="0" y="0"/>
                </a:moveTo>
                <a:lnTo>
                  <a:pt x="21600" y="0"/>
                </a:lnTo>
                <a:lnTo>
                  <a:pt x="13082" y="21600"/>
                </a:lnTo>
                <a:lnTo>
                  <a:pt x="8518" y="21600"/>
                </a:lnTo>
                <a:close/>
              </a:path>
            </a:pathLst>
          </a:custGeom>
          <a:gradFill rotWithShape="0">
            <a:gsLst>
              <a:gs pos="0">
                <a:srgbClr val="ffff99"/>
              </a:gs>
              <a:gs pos="50000">
                <a:srgbClr val="757546"/>
              </a:gs>
              <a:gs pos="100000">
                <a:srgbClr val="ffff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2665440" y="2233440"/>
            <a:ext cx="4460760" cy="384480"/>
          </a:xfrm>
          <a:prstGeom prst="ellipse">
            <a:avLst/>
          </a:prstGeom>
          <a:gradFill rotWithShape="0">
            <a:gsLst>
              <a:gs pos="0">
                <a:srgbClr val="005e46"/>
              </a:gs>
              <a:gs pos="100000">
                <a:srgbClr val="00cc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6" name=""/>
          <p:cNvGrpSpPr/>
          <p:nvPr/>
        </p:nvGrpSpPr>
        <p:grpSpPr>
          <a:xfrm>
            <a:off x="4446720" y="5896080"/>
            <a:ext cx="981000" cy="947520"/>
            <a:chOff x="4446720" y="5896080"/>
            <a:chExt cx="981000" cy="947520"/>
          </a:xfrm>
        </p:grpSpPr>
        <p:grpSp>
          <p:nvGrpSpPr>
            <p:cNvPr id="317" name=""/>
            <p:cNvGrpSpPr/>
            <p:nvPr/>
          </p:nvGrpSpPr>
          <p:grpSpPr>
            <a:xfrm>
              <a:off x="4454640" y="6002280"/>
              <a:ext cx="973080" cy="841320"/>
              <a:chOff x="4454640" y="6002280"/>
              <a:chExt cx="973080" cy="841320"/>
            </a:xfrm>
          </p:grpSpPr>
          <p:sp>
            <p:nvSpPr>
              <p:cNvPr id="318" name=""/>
              <p:cNvSpPr/>
              <p:nvPr/>
            </p:nvSpPr>
            <p:spPr>
              <a:xfrm>
                <a:off x="4842000" y="6648480"/>
                <a:ext cx="225360" cy="195120"/>
              </a:xfrm>
              <a:custGeom>
                <a:avLst/>
                <a:gdLst>
                  <a:gd name="textAreaLeft" fmla="*/ 49320 w 225360"/>
                  <a:gd name="textAreaRight" fmla="*/ 176040 w 225360"/>
                  <a:gd name="textAreaTop" fmla="*/ 42840 h 195120"/>
                  <a:gd name="textAreaBottom" fmla="*/ 152280 h 19512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ada597"/>
                  </a:gs>
                  <a:gs pos="50000">
                    <a:srgbClr val="4f4c45"/>
                  </a:gs>
                  <a:gs pos="100000">
                    <a:srgbClr val="ada597"/>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4454640" y="6002280"/>
                <a:ext cx="973080" cy="652320"/>
              </a:xfrm>
              <a:custGeom>
                <a:avLst/>
                <a:gdLst>
                  <a:gd name="textAreaLeft" fmla="*/ 291960 w 973080"/>
                  <a:gd name="textAreaRight" fmla="*/ 681120 w 973080"/>
                  <a:gd name="textAreaTop" fmla="*/ 195840 h 652320"/>
                  <a:gd name="textAreaBottom" fmla="*/ 456480 h 652320"/>
                </a:gdLst>
                <a:ahLst/>
                <a:rect l="textAreaLeft" t="textAreaTop" r="textAreaRight" b="textAreaBottom"/>
                <a:pathLst>
                  <a:path w="21600" h="21600">
                    <a:moveTo>
                      <a:pt x="0" y="0"/>
                    </a:moveTo>
                    <a:lnTo>
                      <a:pt x="21600" y="0"/>
                    </a:lnTo>
                    <a:lnTo>
                      <a:pt x="13082" y="21600"/>
                    </a:lnTo>
                    <a:lnTo>
                      <a:pt x="8518" y="21600"/>
                    </a:lnTo>
                    <a:close/>
                  </a:path>
                </a:pathLst>
              </a:custGeom>
              <a:gradFill rotWithShape="0">
                <a:gsLst>
                  <a:gs pos="0">
                    <a:srgbClr val="ada597"/>
                  </a:gs>
                  <a:gs pos="50000">
                    <a:srgbClr val="4f4c45"/>
                  </a:gs>
                  <a:gs pos="100000">
                    <a:srgbClr val="ada597"/>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0" name=""/>
            <p:cNvSpPr/>
            <p:nvPr/>
          </p:nvSpPr>
          <p:spPr>
            <a:xfrm>
              <a:off x="4446720" y="5896080"/>
              <a:ext cx="976320" cy="201600"/>
            </a:xfrm>
            <a:prstGeom prst="ellipse">
              <a:avLst/>
            </a:prstGeom>
            <a:gradFill rotWithShape="0">
              <a:gsLst>
                <a:gs pos="0">
                  <a:srgbClr val="005e46"/>
                </a:gs>
                <a:gs pos="100000">
                  <a:srgbClr val="00cc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1" name=""/>
          <p:cNvSpPr/>
          <p:nvPr/>
        </p:nvSpPr>
        <p:spPr>
          <a:xfrm>
            <a:off x="4030560" y="4421160"/>
            <a:ext cx="1784520" cy="357120"/>
          </a:xfrm>
          <a:prstGeom prst="ellipse">
            <a:avLst/>
          </a:prstGeom>
          <a:gradFill rotWithShape="0">
            <a:gsLst>
              <a:gs pos="0">
                <a:srgbClr val="005e46"/>
              </a:gs>
              <a:gs pos="100000">
                <a:srgbClr val="00cc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2" name=""/>
          <p:cNvGrpSpPr/>
          <p:nvPr/>
        </p:nvGrpSpPr>
        <p:grpSpPr>
          <a:xfrm>
            <a:off x="931680" y="907920"/>
            <a:ext cx="7515720" cy="1553040"/>
            <a:chOff x="931680" y="907920"/>
            <a:chExt cx="7515720" cy="1553040"/>
          </a:xfrm>
        </p:grpSpPr>
        <p:sp>
          <p:nvSpPr>
            <p:cNvPr id="323" name=""/>
            <p:cNvSpPr/>
            <p:nvPr/>
          </p:nvSpPr>
          <p:spPr>
            <a:xfrm>
              <a:off x="931680" y="907920"/>
              <a:ext cx="7515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rebuchet MS"/>
                </a:rPr>
                <a:t>All Potential Business Opportunities</a:t>
              </a:r>
              <a:endParaRPr b="0" lang="en-US" sz="3200" spc="-1" strike="noStrike">
                <a:solidFill>
                  <a:srgbClr val="000000"/>
                </a:solidFill>
                <a:latin typeface="Times New Roman"/>
              </a:endParaRPr>
            </a:p>
          </p:txBody>
        </p:sp>
        <p:sp>
          <p:nvSpPr>
            <p:cNvPr id="324" name=""/>
            <p:cNvSpPr/>
            <p:nvPr/>
          </p:nvSpPr>
          <p:spPr>
            <a:xfrm rot="5331600">
              <a:off x="2597760" y="1492560"/>
              <a:ext cx="911160" cy="1005120"/>
            </a:xfrm>
            <a:custGeom>
              <a:avLst/>
              <a:gdLst>
                <a:gd name="textAreaLeft" fmla="*/ 0 w 911160"/>
                <a:gd name="textAreaRight" fmla="*/ 911520 w 911160"/>
                <a:gd name="textAreaTop" fmla="*/ 0 h 1005120"/>
                <a:gd name="textAreaBottom" fmla="*/ 1005480 h 10051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rot="16268400">
              <a:off x="6207120" y="1449720"/>
              <a:ext cx="911160" cy="1005120"/>
            </a:xfrm>
            <a:custGeom>
              <a:avLst/>
              <a:gdLst>
                <a:gd name="textAreaLeft" fmla="*/ -360 w 911160"/>
                <a:gd name="textAreaRight" fmla="*/ 911160 w 911160"/>
                <a:gd name="textAreaTop" fmla="*/ 0 h 1005120"/>
                <a:gd name="textAreaBottom" fmla="*/ 1005480 h 10051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rot="5374800">
              <a:off x="4446000" y="1726920"/>
              <a:ext cx="834840" cy="507960"/>
            </a:xfrm>
            <a:prstGeom prst="rightArrow">
              <a:avLst>
                <a:gd name="adj1" fmla="val 50000"/>
                <a:gd name="adj2" fmla="val 41088"/>
              </a:avLst>
            </a:pr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7" name=""/>
          <p:cNvGrpSpPr/>
          <p:nvPr/>
        </p:nvGrpSpPr>
        <p:grpSpPr>
          <a:xfrm>
            <a:off x="1648080" y="3678120"/>
            <a:ext cx="3517560" cy="1086120"/>
            <a:chOff x="1648080" y="3678120"/>
            <a:chExt cx="3517560" cy="1086120"/>
          </a:xfrm>
        </p:grpSpPr>
        <p:sp>
          <p:nvSpPr>
            <p:cNvPr id="328" name=""/>
            <p:cNvSpPr/>
            <p:nvPr/>
          </p:nvSpPr>
          <p:spPr>
            <a:xfrm>
              <a:off x="4670280" y="4359240"/>
              <a:ext cx="495360" cy="405000"/>
            </a:xfrm>
            <a:prstGeom prst="downArrow">
              <a:avLst>
                <a:gd name="adj1" fmla="val 50000"/>
                <a:gd name="adj2" fmla="val 25000"/>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648080" y="3678120"/>
              <a:ext cx="2318760" cy="7963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rebuchet MS"/>
                </a:rPr>
                <a:t>Relevant </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rebuchet MS"/>
                </a:rPr>
                <a:t>Opportunities</a:t>
              </a:r>
              <a:endParaRPr b="0" lang="en-US" sz="2400" spc="-1" strike="noStrike">
                <a:solidFill>
                  <a:srgbClr val="000000"/>
                </a:solidFill>
                <a:latin typeface="Times New Roman"/>
              </a:endParaRPr>
            </a:p>
          </p:txBody>
        </p:sp>
      </p:grpSp>
      <p:sp>
        <p:nvSpPr>
          <p:cNvPr id="330" name=""/>
          <p:cNvSpPr/>
          <p:nvPr/>
        </p:nvSpPr>
        <p:spPr>
          <a:xfrm>
            <a:off x="4451400" y="3990960"/>
            <a:ext cx="912600" cy="560520"/>
          </a:xfrm>
          <a:custGeom>
            <a:avLst/>
            <a:gdLst>
              <a:gd name="textAreaLeft" fmla="*/ 200520 w 912600"/>
              <a:gd name="textAreaRight" fmla="*/ 712080 w 912600"/>
              <a:gd name="textAreaTop" fmla="*/ 123120 h 560520"/>
              <a:gd name="textAreaBottom" fmla="*/ 437400 h 56052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00cc99"/>
              </a:gs>
              <a:gs pos="50000">
                <a:srgbClr val="005e46"/>
              </a:gs>
              <a:gs pos="100000">
                <a:srgbClr val="00cc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1" name=""/>
          <p:cNvGrpSpPr/>
          <p:nvPr/>
        </p:nvGrpSpPr>
        <p:grpSpPr>
          <a:xfrm>
            <a:off x="2034720" y="5452920"/>
            <a:ext cx="3015000" cy="565920"/>
            <a:chOff x="2034720" y="5452920"/>
            <a:chExt cx="3015000" cy="565920"/>
          </a:xfrm>
        </p:grpSpPr>
        <p:sp>
          <p:nvSpPr>
            <p:cNvPr id="332" name=""/>
            <p:cNvSpPr/>
            <p:nvPr/>
          </p:nvSpPr>
          <p:spPr>
            <a:xfrm>
              <a:off x="2034720" y="5452920"/>
              <a:ext cx="1787040" cy="565920"/>
            </a:xfrm>
            <a:prstGeom prst="rect">
              <a:avLst/>
            </a:prstGeom>
            <a:noFill/>
            <a:ln w="0">
              <a:noFill/>
            </a:ln>
          </p:spPr>
          <p:style>
            <a:lnRef idx="0"/>
            <a:fillRef idx="0"/>
            <a:effectRef idx="0"/>
            <a:fontRef idx="minor"/>
          </p:style>
          <p:txBody>
            <a:bodyPr wrap="none"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Trebuchet MS"/>
                </a:rPr>
                <a:t>Proven</a:t>
              </a:r>
              <a:endParaRPr b="0" lang="en-US" sz="18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Trebuchet MS"/>
                </a:rPr>
                <a:t>Opportunities</a:t>
              </a:r>
              <a:endParaRPr b="0" lang="en-US" sz="1800" spc="-1" strike="noStrike">
                <a:solidFill>
                  <a:srgbClr val="000000"/>
                </a:solidFill>
                <a:latin typeface="Times New Roman"/>
              </a:endParaRPr>
            </a:p>
          </p:txBody>
        </p:sp>
        <p:sp>
          <p:nvSpPr>
            <p:cNvPr id="333" name=""/>
            <p:cNvSpPr/>
            <p:nvPr/>
          </p:nvSpPr>
          <p:spPr>
            <a:xfrm>
              <a:off x="4827600" y="5805360"/>
              <a:ext cx="222120" cy="209520"/>
            </a:xfrm>
            <a:prstGeom prst="downArrow">
              <a:avLst>
                <a:gd name="adj1" fmla="val 50000"/>
                <a:gd name="adj2" fmla="val 25000"/>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4" name=""/>
          <p:cNvSpPr/>
          <p:nvPr/>
        </p:nvSpPr>
        <p:spPr>
          <a:xfrm>
            <a:off x="4748040" y="5540400"/>
            <a:ext cx="378000" cy="298440"/>
          </a:xfrm>
          <a:custGeom>
            <a:avLst/>
            <a:gdLst>
              <a:gd name="textAreaLeft" fmla="*/ 83160 w 378000"/>
              <a:gd name="textAreaRight" fmla="*/ 294840 w 378000"/>
              <a:gd name="textAreaTop" fmla="*/ 65520 h 298440"/>
              <a:gd name="textAreaBottom" fmla="*/ 232920 h 29844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00cc99"/>
              </a:gs>
              <a:gs pos="50000">
                <a:srgbClr val="005e46"/>
              </a:gs>
              <a:gs pos="100000">
                <a:srgbClr val="00cc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890800" y="6427800"/>
            <a:ext cx="148284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Trebuchet MS"/>
              </a:rPr>
              <a:t>Products</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7A507193-FA8C-4B8D-9C31-BEE7FCFED555}" type="slidenum">
              <a:t>4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Muïc ñích</a:t>
            </a:r>
            <a:endParaRPr b="1" i="1" lang="en-US" sz="3400" spc="-1" strike="noStrike">
              <a:solidFill>
                <a:srgbClr val="ffff00"/>
              </a:solidFill>
              <a:latin typeface="VNI-Helve"/>
            </a:endParaRPr>
          </a:p>
        </p:txBody>
      </p:sp>
      <p:sp>
        <p:nvSpPr>
          <p:cNvPr id="140"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uïc ñích phaân tích moâi tröôøng beân ngoaøi laø phaûi chæ ra ñöôïc:</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ô hoäi ñoái vôùi coâng ty laø gì? </a:t>
            </a:r>
            <a:endParaRPr b="0" lang="en-US" sz="2400" spc="-1" strike="noStrike">
              <a:solidFill>
                <a:srgbClr val="000000"/>
              </a:solidFill>
              <a:latin typeface="VNI-Helv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uy cô caàn phaûi traùnh laø gì?</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8D6122AE-9266-4845-B29D-563352B401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moâ tröôøng cuûa coâng ty</a:t>
            </a:r>
            <a:endParaRPr b="1" i="1" lang="en-US" sz="3400" spc="-1" strike="noStrike">
              <a:solidFill>
                <a:srgbClr val="ffff00"/>
              </a:solidFill>
              <a:latin typeface="VNI-Helve"/>
            </a:endParaRPr>
          </a:p>
        </p:txBody>
      </p:sp>
      <p:grpSp>
        <p:nvGrpSpPr>
          <p:cNvPr id="142" name=""/>
          <p:cNvGrpSpPr/>
          <p:nvPr/>
        </p:nvGrpSpPr>
        <p:grpSpPr>
          <a:xfrm>
            <a:off x="1523880" y="1268280"/>
            <a:ext cx="5715000" cy="5361120"/>
            <a:chOff x="1523880" y="1268280"/>
            <a:chExt cx="5715000" cy="5361120"/>
          </a:xfrm>
        </p:grpSpPr>
        <p:sp>
          <p:nvSpPr>
            <p:cNvPr id="143" name=""/>
            <p:cNvSpPr/>
            <p:nvPr/>
          </p:nvSpPr>
          <p:spPr>
            <a:xfrm>
              <a:off x="1523880" y="1268280"/>
              <a:ext cx="5715000" cy="5361120"/>
            </a:xfrm>
            <a:prstGeom prst="rect">
              <a:avLst/>
            </a:prstGeom>
            <a:solidFill>
              <a:srgbClr val="ccccff"/>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VNI-Helve"/>
                </a:rPr>
                <a:t>MOÂI TRÖÔØNG VÓ MOÂ</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457200">
                <a:lnSpc>
                  <a:spcPct val="100000"/>
                </a:lnSpc>
                <a:buClr>
                  <a:srgbClr val="000000"/>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Caùc yeáu toá chính trò vaø phaùp lyù</a:t>
              </a:r>
              <a:endParaRPr b="0" lang="en-US" sz="1500" spc="-1" strike="noStrike">
                <a:solidFill>
                  <a:srgbClr val="000000"/>
                </a:solidFill>
                <a:latin typeface="Times New Roman"/>
              </a:endParaRPr>
            </a:p>
            <a:p>
              <a:pPr lvl="1" marL="457200">
                <a:lnSpc>
                  <a:spcPct val="100000"/>
                </a:lnSpc>
                <a:buClr>
                  <a:srgbClr val="000000"/>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Caùc yeáu toá kinh teá</a:t>
              </a:r>
              <a:endParaRPr b="0" lang="en-US" sz="1500" spc="-1" strike="noStrike">
                <a:solidFill>
                  <a:srgbClr val="000000"/>
                </a:solidFill>
                <a:latin typeface="Times New Roman"/>
              </a:endParaRPr>
            </a:p>
            <a:p>
              <a:pPr lvl="1" marL="457200">
                <a:lnSpc>
                  <a:spcPct val="100000"/>
                </a:lnSpc>
                <a:buClr>
                  <a:srgbClr val="000000"/>
                </a:buClr>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Caùc yeáu toá xaõ hoäi</a:t>
              </a:r>
              <a:endParaRPr b="0" lang="en-US" sz="1500" spc="-1" strike="noStrike">
                <a:solidFill>
                  <a:srgbClr val="000000"/>
                </a:solidFill>
                <a:latin typeface="Times New Roman"/>
              </a:endParaRPr>
            </a:p>
            <a:p>
              <a:pPr lvl="1" marL="457200">
                <a:lnSpc>
                  <a:spcPct val="100000"/>
                </a:lnSpc>
                <a:buClr>
                  <a:srgbClr val="000000"/>
                </a:buClr>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Caùc yeáu toá coâng ngheä</a:t>
              </a:r>
              <a:endParaRPr b="0" lang="en-US" sz="1500" spc="-1" strike="noStrike">
                <a:solidFill>
                  <a:srgbClr val="000000"/>
                </a:solidFill>
                <a:latin typeface="Times New Roman"/>
              </a:endParaRPr>
            </a:p>
            <a:p>
              <a:pPr lvl="1" marL="457200">
                <a:lnSpc>
                  <a:spcPct val="100000"/>
                </a:lnSpc>
                <a:buClr>
                  <a:srgbClr val="000000"/>
                </a:buClr>
                <a:buFont typeface="Times New Roman"/>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Caùc yeáu toá töï nhieân</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44" name=""/>
            <p:cNvSpPr/>
            <p:nvPr/>
          </p:nvSpPr>
          <p:spPr>
            <a:xfrm>
              <a:off x="2514240" y="2971800"/>
              <a:ext cx="4724640" cy="3657600"/>
            </a:xfrm>
            <a:prstGeom prst="rect">
              <a:avLst/>
            </a:prstGeom>
            <a:solidFill>
              <a:srgbClr val="ccffcc"/>
            </a:solidFill>
            <a:ln w="0">
              <a:noFill/>
            </a:ln>
          </p:spPr>
          <p:style>
            <a:lnRef idx="0"/>
            <a:fillRef idx="0"/>
            <a:effectRef idx="0"/>
            <a:fontRef idx="minor"/>
          </p:style>
          <p:txBody>
            <a:bodyPr lIns="18000" rIns="18000" tIns="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VNI-Helve"/>
                </a:rPr>
                <a:t>MOÂI TRÖÔØNG TAÙC NGHIEÄP</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VNI-Helve"/>
                </a:rPr>
                <a:t>CAÙC TAÙC LÖÏC CAÏNH TRANH</a:t>
              </a:r>
              <a:endParaRPr b="0" lang="en-US" sz="1500" spc="-1" strike="noStrike">
                <a:solidFill>
                  <a:srgbClr val="000000"/>
                </a:solidFill>
                <a:latin typeface="Times New Roman"/>
              </a:endParaRPr>
            </a:p>
            <a:p>
              <a:pPr lvl="1" marL="457200">
                <a:lnSpc>
                  <a:spcPct val="100000"/>
                </a:lnSpc>
                <a:buClr>
                  <a:srgbClr val="000000"/>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Caùc ñoái thuû caïnh tranh</a:t>
              </a:r>
              <a:endParaRPr b="0" lang="en-US" sz="1500" spc="-1" strike="noStrike">
                <a:solidFill>
                  <a:srgbClr val="000000"/>
                </a:solidFill>
                <a:latin typeface="Times New Roman"/>
              </a:endParaRPr>
            </a:p>
            <a:p>
              <a:pPr lvl="1" marL="457200">
                <a:lnSpc>
                  <a:spcPct val="100000"/>
                </a:lnSpc>
                <a:buClr>
                  <a:srgbClr val="000000"/>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Khaùch haøng</a:t>
              </a:r>
              <a:endParaRPr b="0" lang="en-US" sz="1500" spc="-1" strike="noStrike">
                <a:solidFill>
                  <a:srgbClr val="000000"/>
                </a:solidFill>
                <a:latin typeface="Times New Roman"/>
              </a:endParaRPr>
            </a:p>
            <a:p>
              <a:pPr lvl="1" marL="457200">
                <a:lnSpc>
                  <a:spcPct val="100000"/>
                </a:lnSpc>
                <a:buClr>
                  <a:srgbClr val="000000"/>
                </a:buClr>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Nhaø cung caáp</a:t>
              </a:r>
              <a:endParaRPr b="0" lang="en-US" sz="1500" spc="-1" strike="noStrike">
                <a:solidFill>
                  <a:srgbClr val="000000"/>
                </a:solidFill>
                <a:latin typeface="Times New Roman"/>
              </a:endParaRPr>
            </a:p>
            <a:p>
              <a:pPr lvl="1" marL="457200">
                <a:lnSpc>
                  <a:spcPct val="100000"/>
                </a:lnSpc>
                <a:buClr>
                  <a:srgbClr val="000000"/>
                </a:buClr>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Caùc ñoái thuû tieàm aån</a:t>
              </a:r>
              <a:endParaRPr b="0" lang="en-US" sz="1500" spc="-1" strike="noStrike">
                <a:solidFill>
                  <a:srgbClr val="000000"/>
                </a:solidFill>
                <a:latin typeface="Times New Roman"/>
              </a:endParaRPr>
            </a:p>
            <a:p>
              <a:pPr lvl="1" marL="457200">
                <a:lnSpc>
                  <a:spcPct val="100000"/>
                </a:lnSpc>
                <a:buClr>
                  <a:srgbClr val="000000"/>
                </a:buClr>
                <a:buFont typeface="Times New Roman"/>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Saûn phaåm thay theá</a:t>
              </a:r>
              <a:endParaRPr b="0" lang="en-US" sz="1500" spc="-1" strike="noStrike">
                <a:solidFill>
                  <a:srgbClr val="000000"/>
                </a:solidFill>
                <a:latin typeface="Times New Roman"/>
              </a:endParaRPr>
            </a:p>
          </p:txBody>
        </p:sp>
        <p:sp>
          <p:nvSpPr>
            <p:cNvPr id="145" name=""/>
            <p:cNvSpPr/>
            <p:nvPr/>
          </p:nvSpPr>
          <p:spPr>
            <a:xfrm>
              <a:off x="3508200" y="4647960"/>
              <a:ext cx="3730680" cy="1981440"/>
            </a:xfrm>
            <a:prstGeom prst="rect">
              <a:avLst/>
            </a:prstGeom>
            <a:solidFill>
              <a:srgbClr val="ffcc99"/>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VNI-Helve"/>
                </a:rPr>
                <a:t>MOÂI TRÖÔØNG NOÄI BOÄ</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457200">
                <a:lnSpc>
                  <a:spcPct val="100000"/>
                </a:lnSpc>
                <a:buClr>
                  <a:srgbClr val="000000"/>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Saûn xuaát</a:t>
              </a:r>
              <a:endParaRPr b="0" lang="en-US" sz="1500" spc="-1" strike="noStrike">
                <a:solidFill>
                  <a:srgbClr val="000000"/>
                </a:solidFill>
                <a:latin typeface="Times New Roman"/>
              </a:endParaRPr>
            </a:p>
            <a:p>
              <a:pPr lvl="1" marL="457200">
                <a:lnSpc>
                  <a:spcPct val="100000"/>
                </a:lnSpc>
                <a:buClr>
                  <a:srgbClr val="000000"/>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Marketing</a:t>
              </a:r>
              <a:endParaRPr b="0" lang="en-US" sz="1500" spc="-1" strike="noStrike">
                <a:solidFill>
                  <a:srgbClr val="000000"/>
                </a:solidFill>
                <a:latin typeface="Times New Roman"/>
              </a:endParaRPr>
            </a:p>
            <a:p>
              <a:pPr lvl="1" marL="457200">
                <a:lnSpc>
                  <a:spcPct val="100000"/>
                </a:lnSpc>
                <a:buClr>
                  <a:srgbClr val="000000"/>
                </a:buClr>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Nghieân cöùu vaø phaùt trieån</a:t>
              </a:r>
              <a:endParaRPr b="0" lang="en-US" sz="1500" spc="-1" strike="noStrike">
                <a:solidFill>
                  <a:srgbClr val="000000"/>
                </a:solidFill>
                <a:latin typeface="Times New Roman"/>
              </a:endParaRPr>
            </a:p>
            <a:p>
              <a:pPr lvl="1" marL="457200">
                <a:lnSpc>
                  <a:spcPct val="100000"/>
                </a:lnSpc>
                <a:buClr>
                  <a:srgbClr val="000000"/>
                </a:buClr>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Taøi chính</a:t>
              </a:r>
              <a:endParaRPr b="0" lang="en-US" sz="1500" spc="-1" strike="noStrike">
                <a:solidFill>
                  <a:srgbClr val="000000"/>
                </a:solidFill>
                <a:latin typeface="Times New Roman"/>
              </a:endParaRPr>
            </a:p>
            <a:p>
              <a:pPr lvl="1" marL="457200">
                <a:lnSpc>
                  <a:spcPct val="100000"/>
                </a:lnSpc>
                <a:buClr>
                  <a:srgbClr val="000000"/>
                </a:buClr>
                <a:buFont typeface="Times New Roman"/>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Nguoàn nhaân löïc</a:t>
              </a:r>
              <a:endParaRPr b="0" lang="en-US" sz="1500" spc="-1" strike="noStrike">
                <a:solidFill>
                  <a:srgbClr val="000000"/>
                </a:solidFill>
                <a:latin typeface="Times New Roman"/>
              </a:endParaRPr>
            </a:p>
            <a:p>
              <a:pPr lvl="1" marL="457200">
                <a:lnSpc>
                  <a:spcPct val="100000"/>
                </a:lnSpc>
                <a:buClr>
                  <a:srgbClr val="000000"/>
                </a:buClr>
                <a:buFont typeface="Times New Roman"/>
                <a:buChar char="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Heä thoáng thoâng tin</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grpSp>
      <p:sp>
        <p:nvSpPr>
          <p:cNvPr id="3" name="PlaceHolder 2"/>
          <p:cNvSpPr>
            <a:spLocks noGrp="1"/>
          </p:cNvSpPr>
          <p:nvPr>
            <p:ph type="sldNum" idx="3"/>
          </p:nvPr>
        </p:nvSpPr>
        <p:spPr/>
        <p:txBody>
          <a:bodyPr/>
          <a:p>
            <a:fld id="{4CD28691-A3AD-4919-A8D4-28757BA126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MOÂI TRÖÔØNG VÓ MOÂ </a:t>
            </a:r>
            <a:br>
              <a:rPr sz="3400"/>
            </a:br>
            <a:r>
              <a:rPr b="1" i="1" lang="en-US" sz="3400" spc="-1" strike="noStrike">
                <a:solidFill>
                  <a:srgbClr val="ffff00"/>
                </a:solidFill>
                <a:latin typeface="VNI-Helve"/>
              </a:rPr>
              <a:t>(PEST&amp;N)</a:t>
            </a:r>
            <a:endParaRPr b="1" i="1" lang="en-US" sz="3400" spc="-1" strike="noStrike">
              <a:solidFill>
                <a:srgbClr val="ffff00"/>
              </a:solidFill>
              <a:latin typeface="VNI-Helve"/>
            </a:endParaRPr>
          </a:p>
        </p:txBody>
      </p:sp>
      <p:sp>
        <p:nvSpPr>
          <p:cNvPr id="147"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yeáu toá chính trò – phaùp lyù (Politic Factors)</a:t>
            </a:r>
            <a:endParaRPr b="0" lang="en-US" sz="2800" spc="-1" strike="noStrike">
              <a:solidFill>
                <a:srgbClr val="000000"/>
              </a:solidFill>
              <a:latin typeface="VNI-Helve"/>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yeáu toá kinh teá (Economic Factors) </a:t>
            </a:r>
            <a:endParaRPr b="0" lang="en-US" sz="2800" spc="-1" strike="noStrike">
              <a:solidFill>
                <a:srgbClr val="000000"/>
              </a:solidFill>
              <a:latin typeface="VNI-Helve"/>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yeáu toá xaõ hoäi (Social Factors) </a:t>
            </a:r>
            <a:endParaRPr b="0" lang="en-US" sz="2800" spc="-1" strike="noStrike">
              <a:solidFill>
                <a:srgbClr val="000000"/>
              </a:solidFill>
              <a:latin typeface="VNI-Helve"/>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yeáu toá coâng ngheä (Technology Factors) </a:t>
            </a:r>
            <a:endParaRPr b="0" lang="en-US" sz="2800" spc="-1" strike="noStrike">
              <a:solidFill>
                <a:srgbClr val="000000"/>
              </a:solidFill>
              <a:latin typeface="VNI-Helve"/>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yeáu toá töï nhieân (Natural Factors)</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FA3312F2-E05B-4271-911A-BB27946AC5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yeáu toá Chính trò – Phaùp lyù </a:t>
            </a:r>
            <a:br>
              <a:rPr sz="3400"/>
            </a:br>
            <a:r>
              <a:rPr b="1" i="1" lang="en-US" sz="3400" spc="-1" strike="noStrike">
                <a:solidFill>
                  <a:srgbClr val="ffff00"/>
                </a:solidFill>
                <a:latin typeface="VNI-Helve"/>
              </a:rPr>
              <a:t>(Politic Factors) </a:t>
            </a:r>
            <a:endParaRPr b="1" i="1" lang="en-US" sz="3400" spc="-1" strike="noStrike">
              <a:solidFill>
                <a:srgbClr val="ffff00"/>
              </a:solidFill>
              <a:latin typeface="VNI-Helve"/>
            </a:endParaRPr>
          </a:p>
        </p:txBody>
      </p:sp>
      <p:sp>
        <p:nvSpPr>
          <p:cNvPr id="14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1000"/>
          </a:bodyPr>
          <a:p>
            <a:pPr marL="312120" indent="-3121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oâi tröôøng chính trò/Möùc ñoä oån ñònh veà chính trò</a:t>
            </a:r>
            <a:endParaRPr b="0" lang="en-US" sz="2800" spc="-1" strike="noStrike">
              <a:solidFill>
                <a:srgbClr val="000000"/>
              </a:solidFill>
              <a:latin typeface="VNI-Helve"/>
            </a:endParaRPr>
          </a:p>
          <a:p>
            <a:pPr marL="312120" indent="-3121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uaät caïnh tranh/Qui ñònh choáng ñoäc quyeàn</a:t>
            </a:r>
            <a:endParaRPr b="0" lang="en-US" sz="2800" spc="-1" strike="noStrike">
              <a:solidFill>
                <a:srgbClr val="000000"/>
              </a:solidFill>
              <a:latin typeface="VNI-Helve"/>
            </a:endParaRPr>
          </a:p>
          <a:p>
            <a:pPr marL="312120" indent="-3121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uaät lao ñoäng</a:t>
            </a:r>
            <a:endParaRPr b="0" lang="en-US" sz="2800" spc="-1" strike="noStrike">
              <a:solidFill>
                <a:srgbClr val="000000"/>
              </a:solidFill>
              <a:latin typeface="VNI-Helve"/>
            </a:endParaRPr>
          </a:p>
          <a:p>
            <a:pPr marL="312120" indent="-3121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uaät ñaàu tö/Öu ñaõi ñaàu tö/Moâi tröôøng ñaàu tö</a:t>
            </a:r>
            <a:endParaRPr b="0" lang="en-US" sz="2800" spc="-1" strike="noStrike">
              <a:solidFill>
                <a:srgbClr val="000000"/>
              </a:solidFill>
              <a:latin typeface="VNI-Helve"/>
            </a:endParaRPr>
          </a:p>
          <a:p>
            <a:pPr marL="312120" indent="-3121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qui ñònh veà thueáá</a:t>
            </a:r>
            <a:endParaRPr b="0" lang="en-US" sz="2800" spc="-1" strike="noStrike">
              <a:solidFill>
                <a:srgbClr val="000000"/>
              </a:solidFill>
              <a:latin typeface="VNI-Helve"/>
            </a:endParaRPr>
          </a:p>
          <a:p>
            <a:pPr marL="312120" indent="-3121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chính saùch öu ñaõi ñaëc bieät</a:t>
            </a:r>
            <a:endParaRPr b="0" lang="en-US" sz="2800" spc="-1" strike="noStrike">
              <a:solidFill>
                <a:srgbClr val="000000"/>
              </a:solidFill>
              <a:latin typeface="VNI-Helve"/>
            </a:endParaRPr>
          </a:p>
          <a:p>
            <a:pPr marL="312120" indent="-3121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i ñònh quaûng caùo, khuyeán maõi</a:t>
            </a:r>
            <a:endParaRPr b="0" lang="en-US" sz="2800" spc="-1" strike="noStrike">
              <a:solidFill>
                <a:srgbClr val="000000"/>
              </a:solidFill>
              <a:latin typeface="VNI-Helve"/>
            </a:endParaRPr>
          </a:p>
          <a:p>
            <a:pPr marL="312120" indent="-3121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98FA6CAC-106F-48FA-9D27-94B46D889A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yeáu toá kinh teá </a:t>
            </a:r>
            <a:br>
              <a:rPr sz="3400"/>
            </a:br>
            <a:r>
              <a:rPr b="1" i="1" lang="en-US" sz="3400" spc="-1" strike="noStrike">
                <a:solidFill>
                  <a:srgbClr val="ffff00"/>
                </a:solidFill>
                <a:latin typeface="VNI-Helve"/>
              </a:rPr>
              <a:t>(Economic Factors)</a:t>
            </a:r>
            <a:endParaRPr b="1" i="1" lang="en-US" sz="3400" spc="-1" strike="noStrike">
              <a:solidFill>
                <a:srgbClr val="ffff00"/>
              </a:solidFill>
              <a:latin typeface="VNI-Helve"/>
            </a:endParaRPr>
          </a:p>
        </p:txBody>
      </p:sp>
      <p:sp>
        <p:nvSpPr>
          <p:cNvPr id="15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iai ñoaïn trong chu kyø kinh teá</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Xu höôùng GDP/Möùc taêng tröôûng GDP</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u nhaäp</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aïm phaùt</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aát nghieäp</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 .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B3782246-ECE7-47E6-836A-FA9E41D27A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4T15:18:15Z</dcterms:created>
  <dc:creator>Le Thanh Long</dc:creator>
  <dc:description/>
  <dc:language>en-US</dc:language>
  <cp:lastModifiedBy>Windows</cp:lastModifiedBy>
  <dcterms:modified xsi:type="dcterms:W3CDTF">2006-10-16T02:13:50Z</dcterms:modified>
  <cp:revision>16</cp:revision>
  <dc:subject/>
  <dc:title>PowerPoint Presentation</dc:title>
</cp:coreProperties>
</file>