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8D6-AA1E-4349-B7C8-2610EC67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B80-4DEC-46C9-9468-06FD0C85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7B7-AEEE-4096-AAED-94EBD849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F61-477D-4C06-8007-AF379F78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3BC-82B6-4DE2-B181-EB229A96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FAD-E8EF-4F9E-86D7-CE7EDD1C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54F-6BD8-4CA8-99C1-42424427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357-5E65-4513-A42C-0F74145F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E9C-C395-44F1-857F-606D0309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51E-E427-48E9-AC12-CDC6E7CF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490-DE2F-4084-B615-A8EF70B8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B4EE-C3FC-4DDC-80F8-5BB9FED6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AA20-6C70-4810-A096-2FDECA71D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4T15:17:45Z</dcterms:modified>
  <cp:revision>31</cp:revision>
  <dc:subject/>
  <dc:title>Diapositiva 1</dc:title>
</cp:coreProperties>
</file>