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A6D-94A6-45C5-AC77-1D8CFA2F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EA53-C8C9-4C2F-A47E-4119D33D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DD9-CF3C-4D0B-925A-3405E20D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84C2-639F-4296-98F3-1B6FE2EA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D0B-C533-4147-B7B6-346BC5AD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FCC8-294E-46F6-8A51-83CBD32F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75D0-0FA4-492F-A4A4-9ADF4DCD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6FD5-46D1-498A-BAEE-AB37E4E7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615-353D-4B5F-8389-79D27DAA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73A1-BE11-4549-9A97-7BFD438D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C6C-5F09-4D4C-AD0B-05BA9E51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1ED1-4768-4E9A-AED8-DA69DF05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B7B4-6D9E-4283-B184-F5A4102E7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3284280"/>
            <a:ext cx="496584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2-13T22:10:16Z</dcterms:modified>
  <cp:revision>19</cp:revision>
  <dc:subject/>
  <dc:title>Diapositiva 1</dc:title>
</cp:coreProperties>
</file>