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A0F3-9881-4C3F-93E3-DC3483C61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FDEA-C53C-4EBE-8AE2-35A4899A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127A-5748-43CD-A35B-6735451A5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5495-BC8F-4C09-8438-98588F9E2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BB92-95C4-4853-AEBB-DC5AB98E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CD1E-CD03-4E3D-871F-6A8283C8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1C75-3CF2-44AD-83DA-CDF38DBE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CC07-EC4E-4A11-8059-15FE661E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AC5E-FE79-4B8B-945B-B601C781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8928-B414-4DDD-95E7-8E59DDB8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7971-5C5D-4A89-90D2-571231A9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3618-290C-414C-8F34-6F27D689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1DEC-BEA7-4449-9843-3204AC962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23:31:36Z</dcterms:created>
  <dc:creator>Mariajose</dc:creator>
  <dc:description/>
  <dc:language>en-US</dc:language>
  <cp:lastModifiedBy>Mariajose</cp:lastModifiedBy>
  <dcterms:modified xsi:type="dcterms:W3CDTF">2009-09-16T15:22:29Z</dcterms:modified>
  <cp:revision>9</cp:revision>
  <dc:subject/>
  <dc:title>Slide 1</dc:title>
</cp:coreProperties>
</file>