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69C6-0247-430E-AFB5-852EA496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E817-E7FC-41DE-92CA-637CC1CB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101-1473-4E5D-AD1A-67D68327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4931-24FF-4CDF-AA40-E4044AF5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318D-6B99-4C1D-A005-D46C9066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05B2-460B-4190-AA5A-859B82CF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85E-E8F8-463C-9CB1-2DFE1B70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018C-F91B-492D-8C5D-20A3B855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1EA-9BE0-4FCC-86D1-5C59A6BB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3326-79D7-4ABB-9933-00CF8698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6D8B-7D75-4922-A2EB-63792EAC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D2A7-A362-4990-9C56-74754F05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F6C6-9788-4FF6-A719-1DB63F937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21:46:18Z</dcterms:created>
  <dc:creator>Mariajose</dc:creator>
  <dc:description/>
  <dc:language>en-US</dc:language>
  <cp:lastModifiedBy>Mariajose</cp:lastModifiedBy>
  <dcterms:modified xsi:type="dcterms:W3CDTF">2010-08-06T16:51:09Z</dcterms:modified>
  <cp:revision>10</cp:revision>
  <dc:subject/>
  <dc:title>Title</dc:title>
</cp:coreProperties>
</file>