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C6F1-02B1-470D-A07D-FE9EFC775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41D9-952E-4FC1-974C-410107F94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A608-04F2-4AFA-A2F0-CAED49EAC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2AF5-29C4-4489-B470-5B139CE2C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C698-FFBE-468F-91FE-1A54A0B1C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7D40-F719-48B2-815B-8AA4BAE4D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00DB-388E-4A91-9E18-A4D975B47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DE55-9355-4422-9434-C094B1E56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20A4-F880-4B3E-86F8-0C497D092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36D5-C9BF-4EB8-9A99-72C8E7C1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B4A4-3C11-4CD4-820B-C3C4DCA2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73DD-2A1C-4991-A58E-E93C0CB5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E8DFB-FB38-4F35-A03E-D757749A4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0-09-10T23:58:40Z</dcterms:modified>
  <cp:revision>187</cp:revision>
  <dc:subject/>
  <dc:title>Diapositiva 1</dc:title>
</cp:coreProperties>
</file>