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4C03D-421D-4FF8-ABA1-065AED21F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BBC5A-1622-4192-A0B6-584014DED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246AB-61D3-49E1-888A-53659F5AE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D58FE-84F6-42AC-B328-2FFF4F4AD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0C96A-5EB0-45B7-A19B-E21E78E71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EA437-AC6C-4A02-8E75-835BDA8A5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8FAC1-2F1E-45A9-A01B-6C13908C1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0DA06-9011-4AD0-AC9C-8021E8FA3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FD6B9-DFCE-4056-B46F-0E9EE5222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92AA0-C21F-421E-A0DD-B5ADF8324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6E90A-02BE-4D91-B310-94D30849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FD188-E0B6-4414-827D-F268CD2D4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CC454-91EC-4A95-8D51-28E0A047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93AC7-21CE-424A-86F0-1900B4C0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DF582-0097-47FF-8FF8-F72553BAA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352EE-E7ED-418E-820C-D3A039E96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BF2BD-EED8-47EB-9F36-0B3F3A961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F92FA-C843-47DD-B66B-D4EC4FA8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4B05D-7051-4BFD-9548-0A32EEF7D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66FE4-E41C-43BC-BAF1-817E8C3CA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2AFDC-25C1-4348-863A-157269308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F2B6C-D0C0-468F-BBAC-ED0508FC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7A62C-72DC-4681-A223-2A44D0D9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6C649-4B50-4F39-B6ED-5142BEF3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5AC96-E6F8-45F6-9AEA-F4931D7C25DE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E1700-C6FD-47AD-9697-2E83BE372E92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5"/>
          <p:cNvSpPr/>
          <p:nvPr/>
        </p:nvSpPr>
        <p:spPr>
          <a:xfrm>
            <a:off x="2822400" y="1035000"/>
            <a:ext cx="25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6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AutoShape 16"/>
          <p:cNvSpPr/>
          <p:nvPr/>
        </p:nvSpPr>
        <p:spPr>
          <a:xfrm>
            <a:off x="4648320" y="4876920"/>
            <a:ext cx="4038480" cy="53316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003300"/>
                </a:solidFill>
                <a:latin typeface="Arial"/>
              </a:rPr>
              <a:t>KHOA QUẢN TRỊ KINH DOANH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8" name="AutoShape 17"/>
          <p:cNvSpPr/>
          <p:nvPr/>
        </p:nvSpPr>
        <p:spPr>
          <a:xfrm>
            <a:off x="5715000" y="5562720"/>
            <a:ext cx="2971800" cy="53316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003300"/>
                </a:solidFill>
                <a:latin typeface="Arial"/>
              </a:rPr>
              <a:t>G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V</a:t>
            </a:r>
            <a:r>
              <a:rPr b="1" lang="vi-VN" sz="2000" spc="-1" strike="noStrike">
                <a:solidFill>
                  <a:srgbClr val="003300"/>
                </a:solidFill>
                <a:latin typeface="Arial"/>
              </a:rPr>
              <a:t>. LÊ THỊ HẠNH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2422440"/>
            <a:ext cx="8381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UYỂN MỘ VÀ LỰA CHỌN</a:t>
            </a:r>
            <a:r>
              <a:rPr b="1" lang="vi-VN" sz="4000" spc="-1" strike="noStrike">
                <a:solidFill>
                  <a:srgbClr val="ffffff"/>
                </a:solidFill>
                <a:latin typeface="Arial"/>
              </a:rPr>
              <a:t> NGUỒN NHÂN LỰC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09480" y="2133720"/>
            <a:ext cx="83059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52560" indent="-52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9900"/>
                </a:solidFill>
                <a:uFillTx/>
                <a:latin typeface="Arial"/>
              </a:rPr>
              <a:t>Lợi ích:</a:t>
            </a:r>
            <a:br>
              <a:rPr sz="2400"/>
            </a:b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- 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Biết được năng lực và phẩm chất của nhân viên.</a:t>
            </a:r>
            <a:br>
              <a:rPr sz="2400"/>
            </a:b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- Nhân viên nắm bắt và thực hiện công việc nhanh hơn.</a:t>
            </a:r>
            <a:br>
              <a:rPr sz="2400"/>
            </a:b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- Tiết kiệm thời gian và chi phí tuyển dụng</a:t>
            </a:r>
            <a:br>
              <a:rPr sz="2400"/>
            </a:b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- Tạo cơ hội thăng tiến cho nhân viên.</a:t>
            </a:r>
            <a:br>
              <a:rPr sz="2400"/>
            </a:br>
            <a:br>
              <a:rPr sz="1000"/>
            </a:br>
            <a:r>
              <a:rPr b="1" lang="vi-VN" sz="2400" spc="-1" strike="noStrike" u="sng">
                <a:solidFill>
                  <a:srgbClr val="009900"/>
                </a:solidFill>
                <a:uFillTx/>
                <a:latin typeface="Arial"/>
              </a:rPr>
              <a:t>Nhược điểm:</a:t>
            </a:r>
            <a:br>
              <a:rPr sz="2400"/>
            </a:b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-  Nhân viên làm việc theo khuôn rập, không sáng tạo, thi đua.</a:t>
            </a:r>
            <a:br>
              <a:rPr sz="2400"/>
            </a:b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-  Thực hiện không tốt =&gt; mất đoàn kết nội bộ.</a:t>
            </a:r>
            <a:br>
              <a:rPr sz="2400"/>
            </a:b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1447920"/>
            <a:ext cx="5181840" cy="53316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1.4. CÁC NGUỒN TUYỂN MỘ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2133720"/>
            <a:ext cx="4114800" cy="457200"/>
          </a:xfrm>
          <a:prstGeom prst="flowChartAlternateProcess">
            <a:avLst/>
          </a:prstGeom>
          <a:solidFill>
            <a:srgbClr val="ff99cc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3300"/>
                </a:solidFill>
                <a:latin typeface="Arial"/>
              </a:rPr>
              <a:t>NGUỒN BÊN TRONG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00200" y="30492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&amp; </a:t>
            </a: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LỰA CHỌ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380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85800" y="1523880"/>
            <a:ext cx="5105520" cy="53352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1.4. CÁC NGUỒN TUYỂN MỘ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2209680"/>
            <a:ext cx="3886200" cy="457200"/>
          </a:xfrm>
          <a:prstGeom prst="flowChartAlternateProcess">
            <a:avLst/>
          </a:prstGeom>
          <a:solidFill>
            <a:srgbClr val="ff99cc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3300"/>
                </a:solidFill>
                <a:latin typeface="Arial"/>
              </a:rPr>
              <a:t>NGUỒN BÊN NGOÀI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2895480"/>
            <a:ext cx="716292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>
                <a:solidFill>
                  <a:srgbClr val="009900"/>
                </a:solidFill>
                <a:latin typeface="Arial"/>
              </a:rPr>
              <a:t>Một số nguồn bên ngoài: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 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Từ bạn bè, người thân của nhân viên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 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Từ nhân viên cũ của công ty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 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Ứng viên do quảng cáo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 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Thu hút từ sự kiện đặc biệt(hội chợ)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 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Từ các trường đại học, cao đẳng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23880" y="3049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&amp; </a:t>
            </a: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LỰA CHỌ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0880" y="380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85800" y="1523880"/>
            <a:ext cx="5105520" cy="53352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1.4. CÁC NGUỒN TUYỂN MỘ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133720"/>
            <a:ext cx="3886200" cy="457200"/>
          </a:xfrm>
          <a:prstGeom prst="flowChartAlternateProcess">
            <a:avLst/>
          </a:prstGeom>
          <a:solidFill>
            <a:srgbClr val="ff99cc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3300"/>
                </a:solidFill>
                <a:latin typeface="Arial"/>
              </a:rPr>
              <a:t>NGUỒN BÊN NGOÀI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2666880"/>
            <a:ext cx="8498160" cy="44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9900"/>
                </a:solidFill>
                <a:uFillTx/>
                <a:latin typeface="Arial"/>
              </a:rPr>
              <a:t>Ưu điểm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Thu hút nhiều nhân tài tham gia công ty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Tạo phong cánh làm việc mới mẻ 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Phát triển kỹ năng, kinh nghiệm cho nhân viên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Giảm chi phí đào tạo, hiệu suất công việc cao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9900"/>
                </a:solidFill>
                <a:uFillTx/>
                <a:latin typeface="Arial"/>
              </a:rPr>
              <a:t>Nhược điểm:</a:t>
            </a:r>
            <a:r>
              <a:rPr b="0" lang="vi-VN" sz="24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-   Tốn nhiều thời gian và chi phí tuyển dụng và thử việc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Giảm cơ hội thăng tiến cho nv trong tổ chức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Ứng viên cần thời gian thích ứng công việc mới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Lựa chọn được ứng viên phù hợp công việc khó khăn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23880" y="3049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&amp; </a:t>
            </a: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LỰA CHỌ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380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85800" y="2666880"/>
            <a:ext cx="80010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6720" indent="-39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 u="sng">
                <a:solidFill>
                  <a:srgbClr val="003300"/>
                </a:solidFill>
                <a:uFillTx/>
                <a:latin typeface="Arial"/>
              </a:rPr>
              <a:t>Bước 1</a:t>
            </a:r>
            <a:r>
              <a:rPr b="1" lang="vi-VN" sz="2600" spc="-1" strike="noStrike">
                <a:solidFill>
                  <a:srgbClr val="003300"/>
                </a:solidFill>
                <a:latin typeface="Arial"/>
              </a:rPr>
              <a:t>: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Lập kế hoạch tuyển mộ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96720" indent="-396720"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96720" indent="-39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 u="sng">
                <a:solidFill>
                  <a:srgbClr val="003300"/>
                </a:solidFill>
                <a:uFillTx/>
                <a:latin typeface="Arial"/>
              </a:rPr>
              <a:t>Bước 2</a:t>
            </a:r>
            <a:r>
              <a:rPr b="0" lang="vi-VN" sz="2600" spc="-1" strike="noStrike" u="sng">
                <a:solidFill>
                  <a:srgbClr val="003300"/>
                </a:solidFill>
                <a:uFillTx/>
                <a:latin typeface="Arial"/>
              </a:rPr>
              <a:t>: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 Lựa chọn giải pháp tìm kiếm người xin việc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96720" indent="-396720"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96720" indent="-39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 u="sng">
                <a:solidFill>
                  <a:srgbClr val="003300"/>
                </a:solidFill>
                <a:uFillTx/>
                <a:latin typeface="Arial"/>
              </a:rPr>
              <a:t>Bước 3:</a:t>
            </a:r>
            <a:r>
              <a:rPr b="1" lang="vi-VN" sz="2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Đánh giá quá trình tuyển mộ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96720" indent="-39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96720" indent="-39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 u="sng">
                <a:solidFill>
                  <a:srgbClr val="003300"/>
                </a:solidFill>
                <a:uFillTx/>
                <a:latin typeface="Arial"/>
              </a:rPr>
              <a:t>Bước 4:</a:t>
            </a:r>
            <a:r>
              <a:rPr b="1" lang="vi-VN" sz="2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Giải pháp thay thế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95480" y="1752480"/>
            <a:ext cx="45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2. QUY TRÌNH TUYỂN MỘ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1676520"/>
            <a:ext cx="5029200" cy="60948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>
                <a:solidFill>
                  <a:srgbClr val="ffff00"/>
                </a:solidFill>
                <a:latin typeface="Arial"/>
              </a:rPr>
              <a:t>2. QUY TRÌNH TUYỂN MỘ: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23880" y="3049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&amp; </a:t>
            </a: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LỰA CHỌ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380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762120" y="1752480"/>
            <a:ext cx="5105160" cy="53352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2.1. LẬP KẾ HOẠCH TUYỂN MỘ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" y="266688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Xác định vị trí, số lượng người cần tuyển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Nguồn tuyển mộ và phương pháp tuyển mộ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Thành lập hội đồng tuyển dụng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Xác định thời gian, địa điểm, chi phí tuyển mộ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Nắm rõ các chính sách, mục tiêu, quy định pháp chế của nhà nước và tổ chức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23880" y="3049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&amp; </a:t>
            </a: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LỰA CHỌ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380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 u="sng">
                <a:solidFill>
                  <a:srgbClr val="009900"/>
                </a:solidFill>
                <a:uFillTx/>
                <a:latin typeface="Arial"/>
              </a:rPr>
              <a:t>XÁC ĐỊNH TỶ LỆ SÀNG LỌC QUA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Căn cứ vào thị trường lao động (cung- cầu lao động)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Căn cứ vào chất lượng của NNL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Căn cứ vào mức độ phức tạp của công việc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Căn cứ tâm lý chọn nghề của tập thể người lao động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Kinh nghiệm tổ chức trong công tác tuyển mộ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3049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&amp; </a:t>
            </a: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LỰA CHỌ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380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1600200"/>
            <a:ext cx="5410080" cy="53352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2.3 CÁC HÌNH THỨC THU HÚT NNL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Thông qua giới thiệu của cán bộ công nhân viên chức trong và ngoài DN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Thông qua quảng cáo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Thông qua trung tâm giới thiệu việc làm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Tuyển trực tiếp từ các trường Đại học, cao đẳng, trung cấp,..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Thông qua hội chợ việc làm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Thông qua truyền thông, internet,..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523880" y="3049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&amp; </a:t>
            </a: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LỰA CHỌ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380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85800" y="1600200"/>
            <a:ext cx="5943600" cy="53352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2.4. ĐÁNH GIÁ QUÁ TRÌNH TUYỂN MỘ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2743200"/>
            <a:ext cx="807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3300"/>
                </a:solidFill>
                <a:latin typeface="Arial"/>
              </a:rPr>
              <a:t>Số lượng hồ sơ dự tuyển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3300"/>
                </a:solidFill>
                <a:latin typeface="Arial"/>
              </a:rPr>
              <a:t>Thời gian để thực hiện tuyển mộ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3300"/>
                </a:solidFill>
                <a:latin typeface="Arial"/>
              </a:rPr>
              <a:t>Chi phí tuyển mộ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523880" y="3049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&amp; </a:t>
            </a: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LỰA CHỌ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380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85800" y="1600200"/>
            <a:ext cx="6553080" cy="53352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2.5 GIẢI PHÁP THAY THẾ CHO TUYỂN MỘ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447920" y="2057400"/>
            <a:ext cx="6629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3300"/>
                </a:solidFill>
                <a:latin typeface="Arial"/>
                <a:ea typeface="Arial"/>
              </a:rPr>
              <a:t>  </a:t>
            </a:r>
            <a:r>
              <a:rPr b="0" lang="vi-VN" sz="2800" spc="-1" strike="noStrike">
                <a:solidFill>
                  <a:srgbClr val="003300"/>
                </a:solidFill>
                <a:latin typeface="Arial"/>
                <a:ea typeface="Arial"/>
              </a:rPr>
              <a:t>Làm thêm giờ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3300"/>
                </a:solidFill>
                <a:latin typeface="Arial"/>
                <a:ea typeface="Arial"/>
              </a:rPr>
              <a:t>  </a:t>
            </a:r>
            <a:r>
              <a:rPr b="0" lang="vi-VN" sz="2800" spc="-1" strike="noStrike">
                <a:solidFill>
                  <a:srgbClr val="003300"/>
                </a:solidFill>
                <a:latin typeface="Arial"/>
                <a:ea typeface="Arial"/>
              </a:rPr>
              <a:t>Nhờ giúp tạm thời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3300"/>
                </a:solidFill>
                <a:latin typeface="Arial"/>
                <a:ea typeface="Arial"/>
              </a:rPr>
              <a:t>  </a:t>
            </a:r>
            <a:r>
              <a:rPr b="0" lang="vi-VN" sz="2800" spc="-1" strike="noStrike">
                <a:solidFill>
                  <a:srgbClr val="003300"/>
                </a:solidFill>
                <a:latin typeface="Arial"/>
                <a:ea typeface="Arial"/>
              </a:rPr>
              <a:t>Hợp đồng thầu lại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3300"/>
                </a:solidFill>
                <a:latin typeface="Arial"/>
                <a:ea typeface="Arial"/>
              </a:rPr>
              <a:t>  </a:t>
            </a:r>
            <a:r>
              <a:rPr b="0" lang="vi-VN" sz="2800" spc="-1" strike="noStrike">
                <a:solidFill>
                  <a:srgbClr val="003300"/>
                </a:solidFill>
                <a:latin typeface="Arial"/>
                <a:ea typeface="Arial"/>
              </a:rPr>
              <a:t>Thuê lao động từ công ty khác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23880" y="3049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&amp; </a:t>
            </a: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LỰA CHỌ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380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685800" y="2057400"/>
            <a:ext cx="4572000" cy="53352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3.1 KHÁI NIỆM TUYỂN CHỌN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90720" y="3352680"/>
            <a:ext cx="6933960" cy="228600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3305160"/>
            <a:ext cx="81536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>
                <a:solidFill>
                  <a:srgbClr val="003300"/>
                </a:solidFill>
                <a:latin typeface="Arial"/>
              </a:rPr>
              <a:t>“</a:t>
            </a:r>
            <a:r>
              <a:rPr b="1" lang="vi-VN" sz="2600" spc="-1" strike="noStrike">
                <a:solidFill>
                  <a:srgbClr val="003300"/>
                </a:solidFill>
                <a:latin typeface="Arial"/>
              </a:rPr>
              <a:t>Tuyển chọn là quá trình đánh giá và chọn lọc kỹ lưỡng các ứng viên phù hợp với yêu cầu công việc đặt ra của tổ chức”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23880" y="3049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&amp; </a:t>
            </a: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LỰA CHỌ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380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4000" spc="-1" strike="noStrike">
                <a:solidFill>
                  <a:srgbClr val="ff0000"/>
                </a:solidFill>
                <a:latin typeface="Arial"/>
              </a:rPr>
              <a:t>TÀI LIỆU THAM KHẢO</a:t>
            </a:r>
            <a:br>
              <a:rPr sz="4000"/>
            </a:br>
            <a:r>
              <a:rPr b="1" lang="vi-VN" sz="4000" spc="-1" strike="noStrike">
                <a:solidFill>
                  <a:srgbClr val="ff0000"/>
                </a:solidFill>
                <a:latin typeface="Arial"/>
              </a:rPr>
              <a:t>*********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72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000" spc="-1" strike="noStrike">
                <a:solidFill>
                  <a:srgbClr val="003300"/>
                </a:solidFill>
                <a:latin typeface="Arial"/>
              </a:rPr>
              <a:t>Ts. Trần Kim Dung</a:t>
            </a:r>
            <a:r>
              <a:rPr b="0" lang="vi-VN" sz="3000" spc="-1" strike="noStrike">
                <a:solidFill>
                  <a:srgbClr val="003300"/>
                </a:solidFill>
                <a:latin typeface="Arial"/>
              </a:rPr>
              <a:t>, gíao trình QTNNL, NXB thống kê – 2006.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000" spc="-1" strike="noStrike">
                <a:solidFill>
                  <a:srgbClr val="003300"/>
                </a:solidFill>
                <a:latin typeface="Arial"/>
              </a:rPr>
              <a:t>Ts. Nguyễn Ngọc Quân và Ths Nguyễn Văn Điền</a:t>
            </a:r>
            <a:r>
              <a:rPr b="0" lang="vi-VN" sz="3000" spc="-1" strike="noStrike">
                <a:solidFill>
                  <a:srgbClr val="003300"/>
                </a:solidFill>
                <a:latin typeface="Arial"/>
              </a:rPr>
              <a:t>, giáo trình QTNNL, NXB trường ĐH Kinh Tế Quốc Dân- 2007.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000" spc="-1" strike="noStrike">
                <a:solidFill>
                  <a:srgbClr val="003300"/>
                </a:solidFill>
                <a:latin typeface="Arial"/>
              </a:rPr>
              <a:t>Một số tài liệu tham khảo khác.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685800" y="1905120"/>
            <a:ext cx="6553080" cy="53316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3.2 VAI TRÒ CỦA TUYỂN CHỌN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609480" y="2743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Đưa ra các quyết định tuyển dụng đúng đắn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Lựa chọn người có kỹ năng phù hợp với chiến lược và mục tiêu của tổ chức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Giảm chi phí và rủi ro trong quá trình thực hiện công việc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Ảnh hưởng đến chiến lược kinh doanh của tổ chức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Đánh giá mức độ thông tin chính xác và khoa học hơn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523880" y="3049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&amp; </a:t>
            </a: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LỰA CHỌ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0880" y="380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2666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3300"/>
                </a:solidFill>
                <a:latin typeface="Arial"/>
              </a:rPr>
              <a:t>Xuất phát từ kế hoạch sản xuất kinh doanh và kế họach NNL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3300"/>
                </a:solidFill>
                <a:latin typeface="Arial"/>
              </a:rPr>
              <a:t>Tuyển ngừời có trình độ chuyên môn-&gt; đạt năng suất và hiệu suất công tác cao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3300"/>
                </a:solidFill>
                <a:latin typeface="Arial"/>
              </a:rPr>
              <a:t>Tuyển người có tinh thần và trách nhiệm làm việc cao, gắn bó với công việc,.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23880" y="3049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&amp; </a:t>
            </a: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LỰA CHỌ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380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1905120"/>
            <a:ext cx="6553080" cy="53316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3.3 CÁC YÊU CẦU CỦA TUYỂN CHỌN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85800" y="4114800"/>
            <a:ext cx="2666880" cy="182880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53753" dir="27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4. QUY TRÌNH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TUYỂN CHỌN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1752480"/>
            <a:ext cx="2438280" cy="533520"/>
          </a:xfrm>
          <a:prstGeom prst="rect">
            <a:avLst/>
          </a:prstGeom>
          <a:solidFill>
            <a:srgbClr val="cccc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800" spc="-1" strike="noStrike">
                <a:solidFill>
                  <a:srgbClr val="003300"/>
                </a:solidFill>
                <a:latin typeface="Arial"/>
              </a:rPr>
              <a:t>Tiếp nhận Hồ sơ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2362320"/>
            <a:ext cx="2438280" cy="533160"/>
          </a:xfrm>
          <a:prstGeom prst="rect">
            <a:avLst/>
          </a:prstGeom>
          <a:solidFill>
            <a:srgbClr val="cccc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800" spc="-1" strike="noStrike">
                <a:solidFill>
                  <a:srgbClr val="003300"/>
                </a:solidFill>
                <a:latin typeface="Arial"/>
              </a:rPr>
              <a:t>Phỏng vấn sơ bộ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14600" y="2971800"/>
            <a:ext cx="2438280" cy="533520"/>
          </a:xfrm>
          <a:prstGeom prst="rect">
            <a:avLst/>
          </a:prstGeom>
          <a:solidFill>
            <a:srgbClr val="cccc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800" spc="-1" strike="noStrike">
                <a:solidFill>
                  <a:srgbClr val="003300"/>
                </a:solidFill>
                <a:latin typeface="Arial"/>
              </a:rPr>
              <a:t>Trắc nghiệm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657600" y="3581280"/>
            <a:ext cx="2438280" cy="533520"/>
          </a:xfrm>
          <a:prstGeom prst="rect">
            <a:avLst/>
          </a:prstGeom>
          <a:solidFill>
            <a:srgbClr val="cccc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800" spc="-1" strike="noStrike">
                <a:solidFill>
                  <a:srgbClr val="003300"/>
                </a:solidFill>
                <a:latin typeface="Arial"/>
              </a:rPr>
              <a:t>Phỏng vấn chọn lọc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495680" y="4191120"/>
            <a:ext cx="2438640" cy="533160"/>
          </a:xfrm>
          <a:prstGeom prst="rect">
            <a:avLst/>
          </a:prstGeom>
          <a:solidFill>
            <a:srgbClr val="cccc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800" spc="-1" strike="noStrike">
                <a:solidFill>
                  <a:srgbClr val="003300"/>
                </a:solidFill>
                <a:latin typeface="Arial"/>
              </a:rPr>
              <a:t>Xác minh, điều tra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334120" y="4876920"/>
            <a:ext cx="2438280" cy="533160"/>
          </a:xfrm>
          <a:prstGeom prst="rect">
            <a:avLst/>
          </a:prstGeom>
          <a:solidFill>
            <a:srgbClr val="cccc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800" spc="-1" strike="noStrike">
                <a:solidFill>
                  <a:srgbClr val="003300"/>
                </a:solidFill>
                <a:latin typeface="Arial"/>
              </a:rPr>
              <a:t>Kiểm tra sức khỏe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95880" y="5562720"/>
            <a:ext cx="2438640" cy="533160"/>
          </a:xfrm>
          <a:prstGeom prst="rect">
            <a:avLst/>
          </a:prstGeom>
          <a:solidFill>
            <a:srgbClr val="cccc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800" spc="-1" strike="noStrike">
                <a:solidFill>
                  <a:srgbClr val="003300"/>
                </a:solidFill>
                <a:latin typeface="Arial"/>
              </a:rPr>
              <a:t>Hướng dẫn hội nhập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5257440" y="1980720"/>
            <a:ext cx="3352680" cy="1243080"/>
          </a:xfrm>
          <a:prstGeom prst="rect">
            <a:avLst/>
          </a:prstGeom>
          <a:noFill/>
          <a:ln w="9360">
            <a:solidFill>
              <a:srgbClr val="6699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NI-Times"/>
              </a:rPr>
              <a:t> </a:t>
            </a:r>
            <a:r>
              <a:rPr b="0" lang="vi-VN" sz="2000" spc="-1" strike="noStrike" u="sng">
                <a:solidFill>
                  <a:srgbClr val="003300"/>
                </a:solidFill>
                <a:uFillTx/>
                <a:latin typeface="Arial"/>
              </a:rPr>
              <a:t>Lưu ý: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vi-VN" sz="1800" spc="-1" strike="noStrike">
                <a:solidFill>
                  <a:srgbClr val="003300"/>
                </a:solidFill>
                <a:latin typeface="Arial"/>
              </a:rPr>
              <a:t>Quy trình tuyển dụng có thể thay đổi linh họat tùy thuộc đặc điểm và vị trí công việc cần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33720" y="2286000"/>
            <a:ext cx="152280" cy="7632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2895480"/>
            <a:ext cx="152280" cy="7632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038480" y="3505320"/>
            <a:ext cx="152640" cy="7596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952880" y="4114800"/>
            <a:ext cx="152640" cy="7632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19920" y="4724280"/>
            <a:ext cx="152280" cy="7632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0" y="5410080"/>
            <a:ext cx="152280" cy="7632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3880" y="3049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&amp; </a:t>
            </a: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LỰA CHỌ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380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837720" y="24084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Chọn ra hồ sơ đạt yêu cầu dựa trên biểu mẫu đánh giá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Loại bỏ các ứng viên yếu kém, không trung thực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Kiểm tra thông tin trong hồ sơ dự tuyển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Thông báo ứng viên đạt yêu cầu tham gia tiếp phần kiểm tra, trắc nghiệm,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" y="1600200"/>
            <a:ext cx="4038480" cy="53352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4.1 PHỎNG VẤN SƠ BỘ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523880" y="3049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&amp; </a:t>
            </a: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LỰA CHỌ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80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53352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Cho ứng viên làm kiểm tra/ trắc nghiệm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Có thể dùng các dạng kiểm tra/ trắc nghiệm sau: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85840">
              <a:spcBef>
                <a:spcPts val="649"/>
              </a:spcBef>
              <a:buClr>
                <a:srgbClr val="0033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>
                <a:solidFill>
                  <a:srgbClr val="009900"/>
                </a:solidFill>
                <a:latin typeface="Arial"/>
              </a:rPr>
              <a:t>Trắc nghiệm IQ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85840">
              <a:spcBef>
                <a:spcPts val="649"/>
              </a:spcBef>
              <a:buClr>
                <a:srgbClr val="0033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>
                <a:solidFill>
                  <a:srgbClr val="009900"/>
                </a:solidFill>
                <a:latin typeface="Arial"/>
              </a:rPr>
              <a:t>Trắc nghiệm kỹ năng, chuyên môn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85840">
              <a:spcBef>
                <a:spcPts val="649"/>
              </a:spcBef>
              <a:buClr>
                <a:srgbClr val="0033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>
                <a:solidFill>
                  <a:srgbClr val="009900"/>
                </a:solidFill>
                <a:latin typeface="Arial"/>
              </a:rPr>
              <a:t>Trắc nghiệm kiến thức tổng quan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85840">
              <a:spcBef>
                <a:spcPts val="649"/>
              </a:spcBef>
              <a:buClr>
                <a:srgbClr val="0033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>
                <a:solidFill>
                  <a:srgbClr val="009900"/>
                </a:solidFill>
                <a:latin typeface="Arial"/>
              </a:rPr>
              <a:t>Trắc nghiệm tâm lý, tính cách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85840">
              <a:spcBef>
                <a:spcPts val="649"/>
              </a:spcBef>
              <a:buClr>
                <a:srgbClr val="0033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>
                <a:solidFill>
                  <a:srgbClr val="009900"/>
                </a:solidFill>
                <a:latin typeface="Arial"/>
              </a:rPr>
              <a:t>Trắc nghiệm thành tích,vv..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Thông báo ứng viên đạt yêu cầu tham gia phỏng vấn tuyển chọn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1600200"/>
            <a:ext cx="4648320" cy="53352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4.2. KIỂM TRA, TRẮC NGHIỆM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049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&amp; </a:t>
            </a: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LỰA CHỌ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0880" y="380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09480" y="21333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 u="sng">
                <a:solidFill>
                  <a:srgbClr val="003300"/>
                </a:solidFill>
                <a:uFillTx/>
                <a:latin typeface="Arial"/>
              </a:rPr>
              <a:t>Mục tiêu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3300"/>
                </a:solidFill>
                <a:latin typeface="Arial"/>
              </a:rPr>
              <a:t>Thu thập thông tin về ứng viên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3300"/>
                </a:solidFill>
                <a:latin typeface="Arial"/>
              </a:rPr>
              <a:t>Giới thiệu về công ty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3300"/>
                </a:solidFill>
                <a:latin typeface="Arial"/>
              </a:rPr>
              <a:t>Cung cấp thông tin cần thiết cho các ứng viên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3300"/>
                </a:solidFill>
                <a:latin typeface="Arial"/>
              </a:rPr>
              <a:t>Thiết lập quan hệ, tăng khả năng giao tiếp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523880" y="3049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&amp; </a:t>
            </a: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LỰA CHỌ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0880" y="380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09480" y="1523880"/>
            <a:ext cx="4800600" cy="53352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4.3. PHỎNG VẤN TUYỂN CHỌ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2286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 u="sng">
                <a:solidFill>
                  <a:srgbClr val="009900"/>
                </a:solidFill>
                <a:uFillTx/>
                <a:latin typeface="Arial"/>
              </a:rPr>
              <a:t>Các dạng phỏng vấn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3300"/>
                </a:solidFill>
                <a:latin typeface="Arial"/>
              </a:rPr>
              <a:t>Phỏng vấn theo mẫu/ không mẫu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3300"/>
                </a:solidFill>
                <a:latin typeface="Arial"/>
              </a:rPr>
              <a:t>Phỏng vấn theo tình huống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3300"/>
                </a:solidFill>
                <a:latin typeface="Arial"/>
              </a:rPr>
              <a:t>Phỏng vấn theo nhóm,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3300"/>
                </a:solidFill>
                <a:latin typeface="Arial"/>
              </a:rPr>
              <a:t>Phỏng vấn theo hội đồng,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3300"/>
                </a:solidFill>
                <a:latin typeface="Arial"/>
              </a:rPr>
              <a:t>Phỏng vấn căng thẳng,vv..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62120" y="1676520"/>
            <a:ext cx="4800600" cy="53316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4.3. PHỎNG VẤN TUYỂN CHỌ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523880" y="3049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&amp; </a:t>
            </a: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LỰA CHỌ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80880" y="380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6094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33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3300"/>
                </a:solidFill>
                <a:latin typeface="Arial"/>
              </a:rPr>
              <a:t>Trình tự phỏng vấn gồm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00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ff0000"/>
                </a:solidFill>
                <a:latin typeface="Arial"/>
              </a:rPr>
              <a:t>Lên kế hoạch phỏng vấ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00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ff0000"/>
                </a:solidFill>
                <a:latin typeface="Arial"/>
              </a:rPr>
              <a:t>Chuẩn bị và lựa chọn bản câu hỏi phỏng vấn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00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ff0000"/>
                </a:solidFill>
                <a:latin typeface="Arial"/>
              </a:rPr>
              <a:t>Xây dựng hệ thống thang điểm đánh giá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00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ff0000"/>
                </a:solidFill>
                <a:latin typeface="Arial"/>
              </a:rPr>
              <a:t>Tiến hành phỏng vấn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3300"/>
                </a:solidFill>
                <a:uFillTx/>
                <a:latin typeface="Arial"/>
              </a:rPr>
              <a:t>Chú ý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Cần chuẩn bị các bước theo đúng quy trình phỏng vấn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Đặt câu hỏi, lắng nghe, và quan sát ứng viên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09480" y="1523880"/>
            <a:ext cx="4800600" cy="53352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4.3. PHỎNG VẤN TUYỂN CHỌ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23880" y="3049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&amp; </a:t>
            </a: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LỰA CHỌ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0880" y="380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53352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Xác minh năng lực, lòng trung thành, trình độ, lý lịch cá nhân của ứng viên qua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Công ty cũ của ứng viên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Địa phương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Trường học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Thông báo cho ứng viên trúng tuyển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Cung cấp các tiêu chuẩn về thể lực cho các yêu cầu vị trí công việc cụ thể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1600200"/>
            <a:ext cx="4800600" cy="53352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4.4. XÁC MINH, ĐIỀU TRA 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85800" y="4800600"/>
            <a:ext cx="4800600" cy="53352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4.5 KIỂM TRA SỨC KHỎE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523880" y="3049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&amp; </a:t>
            </a: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LỰA CHỌ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0880" y="380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533520" y="25146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Giới thiệu nhân viên mới với các thành viên cũ trong công ty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Hướng dẫn công việc, nhiệm vụ cần phải thực hiện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Thực hiện thử việc dựa theo bảng đánh giá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Quyết định tuyển dụng chính thức và ký hợp đồng lao động dài hạn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828800"/>
            <a:ext cx="4800600" cy="53352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4.6. HƯỚNG DẪN HỘI NHẬP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523880" y="3049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&amp; </a:t>
            </a: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LỰA CHỌ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0880" y="380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295280" y="22860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GUỒN NHÂN LỰC 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380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1600200"/>
            <a:ext cx="373392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MỤC TIÊU CHƯƠNG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251460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6720" indent="-396720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0066"/>
                </a:solidFill>
                <a:latin typeface="Arial"/>
              </a:rPr>
              <a:t>Hiểu được khái niệm và vai trò của tuyển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ộ </a:t>
            </a:r>
            <a:r>
              <a:rPr b="1" lang="vi-VN" sz="2400" spc="-1" strike="noStrike">
                <a:solidFill>
                  <a:srgbClr val="000066"/>
                </a:solidFill>
                <a:latin typeface="Arial"/>
              </a:rPr>
              <a:t>và lựa chọn NN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96720" indent="-396720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96720" indent="-396720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0066"/>
                </a:solidFill>
                <a:latin typeface="Arial"/>
              </a:rPr>
              <a:t>Các nhân tố ảnh hưởng đến quá trình tuyển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ộ </a:t>
            </a:r>
            <a:r>
              <a:rPr b="1" lang="vi-VN" sz="2400" spc="-1" strike="noStrike">
                <a:solidFill>
                  <a:srgbClr val="000066"/>
                </a:solidFill>
                <a:latin typeface="Arial"/>
              </a:rPr>
              <a:t>và lựa chọn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96720" indent="-396720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96720" indent="-396720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0066"/>
                </a:solidFill>
                <a:latin typeface="Arial"/>
              </a:rPr>
              <a:t>Quy trình tuyển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ộ </a:t>
            </a:r>
            <a:r>
              <a:rPr b="1" lang="vi-VN" sz="2400" spc="-1" strike="noStrike">
                <a:solidFill>
                  <a:srgbClr val="000066"/>
                </a:solidFill>
                <a:latin typeface="Arial"/>
              </a:rPr>
              <a:t>và lựa chọn ?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96720" indent="-396720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96720" indent="-396720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0066"/>
                </a:solidFill>
                <a:latin typeface="Arial"/>
              </a:rPr>
              <a:t>Đánh giá kết quả tuyển dụng và thực hiện bố trí nhân sự</a:t>
            </a:r>
            <a:br>
              <a:rPr sz="2400"/>
            </a:br>
            <a:r>
              <a:rPr b="1" lang="vi-VN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1981080"/>
            <a:ext cx="4267440" cy="60984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KHÁI QUÁT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 TUYỂN DỤNG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2133720"/>
            <a:ext cx="7772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463680" indent="-46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463680" indent="-46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3300"/>
                </a:solidFill>
                <a:latin typeface="Arial"/>
              </a:rPr>
              <a:t>Là quá trình bao gồm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vi-VN" sz="2800" spc="-1" strike="noStrike">
                <a:solidFill>
                  <a:srgbClr val="0033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463680" indent="-463680"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vi-VN" sz="2800" spc="-1" strike="noStrike">
                <a:solidFill>
                  <a:srgbClr val="003300"/>
                </a:solidFill>
                <a:latin typeface="Arial"/>
              </a:rPr>
              <a:t>Tuyển mộ,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463680" indent="-463680"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vi-VN" sz="2800" spc="-1" strike="noStrike">
                <a:solidFill>
                  <a:srgbClr val="003300"/>
                </a:solidFill>
                <a:latin typeface="Arial"/>
              </a:rPr>
              <a:t>Tuyển chọn,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463680" indent="-463680"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vi-VN" sz="2800" spc="-1" strike="noStrike">
                <a:solidFill>
                  <a:srgbClr val="003300"/>
                </a:solidFill>
                <a:latin typeface="Arial"/>
              </a:rPr>
              <a:t>Bố trí</a:t>
            </a:r>
            <a:r>
              <a:rPr b="0" i="1" lang="vi-VN" sz="2800" spc="-1" strike="noStrike">
                <a:solidFill>
                  <a:srgbClr val="0033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463680" indent="-46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3300"/>
                </a:solidFill>
                <a:latin typeface="Arial"/>
              </a:rPr>
              <a:t>chúng được liên kết chặt chẽ với nhau.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463680" indent="-463680">
              <a:buClr>
                <a:srgbClr val="00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23880" y="3049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&amp; </a:t>
            </a: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LỰA CHỌ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380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3124080"/>
            <a:ext cx="83059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“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Tuyển mộ là quá trình thu hút những ứng viên có năng lực phù hợp tham gia vào quá trình tuyển chọn của công ty.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  <a:ea typeface="SimSun"/>
              </a:rPr>
              <a:t>”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1828800"/>
            <a:ext cx="4419720" cy="60948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1.1. KHÁI NIỆM TUYỂN MỘ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3880" y="3049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&amp; </a:t>
            </a: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LỰA CHỌ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380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 rot="16200000">
            <a:off x="-722160" y="26272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0000"/>
                </a:solidFill>
                <a:latin typeface="Arial"/>
                <a:ea typeface="Arial"/>
              </a:rPr>
              <a:t>TUYỂN MỘ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80880" y="228600"/>
            <a:ext cx="8458200" cy="5943600"/>
            <a:chOff x="380880" y="228600"/>
            <a:chExt cx="8458200" cy="5943600"/>
          </a:xfrm>
        </p:grpSpPr>
        <p:grpSp>
          <p:nvGrpSpPr>
            <p:cNvPr id="126" name=""/>
            <p:cNvGrpSpPr/>
            <p:nvPr/>
          </p:nvGrpSpPr>
          <p:grpSpPr>
            <a:xfrm>
              <a:off x="380880" y="228600"/>
              <a:ext cx="8458200" cy="5943600"/>
              <a:chOff x="380880" y="228600"/>
              <a:chExt cx="8458200" cy="5943600"/>
            </a:xfrm>
          </p:grpSpPr>
          <p:sp>
            <p:nvSpPr>
              <p:cNvPr id="127" name=""/>
              <p:cNvSpPr/>
              <p:nvPr/>
            </p:nvSpPr>
            <p:spPr>
              <a:xfrm>
                <a:off x="380880" y="609480"/>
                <a:ext cx="609840" cy="5486400"/>
              </a:xfrm>
              <a:prstGeom prst="rect">
                <a:avLst/>
              </a:prstGeom>
              <a:solidFill>
                <a:srgbClr val="cccc00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447920" y="457200"/>
                <a:ext cx="5181480" cy="457200"/>
              </a:xfrm>
              <a:prstGeom prst="rect">
                <a:avLst/>
              </a:prstGeom>
              <a:solidFill>
                <a:srgbClr val="cccc00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vi-VN" sz="2400" spc="-1" strike="noStrike">
                    <a:solidFill>
                      <a:srgbClr val="003300"/>
                    </a:solidFill>
                    <a:latin typeface="Arial"/>
                  </a:rPr>
                  <a:t>Nhiều người tham gia</a:t>
                </a: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447920" y="990720"/>
                <a:ext cx="5181480" cy="457200"/>
              </a:xfrm>
              <a:prstGeom prst="rect">
                <a:avLst/>
              </a:prstGeom>
              <a:solidFill>
                <a:srgbClr val="cccc00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vi-VN" sz="2400" spc="-1" strike="noStrike">
                    <a:solidFill>
                      <a:srgbClr val="003300"/>
                    </a:solidFill>
                    <a:latin typeface="Arial"/>
                  </a:rPr>
                  <a:t>Tỷ lệ người được chấp nhận</a:t>
                </a: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447920" y="1523880"/>
                <a:ext cx="5181480" cy="507960"/>
              </a:xfrm>
              <a:prstGeom prst="rect">
                <a:avLst/>
              </a:prstGeom>
              <a:solidFill>
                <a:srgbClr val="cccc00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vi-VN" sz="2400" spc="-1" strike="noStrike">
                    <a:solidFill>
                      <a:srgbClr val="003300"/>
                    </a:solidFill>
                    <a:latin typeface="Arial"/>
                  </a:rPr>
                  <a:t>Ứng viên có trình độ lành nghề cao</a:t>
                </a: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447920" y="2133720"/>
                <a:ext cx="5181480" cy="457200"/>
              </a:xfrm>
              <a:prstGeom prst="rect">
                <a:avLst/>
              </a:prstGeom>
              <a:solidFill>
                <a:srgbClr val="cccc00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vi-VN" sz="2400" spc="-1" strike="noStrike">
                    <a:solidFill>
                      <a:srgbClr val="003300"/>
                    </a:solidFill>
                    <a:latin typeface="Arial"/>
                  </a:rPr>
                  <a:t>Các vấn đề tồn tại công việc </a:t>
                </a: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447920" y="2666880"/>
                <a:ext cx="5181480" cy="457200"/>
              </a:xfrm>
              <a:prstGeom prst="rect">
                <a:avLst/>
              </a:prstGeom>
              <a:solidFill>
                <a:srgbClr val="cccc00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vi-VN" sz="2400" spc="-1" strike="noStrike">
                    <a:solidFill>
                      <a:srgbClr val="003300"/>
                    </a:solidFill>
                    <a:latin typeface="Arial"/>
                  </a:rPr>
                  <a:t>Cung lao động- mức lương</a:t>
                </a: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447920" y="3200400"/>
                <a:ext cx="5181480" cy="457200"/>
              </a:xfrm>
              <a:prstGeom prst="rect">
                <a:avLst/>
              </a:prstGeom>
              <a:solidFill>
                <a:srgbClr val="cccc00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vi-VN" sz="2400" spc="-1" strike="noStrike">
                    <a:solidFill>
                      <a:srgbClr val="003300"/>
                    </a:solidFill>
                    <a:latin typeface="Arial"/>
                  </a:rPr>
                  <a:t>Mức lương hấp dẫn</a:t>
                </a: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447920" y="3733920"/>
                <a:ext cx="5181480" cy="457200"/>
              </a:xfrm>
              <a:prstGeom prst="rect">
                <a:avLst/>
              </a:prstGeom>
              <a:solidFill>
                <a:srgbClr val="cccc00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vi-VN" sz="2400" spc="-1" strike="noStrike">
                    <a:solidFill>
                      <a:srgbClr val="003300"/>
                    </a:solidFill>
                    <a:latin typeface="Arial"/>
                  </a:rPr>
                  <a:t>Ứng viên có tay nghề.</a:t>
                </a: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447920" y="4267080"/>
                <a:ext cx="5181480" cy="457200"/>
              </a:xfrm>
              <a:prstGeom prst="rect">
                <a:avLst/>
              </a:prstGeom>
              <a:solidFill>
                <a:srgbClr val="cccc00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vi-VN" sz="2400" spc="-1" strike="noStrike">
                    <a:solidFill>
                      <a:srgbClr val="003300"/>
                    </a:solidFill>
                    <a:latin typeface="Arial"/>
                  </a:rPr>
                  <a:t>Giảm thời gian và chi phí đào tạo.</a:t>
                </a: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447920" y="4800600"/>
                <a:ext cx="5181480" cy="457200"/>
              </a:xfrm>
              <a:prstGeom prst="rect">
                <a:avLst/>
              </a:prstGeom>
              <a:solidFill>
                <a:srgbClr val="cccc00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vi-VN" sz="2400" spc="-1" strike="noStrike">
                    <a:solidFill>
                      <a:srgbClr val="003300"/>
                    </a:solidFill>
                    <a:latin typeface="Arial"/>
                  </a:rPr>
                  <a:t>Bố trí công việc thích hợp</a:t>
                </a: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447920" y="5334120"/>
                <a:ext cx="5181480" cy="838080"/>
              </a:xfrm>
              <a:prstGeom prst="rect">
                <a:avLst/>
              </a:prstGeom>
              <a:solidFill>
                <a:srgbClr val="cccc00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vi-VN" sz="2400" spc="-1" strike="noStrike">
                    <a:solidFill>
                      <a:srgbClr val="003300"/>
                    </a:solidFill>
                    <a:latin typeface="Arial"/>
                  </a:rPr>
                  <a:t>Hình ảnh công ty ảnh hưởng số lượng </a:t>
                </a: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vi-VN" sz="2400" spc="-1" strike="noStrike">
                    <a:solidFill>
                      <a:srgbClr val="003300"/>
                    </a:solidFill>
                    <a:latin typeface="Arial"/>
                  </a:rPr>
                  <a:t>đơn xin dự tuyển của ứng viên</a:t>
                </a: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010280" y="228600"/>
                <a:ext cx="1828800" cy="762120"/>
              </a:xfrm>
              <a:prstGeom prst="rect">
                <a:avLst/>
              </a:prstGeom>
              <a:solidFill>
                <a:srgbClr val="cccc00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vi-VN" sz="2400" spc="-1" strike="noStrike">
                    <a:solidFill>
                      <a:srgbClr val="000000"/>
                    </a:solidFill>
                    <a:latin typeface="Arial"/>
                  </a:rPr>
                  <a:t>Tuyển chọn</a:t>
                </a: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010280" y="1600200"/>
                <a:ext cx="1828800" cy="762120"/>
              </a:xfrm>
              <a:prstGeom prst="rect">
                <a:avLst/>
              </a:prstGeom>
              <a:solidFill>
                <a:srgbClr val="cccc00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vi-VN" sz="2400" spc="-1" strike="noStrike">
                    <a:solidFill>
                      <a:srgbClr val="000000"/>
                    </a:solidFill>
                    <a:latin typeface="Arial"/>
                  </a:rPr>
                  <a:t>Đánh giá</a:t>
                </a: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vi-VN" sz="2400" spc="-1" strike="noStrike">
                    <a:solidFill>
                      <a:srgbClr val="000000"/>
                    </a:solidFill>
                    <a:latin typeface="Arial"/>
                  </a:rPr>
                  <a:t>công việc</a:t>
                </a: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010280" y="2743200"/>
                <a:ext cx="1828800" cy="762120"/>
              </a:xfrm>
              <a:prstGeom prst="rect">
                <a:avLst/>
              </a:prstGeom>
              <a:solidFill>
                <a:srgbClr val="cccc00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vi-VN" sz="2400" spc="-1" strike="noStrike">
                    <a:solidFill>
                      <a:srgbClr val="000000"/>
                    </a:solidFill>
                    <a:latin typeface="Arial"/>
                  </a:rPr>
                  <a:t>Thù lao</a:t>
                </a: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010280" y="3733920"/>
                <a:ext cx="1828800" cy="761760"/>
              </a:xfrm>
              <a:prstGeom prst="rect">
                <a:avLst/>
              </a:prstGeom>
              <a:solidFill>
                <a:srgbClr val="cccc00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vi-VN" sz="2400" spc="-1" strike="noStrike">
                    <a:solidFill>
                      <a:srgbClr val="000000"/>
                    </a:solidFill>
                    <a:latin typeface="Arial"/>
                  </a:rPr>
                  <a:t>Đào tạo và</a:t>
                </a: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vi-VN" sz="2400" spc="-1" strike="noStrike">
                    <a:solidFill>
                      <a:srgbClr val="000000"/>
                    </a:solidFill>
                    <a:latin typeface="Arial"/>
                  </a:rPr>
                  <a:t>Phát triển</a:t>
                </a: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010280" y="4876920"/>
                <a:ext cx="1828800" cy="761760"/>
              </a:xfrm>
              <a:prstGeom prst="rect">
                <a:avLst/>
              </a:prstGeom>
              <a:solidFill>
                <a:srgbClr val="cccc00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vi-VN" sz="2400" spc="-1" strike="noStrike">
                    <a:solidFill>
                      <a:srgbClr val="000000"/>
                    </a:solidFill>
                    <a:latin typeface="Arial"/>
                  </a:rPr>
                  <a:t>Mối quan hệ</a:t>
                </a: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vi-VN" sz="2400" spc="-1" strike="noStrike">
                    <a:solidFill>
                      <a:srgbClr val="000000"/>
                    </a:solidFill>
                    <a:latin typeface="Arial"/>
                  </a:rPr>
                  <a:t>Lao động</a:t>
                </a: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629400" y="685800"/>
                <a:ext cx="380880" cy="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629400" y="1828800"/>
                <a:ext cx="457200" cy="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629400" y="2895480"/>
                <a:ext cx="457200" cy="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629400" y="3962520"/>
                <a:ext cx="380880" cy="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629400" y="5029200"/>
                <a:ext cx="380880" cy="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990720" y="762120"/>
                <a:ext cx="457200" cy="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>
                <a:off x="990720" y="1143000"/>
                <a:ext cx="457200" cy="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>
                <a:off x="990720" y="2286000"/>
                <a:ext cx="457200" cy="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>
                <a:off x="990720" y="3429000"/>
                <a:ext cx="457200" cy="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990720" y="4495680"/>
                <a:ext cx="457200" cy="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>
                <a:off x="990720" y="5638680"/>
                <a:ext cx="457200" cy="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 rot="16200000">
              <a:off x="-1485720" y="2780640"/>
              <a:ext cx="4343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2400" spc="-1" strike="noStrike">
                  <a:solidFill>
                    <a:srgbClr val="003300"/>
                  </a:solidFill>
                  <a:latin typeface="Arial"/>
                </a:rPr>
                <a:t>TUYỂN MỘ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380880" y="6248520"/>
            <a:ext cx="8382240" cy="457200"/>
          </a:xfrm>
          <a:prstGeom prst="rect">
            <a:avLst/>
          </a:prstGeom>
          <a:solidFill>
            <a:srgbClr val="6699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MỐI QUAN HỆ TUYỂN MỘ VÀ CHỨC NĂNG KHÁC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838080" y="251460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Thu hút những người tài 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Bổ nhiệm và bố trí lại nhân sự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Kích thích tinh thần làm việc, tính sáng tạo, đạt hiệu quả công việc cao hơn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Tạo nguồn sinh lực mới cho doanh nghiệp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Xây dựng và phát triển văn hóa tổ chức tốt hơn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Tăng lợi thế cạnh tranh cho doanh nghiệp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38080" y="1600200"/>
            <a:ext cx="4876920" cy="60948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1.2 MỤC TIÊU CỦA TUYỂN MỘ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23880" y="3049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&amp; </a:t>
            </a: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LỰA CHỌ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380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762120" y="1523880"/>
            <a:ext cx="7238880" cy="60984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1.3. </a:t>
            </a:r>
            <a:r>
              <a:rPr b="1" lang="vi-VN" sz="2600" spc="-1" strike="noStrike">
                <a:solidFill>
                  <a:srgbClr val="ffff00"/>
                </a:solidFill>
                <a:latin typeface="Arial"/>
              </a:rPr>
              <a:t>CÁC NHÂN TỐ ẢNH HƯỞNG TUYỂN MỘ: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990720" y="225576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Uy tín của doanh nghiệp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Thông báo tuyển dụng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Chính sách quản lý nhân sự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Quan hệ với trung tâm giới thiệu việc làm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Tài chính của công ty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Mối quan tâm giữa các ngành nghề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Thị trường lao động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Đối thủ cạnh tranh cùng ngành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23880" y="22860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&amp; </a:t>
            </a: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LỰA CHỌ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3049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85800" y="1600200"/>
            <a:ext cx="5105520" cy="53352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1.4 . CÁC NGUỒN TUYỂN MỘ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3048120"/>
            <a:ext cx="7924680" cy="27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Ứng viên là nhân viên bên trong công ty. Họ được: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463680" indent="-463680"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 marL="463680" indent="-463680"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Giới thiệu từ cán bộ, công nhân trong tổ chức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463680" indent="-463680"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Thông báo tuyển dụng công khai các chức danh     cần tuyển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463680" indent="-463680"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 marL="463680" indent="-463680"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Đề bạt dựa trên thông tin về quá trình làm việc, trình độ, thành tích cá nhân,..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2362320"/>
            <a:ext cx="4038480" cy="457200"/>
          </a:xfrm>
          <a:prstGeom prst="flowChartAlternateProcess">
            <a:avLst/>
          </a:prstGeom>
          <a:solidFill>
            <a:srgbClr val="ff99cc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3300"/>
                </a:solidFill>
                <a:latin typeface="Arial"/>
              </a:rPr>
              <a:t>NGUỒN BÊN TRONG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23880" y="3049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&amp; </a:t>
            </a: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LỰA CHỌ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380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8T17:36:44Z</dcterms:created>
  <dc:creator>TUAN HANH</dc:creator>
  <dc:description/>
  <dc:language>en-US</dc:language>
  <cp:lastModifiedBy>TUAN HANH</cp:lastModifiedBy>
  <dcterms:modified xsi:type="dcterms:W3CDTF">2010-05-04T07:41:41Z</dcterms:modified>
  <cp:revision>7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