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75AF-A5A8-4B0B-90E3-D6DA42133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3642-3FE5-4E89-B82E-4AF75D1BC5A4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53C4-4628-45EA-8D0D-DE92433054F6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9643-BDE0-4C72-942D-C836EA011984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0D6A-EAD4-4730-BBD9-A4A0E0E9E0B5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9A50-7112-49E4-A3B4-8267981887D5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9F77-C5F7-4EB8-9ADF-1A6362AD4B74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CFCE-D3D0-4216-B2F8-67E9779CCB15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BA8B-D5D9-4F44-B443-7EAC8251ACD7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500A-9508-445C-9A7E-8E2FF4B8E243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B474-5090-48AD-9132-8CA4A0CD6769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C16C-B939-480C-BBFF-06D5D62CC93A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8998-FDD5-4037-AD03-BF854C70F1A8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D6B7-4CEE-416D-8F38-5A61F0003B2B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7EE3-302C-4824-9995-B5043DC4A274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5A039-5012-4846-86C3-F77ABBCF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35D4-BCCD-41EB-AA24-0A038469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5DD92-6368-4DFA-86CC-A72CBFC6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883D-8C59-4D7F-8FBD-85923C2D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6045-D3F5-4E09-81D8-11E37B32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0D96-3E97-4C30-A945-25349BE1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18CC-54F9-4F38-89B6-2B9090E8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B414-A007-4244-8656-73B5DE6C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C73E-974C-4B30-A8B4-A68DBC53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860C-F41A-4504-BBE7-690FEF44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B782-A46B-4399-BE23-7DE6F405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B9ED-2B49-41F0-B900-10705116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3A08-6907-44E6-BB0D-C59D9141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5A03-3671-4B8B-8FE6-03A5A7A8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49AA-0DCE-4ADA-9272-583AB373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C056-146E-412C-9D23-5471CE15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FFC6-B290-4F09-8B17-8C16FFBA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2BE19-D9AD-4E87-ADFE-F18DCC4C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26E59-FEC6-491E-BCA0-014F3DFC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C4CB2-98DB-4BF2-A566-7D464CCA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72E98-EC70-4142-AE9F-97AC228C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A6985-9934-4E66-AA1C-EAB6E6A4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26F56-5EE1-4C9E-B2BD-8F824872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38B98-5A10-4E2C-BEC1-BA5E1E8D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480E-4F4B-4FBA-B893-29910B2DEB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C96A-1517-4F80-B0A3-2EA6DEFBDD9F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152280" y="820800"/>
            <a:ext cx="891540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800" spc="-1" strike="noStrike">
                <a:solidFill>
                  <a:srgbClr val="ffff00"/>
                </a:solidFill>
                <a:latin typeface="Arial"/>
              </a:rPr>
              <a:t>ĐÀO TẠO VÀ PHÁT TRIỂN</a:t>
            </a: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800" spc="-1" strike="noStrike">
                <a:solidFill>
                  <a:srgbClr val="ffff00"/>
                </a:solidFill>
                <a:latin typeface="Arial"/>
              </a:rPr>
              <a:t>NGUỒN NHÂN LỰC</a:t>
            </a: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2975040" y="974880"/>
            <a:ext cx="25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000066"/>
                </a:solidFill>
                <a:latin typeface="Arial"/>
              </a:rPr>
              <a:t>Chương 5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AutoShape 16"/>
          <p:cNvSpPr/>
          <p:nvPr/>
        </p:nvSpPr>
        <p:spPr>
          <a:xfrm>
            <a:off x="4343400" y="5105520"/>
            <a:ext cx="3962520" cy="5331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KHOA QUẢN TRỊ KINH DOA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AutoShape 17"/>
          <p:cNvSpPr/>
          <p:nvPr/>
        </p:nvSpPr>
        <p:spPr>
          <a:xfrm>
            <a:off x="5334120" y="5715000"/>
            <a:ext cx="2971800" cy="3808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GV. LÊ THỊ HẠ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80880" y="243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vi-VN" sz="2600" spc="-1" strike="noStrike" u="sng">
                <a:solidFill>
                  <a:srgbClr val="ff3300"/>
                </a:solidFill>
                <a:uFillTx/>
                <a:latin typeface="Arial"/>
              </a:rPr>
              <a:t>Phương thức xác định nhu cầu đào tạo?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rao đổi với quản lý các bộ phậ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Giám sát tình hình họat động của nhân viê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Phỏng vấ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Dùng phiếu điều tra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Phân tích các vấn đề của nhóm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Phân tích các báo cáo/ ghi chép về kết quả thực hiện công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63" name="Group 6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164" name="Rectangle 7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66" name="Rectangle 7"/>
          <p:cNvSpPr/>
          <p:nvPr/>
        </p:nvSpPr>
        <p:spPr>
          <a:xfrm>
            <a:off x="533520" y="1752480"/>
            <a:ext cx="731520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1 XÁC ĐỊNH NHU CẦU &amp; MỤC TIÊU ĐÀO TẠO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ff3300"/>
                </a:solidFill>
                <a:uFillTx/>
                <a:latin typeface="Arial"/>
              </a:rPr>
              <a:t>Xác định mục tiêu đào tạo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Nhân viên sẽ tiếp thu được kiến thức và kỹ năng gì?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của nhân viên được cải tiến ra sao?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Xác định dựa trên tiêu chí 5W+1H?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hất lượng NNL và hiệu quả chiến lược kinh doanh của doanh nghiệp?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169" name="Rectangle 7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1" name="Rectangle 7"/>
          <p:cNvSpPr/>
          <p:nvPr/>
        </p:nvSpPr>
        <p:spPr>
          <a:xfrm>
            <a:off x="609480" y="1676520"/>
            <a:ext cx="731520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1 XÁC ĐỊNH NHU CẦU &amp; MỤC TIÊU ĐÀO TẠO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6360" indent="-306360"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ff0000"/>
                </a:solidFill>
                <a:uFillTx/>
                <a:latin typeface="Arial"/>
              </a:rPr>
              <a:t>Phân lọai các hình thức đào tạo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eo định hướng đào tạo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eo mục đích đào tạo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eo tổ chức hình thức đào tạo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eo địa điểm và nơi đào tạo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eo đối tượng học viê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ff0000"/>
                </a:solidFill>
                <a:uFillTx/>
                <a:latin typeface="Arial"/>
              </a:rPr>
              <a:t>Chọn phương thức đào tạo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Đào tạo tại chỗ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Đào tạo tập trung 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174" name="Rectangle 5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5" name="Rectangle 6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6" name="Rectangle 7"/>
          <p:cNvSpPr/>
          <p:nvPr/>
        </p:nvSpPr>
        <p:spPr>
          <a:xfrm>
            <a:off x="609480" y="1447920"/>
            <a:ext cx="47246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ẬP KẾ HOẠCH ĐÀO TẠ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762120" y="2514600"/>
            <a:ext cx="1523880" cy="121932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ĐÀO TẠ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TẠI CHỖ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685800" y="2454120"/>
            <a:ext cx="8001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hân viên tham gia khóa học ngắn hạn,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ổ chức tại doanh nghiệp, nắm bắt công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việc và kỹ năng làm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Phương pháp</a:t>
            </a:r>
            <a:r>
              <a:rPr b="1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minh họa, kèm cặp, đỡ đầu, luân chuyển công việc,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Ưu điểm</a:t>
            </a:r>
            <a:r>
              <a:rPr b="1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chi phí thấp, phù hợp đào tạo cho nhân viên mới, thuyên chuyển công việc, tạo ra sản phẩm,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Nhược điểm</a:t>
            </a:r>
            <a:r>
              <a:rPr b="1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nhân viên bị chi phối, không tập trung vào công việ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533520" y="380880"/>
            <a:ext cx="8153280" cy="1068840"/>
            <a:chOff x="533520" y="380880"/>
            <a:chExt cx="8153280" cy="1068840"/>
          </a:xfrm>
        </p:grpSpPr>
        <p:sp>
          <p:nvSpPr>
            <p:cNvPr id="180" name="Rectangle 6"/>
            <p:cNvSpPr/>
            <p:nvPr/>
          </p:nvSpPr>
          <p:spPr>
            <a:xfrm>
              <a:off x="53352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53352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82" name="Rectangle 7"/>
          <p:cNvSpPr/>
          <p:nvPr/>
        </p:nvSpPr>
        <p:spPr>
          <a:xfrm>
            <a:off x="609480" y="1600200"/>
            <a:ext cx="51818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ẬP KẾ HOẠCH ĐÀO TẠO 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3"/>
          <p:cNvSpPr/>
          <p:nvPr/>
        </p:nvSpPr>
        <p:spPr>
          <a:xfrm>
            <a:off x="685800" y="2362320"/>
            <a:ext cx="1676520" cy="121896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ĐÀO TẠ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TẬP TRUNG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806400" y="2460600"/>
            <a:ext cx="7804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Nhân viên tham gia khóa học dài hạn,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nhằm nâng cao chuyên môn và được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rang bị kiên thức mới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609480" y="369252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Phương pháp</a:t>
            </a:r>
            <a:r>
              <a:rPr b="0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thuyết trình/ hội thảo, thảo luận nhóm, cử đi đào tạo, đào tạo từ xa, mô phỏng, giải quyết tình huống,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marL="225360" indent="-22536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Ưu điểm</a:t>
            </a:r>
            <a:r>
              <a:rPr b="1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người học không bị chi phối bởi công việc, nhân viên có động lực học tập tốt hơ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marL="225360" indent="-22536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Nhược điểm</a:t>
            </a:r>
            <a:r>
              <a:rPr b="0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Chi phí cao, gián đọan công việ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86" name="Group 6"/>
          <p:cNvGrpSpPr/>
          <p:nvPr/>
        </p:nvGrpSpPr>
        <p:grpSpPr>
          <a:xfrm>
            <a:off x="533520" y="380880"/>
            <a:ext cx="8153280" cy="1068840"/>
            <a:chOff x="533520" y="380880"/>
            <a:chExt cx="8153280" cy="1068840"/>
          </a:xfrm>
        </p:grpSpPr>
        <p:sp>
          <p:nvSpPr>
            <p:cNvPr id="187" name="Rectangle 7"/>
            <p:cNvSpPr/>
            <p:nvPr/>
          </p:nvSpPr>
          <p:spPr>
            <a:xfrm>
              <a:off x="53352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8" name="Rectangle 8"/>
            <p:cNvSpPr/>
            <p:nvPr/>
          </p:nvSpPr>
          <p:spPr>
            <a:xfrm>
              <a:off x="53352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89" name="Rectangle 7"/>
          <p:cNvSpPr/>
          <p:nvPr/>
        </p:nvSpPr>
        <p:spPr>
          <a:xfrm>
            <a:off x="609480" y="1600200"/>
            <a:ext cx="525780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ẬP KẾ HOẠCH ĐÀO TẠO 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440" y="26665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ổ chức đào tạo theo đúng kế hoạch đề r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hường xuyên theo dõi tiến độ thực hiện và đưa ra những điều chỉnh kế hoạch nếu cần thiế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91" name="Group 6"/>
          <p:cNvGrpSpPr/>
          <p:nvPr/>
        </p:nvGrpSpPr>
        <p:grpSpPr>
          <a:xfrm>
            <a:off x="533520" y="380880"/>
            <a:ext cx="8153280" cy="1068840"/>
            <a:chOff x="533520" y="380880"/>
            <a:chExt cx="8153280" cy="1068840"/>
          </a:xfrm>
        </p:grpSpPr>
        <p:sp>
          <p:nvSpPr>
            <p:cNvPr id="192" name="Rectangle 7"/>
            <p:cNvSpPr/>
            <p:nvPr/>
          </p:nvSpPr>
          <p:spPr>
            <a:xfrm>
              <a:off x="53352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53352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94" name="Rectangle 2"/>
          <p:cNvSpPr/>
          <p:nvPr/>
        </p:nvSpPr>
        <p:spPr>
          <a:xfrm>
            <a:off x="762120" y="1981080"/>
            <a:ext cx="563868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3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THỰC HIỆN KẾ HOẠCH ĐÀO TẠ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609480" y="1828800"/>
            <a:ext cx="541044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ÁNH GIÁ KẾT QUẢ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ÀO TẠO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457200" y="2133720"/>
            <a:ext cx="81532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Đánh giá hiệu quả đào tạo thông qua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Bảng khảo sát người họ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Kiểm tra sau cuối mỗi khóa họ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So sánh hiệu quả làm việc của nhân viên trước và sau đào tạo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Đề nghị cấp trên đánh giá kết quả làm việc của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	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nhân viê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97" name="Group 19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198" name="Rectangle 20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9" name="Rectangle 21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533520" y="2438280"/>
            <a:ext cx="79246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Phân tích chi phí và lợi ích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Giá trị gia tăng do đào tạo: tăng năng suất, sản lượng, chất lượng sản phẩm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ổng chi phí đào tạo: Thuê giáo viên, địa điểm, thiết bị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990720" y="2895480"/>
            <a:ext cx="67816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Rectangle 26"/>
          <p:cNvSpPr/>
          <p:nvPr/>
        </p:nvSpPr>
        <p:spPr>
          <a:xfrm>
            <a:off x="3733920" y="2925720"/>
            <a:ext cx="413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003300"/>
                </a:solidFill>
                <a:latin typeface="Arial"/>
              </a:rPr>
              <a:t>Giá trị gia tăng do đào tạ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Rectangle 27"/>
          <p:cNvSpPr/>
          <p:nvPr/>
        </p:nvSpPr>
        <p:spPr>
          <a:xfrm>
            <a:off x="4055760" y="345924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003300"/>
                </a:solidFill>
                <a:latin typeface="Arial"/>
              </a:rPr>
              <a:t>Tổng chi phí đào tạ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Line 28"/>
          <p:cNvSpPr/>
          <p:nvPr/>
        </p:nvSpPr>
        <p:spPr>
          <a:xfrm>
            <a:off x="3873600" y="3429000"/>
            <a:ext cx="3886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Rectangle 29"/>
          <p:cNvSpPr/>
          <p:nvPr/>
        </p:nvSpPr>
        <p:spPr>
          <a:xfrm>
            <a:off x="851040" y="3124080"/>
            <a:ext cx="311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003300"/>
                </a:solidFill>
                <a:latin typeface="Arial"/>
              </a:rPr>
              <a:t>Hiệu quả đào tạo =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06" name="Group 30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207" name="Rectangle 31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8" name="Rectangle 32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09" name="Rectangle 33"/>
          <p:cNvSpPr/>
          <p:nvPr/>
        </p:nvSpPr>
        <p:spPr>
          <a:xfrm>
            <a:off x="609480" y="1752480"/>
            <a:ext cx="556272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ÁNH GIÁ KẾT QUẢ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ÀO TẠO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51920" y="24379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Giúp cho mỗi người khám phá khả năng cá nhân của họ để có lựa chọn nghề nghiệp đúng đắn và chương trình đào tạo phù hợ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11" name="Group 30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212" name="Rectangle 31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14" name="Rectangle 33"/>
          <p:cNvSpPr/>
          <p:nvPr/>
        </p:nvSpPr>
        <p:spPr>
          <a:xfrm>
            <a:off x="609480" y="1752480"/>
            <a:ext cx="5029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ỊNH HƯỚNG NGHỀ NGHIỆP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4038480"/>
            <a:ext cx="1752480" cy="1676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Xác định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công việ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và yêu cầu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4191120"/>
            <a:ext cx="297180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Tìm hiều năng khiếu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Nguyện vọng cá nhâ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81680" y="4038480"/>
            <a:ext cx="1752840" cy="1676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Đưa ra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Chương trình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Hỗ trợ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4952880"/>
            <a:ext cx="91440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5880" y="4876920"/>
            <a:ext cx="68580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09480" y="2514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ff0000"/>
                </a:solidFill>
                <a:uFillTx/>
                <a:latin typeface="Arial"/>
              </a:rPr>
              <a:t>Xác định yêu cầu công việc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quản trị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kỹ thuật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bán hàng/ Marketing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nghiệp vụ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quan hệ khách hàng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21" name="Group 30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222" name="Rectangle 31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3" name="Rectangle 32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24" name="Rectangle 33"/>
          <p:cNvSpPr/>
          <p:nvPr/>
        </p:nvSpPr>
        <p:spPr>
          <a:xfrm>
            <a:off x="685800" y="1828800"/>
            <a:ext cx="518148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ĐỊNH HƯỚNG NGHỀ NGHIỆP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TÀI LIỆU THAM KHẢO</a:t>
            </a:r>
            <a:br>
              <a:rPr sz="4000"/>
            </a:b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*********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3886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Ts. Trần Kim Dung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, giáo trình QTNNL, NXB thống kê – 2006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Ts. Nguyễn Ngọc Quân và Ths Nguyễn Văn Điền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, giáo trình QTNNL, NXB trường ĐH Kinh Tế Quốc Dân- 2007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Một số tài liệu tham khảo khác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533520" y="243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ff0000"/>
                </a:solidFill>
                <a:uFillTx/>
                <a:latin typeface="Arial"/>
              </a:rPr>
              <a:t>Tìm hiểu năng khiếu cá nhân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giao tiế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đàm phán 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phân tích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kỹ thuật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nghiên cứu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viết lách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ngoại ngữ,.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26" name="Group 30"/>
          <p:cNvGrpSpPr/>
          <p:nvPr/>
        </p:nvGrpSpPr>
        <p:grpSpPr>
          <a:xfrm>
            <a:off x="685800" y="457200"/>
            <a:ext cx="8153280" cy="1068840"/>
            <a:chOff x="685800" y="457200"/>
            <a:chExt cx="8153280" cy="1068840"/>
          </a:xfrm>
        </p:grpSpPr>
        <p:sp>
          <p:nvSpPr>
            <p:cNvPr id="227" name="Rectangle 31"/>
            <p:cNvSpPr/>
            <p:nvPr/>
          </p:nvSpPr>
          <p:spPr>
            <a:xfrm>
              <a:off x="685800" y="53316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8" name="Rectangle 32"/>
            <p:cNvSpPr/>
            <p:nvPr/>
          </p:nvSpPr>
          <p:spPr>
            <a:xfrm>
              <a:off x="685800" y="45720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29" name="Rectangle 33"/>
          <p:cNvSpPr/>
          <p:nvPr/>
        </p:nvSpPr>
        <p:spPr>
          <a:xfrm>
            <a:off x="685800" y="1905120"/>
            <a:ext cx="518148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ĐỊNH HƯỚNG NGHỀ NGHIỆP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3352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ff0000"/>
                </a:solidFill>
                <a:uFillTx/>
                <a:latin typeface="Arial"/>
              </a:rPr>
              <a:t>Chương trình hỗ trợ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Hội thảo và cố vấn nghề nghiệ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Phổ biến thông tin về công việc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Phản hồi cho nhân viên về năng lực làm việc và hướng phát triển nghề nghiệ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Đặt ra tiêu chuẩn và hướng dẫn thực hiệ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Luân chuyên nhân viê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uyến khích cơ hội học tập trong và ngoài công ty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31" name="Group 30"/>
          <p:cNvGrpSpPr/>
          <p:nvPr/>
        </p:nvGrpSpPr>
        <p:grpSpPr>
          <a:xfrm>
            <a:off x="685800" y="380880"/>
            <a:ext cx="8153280" cy="1068840"/>
            <a:chOff x="685800" y="380880"/>
            <a:chExt cx="8153280" cy="1068840"/>
          </a:xfrm>
        </p:grpSpPr>
        <p:sp>
          <p:nvSpPr>
            <p:cNvPr id="232" name="Rectangle 31"/>
            <p:cNvSpPr/>
            <p:nvPr/>
          </p:nvSpPr>
          <p:spPr>
            <a:xfrm>
              <a:off x="68580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33" name="Rectangle 32"/>
            <p:cNvSpPr/>
            <p:nvPr/>
          </p:nvSpPr>
          <p:spPr>
            <a:xfrm>
              <a:off x="68580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34" name="Rectangle 33"/>
          <p:cNvSpPr/>
          <p:nvPr/>
        </p:nvSpPr>
        <p:spPr>
          <a:xfrm>
            <a:off x="609480" y="1828800"/>
            <a:ext cx="518184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ĐỊNH HƯỚNG NGHỀ NGHIỆP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6172200"/>
            <a:ext cx="2667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3300"/>
                </a:solidFill>
                <a:latin typeface="Arial"/>
              </a:rPr>
              <a:t>*THE END*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6172200"/>
            <a:ext cx="2819520" cy="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5"/>
          <p:cNvSpPr/>
          <p:nvPr/>
        </p:nvSpPr>
        <p:spPr>
          <a:xfrm>
            <a:off x="609480" y="1905120"/>
            <a:ext cx="37339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MỤC TIÊU CHƯƠ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3581280" y="533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5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914400" y="2743200"/>
            <a:ext cx="71629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Hi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ểu khái niệm và mục đích của đào tạo và phát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 triển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Phân loại các hình thức đào tạo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Tiến trình đào tạo và phát triển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Đánh giá hiệu quả đào tạo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Rectangle 36"/>
          <p:cNvSpPr/>
          <p:nvPr/>
        </p:nvSpPr>
        <p:spPr>
          <a:xfrm>
            <a:off x="914400" y="1066680"/>
            <a:ext cx="7620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400" spc="-1" strike="noStrike">
                <a:solidFill>
                  <a:srgbClr val="ff0000"/>
                </a:solidFill>
                <a:latin typeface="Arial"/>
              </a:rPr>
              <a:t>ĐÀO TẠO VÀ PHÁT TRIỂN NNL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3"/>
          <p:cNvSpPr/>
          <p:nvPr/>
        </p:nvSpPr>
        <p:spPr>
          <a:xfrm>
            <a:off x="609480" y="2057400"/>
            <a:ext cx="655344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1. KHÁI NIỆM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 ĐÀO TẠO VÀ PHÁT TRIỂ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76320" y="2514600"/>
            <a:ext cx="86104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600" spc="-1" strike="noStrike">
                <a:solidFill>
                  <a:srgbClr val="009900"/>
                </a:solidFill>
                <a:latin typeface="Arial"/>
                <a:ea typeface="Arial"/>
              </a:rPr>
              <a:t>Đào tạo: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là quá trình được hoạch định và tổ chức nhằm trang bị / nâng cao kiến thức và kỹ năng cụ thể cho nhân viên nhằm nâng cao hiệu quả làm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vi-VN" sz="2600" spc="-1" strike="noStrike">
                <a:solidFill>
                  <a:srgbClr val="009900"/>
                </a:solidFill>
                <a:latin typeface="Arial"/>
                <a:ea typeface="Arial"/>
              </a:rPr>
              <a:t>Phát triển: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là quá trình chuẩn bị và bồi dưỡng năng lực cần thiết cho tổ chức trong tương la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Rectangle 71"/>
          <p:cNvSpPr/>
          <p:nvPr/>
        </p:nvSpPr>
        <p:spPr>
          <a:xfrm>
            <a:off x="609480" y="6858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5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Rectangle 72"/>
          <p:cNvSpPr/>
          <p:nvPr/>
        </p:nvSpPr>
        <p:spPr>
          <a:xfrm>
            <a:off x="609480" y="6094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ĐÀO TẠO VÀ PHÁT TRIỂN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1"/>
          <p:cNvSpPr/>
          <p:nvPr/>
        </p:nvSpPr>
        <p:spPr>
          <a:xfrm>
            <a:off x="533520" y="2606760"/>
            <a:ext cx="807696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 u="sng">
                <a:solidFill>
                  <a:srgbClr val="ff3300"/>
                </a:solidFill>
                <a:uFillTx/>
                <a:latin typeface="Arial"/>
              </a:rPr>
              <a:t>Đối với cá nhân</a:t>
            </a:r>
            <a:r>
              <a:rPr b="0" i="1" lang="vi-VN" sz="2400" spc="-1" strike="noStrike" u="sng">
                <a:solidFill>
                  <a:srgbClr val="ff3300"/>
                </a:solidFill>
                <a:uFillTx/>
                <a:latin typeface="Arial"/>
              </a:rPr>
              <a:t>:</a:t>
            </a:r>
            <a:r>
              <a:rPr b="0" lang="vi-VN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hỏa mãn nhu cầu học tậ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hay đổi hành vi nghề nghiệp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ăng cơ hội thăng tiến và phát triển nghề nghiệp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 u="sng">
                <a:solidFill>
                  <a:srgbClr val="ff3300"/>
                </a:solidFill>
                <a:uFillTx/>
                <a:latin typeface="Arial"/>
              </a:rPr>
              <a:t>Đối với doanh nghiệp:</a:t>
            </a:r>
            <a:r>
              <a:rPr b="1" i="1" lang="vi-VN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ăng hiệu quả công việc: tăng năng suất, chất lượng, tiết kiệm thời gian, chi phí,..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Duy trì và nâng cao chất lượng NNL, tăng lợi thế cạnh tranh cho doanh nghiệp trên thị trườ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ăng khả năng thích ứng với sự thay đổi của môi trường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AutoShape 44"/>
          <p:cNvSpPr/>
          <p:nvPr/>
        </p:nvSpPr>
        <p:spPr>
          <a:xfrm>
            <a:off x="609480" y="1828800"/>
            <a:ext cx="25909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00"/>
                </a:solidFill>
                <a:latin typeface="Arial"/>
              </a:rPr>
              <a:t>LỢI ÍCH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Rectangle 59"/>
          <p:cNvSpPr/>
          <p:nvPr/>
        </p:nvSpPr>
        <p:spPr>
          <a:xfrm>
            <a:off x="45720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5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Rectangle 60"/>
          <p:cNvSpPr/>
          <p:nvPr/>
        </p:nvSpPr>
        <p:spPr>
          <a:xfrm>
            <a:off x="609480" y="3808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ĐÀO TẠO VÀ PHÁT TRIỂN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7"/>
          <p:cNvSpPr/>
          <p:nvPr/>
        </p:nvSpPr>
        <p:spPr>
          <a:xfrm>
            <a:off x="76320" y="2819520"/>
            <a:ext cx="89154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Tốn kém chi phí (thuê giảng viên, cơ sở, thiết bị, tài liệu,...)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ián đọan công việc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Khó lựa chọn người hướng dẫn, phương pháp và đánh giá hiệu quả đào tạo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Nhân viên được đào tạo chuyển nơi làm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32" name="Group 64"/>
          <p:cNvGrpSpPr/>
          <p:nvPr/>
        </p:nvGrpSpPr>
        <p:grpSpPr>
          <a:xfrm>
            <a:off x="533520" y="380880"/>
            <a:ext cx="8153280" cy="1068840"/>
            <a:chOff x="533520" y="380880"/>
            <a:chExt cx="8153280" cy="1068840"/>
          </a:xfrm>
        </p:grpSpPr>
        <p:sp>
          <p:nvSpPr>
            <p:cNvPr id="133" name="Rectangle 65"/>
            <p:cNvSpPr/>
            <p:nvPr/>
          </p:nvSpPr>
          <p:spPr>
            <a:xfrm>
              <a:off x="53352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4" name="Rectangle 66"/>
            <p:cNvSpPr/>
            <p:nvPr/>
          </p:nvSpPr>
          <p:spPr>
            <a:xfrm>
              <a:off x="53352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35" name="AutoShape 44"/>
          <p:cNvSpPr/>
          <p:nvPr/>
        </p:nvSpPr>
        <p:spPr>
          <a:xfrm>
            <a:off x="762120" y="2057400"/>
            <a:ext cx="259056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00"/>
                </a:solidFill>
                <a:latin typeface="Arial"/>
              </a:rPr>
              <a:t>BẤT LỢI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85800" y="2295360"/>
          <a:ext cx="7731000" cy="3883320"/>
        </p:xfrm>
        <a:graphic>
          <a:graphicData uri="http://schemas.openxmlformats.org/drawingml/2006/table">
            <a:tbl>
              <a:tblPr/>
              <a:tblGrid>
                <a:gridCol w="4118040"/>
                <a:gridCol w="3612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ĐÀO TẠO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ÁT TRIỂN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áp ứng nhu cầu công việc hiện tại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áp ứng nhu cầu công việc trong tương lai.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p dụng cho nhân viên yếu về kỹ năng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p dụng cho cá nhân, nhóm và tổ chức.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ắc phục vấn đề hiện tại.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ẩn bị cho sự thay đổi trong tương lai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ắn hạn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ài hạn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 tính bắt buộc 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 tính tự nguyện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Rectangle 154"/>
          <p:cNvSpPr/>
          <p:nvPr/>
        </p:nvSpPr>
        <p:spPr>
          <a:xfrm>
            <a:off x="5335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5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Rectangle 172"/>
          <p:cNvSpPr/>
          <p:nvPr/>
        </p:nvSpPr>
        <p:spPr>
          <a:xfrm>
            <a:off x="609480" y="3049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ĐÀO TẠO VÀ PHÁT TRIỂN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Rectangle 181"/>
          <p:cNvSpPr/>
          <p:nvPr/>
        </p:nvSpPr>
        <p:spPr>
          <a:xfrm>
            <a:off x="685800" y="1676520"/>
            <a:ext cx="7772400" cy="6094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2.PHÂN BIỆT GIỮA ĐÀO TẠO VÀ PHÁT TRIỂ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1"/>
          <p:cNvSpPr/>
          <p:nvPr/>
        </p:nvSpPr>
        <p:spPr>
          <a:xfrm>
            <a:off x="609480" y="1676520"/>
            <a:ext cx="541044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QUY TRÌNH THỰC HIỆN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ÀO TẠO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Rectangle 34"/>
          <p:cNvSpPr/>
          <p:nvPr/>
        </p:nvSpPr>
        <p:spPr>
          <a:xfrm>
            <a:off x="685800" y="2514600"/>
            <a:ext cx="4648320" cy="762120"/>
          </a:xfrm>
          <a:prstGeom prst="rect">
            <a:avLst/>
          </a:prstGeom>
          <a:solidFill>
            <a:srgbClr val="cc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Bước 1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: Xác định nhu cầ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ục tiêu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đào tạ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Rectangle 35"/>
          <p:cNvSpPr/>
          <p:nvPr/>
        </p:nvSpPr>
        <p:spPr>
          <a:xfrm>
            <a:off x="2133720" y="3429000"/>
            <a:ext cx="3733560" cy="674640"/>
          </a:xfrm>
          <a:prstGeom prst="rect">
            <a:avLst/>
          </a:prstGeom>
          <a:solidFill>
            <a:srgbClr val="cc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Bước 2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: Lập kế hoạch đào tạ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Rectangle 36"/>
          <p:cNvSpPr/>
          <p:nvPr/>
        </p:nvSpPr>
        <p:spPr>
          <a:xfrm>
            <a:off x="3581280" y="4267080"/>
            <a:ext cx="3657600" cy="674640"/>
          </a:xfrm>
          <a:prstGeom prst="rect">
            <a:avLst/>
          </a:prstGeom>
          <a:solidFill>
            <a:srgbClr val="cc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Bước 3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: Tiến hành đào tạ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Rectangle 37"/>
          <p:cNvSpPr/>
          <p:nvPr/>
        </p:nvSpPr>
        <p:spPr>
          <a:xfrm>
            <a:off x="5105520" y="5105520"/>
            <a:ext cx="3352680" cy="761760"/>
          </a:xfrm>
          <a:prstGeom prst="rect">
            <a:avLst/>
          </a:prstGeom>
          <a:solidFill>
            <a:srgbClr val="cc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Bước 4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: Đánh giá đào tạ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45" name="Group 38"/>
          <p:cNvGrpSpPr/>
          <p:nvPr/>
        </p:nvGrpSpPr>
        <p:grpSpPr>
          <a:xfrm>
            <a:off x="1523880" y="3276720"/>
            <a:ext cx="609840" cy="304560"/>
            <a:chOff x="1523880" y="3276720"/>
            <a:chExt cx="609840" cy="304560"/>
          </a:xfrm>
        </p:grpSpPr>
        <p:sp>
          <p:nvSpPr>
            <p:cNvPr id="146" name="Line 39"/>
            <p:cNvSpPr/>
            <p:nvPr/>
          </p:nvSpPr>
          <p:spPr>
            <a:xfrm>
              <a:off x="1523880" y="3276720"/>
              <a:ext cx="0" cy="30456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7" name="Line 40"/>
            <p:cNvSpPr/>
            <p:nvPr/>
          </p:nvSpPr>
          <p:spPr>
            <a:xfrm>
              <a:off x="1523880" y="3581280"/>
              <a:ext cx="60984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48" name="Group 41"/>
          <p:cNvGrpSpPr/>
          <p:nvPr/>
        </p:nvGrpSpPr>
        <p:grpSpPr>
          <a:xfrm>
            <a:off x="2971800" y="4114800"/>
            <a:ext cx="609480" cy="304920"/>
            <a:chOff x="2971800" y="4114800"/>
            <a:chExt cx="609480" cy="304920"/>
          </a:xfrm>
        </p:grpSpPr>
        <p:sp>
          <p:nvSpPr>
            <p:cNvPr id="149" name="Line 42"/>
            <p:cNvSpPr/>
            <p:nvPr/>
          </p:nvSpPr>
          <p:spPr>
            <a:xfrm>
              <a:off x="2971800" y="4114800"/>
              <a:ext cx="0" cy="30492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0" name="Line 43"/>
            <p:cNvSpPr/>
            <p:nvPr/>
          </p:nvSpPr>
          <p:spPr>
            <a:xfrm>
              <a:off x="2971800" y="4419720"/>
              <a:ext cx="60948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51" name="Group 44"/>
          <p:cNvGrpSpPr/>
          <p:nvPr/>
        </p:nvGrpSpPr>
        <p:grpSpPr>
          <a:xfrm>
            <a:off x="4419720" y="4952880"/>
            <a:ext cx="609480" cy="304920"/>
            <a:chOff x="4419720" y="4952880"/>
            <a:chExt cx="609480" cy="304920"/>
          </a:xfrm>
        </p:grpSpPr>
        <p:sp>
          <p:nvSpPr>
            <p:cNvPr id="152" name="Line 45"/>
            <p:cNvSpPr/>
            <p:nvPr/>
          </p:nvSpPr>
          <p:spPr>
            <a:xfrm>
              <a:off x="4419720" y="4952880"/>
              <a:ext cx="0" cy="30492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3" name="Line 46"/>
            <p:cNvSpPr/>
            <p:nvPr/>
          </p:nvSpPr>
          <p:spPr>
            <a:xfrm>
              <a:off x="4419720" y="5257800"/>
              <a:ext cx="60948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54" name="Group 47"/>
          <p:cNvGrpSpPr/>
          <p:nvPr/>
        </p:nvGrpSpPr>
        <p:grpSpPr>
          <a:xfrm>
            <a:off x="533520" y="380880"/>
            <a:ext cx="8153280" cy="1068840"/>
            <a:chOff x="533520" y="380880"/>
            <a:chExt cx="8153280" cy="1068840"/>
          </a:xfrm>
        </p:grpSpPr>
        <p:sp>
          <p:nvSpPr>
            <p:cNvPr id="155" name="Rectangle 48"/>
            <p:cNvSpPr/>
            <p:nvPr/>
          </p:nvSpPr>
          <p:spPr>
            <a:xfrm>
              <a:off x="53352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6" name="Rectangle 49"/>
            <p:cNvSpPr/>
            <p:nvPr/>
          </p:nvSpPr>
          <p:spPr>
            <a:xfrm>
              <a:off x="53352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3160" y="24379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3300"/>
                </a:solidFill>
                <a:latin typeface="Arial"/>
              </a:rPr>
              <a:t>Đào tạo khi nào?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Mở rộng cơ cấu và chiến lược kinh doanh của công ty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Nhân viên thiếu kỹ năng, trình độ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Kết quả thực hiện công việc của nhân viên ké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Áp dụng kỹ thuât, công nghệ mới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Thăng chức và thuyên chuyển NV sang vị trí mới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Tuyển nhân sự mới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Áp dụng thời kỳ tái đào tạo cho nhân viê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58" name="Group 4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159" name="Rectangle 5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0" name="Rectangle 6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61" name="Rectangle 7"/>
          <p:cNvSpPr/>
          <p:nvPr/>
        </p:nvSpPr>
        <p:spPr>
          <a:xfrm>
            <a:off x="533520" y="1752480"/>
            <a:ext cx="685800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1 XÁC ĐỊNH NHU CẦU &amp; MỤC TIÊU ĐÀO TẠ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4:09:13Z</dcterms:created>
  <dc:creator>TUAN HANH</dc:creator>
  <dc:description/>
  <dc:language>en-US</dc:language>
  <cp:lastModifiedBy>TUAN HANH</cp:lastModifiedBy>
  <dcterms:modified xsi:type="dcterms:W3CDTF">2010-05-04T08:30:51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