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2E91-17E5-4C3F-B681-705338B43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50EE-556D-4264-86C2-23B4C9B9CCD6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F565-EF4D-4D95-B536-F17B268CBB53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2E4B-BBF4-45B6-A153-A52223A0E37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CA19-1308-4200-8211-1A9FD3AB95D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0346-BA56-4488-9667-9E2528C83AC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BF8C-D09A-4402-9BE4-1A6F120AD155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3AD7-9E07-4B1D-804C-E5384FA749E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E5EC-E83A-4EB9-AFAB-A85247B6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EE99-E318-4943-96C9-38A0C94C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4BFF-F5E9-4E15-B607-3A076C0F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6EFD-4414-4EB2-995E-9D00856E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6D92-25DE-43E9-8D3E-0D21AA4C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B612-D7A9-4EDF-8670-DB00F834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DCE0-690C-44A8-8342-8255A407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3CD7-E8F4-4FBA-92B8-BBA5DFF7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DABE-C743-4101-8C13-DFC97043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1FE6-DE0B-475D-B841-022C304C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3FFC-BC38-4125-9BC6-8DB3D95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8266-9F48-4E9E-A85A-E8CBB1F9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75CD-2A9B-4692-AA6C-FB5DE98A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154A-68B3-47FD-BAA6-B37FAD1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FFB3-1405-48DF-B3F6-18B47ED5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FB77-32F7-48E0-9BFA-E6122B81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6C1C-934E-45ED-B64E-59A2C592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ABE4-1A81-4871-BAD6-3722E66C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9BD9-8C45-499E-BC08-9E7743C7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DA68-19A0-47B2-93D5-8E08CCD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03DF-67DF-4DEB-9B36-209FDEE1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0CF0-9A20-4070-BE3E-6925E106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3E13-8086-4F40-8F72-1B2A0BD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5807-4E87-4F43-9B5A-E2266D6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E4E-B17B-49FE-AFE5-C729552782F6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1C1C-1F56-41FC-BD62-678BA9CADF3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5"/>
          <p:cNvSpPr/>
          <p:nvPr/>
        </p:nvSpPr>
        <p:spPr>
          <a:xfrm>
            <a:off x="2822760" y="103500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4648320" y="4876920"/>
            <a:ext cx="4038480" cy="5331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5715000" y="5562720"/>
            <a:ext cx="2971800" cy="53316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209680" y="2209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ĐÁNH GIÁ KẾT QUẢ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THỰC HIỆN CÔNG VIỆC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9"/>
          <p:cNvSpPr/>
          <p:nvPr/>
        </p:nvSpPr>
        <p:spPr>
          <a:xfrm>
            <a:off x="304920" y="2844720"/>
            <a:ext cx="7543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chấm điể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phỏng vấ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lưu giữ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so sánh cặ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xếp hạng luân ph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quản trị mục tiêu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định lượ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AutoShape 57"/>
          <p:cNvSpPr/>
          <p:nvPr/>
        </p:nvSpPr>
        <p:spPr>
          <a:xfrm>
            <a:off x="685800" y="1981080"/>
            <a:ext cx="64008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ỰA CHỌN PHƯƠNG THỨ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85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7" name="AutoShape 57"/>
          <p:cNvSpPr/>
          <p:nvPr/>
        </p:nvSpPr>
        <p:spPr>
          <a:xfrm>
            <a:off x="457200" y="1600200"/>
            <a:ext cx="5791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ỰA CHỌN NGƯỜI 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ười tham gia đánh giá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ường là người lãnh đạo, giám sát trực tiếp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Một số nhân viên, cán bộ, cá nhân người lao động, khách hà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Kết hợp các ý kiến đánh giá để có bản nhận xét chung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Đào tạo người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ung cấp các văn bản hướng dẫ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ổ chức các lớp tập huấ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7"/>
          <p:cNvSpPr/>
          <p:nvPr/>
        </p:nvSpPr>
        <p:spPr>
          <a:xfrm>
            <a:off x="685800" y="1752480"/>
            <a:ext cx="6324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Y TRÌNH ĐÁNH GIÁ CỦA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685800" y="2438280"/>
            <a:ext cx="556272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2.4. ĐO LƯỜNG HIỆU QUẢ CÔNG VIỆC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533520" y="3060720"/>
            <a:ext cx="83055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ff0000"/>
                </a:solidFill>
                <a:latin typeface="Arial"/>
              </a:rPr>
              <a:t>Thu thập thông tin về kết quả thực hiện công việ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Quan sát và kiểm tra tiến trình làm việc của NV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ính khối lượng hoàn thành công việc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eo dõi ngày công, nội quy, kỷ luật của nhân viên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Phỏng vấn, tham khảo ý kiến người khác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Ghi lại những sự kiện quan trọng về nhân viên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7"/>
          <p:cNvSpPr/>
          <p:nvPr/>
        </p:nvSpPr>
        <p:spPr>
          <a:xfrm>
            <a:off x="762120" y="1752480"/>
            <a:ext cx="6324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Y TRÌNH ĐÁNH GIÁ CỦA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762120" y="2438280"/>
            <a:ext cx="533376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2.5. ĐÁNH GIÁ KẾT QUẢ THỰC HIỆN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914400" y="3048120"/>
            <a:ext cx="7620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ff0000"/>
                </a:solidFill>
                <a:latin typeface="Arial"/>
              </a:rPr>
              <a:t>Dựa trên những tiêu chí đối chiếu kết quả thực hiện của nhân viên với bản tiêu chuẩn công việ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Mức độ hoàn thành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ái độ thực hiện của nhân viê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Kỹ năng làm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riển vọng phát tri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7"/>
          <p:cNvSpPr/>
          <p:nvPr/>
        </p:nvSpPr>
        <p:spPr>
          <a:xfrm>
            <a:off x="609480" y="1828800"/>
            <a:ext cx="7543800" cy="825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HỮNG LỖI CẦN TRÁNH KHI ĐÁNH GIÁ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ÔNG VIỆC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3520" y="2743200"/>
            <a:ext cx="72388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Bản tiêu chuẩn đánh giá không rõ rà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Quá dễ hay quá khắt khe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iếu tính công bằng/ thiên vị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Dựa vào thông tin từ trí nhớ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u hướng bình quâ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ành kiế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Ảnh hưởng sự kiện gần nhất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Định kiến do tập quán văn hóa/ giới tính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7"/>
          <p:cNvSpPr/>
          <p:nvPr/>
        </p:nvSpPr>
        <p:spPr>
          <a:xfrm>
            <a:off x="685800" y="1600200"/>
            <a:ext cx="6019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ỎNG VẤN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533520" y="220968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Lợi íc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ống nhất với nhân viên về kết quả đánh giá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Đưa ra phản hồi giúp nhân viên có kinh nghiệm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Hiểu những khó khăn của nhân viên trong công việc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Lên kế hoạch cho mục tiêu công việc s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ắ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p tớ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ác bước thực hiện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Mở đầu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ực hiện phỏng vấn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Kết thúc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ff0000"/>
                </a:solidFill>
                <a:latin typeface="Arial"/>
              </a:rPr>
              <a:t>Có 3 hình thức phỏng vấn chín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ỏa mãn- thăng tiế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ỏa mãn- không thăng tiế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thỏa mãn- thay đổ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ff0000"/>
                </a:solidFill>
                <a:latin typeface="Arial"/>
              </a:rPr>
              <a:t>Các lỗi cần tránh với nhà quản lý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có khả năng phê bìn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có khả năng cung cấp thông tin phản hồi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biết ccách phê phán các sự việc, vấn đề cụ thề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609480" y="1752480"/>
            <a:ext cx="59436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ỎNG VẤN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617220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3300"/>
                </a:solidFill>
                <a:latin typeface="Arial"/>
              </a:rPr>
              <a:t>*THE END*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6172200"/>
            <a:ext cx="28195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8862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Trần Kim Dung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íao trình QTNNL, NXB thống kê – 2006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Nguyễn Ngọc Quân và Ths Nguyễn Văn Điền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iáo trình QTNNL, NXB trường ĐH Kinh Tế Quốc Dân- 2007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Một số tài liệu tham khảo khác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5"/>
          <p:cNvSpPr/>
          <p:nvPr/>
        </p:nvSpPr>
        <p:spPr>
          <a:xfrm>
            <a:off x="685800" y="1981080"/>
            <a:ext cx="373392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1066680" y="2819520"/>
            <a:ext cx="7239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Hiểu mục đích và vai trò của h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oạt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động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Phương pháp đánh giá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Quy trình đánh giá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Giải pháp nâng cao hiệu quả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304920" y="441360"/>
            <a:ext cx="9829800" cy="1450080"/>
            <a:chOff x="-304920" y="441360"/>
            <a:chExt cx="9829800" cy="1450080"/>
          </a:xfrm>
        </p:grpSpPr>
        <p:sp>
          <p:nvSpPr>
            <p:cNvPr id="122" name="Rectangle 5"/>
            <p:cNvSpPr/>
            <p:nvPr/>
          </p:nvSpPr>
          <p:spPr>
            <a:xfrm>
              <a:off x="-304920" y="82260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3581280" y="441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9714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Đánh giá một cách có hệ thống năng suất và hiệu quả công việc của người lao động; giúp nhà quản lý đưa ra các quyết định nhân sự đúng đắn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-304920" y="441360"/>
            <a:ext cx="9829800" cy="1450080"/>
            <a:chOff x="-304920" y="441360"/>
            <a:chExt cx="9829800" cy="1450080"/>
          </a:xfrm>
        </p:grpSpPr>
        <p:sp>
          <p:nvSpPr>
            <p:cNvPr id="126" name="Rectangle 5"/>
            <p:cNvSpPr/>
            <p:nvPr/>
          </p:nvSpPr>
          <p:spPr>
            <a:xfrm>
              <a:off x="-304920" y="82260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3581280" y="441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8" name="Rectangle 53"/>
          <p:cNvSpPr/>
          <p:nvPr/>
        </p:nvSpPr>
        <p:spPr>
          <a:xfrm>
            <a:off x="609480" y="1905120"/>
            <a:ext cx="32767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1. KHÁI NIỆM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4"/>
          <p:cNvSpPr/>
          <p:nvPr/>
        </p:nvSpPr>
        <p:spPr>
          <a:xfrm>
            <a:off x="-76320" y="2602080"/>
            <a:ext cx="883944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Là công cụ phát triển nhân viên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Củng cố, cải thiện và duy trì thành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ác định mục tiêu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ác định nhu cầu đào t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Là công cụ phát triển hành chín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Kết nối lương, thưởng với thành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Đánh giá chính sách và chương trình NNL phù hợ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AutoShape 57"/>
          <p:cNvSpPr/>
          <p:nvPr/>
        </p:nvSpPr>
        <p:spPr>
          <a:xfrm>
            <a:off x="533520" y="1905120"/>
            <a:ext cx="5410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MỤC TIÊU CỦA VIỆ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tổ chức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ánh giá năng lực của nhân viên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ống nhất mục tiêu sắp tới với nhân viê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ưa ra quyết định nhân sự đúng đắ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Có chương trình hỗ trợ phù hợp nâng cao chất lượng NNL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cá nhâ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Nhận biết điểm mạnh và điểm yếu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Nắm được mục tiêu và yêu cầu công việc sắp tớ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Có đề nghị cải thiện điều kiện làm việc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ược cố vấn về đào tạo và hướng nghiệp để nâng cao hiệu quả công việc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36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48320" y="2286000"/>
            <a:ext cx="0" cy="42670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AutoShape 57"/>
          <p:cNvSpPr/>
          <p:nvPr/>
        </p:nvSpPr>
        <p:spPr>
          <a:xfrm>
            <a:off x="457200" y="1676520"/>
            <a:ext cx="5410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ỢI Í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ỦA VIỆ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57"/>
          <p:cNvSpPr/>
          <p:nvPr/>
        </p:nvSpPr>
        <p:spPr>
          <a:xfrm>
            <a:off x="457200" y="1600200"/>
            <a:ext cx="5791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QUY TRÌNH ĐÁNH GIÁ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42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44" name="Group 63"/>
          <p:cNvGrpSpPr/>
          <p:nvPr/>
        </p:nvGrpSpPr>
        <p:grpSpPr>
          <a:xfrm>
            <a:off x="533520" y="2743200"/>
            <a:ext cx="8001000" cy="3505320"/>
            <a:chOff x="533520" y="2743200"/>
            <a:chExt cx="8001000" cy="3505320"/>
          </a:xfrm>
        </p:grpSpPr>
        <p:sp>
          <p:nvSpPr>
            <p:cNvPr id="145" name="Rectangle 64"/>
            <p:cNvSpPr/>
            <p:nvPr/>
          </p:nvSpPr>
          <p:spPr>
            <a:xfrm>
              <a:off x="4038480" y="281952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Lựa chọn phương pháp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6" name="Rectangle 65"/>
            <p:cNvSpPr/>
            <p:nvPr/>
          </p:nvSpPr>
          <p:spPr>
            <a:xfrm>
              <a:off x="533520" y="281952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iết lập tiêu chuẩn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Rectangle 66"/>
            <p:cNvSpPr/>
            <p:nvPr/>
          </p:nvSpPr>
          <p:spPr>
            <a:xfrm>
              <a:off x="5334120" y="365760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Lựa chọn và huấn luyện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Kỹ năng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8" name="Rectangle 67"/>
            <p:cNvSpPr/>
            <p:nvPr/>
          </p:nvSpPr>
          <p:spPr>
            <a:xfrm>
              <a:off x="1905120" y="365760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ưa ra tiêu chí, nội dụng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phạm vi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9" name="Rectangle 68"/>
            <p:cNvSpPr/>
            <p:nvPr/>
          </p:nvSpPr>
          <p:spPr>
            <a:xfrm>
              <a:off x="609480" y="457200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ực hiện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Rectangle 69"/>
            <p:cNvSpPr/>
            <p:nvPr/>
          </p:nvSpPr>
          <p:spPr>
            <a:xfrm>
              <a:off x="4114800" y="457200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ảo luận kết quả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1" name="Rectangle 70"/>
            <p:cNvSpPr/>
            <p:nvPr/>
          </p:nvSpPr>
          <p:spPr>
            <a:xfrm>
              <a:off x="5715000" y="556272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iều chỉnh và công bố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kết quả mới cho NV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2" name="Line 71"/>
            <p:cNvSpPr/>
            <p:nvPr/>
          </p:nvSpPr>
          <p:spPr>
            <a:xfrm>
              <a:off x="3352680" y="3124440"/>
              <a:ext cx="6858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3429000" y="4953240"/>
              <a:ext cx="6858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54" name="Group 73"/>
            <p:cNvGrpSpPr/>
            <p:nvPr/>
          </p:nvGrpSpPr>
          <p:grpSpPr>
            <a:xfrm>
              <a:off x="6858000" y="3124440"/>
              <a:ext cx="457200" cy="533160"/>
              <a:chOff x="6858000" y="3124440"/>
              <a:chExt cx="457200" cy="533160"/>
            </a:xfrm>
          </p:grpSpPr>
          <p:sp>
            <p:nvSpPr>
              <p:cNvPr id="155" name="Line 74"/>
              <p:cNvSpPr/>
              <p:nvPr/>
            </p:nvSpPr>
            <p:spPr>
              <a:xfrm>
                <a:off x="7315200" y="312444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858000" y="312444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6"/>
            <p:cNvGrpSpPr/>
            <p:nvPr/>
          </p:nvGrpSpPr>
          <p:grpSpPr>
            <a:xfrm>
              <a:off x="6934320" y="5029200"/>
              <a:ext cx="457200" cy="533160"/>
              <a:chOff x="6934320" y="5029200"/>
              <a:chExt cx="457200" cy="533160"/>
            </a:xfrm>
          </p:grpSpPr>
          <p:sp>
            <p:nvSpPr>
              <p:cNvPr id="158" name="Line 77"/>
              <p:cNvSpPr/>
              <p:nvPr/>
            </p:nvSpPr>
            <p:spPr>
              <a:xfrm>
                <a:off x="7391520" y="502920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6934320" y="50292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60" name="Line 79"/>
            <p:cNvSpPr/>
            <p:nvPr/>
          </p:nvSpPr>
          <p:spPr>
            <a:xfrm flipH="1">
              <a:off x="4724280" y="3962520"/>
              <a:ext cx="60984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61" name="Group 80"/>
            <p:cNvGrpSpPr/>
            <p:nvPr/>
          </p:nvGrpSpPr>
          <p:grpSpPr>
            <a:xfrm>
              <a:off x="1295280" y="4038840"/>
              <a:ext cx="609840" cy="533160"/>
              <a:chOff x="1295280" y="4038840"/>
              <a:chExt cx="609840" cy="533160"/>
            </a:xfrm>
          </p:grpSpPr>
          <p:sp>
            <p:nvSpPr>
              <p:cNvPr id="162" name="Line 81"/>
              <p:cNvSpPr/>
              <p:nvPr/>
            </p:nvSpPr>
            <p:spPr>
              <a:xfrm>
                <a:off x="1295280" y="403884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3" name="Line 82"/>
              <p:cNvSpPr/>
              <p:nvPr/>
            </p:nvSpPr>
            <p:spPr>
              <a:xfrm>
                <a:off x="1295280" y="4038840"/>
                <a:ext cx="60984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64" name="Rectangle 83"/>
            <p:cNvSpPr/>
            <p:nvPr/>
          </p:nvSpPr>
          <p:spPr>
            <a:xfrm>
              <a:off x="3583440" y="27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Rectangle 84"/>
            <p:cNvSpPr/>
            <p:nvPr/>
          </p:nvSpPr>
          <p:spPr>
            <a:xfrm>
              <a:off x="7545600" y="281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6" name="Rectangle 85"/>
            <p:cNvSpPr/>
            <p:nvPr/>
          </p:nvSpPr>
          <p:spPr>
            <a:xfrm>
              <a:off x="4878720" y="350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7" name="Rectangle 86"/>
            <p:cNvSpPr/>
            <p:nvPr/>
          </p:nvSpPr>
          <p:spPr>
            <a:xfrm>
              <a:off x="916200" y="381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8" name="Rectangle 87"/>
            <p:cNvSpPr/>
            <p:nvPr/>
          </p:nvSpPr>
          <p:spPr>
            <a:xfrm>
              <a:off x="365940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9" name="Rectangle 88"/>
            <p:cNvSpPr/>
            <p:nvPr/>
          </p:nvSpPr>
          <p:spPr>
            <a:xfrm>
              <a:off x="7545600" y="472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Dựa vào bảng hệ thống thông tin</a:t>
            </a:r>
            <a:r>
              <a:rPr b="0" lang="vi-VN" sz="2600" spc="-1" strike="noStrike">
                <a:solidFill>
                  <a:srgbClr val="009900"/>
                </a:solidFill>
                <a:latin typeface="Arial"/>
              </a:rPr>
              <a:t> :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bản mô tả, bản yêu cầu và bản tiêu chuẩ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3 yếu tố cơ bản của hệ thống đánh giá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ác tiêu chuẩn thực hiệ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o lường thực hiện theo tiêu thức trong tiêu chuẩn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ông tin phản hồi giữa người quản lý và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Chuẩn bị biểu mẫu đánh giá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72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3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4" name="AutoShape 57"/>
          <p:cNvSpPr/>
          <p:nvPr/>
        </p:nvSpPr>
        <p:spPr>
          <a:xfrm>
            <a:off x="457200" y="1828800"/>
            <a:ext cx="60199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IẾT LẬP HỆ THỐNG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phù hợp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tin cậ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thực tiễ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được chấp nhậ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nhạy cả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77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8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9" name="AutoShape 57"/>
          <p:cNvSpPr/>
          <p:nvPr/>
        </p:nvSpPr>
        <p:spPr>
          <a:xfrm>
            <a:off x="457200" y="1828800"/>
            <a:ext cx="6248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IẾT LẬP HỆ THỐNG ĐÁNH GIÁ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9:19:05Z</dcterms:created>
  <dc:creator>TUAN HANH</dc:creator>
  <dc:description/>
  <dc:language>en-US</dc:language>
  <cp:lastModifiedBy>TUAN HANH</cp:lastModifiedBy>
  <dcterms:modified xsi:type="dcterms:W3CDTF">2010-05-04T08:32:2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