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855A-3D04-4255-B714-7E3E67BA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30CF-3F1F-489E-9342-0BFF62A9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D2AF-B015-48AC-9D2A-D9DB3067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2870-C356-47AD-822D-DEE303C1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54D6-9264-4FC6-AFCF-FD5BDC3B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AE4-DBAA-47F9-8A34-4906425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D30-3926-44EB-A8BC-57F357CE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C477-072D-4D2A-B2BD-AAA8C8D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1B28-C224-44D4-8A53-019F697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BD7-7534-42C5-B590-6C34C41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584B-260E-4E40-8CE0-BFDC302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3B74-4294-4893-8B45-94169ED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317F-3088-45E2-AB40-E80C2DE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5B12-76E8-46E1-886E-6833B1C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805-73D7-4031-AD93-A1BBA569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1B6D-E82F-4B34-A07D-5D60929E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C42-871E-44A6-854C-C0D3DA53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28DC-98A0-4BE2-A5FF-3B2D9C37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2798-F776-42D8-ADEC-B650AFA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C606-B8F1-490C-B824-CA80A0E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E9AA-B131-46CC-B460-A129490D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9392-0ECE-4D34-9A83-3F2CC7D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C8B0-E6FD-45CE-9465-A5AEFEF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7C198-E3F6-409A-898A-62FABD8C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0756-C9F5-48F3-BE1C-0A622521B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5A35-C1AE-449D-BDB3-AF9BB5CC6A9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D40-F09C-475E-A5B6-477BD7DB46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8086-3F7E-44B9-BFF2-1ADE05AB3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nban.chinhphu.vn/portal/page/portal/chinhphu/hethongvanban?class_id=1&amp;_page=1&amp;mode=detail&amp;document_id=166075" TargetMode="External"/><Relationship Id="rId2" Type="http://schemas.openxmlformats.org/officeDocument/2006/relationships/hyperlink" Target="http://vanban.chinhphu.vn/portal/page/portal/chinhphu/hethongvanban?class_id=1&amp;_page=1&amp;mode=detail&amp;document_id=166075" TargetMode="External"/><Relationship Id="rId3" Type="http://schemas.openxmlformats.org/officeDocument/2006/relationships/hyperlink" Target="http://vanban.chinhphu.vn/portal/page/portal/chinhphu/hethongvanban?class_id=1&amp;_page=1&amp;mode=detail&amp;document_id=165442" TargetMode="External"/><Relationship Id="rId4" Type="http://schemas.openxmlformats.org/officeDocument/2006/relationships/hyperlink" Target="http://vanban.chinhphu.vn/portal/page/portal/chinhphu/hethongvanban?class_id=1&amp;_page=1&amp;mode=detail&amp;document_id=165872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FC73-C262-4AED-9090-0C503E049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40BF-3CFE-4698-A033-D5B6034014B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ẢO &amp; TRÌNH BÀ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HÀNH CHÍN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Minus 6"/>
          <p:cNvSpPr/>
          <p:nvPr/>
        </p:nvSpPr>
        <p:spPr>
          <a:xfrm>
            <a:off x="266688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4AA-434B-4FE6-8FCD-6F71A5797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8149-22EA-4947-BB42-9F38AE2136A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838080"/>
            <a:ext cx="41148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 trong nội bộ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 công tác nhân sự, lao động tiền lương, sản xuất kinh doanh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Horizontal Scroll 5"/>
          <p:cNvSpPr/>
          <p:nvPr/>
        </p:nvSpPr>
        <p:spPr>
          <a:xfrm>
            <a:off x="304920" y="7632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7" name="Picture 2" descr="http://ud.udn.vn/Vanban%5CQD_DHDN%5C2010%5C5342-QD-BGDDT.jpg"/>
          <p:cNvPicPr/>
          <p:nvPr/>
        </p:nvPicPr>
        <p:blipFill>
          <a:blip r:embed="rId1"/>
          <a:stretch/>
        </p:blipFill>
        <p:spPr>
          <a:xfrm>
            <a:off x="4572000" y="838080"/>
            <a:ext cx="4191120" cy="55627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261C-7EEB-498B-B44C-A025C52E0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7579-6CCC-4DF1-9750-059471341CF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762120"/>
            <a:ext cx="4114800" cy="5638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iến hành các thủ tục điều tra, truy tố, xét xử các vụ án hình sự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ải quyết các vụ án dân sự, thương mại, hành chính, lao động tại Tòa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i hành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Horizontal Scroll 7"/>
          <p:cNvSpPr/>
          <p:nvPr/>
        </p:nvSpPr>
        <p:spPr>
          <a:xfrm>
            <a:off x="304920" y="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3" name="Picture 4" descr="http://dantrivn.files.wordpress.com/2012/05/1-quyet-dinh-khoi-to-vu-an.jpg"/>
          <p:cNvPicPr/>
          <p:nvPr/>
        </p:nvPicPr>
        <p:blipFill>
          <a:blip r:embed="rId1"/>
          <a:stretch/>
        </p:blipFill>
        <p:spPr>
          <a:xfrm>
            <a:off x="4686480" y="762120"/>
            <a:ext cx="4076640" cy="5638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971-66B6-4F17-A545-4DF5F03D0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FCC-6698-4099-ADA9-3F7D2DCD531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6" name="Picture 2" descr="http://3.bp.blogspot.com/_pzFtZGcCch4/TOW7KhiJSBI/AAAAAAAACas/nw_6MZi72Ss/s1600/untitle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2.bp.blogspot.com/_pzFtZGcCch4/TOW8iwKXwBI/AAAAAAAACa8/N2JwBXQxwxg/s1600/untitled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EF4E-2661-4D69-8472-EE7EFA6B5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B0D-DE77-4BFF-AE43-6BEECD60605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81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, Thủ tướng Chính phủ, Tổng Kiểm toán Nhà nước, Ủy ban nhân dân các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Horizontal Scroll 6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ẨM QUYỀN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QUYẾT ĐỊNH QPP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ười đứng đầu cơ quan, tổ chức, đơn v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9"/>
          <p:cNvSpPr/>
          <p:nvPr/>
        </p:nvSpPr>
        <p:spPr>
          <a:xfrm>
            <a:off x="380880" y="38862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4CF-5EF1-47A7-B0AA-244E7FE9C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9D2-9D7B-4994-ACA9-0A34013C0B5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ác cơ quan tư pháp: Cơ quan điều tra, Viện kiểm sát, Tòa án, Thi hành á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chức danh tư pháp: Điều tra viên, Kiểm sát viên, Thẩm phán, Chấp hành viê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Horizontal Scroll 5"/>
          <p:cNvSpPr/>
          <p:nvPr/>
        </p:nvSpPr>
        <p:spPr>
          <a:xfrm>
            <a:off x="380880" y="763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474-B05F-4079-B97D-0030BB3AB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E57-CC3C-4854-94DA-D8018A1FE2C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1447560" cy="4114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QUYẾT ĐỊ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ight Arrow 10"/>
          <p:cNvSpPr/>
          <p:nvPr/>
        </p:nvSpPr>
        <p:spPr>
          <a:xfrm>
            <a:off x="1841400" y="1447920"/>
            <a:ext cx="825480" cy="1676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ight Arrow 11"/>
          <p:cNvSpPr/>
          <p:nvPr/>
        </p:nvSpPr>
        <p:spPr>
          <a:xfrm>
            <a:off x="1841400" y="3886200"/>
            <a:ext cx="825480" cy="1676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Rounded Rectangle 12"/>
          <p:cNvSpPr/>
          <p:nvPr/>
        </p:nvSpPr>
        <p:spPr>
          <a:xfrm>
            <a:off x="2743200" y="1447920"/>
            <a:ext cx="5867280" cy="167616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9" name="Rounded Rectangle 13"/>
          <p:cNvSpPr/>
          <p:nvPr/>
        </p:nvSpPr>
        <p:spPr>
          <a:xfrm>
            <a:off x="2743200" y="3886200"/>
            <a:ext cx="5867280" cy="167652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ĐIỀU CHỈ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C45-8C6B-42B6-99A7-4A11D8EB5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6FD-A031-4D3F-AD90-CF1B84A27F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304920" y="1219320"/>
            <a:ext cx="8458200" cy="4952880"/>
            <a:chOff x="304920" y="1219320"/>
            <a:chExt cx="8458200" cy="4952880"/>
          </a:xfrm>
        </p:grpSpPr>
        <p:sp>
          <p:nvSpPr>
            <p:cNvPr id="223" name="Rectangle 4"/>
            <p:cNvSpPr/>
            <p:nvPr/>
          </p:nvSpPr>
          <p:spPr>
            <a:xfrm>
              <a:off x="304920" y="3352680"/>
              <a:ext cx="266688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N HÀNH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581640" y="2362320"/>
              <a:ext cx="2361960" cy="167616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ÁP LÝ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640" y="4419720"/>
              <a:ext cx="236196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ỰC TẾ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477120" y="12193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ẨM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YỀN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6477120" y="32767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ÁP DỤNG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8" name="AutoShape 14"/>
            <p:cNvSpPr/>
            <p:nvPr/>
          </p:nvSpPr>
          <p:spPr>
            <a:xfrm>
              <a:off x="3048120" y="2362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0600 h 3809880"/>
                <a:gd name="textAreaBottom" fmla="*/ 36892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9" name="AutoShape 15"/>
            <p:cNvSpPr/>
            <p:nvPr/>
          </p:nvSpPr>
          <p:spPr>
            <a:xfrm>
              <a:off x="5943600" y="1219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6920 h 3809880"/>
                <a:gd name="textAreaBottom" fmla="*/ 370296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9"/>
                    <a:pt x="10800" y="1937"/>
                  </a:cubicBezTo>
                  <a:lnTo>
                    <a:pt x="10800" y="8863"/>
                  </a:lnTo>
                  <a:cubicBezTo>
                    <a:pt x="10800" y="9832"/>
                    <a:pt x="5400" y="10800"/>
                    <a:pt x="0" y="10800"/>
                  </a:cubicBezTo>
                  <a:cubicBezTo>
                    <a:pt x="5400" y="10800"/>
                    <a:pt x="10800" y="11769"/>
                    <a:pt x="10800" y="12737"/>
                  </a:cubicBezTo>
                  <a:lnTo>
                    <a:pt x="10800" y="19663"/>
                  </a:lnTo>
                  <a:cubicBezTo>
                    <a:pt x="10800" y="20632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Horizontal Scroll 13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164-1CE3-4FDF-9568-CD82CA39E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EEF0-1E36-4F8C-B151-E4375A3462A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ứng minh quyền hạn của chủ thể ban hành Q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Horizontal Scroll 6"/>
          <p:cNvSpPr/>
          <p:nvPr/>
        </p:nvSpPr>
        <p:spPr>
          <a:xfrm>
            <a:off x="304920" y="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7" name="Horizontal Scroll 7"/>
          <p:cNvSpPr/>
          <p:nvPr/>
        </p:nvSpPr>
        <p:spPr>
          <a:xfrm>
            <a:off x="380880" y="762120"/>
            <a:ext cx="51055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ẨM QUYỀ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7200" y="33526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 sử dụng trong nội dung điều chỉnh của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9"/>
          <p:cNvSpPr/>
          <p:nvPr/>
        </p:nvSpPr>
        <p:spPr>
          <a:xfrm>
            <a:off x="380880" y="26668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ÁP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51814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kiện hoặc cơ sở thực tiễn để ban hành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Horizontal Scroll 11"/>
          <p:cNvSpPr/>
          <p:nvPr/>
        </p:nvSpPr>
        <p:spPr>
          <a:xfrm>
            <a:off x="380880" y="44956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8DF9-929C-4D5F-A28A-84919C541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BC9-5307-41B5-85E9-FC7A97A396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ngày có hiệu lực của Quyết định; người có trách nhiệm thi hành Quyết địn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nâng lương, khen thưở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28F8-8288-4369-A80A-3C72F3AC6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2DD-F3C9-44C7-875C-A5CF5483EB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lương, phụ cấp, trợ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bổ nhiệm, điều động,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 thôi việc (3 điều)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ECHNICAL DRAFTING &amp; PRESENTING OFFICIAL DOCUME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A425-1309-4A17-A028-D275FC182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751-9EF1-4900-B4CE-78776F6621D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Minus 6"/>
          <p:cNvSpPr/>
          <p:nvPr/>
        </p:nvSpPr>
        <p:spPr>
          <a:xfrm>
            <a:off x="259092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B19-3689-4693-BB5D-F5C86B925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2D45-164B-4F9C-907C-A4B8D1BBE72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chức năng, nhiệm vụ, quyền hạn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cơ cấu tổ chức, nhân sự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3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thành lập tổ chức, đơn vị (4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1B2-1717-41E4-83C2-A199A75B9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1172-2FBE-4CFF-9126-0A33D9A2A5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nâng lương, khen thưở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FDF-4EFB-49E4-A9CF-03C15690D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662-8783-4402-B4C5-F35198D3100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05B-5E37-42F7-92CF-FF0ABFD5F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62E-3D9D-4CFB-814C-900CA2D7672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ổ nhiệm, điều độ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lương và phụ cấ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EB6F-598B-434D-A823-FA8963E66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F90-243E-4C56-8435-FF2D09D7C98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AB7-A50B-40F9-A01B-7555C893C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C619-64D2-45B8-87B6-3265EC65DEE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A1A-63E8-44E6-BB1A-0A0613FA8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7CA-5760-4507-A1EB-128A002A590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67652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thành lập tổ chức, đơn vị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hức năng, nhiệm vụ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ơ cấu tổ chức, nhân sự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ÊN TỔ CHỨC BAN HÀ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57600" y="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57200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7F28-3B65-41EC-8966-B0BE81CBA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A57-8826-4579-96F6-F3F0E756BA7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8" name="Picture 2" descr="http://dolisa.org/hr/store/1900-2010-qd-ubn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://cement-t.com.vn/file_download/di328-20100323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A98-232B-4C31-BA79-8D2E25BC7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DF1-337E-4647-A698-1BB930AC22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2" name="Picture 2" descr="http://www.phuhunggia.com/sites/default/files/image/BoNhiemTGD/Quy%E1%BA%BFt%20%C4%91%E1%BB%8Bnh%20b%E1%BB%95%20nhi%E1%BB%87m%20T%E1%BB%95ng%20Gi%C3%A1m%20%C4%91%E1%BB%91c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motilenct.com.vn/newpage/vi/All_Pic/QDinh_BoNhiem_TGD_2012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Multiply 5"/>
          <p:cNvSpPr/>
          <p:nvPr/>
        </p:nvSpPr>
        <p:spPr>
          <a:xfrm>
            <a:off x="7543800" y="228600"/>
            <a:ext cx="12952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B7A-9A56-4F64-9EEA-0E11F240C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0E8C-F43E-46B1-9ECF-B1AAA1C14D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Quyết định bổ nhiệm Trưởng Phòng Kinh doanh của Giám đốc Công ty TNHH Hòa B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D798-F41B-4A12-AA0D-5D201A167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C7FB-A2F3-4D96-A92D-AE35E5F4E86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CHAPTE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438280" y="990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ecis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38280" y="1676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Notif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438280" y="2362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Repor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38280" y="30481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</a:t>
            </a:r>
            <a:r>
              <a:rPr b="0" lang="en-US" sz="4000" spc="-1" strike="noStrike">
                <a:solidFill>
                  <a:srgbClr val="000000"/>
                </a:solidFill>
                <a:latin typeface="VNI-Times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38280" y="37339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Technical recording the Minut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38280" y="4419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Contrac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38280" y="5105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ispatch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5791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Letters Personally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ounded Rectangle 14"/>
          <p:cNvSpPr/>
          <p:nvPr/>
        </p:nvSpPr>
        <p:spPr>
          <a:xfrm>
            <a:off x="457200" y="990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457200" y="1676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ounded Rectangle 22"/>
          <p:cNvSpPr/>
          <p:nvPr/>
        </p:nvSpPr>
        <p:spPr>
          <a:xfrm>
            <a:off x="457200" y="2362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ounded Rectangle 23"/>
          <p:cNvSpPr/>
          <p:nvPr/>
        </p:nvSpPr>
        <p:spPr>
          <a:xfrm>
            <a:off x="457200" y="3048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Rounded Rectangle 24"/>
          <p:cNvSpPr/>
          <p:nvPr/>
        </p:nvSpPr>
        <p:spPr>
          <a:xfrm>
            <a:off x="457200" y="3733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ounded Rectangle 25"/>
          <p:cNvSpPr/>
          <p:nvPr/>
        </p:nvSpPr>
        <p:spPr>
          <a:xfrm>
            <a:off x="457200" y="4419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Rounded Rectangle 26"/>
          <p:cNvSpPr/>
          <p:nvPr/>
        </p:nvSpPr>
        <p:spPr>
          <a:xfrm>
            <a:off x="457200" y="5105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Rounded Rectangle 27"/>
          <p:cNvSpPr/>
          <p:nvPr/>
        </p:nvSpPr>
        <p:spPr>
          <a:xfrm>
            <a:off x="457200" y="5791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2E64-BF70-4C6D-AC61-E9A06CD192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3AC-02AD-45D5-A942-6E9175EE61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Quyết đị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Horizontal Scroll 6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CH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828800" y="1676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hông b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828800" y="2362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ờ trìn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28800" y="30481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Báo c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7339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ghi Biên bả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828800" y="44197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Hợp đồng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8800" y="5105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Công vă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828800" y="5791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Đơn thư cá nhâ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Rounded Rectangle 14"/>
          <p:cNvSpPr/>
          <p:nvPr/>
        </p:nvSpPr>
        <p:spPr>
          <a:xfrm>
            <a:off x="457200" y="990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ounded Rectangle 15"/>
          <p:cNvSpPr/>
          <p:nvPr/>
        </p:nvSpPr>
        <p:spPr>
          <a:xfrm>
            <a:off x="457200" y="1676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457200" y="2362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ed Rectangle 17"/>
          <p:cNvSpPr/>
          <p:nvPr/>
        </p:nvSpPr>
        <p:spPr>
          <a:xfrm>
            <a:off x="457200" y="30481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ounded Rectangle 18"/>
          <p:cNvSpPr/>
          <p:nvPr/>
        </p:nvSpPr>
        <p:spPr>
          <a:xfrm>
            <a:off x="457200" y="37339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ed Rectangle 19"/>
          <p:cNvSpPr/>
          <p:nvPr/>
        </p:nvSpPr>
        <p:spPr>
          <a:xfrm>
            <a:off x="457200" y="4419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ounded Rectangle 20"/>
          <p:cNvSpPr/>
          <p:nvPr/>
        </p:nvSpPr>
        <p:spPr>
          <a:xfrm>
            <a:off x="457200" y="5105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ed Rectangle 21"/>
          <p:cNvSpPr/>
          <p:nvPr/>
        </p:nvSpPr>
        <p:spPr>
          <a:xfrm>
            <a:off x="457200" y="5791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7FA-B03C-4883-A28A-7B06996A9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233-67E1-47F9-81EB-54A464A8E8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B29-2D69-4865-921D-51C9BD9A1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8CA3-D050-4947-9F14-4228E2D0D6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53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QUYẾT ĐỊNH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Minus 5"/>
          <p:cNvSpPr/>
          <p:nvPr/>
        </p:nvSpPr>
        <p:spPr>
          <a:xfrm>
            <a:off x="3276720" y="1905120"/>
            <a:ext cx="259056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D25D-4A17-4302-824C-5829F5627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4AD-94B3-473D-ADFA-BF72CAD945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ẫu quyết đị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 trên lớp: Soạn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AD0-8E81-42BD-921A-90C21592A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6D1-1C48-4C71-9209-A853E5B717B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, nhiệm vụ quyền hạn tổ chức bộ máy nhà nướ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Horizontal Scroll 6"/>
          <p:cNvSpPr/>
          <p:nvPr/>
        </p:nvSpPr>
        <p:spPr>
          <a:xfrm>
            <a:off x="228600" y="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7"/>
          <p:cNvSpPr/>
          <p:nvPr/>
        </p:nvSpPr>
        <p:spPr>
          <a:xfrm>
            <a:off x="304920" y="9907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QUYẾT ĐỊNH QUY PHẠM PHÁP LUẬ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048120"/>
          <a:ext cx="8229600" cy="33526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472428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Số/Ký hiệ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Trích yếu nội d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6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4/03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 Về việc mua, bán vàng miếng trên thị trườ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 trong nước của Ngân hàng Nhà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01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Quy định việc công dân Việt Nam ra nước ngoài học tập</a:t>
                      </a:r>
                      <a:r>
                        <a:rPr b="0" lang="vi-VN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23/02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 Về tín dụng đối với hộ cận nghèo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50/2012/QĐ-UB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4/11/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Ban hành Quy định chức năng, nhiệm vụ, quyền hạn và cơ cấu tổ chức của Sở Kế hoạch và Đầu tư tỉnh Bình Dư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B80-35E2-480E-8005-4AE66DF8A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4F20-9CEC-45E5-86BA-5E6083DF06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B30C-EC79-4C54-8EC2-B08B9F26C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4E6-579A-42F2-B79B-ACEA1636A81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0" name="Picture 2" descr="http://tapchihuongnghiep.com.vn/Pictures/Gallery/Large/Quyet-dinh-1.gi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www.uct.edu.vn/sites/default/files/tinhdchung/DSC_323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0:11Z</dcterms:modified>
  <cp:revision>397</cp:revision>
  <dc:subject/>
  <dc:title>Chương 9.1</dc:title>
</cp:coreProperties>
</file>