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AD9-241E-43F2-BAA5-57978E7E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872-FC7C-4B75-9AC3-8AFD054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3D6-DCA7-4064-AA58-FF2347B7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304-CD80-47B9-8FE2-03BE052A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0F70-3169-4A0C-994F-F8D32BFF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1CA-3B8B-4DB7-8F49-E1607DD3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3FEE-1A79-459C-95EE-CD57331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3BBA-821C-463F-BDD2-19CAE92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73B4-0E57-4B1E-9FC9-2FB581FA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C4F2-B8CC-40AB-A093-CD15940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199-31C4-4162-8861-94510DA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F7C-DD63-421F-9065-15D1C322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CA2C-C4D3-45AB-A1EB-458D1EB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27C4-C9D3-4DE5-B105-564D626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4BF1-1E73-481A-A7EE-D9707B31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D7FD-4D8B-4082-AC2E-1F0C5351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F3AE-46B6-4315-8596-A6E6D9AB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F30-F35F-47FC-BEB1-38548F37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BEF-9476-4A40-AFBA-C1EC34F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5B3-C961-437C-A53D-D6F523D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5A0-2BB4-40E6-AEED-9BE2DD84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23A-1BD2-4D55-AFF2-46CDB4B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D32-279B-4307-83AC-2118058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AB7-D763-42FD-9F35-76B88CC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083-CE12-403A-8535-0E4FB8B96E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530-124E-4298-B493-1A8C0F65A5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FILE HO TRO BAI GIANG/MAU D&#416;N YEU CAU_DE NGHI.doc" TargetMode="External"/><Relationship Id="rId2" Type="http://schemas.openxmlformats.org/officeDocument/2006/relationships/hyperlink" Target="../FILE HO TRO BAI GIANG/MAU DON CHO SINH VIEN.doc" TargetMode="External"/><Relationship Id="rId3" Type="http://schemas.openxmlformats.org/officeDocument/2006/relationships/hyperlink" Target="../FILE HO TRO BAI GIANG/MAU THU XIN VIEC_SINH VIEN MOI TOT NGHIEP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4920" y="44280"/>
            <a:ext cx="9109080" cy="68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Arial"/>
              </a:rPr>
              <a:t>BÀI 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ĐƠN THƯ CÁ NHÂ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toá caù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 ai? Toá caùo vieäc gì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ình baøy ngaén goïn dieãn bieán söï vieäc xaûy ra (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hôøi gian, ñòa ñieåm, chuû theå thöïc hieän haønh vi, ngöôøi laøm chöùng…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Haäu quaû xaûy ra ñoái vôùi ngöôøi lieân qu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ö luaän quaàn chuù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3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keát thuùc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ôøi cam keát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về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ính xaùc thöïc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öõng noäi dung neâu trong ñôn vaø caùc taøi lieäu keøm theo (neáu coù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Đề nghị ñöôïc giaûi quyeá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ôøi chaøo traân troïng hoaëc lôøi caûm ô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	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“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ong khi chờ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ợi sự chấp thuận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(giaûi quyeát)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ủa qu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yù cô qua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…., t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oâi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 xin c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â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 t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 cảm ơn”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oät soá maãu ñôn, th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yêu cầu, đề nghị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dành cho sinh viên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ư xin việc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tintuctuyensinh.org/images/news/img1/a-651.jpg"/>
          <p:cNvPicPr/>
          <p:nvPr/>
        </p:nvPicPr>
        <p:blipFill>
          <a:blip r:embed="rId1"/>
          <a:stretch/>
        </p:blipFill>
        <p:spPr>
          <a:xfrm>
            <a:off x="561960" y="476280"/>
            <a:ext cx="8082000" cy="473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lsasontay.edu.vn/upload/9860_1347245252_diem-thi-tot-nghiep-thpt-nam-2012.jpg"/>
          <p:cNvPicPr/>
          <p:nvPr/>
        </p:nvPicPr>
        <p:blipFill>
          <a:blip r:embed="rId2"/>
          <a:stretch/>
        </p:blipFill>
        <p:spPr>
          <a:xfrm>
            <a:off x="173160" y="193356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42960" y="5286240"/>
            <a:ext cx="41432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Chuùc thaønh coâ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072040" y="5286240"/>
            <a:ext cx="3500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Wish suc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8e"/>
                </a:solidFill>
                <a:latin typeface="Times New Roman"/>
              </a:rPr>
              <a:t>NHỮNG NỘI DUNG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1. Khaùi nieäm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2. Đ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3. Caùc loaïi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4. Phương phaùp soaïn thaûo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5. Maãu moät soá loaïi ñôn, thö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aøi lieäu theå hieän yù chí, nguyeän voïng, mong muoá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uûa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Hình thaønh trong quaù trình tham gia caùc quan heä xaõ hoäi cuûa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Coâng cuï ñeå thöïc hieän vaø baûo veä quyeàn, lôïi ích hôïp phaùp cuûa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 Ñ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Chuû theå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caù nhaân coù naêng löïc haønh vi daân söï ñaày ñu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Noäi dung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yù chí, mong muoán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Muïc ñích: 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thöïc hieän vaø baûo veä quyeàn, lôïi ích hôïp phaùp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Ñieàu kieän ban haønh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uûa phaùp luaät hoaëc yù chí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Theå thöùc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hu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Các loại đơn, thư cá nhâ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ñeà nghò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(ñeà ñaït nguyeän voïng)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yeâu caàu (giaûi quyeát vuï vieäc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khaùng caù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, thư xin vieäc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khieáu naïi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i chuù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và cách soạn th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ần mở ñaà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noäi d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keát thuù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1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môû ñaàu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Giôùi thieäu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oùm taét ñaëc ñieåm veà nhaân thaân cuûa chuû theå vieát ñôn:</a:t>
            </a: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Hoï vaø te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y th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ù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 năm sinh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Chứng minh nhaân da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Chöùc v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uï 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(neáu coù)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ôn vò coâng taùc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òa chæ cö truù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Soá ñieän thoaïi lieân laïc; E-mai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2. Phaàn noäi dung moät soá loaïi ñô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400" spc="-1" strike="noStrike">
                <a:solidFill>
                  <a:srgbClr val="000066"/>
                </a:solidFill>
                <a:latin typeface="VNI-Times"/>
              </a:rPr>
              <a:t>Ñoái vôùi ñôn ñeà ngh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 cuûa ngö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ôø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Hoaøn caûnh cuûa ngöôø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cô sôû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cuûa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yù do vieát ñôn ñeà nghò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ñeà nghò cuï theå caàn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ñöôï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xem xeùt giaûi quyeát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khieáu naïi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eâu roõ ñoái töôï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Q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uyeát ñònh haønh chính hay haønh vi haønh chính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oäi du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t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oùm taét vuï vieäc xaûy ra;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lôïi ích bò xaâm phaïm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thieät haïi vaät chaát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tinh thaàn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Ñeà nghò cuï theå khoâi phuïc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 lôïi ích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bò xaâm phaïm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möù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boài thöôøng thieät haïi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3-08-09T10:59:29Z</dcterms:modified>
  <cp:revision>68</cp:revision>
  <dc:subject/>
  <dc:title>Chương 9.8</dc:title>
</cp:coreProperties>
</file>