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690D-D318-471E-989D-14F831E6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EEB3-FDE1-43EF-8F0E-8F9D3D73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CFA6-77DA-4F43-AB33-62535DA8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4A12-8F6D-4516-B5F9-0B775838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BD9-A5B4-4F01-9F7A-8D9BD51F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7FE-D23D-4F2E-84A1-1960CD0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64C-587C-4C81-82A7-5FC88E3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BBA1-0B17-4984-9203-3C449BC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1527-F4D5-4F8B-A413-7CD93C2D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3887-C2AC-4D1E-9296-0918EA46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FDA-B5F2-4BA4-99F9-494D1BA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634D-0739-4722-AA2E-EC3E5326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D33-6DB3-4F67-BB7A-6BF4024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592-95F8-403F-B62D-492EC52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1A9-DEF0-4884-9CBB-462EE98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428-3401-4340-BCD7-397A6355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777-A25A-4317-9375-C8FE5E4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3055-445B-4907-9741-B7D23E77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BB68-483E-4D86-9E1B-D0E0688B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7B67-7464-450C-8280-4DC9960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1F8D-9D09-4975-8376-6B0B593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5CC0-C294-4970-9899-44F2168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6B89-36E4-4B85-86C9-0C7FA95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6EDE-7D31-491E-90F6-CC3F3E2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5C4-F52F-486A-9605-A79561EDF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F9DB-2921-48A6-BF34-4715CAAB2D6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83AC-56C5-4634-A59F-59C47C18AFD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2806-45E0-4E9E-95BD-3653CACA3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B03-1051-4844-A0C1-F608F3206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0BD-9ED8-452B-911A-DE52CED678A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55F-00E4-4056-B259-1BA42E40E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24A-D574-43BD-A769-41B7817438F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439-5263-4EDE-8E81-A689E003C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415-992D-4FDC-9C5A-9FE44D099D2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Bevel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90920" y="45720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Minus 12"/>
          <p:cNvSpPr/>
          <p:nvPr/>
        </p:nvSpPr>
        <p:spPr>
          <a:xfrm>
            <a:off x="2666880" y="1219320"/>
            <a:ext cx="3657600" cy="30456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eriods for lecture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omestudy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THE PROCESS OF PREPARING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AND ISSUING DOCUMENTS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Tòa án Hiến pháp Liên bang Đức</a:t>
            </a:r>
            <a:br>
              <a:rPr sz="3600"/>
            </a:b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(Das Bundesverfassungsgeric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71B-574E-4488-ABBC-EF2F97A94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B08-0D82-4192-AC6E-72191E9599C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4" name="Picture 2" descr="Tòa án Hiến pháp Liên bang &amp;Dstrok;ức sẽ mất ít nhất hai tháng &amp;dstrok;ể quyết &amp;dstrok;ịnh liệu có ban hành lệnh &amp;dstrok;ình chỉ Cơ chế Bình ổn châu Âu (ESM)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F628-BC92-48FD-9E67-723E17BCB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8E58-F469-4A95-BB6C-97B858E3356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0" name="Picture 6" descr="http://brt.com.vn/mediastore/BRVT/2012/09/06/QH.jpg"/>
          <p:cNvPicPr/>
          <p:nvPr/>
        </p:nvPicPr>
        <p:blipFill>
          <a:blip r:embed="rId1"/>
          <a:stretch/>
        </p:blipFill>
        <p:spPr>
          <a:xfrm>
            <a:off x="5867280" y="2990880"/>
            <a:ext cx="2819520" cy="24955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1" name="Rectangle 3"/>
          <p:cNvSpPr/>
          <p:nvPr/>
        </p:nvSpPr>
        <p:spPr>
          <a:xfrm>
            <a:off x="457200" y="990720"/>
            <a:ext cx="82296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 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Down Arrow 8"/>
          <p:cNvSpPr/>
          <p:nvPr/>
        </p:nvSpPr>
        <p:spPr>
          <a:xfrm>
            <a:off x="3241800" y="1600200"/>
            <a:ext cx="27018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920-A028-4A97-A0AA-917A6C139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8EE-2195-4435-ADCF-E5ACB03346D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5" name="Picture 2" descr="http://www.na.gov.vn/SodoQH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9436-3906-43C9-986A-526F7B3D5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DA1-51AE-41DC-8477-2F46AE5D42B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5105520" cy="3809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nhân dâ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1" name="Picture 6" descr="http://media.tinmoi.vn/2012/04/11/84_7_1334109415_19_vu%2071334108234_340x250.jpg"/>
          <p:cNvPicPr/>
          <p:nvPr/>
        </p:nvPicPr>
        <p:blipFill>
          <a:blip r:embed="rId1"/>
          <a:stretch/>
        </p:blipFill>
        <p:spPr>
          <a:xfrm>
            <a:off x="5638680" y="990720"/>
            <a:ext cx="304812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2" name="Rectangle 3"/>
          <p:cNvSpPr/>
          <p:nvPr/>
        </p:nvSpPr>
        <p:spPr>
          <a:xfrm>
            <a:off x="457200" y="990720"/>
            <a:ext cx="510552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Down Arrow 8"/>
          <p:cNvSpPr/>
          <p:nvPr/>
        </p:nvSpPr>
        <p:spPr>
          <a:xfrm>
            <a:off x="2133720" y="2286000"/>
            <a:ext cx="1676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9ADE-518C-4E86-BB77-57305FAFD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35D3-2994-4142-B367-92A5CAA2ACB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4114800" cy="2895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ộ trưở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ơ quan ngang B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9" name="Picture 8" descr="http://vovradio.vn/webmedia/RadioArticle/2437/7.jpg"/>
          <p:cNvPicPr/>
          <p:nvPr/>
        </p:nvPicPr>
        <p:blipFill>
          <a:blip r:embed="rId1"/>
          <a:stretch/>
        </p:blipFill>
        <p:spPr>
          <a:xfrm>
            <a:off x="4876920" y="914400"/>
            <a:ext cx="380988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0" name="Rectangle 3"/>
          <p:cNvSpPr/>
          <p:nvPr/>
        </p:nvSpPr>
        <p:spPr>
          <a:xfrm>
            <a:off x="457200" y="990720"/>
            <a:ext cx="4114800" cy="1904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bãi bỏ, đình chỉ thi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own Arrow 8"/>
          <p:cNvSpPr/>
          <p:nvPr/>
        </p:nvSpPr>
        <p:spPr>
          <a:xfrm>
            <a:off x="1546200" y="2895480"/>
            <a:ext cx="18828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DC1D-5648-4E95-A003-9F402853A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E6F5-0E6D-4552-B31E-F7CDACB3748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TƯ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4267080"/>
            <a:ext cx="8229600" cy="2057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Horizontal Scroll 7"/>
          <p:cNvSpPr/>
          <p:nvPr/>
        </p:nvSpPr>
        <p:spPr>
          <a:xfrm>
            <a:off x="304920" y="2895480"/>
            <a:ext cx="8458200" cy="1524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73D7-574F-4DE7-9AE1-2A783F2F6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CAC1-447B-4503-9EA6-CEB126DBB90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ể thức văn bản do pháp luật quy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ĐÚNG THỂ THỨC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 VB quy định bở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lệ của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15238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ù hợp lĩnh vực, đối tượng điều chỉnh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điều kiện thực tế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Horizontal Scroll 9"/>
          <p:cNvSpPr/>
          <p:nvPr/>
        </p:nvSpPr>
        <p:spPr>
          <a:xfrm>
            <a:off x="304920" y="41911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. BẢO ĐẢM TÍNH 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4DC-D23D-4684-B180-1484B5A01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3187-740F-4648-8510-EF573BDFAB9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đích, đối tượng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loại &amp;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uẩn bị dữ kiện (thu thập &amp; xử lý thông tin) cho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ánh giá tác động (tích cực, tiêu cực) của VB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2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Horizontal Scroll 7"/>
          <p:cNvSpPr/>
          <p:nvPr/>
        </p:nvSpPr>
        <p:spPr>
          <a:xfrm>
            <a:off x="380880" y="13716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F82-3F60-42C2-A8DA-640EF0C55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441C-1897-4F03-8F63-F5D448ACE85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các ý chính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ựa chọn thông tin để đưa vào các phần của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XÂY DỰNG ĐỀ C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6"/>
          <p:cNvSpPr/>
          <p:nvPr/>
        </p:nvSpPr>
        <p:spPr>
          <a:xfrm>
            <a:off x="304920" y="33526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VIẾT DỰ THẢO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19112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ựa vào đề cương và mẫu V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A9D7-5F3C-49D9-A156-E51AE2650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8186-FFAF-420B-B944-418A075DDCD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518148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lãnh đạo duyệt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duyệt: Thẩm quyền, thể thức, nội dung, mục đích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người duyệt ghi: Duyệt, số bản ban hành, ngày duyệt, chữ k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. DUYỆT &amp; KÝ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46" name="Picture 6" descr="http://tieuchuanchatluong.com/media/70/images/Xin%20cong%20van%20giai%20toa%20lo%20hang.jpg"/>
          <p:cNvPicPr/>
          <p:nvPr/>
        </p:nvPicPr>
        <p:blipFill>
          <a:blip r:embed="rId1"/>
          <a:stretch/>
        </p:blipFill>
        <p:spPr>
          <a:xfrm>
            <a:off x="5715000" y="914400"/>
            <a:ext cx="2971800" cy="5334120"/>
          </a:xfrm>
          <a:prstGeom prst="rect">
            <a:avLst/>
          </a:prstGeom>
          <a:ln w="0">
            <a:noFill/>
          </a:ln>
        </p:spPr>
      </p:pic>
      <p:sp>
        <p:nvSpPr>
          <p:cNvPr id="247" name="Oval 7"/>
          <p:cNvSpPr/>
          <p:nvPr/>
        </p:nvSpPr>
        <p:spPr>
          <a:xfrm>
            <a:off x="5105520" y="5715000"/>
            <a:ext cx="457200" cy="533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E805-74BE-4D07-9A35-79C46591F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F96B-1623-4B27-A821-62DB3680C2C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C33A-4AEE-4FD7-8D8D-B50DF24BD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18B2-4D6E-47BD-9ABB-FAC3B68E20C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7E8D-819E-4632-A12A-29831B145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D36-A295-4A53-8C59-6AB7F82B317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QUY TRÌNH SOẠN THẢO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&amp; BAN HÀNH VĂN BẢN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590920" y="60948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Minus 10"/>
          <p:cNvSpPr/>
          <p:nvPr/>
        </p:nvSpPr>
        <p:spPr>
          <a:xfrm>
            <a:off x="2666880" y="1371600"/>
            <a:ext cx="3657600" cy="3049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4952880"/>
            <a:ext cx="86868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C821-9221-455A-B130-5C7145FE1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F2C-E391-4238-AC00-B6BE2B6DE6D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văn bản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: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à cơ sở pháp lý để hình thành bản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văn bản: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Không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970-01C9-45F5-A318-27AC67A00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4108-454E-419D-9BA1-04FEBE3EDDD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óng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ào Sổ công văn 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t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ăn bả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ưu tại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lưu trong hồ s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eo dõi việc thực hiệ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ể kịp thời điều ch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Rút kinh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7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 TRÌNH SOẠN THẢO &amp; BAN HÀNH VĂN BẢN – Q. TÂY HỒ, HÀ N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B519-963B-4AD9-A0C4-7C7741321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424-136D-48F4-9E63-F90A96ECD6D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1" name="Picture 2" descr="http://tayho.gov.vn/cgtdt/web/images/upload1/image/2007-09-05_09384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606-58C0-4CA3-A5C2-0F2DF72CC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A834-EA3D-45DF-B8D1-DE3EF361F03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đối với việ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bướ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95EC-9B8E-494D-9F56-40D3DF0D7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E53-D988-4B93-A715-3939E3A6F32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Câ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ấn đề nào sau đây không phải là nguyên tắc xây dựng, ban hành văn bản QPP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ảm bảo tính hợp hiến, hợp phá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Tuân thủ thẩm quyề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ó hiệu lực chậm nhất 15 ngày sau ngày được thông qua, công bố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Bảo đảm tính khả th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948B-8F87-49AC-83D6-C922883F7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8DD-62E4-442F-A88F-7D772F7988C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106668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rinciples text edi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rafting process &amp; issue document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OF THE LECTUR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3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5136-4E78-4BB2-8B82-D5D6C142A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825-4175-4025-AE52-ED46850855E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uyên tắc soạn thảo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9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B60-7ECB-404B-9C60-7798DF8E0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9FA-4D94-4F6E-9549-5003519B28C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4197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QPPL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quy phạm pháp luậ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H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TP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tư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minhkhai.vn/hinhlon/119162.jpg"/>
          <p:cNvPicPr/>
          <p:nvPr/>
        </p:nvPicPr>
        <p:blipFill>
          <a:blip r:embed="rId1"/>
          <a:stretch/>
        </p:blipFill>
        <p:spPr>
          <a:xfrm>
            <a:off x="4952880" y="1066680"/>
            <a:ext cx="373392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4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9D8-39BC-47FA-97EA-28405B314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33B-5769-42F5-A8C6-EC6CB794C82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8" name="Picture 6" descr="http://minhkhai.vn/hinhlon/101104.jpg"/>
          <p:cNvPicPr/>
          <p:nvPr/>
        </p:nvPicPr>
        <p:blipFill>
          <a:blip r:embed="rId1"/>
          <a:stretch/>
        </p:blipFill>
        <p:spPr>
          <a:xfrm>
            <a:off x="5943600" y="1143000"/>
            <a:ext cx="27432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NGUYÊN TẮC SOẠN T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 Diagonal Corner Rectangle 9"/>
          <p:cNvSpPr/>
          <p:nvPr/>
        </p:nvSpPr>
        <p:spPr>
          <a:xfrm>
            <a:off x="457200" y="11430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457200" y="11430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 Diagonal Corner Rectangle 12"/>
          <p:cNvSpPr/>
          <p:nvPr/>
        </p:nvSpPr>
        <p:spPr>
          <a:xfrm>
            <a:off x="457200" y="22096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ể thứ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57200" y="2209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 Diagonal Corner Rectangle 14"/>
          <p:cNvSpPr/>
          <p:nvPr/>
        </p:nvSpPr>
        <p:spPr>
          <a:xfrm>
            <a:off x="457200" y="327672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57200" y="327672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ound Diagonal Corner Rectangle 16"/>
          <p:cNvSpPr/>
          <p:nvPr/>
        </p:nvSpPr>
        <p:spPr>
          <a:xfrm>
            <a:off x="457200" y="43434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457200" y="43434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ound Diagonal Corner Rectangle 18"/>
          <p:cNvSpPr/>
          <p:nvPr/>
        </p:nvSpPr>
        <p:spPr>
          <a:xfrm>
            <a:off x="457200" y="54100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ôn ngữ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457200" y="5410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A65-1E4A-4B00-8573-38E881D2D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208F-0405-43F9-BF2B-D10A246052C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3" name="Picture 8" descr="http://daibieunhandan.vn/media/13/01/130131185740687/05-Tham-quyen-322013-380.jpg"/>
          <p:cNvPicPr/>
          <p:nvPr/>
        </p:nvPicPr>
        <p:blipFill>
          <a:blip r:embed="rId1"/>
          <a:stretch/>
        </p:blipFill>
        <p:spPr>
          <a:xfrm>
            <a:off x="5867280" y="1066680"/>
            <a:ext cx="281952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4" name="Rectangle 3"/>
          <p:cNvSpPr/>
          <p:nvPr/>
        </p:nvSpPr>
        <p:spPr>
          <a:xfrm>
            <a:off x="457200" y="106668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5715000"/>
            <a:ext cx="533520" cy="609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49DF-70FC-4E8F-A331-9FE8ED013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BFEB-73BA-4A51-A57D-8E276B6C093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3" name="Picture 10" descr="http://t0.gstatic.com/images?q=tbn:ANd9GcT4MQ9uGoOYoJ5fe1jBdPRf1eWWdneyY8L4S_YRCAL_k_pvuWY2"/>
          <p:cNvPicPr/>
          <p:nvPr/>
        </p:nvPicPr>
        <p:blipFill>
          <a:blip r:embed="rId1"/>
          <a:stretch/>
        </p:blipFill>
        <p:spPr>
          <a:xfrm>
            <a:off x="5924520" y="1066680"/>
            <a:ext cx="276228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1A4-5467-4D0B-8AFC-8A9D9C03E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DE8-0673-461D-93D5-5606CDDA3B6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33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4038480"/>
            <a:ext cx="8153280" cy="2362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ong tương la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BẢO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HIẾN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Curved Right Arrow 7"/>
          <p:cNvSpPr/>
          <p:nvPr/>
        </p:nvSpPr>
        <p:spPr>
          <a:xfrm rot="19934400">
            <a:off x="542880" y="1260000"/>
            <a:ext cx="1341360" cy="205452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387720 h 2054520"/>
              <a:gd name="textAreaBottom" fmla="*/ 1499040 h 20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6" stAng="-5400000" swAng="-5400000"/>
                <a:lnTo>
                  <a:pt x="0" y="11682"/>
                </a:lnTo>
                <a:arcTo wR="21600" hR="8156" stAng="10800000" swAng="-3338134"/>
                <a:lnTo>
                  <a:pt x="16200" y="21341"/>
                </a:lnTo>
                <a:lnTo>
                  <a:pt x="21600" y="18075"/>
                </a:lnTo>
                <a:lnTo>
                  <a:pt x="16200" y="14291"/>
                </a:lnTo>
                <a:lnTo>
                  <a:pt x="16200" y="16053"/>
                </a:lnTo>
                <a:arcTo wR="21600" hR="8156" stAng="7461866" swAng="3051416"/>
                <a:lnTo>
                  <a:pt x="511" y="9919"/>
                </a:lnTo>
                <a:arcTo wR="21600" hR="8156" stAng="-10513282" swAng="5113282"/>
                <a:close/>
              </a:path>
              <a:path fill="darkenLess" w="21600" h="21600">
                <a:moveTo>
                  <a:pt x="21600" y="0"/>
                </a:moveTo>
                <a:arcTo wR="21600" hR="8156" stAng="-5400000" swAng="-5400000"/>
                <a:lnTo>
                  <a:pt x="0" y="8156"/>
                </a:lnTo>
                <a:arcTo wR="21600" hR="8156" stAng="10800000" swAng="-286718"/>
                <a:lnTo>
                  <a:pt x="511" y="9919"/>
                </a:lnTo>
                <a:arcTo wR="21600" hR="8156" stAng="-10513282" swAng="5113282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8"/>
          <p:cNvSpPr/>
          <p:nvPr/>
        </p:nvSpPr>
        <p:spPr>
          <a:xfrm>
            <a:off x="304920" y="7632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BÃI BỎ VĂN BẢN QPPL VI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14T09:40:35Z</dcterms:modified>
  <cp:revision>264</cp:revision>
  <dc:subject/>
  <dc:title>Chương 8</dc:title>
</cp:coreProperties>
</file>