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A7C7-3C71-462C-9ED9-2EDA2F6B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9624-BB30-416D-9202-A4F767D5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18A6-2B31-4FC0-A380-936153AC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E1A1-8067-434B-91A4-1E2971C5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FE2E-F1C0-478D-BFE7-7C7730D1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2FAF-9568-49FF-9446-EC42945A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99DA-E6D1-4103-BB40-DE31CA43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2155-99CC-4909-91ED-B355542F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430F-2733-49A0-AB88-57B1E92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56F2-828F-49B9-ADCC-5F1BEAD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245-4DC6-4591-8C8B-766A6B1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2143-B800-418C-8D72-E4929650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B406-2B7B-4D80-A766-E9D82C7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580-5DE3-46E2-B070-57045B2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A22E-B374-4BC9-BB7B-F40E3ADC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8EE8-19B7-401D-8972-2E6C6133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280F-A193-4757-BD7D-A0110173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9411-0839-4C79-9ADA-413FBD23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1CD9-1A07-49CE-836D-351B0003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B862-49A9-43EF-B542-F4C410AF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939E-2462-4CB9-85DA-0A420A63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EE4C-C558-4197-A669-38E534B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2834-3BF8-48B8-B401-85F6325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A959-A305-4031-BFB4-B9708D48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6B5D-D6ED-49E9-A61A-7574F1D6F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539C-2329-4621-AFC9-098892A4AA5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4CD-CABA-498A-8FC7-79DD1B2FE92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8294-765D-434B-A772-55443DBE8C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152-6312-4D5C-8964-9F0E68B7D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F649-433D-4242-AA09-ACF41D71BFE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Bevel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6B05-EE83-4785-A32C-2ACC41EAA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122C-F756-4FC3-8A0F-A8102A7D824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gọi, thời gia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ội 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hực hiệ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5"/>
          <p:cNvSpPr/>
          <p:nvPr/>
        </p:nvSpPr>
        <p:spPr>
          <a:xfrm>
            <a:off x="304920" y="33480"/>
            <a:ext cx="8458200" cy="1490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. 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EDEF-64C7-4982-B674-2CA2EA78C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8961-27AC-454D-97B9-7A72F5781B9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7" name="Picture 2" descr="http://www.khtc.ueh.edu.vn/Upload/TinTuc/ngansach.jpg"/>
          <p:cNvPicPr/>
          <p:nvPr/>
        </p:nvPicPr>
        <p:blipFill>
          <a:blip r:embed="rId1"/>
          <a:stretch/>
        </p:blipFill>
        <p:spPr>
          <a:xfrm>
            <a:off x="4552920" y="0"/>
            <a:ext cx="45910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pleiku.gialai.edu.vn/upload/editor/image/NH%202010-2011/157_SGD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67B0-AF8B-49C8-A681-87B48CB54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F7BF-CBC3-4847-AC95-ADF086CD0B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ủa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ý do tiến hành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iế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. 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74B5-97C3-436B-812B-49949A9F6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944-9AE5-4F1D-A877-254E06003DC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6" name="Picture 2" descr="http://www.lhu.edu.vn/Data/News/232/images/imageas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7" name="Picture 4" descr="http://forum.duytan.edu.vn/Uploads/5d012f50-a812-41ae-82f4-aef0fe54d287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8" name="Picture 6" descr="http://www.vinacorp.vn/Upload/News/image/CTCP%20%C4%90%E1%BA%A1t%20Ph%C6%B0%C6%A1ng%20-%20Thong%20bao%20tra%20co%20tuc%20dot%202-sua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dlu.edu.vn/ImageUpload/2012322104218455scan0021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0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B388-221C-46BD-BC9D-D37EF704B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3DE-4701-490C-AC68-6CE2E80525D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4" name="Picture 2" descr="http://haugiang.edu.vn/UserFiles/HEAD733/Image/Picture%2001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95" name="Picture 4" descr="http://www.vidipha.com.vn/tu%20lieu/DHCD%202012/chu%20ky%20moi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A7DF-CA5C-4900-8653-837204613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3E0F-B6DD-46E7-9BE0-C2DF2C9A8F4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hiệm vụ được gi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yêu cầu khi thực hiện nhiệm v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iện pháp cần áp dụng để hoàn thành nhiệm v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. 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329-84F4-412F-9484-2FF159E3F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0FC9-ECFD-4763-BA64-A90D880F08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3" name="Picture 2" descr="http://amc.edu.vn/Upload/Thong-bao-tap-chung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04" name="Picture 4" descr="http://www.shs.com.vn/Sites/QuoteVN/SiteRoot/documents/Doc/Thong%20b%C3%A1o%20website-%20VRG1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5" name="Multiply 5"/>
          <p:cNvSpPr/>
          <p:nvPr/>
        </p:nvSpPr>
        <p:spPr>
          <a:xfrm>
            <a:off x="2209680" y="0"/>
            <a:ext cx="4724640" cy="685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2DEE-C2F9-4655-B887-9297C2501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2347-4F9E-4494-9F98-F107721B8B6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EEC1-8299-492B-96C2-CC7C60E85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A5CD-A276-4C2E-90FA-AC233B2C488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BÁ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………...............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Kính gởi: ……………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Muïc ñích, chuû theå, thaåm quye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Nhöõng nội dung ca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Yeâu caàu thöïc hieän, thôøi gian toå chöùc vaø hieäu löïc thi haønh, quy taéc xöû söï seõ ñöôïc aùp duïng neáu vi phaïm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657600" y="274320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B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ư trên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2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rame 13"/>
          <p:cNvSpPr/>
          <p:nvPr/>
        </p:nvSpPr>
        <p:spPr>
          <a:xfrm>
            <a:off x="-76320" y="0"/>
            <a:ext cx="9220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BA6-D342-4943-A8A1-852F0DB2A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F41-1D3B-4794-A916-AFCB2E7C38B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hông báo và những nội dung chính của các loại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ông báo của GĐ Cty TNHH Hòa Bình gửi Phòng Đăng ký kinh doanh – Sở KH&amp;ĐT TP.HCM và Chi cục Thuế quận Gò Vấp về việc thay đổi địa chỉ trụ sở Cty. (30 phút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28526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D932-5E9B-413E-BFB1-D0CD71A30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A88C-7F12-43EA-B17E-55D845B3B9F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504-3B5A-4DFB-BB89-F218D5A7A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71EE-CD96-4BA3-B099-6EA7EC86FCF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50292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loại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ài tậ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1" name="Picture 6" descr="http://choigame24h.net/thanh-cat-tu-han/wp-content/uploads/2012/11/thong-bao.png"/>
          <p:cNvPicPr/>
          <p:nvPr/>
        </p:nvPicPr>
        <p:blipFill>
          <a:blip r:embed="rId1"/>
          <a:stretch/>
        </p:blipFill>
        <p:spPr>
          <a:xfrm>
            <a:off x="5486400" y="1143000"/>
            <a:ext cx="32004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2" name="Frame 7"/>
          <p:cNvSpPr/>
          <p:nvPr/>
        </p:nvSpPr>
        <p:spPr>
          <a:xfrm>
            <a:off x="380880" y="1066680"/>
            <a:ext cx="8305920" cy="53341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196F-8A85-4C58-A1E9-3440CA7A7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DAA-130B-415A-8541-57777A445C0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52578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 đa nă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quyết định, tin tức,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về hoạt động của CQ,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chủ trương, chính sá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8" name="Picture 6" descr="http://cite.ueb.edu.vn/sites/default/files/thongbao_4.jpg"/>
          <p:cNvPicPr/>
          <p:nvPr/>
        </p:nvPicPr>
        <p:blipFill>
          <a:blip r:embed="rId1"/>
          <a:stretch/>
        </p:blipFill>
        <p:spPr>
          <a:xfrm>
            <a:off x="5791320" y="990720"/>
            <a:ext cx="291456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8932-5B24-4759-9DCB-EF910D827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3E95-16DB-481F-BD3A-C810E05A29C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nhanh chóng, kịp thờ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ắn gọn, cụ thể, dễ hiể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ông lập luận, nhận định dài d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rõ nội dung cần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mục đích và thẩm quyền ra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ẨU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4" name="Picture 6" descr="http://us.123rf.com/400wm/400/400/snake3d/snake3d1103/snake3d110300038/9099154-propaganda-megafono-annunciare-originale-elegante-altoparlante-colorato-notizie-multimediali-blog-on.jpg"/>
          <p:cNvPicPr/>
          <p:nvPr/>
        </p:nvPicPr>
        <p:blipFill>
          <a:blip r:embed="rId1"/>
          <a:stretch/>
        </p:blipFill>
        <p:spPr>
          <a:xfrm>
            <a:off x="4572000" y="4419720"/>
            <a:ext cx="4114800" cy="1981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D3AE-DEA9-4E5F-A219-473FF3E78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5C6B-CE7D-48CC-8CB4-C1AA6FFBEE6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êu mục đích, chủ thể, thẩm quyền ra thông báo, đối tượng nhận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3124080"/>
            <a:ext cx="8229600" cy="838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Nội dung cần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kết thú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hấn mạnh nội dung cần thông báo, xác định thời hạn có hiệu lực và quy tắc xử sự sẽ áp dụng nếu có vi phạm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9"/>
          <p:cNvSpPr/>
          <p:nvPr/>
        </p:nvSpPr>
        <p:spPr>
          <a:xfrm>
            <a:off x="457200" y="10666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10"/>
          <p:cNvSpPr/>
          <p:nvPr/>
        </p:nvSpPr>
        <p:spPr>
          <a:xfrm>
            <a:off x="457200" y="3048120"/>
            <a:ext cx="35053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Horizontal Scroll 11"/>
          <p:cNvSpPr/>
          <p:nvPr/>
        </p:nvSpPr>
        <p:spPr>
          <a:xfrm>
            <a:off x="457200" y="40384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3B87-ED73-49D2-8617-43078F7B3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AADE-3BB7-44DE-B74F-76211435F57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ÁC LOẠI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380880" y="11430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80880" y="243828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80880" y="373392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380880" y="50292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14264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676520" y="243828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676520" y="373392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676520" y="502920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563-D630-4CDB-B9FE-EB5DC94A5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10A7-84F7-41B2-A659-DC5D4B0AF29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nghị, hội chợ, triển lãm, sự kiện, vụ việc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hính cần thông báo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tiến hành, mục đích, thời gian, thời hạn, địa điểm, thành phần, đối tượng tham dự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, kết quả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. THÔNG BÁO VỀ SỰ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D92-C642-476A-BB20-E154BC6A2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01CA-6847-445A-8C39-3BD70B8CD3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4" name="Picture 2" descr="http://www.ued.edu.vn/khoatamlygiaoduc/file.php/1/KHOA_TAM_LY_/TB_so_2_HNNCKH_DHDN_nam_2012.jpg"/>
          <p:cNvPicPr/>
          <p:nvPr/>
        </p:nvPicPr>
        <p:blipFill>
          <a:blip r:embed="rId1"/>
          <a:stretch/>
        </p:blipFill>
        <p:spPr>
          <a:xfrm>
            <a:off x="0" y="-9360"/>
            <a:ext cx="4572000" cy="68673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5" name="Picture 4" descr="http://ulsasontay.edu.vn/upload/images/hncbvc0001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6" name="Picture 6" descr="http://www.hcmuarc.edu.vn/upload/product/resize/1359001125_picture-220www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7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9" name="Picture 8" descr="http://www.ueh.edu.vn/userfiles/image/ImgVanBan/P_TC-HC/Nam2011/1306_TB_DHKT.gif"/>
          <p:cNvPicPr/>
          <p:nvPr/>
        </p:nvPicPr>
        <p:blipFill>
          <a:blip r:embed="rId4"/>
          <a:stretch/>
        </p:blipFill>
        <p:spPr>
          <a:xfrm>
            <a:off x="0" y="152280"/>
            <a:ext cx="4572000" cy="655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1:00Z</dcterms:modified>
  <cp:revision>314</cp:revision>
  <dc:subject/>
  <dc:title>Chương 9.2</dc:title>
</cp:coreProperties>
</file>