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E8FF-6A92-486D-B162-A3A95D5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2458-E366-4555-BBF0-966AE9C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4746-AC63-4DD5-817C-7CCC7E66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352F-670E-4D0E-989F-9C2C2613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CAD-68A8-4070-931F-2B5E2E30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4953-43DB-4528-853D-54E2F5E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7CCB-81E4-42C1-8EA2-8C40132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973-04FC-491A-A0B5-4E536C37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F452-C993-4B4E-824F-2365460F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E75F-7627-439F-8214-880B203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056-A3B5-4752-AAEF-79FC6A7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2858-89A4-4729-AF5B-B0B8514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2D8A-AF43-481A-8A1E-08B020F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790-F58D-4D46-8FC7-D58864F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CED2-DE26-4735-8DFD-C6F68BC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BC2-08BE-4206-AF80-7A25EFA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E99B-3142-4F97-91CB-FACCBBF8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42F1-6C43-46F2-B64B-A3DFC90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ECE5-4C24-44E7-B8AF-F4CE7381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A192-6B8A-4795-AD0A-8D5FA4B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3FF6-31C5-4F5D-B2AB-7FCCB613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8C8F-0CCF-4D8C-9B05-9A82F28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5B31-8484-4E10-87BD-AE74C0F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2B0A-C432-463B-A14E-EAA824D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54A-449A-499D-A3F5-C5EA6B189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5DC7-95C5-4539-B7FE-393951F1D85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561-CA5E-47EF-A245-D9795F86B1A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1462-6A3F-408F-9575-82E49A4D2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A4F-0D0C-4542-9BFC-39A869748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10E0-AB50-4110-BC32-E5B9FED5A63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BÁO C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685B-8A80-4EA9-965A-07CCE0CBF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C376-ED84-4271-95ED-82C482869DA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</a:t>
            </a: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……………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aëc ñieåm tình hình; Nhieäm vuï ñöôïc giao; Thuaän lôïi khoù kha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Muïc tieâu, nhieäm vuï saép tôùi; Caùc bieän phaùp thöïc hieän; Kieán nghò, ñeà xuaát vôùi caáp tre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i="1" lang="en-US" sz="2000" spc="-1" strike="noStrike">
                <a:solidFill>
                  <a:srgbClr val="000029"/>
                </a:solidFill>
                <a:latin typeface="VNI-Times"/>
              </a:rPr>
              <a:t>Nôi nhaän: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                                               QUYEÀN HAÏN, CHÖÙC VUÏ NGÖÔØI KY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………………………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Löu VT, PHC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62520" y="289548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Q, TC CẤP TRÊN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Ơ QUAN, TỔ CHỨ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429000" y="0"/>
            <a:ext cx="5715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066680" y="9907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724280" y="106668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877-119F-49FF-9CBA-A772FB64F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E74-1637-4D86-8ECF-F08E0AC1DFD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Neâu caùc yeâu caàu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aáu truùc cuûa baùo caùo vaø nhöõng noäi dung chính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ÂU HỎI ÔN TẬP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Soaïn Baùo caùo veà hoaït ñoäng cuûa lôùp em naêm hoïc vöøa qua gôûi Phoøng Quaûn lyù HSSV&amp;TTGD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Horizontal Scroll 8"/>
          <p:cNvSpPr/>
          <p:nvPr/>
        </p:nvSpPr>
        <p:spPr>
          <a:xfrm>
            <a:off x="380880" y="32767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ÀI TẬP (30p)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9AA6-0D25-4F61-BA4E-DCEDA64BC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C85-7653-4D32-8856-BB27FF9693C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toång keát naêm hoïc 2010 - 2011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Phoøng Quaûn lyù HSSV &amp; TTG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Nhaän ñònh chung veà ñaëc ñieåm tình hình cuûa lôùp; Thuaän lôïi khoù khaên cuûa lôù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keát quaû hoaït ñoäng cuûa lôùp trong 3 lónh vöïc: Hoïc taäp, reøn luyeän, tham gia coâng taùc xaõ hoäi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-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eà xuaát, kieán nghò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5618160"/>
          <a:ext cx="8458200" cy="1011240"/>
        </p:xfrm>
        <a:graphic>
          <a:graphicData uri="http://schemas.openxmlformats.org/drawingml/2006/table">
            <a:tbl>
              <a:tblPr/>
              <a:tblGrid>
                <a:gridCol w="5334120"/>
                <a:gridCol w="3124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Nôi nhaä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ÔÙP TRÖÔÛ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Phoøng QLHSSV&amp;TTG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ö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8"/>
          <p:cNvSpPr/>
          <p:nvPr/>
        </p:nvSpPr>
        <p:spPr>
          <a:xfrm>
            <a:off x="0" y="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OA QTK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ỚP …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29000" y="0"/>
            <a:ext cx="5715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724280" y="91440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20B8-3656-4C11-9D58-78C65D91F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99E-1600-4475-8C5D-8C869791C26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Khái niệm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Yêu cầu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ân loại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Cấu trúc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ương pháp soạn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5"/>
          <p:cNvSpPr/>
          <p:nvPr/>
        </p:nvSpPr>
        <p:spPr>
          <a:xfrm>
            <a:off x="380880" y="18576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ỘI DUNG BÀI GIẢNG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281-F099-40FB-B923-A6DD8B4A7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5D09-DC87-4522-A12E-CC169D1B599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Vaên baûn haø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Chæ duøng cho CQ, TC caáp döôù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Noäi d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Phaûn aùnh söï vieäc, hoaït ñoäng cuûa CQ, TC trong moät khoaûng thôøi gian cuï the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höùc naê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Q, TC caáp treân ñaùnh giaù ñöôïc tình hình thöïc teá, kòp thôøi ñeà ra chính saùch, bieän phaùp quaûn lyù phuø hôï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80880" y="3348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KHÁI NIỆM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F3A-FBCC-4767-9421-DD10418C9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E43-C01A-429D-850C-CD29BBAA505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Trung thöïc, khaùch quan, chính x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hi tieát, soá lieäu phaûi ñuùng thöïc te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uï theå, coù troïng taâm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aáp treân ñaùnh giaù ñuùng tình hình thöïc teá ñeå ban haønh caùc quyeát ñònh quaûn ly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Kòp thôøi, nhanh choù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Vì baùo caùo phuïc vuï coâng taùc quaûn lyù, ñieàu haø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YÊU CẦU CỦA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DD7-04AD-4226-A818-0833060A2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CA8-52F1-4217-855B-D56B534C858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76320" y="2057400"/>
            <a:ext cx="259056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oâng taù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838080" y="3581280"/>
            <a:ext cx="28195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ñeà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5943600" y="2057400"/>
            <a:ext cx="30481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mo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0200" y="685800"/>
            <a:ext cx="5943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3. PHAÂN LOAÏI BAÙO CAÙ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76720" y="4419720"/>
            <a:ext cx="274320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5791320" y="3581280"/>
            <a:ext cx="274320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Thöïc teá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2666880" y="1828800"/>
            <a:ext cx="1905120" cy="9144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971440" y="1828800"/>
            <a:ext cx="1600200" cy="18288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541760" y="1828800"/>
            <a:ext cx="106560" cy="25909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95680" y="1828800"/>
            <a:ext cx="1676520" cy="1905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495680" y="1828800"/>
            <a:ext cx="1447920" cy="762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A5DF-E38F-4D37-B2CE-A87E6DB20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8C19-2509-44EA-B70B-B381C5C7F8D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oâng t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Sô keát, toång ke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ñeà, vụ việ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Moät vaán ñeà trong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moân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aøi chính, thueá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Ñeà caäp taát caû caùc maët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thöïc teá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höïc teá coâng taùc vaø ñeà xuaát bieän phaùp giaûi quyeát vaán ñe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5"/>
          <p:cNvSpPr/>
          <p:nvPr/>
        </p:nvSpPr>
        <p:spPr>
          <a:xfrm>
            <a:off x="380880" y="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PHÂN LOẠI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D3E6-FCF7-4A51-91D3-5158A845E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8709-335B-42B4-90F4-1BEA1D05640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iệm vụ được giao, thuận lợi, khó khăn trong thực 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80880" y="0"/>
            <a:ext cx="838224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CẤU TRÚC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Horizontal Scroll 6"/>
          <p:cNvSpPr/>
          <p:nvPr/>
        </p:nvSpPr>
        <p:spPr>
          <a:xfrm>
            <a:off x="457200" y="1100160"/>
            <a:ext cx="2514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2819520"/>
            <a:ext cx="807732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ết quả thực hiện; công việc đã làm được, chưa làm được; nguyên nhân chủ quan, khách qu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Horizontal Scroll 8"/>
          <p:cNvSpPr/>
          <p:nvPr/>
        </p:nvSpPr>
        <p:spPr>
          <a:xfrm>
            <a:off x="533520" y="266688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tiêu, nhiệm vụ mới, biện pháp thực hiện, kiến nghị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10"/>
          <p:cNvSpPr/>
          <p:nvPr/>
        </p:nvSpPr>
        <p:spPr>
          <a:xfrm>
            <a:off x="533520" y="491004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FB3-A599-4CEB-B292-5D472D2E0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430-F00E-4A9C-9968-21876283A8E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Xaùc ñònh muïc ñích cuûa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hu thaäp döõ lieäu caàn baùo caùo: Ñoái chieáu thoâng tin ñeå kieåm chöùng ñoä xaùc thöïc cuûa thoâng 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Saép xeáp, toång hôïp döõ lieäu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ổng kết hoaït ñoäng, kinh nghieäm, yù kieán caàn ñeà xuaát leân caáp treâ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Horizontal Scroll 5"/>
          <p:cNvSpPr/>
          <p:nvPr/>
        </p:nvSpPr>
        <p:spPr>
          <a:xfrm>
            <a:off x="380880" y="0"/>
            <a:ext cx="845820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PHƯƠNG PHÁP SOẠN THẢ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6"/>
          <p:cNvSpPr/>
          <p:nvPr/>
        </p:nvSpPr>
        <p:spPr>
          <a:xfrm>
            <a:off x="457200" y="1100160"/>
            <a:ext cx="830592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66F2-D135-415E-A834-E34DBB9F0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446-31EA-4E61-94F0-B328C40CB29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Coâng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vieäc ñaõ laøm ñöôïc, chöa laøm ñöô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uû quan, khaùch q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Bieän phaùp thöïc hieän coâng vieäc coøn laï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Horizontal Scroll 5"/>
          <p:cNvSpPr/>
          <p:nvPr/>
        </p:nvSpPr>
        <p:spPr>
          <a:xfrm>
            <a:off x="380880" y="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2. VIẾT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Horizontal Scroll 6"/>
          <p:cNvSpPr/>
          <p:nvPr/>
        </p:nvSpPr>
        <p:spPr>
          <a:xfrm>
            <a:off x="457200" y="9144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SƠ KẾT (6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33520" y="4191120"/>
            <a:ext cx="8076960" cy="2209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Toång hôïp nhieäm vuï ñaõ hoaøn thaønh, chöa hoaøn thaønh (keát quaû cuï theå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ưa hoaøn thaø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Phöông höôùng nhieäm vuï cho năm sa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Horizontal Scroll 9"/>
          <p:cNvSpPr/>
          <p:nvPr/>
        </p:nvSpPr>
        <p:spPr>
          <a:xfrm>
            <a:off x="457200" y="34290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TỔNG KẾT (12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08-10T08:27:38Z</dcterms:modified>
  <cp:revision>306</cp:revision>
  <dc:subject/>
  <dc:title>Chương 9.4</dc:title>
</cp:coreProperties>
</file>