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399D-C13F-4767-B299-30C830C2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D2D7-FB44-430C-9F0D-61E3C45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7D38-1AE9-4A6C-9B44-70EED9D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5DFB-D68A-40E6-9B3F-286058BA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7B4F-FEB0-448F-A9A6-8EC8128E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564-84D6-4335-AE1B-DBC758C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921-F530-4CDD-85F5-6894B34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EC6B-4768-472B-B9A4-DFE0BB0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6AE-D472-45BF-8479-4F886CC3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D17-1BBC-48F0-942E-541A89BE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6262-1865-4997-8610-B920573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2853-CDF9-4A79-A809-CA1A334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0208-FB9E-4A6E-A094-2F7566E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BD95-8CDA-4708-AA02-74D67368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47C-9227-42AA-B838-18F70BB7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F62C-136F-4360-8DE3-242A831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6CE-8693-4B2C-AD64-9197A440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8EEC-F216-454A-9BB9-3756BA9C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D03D-60E5-4062-8D93-33F1E9E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F47E-C0FC-47A0-9B33-DCADFEE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48B4-5B31-4537-A0F6-D2C4964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D984-DD84-41E7-863A-85685EE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2A28-6079-48BE-892B-C23FEF4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74E1-3D82-432E-AC2F-D518A41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EF5-423A-4735-996B-1575169A0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BD4-42C6-4DEF-AC82-B5D411BFCAB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A38-2D0E-499C-9719-F50E14FB58E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935-3C56-4284-BF2A-A87D596BD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THANG%20&#272;I&#7874;M%20TI&#7874;U%20LU&#7852;N_CO%20THUYET%20TRINH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bbbbbbbbbbbbbbbbbbbbbbbbbbbbbbbbbbbbbbbbbbbbbbbbbbbbbbbbbbbbbbbbbbbbbbbbbbbbbbbbbbbbbbbbbbbbbbbbbbbbbbbbbbbbbbbbbb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3A7-5B01-4B44-B8E2-4F688D5B2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47A-0916-442B-90F9-E52F32AA4DA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MÔN HỌC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</a:t>
            </a: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Arial"/>
                <a:ea typeface="Times New Roman"/>
              </a:rPr>
              <a:t>(MANAGEMENT OF OFFICE)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GV: TS. Nguyễn Nam Hà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0909812330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namhadhcn@yahoo.com.v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111" name="Frame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Knowledge: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Understand the functions, tasks, organizational structure, organizational form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Understand the system of legal, judicial documents, administrativ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FA1-4319-4C47-9720-53CD4F962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3FE-3E54-4917-B227-28015BD8D61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Skills:          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Know how to organize, manag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Drafting and presentation of common administrative documents: Decision, notify, report, reports, documents ..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8"/>
          <p:cNvSpPr/>
          <p:nvPr/>
        </p:nvSpPr>
        <p:spPr>
          <a:xfrm>
            <a:off x="457200" y="9907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Horizontal Scroll 9"/>
          <p:cNvSpPr/>
          <p:nvPr/>
        </p:nvSpPr>
        <p:spPr>
          <a:xfrm>
            <a:off x="457200" y="37339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70F-C318-4CB8-A1BE-DB37D8544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92E-807C-4BE8-B864-FC490D485F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chức năng, nhiệm vụ, cơ cấu tổ chức, hình thức tổ chức V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hệ thống VB QPPL, VBTP, VBH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ỤC TIÊU CỦA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Biết cách tổ chức, quản lý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Soạn thảo, trình bày VB hành chính thông dụng: Quyết định, thông báo, tờ trình, báo cáo, công văn…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Horizontal Scroll 8"/>
          <p:cNvSpPr/>
          <p:nvPr/>
        </p:nvSpPr>
        <p:spPr>
          <a:xfrm>
            <a:off x="380880" y="9907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ến t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Horizontal Scroll 9"/>
          <p:cNvSpPr/>
          <p:nvPr/>
        </p:nvSpPr>
        <p:spPr>
          <a:xfrm>
            <a:off x="380880" y="35053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53D-F997-4B54-8ABB-FF2E22726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0BA-0F0D-4135-8C30-B2EE647E551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áo trình Quản trị văn phòng, Khoa QTKD, Trường ĐHCN TPHCM, 201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Horizontal Scroll 7"/>
          <p:cNvSpPr/>
          <p:nvPr/>
        </p:nvSpPr>
        <p:spPr>
          <a:xfrm>
            <a:off x="380880" y="990720"/>
            <a:ext cx="37339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áo trì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3429000"/>
            <a:ext cx="8305920" cy="2971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GS.TS. Đồng Thị Thanh Phương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., T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ương Thị Kim Thanh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TP.HCM 2009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Mike Harvey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Hồng Đức, TP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9"/>
          <p:cNvSpPr/>
          <p:nvPr/>
        </p:nvSpPr>
        <p:spPr>
          <a:xfrm>
            <a:off x="380880" y="2819520"/>
            <a:ext cx="373392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m kh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7C47-6B4D-4737-A95B-2DE05D2BA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B0FF-4BDB-49DA-A2F2-F0C1F36DAA5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2" name="Picture 2" descr="http://saigon-uni.edu.vn/uploads/fckeditor/image/quantri.JPG"/>
          <p:cNvPicPr/>
          <p:nvPr/>
        </p:nvPicPr>
        <p:blipFill>
          <a:blip r:embed="rId1"/>
          <a:stretch/>
        </p:blipFill>
        <p:spPr>
          <a:xfrm>
            <a:off x="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5" name="Picture 8" descr="http://www.davibooks.vn/beta/upload_images/old_picture/a/5f6201605823ea1db63a9ea92cd97c68.jpg"/>
          <p:cNvPicPr/>
          <p:nvPr/>
        </p:nvPicPr>
        <p:blipFill>
          <a:blip r:embed="rId2"/>
          <a:stretch/>
        </p:blipFill>
        <p:spPr>
          <a:xfrm>
            <a:off x="304812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16" name="Picture 10" descr="http://t.f10.photo.zdn.vn/upload/original/2012/06/16/20/10/1339852234956358045.jpg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7" name="Horizontal Scroll 9"/>
          <p:cNvSpPr/>
          <p:nvPr/>
        </p:nvSpPr>
        <p:spPr>
          <a:xfrm>
            <a:off x="0" y="0"/>
            <a:ext cx="9144000" cy="12193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B9F-558B-4A68-82B9-D158A6BE8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EA1-38D3-442A-B646-C31F08D656C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ến pháp 1992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3/6/2008 (01/01/2009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của HĐND, UBND 3/12/2004 (1/4/2005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Lưu trữ 01/01/2011 (01/7/2012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7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10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7A07-05CA-4A2E-B6B0-D401F5324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E78-A448-455D-8433-43A768251D0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28" name="Picture 2" descr="http://4.bp.blogspot.com/-86u6ApdL0sM/ULtvPfksD2I/AAAAAAAAAIw/6FPKO3h7Sj0/s400/hienphap.jpg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9368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9718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312408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232" name="Horizontal Scroll 9"/>
          <p:cNvSpPr/>
          <p:nvPr/>
        </p:nvSpPr>
        <p:spPr>
          <a:xfrm>
            <a:off x="0" y="33480"/>
            <a:ext cx="91440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D41-7D9B-4C41-A0B9-D157EDB33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9B4-C358-437A-A40E-501CFCB86FB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58/2001 Quản lý con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82/2001 Nghi lễ Nhà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110/2004 Công tác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24/2009 Luật Ban hành VBQP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31/2009 Sửa đổi NĐ 58/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9/2010 Sửa đổi NĐ 11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01/2013 Luật Lưu tr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6D08-2A89-4694-9403-4B07A1C54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4A3-325D-4B98-8E8F-74C30C926D0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liên tịch 55_6/5/2005_BNV-VPCP: Hướng dẫn về thể thức và kỹ thuật trình bày văn bả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ông tư 01_19/1/2011_Bộ Nội vụ: Hướng dẫn thể thức và kỹ thuật trình bày văn bản hành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9/2011/Bộ Nội vụ_T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ờ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ạ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b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o qu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ồ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 sơ, 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à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li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ệ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u c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6EC-C769-4D6A-85BB-D0810D344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47E-F81A-469E-A7F7-DB0308701E3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fba.iuh.edu.v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/ Bài giảng giáo viên / Nguyễn Nam Hà / Môn QTV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BÀI GIẢNG ĐIỆN TỬ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3962520"/>
            <a:ext cx="8229600" cy="2438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gov.vn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/ Hệ thống văn bản / Thông tư / Năm ban hành / 2011 / Thông tư số 01 Bộ Nội vụ - thể thức &amp; kỹ thuật trình bày VBH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8"/>
          <p:cNvSpPr/>
          <p:nvPr/>
        </p:nvSpPr>
        <p:spPr>
          <a:xfrm>
            <a:off x="304920" y="312408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VĂN BẢN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5E34-9A78-40E3-9964-A647C3252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890-6533-4CF2-84D5-305C08801BB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na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ốc hội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ính ph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so.gov.vn (Tổng cục thống k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iuh.edu.vn (ĐHCN TPHC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WEBSITE THAM K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Ả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2E67-C511-4AC5-8F7C-0FB3036B0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FA9E-B688-4EDA-AA4A-376A72AB82D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117" name="Content Placeholder 8" descr=""/>
          <p:cNvPicPr/>
          <p:nvPr/>
        </p:nvPicPr>
        <p:blipFill>
          <a:blip r:embed="rId2"/>
          <a:stretch/>
        </p:blipFill>
        <p:spPr>
          <a:xfrm>
            <a:off x="438120" y="1200240"/>
            <a:ext cx="8309160" cy="5219640"/>
          </a:xfrm>
          <a:prstGeom prst="rect">
            <a:avLst/>
          </a:prstGeom>
          <a:ln w="0">
            <a:noFill/>
          </a:ln>
        </p:spPr>
      </p:pic>
      <p:sp>
        <p:nvSpPr>
          <p:cNvPr id="118" name="Horizontal Scroll 6"/>
          <p:cNvSpPr/>
          <p:nvPr/>
        </p:nvSpPr>
        <p:spPr>
          <a:xfrm>
            <a:off x="304920" y="18576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ÁC ĐỊNH MỤC TIÊU HỌC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D9B-3735-4F83-836E-4F717CAD2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6E9-F05E-44D5-A96A-7EEA1B201E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4" name="Picture 2" descr="http://mic.gov.vn/tintucsukien/tintonghop/PublishingImages/congchinhphu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079-1845-42A9-8E65-8F6BDDC59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149-EC1D-4ED3-AB44-ECE579B83DD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VP ảo: Thực trạng &amp; giải pháp phát triể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Giao tiếp VP - tiếp khách qua điện thoại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Giao tiếp VP - tiếp khách trực tiế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lựa chọn vị trí đặt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3412-9DB8-4857-9EED-31E1E8B6D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FA6-3509-407F-B2E9-1262F41B812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bài trí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ổ chức công tác VP trong IUH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Sử dụng không gian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nh sáng trong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8C64-C249-41A0-AF7E-DB98DE95E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E69-8CE5-4CD7-9027-9AFAF7CF95C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“Xanh”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ội thất văn phò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&amp; vấn đề bảo vệ môi trường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&amp; vấn đề tiết kiệm năng lượ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mở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2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ông ti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ời gia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6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Tổ chức sự kiện trong doanh nghiệ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điện tử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78E1-8702-4C25-A8E5-E473FFF03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9E46-1659-486D-9EE7-5F650F7E36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ỹ năng làm việc theo nhó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hồ sơ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p dụng 5S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ội họp tại VN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Ứng dụng hệ thống quản lý chất lượng ISO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149-F30A-4252-9BD3-060713877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33E5-8C84-42EB-991D-B1E13BA1FF7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920-C5FF-4C73-9E71-7684A2A88C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B53F-A7ED-4EBD-A217-5F73D8AB5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8" name="Bevel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ART 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9" name="Picture 7" descr="https://encrypted-tbn1.gstatic.com/images?q=tbn:ANd9GcSwEocHnrCMfwce3RIGPI1Q0HsXY-22bZAU2GjqsNFI_XE9TSgZ"/>
          <p:cNvPicPr/>
          <p:nvPr/>
        </p:nvPicPr>
        <p:blipFill>
          <a:blip r:embed="rId1"/>
          <a:stretch/>
        </p:blipFill>
        <p:spPr>
          <a:xfrm>
            <a:off x="193680" y="228600"/>
            <a:ext cx="3159000" cy="251460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2B5-89DF-4B9F-A450-8FDC97CE7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447F-68B9-4756-918F-664B709B309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4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hần I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TỔNG QUAN VỀ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5" name="Picture 6" descr="http://www.getentrepreneurial.com/images/Office%20Management.gif"/>
          <p:cNvPicPr/>
          <p:nvPr/>
        </p:nvPicPr>
        <p:blipFill>
          <a:blip r:embed="rId1"/>
          <a:stretch/>
        </p:blipFill>
        <p:spPr>
          <a:xfrm>
            <a:off x="193680" y="228600"/>
            <a:ext cx="3019320" cy="236232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F1F-3FE8-4E62-A8F3-16D82D4F9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09B0-8F1C-4267-B13D-5B82DCC130B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30240"/>
            <a:ext cx="9144000" cy="63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 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PERIODS FOR LECTURE: 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HOME STUDY: 6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1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2" name="Horizontal Scroll 6"/>
          <p:cNvSpPr/>
          <p:nvPr/>
        </p:nvSpPr>
        <p:spPr>
          <a:xfrm>
            <a:off x="2743200" y="914400"/>
            <a:ext cx="3657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1B97-3AC0-4467-A1AE-FBB732D42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97F-41F3-4018-A076-F6A64758F70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KHÁI QUÁ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Ố TIẾT GIẢNG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(TỰ HỌC: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9" name="Horizontal Scroll 6"/>
          <p:cNvSpPr/>
          <p:nvPr/>
        </p:nvSpPr>
        <p:spPr>
          <a:xfrm>
            <a:off x="2895480" y="838080"/>
            <a:ext cx="33530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ương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20" name="Picture 9" descr="http://sto.com.vn/uploads/download/images/sto-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221940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21D-D299-4A66-8CC1-BEE5D36A6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AE3-9AD2-4DB8-9FC8-3EE5BB1409D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H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hành chín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T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tư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QPPL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quy phạm pháp luậ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DN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Doanh nghiệ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ĐD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 đại diệ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QT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Quản trị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CQ T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Cơ quan, tổ chứ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4" name="Picture 6" descr="http://vnexpress.net/Files/Subject/3b/be/07/d5/a-tb-1-nhu-cau-thue-van-pho.jpg"/>
          <p:cNvPicPr/>
          <p:nvPr/>
        </p:nvPicPr>
        <p:blipFill>
          <a:blip r:embed="rId1"/>
          <a:stretch/>
        </p:blipFill>
        <p:spPr>
          <a:xfrm>
            <a:off x="6095880" y="3467160"/>
            <a:ext cx="2590920" cy="293364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cepts, functions and offic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ational structure of the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ethods of office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form of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F62-7B9E-4564-AB0A-3AFC9F54A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481-04FC-4D98-A5B7-3ECECD495C9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6" name="Horizontal Scroll 6"/>
          <p:cNvSpPr/>
          <p:nvPr/>
        </p:nvSpPr>
        <p:spPr>
          <a:xfrm>
            <a:off x="304920" y="7632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E4C-2706-4770-A943-4ED1DAE68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9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00C6-0B69-4A69-9D74-5E4A3674493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ái niệm, chức năng, nhiệm vụ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ơ cấu tổ chức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oạt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ổ chức văn p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quản lý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bố trí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hình thức hoạt động của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Narrow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ead offic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Broad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general operating apparatus of the organization, ensuring the technical material conditions for the operation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Management perspectiv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Where receiving and processing information for the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E87-0DA6-4B0B-9634-552CF3E4A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457200" y="6245280"/>
            <a:ext cx="2971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03B4-3259-43FD-B408-D146CB0850A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8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 CONCEPTS, FUNCTIONS &amp; DUTI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9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OFFICE CONCEP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0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D44-DF0C-416F-A967-DCA299EFF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F67-4D77-4C35-9D7C-561B4B63963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hẹ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ụ sở làm việc của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rộ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Bộ máy điều hành tổng hợp của CQ, TC, bảo đảm các điều kiện vật chất, kỹ thuật cho hoạt động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óc độ quản tr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ơi tiếp nhận, xử lý thông tin phục vụ công tác điều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1. KHÁI NIỆM, CHỨC NĂNG, NHIỆM VỤ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6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KHÁI NIỆ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is the planning, organization, coordination, standardization and control of information processing activities in the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511-4D0A-4307-8E4D-426AB9E23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1FD5-45F6-4264-825B-C6B951763A0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2" name="Horizontal Scroll 6"/>
          <p:cNvSpPr/>
          <p:nvPr/>
        </p:nvSpPr>
        <p:spPr>
          <a:xfrm>
            <a:off x="380880" y="763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OFFICE MANAGEMENT CONCEP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53" name="Picture 8" descr="https://encrypted-tbn3.gstatic.com/images?q=tbn:ANd9GcTASSXGrYCIzCqCsb1CLTqtzaqIZ_TWDiMl5SAbdvunbleKFRu5"/>
          <p:cNvPicPr/>
          <p:nvPr/>
        </p:nvPicPr>
        <p:blipFill>
          <a:blip r:embed="rId1"/>
          <a:stretch/>
        </p:blipFill>
        <p:spPr>
          <a:xfrm>
            <a:off x="4572000" y="3429000"/>
            <a:ext cx="4067280" cy="28954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1938-3E0C-42E7-B3FB-E4E3C5300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245280"/>
            <a:ext cx="320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26CE-464E-495B-9386-384AE7B6D64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Quản trị hành chánh văn phòng là việc hoạch định, tổ chức, phối hợp, tiêu chuẩn hó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&amp;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kiểm soát các hoạt động xử lý thông tin trong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9" name="Horizontal Scroll 6"/>
          <p:cNvSpPr/>
          <p:nvPr/>
        </p:nvSpPr>
        <p:spPr>
          <a:xfrm>
            <a:off x="380880" y="33480"/>
            <a:ext cx="838224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2. KHÁI NIỆM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60" name="Picture 8" descr="http://1.bp.blogspot.com/-dd3w6dxxiNo/Tj86_KLudlI/AAAAAAAABDM/5Mk987xlfKw/s400/i_love_office_management_postcard-p239729007590858055qibm_400.jpg"/>
          <p:cNvPicPr/>
          <p:nvPr/>
        </p:nvPicPr>
        <p:blipFill>
          <a:blip r:embed="rId1"/>
          <a:stretch/>
        </p:blipFill>
        <p:spPr>
          <a:xfrm>
            <a:off x="4495680" y="3505320"/>
            <a:ext cx="41148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0A1B-7A79-4E58-A0A0-87B720823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81E-6FE2-4027-BC66-EFF797518CF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planning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7" name="Horizontal Scroll 6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OFFICE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8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e the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irect the work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eck for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Services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(legal papers valid in the field of management, not for profit purposes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3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4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5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6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1FB-7F72-4424-A266-E10512B49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8" name="Date Placeholder 2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12E-7495-447A-8325-0ADEB7C9235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oạch định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1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HỨC NĂNG CỦA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3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thực hiện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Lãnh đạo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Kiểm tra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Dịch vụ hành chính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cấp giấy tờ có giá trị pháp lý trong lĩnh vực quản lý, không nhằm mục tiêu lợi nhuận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8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9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0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1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5" descr=""/>
          <p:cNvPicPr/>
          <p:nvPr/>
        </p:nvPicPr>
        <p:blipFill>
          <a:blip r:embed="rId1"/>
          <a:stretch/>
        </p:blipFill>
        <p:spPr>
          <a:xfrm>
            <a:off x="291960" y="1500120"/>
            <a:ext cx="8560080" cy="466884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446-AA34-4FEC-8C6F-3EBCEACBFD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4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CE45-1E3E-4F33-9641-89EABEB90DE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6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FUNCTION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907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1828800" y="49528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Content Placeholder 5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521920" cy="4741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2A19-F7DE-4F65-BD45-814F8FBEB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AE6A-84B3-4505-AE04-A446132BAE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5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CHỨC NĂNG CỦA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7621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1676520" y="5029200"/>
            <a:ext cx="838080" cy="8380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44AB-C753-4DBF-A689-31A741443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C1F-8C20-4AB9-998B-4F344B49008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Total units of stud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2 units of study (30 information theory + homework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Course Progra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7 Chap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ssa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A group of 3 to 10 students (classroom presentations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xam for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tests / implementation of self-review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Absent from class more than six periods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an the end of the semes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COUR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9AF-85E0-48FB-AFFF-379BDBA76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1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858-AB9A-45D3-B747-68F1C6C4C70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isi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roposed solutions help leaders handle the job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ynthesi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Receiving, processing, provide information for management and administr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4" name="Horizontal Scroll 7"/>
          <p:cNvSpPr/>
          <p:nvPr/>
        </p:nvSpPr>
        <p:spPr>
          <a:xfrm>
            <a:off x="304920" y="33480"/>
            <a:ext cx="8458200" cy="1338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THE FUNCTION OF ADVISING &amp; SYNTHESIS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15" name="Picture 2" descr="http://www.apave.com.vn/Modules/CMS/Upload/56/Nam_2009/Thang_8/Ngay_17/secretary_1.jpg"/>
          <p:cNvPicPr/>
          <p:nvPr/>
        </p:nvPicPr>
        <p:blipFill>
          <a:blip r:embed="rId1"/>
          <a:stretch/>
        </p:blipFill>
        <p:spPr>
          <a:xfrm>
            <a:off x="4952880" y="3962520"/>
            <a:ext cx="3733920" cy="23907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16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B2D-DD3F-4754-BE53-808DF3AEB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8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28BD-7585-4A01-8F07-9E1B93993CE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510552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am mưu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ề xuất giải pháp giúp lãnh đạo xử lý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ổng hợ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iếp nhận, xử lý, cung cấp thông tin phục vụ quản l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1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CHỨC NĂNG THAM MƯU, TỔNG HỢP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22" name="Picture 6" descr="http://www.misa.com.vn/Portals/0/Upload2012/yahoocomvn/Images/10/nghe_tro_ly_bao_chi.jpg"/>
          <p:cNvPicPr/>
          <p:nvPr/>
        </p:nvPicPr>
        <p:blipFill>
          <a:blip r:embed="rId1"/>
          <a:stretch/>
        </p:blipFill>
        <p:spPr>
          <a:xfrm>
            <a:off x="5638680" y="1009800"/>
            <a:ext cx="3095640" cy="5314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2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826-798D-434A-B6BD-94A58A73C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FB7-3E73-4F57-91CD-DEA8A7E1F24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57200" y="990720"/>
            <a:ext cx="8229600" cy="2666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inancial management (revenue &amp; expenditure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Asset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Ensuring infrastructure, facilities &amp; working conditions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8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LOGISTICS FUNCTION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ocal organization's communication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portal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0" name="Horizontal Scroll 9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REPRESENTATIVE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B479-B5CD-429D-8AA6-DC62F493E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3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4A7-7ED8-43A8-8BCE-0212DEE15A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chính (thu c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s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cơ sở vật chất, phương tiện &amp; điều kiện làm việc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CHỨC NĂNG HẬU CẦ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Đầu mối giao tiếp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ổng thông tin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8" name="Horizontal Scroll 8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CHỨC NĂNG ĐẠI D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F8F-B241-4A57-9A44-7328D69DF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457200" y="6305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88C-0D12-4149-837C-A20A798D18D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762120"/>
            <a:ext cx="8305920" cy="5715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ollect, process, and transfer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evelop programs &amp; plan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reparing documents for handling affairs leaders,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rafting and issuing documents, supervise the implementation of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 of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al communication for internal &amp; external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Management &amp; storage of document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Human resource management, labor, wage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Asset management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4" name="Horizontal Scroll 7"/>
          <p:cNvSpPr/>
          <p:nvPr/>
        </p:nvSpPr>
        <p:spPr>
          <a:xfrm>
            <a:off x="304920" y="33480"/>
            <a:ext cx="8534160" cy="8046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DUTIE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3866-00F6-423C-BF1E-B0B88DD6C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7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FEC-F6AD-45C8-BA34-C7DAFED632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hu thập, xử lý, truyền đạt thông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huẩn bị tài liệu cho lãnh đạo giải quyết công việc, hội họ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0" name="Horizontal Scroll 6"/>
          <p:cNvSpPr/>
          <p:nvPr/>
        </p:nvSpPr>
        <p:spPr>
          <a:xfrm>
            <a:off x="1600200" y="0"/>
            <a:ext cx="7238880" cy="8049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NHIỆM VỤ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1" name="Right Arrow Callout 7"/>
          <p:cNvSpPr/>
          <p:nvPr/>
        </p:nvSpPr>
        <p:spPr>
          <a:xfrm>
            <a:off x="152280" y="762120"/>
            <a:ext cx="1524240" cy="1981080"/>
          </a:xfrm>
          <a:prstGeom prst="rightArrowCallout">
            <a:avLst>
              <a:gd name="adj1" fmla="val 48804"/>
              <a:gd name="adj2" fmla="val 49990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2" name="Right Arrow Callout 8"/>
          <p:cNvSpPr/>
          <p:nvPr/>
        </p:nvSpPr>
        <p:spPr>
          <a:xfrm>
            <a:off x="152280" y="2819520"/>
            <a:ext cx="1524240" cy="1904760"/>
          </a:xfrm>
          <a:prstGeom prst="rightArrowCallout">
            <a:avLst>
              <a:gd name="adj1" fmla="val 48798"/>
              <a:gd name="adj2" fmla="val 49986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Ổ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3" name="Right Arrow Callout 9"/>
          <p:cNvSpPr/>
          <p:nvPr/>
        </p:nvSpPr>
        <p:spPr>
          <a:xfrm>
            <a:off x="152280" y="480060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HI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Ớ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4" name="Right Arrow Callout 10"/>
          <p:cNvSpPr/>
          <p:nvPr/>
        </p:nvSpPr>
        <p:spPr>
          <a:xfrm>
            <a:off x="152280" y="563868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NH TOÁ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52480" y="281952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Soạn thảo, ban hành VB, theo dõi đôn đốc việc thực h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hội họ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giao tiếp đối nội, đối ngoại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752480" y="4876920"/>
            <a:ext cx="7010640" cy="457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, lưu trữ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752480" y="5410080"/>
            <a:ext cx="701064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nhân sự, tiền lươ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tài sản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8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547-1B10-4599-92F7-52A76D2F5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A8CC-4360-46FC-A7DD-A86EA84543F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2438280"/>
            <a:ext cx="8229600" cy="3886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principles (a head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issuing the guidance, professional inspection to office subordinate organization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3" name="Horizontal Scroll 7"/>
          <p:cNvSpPr/>
          <p:nvPr/>
        </p:nvSpPr>
        <p:spPr>
          <a:xfrm>
            <a:off x="304920" y="33480"/>
            <a:ext cx="853416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STRUCTURE &amp; ORGANIZATION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4" name="Horizontal Scroll 8"/>
          <p:cNvSpPr/>
          <p:nvPr/>
        </p:nvSpPr>
        <p:spPr>
          <a:xfrm>
            <a:off x="380880" y="16765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PRINCIPLE OF OPER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02D-CAA8-4239-8AC7-8EAB618A0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7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5E8-B4A1-4623-A60D-82833BD0953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ành chính (thủ trưởng lãnh đạ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tổ chức cấp trên hướng dẫn, kiểm tra chuyên môn văn phòng tổ chức cấp dướ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0" name="Horizontal Scroll 6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CƠ CẤU,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1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NGUYÊN TẮC HOẠT ĐỘ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DC7-B983-4D8E-9976-A6DA8F8EA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7E3-8630-42C4-88B7-4CEB86994E2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6" name="Horizontal Scroll 4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OFFICE ORGAN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7" name="Horizontal Scroll 5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FORMS OF ORGANIZATION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1981080"/>
            <a:ext cx="4114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 clu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n func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05740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624852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405-4F98-40BC-A37E-203C23134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4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88E-8EAC-4CCB-82EB-D8CA6F431F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6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7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HÌNH THỨC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457200" y="1981080"/>
            <a:ext cx="4114800" cy="4267440"/>
            <a:chOff x="457200" y="1981080"/>
            <a:chExt cx="4114800" cy="4267440"/>
          </a:xfrm>
        </p:grpSpPr>
        <p:sp>
          <p:nvSpPr>
            <p:cNvPr id="489" name="Rectangle 3"/>
            <p:cNvSpPr/>
            <p:nvPr/>
          </p:nvSpPr>
          <p:spPr>
            <a:xfrm>
              <a:off x="457200" y="1981080"/>
              <a:ext cx="41148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một đầu mối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Tập trung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205740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491" name="Group 14"/>
          <p:cNvGrpSpPr/>
          <p:nvPr/>
        </p:nvGrpSpPr>
        <p:grpSpPr>
          <a:xfrm>
            <a:off x="4648320" y="1981080"/>
            <a:ext cx="4038480" cy="4267440"/>
            <a:chOff x="4648320" y="1981080"/>
            <a:chExt cx="4038480" cy="4267440"/>
          </a:xfrm>
        </p:grpSpPr>
        <p:sp>
          <p:nvSpPr>
            <p:cNvPr id="492" name="Rectangle 3"/>
            <p:cNvSpPr/>
            <p:nvPr/>
          </p:nvSpPr>
          <p:spPr>
            <a:xfrm>
              <a:off x="4648320" y="1981080"/>
              <a:ext cx="4038480" cy="4267440"/>
            </a:xfrm>
            <a:prstGeom prst="rect">
              <a:avLst/>
            </a:prstGeom>
            <a:noFill/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heo chức nă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Phân tán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24852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49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35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C29-BA82-4E5C-971C-319A599A8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5F3-2FD5-4384-9C7C-7141B9AB20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Số tín chỉ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(30 tiết lý thuyế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trình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Phần 9 C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iểu luận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hóm 3 - 5 SV (nộp TL và thuyết trình trên lớ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ình thức thi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ắc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iữa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uối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ỉ học ≥ 6 tiế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Cấm thi cuối k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ỔNG QUÁT VỀ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538-0B0D-4BBB-BA8E-7CFCF015E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153-90B0-46A4-AFEB-38B364649DB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operating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der the office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operating, inspection, personnel, allocation mea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ownsid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ard specializ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9" name="Horizontal Scroll 5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A CLU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430B-3693-425E-B6C4-83D54E8B1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2" name="Date Placeholder 4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C78-5A12-4807-80DF-07054F27E8D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Không chia nhỏ thành phòng b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ọi hoạt động của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điều hàn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điều hành, kiểm tra, điều động nhân sự, phân bổ phương t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hó chuyên môn hó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5" name="Horizontal Scroll 7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MỘT ĐẦU MỐI (TẬP TRUNG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E68-880F-4EFB-8EC0-6471EB6F3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EFB9-0F41-4D71-B07D-0F3B7591F5F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office is divided into several functional experti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office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under the supervisio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Work special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is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violation boss regim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35D-3477-46A0-8F7D-94FE6A330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43B-30B0-4189-8448-EC6BB4F056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được chia ra thành nhiều phòng chức năng theo chuyên mô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oàn bộ hoạt động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giám sá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7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HÂN TÁN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m hãy phân tích những ưu điểm và nhược điểm của hình thức tổ chức văn phòng tập trung theo chức năng (phân tá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362B-C905-4181-A2C7-72F50AEBF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37F5-75D8-4A18-842E-4321C64B919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4" name="Horizontal Scroll 7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KIỂM TRA 10 PHÚ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5E75-9504-42D6-AF90-7D6006DDA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F80-E56B-4C47-B46E-9509096B9D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huyên môn hóa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vi phạm chế độ một thủ trưởng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0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ƯU, NHƯỢC ĐIỂ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C951-65A4-4002-9BBC-701068905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410-FE14-4D88-823A-04D583BFC97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3" name="Picture 2" descr="http://www.cicb.vn/images/stories/cocau_vie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5" name="Picture 6" descr="http://cicb.vn/templates/cic-trilm/images_trilm/header-vietnamese.png"/>
          <p:cNvPicPr/>
          <p:nvPr/>
        </p:nvPicPr>
        <p:blipFill>
          <a:blip r:embed="rId2"/>
          <a:stretch/>
        </p:blipFill>
        <p:spPr>
          <a:xfrm>
            <a:off x="193680" y="-1522440"/>
            <a:ext cx="943920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5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EDE-1F5D-468A-A207-AE9997756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54DE-05E1-4A8B-B458-5DB143AEC8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eadership Office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hief Office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Deputy Chief of staff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nctions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lerical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Synthesis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Human Resource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Accounting and Cashier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Material facilities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Protection, receptionist, odd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2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ORGANIZATIONAL STRUCTUR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7D8-A390-4A3F-AB7B-73109D362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D97-839D-411C-88E7-A588C07D9C0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Lãnh đạo Văn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hó 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Bộ phận chức nă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Văn th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Tổng hợ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nhân s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Kế toán – thủ qu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cơ sở vật chất (Quản tr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Bảo vệ, lễ tân, tạp v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8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CƠ CẤU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19F8-6457-4B2C-BB8E-5CB546281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8D5-C064-4863-8504-60C830A284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2" name="Picture 2" descr="http://dbnd.danang.gov.vn/Portals/0/TOCHUC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Đoàn đại biểu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Hội đồng nhân d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 TP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Đà Nẵ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1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verview of the Office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2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Information Management &amp;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3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ing the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4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Meeting &amp; Management program development p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33E6-1B52-4C10-AC9B-0ACE50EC6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22944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29CB-F322-423D-BECB-563D4D62D7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OFFICE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BEC-1E9E-413F-9663-C3423E8F7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F61B-9E1A-44BB-AB93-F338A92B04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1297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Tòa án nhân dân tối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8" name="Picture 2" descr="http://www.toaan.gov.vn/portal/pls/portal/docs/1/422927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C47-6A5E-4D43-A86A-CD6E3B937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3CA-A5D8-4EBA-A982-8967FBC93E2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respons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4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OFFICE MANAGEMENT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program,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782F-EB00-4953-AC57-9D513115D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CCEC-67E2-43DE-AA6F-763AC0BA8D4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ứng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ÁC PHƯƠNG PHÁP QUẢN LÝ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ập chương trình,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kế ho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0DC8-77CB-4B4C-8D76-7DA046E8F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31E-FF76-4755-9C51-531035530A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re is no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first to do it, react, respon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ssive manage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ecision management is always changing because they do not choose the optimal solu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Staff easy to lose confidence in leadershi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2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RESPONSE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C793-7384-4900-9857-43261DEFF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9D4-B64C-4AE1-8B28-A5590BF459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772400" cy="4343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có kế hoạch cụ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Đị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 đâu làm đó, phản ứng, đối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ị động tro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Q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yết định quản lý luôn thay đổi vì chưa chọn được giải pháp tối ư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dễ mất lòng tin lãnh đ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8" name="Horizontal Scroll 6"/>
          <p:cNvSpPr/>
          <p:nvPr/>
        </p:nvSpPr>
        <p:spPr>
          <a:xfrm>
            <a:off x="304920" y="33480"/>
            <a:ext cx="853416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 ỨNG PHÓ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5410080"/>
            <a:ext cx="7772400" cy="914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Phát huy tính sáng t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1" name="Rectangle 3"/>
          <p:cNvSpPr/>
          <p:nvPr/>
        </p:nvSpPr>
        <p:spPr>
          <a:xfrm rot="5400000">
            <a:off x="-1562400" y="2857680"/>
            <a:ext cx="4343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2" name="Rectangle 3"/>
          <p:cNvSpPr/>
          <p:nvPr/>
        </p:nvSpPr>
        <p:spPr>
          <a:xfrm rot="5400000">
            <a:off x="151920" y="5562360"/>
            <a:ext cx="914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5D9-137F-462A-B6E0-DF80D3360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6353-81B0-46AD-B6E1-F050A66C5D9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121932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re a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aving a plan to deal with situ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ocation of powers and responsibilities to staff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participant in the work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7" name="Horizontal Scroll 5"/>
          <p:cNvSpPr/>
          <p:nvPr/>
        </p:nvSpPr>
        <p:spPr>
          <a:xfrm>
            <a:off x="304920" y="33480"/>
            <a:ext cx="84582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PROGRAM, PLANNED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01B-48D9-400C-8FC8-3C32F1B74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0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0DB-7B0B-40E7-98D2-D607C74CC3E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kế hoạch cụ thể cho công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phương án giải quyết tình huố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Giao quyền hạn, trách nhiệm cho nhân v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chủ động trong thực hiện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3" name="Horizontal Scroll 6"/>
          <p:cNvSpPr/>
          <p:nvPr/>
        </p:nvSpPr>
        <p:spPr>
          <a:xfrm>
            <a:off x="304920" y="33480"/>
            <a:ext cx="8458200" cy="1414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ẬP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C9D6-0C65-40E6-BC50-DA002C6ED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FEC-B2C2-4355-82A3-6D662AA0C3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0880" y="1066680"/>
            <a:ext cx="838224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ot apply purely one metho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eed to combine the two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work must be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foreseen contingencies: respon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rough response, managers have more experience and creativ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 standard response evaluation staff capac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9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AC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5A31-4837-43EE-97FB-04F70012C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2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538D-C691-403D-898C-5ED47D1BEE6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Không áp dụng thuần túy 1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ần kết hợp hai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ông việc phải được lập kế hoạ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ình huống bất ngờ ngoài dự kiến: ứng ph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hông qua ứng phó, nhà quản trị có thêm kinh nghiệm, sáng tạ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Ứng phó là tiêu chuẩn đánh giá năng lực cán bộ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E8F-A6F5-41E5-A537-4B80026C3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A89-8EAC-46DD-92E5-92CC70AC81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2438280"/>
            <a:ext cx="8229600" cy="2210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reate the best work environ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venient seati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nsure that confidential documents, material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1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2" name="Horizontal Scroll 6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PURPOSE &amp; 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ake the most of, the office area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Reduce travel time between par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4" name="Horizontal Scroll 8"/>
          <p:cNvSpPr/>
          <p:nvPr/>
        </p:nvSpPr>
        <p:spPr>
          <a:xfrm>
            <a:off x="380880" y="182880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5" name="Horizontal Scroll 9"/>
          <p:cNvSpPr/>
          <p:nvPr/>
        </p:nvSpPr>
        <p:spPr>
          <a:xfrm>
            <a:off x="380880" y="46483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395-0144-41B6-B791-31D8C62F9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02D-B557-4200-BA30-5FD2DA8F1F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213372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5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Overview of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6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Procedures &amp; techniques presented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Style the administrative language in the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8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he process of drafting &amp; issuing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9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echnical drafting, presents some common administrative documents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DRAFTING, TEXT LAYOU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5F1-B840-4147-A873-F809DCD5A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8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B9B6-E58D-4B02-AEFA-5313223740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1676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ạo môi trường làm việc tốt nh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huận tiện tiếp khá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Đảm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ảo giữ bí mật văn bản, tài liệ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1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BỐ TRÍ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2" name="Horizontal Scroll 7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MỤC ĐÍCH, 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4800600"/>
            <a:ext cx="8229600" cy="1600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ận dụng tối đa, cơ động diện tích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ảm thiểu thời gian di chuyển giữa các bộ phận.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4" name="Horizontal Scroll 9"/>
          <p:cNvSpPr/>
          <p:nvPr/>
        </p:nvSpPr>
        <p:spPr>
          <a:xfrm>
            <a:off x="380880" y="182880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ục đí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5" name="Horizontal Scroll 10"/>
          <p:cNvSpPr/>
          <p:nvPr/>
        </p:nvSpPr>
        <p:spPr>
          <a:xfrm>
            <a:off x="380880" y="41911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F1D6-F1B0-49E7-81D7-5A5DA3A20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A92F-6709-43A8-98B9-2DD253FAEAE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0" name="Horizontal Scroll 4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METHODS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lose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pen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D115-A142-425B-9183-678A396E5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2C3-417C-49A0-9387-09F12BECCC3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9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PHƯƠNG PHÁP BỐ TRÍ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2" name="Oval 10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3" name="Oval 11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4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7F6-14C8-4603-81FB-28CDD4D5F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1E6-B1A7-4EB9-AE0B-9EB9AC81BA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fice split: Each unit a separate room, the door closed.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urity job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nsure the privacy of employees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itable work should focus on hig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sadvantages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Cost area, increasing the cost of electricity, office equipment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 SPACE 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C6C-C422-4118-88E0-C0A97035B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0825-25D0-4425-8021-A2FD69FE59C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chia nhỏ: Từng bộ phận bố trí phòng riêng, cửa đóng kí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mật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tính riêng tư của nhân vi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ốn diện tích, tăng chi phí điện, thiết bị V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5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7EE-227A-4A63-A0E5-E0D3C4015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A17-DBFC-4291-AE1E-A37E5E0035D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70" name="Picture 2" descr="http://cuanhualoithep.com/wp-content/uploads/vach-kinh-pano1.jpg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2" name="Horizontal Scroll 6"/>
          <p:cNvSpPr/>
          <p:nvPr/>
        </p:nvSpPr>
        <p:spPr>
          <a:xfrm>
            <a:off x="228600" y="3348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04D5-640E-495E-A3BE-53758191A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DAA9-81BF-4674-9446-78C9225307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bộ phận bố trí trong phòng lớ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iết kiệm chi phí, diện 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uận tiện trong giao tiếp giữa các bộ ph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ễ quản lý nhân viên về thời g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6EBF-9BC2-4BD7-944F-C0670EF6E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0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C56-894D-4ABA-AC96-B2231857225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1" name="Picture 2" descr="http://www.donnhatrongoi.info/Uploads/Image/van_phong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3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4" name="Picture 8" descr="http://vneconomy2.vcmedia.vn/zoom/500_312/Images/Uploaded/Share/2011/02/08/044.jpg"/>
          <p:cNvPicPr/>
          <p:nvPr/>
        </p:nvPicPr>
        <p:blipFill>
          <a:blip r:embed="rId2"/>
          <a:stretch/>
        </p:blipFill>
        <p:spPr>
          <a:xfrm>
            <a:off x="257040" y="1219320"/>
            <a:ext cx="8658360" cy="5181480"/>
          </a:xfrm>
          <a:prstGeom prst="rect">
            <a:avLst/>
          </a:prstGeom>
          <a:ln w="0">
            <a:noFill/>
          </a:ln>
        </p:spPr>
      </p:pic>
      <p:sp>
        <p:nvSpPr>
          <p:cNvPr id="6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471D-1697-4422-A30C-F5E3CCF9D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E70-970A-410A-9C71-ACB99870FB5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8" name="Picture 2" descr="http://ssp.com.vn/store_editor/image/Sanphamvadichvu/Chothuevanphong/van%20phong%202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0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810-39CB-45F6-93BA-C738C0367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3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844B-CCEC-4EB4-8812-6CBE673C017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Equipmen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elephone, fax, photo-copy machine, computers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rnitur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ables, chairs, filing cabinets, racks document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odernization of the office: Computerization &amp; telecommun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perless office, electronic documen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lectronic offic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6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OFFICE EQUIP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FD7-2D79-4524-BBA3-379E1EFAD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D2A-9DCF-4A9F-84BF-1887517A6AD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QT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Horizontal Scroll 6"/>
          <p:cNvSpPr/>
          <p:nvPr/>
        </p:nvSpPr>
        <p:spPr>
          <a:xfrm>
            <a:off x="304920" y="33480"/>
            <a:ext cx="845820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990720"/>
            <a:ext cx="8229600" cy="9903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ỔNG QUAN VỀ QUẢN TRỊ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9" descr="https://encrypted-tbn1.gstatic.com/images?q=tbn:ANd9GcRz0-7y_77Ycxnori6GErNJ3ju76oqe8Xd_a6hhufYClLZGMaYo4A"/>
          <p:cNvPicPr/>
          <p:nvPr/>
        </p:nvPicPr>
        <p:blipFill>
          <a:blip r:embed="rId1"/>
          <a:stretch/>
        </p:blipFill>
        <p:spPr>
          <a:xfrm>
            <a:off x="485640" y="5105520"/>
            <a:ext cx="8201160" cy="12952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5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thông tin &amp; hồ sơ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ounded Rectangle 13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43200" y="335268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công tác lễ t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43200" y="3962520"/>
            <a:ext cx="5943600" cy="1066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hội họp &amp; 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ounded Rectangle 16"/>
          <p:cNvSpPr/>
          <p:nvPr/>
        </p:nvSpPr>
        <p:spPr>
          <a:xfrm>
            <a:off x="457200" y="335268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ounded Rectangle 17"/>
          <p:cNvSpPr/>
          <p:nvPr/>
        </p:nvSpPr>
        <p:spPr>
          <a:xfrm>
            <a:off x="457200" y="3962520"/>
            <a:ext cx="2209680" cy="1066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B76-1B5A-4217-96CE-7D0CE25AD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BFE0-39D0-416C-A059-ACF2CBE837C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iết b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iện thoại, máy fax, máy photo-copy, máy vi tí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Đồ dù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Bàn, ghế, tủ hồ sơ, giá để tài liệ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ện đại hóa công tác VP: Tin học hóa, viễn thông hó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không giấy, văn thư điện t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điện t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TRANG THIẾT BỊ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ĐIỆN T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A26-D660-43A0-8543-BB8CAD8C5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191-95BD-4531-85E2-D23B73640B5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07" name="Picture 6" descr="http://doanhnghiepmoi.net/UploadImages/VANPHONGDIENTU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BFD-63C4-4EC9-9649-8B0D1D327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2E8-6019-4D56-97E1-98B555B670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11" name="Picture 2" descr="http://egov.iuh.edu.vn/Resources/Icons/Design/bgLogin.png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3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Ệ THỐNG VĂN THƯ ĐIỆN TỬ IU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D74F-74F6-413E-840E-8F6AB7DCB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27A8-966A-4C17-8AE1-4875466F961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57200" y="1066680"/>
            <a:ext cx="8458200" cy="1067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Office tradition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   The actual activity in the office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9" name="Horizontal Scroll 5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FORMS OF OFFICE OPER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0" name="Horizontal Scroll 6"/>
          <p:cNvSpPr/>
          <p:nvPr/>
        </p:nvSpPr>
        <p:spPr>
          <a:xfrm>
            <a:off x="457200" y="990720"/>
            <a:ext cx="380988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tradi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2362320"/>
            <a:ext cx="8458200" cy="4038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irtual Office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:   No actual work at th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Office for rent 0m ²: Registered address founded company, branches, representative offices, set the table name company, receive &amp; send faxes, letters, mailers &amp; other utilities rent on demand: seats, meeting rooms...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Virtual office is only suitable representative offices, small businesses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2" name="Horizontal Scroll 8"/>
          <p:cNvSpPr/>
          <p:nvPr/>
        </p:nvSpPr>
        <p:spPr>
          <a:xfrm>
            <a:off x="457200" y="228600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0" y="1066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0" y="2362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7FAB-AB3E-400E-9324-165C200B8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F7E3-087A-40FC-B316-24682245A7D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761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truyền thống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oạt động thực tế tại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0" name="Horizontal Scroll 6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HÌNH THỨC HOẠT ĐỘNG CỦA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2209680"/>
            <a:ext cx="8381880" cy="4114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ảo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Không hoạt động thực tế tại V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cho thuê 0m²: Địa chỉ đăng ký thành lập Cty, Chi nhánh, VPĐD, đặt bảng tên Cty, nhận &amp; gởi fax, thư từ bưu phẩ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ác tiện ích khác thuê theo nhu cầu: chỗ ngồi, phòng họp, photocopy, máy in…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ảo chỉ thích hợp VPĐD, DN nhỏ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2" name="Horizontal Scroll 8"/>
          <p:cNvSpPr/>
          <p:nvPr/>
        </p:nvSpPr>
        <p:spPr>
          <a:xfrm>
            <a:off x="457200" y="2133720"/>
            <a:ext cx="175248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3" name="Horizontal Scroll 9"/>
          <p:cNvSpPr/>
          <p:nvPr/>
        </p:nvSpPr>
        <p:spPr>
          <a:xfrm>
            <a:off x="457200" y="1143000"/>
            <a:ext cx="3733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truyền thố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5" name="Oval 11"/>
          <p:cNvSpPr/>
          <p:nvPr/>
        </p:nvSpPr>
        <p:spPr>
          <a:xfrm>
            <a:off x="0" y="1219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0" y="2209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0A7-2A24-43E7-BB30-A526E6017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01A-09B0-4802-B5FF-B9BA35295F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39" name="Picture 2" descr="http://images03.jaovat.com/ui/4/07/51/1348481685_441080651_14-Cho-thue-van-phong-tron-goi-tai-137-Nguyen-Ngoc-V-Ha-Noi-0977177155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raovat.haiphonginfo.vn/Images/Items/%E1%BA%A3nh%289%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2F35-DFAA-4EE4-BD14-32F9A121C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3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69EB-2519-4695-AB96-18C79F783B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44" name="Picture 2" descr="http://www.goffice.vn/vn/images/stories/hinhanh/37/1.jpg"/>
          <p:cNvPicPr/>
          <p:nvPr/>
        </p:nvPicPr>
        <p:blipFill>
          <a:blip r:embed="rId1"/>
          <a:stretch/>
        </p:blipFill>
        <p:spPr>
          <a:xfrm>
            <a:off x="304920" y="1219320"/>
            <a:ext cx="350496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45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6" name="Title 1"/>
          <p:cNvSpPr/>
          <p:nvPr/>
        </p:nvSpPr>
        <p:spPr>
          <a:xfrm>
            <a:off x="3886200" y="1219320"/>
            <a:ext cx="1371600" cy="5105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ỊC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Ụ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 THUÊ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Ă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Ò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Ả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7" name="Title 1"/>
          <p:cNvSpPr/>
          <p:nvPr/>
        </p:nvSpPr>
        <p:spPr>
          <a:xfrm>
            <a:off x="0" y="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gon Trade Center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37 Tôn Đức Thắng)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igon Tower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29 Lê Du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0" name="Rounded Rectangle 12"/>
          <p:cNvSpPr/>
          <p:nvPr/>
        </p:nvSpPr>
        <p:spPr>
          <a:xfrm>
            <a:off x="3049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G-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1" name="Picture 14" descr="Regus Virtual Office in Ho Chi Minh City, Saigon Tower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52" name="Rounded Rectangle 14"/>
          <p:cNvSpPr/>
          <p:nvPr/>
        </p:nvSpPr>
        <p:spPr>
          <a:xfrm>
            <a:off x="53341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Regu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6553080" y="623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1F63-B40D-458E-9024-F5C8542D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4" name="Date Placeholder 2"/>
          <p:cNvSpPr/>
          <p:nvPr/>
        </p:nvSpPr>
        <p:spPr>
          <a:xfrm>
            <a:off x="457200" y="622944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C70-D1C0-428C-989B-A422442C041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3840" y="-9062640"/>
            <a:ext cx="5723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dịch vụ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gói cước văn phòng ảo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graphicFrame>
        <p:nvGraphicFramePr>
          <p:cNvPr id="757" name=""/>
          <p:cNvGraphicFramePr/>
          <p:nvPr/>
        </p:nvGraphicFramePr>
        <p:xfrm>
          <a:off x="228600" y="1676520"/>
          <a:ext cx="8610480" cy="29718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Gói cướ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HD T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7924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asic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780.000 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Economy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1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816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usiness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6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First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2.50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758" name="Rectangle 12"/>
          <p:cNvSpPr/>
          <p:nvPr/>
        </p:nvSpPr>
        <p:spPr>
          <a:xfrm>
            <a:off x="228600" y="4648320"/>
            <a:ext cx="8610480" cy="1676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ty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Đầu tư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ữu Liên.</a:t>
            </a:r>
            <a:br>
              <a:rPr sz="3200"/>
            </a:b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Lầu 5, HD Tower, 25bis Nguyễn Thị Minh Khai, Bến Nghé, 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1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P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C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CFB4-D2CC-4A19-BF4D-1B98CB7ED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B05-AFD2-4DDC-BB07-63673B54C7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62" name="Picture 2" descr="http://www.sohovina.com/data/Picture/Cho%20ngoiu%20ca%20nhan_1331349708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http://www.sohovina.com/data/Picture/Phong%20hop_133134956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0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http://www.sohovina.com/data/Picture/Sanh%20tiep%20khach%285%29_1331601725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http://www.sohovina.com/data/Picture/Tien%20ich%20tai%20soho%286%29_1331601808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ttp://www.soffice.vn/files/news/283/6d402d68-f3c7-4465-bd5e-2897eebaeb33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http://www.soffice.vn/files/news/303/bbb35732-1d21-4811-81bd-83d195c7667b.JPG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6" descr="http://www.soffice.vn/files/assets/canhcam/25-bis_daidien.jpg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708-3427-4D42-9B62-68457175B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A7F-FDF5-4D29-A4B9-DAB0B0F7A3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72" name="Picture 2" descr="http://www.executivespacesolutions.com/wp-content/uploads/Virtual-Office-Solutions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EB8F-0390-42E2-9DBB-66E69FAD0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164B-8766-49D5-A5DA-C44821FC117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THUẬT SOẠN THẢO,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hể thức, kỹ thuật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43200" y="335268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Phong cách ngôn ngữ trong VB hành chính - công vụ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43200" y="4419720"/>
            <a:ext cx="5943600" cy="990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y trình soạn thảo ban hành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743200" y="548640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ỹ thuật soạn thảo, trình bày VB hành chính thông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Rounded Rectangle 15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Rounded Rectangle 16"/>
          <p:cNvSpPr/>
          <p:nvPr/>
        </p:nvSpPr>
        <p:spPr>
          <a:xfrm>
            <a:off x="457200" y="335268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ounded Rectangle 17"/>
          <p:cNvSpPr/>
          <p:nvPr/>
        </p:nvSpPr>
        <p:spPr>
          <a:xfrm>
            <a:off x="457200" y="4419720"/>
            <a:ext cx="2209680" cy="9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Rounded Rectangle 18"/>
          <p:cNvSpPr/>
          <p:nvPr/>
        </p:nvSpPr>
        <p:spPr>
          <a:xfrm>
            <a:off x="457200" y="548640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9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85F3-1FA3-4FBF-8CDE-270DE259B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5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E96-296A-4EA7-875B-B0881C41C05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basic function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ational structure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form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Analysis of the role of the office for agencies &amp; organizations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 management methods, advantages &amp; disadvantages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BC42-B652-426F-8F87-F5D1F50FE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337-BCC5-4B74-A001-3E4ED69BAC6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là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chức năng cơ bản của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ơ cấu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hình thức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hân tích vai trò của văn phòng đối với cơ quan, tổ chứ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êu các phương pháp quản lý văn phòng, ưu nhược điể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3-23T17:30:44Z</dcterms:modified>
  <cp:revision>677</cp:revision>
  <dc:subject/>
  <dc:title>Chương 1</dc:title>
</cp:coreProperties>
</file>