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608-F1DE-4E98-9E37-5CF22E80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DDA-7E22-4813-84C6-4CFB3A23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435-1780-4D9A-9929-5C08A081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C91-E99A-484A-940B-25E3427C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2BA7-4C25-4CF4-A3F1-BD9411D8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5739-2942-4A78-875D-11823104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E671-5709-4244-9F5A-C97CB05F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56CF-005F-4B18-8873-D110B874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FC7F-32C4-459B-B780-673D6145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5AF1-03F4-46D9-9E66-68E6EE08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E825-E6B6-4585-99BD-3A14ABB6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2F7-AD61-4D2D-9EB2-F68BD589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3BD5-7866-46D9-AFB0-51EAF2E2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B946-19B5-45F0-8142-0A886532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C672-717C-4472-9277-8EE938B0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7EDC-4C51-4214-8858-C08B300F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D2A1-29CD-4FC0-BA18-3D1D2712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E42-DE50-48F8-8BD3-B15C597C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ACE-4DF4-4D3D-847C-306FB0FB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010-F70E-4636-AFB0-D244B573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A0A-CB1F-4086-8EBF-0C474880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4177-242A-4A81-A856-1646D011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2A1-575A-4A1D-926A-F5DCCEDB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3F8-0132-4840-9B1D-CEF46B93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108A-BE9B-4C4B-9AB7-64DE1AFDAE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5594-F374-43F2-B867-0CE694034E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FILE%20HO%20TRO%20BAI%20GIANG/MAU%20BIEN%20BAN.do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Ỹ THUẬT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HI &amp; TRÌNH BÀY BIÊN BẢ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571680" y="28404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ÀI 5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NỘI DUNG BÀI GIẢ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1.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Khaùi nieäm bieân baû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2.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Phaân loaïi bieân baû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3.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Phöông phaùp ghi bieân baû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4.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Caáu truùc cuûa bieân baû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1. KHÁI NIỆM BIÊN BẢ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Văn bản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ghi lại những sự việc, vụ việc đã xảy ra / đang diễn ra để làm chứng cứ pháp lý về sa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Yêu cầu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Ghi trung thực, khách quan, chính xác &amp; đầy đủ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2. PHÂN LOẠI BIÊN BẢ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iên bản hội họp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Ghi lại tiến trình, diễn biế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iên bản hành chính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Ghi lại sự việc theo quy định hành chính: Biên bản vi phạm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iên bản trong lĩnh vực tư pháp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Ghi lại những sự việc theo quy định của pháp luật tố tụng trong hoạt động của các CQ tư pháp: Biên bản phiên tòa, biên bản lấy lời khai …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3. PHƯƠNG PHÁP GHI BIÊN BẢ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hân loại thông tin khi ghi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ông tin để biết - ghi ý chín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ông tin để thực hiện - ghi đầy đủ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ếu người phát biểu yêu cầu ghi nguyên văn thì sử dụng hình thức dẫn lời nói trực tiế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ập trung lắng nghe, ghi chép nhan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ử dụng kỹ thuật biến đổi câ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4. CẤU TRÚC CỦA BIÊN BẢ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ở đầu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hời gian, địa điểm lập biên bản, thành phần tham d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Nội dung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iên bản hội họp / vụ việc đang diễn ra: ghi theo tiến trìn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iên bản sự việc đã xảy ra: mô tả hiện trường, ghi lời khai nhân chứ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Kết luận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Ghi thời gian, địa điểm kết thúc việc lập biên bản, biên bản được đọc thông qua những người tham dự, số bản được lập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  <a:hlinkClick r:id="rId1"/>
              </a:rPr>
              <a:t>CÂU HỎI ÔN TẬ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hân loại biên bả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êu phương pháp ghi biên bả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ấu trúc của biên bả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33:18Z</dcterms:created>
  <dc:creator>Bài giảng QTVP_Thầy Nam Hà</dc:creator>
  <dc:description/>
  <dc:language>en-US</dc:language>
  <cp:lastModifiedBy>ntc</cp:lastModifiedBy>
  <dcterms:modified xsi:type="dcterms:W3CDTF">2014-03-23T15:05:46Z</dcterms:modified>
  <cp:revision>53</cp:revision>
  <dc:subject/>
  <dc:title>Chương 9.5</dc:title>
</cp:coreProperties>
</file>