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4553-9518-49C8-ADF2-F660FE4A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BEE9B-ADDC-4A93-99DA-9A4EBC21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6939-D29B-4390-96D3-2497921D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254A3-E020-4355-B910-C092AAB1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ADEF-BF05-40E1-BA07-6BD8B273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6529-257D-44CF-B8B2-08A802A6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02C2-4418-44D0-9D0D-4A95FE57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7FC3-E17C-444B-82E3-D99A2E7C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656C-36E4-425B-A406-48074879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65A0-6440-4C10-B89C-1D3FAB82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0CFC-F3AA-4D18-94A8-E96C78BA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A05C-8486-4D1C-A473-02AA36A6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7FFD-DF13-4E1D-80E9-A96A8F36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EA0B-78C9-4514-AB0E-2B056BC9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1930-382F-4300-866C-873AB46A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D3A4-525A-483F-A262-B4DBAEAB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38B7-3401-475F-89F2-DBE52846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0342-DE1E-4020-B718-98F912B2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10640-F69C-48BD-81D4-A6AE156C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3F22-44C6-4B02-A918-FAF66676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B0BE4-1B24-49FF-BCC2-E4FDEEF4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8650D-134C-4B67-8D4A-2ABFFC9F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0AFA-38A5-47E2-B3F7-4114E29A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5065-F081-4882-A24E-1CA4EBBB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2528-8B76-4D8D-A4C0-DC16335A41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2774-76B9-4852-84D0-D4084315429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76DE-E025-4BC8-8575-23511E44F4E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0C94-68D9-4D30-8E0F-C5CFB0FBCD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DB6B-7FE6-43E7-9BFE-BE4FB6DFA4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C00C-2CC3-4F8C-B1AC-DAED62A2D18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3</a:t>
            </a:r>
            <a:br>
              <a:rPr sz="4000"/>
            </a:br>
            <a:br>
              <a:rPr sz="4000"/>
            </a:br>
            <a:r>
              <a:rPr b="1" lang="en-US" sz="58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RÌNH BÀY TỜ TRÌNH</a:t>
            </a:r>
            <a:br>
              <a:rPr sz="5800"/>
            </a:br>
            <a:br>
              <a:rPr sz="4000"/>
            </a:br>
            <a:r>
              <a:rPr b="1" lang="en-US" sz="4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br>
              <a:rPr sz="4000"/>
            </a:br>
            <a:r>
              <a:rPr b="1" lang="en-US" sz="4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am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F4CE-458F-4602-B888-69F582911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4A85-B272-48CA-8646-D65D063A31D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7732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ái niệm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Yêu cầu của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ấu trúc của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ẫu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tập: Soạn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Horizontal Scroll 6"/>
          <p:cNvSpPr/>
          <p:nvPr/>
        </p:nvSpPr>
        <p:spPr>
          <a:xfrm>
            <a:off x="457200" y="109440"/>
            <a:ext cx="830592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27FC-7895-482B-AEC0-32613B8603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3BF9-49C2-455F-B663-0989B6E4DCE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à loại văn bản hà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ùng cho CQ, TC cấp dướ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: Đề xuất, xin phê duyệt vấn đề thuộc thẩm quyền quyết định của CQ, TC cấp trê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Horizontal Scroll 5"/>
          <p:cNvSpPr/>
          <p:nvPr/>
        </p:nvSpPr>
        <p:spPr>
          <a:xfrm>
            <a:off x="457200" y="109440"/>
            <a:ext cx="830592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KHÁI NIỆ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15A3-377A-40AE-AC93-03F10E67A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8AB6-8619-4819-AB50-8184A678AAB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êu tính cấp thiết của vấn đề xin phê duyệt, đề xuấ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ấn đề xin phê duyệt, đề xuất phải được diễn giải bằng phương á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giải pháp thực hiện phải mang tính khả th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Horizontal Scroll 5"/>
          <p:cNvSpPr/>
          <p:nvPr/>
        </p:nvSpPr>
        <p:spPr>
          <a:xfrm>
            <a:off x="457200" y="109440"/>
            <a:ext cx="830592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YÊU C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1E93-461D-4535-9BA7-2C05E2F88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DD1F-12F2-4AA0-85B4-0C72887AC89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1752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hận định tình hình thực tế (thuận lợi, khó khăn) từ đó chỉ ra tính cấp thiết của vấn đề xin phê duyệt, đề xuấ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Horizontal Scroll 5"/>
          <p:cNvSpPr/>
          <p:nvPr/>
        </p:nvSpPr>
        <p:spPr>
          <a:xfrm>
            <a:off x="457200" y="0"/>
            <a:ext cx="82296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ẤU TRÚC CỦA TỜ TRÌ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Horizontal Scroll 6"/>
          <p:cNvSpPr/>
          <p:nvPr/>
        </p:nvSpPr>
        <p:spPr>
          <a:xfrm>
            <a:off x="533520" y="914400"/>
            <a:ext cx="403848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mở đ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09480" y="4191120"/>
            <a:ext cx="8001000" cy="685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đề xuất, phương án thực hiệ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Horizontal Scroll 8"/>
          <p:cNvSpPr/>
          <p:nvPr/>
        </p:nvSpPr>
        <p:spPr>
          <a:xfrm>
            <a:off x="533520" y="3429000"/>
            <a:ext cx="403848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09480" y="5638680"/>
            <a:ext cx="8001000" cy="685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Ý nghĩa, tác dụng của đề xuấ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Horizontal Scroll 10"/>
          <p:cNvSpPr/>
          <p:nvPr/>
        </p:nvSpPr>
        <p:spPr>
          <a:xfrm>
            <a:off x="533520" y="4876920"/>
            <a:ext cx="403848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kết thú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035D-3678-4BAE-9978-E13A620E45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CF03-4A62-48E3-8085-45AFA42B6BA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TTr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28600" y="5867280"/>
            <a:ext cx="37339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114800" y="5867280"/>
            <a:ext cx="5029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ỀN HẠN, CHỨC VỤ NGƯỜI KÝ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1752480"/>
            <a:ext cx="91440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     </a:t>
            </a:r>
            <a:r>
              <a:rPr b="1" lang="en-US" sz="2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Ờ TRÌNH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. . . . . . . . . . . . . . 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ính gởi: …………………………………………………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ần mở đầu: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hận định tình hình, phân tích thuận lợi, khó khăn làm cơ sở cho việc đề xuất vấn đề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ần nội dung: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nội dung của đề xuất, các phương án thực hiện, dự kiến vấn đề có thể phát sinh khi thực hiện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- Nêu khó khăn, thuận lợi (chủ quan, khách quan) khi triển khai thực hiện và dự kiến biện pháp khắc phục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ần kết thúc: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êu ý nghĩa, tác dụng của đề xuất; đề nghị cấp trên xem xét chấp thuận để sớm triển khai thực hiện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3886200" y="2590920"/>
            <a:ext cx="1676520" cy="0"/>
          </a:xfrm>
          <a:prstGeom prst="line">
            <a:avLst/>
          </a:prstGeom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914400" y="609480"/>
            <a:ext cx="1676520" cy="0"/>
          </a:xfrm>
          <a:prstGeom prst="line">
            <a:avLst/>
          </a:prstGeom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724280" y="914400"/>
            <a:ext cx="3276720" cy="0"/>
          </a:xfrm>
          <a:prstGeom prst="line">
            <a:avLst/>
          </a:prstGeom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81CD-D256-45E7-AF20-679BEB68BF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163F-26FA-4CD3-85FF-8BCF88E65A1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47" name="Picture 2" descr="http://trustbank.com.vn/img/Upload/26_10_2011_3_54_56_CH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ttp://3.bp.blogspot.com/-m8FhZRqtfPY/TvLwL3RoZOI/AAAAAAAABns/pX4BAgs-ALM/s640/004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Multiply 5"/>
          <p:cNvSpPr/>
          <p:nvPr/>
        </p:nvSpPr>
        <p:spPr>
          <a:xfrm>
            <a:off x="5029200" y="4800600"/>
            <a:ext cx="1828800" cy="19810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1B3F-C202-40BA-A6AA-A5DEFB27E6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1912-B64F-4B45-8FEC-47FA89478C1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Horizontal Scroll 5"/>
          <p:cNvSpPr/>
          <p:nvPr/>
        </p:nvSpPr>
        <p:spPr>
          <a:xfrm>
            <a:off x="380880" y="76320"/>
            <a:ext cx="838224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57200" y="106668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1)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yêu cầu của tờ trình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)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ấu trúc của tờ trình và những nội dung chính của tờ trình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612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6CE5-71EC-4E8C-A6BB-BE5D66F9C1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C695-C91B-4575-8D6F-20E90F05D0E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33520" y="1143000"/>
            <a:ext cx="815328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à Giám đốc Chi nhánh Công ty CP Hoa Mai tại Bình Dương, em hãy soạn Tờ trình gởi Tổng Giám đốc Công ty xin tuyển dụng 2 nhân viên cho Phòng Kinh doanh, mua một ô-tô tải 2,5 tấn phục vụ cho công việc kinh doanh của Chi nhá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(Biết: Doanh thu 2013: 10 tỷ; lợi nhuận: 800 triệu; chỉ tiêu doanh thu 2014: 12 tỷ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Horizontal Scroll 5"/>
          <p:cNvSpPr/>
          <p:nvPr/>
        </p:nvSpPr>
        <p:spPr>
          <a:xfrm>
            <a:off x="380880" y="152280"/>
            <a:ext cx="8382240" cy="990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ÀI TẬP TRÊN LỚP (45p) 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4-02-17T03:32:27Z</dcterms:modified>
  <cp:revision>318</cp:revision>
  <dc:subject/>
  <dc:title>Chương 9.3</dc:title>
</cp:coreProperties>
</file>