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331B-E2E0-4800-B029-1E022F6C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72C-CD5F-4924-908A-657CD328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B09-441B-4A14-8968-AAFB09E5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2B0-246F-43A0-8EB0-AB51FA72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7F32-DF1C-48D5-92C5-535952E4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D736-1F30-4D66-A5E7-55403A6C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C41E-839F-497A-AD5F-0CBA2ADA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61A3-90A2-41F7-89C3-32AD2A6B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A2C2-646F-46B6-A1DD-825E66A9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159C-8473-4E00-936B-40F1965A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80B1-3A50-43AF-A771-B11A967D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AC7-5E2A-4E52-837F-8E6EF10C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A253-CB8A-4CCB-B2C3-0526C751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8358-DD23-43C4-9470-80395512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0A94-56FB-4778-AACB-9FAC9E96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28C9-502D-4834-AAD4-4440A567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F59B-99B0-4459-B325-E2C65C16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585-5D98-4DCC-92D3-2FB2F43B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44F-A6EE-4C16-8932-4061F4C6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C38-A103-4579-AFF3-9AFFED2B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9E7-B560-4FD8-8D9A-ABF360A5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33C-1BDC-47D0-BD0C-160C7609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BED-4953-4863-B189-249F8C89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C9D-88A6-4C67-80DF-1C27F6B2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-9360" y="0"/>
            <a:ext cx="4809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53360" cy="6858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" name="AutoShape 9"/>
          <p:cNvSpPr/>
          <p:nvPr/>
        </p:nvSpPr>
        <p:spPr>
          <a:xfrm>
            <a:off x="304920" y="289080"/>
            <a:ext cx="7670520" cy="64440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07C4-2E2A-48D8-A951-8E4D5C9DB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13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AutoShape 14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6372360" cy="394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9360" y="9360"/>
            <a:ext cx="1473480" cy="684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4267080"/>
            <a:ext cx="9153360" cy="11034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1473120" y="5105520"/>
            <a:ext cx="7137360" cy="53316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254480" y="5838840"/>
            <a:ext cx="1079640" cy="635760"/>
            <a:chOff x="4254480" y="5838840"/>
            <a:chExt cx="1079640" cy="635760"/>
          </a:xfrm>
        </p:grpSpPr>
        <p:sp>
          <p:nvSpPr>
            <p:cNvPr id="51" name="Text Box 14"/>
            <p:cNvSpPr/>
            <p:nvPr/>
          </p:nvSpPr>
          <p:spPr>
            <a:xfrm>
              <a:off x="425448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716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2" name="AutoShape 15"/>
            <p:cNvSpPr/>
            <p:nvPr/>
          </p:nvSpPr>
          <p:spPr>
            <a:xfrm rot="5400000">
              <a:off x="464832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2c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94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8C6C-A985-4138-8755-2D8BD1CF32FD}" type="slidenum">
              <a:rPr b="0" lang="en-US" sz="1200" spc="-1" strike="noStrike">
                <a:solidFill>
                  <a:srgbClr val="1d49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4190760"/>
            <a:ext cx="489744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520" y="51278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ca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1b05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1b05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85f32"/>
              </a:gs>
              <a:gs pos="50000">
                <a:srgbClr val="c1b05d"/>
              </a:gs>
              <a:gs pos="100000">
                <a:srgbClr val="685f3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b703b"/>
              </a:gs>
              <a:gs pos="100000">
                <a:srgbClr val="c1b05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58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0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1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62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e8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3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69e86">
                  <a:alpha val="32156"/>
                </a:srgbClr>
              </a:gs>
              <a:gs pos="100000">
                <a:srgbClr val="2f493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4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75649"/>
              </a:gs>
              <a:gs pos="50000">
                <a:srgbClr val="669e86"/>
              </a:gs>
              <a:gs pos="100000">
                <a:srgbClr val="37564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5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16455"/>
              </a:gs>
              <a:gs pos="100000">
                <a:srgbClr val="669e8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68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9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0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1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272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3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5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6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77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8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9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12952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8ca35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55627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 rot="20876400">
            <a:off x="33163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24792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268800" y="374328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28608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0" name="Oval 39"/>
          <p:cNvSpPr/>
          <p:nvPr/>
        </p:nvSpPr>
        <p:spPr>
          <a:xfrm>
            <a:off x="337824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1" name="Text Box 40"/>
          <p:cNvSpPr/>
          <p:nvPr/>
        </p:nvSpPr>
        <p:spPr>
          <a:xfrm>
            <a:off x="366588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2" name="Oval 41"/>
          <p:cNvSpPr/>
          <p:nvPr/>
        </p:nvSpPr>
        <p:spPr>
          <a:xfrm rot="20826600">
            <a:off x="1473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93" name="Group 42"/>
          <p:cNvGrpSpPr/>
          <p:nvPr/>
        </p:nvGrpSpPr>
        <p:grpSpPr>
          <a:xfrm>
            <a:off x="1397160" y="3352680"/>
            <a:ext cx="1371240" cy="1441080"/>
            <a:chOff x="1397160" y="3352680"/>
            <a:chExt cx="1371240" cy="1441080"/>
          </a:xfrm>
        </p:grpSpPr>
        <p:sp>
          <p:nvSpPr>
            <p:cNvPr id="294" name="Oval 43"/>
            <p:cNvSpPr/>
            <p:nvPr/>
          </p:nvSpPr>
          <p:spPr>
            <a:xfrm>
              <a:off x="139716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41480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42812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7" name="Oval 46"/>
            <p:cNvSpPr/>
            <p:nvPr/>
          </p:nvSpPr>
          <p:spPr>
            <a:xfrm>
              <a:off x="149976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8" name="Text Box 47"/>
            <p:cNvSpPr/>
            <p:nvPr/>
          </p:nvSpPr>
          <p:spPr>
            <a:xfrm>
              <a:off x="167760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99" name="Oval 48"/>
          <p:cNvSpPr/>
          <p:nvPr/>
        </p:nvSpPr>
        <p:spPr>
          <a:xfrm>
            <a:off x="129528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37160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38420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39536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3" name="Oval 52"/>
          <p:cNvSpPr/>
          <p:nvPr/>
        </p:nvSpPr>
        <p:spPr>
          <a:xfrm>
            <a:off x="144936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156852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56212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68452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69388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70036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9" name="Oval 58"/>
          <p:cNvSpPr/>
          <p:nvPr/>
        </p:nvSpPr>
        <p:spPr>
          <a:xfrm>
            <a:off x="273672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0" name="Text Box 59"/>
          <p:cNvSpPr/>
          <p:nvPr/>
        </p:nvSpPr>
        <p:spPr>
          <a:xfrm>
            <a:off x="275472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f7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0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1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2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3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5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6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7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8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9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0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1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2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4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5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6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37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414b2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9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0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41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2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3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4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5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6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47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9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0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1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2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3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6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7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8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0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1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62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3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5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6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7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68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70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1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2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3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4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5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6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7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9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0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1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2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3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84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5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6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7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8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89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0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1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2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3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4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95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6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7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8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403" name="Group 6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404" name="Freeform 7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5" name="Freeform 8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9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07" name="Freeform 10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8" name="Freeform 11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Group 12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10" name="Oval 13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1" name="Oval 14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3" name="Oval 16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4" name="Oval 17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15" name="Group 18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16" name="Oval 19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7" name="Oval 20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8" name="Oval 21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9" name="Oval 22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Group 23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21" name="Group 24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22" name="Freeform 25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3" name="Freeform 26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7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25" name="Freeform 28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6" name="Freeform 29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Oval 30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0" name="Oval 33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1" name="Oval 34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33" name="Oval 36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4" name="Oval 37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5" name="Oval 38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437" name="Group 40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38" name="Group 41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39" name="Freeform 42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0" name="Freeform 43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4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42" name="Freeform 45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3" name="Freeform 46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47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45" name="Oval 48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6" name="Oval 49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7" name="Oval 50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8" name="Oval 51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9" name="Oval 52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50" name="Group 53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51" name="Oval 54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2" name="Oval 55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3" name="Oval 56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4" name="Oval 57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58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56" name="Group 59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57" name="Freeform 60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8" name="Freeform 61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62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60" name="Freeform 63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61" name="Freeform 64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Group 65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63" name="Oval 66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4" name="Oval 67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5" name="Oval 68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6" name="Oval 69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7" name="Oval 70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68" name="Group 71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469" name="Oval 72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0" name="Oval 73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1" name="Oval 74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2" name="Oval 75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Text Box 76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4" name="Text Box 77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5" name="Text Box 78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6" name="Text Box 79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7" name="Text Box 80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8" name="Text Box 81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9" name="Text Box 82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0" name="Text Box 83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1" name="Text Box 84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2" name="Text Box 85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3" name="Text Box 86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4" name="Text Box 87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cxnSp>
        <p:nvCxnSpPr>
          <p:cNvPr id="485" name="AutoShape 88"/>
          <p:cNvCxnSpPr>
            <a:stCxn id="481" idx="3"/>
            <a:endCxn id="482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6" name="AutoShape 89"/>
          <p:cNvCxnSpPr>
            <a:stCxn id="482" idx="3"/>
            <a:endCxn id="483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7" name="AutoShape 90"/>
          <p:cNvCxnSpPr>
            <a:stCxn id="483" idx="3"/>
            <a:endCxn id="484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0" name="Group 7"/>
          <p:cNvGrpSpPr/>
          <p:nvPr/>
        </p:nvGrpSpPr>
        <p:grpSpPr>
          <a:xfrm>
            <a:off x="1111680" y="1553040"/>
            <a:ext cx="6437160" cy="1388520"/>
            <a:chOff x="1111680" y="1553040"/>
            <a:chExt cx="6437160" cy="1388520"/>
          </a:xfrm>
        </p:grpSpPr>
        <p:sp>
          <p:nvSpPr>
            <p:cNvPr id="501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2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503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4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5" name="Oval 12"/>
              <p:cNvSpPr/>
              <p:nvPr/>
            </p:nvSpPr>
            <p:spPr>
              <a:xfrm>
                <a:off x="307692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6" name="Oval 13"/>
              <p:cNvSpPr/>
              <p:nvPr/>
            </p:nvSpPr>
            <p:spPr>
              <a:xfrm>
                <a:off x="3154680" y="19936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07" name="Rectangle 14"/>
            <p:cNvSpPr/>
            <p:nvPr/>
          </p:nvSpPr>
          <p:spPr>
            <a:xfrm rot="3418800">
              <a:off x="304308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8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09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0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1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2" name="Oval 19"/>
              <p:cNvSpPr/>
              <p:nvPr/>
            </p:nvSpPr>
            <p:spPr>
              <a:xfrm>
                <a:off x="487440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3" name="Rectangle 20"/>
            <p:cNvSpPr/>
            <p:nvPr/>
          </p:nvSpPr>
          <p:spPr>
            <a:xfrm rot="3418800">
              <a:off x="469296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14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15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6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7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8" name="Oval 25"/>
              <p:cNvSpPr/>
              <p:nvPr/>
            </p:nvSpPr>
            <p:spPr>
              <a:xfrm>
                <a:off x="686196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9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20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1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2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3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4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5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6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7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762120" y="1752480"/>
          <a:ext cx="7619760" cy="3702240"/>
        </p:xfrm>
        <a:graphic>
          <a:graphicData uri="http://schemas.openxmlformats.org/drawingml/2006/table">
            <a:tbl>
              <a:tblPr/>
              <a:tblGrid>
                <a:gridCol w="1522440"/>
                <a:gridCol w="1218960"/>
                <a:gridCol w="1219320"/>
                <a:gridCol w="1219320"/>
                <a:gridCol w="1220760"/>
                <a:gridCol w="1218960"/>
              </a:tblGrid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4940"/>
                      </a:solidFill>
                    </a:lnR>
                    <a:lnT>
                      <a:noFill/>
                    </a:lnT>
                    <a:lnB w="5760">
                      <a:solidFill>
                        <a:srgbClr val="1d49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1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3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4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b6c59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5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76e5e"/>
                </a:gs>
                <a:gs pos="100000">
                  <a:srgbClr val="669e8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6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ced8b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7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8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9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0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2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3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8ca35f">
                    <a:alpha val="19215"/>
                  </a:srgbClr>
                </a:gs>
                <a:gs pos="100000">
                  <a:srgbClr val="b2c2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c689"/>
                </a:gs>
                <a:gs pos="100000">
                  <a:srgbClr val="c1b0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5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6f653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6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d8c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7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8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716f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55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6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7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1b05d">
                    <a:alpha val="85098"/>
                  </a:srgbClr>
                </a:gs>
                <a:gs pos="100000">
                  <a:srgbClr val="7b70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8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8c80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59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1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2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3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4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85098"/>
                  </a:srgbClr>
                </a:gs>
                <a:gs pos="100000">
                  <a:srgbClr val="4164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5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4a73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66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8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69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0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1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ca35f">
                    <a:alpha val="85098"/>
                  </a:srgbClr>
                </a:gs>
                <a:gs pos="100000">
                  <a:srgbClr val="596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2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6676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73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75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76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7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8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f716f">
                    <a:alpha val="85098"/>
                  </a:srgbClr>
                </a:gs>
                <a:gs pos="100000">
                  <a:srgbClr val="2848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9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f716f"/>
                </a:gs>
                <a:gs pos="100000">
                  <a:srgbClr val="2e52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80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98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99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0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2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05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11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2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16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19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83" name="WordArt 3"/>
          <p:cNvSpPr txBox="1"/>
          <p:nvPr/>
        </p:nvSpPr>
        <p:spPr>
          <a:xfrm>
            <a:off x="2362320" y="43434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4940"/>
                    </a:gs>
                    <a:gs pos="100000">
                      <a:srgbClr val="a2cab4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4940"/>
                  </a:gs>
                  <a:gs pos="100000">
                    <a:srgbClr val="a2cab4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1523880" y="5181480"/>
            <a:ext cx="664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494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34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35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6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ca35f"/>
                  </a:gs>
                  <a:gs pos="100000">
                    <a:srgbClr val="444f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cd6b8"/>
                  </a:gs>
                  <a:gs pos="100000">
                    <a:srgbClr val="8ca35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38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0"/>
                  </a:srgbClr>
                </a:gs>
                <a:gs pos="100000">
                  <a:srgbClr val="cadd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17d6a"/>
                </a:gs>
                <a:gs pos="100000">
                  <a:srgbClr val="669e8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e8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42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143000" y="1722240"/>
            <a:ext cx="7328520" cy="4583520"/>
            <a:chOff x="1143000" y="1722240"/>
            <a:chExt cx="7328520" cy="4583520"/>
          </a:xfrm>
        </p:grpSpPr>
        <p:sp>
          <p:nvSpPr>
            <p:cNvPr id="146" name="Freeform 4"/>
            <p:cNvSpPr/>
            <p:nvPr/>
          </p:nvSpPr>
          <p:spPr>
            <a:xfrm rot="20241600">
              <a:off x="177264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 rot="20056200">
              <a:off x="472392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 rot="20056200">
              <a:off x="739080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 rot="20056200">
              <a:off x="327600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 rot="20056200">
              <a:off x="586692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 rot="20056200">
              <a:off x="243792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420192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3038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196668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20322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275112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3a48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521964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684504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433d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220428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8" name="Text Box 16"/>
            <p:cNvSpPr/>
            <p:nvPr/>
          </p:nvSpPr>
          <p:spPr>
            <a:xfrm>
              <a:off x="450756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711756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0" name="Text Box 18"/>
            <p:cNvSpPr/>
            <p:nvPr/>
          </p:nvSpPr>
          <p:spPr>
            <a:xfrm>
              <a:off x="55252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01536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0988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494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2982960" y="2452680"/>
              <a:ext cx="1627200" cy="125100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cxnSp>
          <p:nvCxnSpPr>
            <p:cNvPr id="164" name="AutoShape 22"/>
            <p:cNvCxnSpPr/>
            <p:nvPr/>
          </p:nvCxnSpPr>
          <p:spPr>
            <a:xfrm flipH="1">
              <a:off x="1267560" y="2452320"/>
              <a:ext cx="1726200" cy="108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</a:ln>
          </p:spPr>
        </p:cxnSp>
        <p:sp>
          <p:nvSpPr>
            <p:cNvPr id="165" name="Text Box 23"/>
            <p:cNvSpPr/>
            <p:nvPr/>
          </p:nvSpPr>
          <p:spPr>
            <a:xfrm>
              <a:off x="114300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f716f"/>
              </a:gs>
              <a:gs pos="100000">
                <a:srgbClr val="1d3433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1d3433">
                  <a:alpha val="12156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14b2c"/>
              </a:gs>
              <a:gs pos="50000">
                <a:srgbClr val="8ca35f"/>
              </a:gs>
              <a:gs pos="100000">
                <a:srgbClr val="414b2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f716f"/>
              </a:gs>
              <a:gs pos="100000">
                <a:srgbClr val="85a5a4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5a5a4">
                  <a:alpha val="12156"/>
                </a:srgbClr>
              </a:gs>
              <a:gs pos="100000">
                <a:srgbClr val="3f71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87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9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ca3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c5833"/>
                </a:gs>
                <a:gs pos="50000">
                  <a:srgbClr val="8ca35f"/>
                </a:gs>
                <a:gs pos="100000">
                  <a:srgbClr val="4c58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96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2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3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5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6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9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0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4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7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533520" y="1295280"/>
            <a:ext cx="5715000" cy="4496040"/>
          </a:xfrm>
          <a:prstGeom prst="rightArrow">
            <a:avLst>
              <a:gd name="adj1" fmla="val 79306"/>
              <a:gd name="adj2" fmla="val 31484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8380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8380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8380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5:30Z</dcterms:created>
  <dc:creator>Admin</dc:creator>
  <dc:description/>
  <dc:language>en-US</dc:language>
  <cp:lastModifiedBy>Nga</cp:lastModifiedBy>
  <dcterms:modified xsi:type="dcterms:W3CDTF">2017-09-15T09:01:54Z</dcterms:modified>
  <cp:revision>3</cp:revision>
  <dc:subject/>
  <dc:title>PowerPoint Template</dc:title>
</cp:coreProperties>
</file>