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E9FA-5AAA-4C52-A4FE-07B17A2B1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0800-1D05-4933-A787-BECD09F4944C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99D9-AB46-4CE9-B506-DE817C716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E721-8952-418D-85D2-80673B17BCD3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B00F-F541-44FF-BCC8-9173CAC1B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F3C8-DEAC-41C4-840E-D6B82CF2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9AE-FC38-4204-B340-51554276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750-D60E-47B9-BE21-F0A1DBC4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933-BB9B-4A1E-9DDF-9338382E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22E1-4730-43F4-8135-FE6FAFCD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31E3-B827-40D2-8D7B-03D41A60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C7FE-F4F7-4C31-AF0A-73F4A73E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18D6-CF18-43D7-98DF-148F58AC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95A4-2781-482D-9351-37462C7F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8B3A-3931-4C07-B7C9-57DAFE89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07B1-6F46-4451-ACD8-BF4C2DAB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6746-CD56-43A3-ADA0-A395F7F8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EA72-026D-40E4-9140-221520E5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3568-8D3F-4B25-973E-C128EF0F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F551-3825-4D64-A369-827FAE3C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ADA5-AE22-474D-8F2E-D9897DF8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BC48-DBB4-4C29-86D9-B4281598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B82-239A-4FA7-84A3-EE1F4FEF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EB0-C61E-44D9-857A-E85BECBD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5E55-1B46-457D-BA72-5B25DD38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B1B-9B91-41C9-990C-9D29E7AE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3AA-B06D-47E8-B9C8-43A64A99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AA73-B697-4EFD-8A42-ECCA9245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F2B-B8E0-4B44-A9A1-DFB455CF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D3B4-68EA-4C9B-A6CF-D93E7D3C4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1" descr="justpad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43" name="Picture 21" descr="padandpen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7EED-0E03-429D-97A4-99B6F2A29009}" type="slidenum"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ext Box 60" descr=""/>
          <p:cNvPicPr/>
          <p:nvPr/>
        </p:nvPicPr>
        <p:blipFill>
          <a:blip r:embed="rId1"/>
          <a:stretch/>
        </p:blipFill>
        <p:spPr>
          <a:xfrm>
            <a:off x="1914480" y="1682640"/>
            <a:ext cx="4754520" cy="1468440"/>
          </a:xfrm>
          <a:prstGeom prst="rect">
            <a:avLst/>
          </a:prstGeom>
          <a:ln w="0">
            <a:noFill/>
          </a:ln>
        </p:spPr>
      </p:pic>
      <p:sp>
        <p:nvSpPr>
          <p:cNvPr id="93" name="Đường kết nối Thẳng 7"/>
          <p:cNvSpPr/>
          <p:nvPr/>
        </p:nvSpPr>
        <p:spPr>
          <a:xfrm>
            <a:off x="3095640" y="471816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4" name="Đường kết nối Thẳng 8"/>
          <p:cNvSpPr/>
          <p:nvPr/>
        </p:nvSpPr>
        <p:spPr>
          <a:xfrm>
            <a:off x="3095640" y="525780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5" name="Đường kết nối Thẳng 9"/>
          <p:cNvSpPr/>
          <p:nvPr/>
        </p:nvSpPr>
        <p:spPr>
          <a:xfrm>
            <a:off x="3095640" y="579744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Hộp_Văn_Bản 3"/>
          <p:cNvSpPr/>
          <p:nvPr/>
        </p:nvSpPr>
        <p:spPr>
          <a:xfrm>
            <a:off x="3120120" y="43480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ọ tê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Hộp_Văn_Bản 11"/>
          <p:cNvSpPr/>
          <p:nvPr/>
        </p:nvSpPr>
        <p:spPr>
          <a:xfrm>
            <a:off x="3119400" y="542448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Địa chỉ 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8" name="Hộp_Văn_Bản 12"/>
          <p:cNvSpPr/>
          <p:nvPr/>
        </p:nvSpPr>
        <p:spPr>
          <a:xfrm>
            <a:off x="3117240" y="488160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2"/>
          <p:cNvSpPr/>
          <p:nvPr/>
        </p:nvSpPr>
        <p:spPr>
          <a:xfrm>
            <a:off x="1447920" y="1295280"/>
            <a:ext cx="6400800" cy="419760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0" name="Rectangle 28"/>
          <p:cNvSpPr/>
          <p:nvPr/>
        </p:nvSpPr>
        <p:spPr>
          <a:xfrm rot="2448000">
            <a:off x="1257480" y="72360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1" name="Rectangle 29"/>
          <p:cNvSpPr/>
          <p:nvPr/>
        </p:nvSpPr>
        <p:spPr>
          <a:xfrm rot="7848000">
            <a:off x="7657200" y="736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3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4" name="Text Box 33"/>
          <p:cNvSpPr/>
          <p:nvPr/>
        </p:nvSpPr>
        <p:spPr>
          <a:xfrm>
            <a:off x="2254320" y="566748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Thay hình ảnh giả bằng ảnh đại diện của Bạ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05" name="Picture 12" descr="C:\Users\Administrator\Desktop\foresee.png"/>
          <p:cNvPicPr/>
          <p:nvPr/>
        </p:nvPicPr>
        <p:blipFill>
          <a:blip r:embed="rId1"/>
          <a:stretch/>
        </p:blipFill>
        <p:spPr>
          <a:xfrm>
            <a:off x="2762280" y="1498680"/>
            <a:ext cx="3789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934920" y="2220840"/>
            <a:ext cx="3192480" cy="2739960"/>
            <a:chOff x="934920" y="2220840"/>
            <a:chExt cx="3192480" cy="2739960"/>
          </a:xfrm>
        </p:grpSpPr>
        <p:grpSp>
          <p:nvGrpSpPr>
            <p:cNvPr id="107" name="Freeform 2"/>
            <p:cNvGrpSpPr/>
            <p:nvPr/>
          </p:nvGrpSpPr>
          <p:grpSpPr>
            <a:xfrm>
              <a:off x="1877400" y="3894480"/>
              <a:ext cx="2250000" cy="956520"/>
              <a:chOff x="1877400" y="3894480"/>
              <a:chExt cx="2250000" cy="956520"/>
            </a:xfrm>
          </p:grpSpPr>
          <p:pic>
            <p:nvPicPr>
              <p:cNvPr id="108" name="Freeform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879200" y="3895920"/>
                <a:ext cx="2247840" cy="95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1877400" y="3894480"/>
                <a:ext cx="22500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10" name="Isosceles Triangle 35"/>
            <p:cNvSpPr/>
            <p:nvPr/>
          </p:nvSpPr>
          <p:spPr>
            <a:xfrm>
              <a:off x="934920" y="2220840"/>
              <a:ext cx="2950200" cy="2738880"/>
            </a:xfrm>
            <a:custGeom>
              <a:avLst/>
              <a:gdLst/>
              <a:ahLst/>
              <a:rect l="l" t="t" r="r" b="b"/>
              <a:pathLst>
                <a:path w="1170912" h="1523470">
                  <a:moveTo>
                    <a:pt x="583932" y="0"/>
                  </a:moveTo>
                  <a:lnTo>
                    <a:pt x="1170912" y="1385256"/>
                  </a:lnTo>
                  <a:cubicBezTo>
                    <a:pt x="1170912" y="1461589"/>
                    <a:pt x="908902" y="1523470"/>
                    <a:pt x="585696" y="1523470"/>
                  </a:cubicBezTo>
                  <a:cubicBezTo>
                    <a:pt x="262490" y="1523470"/>
                    <a:pt x="480" y="1461589"/>
                    <a:pt x="480" y="1385256"/>
                  </a:cubicBezTo>
                  <a:cubicBezTo>
                    <a:pt x="499" y="1385213"/>
                    <a:pt x="517" y="1385169"/>
                    <a:pt x="536" y="1385126"/>
                  </a:cubicBezTo>
                  <a:lnTo>
                    <a:pt x="0" y="1385126"/>
                  </a:lnTo>
                  <a:lnTo>
                    <a:pt x="583932" y="0"/>
                  </a:lnTo>
                  <a:close/>
                </a:path>
              </a:pathLst>
            </a:cu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1" name="Isosceles Triangle 35"/>
            <p:cNvSpPr/>
            <p:nvPr/>
          </p:nvSpPr>
          <p:spPr>
            <a:xfrm>
              <a:off x="1234800" y="2220840"/>
              <a:ext cx="2350080" cy="2197800"/>
            </a:xfrm>
            <a:custGeom>
              <a:avLst/>
              <a:gdLst/>
              <a:ahLst/>
              <a:rect l="l" t="t" r="r" b="b"/>
              <a:pathLst>
                <a:path w="2975103" h="2784225">
                  <a:moveTo>
                    <a:pt x="1483000" y="0"/>
                  </a:moveTo>
                  <a:lnTo>
                    <a:pt x="2975103" y="2515230"/>
                  </a:lnTo>
                  <a:cubicBezTo>
                    <a:pt x="2868527" y="2667838"/>
                    <a:pt x="2243451" y="2784225"/>
                    <a:pt x="1488476" y="2784225"/>
                  </a:cubicBezTo>
                  <a:cubicBezTo>
                    <a:pt x="729170" y="2784225"/>
                    <a:pt x="101255" y="2666498"/>
                    <a:pt x="0" y="2512695"/>
                  </a:cubicBezTo>
                  <a:lnTo>
                    <a:pt x="1483000" y="0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2" name="Isosceles Triangle 35"/>
            <p:cNvSpPr/>
            <p:nvPr/>
          </p:nvSpPr>
          <p:spPr>
            <a:xfrm>
              <a:off x="1550880" y="2220840"/>
              <a:ext cx="1717920" cy="1656720"/>
            </a:xfrm>
            <a:custGeom>
              <a:avLst/>
              <a:gdLst/>
              <a:ahLst/>
              <a:rect l="l" t="t" r="r" b="b"/>
              <a:pathLst>
                <a:path w="2174399" h="2098425">
                  <a:moveTo>
                    <a:pt x="1083091" y="0"/>
                  </a:moveTo>
                  <a:lnTo>
                    <a:pt x="2174399" y="1839612"/>
                  </a:lnTo>
                  <a:cubicBezTo>
                    <a:pt x="2081791" y="1986998"/>
                    <a:pt x="1630749" y="2098425"/>
                    <a:pt x="1088403" y="2098425"/>
                  </a:cubicBezTo>
                  <a:cubicBezTo>
                    <a:pt x="540681" y="2098425"/>
                    <a:pt x="86082" y="1984778"/>
                    <a:pt x="0" y="1835116"/>
                  </a:cubicBezTo>
                  <a:lnTo>
                    <a:pt x="1083091" y="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3" name="Isosceles Triangle 35"/>
            <p:cNvSpPr/>
            <p:nvPr/>
          </p:nvSpPr>
          <p:spPr>
            <a:xfrm>
              <a:off x="1859040" y="2220840"/>
              <a:ext cx="1101960" cy="1115640"/>
            </a:xfrm>
            <a:custGeom>
              <a:avLst/>
              <a:gdLst/>
              <a:ahLst/>
              <a:rect l="l" t="t" r="r" b="b"/>
              <a:pathLst>
                <a:path w="1394010" h="1412625">
                  <a:moveTo>
                    <a:pt x="693694" y="0"/>
                  </a:moveTo>
                  <a:lnTo>
                    <a:pt x="1394010" y="1180519"/>
                  </a:lnTo>
                  <a:cubicBezTo>
                    <a:pt x="1311694" y="1314978"/>
                    <a:pt x="1031483" y="1412625"/>
                    <a:pt x="698850" y="1412625"/>
                  </a:cubicBezTo>
                  <a:cubicBezTo>
                    <a:pt x="361673" y="1412625"/>
                    <a:pt x="78360" y="1312292"/>
                    <a:pt x="0" y="1175348"/>
                  </a:cubicBezTo>
                  <a:lnTo>
                    <a:pt x="693694" y="0"/>
                  </a:lnTo>
                  <a:close/>
                </a:path>
              </a:pathLst>
            </a:custGeom>
            <a:solidFill>
              <a:srgbClr val="ffaa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grpSp>
          <p:nvGrpSpPr>
            <p:cNvPr id="114" name="Isosceles Triangle 35"/>
            <p:cNvGrpSpPr/>
            <p:nvPr/>
          </p:nvGrpSpPr>
          <p:grpSpPr>
            <a:xfrm>
              <a:off x="1530000" y="2224800"/>
              <a:ext cx="1194840" cy="2736000"/>
              <a:chOff x="1530000" y="2224800"/>
              <a:chExt cx="1194840" cy="2736000"/>
            </a:xfrm>
          </p:grpSpPr>
          <p:pic>
            <p:nvPicPr>
              <p:cNvPr id="115" name="Isosceles Triangle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1080" y="2226600"/>
                <a:ext cx="1193760" cy="273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530000" y="2224800"/>
                <a:ext cx="1194120" cy="273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4600440" y="2220840"/>
            <a:ext cx="3191040" cy="2739960"/>
            <a:chOff x="4600440" y="2220840"/>
            <a:chExt cx="3191040" cy="2739960"/>
          </a:xfrm>
        </p:grpSpPr>
        <p:grpSp>
          <p:nvGrpSpPr>
            <p:cNvPr id="118" name="Freeform 20"/>
            <p:cNvGrpSpPr/>
            <p:nvPr/>
          </p:nvGrpSpPr>
          <p:grpSpPr>
            <a:xfrm>
              <a:off x="5541480" y="3894480"/>
              <a:ext cx="2250000" cy="956520"/>
              <a:chOff x="5541480" y="3894480"/>
              <a:chExt cx="2250000" cy="956520"/>
            </a:xfrm>
          </p:grpSpPr>
          <p:pic>
            <p:nvPicPr>
              <p:cNvPr id="119" name="Freeform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5541840" y="3895920"/>
                <a:ext cx="2248920" cy="95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5541480" y="3894480"/>
                <a:ext cx="22500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21" name="Isosceles Triangle 35"/>
            <p:cNvSpPr/>
            <p:nvPr/>
          </p:nvSpPr>
          <p:spPr>
            <a:xfrm>
              <a:off x="4600440" y="2220840"/>
              <a:ext cx="2949120" cy="2738880"/>
            </a:xfrm>
            <a:custGeom>
              <a:avLst/>
              <a:gdLst/>
              <a:ahLst/>
              <a:rect l="l" t="t" r="r" b="b"/>
              <a:pathLst>
                <a:path w="1170912" h="1523470">
                  <a:moveTo>
                    <a:pt x="583932" y="0"/>
                  </a:moveTo>
                  <a:lnTo>
                    <a:pt x="1170912" y="1385256"/>
                  </a:lnTo>
                  <a:cubicBezTo>
                    <a:pt x="1170912" y="1461589"/>
                    <a:pt x="908902" y="1523470"/>
                    <a:pt x="585696" y="1523470"/>
                  </a:cubicBezTo>
                  <a:cubicBezTo>
                    <a:pt x="262490" y="1523470"/>
                    <a:pt x="480" y="1461589"/>
                    <a:pt x="480" y="1385256"/>
                  </a:cubicBezTo>
                  <a:cubicBezTo>
                    <a:pt x="499" y="1385213"/>
                    <a:pt x="517" y="1385169"/>
                    <a:pt x="536" y="1385126"/>
                  </a:cubicBezTo>
                  <a:lnTo>
                    <a:pt x="0" y="1385126"/>
                  </a:lnTo>
                  <a:lnTo>
                    <a:pt x="583932" y="0"/>
                  </a:lnTo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2" name="Isosceles Triangle 35"/>
            <p:cNvSpPr/>
            <p:nvPr/>
          </p:nvSpPr>
          <p:spPr>
            <a:xfrm>
              <a:off x="4900320" y="2220840"/>
              <a:ext cx="2348640" cy="2197800"/>
            </a:xfrm>
            <a:custGeom>
              <a:avLst/>
              <a:gdLst/>
              <a:ahLst/>
              <a:rect l="l" t="t" r="r" b="b"/>
              <a:pathLst>
                <a:path w="2975103" h="2784225">
                  <a:moveTo>
                    <a:pt x="1483000" y="0"/>
                  </a:moveTo>
                  <a:lnTo>
                    <a:pt x="2975103" y="2515230"/>
                  </a:lnTo>
                  <a:cubicBezTo>
                    <a:pt x="2868527" y="2667838"/>
                    <a:pt x="2243451" y="2784225"/>
                    <a:pt x="1488476" y="2784225"/>
                  </a:cubicBezTo>
                  <a:cubicBezTo>
                    <a:pt x="729170" y="2784225"/>
                    <a:pt x="101255" y="2666498"/>
                    <a:pt x="0" y="2512695"/>
                  </a:cubicBezTo>
                  <a:lnTo>
                    <a:pt x="1483000" y="0"/>
                  </a:lnTo>
                  <a:close/>
                </a:path>
              </a:pathLst>
            </a:cu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3" name="Isosceles Triangle 35"/>
            <p:cNvSpPr/>
            <p:nvPr/>
          </p:nvSpPr>
          <p:spPr>
            <a:xfrm>
              <a:off x="5216400" y="2220840"/>
              <a:ext cx="1716480" cy="1656720"/>
            </a:xfrm>
            <a:custGeom>
              <a:avLst/>
              <a:gdLst/>
              <a:ahLst/>
              <a:rect l="l" t="t" r="r" b="b"/>
              <a:pathLst>
                <a:path w="2174399" h="2098425">
                  <a:moveTo>
                    <a:pt x="1083091" y="0"/>
                  </a:moveTo>
                  <a:lnTo>
                    <a:pt x="2174399" y="1839612"/>
                  </a:lnTo>
                  <a:cubicBezTo>
                    <a:pt x="2081791" y="1986998"/>
                    <a:pt x="1630749" y="2098425"/>
                    <a:pt x="1088403" y="2098425"/>
                  </a:cubicBezTo>
                  <a:cubicBezTo>
                    <a:pt x="540681" y="2098425"/>
                    <a:pt x="86082" y="1984778"/>
                    <a:pt x="0" y="1835116"/>
                  </a:cubicBezTo>
                  <a:lnTo>
                    <a:pt x="1083091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4" name="Isosceles Triangle 35"/>
            <p:cNvSpPr/>
            <p:nvPr/>
          </p:nvSpPr>
          <p:spPr>
            <a:xfrm>
              <a:off x="5524560" y="2220840"/>
              <a:ext cx="1100520" cy="1115640"/>
            </a:xfrm>
            <a:custGeom>
              <a:avLst/>
              <a:gdLst/>
              <a:ahLst/>
              <a:rect l="l" t="t" r="r" b="b"/>
              <a:pathLst>
                <a:path w="1394010" h="1412625">
                  <a:moveTo>
                    <a:pt x="693694" y="0"/>
                  </a:moveTo>
                  <a:lnTo>
                    <a:pt x="1394010" y="1180519"/>
                  </a:lnTo>
                  <a:cubicBezTo>
                    <a:pt x="1311694" y="1314978"/>
                    <a:pt x="1031483" y="1412625"/>
                    <a:pt x="698850" y="1412625"/>
                  </a:cubicBezTo>
                  <a:cubicBezTo>
                    <a:pt x="361673" y="1412625"/>
                    <a:pt x="78360" y="1312292"/>
                    <a:pt x="0" y="1175348"/>
                  </a:cubicBezTo>
                  <a:lnTo>
                    <a:pt x="693694" y="0"/>
                  </a:lnTo>
                  <a:close/>
                </a:path>
              </a:pathLst>
            </a:custGeom>
            <a:solidFill>
              <a:srgbClr val="dc4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grpSp>
          <p:nvGrpSpPr>
            <p:cNvPr id="125" name="Isosceles Triangle 35"/>
            <p:cNvGrpSpPr/>
            <p:nvPr/>
          </p:nvGrpSpPr>
          <p:grpSpPr>
            <a:xfrm>
              <a:off x="5193720" y="2224800"/>
              <a:ext cx="1195200" cy="2736000"/>
              <a:chOff x="5193720" y="2224800"/>
              <a:chExt cx="1195200" cy="2736000"/>
            </a:xfrm>
          </p:grpSpPr>
          <p:pic>
            <p:nvPicPr>
              <p:cNvPr id="126" name="Isosceles Triangle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5193720" y="2226600"/>
                <a:ext cx="1195200" cy="273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193720" y="2224800"/>
                <a:ext cx="1195200" cy="273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Group 26"/>
          <p:cNvGrpSpPr/>
          <p:nvPr/>
        </p:nvGrpSpPr>
        <p:grpSpPr>
          <a:xfrm>
            <a:off x="2959200" y="2162160"/>
            <a:ext cx="1832040" cy="959040"/>
            <a:chOff x="2959200" y="2162160"/>
            <a:chExt cx="1832040" cy="959040"/>
          </a:xfrm>
        </p:grpSpPr>
        <p:grpSp>
          <p:nvGrpSpPr>
            <p:cNvPr id="129" name="Rectangle 27"/>
            <p:cNvGrpSpPr/>
            <p:nvPr/>
          </p:nvGrpSpPr>
          <p:grpSpPr>
            <a:xfrm>
              <a:off x="2962440" y="2162160"/>
              <a:ext cx="1828800" cy="305280"/>
              <a:chOff x="2962440" y="2162160"/>
              <a:chExt cx="1828800" cy="305280"/>
            </a:xfrm>
          </p:grpSpPr>
          <p:pic>
            <p:nvPicPr>
              <p:cNvPr id="130" name="Rectangle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65320" y="2163960"/>
                <a:ext cx="1825920" cy="30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2962440" y="2162160"/>
                <a:ext cx="1828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iêu đề </a:t>
                </a:r>
                <a:endParaRPr b="0" lang="en-US" sz="20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32" name="Rectangle 28"/>
            <p:cNvSpPr/>
            <p:nvPr/>
          </p:nvSpPr>
          <p:spPr>
            <a:xfrm>
              <a:off x="2959200" y="2538720"/>
              <a:ext cx="183168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ctr">
              <a:noAutofit/>
            </a:bodyPr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 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33" name="Group 29"/>
          <p:cNvGrpSpPr/>
          <p:nvPr/>
        </p:nvGrpSpPr>
        <p:grpSpPr>
          <a:xfrm>
            <a:off x="6629400" y="2162160"/>
            <a:ext cx="1830240" cy="1112760"/>
            <a:chOff x="6629400" y="2162160"/>
            <a:chExt cx="1830240" cy="1112760"/>
          </a:xfrm>
        </p:grpSpPr>
        <p:grpSp>
          <p:nvGrpSpPr>
            <p:cNvPr id="134" name="Rectangle 30"/>
            <p:cNvGrpSpPr/>
            <p:nvPr/>
          </p:nvGrpSpPr>
          <p:grpSpPr>
            <a:xfrm>
              <a:off x="6632280" y="2162160"/>
              <a:ext cx="1827360" cy="305280"/>
              <a:chOff x="6632280" y="2162160"/>
              <a:chExt cx="1827360" cy="305280"/>
            </a:xfrm>
          </p:grpSpPr>
          <p:pic>
            <p:nvPicPr>
              <p:cNvPr id="135" name="Rectangle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6635160" y="2163960"/>
                <a:ext cx="1824480" cy="30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6632280" y="2162160"/>
                <a:ext cx="1825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iêu đề </a:t>
                </a:r>
                <a:endParaRPr b="0" lang="en-US" sz="20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37" name="Rectangle 31"/>
            <p:cNvSpPr/>
            <p:nvPr/>
          </p:nvSpPr>
          <p:spPr>
            <a:xfrm>
              <a:off x="6629400" y="2538720"/>
              <a:ext cx="1828800" cy="7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 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38" name="Rectangle 32"/>
          <p:cNvSpPr/>
          <p:nvPr/>
        </p:nvSpPr>
        <p:spPr>
          <a:xfrm>
            <a:off x="1557360" y="5195880"/>
            <a:ext cx="1830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alibri"/>
              </a:rPr>
              <a:t>Thêm chữ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9" name="Rectangle 33"/>
          <p:cNvSpPr/>
          <p:nvPr/>
        </p:nvSpPr>
        <p:spPr>
          <a:xfrm>
            <a:off x="5157720" y="5195880"/>
            <a:ext cx="18320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Thêm chữ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0" name="Hộp_Văn_Bản 1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7"/>
          <p:cNvSpPr/>
          <p:nvPr/>
        </p:nvSpPr>
        <p:spPr>
          <a:xfrm>
            <a:off x="3546720" y="562140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c4c4c"/>
                </a:solidFill>
                <a:latin typeface="Arial"/>
              </a:rPr>
              <a:t>Thêm chú thích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42" name="Picture 9" descr="C:\Users\Administrator\Desktop\Laptop (1).png"/>
          <p:cNvPicPr/>
          <p:nvPr/>
        </p:nvPicPr>
        <p:blipFill>
          <a:blip r:embed="rId1"/>
          <a:stretch/>
        </p:blipFill>
        <p:spPr>
          <a:xfrm>
            <a:off x="588960" y="2162160"/>
            <a:ext cx="4681440" cy="3103560"/>
          </a:xfrm>
          <a:prstGeom prst="rect">
            <a:avLst/>
          </a:prstGeom>
          <a:ln w="0">
            <a:noFill/>
          </a:ln>
        </p:spPr>
      </p:pic>
      <p:sp>
        <p:nvSpPr>
          <p:cNvPr id="143" name="Hộp_Văn_Bản 3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4" name="Hộp_Văn_Bản 1"/>
          <p:cNvSpPr/>
          <p:nvPr/>
        </p:nvSpPr>
        <p:spPr>
          <a:xfrm>
            <a:off x="5555160" y="240660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5" name="Hộp_Văn_Bản 5"/>
          <p:cNvSpPr/>
          <p:nvPr/>
        </p:nvSpPr>
        <p:spPr>
          <a:xfrm>
            <a:off x="5555160" y="30099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6" name="Hộp_Văn_Bản 6"/>
          <p:cNvSpPr/>
          <p:nvPr/>
        </p:nvSpPr>
        <p:spPr>
          <a:xfrm>
            <a:off x="5555160" y="36543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7" name="Hộp_Văn_Bản 7"/>
          <p:cNvSpPr/>
          <p:nvPr/>
        </p:nvSpPr>
        <p:spPr>
          <a:xfrm>
            <a:off x="5555160" y="425304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8" name="Đường kết nối Thẳng 4"/>
          <p:cNvSpPr/>
          <p:nvPr/>
        </p:nvSpPr>
        <p:spPr>
          <a:xfrm>
            <a:off x="5724360" y="280656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9" name="Đường kết nối Thẳng 10"/>
          <p:cNvSpPr/>
          <p:nvPr/>
        </p:nvSpPr>
        <p:spPr>
          <a:xfrm>
            <a:off x="5724360" y="345276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0" name="Đường kết nối Thẳng 11"/>
          <p:cNvSpPr/>
          <p:nvPr/>
        </p:nvSpPr>
        <p:spPr>
          <a:xfrm>
            <a:off x="5724360" y="405432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1" name="Đường kết nối Thẳng 12"/>
          <p:cNvSpPr/>
          <p:nvPr/>
        </p:nvSpPr>
        <p:spPr>
          <a:xfrm>
            <a:off x="5724360" y="465300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1" descr=""/>
          <p:cNvPicPr/>
          <p:nvPr/>
        </p:nvPicPr>
        <p:blipFill>
          <a:blip r:embed="rId1"/>
          <a:stretch/>
        </p:blipFill>
        <p:spPr>
          <a:xfrm>
            <a:off x="1438200" y="1725480"/>
            <a:ext cx="1646280" cy="3529080"/>
          </a:xfrm>
          <a:prstGeom prst="rect">
            <a:avLst/>
          </a:prstGeom>
          <a:ln w="0">
            <a:noFill/>
          </a:ln>
        </p:spPr>
      </p:pic>
      <p:pic>
        <p:nvPicPr>
          <p:cNvPr id="153" name="Rectangle 1" descr=""/>
          <p:cNvPicPr/>
          <p:nvPr/>
        </p:nvPicPr>
        <p:blipFill>
          <a:blip r:embed="rId2"/>
          <a:stretch/>
        </p:blipFill>
        <p:spPr>
          <a:xfrm>
            <a:off x="3144960" y="1725480"/>
            <a:ext cx="1646280" cy="352908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1" descr=""/>
          <p:cNvPicPr/>
          <p:nvPr/>
        </p:nvPicPr>
        <p:blipFill>
          <a:blip r:embed="rId3"/>
          <a:stretch/>
        </p:blipFill>
        <p:spPr>
          <a:xfrm>
            <a:off x="4853160" y="1725480"/>
            <a:ext cx="1644480" cy="352908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1" descr=""/>
          <p:cNvPicPr/>
          <p:nvPr/>
        </p:nvPicPr>
        <p:blipFill>
          <a:blip r:embed="rId4"/>
          <a:stretch/>
        </p:blipFill>
        <p:spPr>
          <a:xfrm>
            <a:off x="6559560" y="1725480"/>
            <a:ext cx="1646280" cy="35290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1"/>
          <p:cNvSpPr/>
          <p:nvPr/>
        </p:nvSpPr>
        <p:spPr>
          <a:xfrm>
            <a:off x="159408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8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7" name="TextBox 29"/>
          <p:cNvSpPr/>
          <p:nvPr/>
        </p:nvSpPr>
        <p:spPr>
          <a:xfrm>
            <a:off x="330300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6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8" name="TextBox 33"/>
          <p:cNvSpPr/>
          <p:nvPr/>
        </p:nvSpPr>
        <p:spPr>
          <a:xfrm>
            <a:off x="672084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2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9" name="TextBox 38"/>
          <p:cNvSpPr/>
          <p:nvPr/>
        </p:nvSpPr>
        <p:spPr>
          <a:xfrm>
            <a:off x="501192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4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0" name="Hộp_Văn_Bản 24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61" name="Group 10"/>
          <p:cNvGrpSpPr/>
          <p:nvPr/>
        </p:nvGrpSpPr>
        <p:grpSpPr>
          <a:xfrm>
            <a:off x="3247920" y="4076640"/>
            <a:ext cx="1441440" cy="1711440"/>
            <a:chOff x="3247920" y="4076640"/>
            <a:chExt cx="1441440" cy="1711440"/>
          </a:xfrm>
        </p:grpSpPr>
        <p:sp>
          <p:nvSpPr>
            <p:cNvPr id="162" name="Rectangle 43"/>
            <p:cNvSpPr/>
            <p:nvPr/>
          </p:nvSpPr>
          <p:spPr>
            <a:xfrm>
              <a:off x="3258720" y="4076640"/>
              <a:ext cx="14306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3" name="Rectangle 44"/>
            <p:cNvSpPr/>
            <p:nvPr/>
          </p:nvSpPr>
          <p:spPr>
            <a:xfrm>
              <a:off x="3247920" y="4454280"/>
              <a:ext cx="14306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64" name="Group 10"/>
          <p:cNvGrpSpPr/>
          <p:nvPr/>
        </p:nvGrpSpPr>
        <p:grpSpPr>
          <a:xfrm>
            <a:off x="1535040" y="4076640"/>
            <a:ext cx="1443240" cy="1711440"/>
            <a:chOff x="1535040" y="4076640"/>
            <a:chExt cx="1443240" cy="1711440"/>
          </a:xfrm>
        </p:grpSpPr>
        <p:sp>
          <p:nvSpPr>
            <p:cNvPr id="165" name="Rectangle 43"/>
            <p:cNvSpPr/>
            <p:nvPr/>
          </p:nvSpPr>
          <p:spPr>
            <a:xfrm>
              <a:off x="1545840" y="4076640"/>
              <a:ext cx="1432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6" name="Rectangle 44"/>
            <p:cNvSpPr/>
            <p:nvPr/>
          </p:nvSpPr>
          <p:spPr>
            <a:xfrm>
              <a:off x="1535040" y="4454280"/>
              <a:ext cx="14324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67" name="Group 10"/>
          <p:cNvGrpSpPr/>
          <p:nvPr/>
        </p:nvGrpSpPr>
        <p:grpSpPr>
          <a:xfrm>
            <a:off x="4968720" y="4076640"/>
            <a:ext cx="1443240" cy="1711440"/>
            <a:chOff x="4968720" y="4076640"/>
            <a:chExt cx="1443240" cy="1711440"/>
          </a:xfrm>
        </p:grpSpPr>
        <p:sp>
          <p:nvSpPr>
            <p:cNvPr id="168" name="Rectangle 43"/>
            <p:cNvSpPr/>
            <p:nvPr/>
          </p:nvSpPr>
          <p:spPr>
            <a:xfrm>
              <a:off x="4979520" y="4076640"/>
              <a:ext cx="1432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9" name="Rectangle 44"/>
            <p:cNvSpPr/>
            <p:nvPr/>
          </p:nvSpPr>
          <p:spPr>
            <a:xfrm>
              <a:off x="4968720" y="4454280"/>
              <a:ext cx="14324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70" name="Group 10"/>
          <p:cNvGrpSpPr/>
          <p:nvPr/>
        </p:nvGrpSpPr>
        <p:grpSpPr>
          <a:xfrm>
            <a:off x="6647040" y="4076640"/>
            <a:ext cx="1442880" cy="1711440"/>
            <a:chOff x="6647040" y="4076640"/>
            <a:chExt cx="1442880" cy="1711440"/>
          </a:xfrm>
        </p:grpSpPr>
        <p:sp>
          <p:nvSpPr>
            <p:cNvPr id="171" name="Rectangle 43"/>
            <p:cNvSpPr/>
            <p:nvPr/>
          </p:nvSpPr>
          <p:spPr>
            <a:xfrm>
              <a:off x="6657840" y="4076640"/>
              <a:ext cx="14320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2" name="Rectangle 44"/>
            <p:cNvSpPr/>
            <p:nvPr/>
          </p:nvSpPr>
          <p:spPr>
            <a:xfrm>
              <a:off x="6647040" y="4454280"/>
              <a:ext cx="143208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Nhóm 23"/>
          <p:cNvGrpSpPr/>
          <p:nvPr/>
        </p:nvGrpSpPr>
        <p:grpSpPr>
          <a:xfrm>
            <a:off x="895680" y="1782720"/>
            <a:ext cx="7647480" cy="3887280"/>
            <a:chOff x="895680" y="1782720"/>
            <a:chExt cx="7647480" cy="3887280"/>
          </a:xfrm>
        </p:grpSpPr>
        <p:sp>
          <p:nvSpPr>
            <p:cNvPr id="174" name="Rectangle 38"/>
            <p:cNvSpPr/>
            <p:nvPr/>
          </p:nvSpPr>
          <p:spPr>
            <a:xfrm>
              <a:off x="2226960" y="2084040"/>
              <a:ext cx="10890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5" name="Rectangle 33"/>
            <p:cNvSpPr/>
            <p:nvPr/>
          </p:nvSpPr>
          <p:spPr>
            <a:xfrm>
              <a:off x="4748040" y="2084040"/>
              <a:ext cx="136044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6" name="Rectangle 34"/>
            <p:cNvSpPr/>
            <p:nvPr/>
          </p:nvSpPr>
          <p:spPr>
            <a:xfrm>
              <a:off x="3354120" y="2084040"/>
              <a:ext cx="135864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7" name="Rectangle 35"/>
            <p:cNvSpPr/>
            <p:nvPr/>
          </p:nvSpPr>
          <p:spPr>
            <a:xfrm>
              <a:off x="1336320" y="2084040"/>
              <a:ext cx="8460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8" name="Rectangle 36"/>
            <p:cNvSpPr/>
            <p:nvPr/>
          </p:nvSpPr>
          <p:spPr>
            <a:xfrm>
              <a:off x="6148440" y="2084040"/>
              <a:ext cx="13572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3354120" y="3095640"/>
              <a:ext cx="1357200" cy="2054520"/>
            </a:xfrm>
            <a:custGeom>
              <a:avLst/>
              <a:gdLst/>
              <a:ahLst/>
              <a:rect l="l" t="t" r="r" b="b"/>
              <a:pathLst>
                <a:path w="1627088" h="2461850">
                  <a:moveTo>
                    <a:pt x="0" y="1809750"/>
                  </a:moveTo>
                  <a:cubicBezTo>
                    <a:pt x="217453" y="1642268"/>
                    <a:pt x="865915" y="979487"/>
                    <a:pt x="1623913" y="0"/>
                  </a:cubicBezTo>
                  <a:cubicBezTo>
                    <a:pt x="1624971" y="820617"/>
                    <a:pt x="1626030" y="1641233"/>
                    <a:pt x="1627088" y="2461850"/>
                  </a:cubicBezTo>
                  <a:lnTo>
                    <a:pt x="0" y="2461850"/>
                  </a:lnTo>
                  <a:lnTo>
                    <a:pt x="0" y="1809750"/>
                  </a:lnTo>
                  <a:close/>
                </a:path>
              </a:pathLst>
            </a:custGeom>
            <a:solidFill>
              <a:srgbClr val="3f48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0" name="Rectangle 5"/>
            <p:cNvSpPr/>
            <p:nvPr/>
          </p:nvSpPr>
          <p:spPr>
            <a:xfrm>
              <a:off x="4748040" y="2724120"/>
              <a:ext cx="1360440" cy="2426040"/>
            </a:xfrm>
            <a:custGeom>
              <a:avLst/>
              <a:gdLst/>
              <a:ahLst/>
              <a:rect l="l" t="t" r="r" b="b"/>
              <a:pathLst>
                <a:path w="1629469" h="2906756">
                  <a:moveTo>
                    <a:pt x="0" y="382994"/>
                  </a:moveTo>
                  <a:cubicBezTo>
                    <a:pt x="297887" y="43268"/>
                    <a:pt x="819613" y="-332175"/>
                    <a:pt x="1629469" y="518725"/>
                  </a:cubicBezTo>
                  <a:lnTo>
                    <a:pt x="1629469" y="2906756"/>
                  </a:lnTo>
                  <a:lnTo>
                    <a:pt x="2381" y="2906756"/>
                  </a:lnTo>
                  <a:cubicBezTo>
                    <a:pt x="1587" y="2065502"/>
                    <a:pt x="794" y="1224248"/>
                    <a:pt x="0" y="382994"/>
                  </a:cubicBezTo>
                  <a:close/>
                </a:path>
              </a:pathLst>
            </a:custGeom>
            <a:solidFill>
              <a:srgbClr val="3f4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6148440" y="3198960"/>
              <a:ext cx="1357200" cy="1951200"/>
            </a:xfrm>
            <a:custGeom>
              <a:avLst/>
              <a:gdLst/>
              <a:ahLst/>
              <a:rect l="l" t="t" r="r" b="b"/>
              <a:pathLst>
                <a:path w="1627088" h="2338025">
                  <a:moveTo>
                    <a:pt x="3175" y="0"/>
                  </a:moveTo>
                  <a:cubicBezTo>
                    <a:pt x="943207" y="838199"/>
                    <a:pt x="1395082" y="976312"/>
                    <a:pt x="1623119" y="1028700"/>
                  </a:cubicBezTo>
                  <a:cubicBezTo>
                    <a:pt x="1625236" y="1465142"/>
                    <a:pt x="1624971" y="1901583"/>
                    <a:pt x="1627088" y="2338025"/>
                  </a:cubicBezTo>
                  <a:lnTo>
                    <a:pt x="0" y="2338025"/>
                  </a:lnTo>
                  <a:cubicBezTo>
                    <a:pt x="1058" y="1558683"/>
                    <a:pt x="2117" y="779342"/>
                    <a:pt x="3175" y="0"/>
                  </a:cubicBezTo>
                  <a:close/>
                </a:path>
              </a:pathLst>
            </a:custGeom>
            <a:solidFill>
              <a:srgbClr val="3f48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2" name="Rectangle 7"/>
            <p:cNvSpPr/>
            <p:nvPr/>
          </p:nvSpPr>
          <p:spPr>
            <a:xfrm>
              <a:off x="1958760" y="4637160"/>
              <a:ext cx="1357200" cy="512640"/>
            </a:xfrm>
            <a:custGeom>
              <a:avLst/>
              <a:gdLst/>
              <a:ahLst/>
              <a:rect l="l" t="t" r="r" b="b"/>
              <a:pathLst>
                <a:path w="1630263" h="614000">
                  <a:moveTo>
                    <a:pt x="0" y="614000"/>
                  </a:moveTo>
                  <a:cubicBezTo>
                    <a:pt x="283071" y="612533"/>
                    <a:pt x="820142" y="541217"/>
                    <a:pt x="1630263" y="0"/>
                  </a:cubicBezTo>
                  <a:cubicBezTo>
                    <a:pt x="1629205" y="204667"/>
                    <a:pt x="1628146" y="409333"/>
                    <a:pt x="1627088" y="614000"/>
                  </a:cubicBezTo>
                  <a:lnTo>
                    <a:pt x="0" y="614000"/>
                  </a:lnTo>
                  <a:close/>
                </a:path>
              </a:pathLst>
            </a:custGeom>
            <a:solidFill>
              <a:srgbClr val="3f485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cxnSp>
          <p:nvCxnSpPr>
            <p:cNvPr id="183" name="Connecteur droit avec flèche 29"/>
            <p:cNvCxnSpPr/>
            <p:nvPr/>
          </p:nvCxnSpPr>
          <p:spPr>
            <a:xfrm flipV="1">
              <a:off x="1335960" y="1844280"/>
              <a:ext cx="1080" cy="330624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84" name="Connecteur droit avec flèche 31"/>
            <p:cNvCxnSpPr/>
            <p:nvPr/>
          </p:nvCxnSpPr>
          <p:spPr>
            <a:xfrm>
              <a:off x="1335960" y="5149800"/>
              <a:ext cx="6717960" cy="108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85" name="ZoneTexte 40"/>
            <p:cNvSpPr/>
            <p:nvPr/>
          </p:nvSpPr>
          <p:spPr>
            <a:xfrm>
              <a:off x="1467720" y="5276160"/>
              <a:ext cx="151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HỞI ĐỘNG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6" name="ZoneTexte 41"/>
            <p:cNvSpPr/>
            <p:nvPr/>
          </p:nvSpPr>
          <p:spPr>
            <a:xfrm>
              <a:off x="3222720" y="530172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ÁT TRIỂN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7" name="ZoneTexte 42"/>
            <p:cNvSpPr/>
            <p:nvPr/>
          </p:nvSpPr>
          <p:spPr>
            <a:xfrm>
              <a:off x="4518360" y="5301720"/>
              <a:ext cx="182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ỊNH VƯỢNG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8" name="ZoneTexte 43"/>
            <p:cNvSpPr/>
            <p:nvPr/>
          </p:nvSpPr>
          <p:spPr>
            <a:xfrm>
              <a:off x="6172920" y="530172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Y GIẢM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9" name="ZoneTexte 46"/>
            <p:cNvSpPr/>
            <p:nvPr/>
          </p:nvSpPr>
          <p:spPr>
            <a:xfrm rot="16200000">
              <a:off x="348120" y="232992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SẢN LƯỢ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90" name="ZoneTexte 47"/>
            <p:cNvSpPr/>
            <p:nvPr/>
          </p:nvSpPr>
          <p:spPr>
            <a:xfrm>
              <a:off x="7301880" y="516492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THỜI GIAN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91" name="Hộp_Văn_Bản 23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2" name="Hộp_Văn_Bản 24"/>
          <p:cNvSpPr/>
          <p:nvPr/>
        </p:nvSpPr>
        <p:spPr>
          <a:xfrm>
            <a:off x="3492360" y="586440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Chú thích biểu đồ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traight Connector 16"/>
          <p:cNvSpPr/>
          <p:nvPr/>
        </p:nvSpPr>
        <p:spPr>
          <a:xfrm>
            <a:off x="4689360" y="4251240"/>
            <a:ext cx="3564000" cy="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4" name="Straight Connector 17"/>
          <p:cNvSpPr/>
          <p:nvPr/>
        </p:nvSpPr>
        <p:spPr>
          <a:xfrm>
            <a:off x="4871880" y="3157560"/>
            <a:ext cx="3381480" cy="144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95" name="Oval 10" descr=""/>
          <p:cNvPicPr/>
          <p:nvPr/>
        </p:nvPicPr>
        <p:blipFill>
          <a:blip r:embed="rId1"/>
          <a:stretch/>
        </p:blipFill>
        <p:spPr>
          <a:xfrm>
            <a:off x="665280" y="3578400"/>
            <a:ext cx="4797360" cy="2493720"/>
          </a:xfrm>
          <a:prstGeom prst="rect">
            <a:avLst/>
          </a:prstGeom>
          <a:ln w="0">
            <a:noFill/>
          </a:ln>
        </p:spPr>
      </p:pic>
      <p:pic>
        <p:nvPicPr>
          <p:cNvPr id="196" name="Oval 11" descr=""/>
          <p:cNvPicPr/>
          <p:nvPr/>
        </p:nvPicPr>
        <p:blipFill>
          <a:blip r:embed="rId2"/>
          <a:stretch/>
        </p:blipFill>
        <p:spPr>
          <a:xfrm>
            <a:off x="1590840" y="2664000"/>
            <a:ext cx="4011480" cy="2116080"/>
          </a:xfrm>
          <a:prstGeom prst="rect">
            <a:avLst/>
          </a:prstGeom>
          <a:ln w="0">
            <a:noFill/>
          </a:ln>
        </p:spPr>
      </p:pic>
      <p:pic>
        <p:nvPicPr>
          <p:cNvPr id="197" name="Oval 12" descr=""/>
          <p:cNvPicPr/>
          <p:nvPr/>
        </p:nvPicPr>
        <p:blipFill>
          <a:blip r:embed="rId3"/>
          <a:stretch/>
        </p:blipFill>
        <p:spPr>
          <a:xfrm>
            <a:off x="2554200" y="1901880"/>
            <a:ext cx="3071880" cy="1670040"/>
          </a:xfrm>
          <a:prstGeom prst="rect">
            <a:avLst/>
          </a:prstGeom>
          <a:ln w="0">
            <a:noFill/>
          </a:ln>
        </p:spPr>
      </p:pic>
      <p:sp>
        <p:nvSpPr>
          <p:cNvPr id="198" name="Curved Down Arrow 18"/>
          <p:cNvSpPr/>
          <p:nvPr/>
        </p:nvSpPr>
        <p:spPr>
          <a:xfrm rot="18799800">
            <a:off x="861120" y="2945160"/>
            <a:ext cx="1400040" cy="500040"/>
          </a:xfrm>
          <a:custGeom>
            <a:avLst/>
            <a:gdLst>
              <a:gd name="textAreaLeft" fmla="*/ 217080 w 1400040"/>
              <a:gd name="textAreaRight" fmla="*/ 1015560 w 140004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01" hR="21600" stAng="10800000" swAng="5400000"/>
                <a:lnTo>
                  <a:pt x="12316" y="0"/>
                </a:lnTo>
                <a:arcTo wR="6701" hR="21600" stAng="-5400000" swAng="3013808"/>
                <a:lnTo>
                  <a:pt x="21387" y="16200"/>
                </a:lnTo>
                <a:lnTo>
                  <a:pt x="16210" y="21600"/>
                </a:lnTo>
                <a:lnTo>
                  <a:pt x="10606" y="16200"/>
                </a:lnTo>
                <a:lnTo>
                  <a:pt x="13189" y="16200"/>
                </a:lnTo>
                <a:arcTo wR="6701" hR="21600" stAng="-2386192" swAng="-2525028"/>
                <a:lnTo>
                  <a:pt x="9509" y="1987"/>
                </a:lnTo>
                <a:arcTo wR="6701" hR="21600" stAng="-5888780" swAng="-4911220"/>
                <a:close/>
              </a:path>
              <a:path fill="darkenLess" w="21600" h="21600">
                <a:moveTo>
                  <a:pt x="0" y="21600"/>
                </a:moveTo>
                <a:arcTo wR="6701" hR="21600" stAng="10800000" swAng="5400000"/>
                <a:lnTo>
                  <a:pt x="6701" y="0"/>
                </a:lnTo>
                <a:arcTo wR="6701" hR="21600" stAng="-5400000" swAng="488780"/>
                <a:lnTo>
                  <a:pt x="9509" y="1987"/>
                </a:lnTo>
                <a:arcTo wR="6701" hR="21600" stAng="-5888780" swAng="-4911220"/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9" name="Curved Down Arrow 19"/>
          <p:cNvSpPr/>
          <p:nvPr/>
        </p:nvSpPr>
        <p:spPr>
          <a:xfrm rot="19543800">
            <a:off x="1906560" y="1942920"/>
            <a:ext cx="1400040" cy="501480"/>
          </a:xfrm>
          <a:custGeom>
            <a:avLst/>
            <a:gdLst>
              <a:gd name="textAreaLeft" fmla="*/ 216720 w 1400040"/>
              <a:gd name="textAreaRight" fmla="*/ 1015560 w 1400040"/>
              <a:gd name="textAreaTop" fmla="*/ 66960 h 501480"/>
              <a:gd name="textAreaBottom" fmla="*/ 434520 h 50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688" hR="21600" stAng="10800000" swAng="5400000"/>
                <a:lnTo>
                  <a:pt x="12321" y="0"/>
                </a:lnTo>
                <a:arcTo wR="6688" hR="21600" stAng="-5400000" swAng="3010525"/>
                <a:lnTo>
                  <a:pt x="21388" y="16200"/>
                </a:lnTo>
                <a:lnTo>
                  <a:pt x="16193" y="21600"/>
                </a:lnTo>
                <a:lnTo>
                  <a:pt x="10573" y="16200"/>
                </a:lnTo>
                <a:lnTo>
                  <a:pt x="13164" y="16200"/>
                </a:lnTo>
                <a:arcTo wR="6688" hR="21600" stAng="-2389475" swAng="-2519666"/>
                <a:lnTo>
                  <a:pt x="9505" y="2009"/>
                </a:lnTo>
                <a:arcTo wR="6688" hR="21600" stAng="-5890859" swAng="-4909141"/>
                <a:close/>
              </a:path>
              <a:path fill="darkenLess" w="21600" h="21600">
                <a:moveTo>
                  <a:pt x="0" y="21600"/>
                </a:moveTo>
                <a:arcTo wR="6688" hR="21600" stAng="10800000" swAng="5400000"/>
                <a:lnTo>
                  <a:pt x="6688" y="0"/>
                </a:lnTo>
                <a:arcTo wR="6688" hR="21600" stAng="-5400000" swAng="490859"/>
                <a:lnTo>
                  <a:pt x="9505" y="2009"/>
                </a:lnTo>
                <a:arcTo wR="6688" hR="21600" stAng="-5890859" swAng="-4909141"/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0" name="TextBox 22"/>
          <p:cNvSpPr/>
          <p:nvPr/>
        </p:nvSpPr>
        <p:spPr>
          <a:xfrm>
            <a:off x="5560920" y="2114640"/>
            <a:ext cx="28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elicious"/>
              </a:rPr>
              <a:t>Tiêu đề 1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1" name="TextBox 22"/>
          <p:cNvSpPr/>
          <p:nvPr/>
        </p:nvSpPr>
        <p:spPr>
          <a:xfrm>
            <a:off x="5560920" y="3174840"/>
            <a:ext cx="28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elicious"/>
              </a:rPr>
              <a:t>Tiêu đề 2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5560920" y="4303800"/>
            <a:ext cx="28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elicious"/>
              </a:rPr>
              <a:t>Tiêu đề 3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3" name="Hộp_Văn_Bản 15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4" name="Hộp_Văn_Bản 18"/>
          <p:cNvSpPr/>
          <p:nvPr/>
        </p:nvSpPr>
        <p:spPr>
          <a:xfrm>
            <a:off x="5976720" y="24732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5" name="Hộp_Văn_Bản 19"/>
          <p:cNvSpPr/>
          <p:nvPr/>
        </p:nvSpPr>
        <p:spPr>
          <a:xfrm>
            <a:off x="5976720" y="278136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6" name="Hộp_Văn_Bản 20"/>
          <p:cNvSpPr/>
          <p:nvPr/>
        </p:nvSpPr>
        <p:spPr>
          <a:xfrm>
            <a:off x="5976720" y="35766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7" name="Hộp_Văn_Bản 21"/>
          <p:cNvSpPr/>
          <p:nvPr/>
        </p:nvSpPr>
        <p:spPr>
          <a:xfrm>
            <a:off x="5976720" y="388476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8" name="Hộp_Văn_Bản 22"/>
          <p:cNvSpPr/>
          <p:nvPr/>
        </p:nvSpPr>
        <p:spPr>
          <a:xfrm>
            <a:off x="5976720" y="470844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9" name="Hộp_Văn_Bản 23"/>
          <p:cNvSpPr/>
          <p:nvPr/>
        </p:nvSpPr>
        <p:spPr>
          <a:xfrm>
            <a:off x="5976720" y="50166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Hình chữ nhật 1" descr=""/>
          <p:cNvPicPr/>
          <p:nvPr/>
        </p:nvPicPr>
        <p:blipFill>
          <a:blip r:embed="rId1"/>
          <a:stretch/>
        </p:blipFill>
        <p:spPr>
          <a:xfrm>
            <a:off x="901800" y="1884240"/>
            <a:ext cx="7102440" cy="1565280"/>
          </a:xfrm>
          <a:prstGeom prst="rect">
            <a:avLst/>
          </a:prstGeom>
          <a:ln w="0">
            <a:noFill/>
          </a:ln>
        </p:spPr>
      </p:pic>
      <p:sp>
        <p:nvSpPr>
          <p:cNvPr id="211" name="Đường kết nối Thẳng 7"/>
          <p:cNvSpPr/>
          <p:nvPr/>
        </p:nvSpPr>
        <p:spPr>
          <a:xfrm>
            <a:off x="3146400" y="472428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2" name="Đường kết nối Thẳng 8"/>
          <p:cNvSpPr/>
          <p:nvPr/>
        </p:nvSpPr>
        <p:spPr>
          <a:xfrm>
            <a:off x="3146400" y="526572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3" name="Đường kết nối Thẳng 9"/>
          <p:cNvSpPr/>
          <p:nvPr/>
        </p:nvSpPr>
        <p:spPr>
          <a:xfrm>
            <a:off x="3146400" y="580536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4" name="Hộp_Văn_Bản 10"/>
          <p:cNvSpPr/>
          <p:nvPr/>
        </p:nvSpPr>
        <p:spPr>
          <a:xfrm>
            <a:off x="3170880" y="4356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ọ tê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5" name="Hộp_Văn_Bản 11"/>
          <p:cNvSpPr/>
          <p:nvPr/>
        </p:nvSpPr>
        <p:spPr>
          <a:xfrm>
            <a:off x="3170160" y="543240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Địa chỉ 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6" name="Hộp_Văn_Bản 12"/>
          <p:cNvSpPr/>
          <p:nvPr/>
        </p:nvSpPr>
        <p:spPr>
          <a:xfrm>
            <a:off x="3168000" y="488952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217" name="TextBox 2" descr=""/>
          <p:cNvPicPr/>
          <p:nvPr/>
        </p:nvPicPr>
        <p:blipFill>
          <a:blip r:embed="rId2"/>
          <a:stretch/>
        </p:blipFill>
        <p:spPr>
          <a:xfrm>
            <a:off x="2951280" y="3432240"/>
            <a:ext cx="3132000" cy="36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Nga</cp:lastModifiedBy>
  <dcterms:modified xsi:type="dcterms:W3CDTF">2017-09-15T09:02:28Z</dcterms:modified>
  <cp:revision>92</cp:revision>
  <dc:subject/>
  <dc:title>Note pad and pen business PowerPoint template</dc:title>
</cp:coreProperties>
</file>