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4D1-B5E9-427F-9BD6-D11B9DD2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4DE-4087-48FA-8CD9-5C7F04F2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ECA-C829-4C05-86C1-AA5C4245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DBC-B41D-4D04-9BEF-68233A6F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B84F-2ED4-4BC6-B828-37248B9A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7593-ED79-4CA5-89C8-453B9C30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84F9-E3A6-40D7-A12E-44872A00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879C-319F-49F1-95C8-326BECCD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3CA5-064D-4044-8E72-33FF5520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68BA-4466-4E5C-A09F-6EE995D5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A358-33C0-4730-8FD4-207797CE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98E-5E48-46DD-987D-4E29B1F6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C9CF-B9D4-40C7-B236-3B8D4383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4286-DD32-4BFF-BFFD-964A65B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894E-D5D5-43A2-9270-7336E9AD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0288-FAB7-4F37-BC74-0F6D799F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A702-98C6-45D3-AAC7-6011C7BD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385-CEE5-4045-9B1A-ACDFD56E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DB5-17B6-4BAA-AB12-30E6DC1E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362-7428-4FA4-968A-BC95457C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548-EBDC-4CA2-89E5-BD148031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A22-EB49-48B9-96DE-99139E5E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17E-D06B-4F10-8442-912FD673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FF9-515E-4855-9AEC-4C7D295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4E30-3AB7-4C3E-B2B8-5A037FD9AB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EC7A-484C-4221-BD3D-DE911034367E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3948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732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5080" cy="178344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048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01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5320"/>
            <a:ext cx="6437160" cy="1388880"/>
            <a:chOff x="1112040" y="1705320"/>
            <a:chExt cx="6437160" cy="138888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308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96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636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220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400" cy="2705400"/>
              <a:chOff x="3051000" y="1905120"/>
              <a:chExt cx="296640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080" y="2952000"/>
                <a:ext cx="46188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160" y="2901240"/>
                <a:ext cx="4586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600" y="4304880"/>
                <a:ext cx="4503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6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89840" y="2040480"/>
                <a:ext cx="21038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83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3680" y="2166480"/>
                <a:ext cx="18568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8:34Z</dcterms:created>
  <dc:creator>Admin</dc:creator>
  <dc:description/>
  <dc:language>en-US</dc:language>
  <cp:lastModifiedBy>Nga</cp:lastModifiedBy>
  <dcterms:modified xsi:type="dcterms:W3CDTF">2017-09-15T08:57:41Z</dcterms:modified>
  <cp:revision>3</cp:revision>
  <dc:subject/>
  <dc:title> PowerPoint Template</dc:title>
</cp:coreProperties>
</file>