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BE3-18C7-4290-B259-AF5547A7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173-EC89-47D2-BD87-3FEA9063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E21-7DCF-4C0A-8F7D-A063B525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C26-EA4D-4457-A3B3-19E214EF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3137-BFAB-4605-89C3-F3CF4EE6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779C-76D9-4469-AA01-702F24FE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7383-2588-44B7-B9B4-50B28720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79A5-9482-45E6-9911-3D992DC4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BCC7-7560-48D2-926E-19FB09E2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61760" y="502920"/>
            <a:ext cx="7848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B4ED-3751-4118-89D2-707A8E36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9BC7-B116-4B80-8CB1-7CE98A9E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114C-719C-4C43-AD0D-4B117CF8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31FF-B14B-495F-9A3E-E84A3606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381A-16E1-4E10-A979-B21FBFAE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5E64-9FB4-4452-89EC-797AC698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54BC-EA6E-492C-A607-6152F6B3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CEA3-EEBB-4279-9401-42CB422D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010F-403F-48A8-BF4D-8DE43980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255-BDA8-4EE7-9BA9-319C49B6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4F8-46EE-4926-AD46-8C6FF8E2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1760" y="502920"/>
            <a:ext cx="7848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0D1-A1FA-405B-927B-7A39B210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34A-3026-4C91-BAC0-0E2CC6A7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CC9-3E54-4B7D-9B94-62A20670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8738-EE7E-42E4-9D5C-1BC06DD8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9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1" name="Rectangle 8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88"/>
            <p:cNvSpPr/>
            <p:nvPr/>
          </p:nvSpPr>
          <p:spPr>
            <a:xfrm>
              <a:off x="6705720" y="6400800"/>
              <a:ext cx="2438280" cy="228600"/>
            </a:xfrm>
            <a:custGeom>
              <a:avLst/>
              <a:gdLst/>
              <a:ahLst/>
              <a:rect l="l" t="t" r="r" b="b"/>
              <a:pathLst>
                <a:path w="1536" h="144">
                  <a:moveTo>
                    <a:pt x="0" y="96"/>
                  </a:moveTo>
                  <a:lnTo>
                    <a:pt x="144" y="0"/>
                  </a:lnTo>
                  <a:lnTo>
                    <a:pt x="1536" y="0"/>
                  </a:lnTo>
                  <a:lnTo>
                    <a:pt x="1536" y="144"/>
                  </a:lnTo>
                  <a:lnTo>
                    <a:pt x="0" y="14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" name="Object 85"/>
          <p:cNvGraphicFramePr/>
          <p:nvPr/>
        </p:nvGraphicFramePr>
        <p:xfrm>
          <a:off x="0" y="22860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CC0F-273B-4C1D-B731-242D96AACD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57"/>
          <p:cNvGrpSpPr/>
          <p:nvPr/>
        </p:nvGrpSpPr>
        <p:grpSpPr>
          <a:xfrm>
            <a:off x="0" y="6245280"/>
            <a:ext cx="9144000" cy="612720"/>
            <a:chOff x="0" y="6245280"/>
            <a:chExt cx="9144000" cy="612720"/>
          </a:xfrm>
        </p:grpSpPr>
        <p:sp>
          <p:nvSpPr>
            <p:cNvPr id="47" name="Rectangle 55"/>
            <p:cNvSpPr/>
            <p:nvPr/>
          </p:nvSpPr>
          <p:spPr>
            <a:xfrm>
              <a:off x="0" y="6451560"/>
              <a:ext cx="9144000" cy="40644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6"/>
            <p:cNvSpPr/>
            <p:nvPr/>
          </p:nvSpPr>
          <p:spPr>
            <a:xfrm>
              <a:off x="7024680" y="6245280"/>
              <a:ext cx="2119320" cy="307800"/>
            </a:xfrm>
            <a:custGeom>
              <a:avLst/>
              <a:gdLst/>
              <a:ahLst/>
              <a:rect l="l" t="t" r="r" b="b"/>
              <a:pathLst>
                <a:path w="1335" h="194">
                  <a:moveTo>
                    <a:pt x="0" y="137"/>
                  </a:moveTo>
                  <a:lnTo>
                    <a:pt x="229" y="0"/>
                  </a:lnTo>
                  <a:lnTo>
                    <a:pt x="1335" y="2"/>
                  </a:lnTo>
                  <a:lnTo>
                    <a:pt x="1335" y="194"/>
                  </a:lnTo>
                  <a:lnTo>
                    <a:pt x="87" y="19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14"/>
          <p:cNvSpPr/>
          <p:nvPr/>
        </p:nvSpPr>
        <p:spPr>
          <a:xfrm>
            <a:off x="304920" y="47160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987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3"/>
          <p:cNvSpPr/>
          <p:nvPr/>
        </p:nvSpPr>
        <p:spPr>
          <a:xfrm>
            <a:off x="1676520" y="1905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054A-8C85-419B-A830-8FC789E1E0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240" y="56383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c769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0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3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3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78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2"/>
          <p:cNvSpPr/>
          <p:nvPr/>
        </p:nvSpPr>
        <p:spPr>
          <a:xfrm>
            <a:off x="571500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4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5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6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7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8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9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40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41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99" name="Oval 42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3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4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5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6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47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8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9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0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51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2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3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4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5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6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57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8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1d1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5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9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2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5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48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1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4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57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1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8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6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0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5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06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09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0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3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16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2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27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28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1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39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4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5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48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1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57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2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3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66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69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5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AutoShape 88"/>
          <p:cNvCxnSpPr>
            <a:stCxn id="487" idx="3"/>
            <a:endCxn id="488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AutoShape 89"/>
          <p:cNvCxnSpPr>
            <a:stCxn id="488" idx="3"/>
            <a:endCxn id="489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AutoShape 90"/>
          <p:cNvCxnSpPr>
            <a:stCxn id="489" idx="3"/>
            <a:endCxn id="490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496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08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0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16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2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909720" y="2030400"/>
          <a:ext cx="7396200" cy="345276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8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6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62" name="Oval 7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12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3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69" name="Oval 14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5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6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7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19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20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76" name="Oval 21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2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23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24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26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27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83" name="Oval 28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29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30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31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33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6781680" y="6477120"/>
            <a:ext cx="21114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355920" y="1871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355920" y="27860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1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15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355920" y="3678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355920" y="4592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WordArt 3"/>
          <p:cNvSpPr txBox="1"/>
          <p:nvPr/>
        </p:nvSpPr>
        <p:spPr>
          <a:xfrm>
            <a:off x="2057400" y="495288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1f6f"/>
                    </a:gs>
                    <a:gs pos="100000">
                      <a:srgbClr val="4987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1f6f"/>
                  </a:gs>
                  <a:gs pos="100000">
                    <a:srgbClr val="4987e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2133720" y="5715000"/>
            <a:ext cx="5105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6781680" y="6477120"/>
            <a:ext cx="2038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8880" y="1601280"/>
            <a:ext cx="747072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1d1f6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1d1f6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6781680" y="6477120"/>
            <a:ext cx="2038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36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37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55818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781680" y="6477120"/>
            <a:ext cx="2111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30120" y="1393920"/>
            <a:ext cx="8294760" cy="5187960"/>
            <a:chOff x="330120" y="1393920"/>
            <a:chExt cx="8294760" cy="5187960"/>
          </a:xfrm>
        </p:grpSpPr>
        <p:sp>
          <p:nvSpPr>
            <p:cNvPr id="148" name="Freeform 4"/>
            <p:cNvSpPr/>
            <p:nvPr/>
          </p:nvSpPr>
          <p:spPr>
            <a:xfrm rot="20241600">
              <a:off x="10425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5"/>
            <p:cNvSpPr/>
            <p:nvPr/>
          </p:nvSpPr>
          <p:spPr>
            <a:xfrm rot="20056200">
              <a:off x="44697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"/>
            <p:cNvSpPr/>
            <p:nvPr/>
          </p:nvSpPr>
          <p:spPr>
            <a:xfrm rot="20056200">
              <a:off x="74019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"/>
            <p:cNvSpPr/>
            <p:nvPr/>
          </p:nvSpPr>
          <p:spPr>
            <a:xfrm rot="20056200">
              <a:off x="28306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8"/>
            <p:cNvSpPr/>
            <p:nvPr/>
          </p:nvSpPr>
          <p:spPr>
            <a:xfrm rot="20056200">
              <a:off x="56775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9"/>
            <p:cNvSpPr/>
            <p:nvPr/>
          </p:nvSpPr>
          <p:spPr>
            <a:xfrm rot="20056200">
              <a:off x="18820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0"/>
            <p:cNvSpPr/>
            <p:nvPr/>
          </p:nvSpPr>
          <p:spPr>
            <a:xfrm>
              <a:off x="37926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"/>
            <p:cNvSpPr/>
            <p:nvPr/>
          </p:nvSpPr>
          <p:spPr>
            <a:xfrm>
              <a:off x="12621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2"/>
            <p:cNvSpPr/>
            <p:nvPr/>
          </p:nvSpPr>
          <p:spPr>
            <a:xfrm>
              <a:off x="21502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3"/>
            <p:cNvSpPr/>
            <p:nvPr/>
          </p:nvSpPr>
          <p:spPr>
            <a:xfrm>
              <a:off x="49446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4"/>
            <p:cNvSpPr/>
            <p:nvPr/>
          </p:nvSpPr>
          <p:spPr>
            <a:xfrm>
              <a:off x="67842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15267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41338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70884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52858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9"/>
            <p:cNvSpPr/>
            <p:nvPr/>
          </p:nvSpPr>
          <p:spPr>
            <a:xfrm>
              <a:off x="24447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33487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>
              <a:off x="24127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AutoShape 22"/>
            <p:cNvCxnSpPr/>
            <p:nvPr/>
          </p:nvCxnSpPr>
          <p:spPr>
            <a:xfrm flipH="1">
              <a:off x="4708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7" name="Text Box 23"/>
            <p:cNvSpPr/>
            <p:nvPr/>
          </p:nvSpPr>
          <p:spPr>
            <a:xfrm>
              <a:off x="3301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0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0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1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6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19692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cfdfe"/>
              </a:gs>
              <a:gs pos="100000">
                <a:srgbClr val="99bc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858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858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858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2:27Z</dcterms:created>
  <dc:creator>Admin</dc:creator>
  <dc:description/>
  <dc:language>en-US</dc:language>
  <cp:lastModifiedBy>Anh Hung Pro</cp:lastModifiedBy>
  <dcterms:modified xsi:type="dcterms:W3CDTF">2016-09-06T16:38:18Z</dcterms:modified>
  <cp:revision>2</cp:revision>
  <dc:subject/>
  <dc:title>PowerPoint Template</dc:title>
</cp:coreProperties>
</file>