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E3018-03BF-4C80-929D-EC779137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9EFA6-C61E-4F3A-AEC4-565ABDD3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B294D-C51E-410D-BE3C-B34AB9BD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1493E-DE72-4013-AA07-336AEC1B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96805-07FE-4832-9F49-FEF94544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70A2E-03B0-43DE-B931-C4FAB374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5461F-C522-4947-BEAB-DE076A24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72EB-F579-4041-B000-8ACBF383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C5AB0-827C-4EA3-BDB1-F5EF706F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35436-600A-434B-BBD3-CA4C5EBE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859C-A64E-457F-A014-50C2110F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8D248-EF29-46F6-9932-9A3C96A7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60958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6572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2609-0D31-49D3-B435-C91F4BAA3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380520" y="6629040"/>
            <a:ext cx="2514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250920" y="260280"/>
            <a:ext cx="8642160" cy="4824360"/>
            <a:chOff x="250920" y="260280"/>
            <a:chExt cx="864216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250920" y="260280"/>
              <a:ext cx="864216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4075200" y="2122560"/>
              <a:ext cx="5724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849240" y="25322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835200" y="2525760"/>
              <a:ext cx="792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849240" y="255096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968400" y="24955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1623960" y="2333520"/>
              <a:ext cx="111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273320" y="2320920"/>
              <a:ext cx="1080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239840" y="2363760"/>
              <a:ext cx="1764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378080" y="23400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487520" y="2309760"/>
              <a:ext cx="1584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469880" y="2400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450800" y="2316240"/>
              <a:ext cx="190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417680" y="2344680"/>
              <a:ext cx="111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457280" y="2538360"/>
              <a:ext cx="468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487520" y="24163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1533600" y="2430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163520" y="2381400"/>
              <a:ext cx="4140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147680" y="215100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147680" y="217800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117440" y="2249640"/>
              <a:ext cx="792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130400" y="2206800"/>
              <a:ext cx="172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152360" y="2333520"/>
              <a:ext cx="223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130400" y="2430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141560" y="244332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204920" y="2430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297080" y="2435400"/>
              <a:ext cx="61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371600" y="2344680"/>
              <a:ext cx="648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457280" y="2568600"/>
              <a:ext cx="468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1595520" y="2435400"/>
              <a:ext cx="3492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1665360" y="1585800"/>
              <a:ext cx="468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1658880" y="150660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1670040" y="1338120"/>
              <a:ext cx="64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1658880" y="13510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1533600" y="145404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273320" y="182736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355760" y="150660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405080" y="1398600"/>
              <a:ext cx="1908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434960" y="1351080"/>
              <a:ext cx="3492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476360" y="138744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1509840" y="1428840"/>
              <a:ext cx="172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1577880" y="1338120"/>
              <a:ext cx="1296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1595520" y="1308240"/>
              <a:ext cx="61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3562200" y="2273400"/>
              <a:ext cx="241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3206880" y="3087720"/>
              <a:ext cx="111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3075120" y="2538360"/>
              <a:ext cx="1141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3114720" y="2978280"/>
              <a:ext cx="2376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2994120" y="2967120"/>
              <a:ext cx="2376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2954160" y="2941560"/>
              <a:ext cx="2880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2901960" y="2967120"/>
              <a:ext cx="648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2897280" y="299088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3086280" y="2978280"/>
              <a:ext cx="1080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3097080" y="296712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3127320" y="310500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2913120" y="2284560"/>
              <a:ext cx="4608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2855880" y="2327400"/>
              <a:ext cx="334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2584440" y="2784600"/>
              <a:ext cx="4140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2735280" y="280368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2730600" y="28353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2625840" y="27082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2792520" y="2381400"/>
              <a:ext cx="331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2735280" y="2443320"/>
              <a:ext cx="3960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2711520" y="2478240"/>
              <a:ext cx="2376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2654280" y="2585880"/>
              <a:ext cx="2376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2557440" y="27129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2297160" y="2682720"/>
              <a:ext cx="22536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1994040" y="2604960"/>
              <a:ext cx="3780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1832040" y="2797200"/>
              <a:ext cx="2844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1873080" y="272556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1873080" y="274968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1889280" y="2682720"/>
              <a:ext cx="172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1941480" y="26290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1930320" y="26100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1917720" y="2598840"/>
              <a:ext cx="126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1900080" y="2585880"/>
              <a:ext cx="1116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1779480" y="2719440"/>
              <a:ext cx="64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1768320" y="281628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1968480" y="3298680"/>
              <a:ext cx="1908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217600" y="3073320"/>
              <a:ext cx="180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130480" y="3111480"/>
              <a:ext cx="871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1982880" y="3182760"/>
              <a:ext cx="14760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1987560" y="27925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016000" y="2381400"/>
              <a:ext cx="18900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2327400" y="298440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2463840" y="30337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2511360" y="2917800"/>
              <a:ext cx="334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2579760" y="2859120"/>
              <a:ext cx="223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2614680" y="283536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2631960" y="2797200"/>
              <a:ext cx="3492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2682720" y="277344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2884320" y="2967120"/>
              <a:ext cx="504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2994120" y="3092400"/>
              <a:ext cx="1260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3006720" y="306216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3044880" y="3021120"/>
              <a:ext cx="612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3063960" y="30081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3241800" y="328608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3274920" y="3298680"/>
              <a:ext cx="1908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3309840" y="3322800"/>
              <a:ext cx="64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3294000" y="3238560"/>
              <a:ext cx="111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3218040" y="2381400"/>
              <a:ext cx="42048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3678120" y="2151000"/>
              <a:ext cx="21276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3943440" y="229068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3811680" y="2792520"/>
              <a:ext cx="633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3833640" y="2568600"/>
              <a:ext cx="24624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3863880" y="2779560"/>
              <a:ext cx="4464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4035600" y="2435400"/>
              <a:ext cx="13176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049400" y="2610000"/>
              <a:ext cx="2376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268280" y="2657520"/>
              <a:ext cx="6840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182600" y="256212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187280" y="2502000"/>
              <a:ext cx="2880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762120" y="2055960"/>
              <a:ext cx="12528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865080" y="1911240"/>
              <a:ext cx="1843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1681200" y="2808360"/>
              <a:ext cx="8244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1924200" y="3906720"/>
              <a:ext cx="14904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4138560" y="4732200"/>
              <a:ext cx="9864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3660840" y="3394080"/>
              <a:ext cx="172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3597120" y="3182760"/>
              <a:ext cx="6372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3546360" y="3365640"/>
              <a:ext cx="5076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3638520" y="3352680"/>
              <a:ext cx="2844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3645000" y="3413160"/>
              <a:ext cx="10944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3368520" y="3460680"/>
              <a:ext cx="21780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4064040" y="3691080"/>
              <a:ext cx="22392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3855960" y="3635280"/>
              <a:ext cx="21276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3465360" y="3960720"/>
              <a:ext cx="87480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3494160" y="3816360"/>
              <a:ext cx="3492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3551400" y="3822840"/>
              <a:ext cx="34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3586320" y="3840120"/>
              <a:ext cx="2376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3597120" y="3809880"/>
              <a:ext cx="6984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3051000" y="3503520"/>
              <a:ext cx="23508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3281400" y="3773520"/>
              <a:ext cx="1951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3672000" y="3816360"/>
              <a:ext cx="10476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7324560" y="3152880"/>
              <a:ext cx="3492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7297560" y="3182760"/>
              <a:ext cx="13212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7056360" y="3100320"/>
              <a:ext cx="24624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7445520" y="3219480"/>
              <a:ext cx="5220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5956200" y="1989000"/>
              <a:ext cx="1764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5530680" y="199548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912960" y="720720"/>
              <a:ext cx="407484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5086440" y="1216080"/>
              <a:ext cx="27986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6022800" y="549360"/>
              <a:ext cx="1861920" cy="1240920"/>
              <a:chOff x="6022800" y="549360"/>
              <a:chExt cx="1861920" cy="1240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7825320" y="1012680"/>
                <a:ext cx="38160" cy="2772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7177320" y="704160"/>
                <a:ext cx="707400" cy="108612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7842240" y="9687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7803720" y="1045440"/>
                <a:ext cx="19800" cy="313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7814520" y="1111320"/>
                <a:ext cx="58320" cy="7776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6870960" y="1182960"/>
                <a:ext cx="447120" cy="53064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6762240" y="1574640"/>
                <a:ext cx="129960" cy="1000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6698160" y="726480"/>
                <a:ext cx="48960" cy="1548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6438960" y="1040760"/>
                <a:ext cx="134640" cy="20304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6670440" y="1062720"/>
                <a:ext cx="110160" cy="17676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6022800" y="1018800"/>
                <a:ext cx="168120" cy="18612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6114600" y="1106640"/>
                <a:ext cx="371880" cy="30816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6125040" y="752760"/>
                <a:ext cx="188280" cy="15012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6309000" y="686880"/>
                <a:ext cx="39240" cy="4248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6351840" y="626040"/>
                <a:ext cx="110160" cy="6876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6348600" y="715320"/>
                <a:ext cx="95040" cy="5292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6234120" y="890640"/>
                <a:ext cx="27360" cy="453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6228000" y="925200"/>
                <a:ext cx="183600" cy="14688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6522120" y="704160"/>
                <a:ext cx="31680" cy="8280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6438960" y="820080"/>
                <a:ext cx="119160" cy="1472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6564600" y="914040"/>
                <a:ext cx="62640" cy="7632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6644160" y="885960"/>
                <a:ext cx="267840" cy="15912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6498720" y="549360"/>
                <a:ext cx="139320" cy="17064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6665760" y="621360"/>
                <a:ext cx="65880" cy="8928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6870960" y="636840"/>
                <a:ext cx="114840" cy="2426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6486480" y="1327320"/>
                <a:ext cx="81000" cy="7200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6535440" y="665280"/>
                <a:ext cx="53640" cy="3240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6471360" y="780840"/>
                <a:ext cx="27360" cy="2772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6514560" y="798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6557040" y="71532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6319440" y="825120"/>
                <a:ext cx="29160" cy="90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6892560" y="1058040"/>
                <a:ext cx="96480" cy="7164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6961320" y="1399320"/>
                <a:ext cx="38160" cy="4860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6832800" y="169020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6897240" y="1723320"/>
                <a:ext cx="15120" cy="435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6961320" y="1657800"/>
                <a:ext cx="29160" cy="3240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6946200" y="599760"/>
                <a:ext cx="372240" cy="44100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611280" y="2602080"/>
              <a:ext cx="142056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2692440" y="3608280"/>
              <a:ext cx="936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Text Box 14"/>
          <p:cNvSpPr/>
          <p:nvPr/>
        </p:nvSpPr>
        <p:spPr>
          <a:xfrm>
            <a:off x="4025880" y="586728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Freeform 381"/>
          <p:cNvSpPr/>
          <p:nvPr/>
        </p:nvSpPr>
        <p:spPr>
          <a:xfrm>
            <a:off x="2124000" y="12682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AutoShape 384"/>
          <p:cNvSpPr/>
          <p:nvPr/>
        </p:nvSpPr>
        <p:spPr>
          <a:xfrm>
            <a:off x="152388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PowerPoint </a:t>
            </a:r>
            <a:br>
              <a:rPr sz="2400"/>
            </a:br>
            <a:r>
              <a:rPr b="1" i="1" lang="en-US" sz="7200" spc="-1" strike="noStrike">
                <a:solidFill>
                  <a:srgbClr val="1f5281"/>
                </a:solidFill>
                <a:latin typeface="Verdana"/>
              </a:rPr>
              <a:t>Template</a:t>
            </a:r>
            <a:endParaRPr b="1" i="1" lang="en-US" sz="7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10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411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12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413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26652"/>
                  </a:gs>
                  <a:gs pos="100000">
                    <a:srgbClr val="23473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4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aca1"/>
                  </a:gs>
                  <a:gs pos="50000">
                    <a:srgbClr val="326652">
                      <a:alpha val="0"/>
                    </a:srgbClr>
                  </a:gs>
                  <a:gs pos="100000">
                    <a:srgbClr val="8faca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5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16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17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418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19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420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5a4cb"/>
                  </a:gs>
                  <a:gs pos="100000">
                    <a:srgbClr val="1481b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1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cae1"/>
                  </a:gs>
                  <a:gs pos="100000">
                    <a:srgbClr val="1481b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2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23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1f528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24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425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26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427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3c968"/>
                  </a:gs>
                  <a:gs pos="100000">
                    <a:srgbClr val="baaa1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8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68c"/>
                  </a:gs>
                  <a:gs pos="100000">
                    <a:srgbClr val="baaa1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9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30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33" name="Freeform 3"/>
          <p:cNvSpPr/>
          <p:nvPr/>
        </p:nvSpPr>
        <p:spPr>
          <a:xfrm>
            <a:off x="11430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32665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5867280" y="37339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 rot="20876400">
            <a:off x="324000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6" name="Oval 35"/>
          <p:cNvSpPr/>
          <p:nvPr/>
        </p:nvSpPr>
        <p:spPr>
          <a:xfrm>
            <a:off x="317196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7" name="Oval 36"/>
          <p:cNvSpPr/>
          <p:nvPr/>
        </p:nvSpPr>
        <p:spPr>
          <a:xfrm>
            <a:off x="319248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8" name="Oval 37"/>
          <p:cNvSpPr/>
          <p:nvPr/>
        </p:nvSpPr>
        <p:spPr>
          <a:xfrm>
            <a:off x="320976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9" name="Oval 38"/>
          <p:cNvSpPr/>
          <p:nvPr/>
        </p:nvSpPr>
        <p:spPr>
          <a:xfrm>
            <a:off x="330192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0" name="Text Box 39"/>
          <p:cNvSpPr/>
          <p:nvPr/>
        </p:nvSpPr>
        <p:spPr>
          <a:xfrm>
            <a:off x="358956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1" name="Oval 40"/>
          <p:cNvSpPr/>
          <p:nvPr/>
        </p:nvSpPr>
        <p:spPr>
          <a:xfrm rot="20826600">
            <a:off x="139716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42" name="Group 41"/>
          <p:cNvGrpSpPr/>
          <p:nvPr/>
        </p:nvGrpSpPr>
        <p:grpSpPr>
          <a:xfrm>
            <a:off x="1320840" y="3371760"/>
            <a:ext cx="1371240" cy="1441080"/>
            <a:chOff x="1320840" y="3371760"/>
            <a:chExt cx="1371240" cy="1441080"/>
          </a:xfrm>
        </p:grpSpPr>
        <p:sp>
          <p:nvSpPr>
            <p:cNvPr id="443" name="Oval 42"/>
            <p:cNvSpPr/>
            <p:nvPr/>
          </p:nvSpPr>
          <p:spPr>
            <a:xfrm>
              <a:off x="132084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4" name="Oval 43"/>
            <p:cNvSpPr/>
            <p:nvPr/>
          </p:nvSpPr>
          <p:spPr>
            <a:xfrm>
              <a:off x="133848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5" name="Oval 44"/>
            <p:cNvSpPr/>
            <p:nvPr/>
          </p:nvSpPr>
          <p:spPr>
            <a:xfrm>
              <a:off x="135180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6" name="Oval 45"/>
            <p:cNvSpPr/>
            <p:nvPr/>
          </p:nvSpPr>
          <p:spPr>
            <a:xfrm>
              <a:off x="142344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7" name="Text Box 46"/>
            <p:cNvSpPr/>
            <p:nvPr/>
          </p:nvSpPr>
          <p:spPr>
            <a:xfrm>
              <a:off x="160128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448" name="Oval 47"/>
          <p:cNvSpPr/>
          <p:nvPr/>
        </p:nvSpPr>
        <p:spPr>
          <a:xfrm>
            <a:off x="12193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9" name="Oval 48"/>
          <p:cNvSpPr/>
          <p:nvPr/>
        </p:nvSpPr>
        <p:spPr>
          <a:xfrm>
            <a:off x="1295280" y="200016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0" name="Oval 49"/>
          <p:cNvSpPr/>
          <p:nvPr/>
        </p:nvSpPr>
        <p:spPr>
          <a:xfrm>
            <a:off x="13082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1" name="Oval 50"/>
          <p:cNvSpPr/>
          <p:nvPr/>
        </p:nvSpPr>
        <p:spPr>
          <a:xfrm>
            <a:off x="131904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2" name="Oval 51"/>
          <p:cNvSpPr/>
          <p:nvPr/>
        </p:nvSpPr>
        <p:spPr>
          <a:xfrm>
            <a:off x="137304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3" name="Text Box 52"/>
          <p:cNvSpPr/>
          <p:nvPr/>
        </p:nvSpPr>
        <p:spPr>
          <a:xfrm>
            <a:off x="14925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4" name="Oval 53"/>
          <p:cNvSpPr/>
          <p:nvPr/>
        </p:nvSpPr>
        <p:spPr>
          <a:xfrm>
            <a:off x="248616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5" name="Oval 54"/>
          <p:cNvSpPr/>
          <p:nvPr/>
        </p:nvSpPr>
        <p:spPr>
          <a:xfrm>
            <a:off x="260820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6" name="Oval 55"/>
          <p:cNvSpPr/>
          <p:nvPr/>
        </p:nvSpPr>
        <p:spPr>
          <a:xfrm>
            <a:off x="2617920" y="154620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7" name="Oval 56"/>
          <p:cNvSpPr/>
          <p:nvPr/>
        </p:nvSpPr>
        <p:spPr>
          <a:xfrm>
            <a:off x="2624040" y="1552680"/>
            <a:ext cx="63360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8" name="Oval 57"/>
          <p:cNvSpPr/>
          <p:nvPr/>
        </p:nvSpPr>
        <p:spPr>
          <a:xfrm>
            <a:off x="2660760" y="15717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9" name="Text Box 58"/>
          <p:cNvSpPr/>
          <p:nvPr/>
        </p:nvSpPr>
        <p:spPr>
          <a:xfrm>
            <a:off x="267876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463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266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4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465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1f52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66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67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8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469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470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4f480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474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6895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75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6895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477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478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22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0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482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483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481b8"/>
                    </a:gs>
                    <a:gs pos="100000">
                      <a:srgbClr val="78b6d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481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487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488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ccce"/>
                    </a:gs>
                    <a:gs pos="100000">
                      <a:srgbClr val="555d5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cc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492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493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26652"/>
                    </a:gs>
                    <a:gs pos="100000">
                      <a:srgbClr val="172e2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266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96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c888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7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c888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98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499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d3b2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0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8322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502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54d0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3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a53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04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4da0c9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5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4da0c9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6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7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8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9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0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514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5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6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7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8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9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20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521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2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3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4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5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26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7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28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529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0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1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2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3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4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5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6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7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8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9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0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1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42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543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4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5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6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47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548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49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0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1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2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53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4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5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6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52280" y="3238560"/>
            <a:ext cx="8839440" cy="113760"/>
            <a:chOff x="152280" y="3238560"/>
            <a:chExt cx="8839440" cy="113760"/>
          </a:xfrm>
        </p:grpSpPr>
        <p:sp>
          <p:nvSpPr>
            <p:cNvPr id="560" name="Rectangle 4"/>
            <p:cNvSpPr/>
            <p:nvPr/>
          </p:nvSpPr>
          <p:spPr>
            <a:xfrm>
              <a:off x="152280" y="3238560"/>
              <a:ext cx="8839440" cy="44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1" name="Rectangle 5"/>
            <p:cNvSpPr/>
            <p:nvPr/>
          </p:nvSpPr>
          <p:spPr>
            <a:xfrm>
              <a:off x="152280" y="3282120"/>
              <a:ext cx="8839440" cy="7020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62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563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564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5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567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8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69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70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1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2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3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4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75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576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7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8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9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581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582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83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585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86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88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89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90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91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592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93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4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5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6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97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598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599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0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602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3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04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605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6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7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8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9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10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611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2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3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4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15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616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617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8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620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21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22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623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4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5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6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7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28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629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0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1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2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4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5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6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7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8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9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40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41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642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3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4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5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646" name="AutoShape 90"/>
            <p:cNvCxnSpPr>
              <a:stCxn id="642" idx="3"/>
              <a:endCxn id="643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AutoShape 91"/>
            <p:cNvCxnSpPr>
              <a:stCxn id="643" idx="3"/>
              <a:endCxn id="644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651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652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92156"/>
                  </a:srgbClr>
                </a:gs>
                <a:gs pos="100000">
                  <a:srgbClr val="093c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3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172f26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54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655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56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57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658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ce88"/>
                </a:gs>
                <a:gs pos="100000">
                  <a:srgbClr val="475f3f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59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660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1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2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664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5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6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81b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8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e8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9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6652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72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9ce88"/>
              </a:gs>
              <a:gs pos="100000">
                <a:srgbClr val="475f3f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3" name="Text Box 4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4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326652"/>
              </a:gs>
              <a:gs pos="100000">
                <a:srgbClr val="172f2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baaa12"/>
              </a:gs>
              <a:gs pos="100000">
                <a:srgbClr val="564f0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8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1481b8"/>
              </a:gs>
              <a:gs pos="100000">
                <a:srgbClr val="093c5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0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1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2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3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4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5" name="Text Box 16"/>
          <p:cNvSpPr/>
          <p:nvPr/>
        </p:nvSpPr>
        <p:spPr>
          <a:xfrm>
            <a:off x="281304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7" name="Text Box 18"/>
          <p:cNvSpPr/>
          <p:nvPr/>
        </p:nvSpPr>
        <p:spPr>
          <a:xfrm>
            <a:off x="67932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838080" y="223524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0920"/>
                <a:gridCol w="11509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f5281"/>
                      </a:solidFill>
                    </a:lnR>
                    <a:lnT>
                      <a:noFill/>
                    </a:lnT>
                    <a:lnB w="5760">
                      <a:solidFill>
                        <a:srgbClr val="1f52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93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accc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4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81b8"/>
              </a:gs>
              <a:gs pos="50000">
                <a:srgbClr val="68aed1"/>
              </a:gs>
              <a:gs pos="100000">
                <a:srgbClr val="1481b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96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97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98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99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766c0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02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03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704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705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42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706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481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07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8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09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710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711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a34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712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266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13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4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15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716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717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718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2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21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724" name="Group 21"/>
          <p:cNvGrpSpPr/>
          <p:nvPr/>
        </p:nvGrpSpPr>
        <p:grpSpPr>
          <a:xfrm>
            <a:off x="1249560" y="1455120"/>
            <a:ext cx="6599160" cy="4675680"/>
            <a:chOff x="1249560" y="1455120"/>
            <a:chExt cx="6599160" cy="4675680"/>
          </a:xfrm>
        </p:grpSpPr>
        <p:sp>
          <p:nvSpPr>
            <p:cNvPr id="725" name="Oval 3"/>
            <p:cNvSpPr/>
            <p:nvPr/>
          </p:nvSpPr>
          <p:spPr>
            <a:xfrm>
              <a:off x="22860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6" name="Oval 4"/>
            <p:cNvSpPr/>
            <p:nvPr/>
          </p:nvSpPr>
          <p:spPr>
            <a:xfrm rot="20601600">
              <a:off x="15606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7" name="Oval 5"/>
            <p:cNvSpPr/>
            <p:nvPr/>
          </p:nvSpPr>
          <p:spPr>
            <a:xfrm rot="20601600">
              <a:off x="1617480" y="219024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8" name="Arc 6"/>
            <p:cNvSpPr/>
            <p:nvPr/>
          </p:nvSpPr>
          <p:spPr>
            <a:xfrm rot="20601600">
              <a:off x="42735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6aafd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9" name="Arc 7"/>
            <p:cNvSpPr/>
            <p:nvPr/>
          </p:nvSpPr>
          <p:spPr>
            <a:xfrm flipH="1" rot="20602200">
              <a:off x="1861200" y="3954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34739"/>
                </a:gs>
                <a:gs pos="100000">
                  <a:srgbClr val="32665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0" name="Arc 8"/>
            <p:cNvSpPr/>
            <p:nvPr/>
          </p:nvSpPr>
          <p:spPr>
            <a:xfrm rot="20601600">
              <a:off x="28702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9bcae1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1" name="Arc 9"/>
            <p:cNvSpPr/>
            <p:nvPr/>
          </p:nvSpPr>
          <p:spPr>
            <a:xfrm flipH="1" rot="20602200">
              <a:off x="15181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aa12"/>
                </a:gs>
                <a:gs pos="100000">
                  <a:srgbClr val="564f0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2" name="Freeform 10"/>
            <p:cNvSpPr/>
            <p:nvPr/>
          </p:nvSpPr>
          <p:spPr>
            <a:xfrm>
              <a:off x="56116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1e9c9"/>
                </a:gs>
                <a:gs pos="100000">
                  <a:srgbClr val="99ce8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3" name="Arc 11"/>
            <p:cNvSpPr/>
            <p:nvPr/>
          </p:nvSpPr>
          <p:spPr>
            <a:xfrm rot="20539200">
              <a:off x="46562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75f3f"/>
                </a:gs>
                <a:gs pos="100000">
                  <a:srgbClr val="99ce88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4" name="Freeform 12"/>
            <p:cNvSpPr/>
            <p:nvPr/>
          </p:nvSpPr>
          <p:spPr>
            <a:xfrm>
              <a:off x="46227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1e9c9"/>
                </a:gs>
                <a:gs pos="100000">
                  <a:srgbClr val="99ce8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5" name="Oval 13"/>
            <p:cNvSpPr/>
            <p:nvPr/>
          </p:nvSpPr>
          <p:spPr>
            <a:xfrm rot="20601600">
              <a:off x="30780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6" name="Text Box 14"/>
            <p:cNvSpPr/>
            <p:nvPr/>
          </p:nvSpPr>
          <p:spPr>
            <a:xfrm>
              <a:off x="20689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7" name="Text Box 15"/>
            <p:cNvSpPr/>
            <p:nvPr/>
          </p:nvSpPr>
          <p:spPr>
            <a:xfrm>
              <a:off x="39740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8" name="Text Box 16"/>
            <p:cNvSpPr/>
            <p:nvPr/>
          </p:nvSpPr>
          <p:spPr>
            <a:xfrm>
              <a:off x="58028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9" name="Text Box 17"/>
            <p:cNvSpPr/>
            <p:nvPr/>
          </p:nvSpPr>
          <p:spPr>
            <a:xfrm>
              <a:off x="54979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0" name="Text Box 18"/>
            <p:cNvSpPr/>
            <p:nvPr/>
          </p:nvSpPr>
          <p:spPr>
            <a:xfrm>
              <a:off x="32882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1" name="Freeform 19"/>
            <p:cNvSpPr/>
            <p:nvPr/>
          </p:nvSpPr>
          <p:spPr>
            <a:xfrm>
              <a:off x="45417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19215"/>
                  </a:srgbClr>
                </a:gs>
                <a:gs pos="100000">
                  <a:srgbClr val="62a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2" name="Oval 20"/>
            <p:cNvSpPr/>
            <p:nvPr/>
          </p:nvSpPr>
          <p:spPr>
            <a:xfrm rot="20601600">
              <a:off x="31798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0" name="AutoShape 71"/>
          <p:cNvSpPr/>
          <p:nvPr/>
        </p:nvSpPr>
        <p:spPr>
          <a:xfrm>
            <a:off x="2514600" y="18716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dcd"/>
              </a:gs>
              <a:gs pos="100000">
                <a:srgbClr val="baaa12"/>
              </a:gs>
            </a:gsLst>
            <a:lin ang="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1" name="Text Box 73"/>
          <p:cNvSpPr/>
          <p:nvPr/>
        </p:nvSpPr>
        <p:spPr>
          <a:xfrm>
            <a:off x="2743200" y="1927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2" name="AutoShape 76"/>
          <p:cNvSpPr/>
          <p:nvPr/>
        </p:nvSpPr>
        <p:spPr>
          <a:xfrm>
            <a:off x="2514600" y="263376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5e6"/>
              </a:gs>
              <a:gs pos="100000">
                <a:srgbClr val="99ce88"/>
              </a:gs>
            </a:gsLst>
            <a:lin ang="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Text Box 78"/>
          <p:cNvSpPr/>
          <p:nvPr/>
        </p:nvSpPr>
        <p:spPr>
          <a:xfrm>
            <a:off x="2743200" y="2689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AutoShape 81"/>
          <p:cNvSpPr/>
          <p:nvPr/>
        </p:nvSpPr>
        <p:spPr>
          <a:xfrm>
            <a:off x="2514600" y="33955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4f5"/>
              </a:gs>
              <a:gs pos="100000">
                <a:srgbClr val="baccce"/>
              </a:gs>
            </a:gsLst>
            <a:lin ang="0"/>
          </a:gradFill>
          <a:ln w="12600">
            <a:solidFill>
              <a:srgbClr val="baccce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5" name="Text Box 83"/>
          <p:cNvSpPr/>
          <p:nvPr/>
        </p:nvSpPr>
        <p:spPr>
          <a:xfrm>
            <a:off x="2743200" y="345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AutoShape 90"/>
          <p:cNvSpPr/>
          <p:nvPr/>
        </p:nvSpPr>
        <p:spPr>
          <a:xfrm>
            <a:off x="2514600" y="41911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dcd"/>
              </a:gs>
              <a:gs pos="100000">
                <a:srgbClr val="baaa12"/>
              </a:gs>
            </a:gsLst>
            <a:lin ang="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7" name="Text Box 91"/>
          <p:cNvSpPr/>
          <p:nvPr/>
        </p:nvSpPr>
        <p:spPr>
          <a:xfrm>
            <a:off x="2743200" y="4246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8" name="AutoShape 92"/>
          <p:cNvSpPr/>
          <p:nvPr/>
        </p:nvSpPr>
        <p:spPr>
          <a:xfrm>
            <a:off x="2514600" y="49528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5e6"/>
              </a:gs>
              <a:gs pos="100000">
                <a:srgbClr val="99ce88"/>
              </a:gs>
            </a:gsLst>
            <a:lin ang="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9" name="Text Box 93"/>
          <p:cNvSpPr/>
          <p:nvPr/>
        </p:nvSpPr>
        <p:spPr>
          <a:xfrm>
            <a:off x="2743200" y="5008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2133360" y="485748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44" name="WordArt 4"/>
          <p:cNvSpPr txBox="1"/>
          <p:nvPr/>
        </p:nvSpPr>
        <p:spPr>
          <a:xfrm>
            <a:off x="161928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8840" y="1482840"/>
            <a:ext cx="7824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aaa12"/>
              </a:gs>
              <a:gs pos="100000">
                <a:srgbClr val="d3c96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b4d7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29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29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29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3f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9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7c7e0"/>
                  </a:gs>
                  <a:gs pos="100000">
                    <a:srgbClr val="1481b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9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564f08"/>
                </a:gs>
                <a:gs pos="100000">
                  <a:srgbClr val="baaa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aaa12">
                    <a:alpha val="0"/>
                  </a:srgbClr>
                </a:gs>
                <a:gs pos="100000">
                  <a:srgbClr val="e7e1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93870e"/>
                </a:gs>
                <a:gs pos="100000">
                  <a:srgbClr val="baaa1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aa1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9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57150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304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af0f0">
                    <a:alpha val="36078"/>
                  </a:srgbClr>
                </a:gs>
                <a:gs pos="100000">
                  <a:srgbClr val="baccce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5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6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7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8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9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0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1481b8"/>
                </a:gs>
                <a:gs pos="100000">
                  <a:srgbClr val="072d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1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326652"/>
                </a:gs>
                <a:gs pos="100000">
                  <a:srgbClr val="1020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2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aaa12"/>
                </a:gs>
                <a:gs pos="100000">
                  <a:srgbClr val="423d0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3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4249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4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9ce88"/>
                </a:gs>
                <a:gs pos="100000">
                  <a:srgbClr val="3547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5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6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7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8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9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5281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1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f52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322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f5281"/>
              </a:solidFill>
              <a:miter/>
            </a:ln>
          </p:spPr>
        </p:cxnSp>
        <p:sp>
          <p:nvSpPr>
            <p:cNvPr id="323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327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2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565e5f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5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7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65e5f">
                    <a:alpha val="12156"/>
                  </a:srgbClr>
                </a:gs>
                <a:gs pos="100000">
                  <a:srgbClr val="bacc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d3dfe0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1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2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93c55"/>
                </a:gs>
                <a:gs pos="50000">
                  <a:srgbClr val="1481b8"/>
                </a:gs>
                <a:gs pos="100000">
                  <a:srgbClr val="093c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3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4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3dfe0">
                    <a:alpha val="12156"/>
                  </a:srgbClr>
                </a:gs>
                <a:gs pos="100000">
                  <a:srgbClr val="bacc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348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349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0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1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2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3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4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481b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5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6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0b4664"/>
                  </a:gs>
                  <a:gs pos="50000">
                    <a:srgbClr val="1481b8"/>
                  </a:gs>
                  <a:gs pos="100000">
                    <a:srgbClr val="0b466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7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358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9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0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1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2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3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4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5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5281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6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7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8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9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0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1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74" name="Line 3"/>
          <p:cNvSpPr/>
          <p:nvPr/>
        </p:nvSpPr>
        <p:spPr>
          <a:xfrm flipH="1">
            <a:off x="873000" y="5402160"/>
            <a:ext cx="1657440" cy="180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5" name="Line 4"/>
          <p:cNvSpPr/>
          <p:nvPr/>
        </p:nvSpPr>
        <p:spPr>
          <a:xfrm flipH="1">
            <a:off x="873000" y="4564080"/>
            <a:ext cx="24386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6" name="Line 5"/>
          <p:cNvSpPr/>
          <p:nvPr/>
        </p:nvSpPr>
        <p:spPr>
          <a:xfrm flipH="1">
            <a:off x="873000" y="3733920"/>
            <a:ext cx="33530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 flipH="1">
            <a:off x="872640" y="2905200"/>
            <a:ext cx="416556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 flipH="1">
            <a:off x="873000" y="2063880"/>
            <a:ext cx="50342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1025640" y="2057400"/>
            <a:ext cx="0" cy="871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1025640" y="2928960"/>
            <a:ext cx="0" cy="817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1025640" y="374652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2" name="Line 11"/>
          <p:cNvSpPr/>
          <p:nvPr/>
        </p:nvSpPr>
        <p:spPr>
          <a:xfrm>
            <a:off x="1025640" y="456408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1224720" y="23814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1224720" y="32083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1224720" y="4071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1224720" y="48783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387" name="Group 16"/>
          <p:cNvGrpSpPr/>
          <p:nvPr/>
        </p:nvGrpSpPr>
        <p:grpSpPr>
          <a:xfrm>
            <a:off x="2590920" y="2066760"/>
            <a:ext cx="5825520" cy="3343320"/>
            <a:chOff x="2590920" y="2066760"/>
            <a:chExt cx="5825520" cy="3343320"/>
          </a:xfrm>
        </p:grpSpPr>
        <p:sp>
          <p:nvSpPr>
            <p:cNvPr id="388" name="Freeform 17"/>
            <p:cNvSpPr/>
            <p:nvPr/>
          </p:nvSpPr>
          <p:spPr>
            <a:xfrm>
              <a:off x="7834320" y="206676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64f08"/>
                </a:gs>
                <a:gs pos="50000">
                  <a:srgbClr val="baaa12"/>
                </a:gs>
                <a:gs pos="100000">
                  <a:srgbClr val="564f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9" name="Freeform 18"/>
            <p:cNvSpPr/>
            <p:nvPr/>
          </p:nvSpPr>
          <p:spPr>
            <a:xfrm>
              <a:off x="5073480" y="206676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baa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0" name="Freeform 19"/>
            <p:cNvSpPr/>
            <p:nvPr/>
          </p:nvSpPr>
          <p:spPr>
            <a:xfrm>
              <a:off x="7254720" y="289872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93c55"/>
                </a:gs>
                <a:gs pos="50000">
                  <a:srgbClr val="1481b8"/>
                </a:gs>
                <a:gs pos="100000">
                  <a:srgbClr val="093c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1" name="Freeform 20"/>
            <p:cNvSpPr/>
            <p:nvPr/>
          </p:nvSpPr>
          <p:spPr>
            <a:xfrm>
              <a:off x="4243320" y="289872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148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2" name="Freeform 21"/>
            <p:cNvSpPr/>
            <p:nvPr/>
          </p:nvSpPr>
          <p:spPr>
            <a:xfrm>
              <a:off x="6673680" y="373068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3" name="Freeform 22"/>
            <p:cNvSpPr/>
            <p:nvPr/>
          </p:nvSpPr>
          <p:spPr>
            <a:xfrm>
              <a:off x="6095880" y="456408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50000">
                  <a:srgbClr val="76998c"/>
                </a:gs>
                <a:gs pos="100000">
                  <a:srgbClr val="3266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4" name="Freeform 23"/>
            <p:cNvSpPr/>
            <p:nvPr/>
          </p:nvSpPr>
          <p:spPr>
            <a:xfrm>
              <a:off x="2592360" y="456876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82a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5" name="Freeform 24"/>
            <p:cNvSpPr/>
            <p:nvPr/>
          </p:nvSpPr>
          <p:spPr>
            <a:xfrm>
              <a:off x="3184560" y="222084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6" name="Rectangle 25"/>
            <p:cNvSpPr/>
            <p:nvPr/>
          </p:nvSpPr>
          <p:spPr>
            <a:xfrm>
              <a:off x="5079960" y="260820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877b0d"/>
                </a:gs>
                <a:gs pos="50000">
                  <a:srgbClr val="baaa12"/>
                </a:gs>
                <a:gs pos="100000">
                  <a:srgbClr val="877b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7" name="Rectangle 26"/>
            <p:cNvSpPr/>
            <p:nvPr/>
          </p:nvSpPr>
          <p:spPr>
            <a:xfrm>
              <a:off x="4244760" y="343836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0f5e85"/>
                </a:gs>
                <a:gs pos="50000">
                  <a:srgbClr val="1481b8"/>
                </a:gs>
                <a:gs pos="100000">
                  <a:srgbClr val="0f5e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8" name="Freeform 27"/>
            <p:cNvSpPr/>
            <p:nvPr/>
          </p:nvSpPr>
          <p:spPr>
            <a:xfrm>
              <a:off x="3419280" y="373068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9c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9" name="Rectangle 28"/>
            <p:cNvSpPr/>
            <p:nvPr/>
          </p:nvSpPr>
          <p:spPr>
            <a:xfrm>
              <a:off x="3422520" y="427356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f9563"/>
                </a:gs>
                <a:gs pos="50000">
                  <a:srgbClr val="99ce88"/>
                </a:gs>
                <a:gs pos="100000">
                  <a:srgbClr val="6f95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00" name="Rectangle 29"/>
            <p:cNvSpPr/>
            <p:nvPr/>
          </p:nvSpPr>
          <p:spPr>
            <a:xfrm>
              <a:off x="2590920" y="511020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26652"/>
                </a:gs>
                <a:gs pos="50000">
                  <a:srgbClr val="9bb5ab"/>
                </a:gs>
                <a:gs pos="100000">
                  <a:srgbClr val="3266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32665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4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aaa12"/>
              </a:gs>
              <a:gs pos="100000">
                <a:srgbClr val="cfc45a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481b8"/>
              </a:gs>
              <a:gs pos="100000">
                <a:srgbClr val="5ba7c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0:45Z</dcterms:created>
  <dc:creator>Admin</dc:creator>
  <dc:description/>
  <dc:language>en-US</dc:language>
  <cp:lastModifiedBy>Anh Hung Pro</cp:lastModifiedBy>
  <dcterms:modified xsi:type="dcterms:W3CDTF">2016-09-08T14:42:27Z</dcterms:modified>
  <cp:revision>2</cp:revision>
  <dc:subject/>
  <dc:title>PowerPoint  Template</dc:title>
</cp:coreProperties>
</file>