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799-5782-448C-8775-A73D84FA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020-3015-48F6-8C35-3E4705F3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E9E-316A-4040-9BDD-651CF6F7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F8E-D76A-4064-A3D1-1311031E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6E4F-989B-470F-8E2A-8EDEE317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40E3-2B8D-42CE-9F4D-2436C8B5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FC77-D2DF-4BFA-BFC1-E80B800C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F858-A8FB-4507-AD38-F081C766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68A8-1465-4038-93D4-FFF5CA48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76C9-161B-41F4-BDAE-EDBFF299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ADF8-BF2B-42D1-8A35-45666C3F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4A5-1FF5-43CC-96F9-57430730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803B-CAF9-47F4-B37B-5068D58A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A501-38F3-4042-BA93-6347D20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674A-4A88-49EC-9907-9EF4FD2B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0248-72EF-4206-82B5-5E359E8C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DF14-4387-4A75-B231-B0575CF9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CBD-9ED0-416D-A056-54965AD1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FBA-957A-4C81-BEE3-910D0078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694-1D0B-4715-8A75-146C8851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A2F-2061-4498-925F-6B6E40C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BEB-9120-4685-BA8D-149414FC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211-3337-4639-97D8-88EEF7D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CC4-F6E8-4279-B514-3C246EB2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00F9-F465-42D0-9DCA-395FA5EDAE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61D6-E7EA-49AF-A69A-B9FDF4657D2A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3948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732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5080" cy="178344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048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01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5320"/>
            <a:ext cx="6437160" cy="1388880"/>
            <a:chOff x="1112040" y="1705320"/>
            <a:chExt cx="6437160" cy="138888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308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96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636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220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400" cy="2705400"/>
              <a:chOff x="3051000" y="1905120"/>
              <a:chExt cx="296640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080" y="2952000"/>
                <a:ext cx="46188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160" y="2901240"/>
                <a:ext cx="4586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600" y="4304880"/>
                <a:ext cx="4503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6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89840" y="2040480"/>
                <a:ext cx="21038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83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3680" y="2166480"/>
                <a:ext cx="18568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8:34Z</dcterms:created>
  <dc:creator>Admin</dc:creator>
  <dc:description/>
  <dc:language>en-US</dc:language>
  <cp:lastModifiedBy>Nga</cp:lastModifiedBy>
  <dcterms:modified xsi:type="dcterms:W3CDTF">2017-09-15T08:57:41Z</dcterms:modified>
  <cp:revision>3</cp:revision>
  <dc:subject/>
  <dc:title> PowerPoint Template</dc:title>
</cp:coreProperties>
</file>