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BCBC-32DC-42BF-831F-F3022E9F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D1DD-6DCF-4393-9C51-EDFEE817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6366-E591-41D8-9556-EBDD0512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909C3-5B6E-430C-BC1B-BE100C74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4E5C-7271-45D9-B86B-B4563054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BCA54-D5CF-4B3D-AA29-1251D642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3DF78-F3A5-4282-B3A2-70AB5B5D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A5F3-B5EC-47AB-ACBC-F8B618A8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1E62E-D82C-4042-91AF-E356D324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D81FD-1A95-4E17-A027-62A65212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DAF68-312A-4B4B-893E-A03298E7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E425A-F580-4D0D-BA6E-70DB08A0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8AC3-68B7-4572-8009-BAD2A5E09E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1680" y="4647960"/>
            <a:ext cx="9175680" cy="101268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ẫu Slide PowerPoin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7538a"/>
              </a:gs>
              <a:gs pos="50000">
                <a:srgbClr val="6699ff"/>
              </a:gs>
              <a:gs pos="100000">
                <a:srgbClr val="37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61a2"/>
              </a:gs>
              <a:gs pos="100000">
                <a:srgbClr val="66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9999">
                  <a:alpha val="32156"/>
                </a:srgbClr>
              </a:gs>
              <a:gs pos="100000">
                <a:srgbClr val="0047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5353"/>
              </a:gs>
              <a:gs pos="50000">
                <a:srgbClr val="009999"/>
              </a:gs>
              <a:gs pos="100000">
                <a:srgbClr val="0053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6161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Freeform 4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314" name="Oval 35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5" name="Oval 36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319284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7" name="Oval 38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8" name="Oval 39"/>
            <p:cNvSpPr/>
            <p:nvPr/>
          </p:nvSpPr>
          <p:spPr>
            <a:xfrm>
              <a:off x="330228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9" name="Text Box 40"/>
            <p:cNvSpPr/>
            <p:nvPr/>
          </p:nvSpPr>
          <p:spPr>
            <a:xfrm>
              <a:off x="358992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 rot="20826600">
              <a:off x="139716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21" name="Group 42"/>
            <p:cNvGrpSpPr/>
            <p:nvPr/>
          </p:nvGrpSpPr>
          <p:grpSpPr>
            <a:xfrm>
              <a:off x="1321200" y="3219480"/>
              <a:ext cx="1371240" cy="1441080"/>
              <a:chOff x="1321200" y="3219480"/>
              <a:chExt cx="1371240" cy="1441080"/>
            </a:xfrm>
          </p:grpSpPr>
          <p:sp>
            <p:nvSpPr>
              <p:cNvPr id="322" name="Oval 43"/>
              <p:cNvSpPr/>
              <p:nvPr/>
            </p:nvSpPr>
            <p:spPr>
              <a:xfrm>
                <a:off x="132120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3" name="Oval 44"/>
              <p:cNvSpPr/>
              <p:nvPr/>
            </p:nvSpPr>
            <p:spPr>
              <a:xfrm>
                <a:off x="133884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4" name="Oval 45"/>
              <p:cNvSpPr/>
              <p:nvPr/>
            </p:nvSpPr>
            <p:spPr>
              <a:xfrm>
                <a:off x="135216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5" name="Oval 46"/>
              <p:cNvSpPr/>
              <p:nvPr/>
            </p:nvSpPr>
            <p:spPr>
              <a:xfrm>
                <a:off x="142380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6" name="Text Box 47"/>
              <p:cNvSpPr/>
              <p:nvPr/>
            </p:nvSpPr>
            <p:spPr>
              <a:xfrm>
                <a:off x="160164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27" name="Oval 48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0" name="Oval 51"/>
            <p:cNvSpPr/>
            <p:nvPr/>
          </p:nvSpPr>
          <p:spPr>
            <a:xfrm>
              <a:off x="131940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2" name="Text Box 53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7" name="Oval 58"/>
            <p:cNvSpPr/>
            <p:nvPr/>
          </p:nvSpPr>
          <p:spPr>
            <a:xfrm>
              <a:off x="266076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8" name="Text Box 59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43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4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5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6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7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48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49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2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54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5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6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7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60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1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2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3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4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65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66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7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8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9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1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71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72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3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4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5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6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7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8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9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0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1" name="Text Box 42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8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8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92" name="Text Box 53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9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9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9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40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40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" name="Text Box 66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10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2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3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4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5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16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17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8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9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0" name="Oval 14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1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22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24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25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6" name="AutoShape 20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7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8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9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1" name="Oval 25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2" name="Oval 26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3" name="Oval 27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6" name="AutoShape 30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7" name="AutoShape 31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38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39" name="AutoShape 33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0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1" name="AutoShape 35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2" name="AutoShape 36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43" name="Group 37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44" name="Oval 38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5" name="Oval 39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6" name="Oval 40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7" name="Oval 41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8" name="Oval 42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49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0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1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2" name="AutoShape 46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4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57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60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61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2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64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5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67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9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1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72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73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4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5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6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78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79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0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82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3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5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7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8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489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90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1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2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3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94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95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96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7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99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0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02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3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4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5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6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07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08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9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0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1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13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14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5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17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8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20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1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2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3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4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25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26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7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8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9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1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2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3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4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5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6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7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38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39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0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1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2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543" name="AutoShape 90"/>
            <p:cNvCxnSpPr>
              <a:stCxn id="539" idx="3"/>
              <a:endCxn id="54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AutoShape 91"/>
            <p:cNvCxnSpPr>
              <a:stCxn id="540" idx="3"/>
              <a:endCxn id="54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550" name="Oval 4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1" name="Oval 5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2" name="Oval 6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3" name="Oval 7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4" name="Rectangle 8"/>
            <p:cNvSpPr/>
            <p:nvPr/>
          </p:nvSpPr>
          <p:spPr>
            <a:xfrm rot="13770000">
              <a:off x="4917600" y="3687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3867120" y="1929240"/>
              <a:ext cx="1706400" cy="1836360"/>
              <a:chOff x="3867120" y="1929240"/>
              <a:chExt cx="1706400" cy="1836360"/>
            </a:xfrm>
          </p:grpSpPr>
          <p:sp>
            <p:nvSpPr>
              <p:cNvPr id="557" name="Rectangle 11"/>
              <p:cNvSpPr/>
              <p:nvPr/>
            </p:nvSpPr>
            <p:spPr>
              <a:xfrm rot="18394200">
                <a:off x="5043960" y="2142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558" name="Group 12"/>
              <p:cNvGrpSpPr/>
              <p:nvPr/>
            </p:nvGrpSpPr>
            <p:grpSpPr>
              <a:xfrm>
                <a:off x="3867120" y="2174760"/>
                <a:ext cx="1609560" cy="1590840"/>
                <a:chOff x="3867120" y="2174760"/>
                <a:chExt cx="1609560" cy="1590840"/>
              </a:xfrm>
            </p:grpSpPr>
            <p:sp>
              <p:nvSpPr>
                <p:cNvPr id="559" name="Oval 13"/>
                <p:cNvSpPr/>
                <p:nvPr/>
              </p:nvSpPr>
              <p:spPr>
                <a:xfrm>
                  <a:off x="3867120" y="2174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4"/>
                <p:cNvSpPr/>
                <p:nvPr/>
              </p:nvSpPr>
              <p:spPr>
                <a:xfrm>
                  <a:off x="4051080" y="22010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Text Box 15"/>
              <p:cNvSpPr/>
              <p:nvPr/>
            </p:nvSpPr>
            <p:spPr>
              <a:xfrm>
                <a:off x="3953880" y="2867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6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563" name="Group 17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564" name="Oval 18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9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20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21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568" name="Group 22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569" name="Oval 23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f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24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25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6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573" name="Group 27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574" name="Oval 28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853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9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30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84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85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87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8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9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0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2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93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4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5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6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7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8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99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0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1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2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603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04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8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0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1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838080" y="2241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618" name="Group 2"/>
          <p:cNvGrpSpPr/>
          <p:nvPr/>
        </p:nvGrpSpPr>
        <p:grpSpPr>
          <a:xfrm>
            <a:off x="1254240" y="1378800"/>
            <a:ext cx="6599160" cy="4675680"/>
            <a:chOff x="1254240" y="1378800"/>
            <a:chExt cx="6599160" cy="4675680"/>
          </a:xfrm>
        </p:grpSpPr>
        <p:sp>
          <p:nvSpPr>
            <p:cNvPr id="619" name="Oval 3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0" name="Oval 4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1" name="Oval 5"/>
            <p:cNvSpPr/>
            <p:nvPr/>
          </p:nvSpPr>
          <p:spPr>
            <a:xfrm rot="20601600">
              <a:off x="1621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2" name="Arc 6"/>
            <p:cNvSpPr/>
            <p:nvPr/>
          </p:nvSpPr>
          <p:spPr>
            <a:xfrm rot="20601600">
              <a:off x="4278240" y="20030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3" name="Arc 7"/>
            <p:cNvSpPr/>
            <p:nvPr/>
          </p:nvSpPr>
          <p:spPr>
            <a:xfrm flipH="1" rot="20602200">
              <a:off x="1865880" y="38782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006b6b"/>
                </a:gs>
                <a:gs pos="100000">
                  <a:srgbClr val="00999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4" name="Arc 8"/>
            <p:cNvSpPr/>
            <p:nvPr/>
          </p:nvSpPr>
          <p:spPr>
            <a:xfrm rot="20601600">
              <a:off x="2874960" y="20491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4a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5" name="Arc 9"/>
            <p:cNvSpPr/>
            <p:nvPr/>
          </p:nvSpPr>
          <p:spPr>
            <a:xfrm flipH="1" rot="20602200">
              <a:off x="1522800" y="26431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7" name="Arc 11"/>
            <p:cNvSpPr/>
            <p:nvPr/>
          </p:nvSpPr>
          <p:spPr>
            <a:xfrm rot="20539200">
              <a:off x="4660920" y="29350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9" name="Oval 13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0" name="Text Box 14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1" name="Text Box 15"/>
            <p:cNvSpPr/>
            <p:nvPr/>
          </p:nvSpPr>
          <p:spPr>
            <a:xfrm>
              <a:off x="3978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3" name="Text Box 17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4" name="Text Box 18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5" name="Freeform 19"/>
            <p:cNvSpPr/>
            <p:nvPr/>
          </p:nvSpPr>
          <p:spPr>
            <a:xfrm>
              <a:off x="4546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9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6" name="Oval 20"/>
            <p:cNvSpPr/>
            <p:nvPr/>
          </p:nvSpPr>
          <p:spPr>
            <a:xfrm rot="20601600">
              <a:off x="3184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9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42" name="AutoShape 4"/>
            <p:cNvSpPr/>
            <p:nvPr/>
          </p:nvSpPr>
          <p:spPr>
            <a:xfrm>
              <a:off x="10666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bddff"/>
                </a:gs>
              </a:gsLst>
              <a:lin ang="5400000"/>
            </a:gradFill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3" name="Object 5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5" name="AutoShape 6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6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7" name="AutoShape 8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8" name="AutoShape 9"/>
            <p:cNvSpPr/>
            <p:nvPr/>
          </p:nvSpPr>
          <p:spPr>
            <a:xfrm>
              <a:off x="451944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8efef"/>
                </a:gs>
              </a:gsLst>
              <a:lin ang="5400000"/>
            </a:gra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9" name="Object 10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1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2" name="AutoShape 12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1" name="AutoShape 47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AutoShape 52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7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8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9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" name="Oval 56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2" name="Oval 58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4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5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7" name="Oval 63"/>
            <p:cNvSpPr/>
            <p:nvPr/>
          </p:nvSpPr>
          <p:spPr>
            <a:xfrm>
              <a:off x="2022120" y="27381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8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9" name="Oval 65"/>
            <p:cNvSpPr/>
            <p:nvPr/>
          </p:nvSpPr>
          <p:spPr>
            <a:xfrm>
              <a:off x="2041560" y="2757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0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1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2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" name="Oval 70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5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6" name="Oval 72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7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8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9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0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1" name="Oval 77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2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4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25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6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7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8" name="Oval 84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9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0" name="Oval 86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1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2286000" y="58672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5" name="WordArt 5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63794"/>
                    </a:gs>
                    <a:gs pos="100000">
                      <a:srgbClr val="00999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63794"/>
                  </a:gs>
                  <a:gs pos="100000">
                    <a:srgbClr val="00999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be5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e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2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4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d2ff"/>
                  </a:gs>
                  <a:gs pos="100000">
                    <a:srgbClr val="66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4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a6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007979"/>
                </a:gs>
                <a:gs pos="100000">
                  <a:srgbClr val="00999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5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9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77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miter/>
            </a:ln>
          </p:spPr>
        </p:cxnSp>
        <p:sp>
          <p:nvSpPr>
            <p:cNvPr id="178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20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7538a"/>
                  </a:gs>
                  <a:gs pos="50000">
                    <a:srgbClr val="6699ff"/>
                  </a:gs>
                  <a:gs pos="100000">
                    <a:srgbClr val="37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45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6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50000">
                  <a:srgbClr val="990000"/>
                </a:gs>
                <a:gs pos="100000">
                  <a:srgbClr val="47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f0000"/>
                </a:gs>
                <a:gs pos="50000">
                  <a:srgbClr val="990000"/>
                </a:gs>
                <a:gs pos="100000">
                  <a:srgbClr val="6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a6fb9"/>
                </a:gs>
                <a:gs pos="50000">
                  <a:srgbClr val="6699ff"/>
                </a:gs>
                <a:gs pos="100000">
                  <a:srgbClr val="4a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6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6f6f"/>
                </a:gs>
                <a:gs pos="5000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84d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4b8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0:44Z</dcterms:created>
  <dc:creator>Admin</dc:creator>
  <dc:description/>
  <dc:language>en-US</dc:language>
  <cp:lastModifiedBy>Anh Hung Pro</cp:lastModifiedBy>
  <dcterms:modified xsi:type="dcterms:W3CDTF">2016-09-06T14:46:54Z</dcterms:modified>
  <cp:revision>2</cp:revision>
  <dc:subject/>
  <dc:title>PowerPoint Template</dc:title>
</cp:coreProperties>
</file>