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DCB-6AA1-4544-BDD3-2AF1E9AE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014-598A-4BC7-90DC-B2834943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739-7851-4091-B1E8-F6D5DB2D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A3F-91B4-4979-8CDE-3235C934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4EC-C00D-4038-BCA0-0C9676F0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EE6-C850-49ED-8CDE-89792D04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6DA-CE56-4080-BB95-0BDC89C1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5A3-8B60-4EA5-9014-69341225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904-C9BB-4BCE-8DE4-62F9316F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98D0-9296-43E3-910F-C27C1BAD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AE1-8C48-45FD-AB3F-825D21FD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9EF-D5F9-41A9-9056-1101E0FA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A537-4B7D-4B67-B481-91CB1CC91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19664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09T20:40:13Z</dcterms:modified>
  <cp:revision>38</cp:revision>
  <dc:subject/>
  <dc:title>Texto</dc:title>
</cp:coreProperties>
</file>