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849A-16F0-4A67-9542-0BB52FD8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FED6-DFEF-488A-BDAD-D74524B4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63F2-5F9A-4D25-95EB-2E4A02DD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8ABA-83DB-4B09-80E1-FFAC4C7E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5D74-E9ED-4F2C-BC8B-3FA51B2F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7676-76E6-44C8-8BEE-A51CC92A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C3A8-41FE-4CAB-845E-36B23787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EE78-3611-491B-8DD5-3B66D15F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4F96-E337-470F-8BA9-E8F17A3C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C753-D33D-414F-93C7-2422E5AB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933-513D-43A9-9163-4329F218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B331-E694-44B6-87EC-F248BDE8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32CB-A6B6-4574-AD51-45D02B082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1196640"/>
            <a:ext cx="540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09T20:40:13Z</dcterms:modified>
  <cp:revision>38</cp:revision>
  <dc:subject/>
  <dc:title>Texto</dc:title>
</cp:coreProperties>
</file>