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4554-F58C-4EA2-9954-4EDB8324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769E-EE71-47C2-A7F3-EB4A5E98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6768-04E7-4DD3-9372-31C014B3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88E3-FC91-46C3-B397-9E5D64C7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E977-B39C-45CB-B244-50076C46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ADEF-9257-48FC-893A-A7B0E2D7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DCAF-41A6-43A5-BFCF-72B2B186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DB5E-6276-4E6B-A8D7-E1810C79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C8ED-9662-450F-92B8-65F5606C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AD6A-5715-435D-978E-BA710FDD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59EA-7BB3-4B6E-9302-DEC44D3A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54E3-CD87-4AAB-AC9B-853A24AC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6C96-EFCD-43D1-90BC-4A1F1C458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1196640"/>
            <a:ext cx="540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09T20:40:13Z</dcterms:modified>
  <cp:revision>38</cp:revision>
  <dc:subject/>
  <dc:title>Texto</dc:title>
</cp:coreProperties>
</file>