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6B3-DCA8-464B-AAA3-65162FB3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035-B4C1-4D59-B2C0-FAB8CA4A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9C8-DED3-4917-BD5A-3D4D496D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71D-97CF-4BEB-930B-42B6CC90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BA7F-081C-413C-B82F-508D17B6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0A31-2F4E-41A3-9489-54658631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7C40-F427-4D0D-A1AF-BD4AA6D8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18EA-3FB0-4708-B43A-F26A1B61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F0B-DBDA-48FF-8D2C-DD28DC24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E1B6-7DFB-4BDA-A68A-FE8B9F8C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B351-0DC5-48B7-B1D0-B314C28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2B7-5E48-4F61-955B-E8C725F0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AE5A-CF8A-4E9B-8F72-9A76B3A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DF8D-4494-48E0-A287-4E9B96BA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2AE0-30FF-4709-9083-8F15D3A6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FE73-CF33-4F34-95C3-675F8B2E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228C-1A23-4E08-9043-A5FD0134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D12D-4C47-42AB-9B92-50D9E467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BF8AB-6140-4699-A791-D2486CD2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A559-F5E4-4E25-800A-A9564444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2DA0-F867-4E42-94CD-6E6781E4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EED1-B873-47F7-88B4-162B99BB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650-1DF3-4518-96D5-D8CAB75A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C9ED-EFA5-41E4-A596-DC0C677A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3A84-07E0-4C35-8402-B2145DC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702F-158B-46B7-9707-F06646F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53B1-D995-46D1-8021-C4C7CDE8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8F88-E5A5-4BF6-B368-D22EADF4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47D1-8571-4913-8E0A-61B55AEA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8B68-33FD-45A7-A6B6-85A1ACBC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181-9D15-4433-BA12-AA3E7489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EF3-C167-481E-A443-0D792125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655-BC49-4DE2-AA1F-32620C46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3E1-3985-4608-B7DD-5A2E67DB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031-6BD3-4E52-AE46-459DFCF7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087-7F2D-42AA-AAC9-5B66AE09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BE2A-296D-4E97-99BC-A4889C2A9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9BA5-5970-4711-9AFB-E7990CB52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3"/>
          <a:srcRect l="6790" t="0" r="21202" b="0"/>
          <a:stretch/>
        </p:blipFill>
        <p:spPr>
          <a:xfrm>
            <a:off x="0" y="468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1936-59FA-48D7-89E0-7976C44C1DA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40DB-0734-4DD5-9013-083653ACAB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le 7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9185-F94D-45E9-AD50-C563CC075B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085E-9080-4D47-8063-DB725F7F2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6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4ec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36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4ec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14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71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3065"/>
              </a:gs>
              <a:gs pos="100000">
                <a:srgbClr val="f14d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2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3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7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2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9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98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5b200"/>
              </a:gs>
              <a:gs pos="100000">
                <a:srgbClr val="9bd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2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7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8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9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0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55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229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9405"/>
              </a:gs>
              <a:gs pos="100000">
                <a:srgbClr val="fea0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3:2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