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F20D-77BB-4C53-B322-179DD0A7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1A04-2966-459B-A34D-917FEB71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49A8-0105-492F-815E-BD336BAE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6A46-13D1-4221-A063-35ED604B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370A-F6F0-40AF-84AF-5EA9785A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0661-C73A-4EA3-AD3A-55F96741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1D12-A960-4A7C-B211-2C5C5F18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8392-F462-4384-8D41-0DEC115C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FC27-67CF-4940-90F5-DAC2AD52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A109-BDD4-4E35-9B1C-7C501032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86C9-A3DA-446A-89BD-8ED373EA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E56A-BC07-463A-9BB9-44CC8793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749E-95F6-492B-8C42-EEB96DE2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EF0D-878F-4B99-BD08-75A12DAD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4EA9-5C8E-4CD0-83D6-AA426D2D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CFFB-0AD4-4626-B9E4-72C488C9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0362-2251-4253-92D1-AE479269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1AE3D-ABB2-4981-92AB-C59732D6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B42A7-2893-4BEE-9260-37E5AFC2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514A9-B953-4CBA-AFBC-5E94B31B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784EC-DCB1-46C9-9DB3-0B04933F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9A0C0-7A6A-4BAF-BA57-287494BB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A32B-6D84-4C78-90B1-9F875BAD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59770-FE4A-43EF-935D-22A6FFA7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B87A9-2B7F-4AE7-B2AD-4979E08B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88F9A-EB2E-4B71-B6F4-6EAEB814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3CFC0-1605-4335-99C4-F8C4B216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C7AD1-BFED-4316-9753-5C51D297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CAF62-3D2D-4CD6-B996-067210B7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BEDA7-4D8B-442D-AF44-90DA267B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D998-B4EF-46FD-B699-F6894B4E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FB43-CDBE-48E2-A73D-9BFD27EA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E844-0C85-4DFB-9A71-76B6776E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AEE1-9CAE-4A67-8C04-AC89BA6D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4F5F-5BC0-40F8-88D0-93C99676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B5C4-2E70-4225-84AE-6843BBE9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4906-0FDC-4621-A672-6B7E097374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97BA-016B-4732-8DA4-9786E2701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3"/>
          <a:srcRect l="6884" t="0" r="21082" b="0"/>
          <a:stretch/>
        </p:blipFill>
        <p:spPr>
          <a:xfrm>
            <a:off x="0" y="507960"/>
            <a:ext cx="9144000" cy="584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3"/>
          <a:srcRect l="6790" t="0" r="21202" b="0"/>
          <a:stretch/>
        </p:blipFill>
        <p:spPr>
          <a:xfrm>
            <a:off x="0" y="468360"/>
            <a:ext cx="9144000" cy="584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F150-DAAE-47A9-A68B-3E225CC1AE51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2052-1A0D-4306-8151-9EB9854DE71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3"/>
          <a:srcRect l="6884" t="0" r="21082" b="0"/>
          <a:stretch/>
        </p:blipFill>
        <p:spPr>
          <a:xfrm>
            <a:off x="0" y="507960"/>
            <a:ext cx="9144000" cy="5840280"/>
          </a:xfrm>
          <a:prstGeom prst="rect">
            <a:avLst/>
          </a:prstGeom>
          <a:ln w="0">
            <a:noFill/>
          </a:ln>
        </p:spPr>
      </p:pic>
      <p:sp>
        <p:nvSpPr>
          <p:cNvPr id="85" name="Rounded Rectangle 7"/>
          <p:cNvSpPr/>
          <p:nvPr/>
        </p:nvSpPr>
        <p:spPr>
          <a:xfrm>
            <a:off x="160200" y="144360"/>
            <a:ext cx="8831520" cy="6561360"/>
          </a:xfrm>
          <a:prstGeom prst="roundRect">
            <a:avLst>
              <a:gd name="adj" fmla="val 3912"/>
            </a:avLst>
          </a:prstGeom>
          <a:noFill/>
          <a:ln w="1260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D8C2-92A7-4888-8E59-EC42761CCC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CE43-959C-4369-B867-79C8752C32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6"/>
          <p:cNvSpPr/>
          <p:nvPr/>
        </p:nvSpPr>
        <p:spPr>
          <a:xfrm>
            <a:off x="-7920" y="4792680"/>
            <a:ext cx="9159840" cy="297000"/>
          </a:xfrm>
          <a:prstGeom prst="rect">
            <a:avLst/>
          </a:prstGeom>
          <a:gradFill rotWithShape="0">
            <a:gsLst>
              <a:gs pos="0">
                <a:srgbClr val="8a8a8a">
                  <a:alpha val="0"/>
                </a:srgbClr>
              </a:gs>
              <a:gs pos="100000">
                <a:srgbClr val="b0b0b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2"/>
          <p:cNvSpPr/>
          <p:nvPr/>
        </p:nvSpPr>
        <p:spPr>
          <a:xfrm>
            <a:off x="939960" y="2048040"/>
            <a:ext cx="2098440" cy="3647880"/>
          </a:xfrm>
          <a:prstGeom prst="pie">
            <a:avLst/>
          </a:prstGeom>
          <a:solidFill>
            <a:srgbClr val="206c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5"/>
          <p:cNvSpPr/>
          <p:nvPr/>
        </p:nvSpPr>
        <p:spPr>
          <a:xfrm>
            <a:off x="231444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30a2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52"/>
          <p:cNvSpPr/>
          <p:nvPr/>
        </p:nvSpPr>
        <p:spPr>
          <a:xfrm flipH="1">
            <a:off x="6099120" y="2048040"/>
            <a:ext cx="2100240" cy="3647880"/>
          </a:xfrm>
          <a:prstGeom prst="pie">
            <a:avLst/>
          </a:prstGeom>
          <a:solidFill>
            <a:srgbClr val="206c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53"/>
          <p:cNvSpPr/>
          <p:nvPr/>
        </p:nvSpPr>
        <p:spPr>
          <a:xfrm flipH="1">
            <a:off x="524340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30a2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3559320" y="1225440"/>
            <a:ext cx="2033280" cy="4473720"/>
          </a:xfrm>
          <a:custGeom>
            <a:avLst/>
            <a:gdLst/>
            <a:ahLst/>
            <a:rect l="l" t="t" r="r" b="b"/>
            <a:pathLst>
              <a:path w="1676400" h="4473575">
                <a:moveTo>
                  <a:pt x="269875" y="3175"/>
                </a:moveTo>
                <a:lnTo>
                  <a:pt x="1387572" y="0"/>
                </a:lnTo>
                <a:cubicBezTo>
                  <a:pt x="1389656" y="1189567"/>
                  <a:pt x="1391741" y="2379133"/>
                  <a:pt x="1393825" y="3568700"/>
                </a:cubicBezTo>
                <a:cubicBezTo>
                  <a:pt x="1397000" y="3821642"/>
                  <a:pt x="1422400" y="3849158"/>
                  <a:pt x="1498600" y="4032250"/>
                </a:cubicBezTo>
                <a:lnTo>
                  <a:pt x="1676400" y="4473575"/>
                </a:lnTo>
                <a:lnTo>
                  <a:pt x="0" y="4470400"/>
                </a:lnTo>
                <a:lnTo>
                  <a:pt x="203200" y="3946525"/>
                </a:lnTo>
                <a:cubicBezTo>
                  <a:pt x="263525" y="3798358"/>
                  <a:pt x="266700" y="3802592"/>
                  <a:pt x="269875" y="3454400"/>
                </a:cubicBezTo>
                <a:lnTo>
                  <a:pt x="269875" y="3175"/>
                </a:lnTo>
                <a:close/>
              </a:path>
            </a:pathLst>
          </a:custGeom>
          <a:solidFill>
            <a:srgbClr val="4eca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Group 13" descr=""/>
          <p:cNvPicPr/>
          <p:nvPr/>
        </p:nvPicPr>
        <p:blipFill>
          <a:blip r:embed="rId1"/>
          <a:stretch/>
        </p:blipFill>
        <p:spPr>
          <a:xfrm>
            <a:off x="4200480" y="1263600"/>
            <a:ext cx="727200" cy="73980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7"/>
          <p:cNvGrpSpPr/>
          <p:nvPr/>
        </p:nvGrpSpPr>
        <p:grpSpPr>
          <a:xfrm>
            <a:off x="3222720" y="1916280"/>
            <a:ext cx="474480" cy="438120"/>
            <a:chOff x="3222720" y="1916280"/>
            <a:chExt cx="474480" cy="438120"/>
          </a:xfrm>
        </p:grpSpPr>
        <p:sp>
          <p:nvSpPr>
            <p:cNvPr id="136" name="Frame 15"/>
            <p:cNvSpPr/>
            <p:nvPr/>
          </p:nvSpPr>
          <p:spPr>
            <a:xfrm>
              <a:off x="3222720" y="1916280"/>
              <a:ext cx="474480" cy="321120"/>
            </a:xfrm>
            <a:custGeom>
              <a:avLst/>
              <a:gdLst/>
              <a:ahLst/>
              <a:rect l="l" t="t" r="r" b="b"/>
              <a:pathLst>
                <a:path w="473869" h="320675">
                  <a:moveTo>
                    <a:pt x="0" y="0"/>
                  </a:moveTo>
                  <a:lnTo>
                    <a:pt x="473869" y="0"/>
                  </a:lnTo>
                  <a:lnTo>
                    <a:pt x="473869" y="320675"/>
                  </a:lnTo>
                  <a:lnTo>
                    <a:pt x="0" y="320675"/>
                  </a:lnTo>
                  <a:close/>
                  <a:moveTo>
                    <a:pt x="40084" y="40084"/>
                  </a:moveTo>
                  <a:lnTo>
                    <a:pt x="40084" y="280590"/>
                  </a:lnTo>
                  <a:lnTo>
                    <a:pt x="433784" y="280590"/>
                  </a:lnTo>
                  <a:lnTo>
                    <a:pt x="433784" y="400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16"/>
            <p:cNvSpPr/>
            <p:nvPr/>
          </p:nvSpPr>
          <p:spPr>
            <a:xfrm>
              <a:off x="3345480" y="2237400"/>
              <a:ext cx="2289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tangle 68"/>
            <p:cNvSpPr/>
            <p:nvPr/>
          </p:nvSpPr>
          <p:spPr>
            <a:xfrm>
              <a:off x="3292200" y="2308680"/>
              <a:ext cx="3351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9" name="Group 20" descr=""/>
          <p:cNvPicPr/>
          <p:nvPr/>
        </p:nvPicPr>
        <p:blipFill>
          <a:blip r:embed="rId2"/>
          <a:stretch/>
        </p:blipFill>
        <p:spPr>
          <a:xfrm>
            <a:off x="5419800" y="1920960"/>
            <a:ext cx="579240" cy="425520"/>
          </a:xfrm>
          <a:prstGeom prst="rect">
            <a:avLst/>
          </a:prstGeom>
          <a:ln w="0">
            <a:noFill/>
          </a:ln>
        </p:spPr>
      </p:pic>
      <p:sp>
        <p:nvSpPr>
          <p:cNvPr id="140" name="Freeform 73"/>
          <p:cNvSpPr/>
          <p:nvPr/>
        </p:nvSpPr>
        <p:spPr>
          <a:xfrm>
            <a:off x="6446880" y="2311560"/>
            <a:ext cx="276120" cy="444240"/>
          </a:xfrm>
          <a:custGeom>
            <a:avLst/>
            <a:gdLst/>
            <a:ahLst/>
            <a:rect l="l" t="t" r="r" b="b"/>
            <a:pathLst>
              <a:path w="726997" h="1164431">
                <a:moveTo>
                  <a:pt x="709613" y="273844"/>
                </a:moveTo>
                <a:lnTo>
                  <a:pt x="566738" y="423862"/>
                </a:lnTo>
                <a:cubicBezTo>
                  <a:pt x="491332" y="357187"/>
                  <a:pt x="432593" y="326231"/>
                  <a:pt x="350043" y="326231"/>
                </a:cubicBezTo>
                <a:cubicBezTo>
                  <a:pt x="228599" y="327025"/>
                  <a:pt x="233363" y="434974"/>
                  <a:pt x="350044" y="447675"/>
                </a:cubicBezTo>
                <a:cubicBezTo>
                  <a:pt x="499269" y="481012"/>
                  <a:pt x="648494" y="502444"/>
                  <a:pt x="709613" y="652462"/>
                </a:cubicBezTo>
                <a:cubicBezTo>
                  <a:pt x="777081" y="874712"/>
                  <a:pt x="637382" y="1001711"/>
                  <a:pt x="476250" y="1040605"/>
                </a:cubicBezTo>
                <a:cubicBezTo>
                  <a:pt x="477044" y="1087436"/>
                  <a:pt x="477837" y="1117599"/>
                  <a:pt x="478631" y="1164430"/>
                </a:cubicBezTo>
                <a:lnTo>
                  <a:pt x="271463" y="1164431"/>
                </a:lnTo>
                <a:lnTo>
                  <a:pt x="271463" y="1038225"/>
                </a:lnTo>
                <a:cubicBezTo>
                  <a:pt x="154781" y="1016794"/>
                  <a:pt x="57151" y="966787"/>
                  <a:pt x="0" y="866775"/>
                </a:cubicBezTo>
                <a:lnTo>
                  <a:pt x="145256" y="733424"/>
                </a:lnTo>
                <a:cubicBezTo>
                  <a:pt x="223837" y="803274"/>
                  <a:pt x="311944" y="851694"/>
                  <a:pt x="438150" y="828675"/>
                </a:cubicBezTo>
                <a:cubicBezTo>
                  <a:pt x="558006" y="793750"/>
                  <a:pt x="508794" y="704055"/>
                  <a:pt x="376238" y="681037"/>
                </a:cubicBezTo>
                <a:cubicBezTo>
                  <a:pt x="191295" y="646906"/>
                  <a:pt x="34926" y="596106"/>
                  <a:pt x="28576" y="371475"/>
                </a:cubicBezTo>
                <a:cubicBezTo>
                  <a:pt x="50007" y="242887"/>
                  <a:pt x="147638" y="145256"/>
                  <a:pt x="271463" y="128587"/>
                </a:cubicBezTo>
                <a:lnTo>
                  <a:pt x="271463" y="0"/>
                </a:lnTo>
                <a:lnTo>
                  <a:pt x="466725" y="0"/>
                </a:lnTo>
                <a:lnTo>
                  <a:pt x="471488" y="128587"/>
                </a:lnTo>
                <a:cubicBezTo>
                  <a:pt x="573882" y="150812"/>
                  <a:pt x="661989" y="208756"/>
                  <a:pt x="709613" y="2738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5-Point Star 81"/>
          <p:cNvSpPr/>
          <p:nvPr/>
        </p:nvSpPr>
        <p:spPr>
          <a:xfrm>
            <a:off x="2357280" y="2306520"/>
            <a:ext cx="412920" cy="419040"/>
          </a:xfrm>
          <a:custGeom>
            <a:avLst/>
            <a:gdLst/>
            <a:ahLst/>
            <a:rect l="l" t="t" r="r" b="b"/>
            <a:pathLst>
              <a:path w="412750" h="419100">
                <a:moveTo>
                  <a:pt x="0" y="160081"/>
                </a:moveTo>
                <a:lnTo>
                  <a:pt x="139907" y="134000"/>
                </a:lnTo>
                <a:lnTo>
                  <a:pt x="206375" y="0"/>
                </a:lnTo>
                <a:lnTo>
                  <a:pt x="272842" y="134000"/>
                </a:lnTo>
                <a:lnTo>
                  <a:pt x="412749" y="160081"/>
                </a:lnTo>
                <a:lnTo>
                  <a:pt x="313920" y="268979"/>
                </a:lnTo>
                <a:lnTo>
                  <a:pt x="333921" y="419098"/>
                </a:lnTo>
                <a:lnTo>
                  <a:pt x="206375" y="352401"/>
                </a:lnTo>
                <a:lnTo>
                  <a:pt x="78828" y="419098"/>
                </a:lnTo>
                <a:lnTo>
                  <a:pt x="9882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32"/>
          <p:cNvSpPr/>
          <p:nvPr/>
        </p:nvSpPr>
        <p:spPr>
          <a:xfrm>
            <a:off x="947880" y="5695920"/>
            <a:ext cx="1369800" cy="1162080"/>
          </a:xfrm>
          <a:prstGeom prst="rect">
            <a:avLst/>
          </a:prstGeom>
          <a:gradFill rotWithShape="0">
            <a:gsLst>
              <a:gs pos="0">
                <a:srgbClr val="1a564b"/>
              </a:gs>
              <a:gs pos="100000">
                <a:srgbClr val="206c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41"/>
          <p:cNvSpPr/>
          <p:nvPr/>
        </p:nvSpPr>
        <p:spPr>
          <a:xfrm>
            <a:off x="2301840" y="5691240"/>
            <a:ext cx="1255680" cy="1166760"/>
          </a:xfrm>
          <a:custGeom>
            <a:avLst/>
            <a:gdLst/>
            <a:ahLst/>
            <a:rect l="l" t="t" r="r" b="b"/>
            <a:pathLst>
              <a:path w="1255183" h="1166813">
                <a:moveTo>
                  <a:pt x="0" y="4763"/>
                </a:moveTo>
                <a:lnTo>
                  <a:pt x="1255183" y="0"/>
                </a:lnTo>
                <a:cubicBezTo>
                  <a:pt x="1253596" y="388938"/>
                  <a:pt x="1252008" y="777875"/>
                  <a:pt x="1250421" y="1166813"/>
                </a:cubicBezTo>
                <a:lnTo>
                  <a:pt x="0" y="1166813"/>
                </a:lnTo>
                <a:lnTo>
                  <a:pt x="0" y="4763"/>
                </a:lnTo>
                <a:close/>
              </a:path>
            </a:pathLst>
          </a:custGeom>
          <a:gradFill rotWithShape="0">
            <a:gsLst>
              <a:gs pos="0">
                <a:srgbClr val="3ac2a8"/>
              </a:gs>
              <a:gs pos="100000">
                <a:srgbClr val="30a28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2"/>
          <p:cNvSpPr/>
          <p:nvPr/>
        </p:nvSpPr>
        <p:spPr>
          <a:xfrm>
            <a:off x="3548160" y="5688000"/>
            <a:ext cx="2055600" cy="1170000"/>
          </a:xfrm>
          <a:custGeom>
            <a:avLst/>
            <a:gdLst/>
            <a:ahLst/>
            <a:rect l="l" t="t" r="r" b="b"/>
            <a:pathLst>
              <a:path w="2055142" h="1169194">
                <a:moveTo>
                  <a:pt x="0" y="0"/>
                </a:moveTo>
                <a:lnTo>
                  <a:pt x="2055142" y="0"/>
                </a:lnTo>
                <a:cubicBezTo>
                  <a:pt x="2054348" y="389731"/>
                  <a:pt x="2053555" y="779463"/>
                  <a:pt x="2052761" y="1169194"/>
                </a:cubicBezTo>
                <a:lnTo>
                  <a:pt x="2382" y="11691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ac2a8"/>
              </a:gs>
              <a:gs pos="100000">
                <a:srgbClr val="4eca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35"/>
          <p:cNvSpPr/>
          <p:nvPr/>
        </p:nvSpPr>
        <p:spPr>
          <a:xfrm>
            <a:off x="6835680" y="5695920"/>
            <a:ext cx="1371600" cy="1162080"/>
          </a:xfrm>
          <a:prstGeom prst="rect">
            <a:avLst/>
          </a:prstGeom>
          <a:gradFill rotWithShape="0">
            <a:gsLst>
              <a:gs pos="0">
                <a:srgbClr val="1a564b"/>
              </a:gs>
              <a:gs pos="100000">
                <a:srgbClr val="206c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51"/>
          <p:cNvSpPr/>
          <p:nvPr/>
        </p:nvSpPr>
        <p:spPr>
          <a:xfrm>
            <a:off x="5600880" y="5691240"/>
            <a:ext cx="1250640" cy="1166760"/>
          </a:xfrm>
          <a:custGeom>
            <a:avLst/>
            <a:gdLst/>
            <a:ahLst/>
            <a:rect l="l" t="t" r="r" b="b"/>
            <a:pathLst>
              <a:path w="1250421" h="1166812">
                <a:moveTo>
                  <a:pt x="0" y="0"/>
                </a:moveTo>
                <a:lnTo>
                  <a:pt x="1250421" y="4762"/>
                </a:lnTo>
                <a:lnTo>
                  <a:pt x="1250421" y="1166812"/>
                </a:lnTo>
                <a:lnTo>
                  <a:pt x="0" y="1166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ac2a8"/>
              </a:gs>
              <a:gs pos="100000">
                <a:srgbClr val="30a28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1"/>
          <p:cNvSpPr/>
          <p:nvPr/>
        </p:nvSpPr>
        <p:spPr>
          <a:xfrm>
            <a:off x="7238880" y="3871800"/>
            <a:ext cx="19479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“ </a:t>
            </a: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huyên cung cấp</a:t>
            </a:r>
            <a:br>
              <a:rPr sz="1200"/>
            </a:b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ác mẫu thiết kế hàng đầu về PowerPoint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3997440" y="250200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37"/>
          <p:cNvSpPr/>
          <p:nvPr/>
        </p:nvSpPr>
        <p:spPr>
          <a:xfrm>
            <a:off x="508644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38"/>
          <p:cNvSpPr/>
          <p:nvPr/>
        </p:nvSpPr>
        <p:spPr>
          <a:xfrm>
            <a:off x="602460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4f0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39"/>
          <p:cNvSpPr/>
          <p:nvPr/>
        </p:nvSpPr>
        <p:spPr>
          <a:xfrm>
            <a:off x="199404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4f0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40"/>
          <p:cNvSpPr/>
          <p:nvPr/>
        </p:nvSpPr>
        <p:spPr>
          <a:xfrm>
            <a:off x="289080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41"/>
          <p:cNvSpPr/>
          <p:nvPr/>
        </p:nvSpPr>
        <p:spPr>
          <a:xfrm>
            <a:off x="399744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42"/>
          <p:cNvSpPr/>
          <p:nvPr/>
        </p:nvSpPr>
        <p:spPr>
          <a:xfrm>
            <a:off x="2357280" y="586116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43"/>
          <p:cNvSpPr/>
          <p:nvPr/>
        </p:nvSpPr>
        <p:spPr>
          <a:xfrm>
            <a:off x="10620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4f0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44"/>
          <p:cNvSpPr/>
          <p:nvPr/>
        </p:nvSpPr>
        <p:spPr>
          <a:xfrm>
            <a:off x="69516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4f0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45"/>
          <p:cNvSpPr/>
          <p:nvPr/>
        </p:nvSpPr>
        <p:spPr>
          <a:xfrm>
            <a:off x="565632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64"/>
          <p:cNvSpPr/>
          <p:nvPr/>
        </p:nvSpPr>
        <p:spPr>
          <a:xfrm>
            <a:off x="-7920" y="4792680"/>
            <a:ext cx="9159840" cy="297000"/>
          </a:xfrm>
          <a:prstGeom prst="rect">
            <a:avLst/>
          </a:prstGeom>
          <a:gradFill rotWithShape="0">
            <a:gsLst>
              <a:gs pos="0">
                <a:srgbClr val="8a8a8a">
                  <a:alpha val="0"/>
                </a:srgbClr>
              </a:gs>
              <a:gs pos="100000">
                <a:srgbClr val="b0b0b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947880" y="5695920"/>
            <a:ext cx="1369800" cy="1162080"/>
          </a:xfrm>
          <a:prstGeom prst="rect">
            <a:avLst/>
          </a:prstGeom>
          <a:gradFill rotWithShape="0">
            <a:gsLst>
              <a:gs pos="0">
                <a:srgbClr val="760928"/>
              </a:gs>
              <a:gs pos="100000">
                <a:srgbClr val="930c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41"/>
          <p:cNvSpPr/>
          <p:nvPr/>
        </p:nvSpPr>
        <p:spPr>
          <a:xfrm>
            <a:off x="2301840" y="5691240"/>
            <a:ext cx="1255680" cy="1166760"/>
          </a:xfrm>
          <a:custGeom>
            <a:avLst/>
            <a:gdLst/>
            <a:ahLst/>
            <a:rect l="l" t="t" r="r" b="b"/>
            <a:pathLst>
              <a:path w="1255183" h="1166813">
                <a:moveTo>
                  <a:pt x="0" y="4763"/>
                </a:moveTo>
                <a:lnTo>
                  <a:pt x="1255183" y="0"/>
                </a:lnTo>
                <a:cubicBezTo>
                  <a:pt x="1253596" y="388938"/>
                  <a:pt x="1252008" y="777875"/>
                  <a:pt x="1250421" y="1166813"/>
                </a:cubicBezTo>
                <a:lnTo>
                  <a:pt x="0" y="1166813"/>
                </a:lnTo>
                <a:lnTo>
                  <a:pt x="0" y="4763"/>
                </a:lnTo>
                <a:close/>
              </a:path>
            </a:pathLst>
          </a:custGeom>
          <a:gradFill rotWithShape="0">
            <a:gsLst>
              <a:gs pos="0">
                <a:srgbClr val="c00f41"/>
              </a:gs>
              <a:gs pos="100000">
                <a:srgbClr val="dd11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9"/>
          <p:cNvSpPr/>
          <p:nvPr/>
        </p:nvSpPr>
        <p:spPr>
          <a:xfrm>
            <a:off x="6835680" y="5695920"/>
            <a:ext cx="1371600" cy="1162080"/>
          </a:xfrm>
          <a:prstGeom prst="rect">
            <a:avLst/>
          </a:prstGeom>
          <a:gradFill rotWithShape="0">
            <a:gsLst>
              <a:gs pos="0">
                <a:srgbClr val="760928"/>
              </a:gs>
              <a:gs pos="100000">
                <a:srgbClr val="930c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51"/>
          <p:cNvSpPr/>
          <p:nvPr/>
        </p:nvSpPr>
        <p:spPr>
          <a:xfrm>
            <a:off x="5600880" y="5691240"/>
            <a:ext cx="1250640" cy="1166760"/>
          </a:xfrm>
          <a:custGeom>
            <a:avLst/>
            <a:gdLst/>
            <a:ahLst/>
            <a:rect l="l" t="t" r="r" b="b"/>
            <a:pathLst>
              <a:path w="1250421" h="1166812">
                <a:moveTo>
                  <a:pt x="0" y="0"/>
                </a:moveTo>
                <a:lnTo>
                  <a:pt x="1250421" y="4762"/>
                </a:lnTo>
                <a:lnTo>
                  <a:pt x="1250421" y="1166812"/>
                </a:lnTo>
                <a:lnTo>
                  <a:pt x="0" y="1166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0f41"/>
              </a:gs>
              <a:gs pos="100000">
                <a:srgbClr val="dd11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2"/>
          <p:cNvSpPr/>
          <p:nvPr/>
        </p:nvSpPr>
        <p:spPr>
          <a:xfrm>
            <a:off x="939960" y="2048040"/>
            <a:ext cx="2098440" cy="3647880"/>
          </a:xfrm>
          <a:prstGeom prst="pie">
            <a:avLst/>
          </a:prstGeom>
          <a:solidFill>
            <a:srgbClr val="930c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5"/>
          <p:cNvSpPr/>
          <p:nvPr/>
        </p:nvSpPr>
        <p:spPr>
          <a:xfrm>
            <a:off x="231444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dd1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52"/>
          <p:cNvSpPr/>
          <p:nvPr/>
        </p:nvSpPr>
        <p:spPr>
          <a:xfrm flipH="1">
            <a:off x="6099120" y="2048040"/>
            <a:ext cx="2100240" cy="3647880"/>
          </a:xfrm>
          <a:prstGeom prst="pie">
            <a:avLst/>
          </a:prstGeom>
          <a:solidFill>
            <a:srgbClr val="930c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53"/>
          <p:cNvSpPr/>
          <p:nvPr/>
        </p:nvSpPr>
        <p:spPr>
          <a:xfrm flipH="1">
            <a:off x="524340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dd1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7"/>
          <p:cNvSpPr/>
          <p:nvPr/>
        </p:nvSpPr>
        <p:spPr>
          <a:xfrm>
            <a:off x="3559320" y="1225440"/>
            <a:ext cx="2033280" cy="4473720"/>
          </a:xfrm>
          <a:custGeom>
            <a:avLst/>
            <a:gdLst/>
            <a:ahLst/>
            <a:rect l="l" t="t" r="r" b="b"/>
            <a:pathLst>
              <a:path w="1676400" h="4473575">
                <a:moveTo>
                  <a:pt x="269875" y="3175"/>
                </a:moveTo>
                <a:lnTo>
                  <a:pt x="1387572" y="0"/>
                </a:lnTo>
                <a:cubicBezTo>
                  <a:pt x="1389656" y="1189567"/>
                  <a:pt x="1391741" y="2379133"/>
                  <a:pt x="1393825" y="3568700"/>
                </a:cubicBezTo>
                <a:cubicBezTo>
                  <a:pt x="1397000" y="3821642"/>
                  <a:pt x="1422400" y="3849158"/>
                  <a:pt x="1498600" y="4032250"/>
                </a:cubicBezTo>
                <a:lnTo>
                  <a:pt x="1676400" y="4473575"/>
                </a:lnTo>
                <a:lnTo>
                  <a:pt x="0" y="4470400"/>
                </a:lnTo>
                <a:lnTo>
                  <a:pt x="203200" y="3946525"/>
                </a:lnTo>
                <a:cubicBezTo>
                  <a:pt x="263525" y="3798358"/>
                  <a:pt x="266700" y="3802592"/>
                  <a:pt x="269875" y="3454400"/>
                </a:cubicBezTo>
                <a:lnTo>
                  <a:pt x="269875" y="3175"/>
                </a:lnTo>
                <a:close/>
              </a:path>
            </a:pathLst>
          </a:custGeom>
          <a:solidFill>
            <a:srgbClr val="f14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Group 13" descr=""/>
          <p:cNvPicPr/>
          <p:nvPr/>
        </p:nvPicPr>
        <p:blipFill>
          <a:blip r:embed="rId1"/>
          <a:stretch/>
        </p:blipFill>
        <p:spPr>
          <a:xfrm>
            <a:off x="4200480" y="1263600"/>
            <a:ext cx="727200" cy="73980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7"/>
          <p:cNvGrpSpPr/>
          <p:nvPr/>
        </p:nvGrpSpPr>
        <p:grpSpPr>
          <a:xfrm>
            <a:off x="3222720" y="1916280"/>
            <a:ext cx="474480" cy="438120"/>
            <a:chOff x="3222720" y="1916280"/>
            <a:chExt cx="474480" cy="438120"/>
          </a:xfrm>
        </p:grpSpPr>
        <p:sp>
          <p:nvSpPr>
            <p:cNvPr id="171" name="Frame 15"/>
            <p:cNvSpPr/>
            <p:nvPr/>
          </p:nvSpPr>
          <p:spPr>
            <a:xfrm>
              <a:off x="3222720" y="1916280"/>
              <a:ext cx="474480" cy="321120"/>
            </a:xfrm>
            <a:custGeom>
              <a:avLst/>
              <a:gdLst/>
              <a:ahLst/>
              <a:rect l="l" t="t" r="r" b="b"/>
              <a:pathLst>
                <a:path w="473869" h="320675">
                  <a:moveTo>
                    <a:pt x="0" y="0"/>
                  </a:moveTo>
                  <a:lnTo>
                    <a:pt x="473869" y="0"/>
                  </a:lnTo>
                  <a:lnTo>
                    <a:pt x="473869" y="320675"/>
                  </a:lnTo>
                  <a:lnTo>
                    <a:pt x="0" y="320675"/>
                  </a:lnTo>
                  <a:close/>
                  <a:moveTo>
                    <a:pt x="40084" y="40084"/>
                  </a:moveTo>
                  <a:lnTo>
                    <a:pt x="40084" y="280590"/>
                  </a:lnTo>
                  <a:lnTo>
                    <a:pt x="433784" y="280590"/>
                  </a:lnTo>
                  <a:lnTo>
                    <a:pt x="433784" y="400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Rectangle 16"/>
            <p:cNvSpPr/>
            <p:nvPr/>
          </p:nvSpPr>
          <p:spPr>
            <a:xfrm>
              <a:off x="3345480" y="2237400"/>
              <a:ext cx="2289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Rectangle 68"/>
            <p:cNvSpPr/>
            <p:nvPr/>
          </p:nvSpPr>
          <p:spPr>
            <a:xfrm>
              <a:off x="3292200" y="2308680"/>
              <a:ext cx="3351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4" name="Group 20" descr=""/>
          <p:cNvPicPr/>
          <p:nvPr/>
        </p:nvPicPr>
        <p:blipFill>
          <a:blip r:embed="rId2"/>
          <a:stretch/>
        </p:blipFill>
        <p:spPr>
          <a:xfrm>
            <a:off x="5419800" y="1920960"/>
            <a:ext cx="579240" cy="425520"/>
          </a:xfrm>
          <a:prstGeom prst="rect">
            <a:avLst/>
          </a:prstGeom>
          <a:ln w="0">
            <a:noFill/>
          </a:ln>
        </p:spPr>
      </p:pic>
      <p:sp>
        <p:nvSpPr>
          <p:cNvPr id="175" name="Freeform 73"/>
          <p:cNvSpPr/>
          <p:nvPr/>
        </p:nvSpPr>
        <p:spPr>
          <a:xfrm>
            <a:off x="6446880" y="2311560"/>
            <a:ext cx="276120" cy="444240"/>
          </a:xfrm>
          <a:custGeom>
            <a:avLst/>
            <a:gdLst/>
            <a:ahLst/>
            <a:rect l="l" t="t" r="r" b="b"/>
            <a:pathLst>
              <a:path w="726997" h="1164431">
                <a:moveTo>
                  <a:pt x="709613" y="273844"/>
                </a:moveTo>
                <a:lnTo>
                  <a:pt x="566738" y="423862"/>
                </a:lnTo>
                <a:cubicBezTo>
                  <a:pt x="491332" y="357187"/>
                  <a:pt x="432593" y="326231"/>
                  <a:pt x="350043" y="326231"/>
                </a:cubicBezTo>
                <a:cubicBezTo>
                  <a:pt x="228599" y="327025"/>
                  <a:pt x="233363" y="434974"/>
                  <a:pt x="350044" y="447675"/>
                </a:cubicBezTo>
                <a:cubicBezTo>
                  <a:pt x="499269" y="481012"/>
                  <a:pt x="648494" y="502444"/>
                  <a:pt x="709613" y="652462"/>
                </a:cubicBezTo>
                <a:cubicBezTo>
                  <a:pt x="777081" y="874712"/>
                  <a:pt x="637382" y="1001711"/>
                  <a:pt x="476250" y="1040605"/>
                </a:cubicBezTo>
                <a:cubicBezTo>
                  <a:pt x="477044" y="1087436"/>
                  <a:pt x="477837" y="1117599"/>
                  <a:pt x="478631" y="1164430"/>
                </a:cubicBezTo>
                <a:lnTo>
                  <a:pt x="271463" y="1164431"/>
                </a:lnTo>
                <a:lnTo>
                  <a:pt x="271463" y="1038225"/>
                </a:lnTo>
                <a:cubicBezTo>
                  <a:pt x="154781" y="1016794"/>
                  <a:pt x="57151" y="966787"/>
                  <a:pt x="0" y="866775"/>
                </a:cubicBezTo>
                <a:lnTo>
                  <a:pt x="145256" y="733424"/>
                </a:lnTo>
                <a:cubicBezTo>
                  <a:pt x="223837" y="803274"/>
                  <a:pt x="311944" y="851694"/>
                  <a:pt x="438150" y="828675"/>
                </a:cubicBezTo>
                <a:cubicBezTo>
                  <a:pt x="558006" y="793750"/>
                  <a:pt x="508794" y="704055"/>
                  <a:pt x="376238" y="681037"/>
                </a:cubicBezTo>
                <a:cubicBezTo>
                  <a:pt x="191295" y="646906"/>
                  <a:pt x="34926" y="596106"/>
                  <a:pt x="28576" y="371475"/>
                </a:cubicBezTo>
                <a:cubicBezTo>
                  <a:pt x="50007" y="242887"/>
                  <a:pt x="147638" y="145256"/>
                  <a:pt x="271463" y="128587"/>
                </a:cubicBezTo>
                <a:lnTo>
                  <a:pt x="271463" y="0"/>
                </a:lnTo>
                <a:lnTo>
                  <a:pt x="466725" y="0"/>
                </a:lnTo>
                <a:lnTo>
                  <a:pt x="471488" y="128587"/>
                </a:lnTo>
                <a:cubicBezTo>
                  <a:pt x="573882" y="150812"/>
                  <a:pt x="661989" y="208756"/>
                  <a:pt x="709613" y="2738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5-Point Star 81"/>
          <p:cNvSpPr/>
          <p:nvPr/>
        </p:nvSpPr>
        <p:spPr>
          <a:xfrm>
            <a:off x="2357280" y="2306520"/>
            <a:ext cx="412920" cy="419040"/>
          </a:xfrm>
          <a:custGeom>
            <a:avLst/>
            <a:gdLst/>
            <a:ahLst/>
            <a:rect l="l" t="t" r="r" b="b"/>
            <a:pathLst>
              <a:path w="412750" h="419100">
                <a:moveTo>
                  <a:pt x="0" y="160081"/>
                </a:moveTo>
                <a:lnTo>
                  <a:pt x="139907" y="134000"/>
                </a:lnTo>
                <a:lnTo>
                  <a:pt x="206375" y="0"/>
                </a:lnTo>
                <a:lnTo>
                  <a:pt x="272842" y="134000"/>
                </a:lnTo>
                <a:lnTo>
                  <a:pt x="412749" y="160081"/>
                </a:lnTo>
                <a:lnTo>
                  <a:pt x="313920" y="268979"/>
                </a:lnTo>
                <a:lnTo>
                  <a:pt x="333921" y="419098"/>
                </a:lnTo>
                <a:lnTo>
                  <a:pt x="206375" y="352401"/>
                </a:lnTo>
                <a:lnTo>
                  <a:pt x="78828" y="419098"/>
                </a:lnTo>
                <a:lnTo>
                  <a:pt x="9882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42"/>
          <p:cNvSpPr/>
          <p:nvPr/>
        </p:nvSpPr>
        <p:spPr>
          <a:xfrm>
            <a:off x="3548160" y="5688000"/>
            <a:ext cx="2055600" cy="1170000"/>
          </a:xfrm>
          <a:custGeom>
            <a:avLst/>
            <a:gdLst/>
            <a:ahLst/>
            <a:rect l="l" t="t" r="r" b="b"/>
            <a:pathLst>
              <a:path w="2055142" h="1169194">
                <a:moveTo>
                  <a:pt x="0" y="0"/>
                </a:moveTo>
                <a:lnTo>
                  <a:pt x="2055142" y="0"/>
                </a:lnTo>
                <a:cubicBezTo>
                  <a:pt x="2054348" y="389731"/>
                  <a:pt x="2053555" y="779463"/>
                  <a:pt x="2052761" y="1169194"/>
                </a:cubicBezTo>
                <a:lnTo>
                  <a:pt x="2382" y="11691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f3065"/>
              </a:gs>
              <a:gs pos="100000">
                <a:srgbClr val="f14d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31"/>
          <p:cNvSpPr/>
          <p:nvPr/>
        </p:nvSpPr>
        <p:spPr>
          <a:xfrm>
            <a:off x="7238880" y="3871800"/>
            <a:ext cx="19479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“ </a:t>
            </a: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huyên cung cấp</a:t>
            </a:r>
            <a:br>
              <a:rPr sz="1200"/>
            </a:b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ác mẫu thiết kế hàng đầu về PowerPoint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2"/>
          <p:cNvSpPr/>
          <p:nvPr/>
        </p:nvSpPr>
        <p:spPr>
          <a:xfrm>
            <a:off x="3997440" y="250200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33"/>
          <p:cNvSpPr/>
          <p:nvPr/>
        </p:nvSpPr>
        <p:spPr>
          <a:xfrm>
            <a:off x="508644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34"/>
          <p:cNvSpPr/>
          <p:nvPr/>
        </p:nvSpPr>
        <p:spPr>
          <a:xfrm>
            <a:off x="602460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be5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5"/>
          <p:cNvSpPr/>
          <p:nvPr/>
        </p:nvSpPr>
        <p:spPr>
          <a:xfrm>
            <a:off x="199404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be5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36"/>
          <p:cNvSpPr/>
          <p:nvPr/>
        </p:nvSpPr>
        <p:spPr>
          <a:xfrm>
            <a:off x="289080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37"/>
          <p:cNvSpPr/>
          <p:nvPr/>
        </p:nvSpPr>
        <p:spPr>
          <a:xfrm>
            <a:off x="399744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8"/>
          <p:cNvSpPr/>
          <p:nvPr/>
        </p:nvSpPr>
        <p:spPr>
          <a:xfrm>
            <a:off x="2357280" y="586116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39"/>
          <p:cNvSpPr/>
          <p:nvPr/>
        </p:nvSpPr>
        <p:spPr>
          <a:xfrm>
            <a:off x="10620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be5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40"/>
          <p:cNvSpPr/>
          <p:nvPr/>
        </p:nvSpPr>
        <p:spPr>
          <a:xfrm>
            <a:off x="69516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be5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42"/>
          <p:cNvSpPr/>
          <p:nvPr/>
        </p:nvSpPr>
        <p:spPr>
          <a:xfrm>
            <a:off x="565632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9"/>
          <p:cNvSpPr/>
          <p:nvPr/>
        </p:nvSpPr>
        <p:spPr>
          <a:xfrm>
            <a:off x="-7920" y="4724280"/>
            <a:ext cx="9159840" cy="365400"/>
          </a:xfrm>
          <a:prstGeom prst="rect">
            <a:avLst/>
          </a:prstGeom>
          <a:gradFill rotWithShape="0">
            <a:gsLst>
              <a:gs pos="0">
                <a:srgbClr val="8a8a8a">
                  <a:alpha val="0"/>
                </a:srgbClr>
              </a:gs>
              <a:gs pos="100000">
                <a:srgbClr val="b0b0b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2"/>
          <p:cNvSpPr/>
          <p:nvPr/>
        </p:nvSpPr>
        <p:spPr>
          <a:xfrm>
            <a:off x="939960" y="2048040"/>
            <a:ext cx="2098440" cy="3647880"/>
          </a:xfrm>
          <a:prstGeom prst="pie">
            <a:avLst/>
          </a:pr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3"/>
          <p:cNvSpPr/>
          <p:nvPr/>
        </p:nvSpPr>
        <p:spPr>
          <a:xfrm>
            <a:off x="231444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6f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4"/>
          <p:cNvSpPr/>
          <p:nvPr/>
        </p:nvSpPr>
        <p:spPr>
          <a:xfrm flipH="1">
            <a:off x="6099120" y="2048040"/>
            <a:ext cx="2100240" cy="3647880"/>
          </a:xfrm>
          <a:prstGeom prst="pie">
            <a:avLst/>
          </a:pr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5"/>
          <p:cNvSpPr/>
          <p:nvPr/>
        </p:nvSpPr>
        <p:spPr>
          <a:xfrm flipH="1">
            <a:off x="524340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6f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6"/>
          <p:cNvSpPr/>
          <p:nvPr/>
        </p:nvSpPr>
        <p:spPr>
          <a:xfrm>
            <a:off x="3559320" y="1225440"/>
            <a:ext cx="2033280" cy="4473720"/>
          </a:xfrm>
          <a:custGeom>
            <a:avLst/>
            <a:gdLst/>
            <a:ahLst/>
            <a:rect l="l" t="t" r="r" b="b"/>
            <a:pathLst>
              <a:path w="1676400" h="4473575">
                <a:moveTo>
                  <a:pt x="269875" y="3175"/>
                </a:moveTo>
                <a:lnTo>
                  <a:pt x="1387572" y="0"/>
                </a:lnTo>
                <a:cubicBezTo>
                  <a:pt x="1389656" y="1189567"/>
                  <a:pt x="1391741" y="2379133"/>
                  <a:pt x="1393825" y="3568700"/>
                </a:cubicBezTo>
                <a:cubicBezTo>
                  <a:pt x="1397000" y="3821642"/>
                  <a:pt x="1422400" y="3849158"/>
                  <a:pt x="1498600" y="4032250"/>
                </a:cubicBezTo>
                <a:lnTo>
                  <a:pt x="1676400" y="4473575"/>
                </a:lnTo>
                <a:lnTo>
                  <a:pt x="0" y="4470400"/>
                </a:lnTo>
                <a:lnTo>
                  <a:pt x="203200" y="3946525"/>
                </a:lnTo>
                <a:cubicBezTo>
                  <a:pt x="263525" y="3798358"/>
                  <a:pt x="266700" y="3802592"/>
                  <a:pt x="269875" y="3454400"/>
                </a:cubicBezTo>
                <a:lnTo>
                  <a:pt x="269875" y="3175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Group 7" descr=""/>
          <p:cNvPicPr/>
          <p:nvPr/>
        </p:nvPicPr>
        <p:blipFill>
          <a:blip r:embed="rId1"/>
          <a:stretch/>
        </p:blipFill>
        <p:spPr>
          <a:xfrm>
            <a:off x="4200480" y="1263600"/>
            <a:ext cx="727200" cy="73980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15"/>
          <p:cNvGrpSpPr/>
          <p:nvPr/>
        </p:nvGrpSpPr>
        <p:grpSpPr>
          <a:xfrm>
            <a:off x="3222720" y="1916280"/>
            <a:ext cx="474480" cy="438120"/>
            <a:chOff x="3222720" y="1916280"/>
            <a:chExt cx="474480" cy="438120"/>
          </a:xfrm>
        </p:grpSpPr>
        <p:sp>
          <p:nvSpPr>
            <p:cNvPr id="198" name="Frame 16"/>
            <p:cNvSpPr/>
            <p:nvPr/>
          </p:nvSpPr>
          <p:spPr>
            <a:xfrm>
              <a:off x="3222720" y="1916280"/>
              <a:ext cx="474480" cy="321120"/>
            </a:xfrm>
            <a:custGeom>
              <a:avLst/>
              <a:gdLst/>
              <a:ahLst/>
              <a:rect l="l" t="t" r="r" b="b"/>
              <a:pathLst>
                <a:path w="473869" h="320675">
                  <a:moveTo>
                    <a:pt x="0" y="0"/>
                  </a:moveTo>
                  <a:lnTo>
                    <a:pt x="473869" y="0"/>
                  </a:lnTo>
                  <a:lnTo>
                    <a:pt x="473869" y="320675"/>
                  </a:lnTo>
                  <a:lnTo>
                    <a:pt x="0" y="320675"/>
                  </a:lnTo>
                  <a:close/>
                  <a:moveTo>
                    <a:pt x="40084" y="40084"/>
                  </a:moveTo>
                  <a:lnTo>
                    <a:pt x="40084" y="280590"/>
                  </a:lnTo>
                  <a:lnTo>
                    <a:pt x="433784" y="280590"/>
                  </a:lnTo>
                  <a:lnTo>
                    <a:pt x="433784" y="400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ectangle 17"/>
            <p:cNvSpPr/>
            <p:nvPr/>
          </p:nvSpPr>
          <p:spPr>
            <a:xfrm>
              <a:off x="3345480" y="2237400"/>
              <a:ext cx="2289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Rectangle 18"/>
            <p:cNvSpPr/>
            <p:nvPr/>
          </p:nvSpPr>
          <p:spPr>
            <a:xfrm>
              <a:off x="3292200" y="2308680"/>
              <a:ext cx="3351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1" name="Group 19" descr=""/>
          <p:cNvPicPr/>
          <p:nvPr/>
        </p:nvPicPr>
        <p:blipFill>
          <a:blip r:embed="rId2"/>
          <a:stretch/>
        </p:blipFill>
        <p:spPr>
          <a:xfrm>
            <a:off x="5419800" y="1920960"/>
            <a:ext cx="579240" cy="425520"/>
          </a:xfrm>
          <a:prstGeom prst="rect">
            <a:avLst/>
          </a:prstGeom>
          <a:ln w="0">
            <a:noFill/>
          </a:ln>
        </p:spPr>
      </p:pic>
      <p:sp>
        <p:nvSpPr>
          <p:cNvPr id="202" name="Freeform 22"/>
          <p:cNvSpPr/>
          <p:nvPr/>
        </p:nvSpPr>
        <p:spPr>
          <a:xfrm>
            <a:off x="6446880" y="2311560"/>
            <a:ext cx="276120" cy="444240"/>
          </a:xfrm>
          <a:custGeom>
            <a:avLst/>
            <a:gdLst/>
            <a:ahLst/>
            <a:rect l="l" t="t" r="r" b="b"/>
            <a:pathLst>
              <a:path w="726997" h="1164431">
                <a:moveTo>
                  <a:pt x="709613" y="273844"/>
                </a:moveTo>
                <a:lnTo>
                  <a:pt x="566738" y="423862"/>
                </a:lnTo>
                <a:cubicBezTo>
                  <a:pt x="491332" y="357187"/>
                  <a:pt x="432593" y="326231"/>
                  <a:pt x="350043" y="326231"/>
                </a:cubicBezTo>
                <a:cubicBezTo>
                  <a:pt x="228599" y="327025"/>
                  <a:pt x="233363" y="434974"/>
                  <a:pt x="350044" y="447675"/>
                </a:cubicBezTo>
                <a:cubicBezTo>
                  <a:pt x="499269" y="481012"/>
                  <a:pt x="648494" y="502444"/>
                  <a:pt x="709613" y="652462"/>
                </a:cubicBezTo>
                <a:cubicBezTo>
                  <a:pt x="777081" y="874712"/>
                  <a:pt x="637382" y="1001711"/>
                  <a:pt x="476250" y="1040605"/>
                </a:cubicBezTo>
                <a:cubicBezTo>
                  <a:pt x="477044" y="1087436"/>
                  <a:pt x="477837" y="1117599"/>
                  <a:pt x="478631" y="1164430"/>
                </a:cubicBezTo>
                <a:lnTo>
                  <a:pt x="271463" y="1164431"/>
                </a:lnTo>
                <a:lnTo>
                  <a:pt x="271463" y="1038225"/>
                </a:lnTo>
                <a:cubicBezTo>
                  <a:pt x="154781" y="1016794"/>
                  <a:pt x="57151" y="966787"/>
                  <a:pt x="0" y="866775"/>
                </a:cubicBezTo>
                <a:lnTo>
                  <a:pt x="145256" y="733424"/>
                </a:lnTo>
                <a:cubicBezTo>
                  <a:pt x="223837" y="803274"/>
                  <a:pt x="311944" y="851694"/>
                  <a:pt x="438150" y="828675"/>
                </a:cubicBezTo>
                <a:cubicBezTo>
                  <a:pt x="558006" y="793750"/>
                  <a:pt x="508794" y="704055"/>
                  <a:pt x="376238" y="681037"/>
                </a:cubicBezTo>
                <a:cubicBezTo>
                  <a:pt x="191295" y="646906"/>
                  <a:pt x="34926" y="596106"/>
                  <a:pt x="28576" y="371475"/>
                </a:cubicBezTo>
                <a:cubicBezTo>
                  <a:pt x="50007" y="242887"/>
                  <a:pt x="147638" y="145256"/>
                  <a:pt x="271463" y="128587"/>
                </a:cubicBezTo>
                <a:lnTo>
                  <a:pt x="271463" y="0"/>
                </a:lnTo>
                <a:lnTo>
                  <a:pt x="466725" y="0"/>
                </a:lnTo>
                <a:lnTo>
                  <a:pt x="471488" y="128587"/>
                </a:lnTo>
                <a:cubicBezTo>
                  <a:pt x="573882" y="150812"/>
                  <a:pt x="661989" y="208756"/>
                  <a:pt x="709613" y="2738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5-Point Star 23"/>
          <p:cNvSpPr/>
          <p:nvPr/>
        </p:nvSpPr>
        <p:spPr>
          <a:xfrm>
            <a:off x="2357280" y="2306520"/>
            <a:ext cx="412920" cy="419040"/>
          </a:xfrm>
          <a:custGeom>
            <a:avLst/>
            <a:gdLst/>
            <a:ahLst/>
            <a:rect l="l" t="t" r="r" b="b"/>
            <a:pathLst>
              <a:path w="412750" h="419100">
                <a:moveTo>
                  <a:pt x="0" y="160081"/>
                </a:moveTo>
                <a:lnTo>
                  <a:pt x="139907" y="134000"/>
                </a:lnTo>
                <a:lnTo>
                  <a:pt x="206375" y="0"/>
                </a:lnTo>
                <a:lnTo>
                  <a:pt x="272842" y="134000"/>
                </a:lnTo>
                <a:lnTo>
                  <a:pt x="412749" y="160081"/>
                </a:lnTo>
                <a:lnTo>
                  <a:pt x="313920" y="268979"/>
                </a:lnTo>
                <a:lnTo>
                  <a:pt x="333921" y="419098"/>
                </a:lnTo>
                <a:lnTo>
                  <a:pt x="206375" y="352401"/>
                </a:lnTo>
                <a:lnTo>
                  <a:pt x="78828" y="419098"/>
                </a:lnTo>
                <a:lnTo>
                  <a:pt x="9882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24"/>
          <p:cNvSpPr/>
          <p:nvPr/>
        </p:nvSpPr>
        <p:spPr>
          <a:xfrm>
            <a:off x="947880" y="5695920"/>
            <a:ext cx="1369800" cy="1162080"/>
          </a:xfrm>
          <a:prstGeom prst="rect">
            <a:avLst/>
          </a:prstGeom>
          <a:gradFill rotWithShape="0">
            <a:gsLst>
              <a:gs pos="0">
                <a:srgbClr val="3b4f00"/>
              </a:gs>
              <a:gs pos="100000">
                <a:srgbClr val="4a6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2301840" y="5691240"/>
            <a:ext cx="1255680" cy="1166760"/>
          </a:xfrm>
          <a:custGeom>
            <a:avLst/>
            <a:gdLst/>
            <a:ahLst/>
            <a:rect l="l" t="t" r="r" b="b"/>
            <a:pathLst>
              <a:path w="1255183" h="1166813">
                <a:moveTo>
                  <a:pt x="0" y="4763"/>
                </a:moveTo>
                <a:lnTo>
                  <a:pt x="1255183" y="0"/>
                </a:lnTo>
                <a:cubicBezTo>
                  <a:pt x="1253596" y="388938"/>
                  <a:pt x="1252008" y="777875"/>
                  <a:pt x="1250421" y="1166813"/>
                </a:cubicBezTo>
                <a:lnTo>
                  <a:pt x="0" y="1166813"/>
                </a:lnTo>
                <a:lnTo>
                  <a:pt x="0" y="4763"/>
                </a:lnTo>
                <a:close/>
              </a:path>
            </a:pathLst>
          </a:custGeom>
          <a:gradFill rotWithShape="0">
            <a:gsLst>
              <a:gs pos="0">
                <a:srgbClr val="608100"/>
              </a:gs>
              <a:gs pos="100000">
                <a:srgbClr val="6f9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3548160" y="5688000"/>
            <a:ext cx="2055600" cy="1170000"/>
          </a:xfrm>
          <a:custGeom>
            <a:avLst/>
            <a:gdLst/>
            <a:ahLst/>
            <a:rect l="l" t="t" r="r" b="b"/>
            <a:pathLst>
              <a:path w="2055142" h="1169194">
                <a:moveTo>
                  <a:pt x="0" y="0"/>
                </a:moveTo>
                <a:lnTo>
                  <a:pt x="2055142" y="0"/>
                </a:lnTo>
                <a:cubicBezTo>
                  <a:pt x="2054348" y="389731"/>
                  <a:pt x="2053555" y="779463"/>
                  <a:pt x="2052761" y="1169194"/>
                </a:cubicBezTo>
                <a:lnTo>
                  <a:pt x="2382" y="11691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5b200"/>
              </a:gs>
              <a:gs pos="100000">
                <a:srgbClr val="9bd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27"/>
          <p:cNvSpPr/>
          <p:nvPr/>
        </p:nvSpPr>
        <p:spPr>
          <a:xfrm>
            <a:off x="6835680" y="5695920"/>
            <a:ext cx="1371600" cy="1162080"/>
          </a:xfrm>
          <a:prstGeom prst="rect">
            <a:avLst/>
          </a:prstGeom>
          <a:gradFill rotWithShape="0">
            <a:gsLst>
              <a:gs pos="0">
                <a:srgbClr val="3b4f00"/>
              </a:gs>
              <a:gs pos="100000">
                <a:srgbClr val="4a6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1"/>
          <p:cNvSpPr/>
          <p:nvPr/>
        </p:nvSpPr>
        <p:spPr>
          <a:xfrm>
            <a:off x="5600880" y="5691240"/>
            <a:ext cx="1250640" cy="1166760"/>
          </a:xfrm>
          <a:custGeom>
            <a:avLst/>
            <a:gdLst/>
            <a:ahLst/>
            <a:rect l="l" t="t" r="r" b="b"/>
            <a:pathLst>
              <a:path w="1250421" h="1166812">
                <a:moveTo>
                  <a:pt x="0" y="0"/>
                </a:moveTo>
                <a:lnTo>
                  <a:pt x="1250421" y="4762"/>
                </a:lnTo>
                <a:lnTo>
                  <a:pt x="1250421" y="1166812"/>
                </a:lnTo>
                <a:lnTo>
                  <a:pt x="0" y="1166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08100"/>
              </a:gs>
              <a:gs pos="100000">
                <a:srgbClr val="6f9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30"/>
          <p:cNvSpPr/>
          <p:nvPr/>
        </p:nvSpPr>
        <p:spPr>
          <a:xfrm>
            <a:off x="7238880" y="3871800"/>
            <a:ext cx="19479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“ </a:t>
            </a: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chuyên cung cấp</a:t>
            </a:r>
            <a:br>
              <a:rPr sz="1200"/>
            </a:b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các mẫu thiết kế hàng đầu về PowerPoint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1"/>
          <p:cNvSpPr/>
          <p:nvPr/>
        </p:nvSpPr>
        <p:spPr>
          <a:xfrm>
            <a:off x="3997440" y="250200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32"/>
          <p:cNvSpPr/>
          <p:nvPr/>
        </p:nvSpPr>
        <p:spPr>
          <a:xfrm>
            <a:off x="508644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33"/>
          <p:cNvSpPr/>
          <p:nvPr/>
        </p:nvSpPr>
        <p:spPr>
          <a:xfrm>
            <a:off x="602460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c1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4"/>
          <p:cNvSpPr/>
          <p:nvPr/>
        </p:nvSpPr>
        <p:spPr>
          <a:xfrm>
            <a:off x="199404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c1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5"/>
          <p:cNvSpPr/>
          <p:nvPr/>
        </p:nvSpPr>
        <p:spPr>
          <a:xfrm>
            <a:off x="289080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6"/>
          <p:cNvSpPr/>
          <p:nvPr/>
        </p:nvSpPr>
        <p:spPr>
          <a:xfrm>
            <a:off x="399744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37"/>
          <p:cNvSpPr/>
          <p:nvPr/>
        </p:nvSpPr>
        <p:spPr>
          <a:xfrm>
            <a:off x="2357280" y="586116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38"/>
          <p:cNvSpPr/>
          <p:nvPr/>
        </p:nvSpPr>
        <p:spPr>
          <a:xfrm>
            <a:off x="10620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c1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39"/>
          <p:cNvSpPr/>
          <p:nvPr/>
        </p:nvSpPr>
        <p:spPr>
          <a:xfrm>
            <a:off x="69516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c1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40"/>
          <p:cNvSpPr/>
          <p:nvPr/>
        </p:nvSpPr>
        <p:spPr>
          <a:xfrm>
            <a:off x="565632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55"/>
          <p:cNvSpPr/>
          <p:nvPr/>
        </p:nvSpPr>
        <p:spPr>
          <a:xfrm>
            <a:off x="-7920" y="4724280"/>
            <a:ext cx="9159840" cy="365400"/>
          </a:xfrm>
          <a:prstGeom prst="rect">
            <a:avLst/>
          </a:prstGeom>
          <a:gradFill rotWithShape="0">
            <a:gsLst>
              <a:gs pos="0">
                <a:srgbClr val="8a8a8a">
                  <a:alpha val="0"/>
                </a:srgbClr>
              </a:gs>
              <a:gs pos="100000">
                <a:srgbClr val="b0b0b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2"/>
          <p:cNvSpPr/>
          <p:nvPr/>
        </p:nvSpPr>
        <p:spPr>
          <a:xfrm>
            <a:off x="939960" y="2048040"/>
            <a:ext cx="2098440" cy="3647880"/>
          </a:xfrm>
          <a:prstGeom prst="pie">
            <a:avLst/>
          </a:prstGeom>
          <a:solidFill>
            <a:srgbClr val="8f5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231444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d77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4"/>
          <p:cNvSpPr/>
          <p:nvPr/>
        </p:nvSpPr>
        <p:spPr>
          <a:xfrm flipH="1">
            <a:off x="6099120" y="2048040"/>
            <a:ext cx="2100240" cy="3647880"/>
          </a:xfrm>
          <a:prstGeom prst="pie">
            <a:avLst/>
          </a:prstGeom>
          <a:solidFill>
            <a:srgbClr val="8f5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5"/>
          <p:cNvSpPr/>
          <p:nvPr/>
        </p:nvSpPr>
        <p:spPr>
          <a:xfrm flipH="1">
            <a:off x="524340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d77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6"/>
          <p:cNvSpPr/>
          <p:nvPr/>
        </p:nvSpPr>
        <p:spPr>
          <a:xfrm>
            <a:off x="3559320" y="1225440"/>
            <a:ext cx="2033280" cy="4473720"/>
          </a:xfrm>
          <a:custGeom>
            <a:avLst/>
            <a:gdLst/>
            <a:ahLst/>
            <a:rect l="l" t="t" r="r" b="b"/>
            <a:pathLst>
              <a:path w="1676400" h="4473575">
                <a:moveTo>
                  <a:pt x="269875" y="3175"/>
                </a:moveTo>
                <a:lnTo>
                  <a:pt x="1387572" y="0"/>
                </a:lnTo>
                <a:cubicBezTo>
                  <a:pt x="1389656" y="1189567"/>
                  <a:pt x="1391741" y="2379133"/>
                  <a:pt x="1393825" y="3568700"/>
                </a:cubicBezTo>
                <a:cubicBezTo>
                  <a:pt x="1397000" y="3821642"/>
                  <a:pt x="1422400" y="3849158"/>
                  <a:pt x="1498600" y="4032250"/>
                </a:cubicBezTo>
                <a:lnTo>
                  <a:pt x="1676400" y="4473575"/>
                </a:lnTo>
                <a:lnTo>
                  <a:pt x="0" y="4470400"/>
                </a:lnTo>
                <a:lnTo>
                  <a:pt x="203200" y="3946525"/>
                </a:lnTo>
                <a:cubicBezTo>
                  <a:pt x="263525" y="3798358"/>
                  <a:pt x="266700" y="3802592"/>
                  <a:pt x="269875" y="3454400"/>
                </a:cubicBezTo>
                <a:lnTo>
                  <a:pt x="269875" y="3175"/>
                </a:lnTo>
                <a:close/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Group 7" descr=""/>
          <p:cNvPicPr/>
          <p:nvPr/>
        </p:nvPicPr>
        <p:blipFill>
          <a:blip r:embed="rId1"/>
          <a:stretch/>
        </p:blipFill>
        <p:spPr>
          <a:xfrm>
            <a:off x="4200480" y="1263600"/>
            <a:ext cx="727200" cy="73980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15"/>
          <p:cNvGrpSpPr/>
          <p:nvPr/>
        </p:nvGrpSpPr>
        <p:grpSpPr>
          <a:xfrm>
            <a:off x="3222720" y="1916280"/>
            <a:ext cx="474480" cy="438120"/>
            <a:chOff x="3222720" y="1916280"/>
            <a:chExt cx="474480" cy="438120"/>
          </a:xfrm>
        </p:grpSpPr>
        <p:sp>
          <p:nvSpPr>
            <p:cNvPr id="229" name="Frame 16"/>
            <p:cNvSpPr/>
            <p:nvPr/>
          </p:nvSpPr>
          <p:spPr>
            <a:xfrm>
              <a:off x="3222720" y="1916280"/>
              <a:ext cx="474480" cy="321120"/>
            </a:xfrm>
            <a:custGeom>
              <a:avLst/>
              <a:gdLst/>
              <a:ahLst/>
              <a:rect l="l" t="t" r="r" b="b"/>
              <a:pathLst>
                <a:path w="473869" h="320675">
                  <a:moveTo>
                    <a:pt x="0" y="0"/>
                  </a:moveTo>
                  <a:lnTo>
                    <a:pt x="473869" y="0"/>
                  </a:lnTo>
                  <a:lnTo>
                    <a:pt x="473869" y="320675"/>
                  </a:lnTo>
                  <a:lnTo>
                    <a:pt x="0" y="320675"/>
                  </a:lnTo>
                  <a:close/>
                  <a:moveTo>
                    <a:pt x="40084" y="40084"/>
                  </a:moveTo>
                  <a:lnTo>
                    <a:pt x="40084" y="280590"/>
                  </a:lnTo>
                  <a:lnTo>
                    <a:pt x="433784" y="280590"/>
                  </a:lnTo>
                  <a:lnTo>
                    <a:pt x="433784" y="400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Rectangle 17"/>
            <p:cNvSpPr/>
            <p:nvPr/>
          </p:nvSpPr>
          <p:spPr>
            <a:xfrm>
              <a:off x="3345480" y="2237400"/>
              <a:ext cx="2289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Rectangle 18"/>
            <p:cNvSpPr/>
            <p:nvPr/>
          </p:nvSpPr>
          <p:spPr>
            <a:xfrm>
              <a:off x="3292200" y="2308680"/>
              <a:ext cx="3351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2" name="Group 19" descr=""/>
          <p:cNvPicPr/>
          <p:nvPr/>
        </p:nvPicPr>
        <p:blipFill>
          <a:blip r:embed="rId2"/>
          <a:stretch/>
        </p:blipFill>
        <p:spPr>
          <a:xfrm>
            <a:off x="5419800" y="1920960"/>
            <a:ext cx="579240" cy="425520"/>
          </a:xfrm>
          <a:prstGeom prst="rect">
            <a:avLst/>
          </a:prstGeom>
          <a:ln w="0">
            <a:noFill/>
          </a:ln>
        </p:spPr>
      </p:pic>
      <p:sp>
        <p:nvSpPr>
          <p:cNvPr id="233" name="Freeform 22"/>
          <p:cNvSpPr/>
          <p:nvPr/>
        </p:nvSpPr>
        <p:spPr>
          <a:xfrm>
            <a:off x="6446880" y="2311560"/>
            <a:ext cx="276120" cy="444240"/>
          </a:xfrm>
          <a:custGeom>
            <a:avLst/>
            <a:gdLst/>
            <a:ahLst/>
            <a:rect l="l" t="t" r="r" b="b"/>
            <a:pathLst>
              <a:path w="726997" h="1164431">
                <a:moveTo>
                  <a:pt x="709613" y="273844"/>
                </a:moveTo>
                <a:lnTo>
                  <a:pt x="566738" y="423862"/>
                </a:lnTo>
                <a:cubicBezTo>
                  <a:pt x="491332" y="357187"/>
                  <a:pt x="432593" y="326231"/>
                  <a:pt x="350043" y="326231"/>
                </a:cubicBezTo>
                <a:cubicBezTo>
                  <a:pt x="228599" y="327025"/>
                  <a:pt x="233363" y="434974"/>
                  <a:pt x="350044" y="447675"/>
                </a:cubicBezTo>
                <a:cubicBezTo>
                  <a:pt x="499269" y="481012"/>
                  <a:pt x="648494" y="502444"/>
                  <a:pt x="709613" y="652462"/>
                </a:cubicBezTo>
                <a:cubicBezTo>
                  <a:pt x="777081" y="874712"/>
                  <a:pt x="637382" y="1001711"/>
                  <a:pt x="476250" y="1040605"/>
                </a:cubicBezTo>
                <a:cubicBezTo>
                  <a:pt x="477044" y="1087436"/>
                  <a:pt x="477837" y="1117599"/>
                  <a:pt x="478631" y="1164430"/>
                </a:cubicBezTo>
                <a:lnTo>
                  <a:pt x="271463" y="1164431"/>
                </a:lnTo>
                <a:lnTo>
                  <a:pt x="271463" y="1038225"/>
                </a:lnTo>
                <a:cubicBezTo>
                  <a:pt x="154781" y="1016794"/>
                  <a:pt x="57151" y="966787"/>
                  <a:pt x="0" y="866775"/>
                </a:cubicBezTo>
                <a:lnTo>
                  <a:pt x="145256" y="733424"/>
                </a:lnTo>
                <a:cubicBezTo>
                  <a:pt x="223837" y="803274"/>
                  <a:pt x="311944" y="851694"/>
                  <a:pt x="438150" y="828675"/>
                </a:cubicBezTo>
                <a:cubicBezTo>
                  <a:pt x="558006" y="793750"/>
                  <a:pt x="508794" y="704055"/>
                  <a:pt x="376238" y="681037"/>
                </a:cubicBezTo>
                <a:cubicBezTo>
                  <a:pt x="191295" y="646906"/>
                  <a:pt x="34926" y="596106"/>
                  <a:pt x="28576" y="371475"/>
                </a:cubicBezTo>
                <a:cubicBezTo>
                  <a:pt x="50007" y="242887"/>
                  <a:pt x="147638" y="145256"/>
                  <a:pt x="271463" y="128587"/>
                </a:cubicBezTo>
                <a:lnTo>
                  <a:pt x="271463" y="0"/>
                </a:lnTo>
                <a:lnTo>
                  <a:pt x="466725" y="0"/>
                </a:lnTo>
                <a:lnTo>
                  <a:pt x="471488" y="128587"/>
                </a:lnTo>
                <a:cubicBezTo>
                  <a:pt x="573882" y="150812"/>
                  <a:pt x="661989" y="208756"/>
                  <a:pt x="709613" y="2738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5-Point Star 23"/>
          <p:cNvSpPr/>
          <p:nvPr/>
        </p:nvSpPr>
        <p:spPr>
          <a:xfrm>
            <a:off x="2357280" y="2306520"/>
            <a:ext cx="412920" cy="419040"/>
          </a:xfrm>
          <a:custGeom>
            <a:avLst/>
            <a:gdLst/>
            <a:ahLst/>
            <a:rect l="l" t="t" r="r" b="b"/>
            <a:pathLst>
              <a:path w="412750" h="419100">
                <a:moveTo>
                  <a:pt x="0" y="160081"/>
                </a:moveTo>
                <a:lnTo>
                  <a:pt x="139907" y="134000"/>
                </a:lnTo>
                <a:lnTo>
                  <a:pt x="206375" y="0"/>
                </a:lnTo>
                <a:lnTo>
                  <a:pt x="272842" y="134000"/>
                </a:lnTo>
                <a:lnTo>
                  <a:pt x="412749" y="160081"/>
                </a:lnTo>
                <a:lnTo>
                  <a:pt x="313920" y="268979"/>
                </a:lnTo>
                <a:lnTo>
                  <a:pt x="333921" y="419098"/>
                </a:lnTo>
                <a:lnTo>
                  <a:pt x="206375" y="352401"/>
                </a:lnTo>
                <a:lnTo>
                  <a:pt x="78828" y="419098"/>
                </a:lnTo>
                <a:lnTo>
                  <a:pt x="9882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24"/>
          <p:cNvSpPr/>
          <p:nvPr/>
        </p:nvSpPr>
        <p:spPr>
          <a:xfrm>
            <a:off x="947880" y="5695920"/>
            <a:ext cx="1369800" cy="1162080"/>
          </a:xfrm>
          <a:prstGeom prst="rect">
            <a:avLst/>
          </a:prstGeom>
          <a:gradFill rotWithShape="0">
            <a:gsLst>
              <a:gs pos="0">
                <a:srgbClr val="734201"/>
              </a:gs>
              <a:gs pos="100000">
                <a:srgbClr val="8f52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41"/>
          <p:cNvSpPr/>
          <p:nvPr/>
        </p:nvSpPr>
        <p:spPr>
          <a:xfrm>
            <a:off x="2301840" y="5691240"/>
            <a:ext cx="1255680" cy="1166760"/>
          </a:xfrm>
          <a:custGeom>
            <a:avLst/>
            <a:gdLst/>
            <a:ahLst/>
            <a:rect l="l" t="t" r="r" b="b"/>
            <a:pathLst>
              <a:path w="1255183" h="1166813">
                <a:moveTo>
                  <a:pt x="0" y="4763"/>
                </a:moveTo>
                <a:lnTo>
                  <a:pt x="1255183" y="0"/>
                </a:lnTo>
                <a:cubicBezTo>
                  <a:pt x="1253596" y="388938"/>
                  <a:pt x="1252008" y="777875"/>
                  <a:pt x="1250421" y="1166813"/>
                </a:cubicBezTo>
                <a:lnTo>
                  <a:pt x="0" y="1166813"/>
                </a:lnTo>
                <a:lnTo>
                  <a:pt x="0" y="4763"/>
                </a:lnTo>
                <a:close/>
              </a:path>
            </a:pathLst>
          </a:custGeom>
          <a:gradFill rotWithShape="0">
            <a:gsLst>
              <a:gs pos="0">
                <a:srgbClr val="ba6b01"/>
              </a:gs>
              <a:gs pos="100000">
                <a:srgbClr val="d77c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42"/>
          <p:cNvSpPr/>
          <p:nvPr/>
        </p:nvSpPr>
        <p:spPr>
          <a:xfrm>
            <a:off x="3548160" y="5688000"/>
            <a:ext cx="2055600" cy="1170000"/>
          </a:xfrm>
          <a:custGeom>
            <a:avLst/>
            <a:gdLst/>
            <a:ahLst/>
            <a:rect l="l" t="t" r="r" b="b"/>
            <a:pathLst>
              <a:path w="2055142" h="1169194">
                <a:moveTo>
                  <a:pt x="0" y="0"/>
                </a:moveTo>
                <a:lnTo>
                  <a:pt x="2055142" y="0"/>
                </a:lnTo>
                <a:cubicBezTo>
                  <a:pt x="2054348" y="389731"/>
                  <a:pt x="2053555" y="779463"/>
                  <a:pt x="2052761" y="1169194"/>
                </a:cubicBezTo>
                <a:lnTo>
                  <a:pt x="2382" y="11691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9405"/>
              </a:gs>
              <a:gs pos="100000">
                <a:srgbClr val="fea02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27"/>
          <p:cNvSpPr/>
          <p:nvPr/>
        </p:nvSpPr>
        <p:spPr>
          <a:xfrm>
            <a:off x="6835680" y="5695920"/>
            <a:ext cx="1371600" cy="1162080"/>
          </a:xfrm>
          <a:prstGeom prst="rect">
            <a:avLst/>
          </a:prstGeom>
          <a:gradFill rotWithShape="0">
            <a:gsLst>
              <a:gs pos="0">
                <a:srgbClr val="734201"/>
              </a:gs>
              <a:gs pos="100000">
                <a:srgbClr val="8f52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51"/>
          <p:cNvSpPr/>
          <p:nvPr/>
        </p:nvSpPr>
        <p:spPr>
          <a:xfrm>
            <a:off x="5600880" y="5691240"/>
            <a:ext cx="1250640" cy="1166760"/>
          </a:xfrm>
          <a:custGeom>
            <a:avLst/>
            <a:gdLst/>
            <a:ahLst/>
            <a:rect l="l" t="t" r="r" b="b"/>
            <a:pathLst>
              <a:path w="1250421" h="1166812">
                <a:moveTo>
                  <a:pt x="0" y="0"/>
                </a:moveTo>
                <a:lnTo>
                  <a:pt x="1250421" y="4762"/>
                </a:lnTo>
                <a:lnTo>
                  <a:pt x="1250421" y="1166812"/>
                </a:lnTo>
                <a:lnTo>
                  <a:pt x="0" y="1166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a6b01"/>
              </a:gs>
              <a:gs pos="100000">
                <a:srgbClr val="d77c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35"/>
          <p:cNvSpPr/>
          <p:nvPr/>
        </p:nvSpPr>
        <p:spPr>
          <a:xfrm>
            <a:off x="7238880" y="3871800"/>
            <a:ext cx="19479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“ </a:t>
            </a: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chuyên cung cấp</a:t>
            </a:r>
            <a:br>
              <a:rPr sz="1200"/>
            </a:b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các mẫu thiết kế hàng đầu về PowerPoint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36"/>
          <p:cNvSpPr/>
          <p:nvPr/>
        </p:nvSpPr>
        <p:spPr>
          <a:xfrm>
            <a:off x="3997440" y="250200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37"/>
          <p:cNvSpPr/>
          <p:nvPr/>
        </p:nvSpPr>
        <p:spPr>
          <a:xfrm>
            <a:off x="508644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38"/>
          <p:cNvSpPr/>
          <p:nvPr/>
        </p:nvSpPr>
        <p:spPr>
          <a:xfrm>
            <a:off x="602460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cd3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39"/>
          <p:cNvSpPr/>
          <p:nvPr/>
        </p:nvSpPr>
        <p:spPr>
          <a:xfrm>
            <a:off x="199404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cd3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40"/>
          <p:cNvSpPr/>
          <p:nvPr/>
        </p:nvSpPr>
        <p:spPr>
          <a:xfrm>
            <a:off x="289080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41"/>
          <p:cNvSpPr/>
          <p:nvPr/>
        </p:nvSpPr>
        <p:spPr>
          <a:xfrm>
            <a:off x="399744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42"/>
          <p:cNvSpPr/>
          <p:nvPr/>
        </p:nvSpPr>
        <p:spPr>
          <a:xfrm>
            <a:off x="2357280" y="586116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43"/>
          <p:cNvSpPr/>
          <p:nvPr/>
        </p:nvSpPr>
        <p:spPr>
          <a:xfrm>
            <a:off x="10620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cd3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44"/>
          <p:cNvSpPr/>
          <p:nvPr/>
        </p:nvSpPr>
        <p:spPr>
          <a:xfrm>
            <a:off x="69516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cd3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45"/>
          <p:cNvSpPr/>
          <p:nvPr/>
        </p:nvSpPr>
        <p:spPr>
          <a:xfrm>
            <a:off x="565632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8T07:15:53Z</dcterms:created>
  <dc:creator>dell</dc:creator>
  <dc:description/>
  <dc:language>en-US</dc:language>
  <cp:lastModifiedBy>MavisVermillion</cp:lastModifiedBy>
  <dcterms:modified xsi:type="dcterms:W3CDTF">2016-05-16T08:53:22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510</vt:lpwstr>
  </property>
</Properties>
</file>