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FC40B-5C32-4F5B-85BC-D8E809102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BB9490F6-B2AA-4DA4-8134-F746B7B23F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DC7232-2E7F-43A0-AA31-3DCFACB523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6E5D454-CD9E-4030-9686-35CAFAE2029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305AE63-0DB7-461E-A200-8C652F2A5FB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209D540-7626-4865-8F2A-23000839956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AEC28E-8959-42A1-B16B-C77E356EF65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2A04F78-469F-4109-B649-859D6AFAF6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674BE26-46E2-4451-95FB-8461FE6447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2F562D7-2356-4C79-85EA-A58DBF7B021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B0DF28F-3132-4306-9DB1-51F522436DD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70C1E90-4E47-4174-BF1D-96AF0E9B31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E8B56446-9915-4D78-B257-EAA6F0EBA5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4D609D3-A4E0-4469-A8C3-A88F26C37A4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9F791A9-06CA-4666-8280-228A75F21A1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D9245E4-6A0F-4DED-B894-AD772CE4E8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8527CBC-5D42-48F8-8765-7BDC538DB7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EE7F08A-CBE4-4D21-8598-F0A53F4C43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4523F97-290D-4697-A448-CADD5EDACB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319FA0C-96BF-4FD7-B352-E1DB21BEF1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9925299-14B0-413D-8835-A674BA6669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D669BA7-3757-4B58-9CEE-F3AAA0E006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A7C7BB0-3FF8-4BA1-AE5C-6BA4E445B1E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52F752A6-1228-45ED-9759-842DC2C7C8F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9AD48C0-B694-4CE8-9DB7-DD76685FCDD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F838707-E704-4A79-8977-430DE11ABA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DA6B600-8AAB-48A7-BB21-E5E3ACE476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1ED426A-37A0-4A17-90C3-5F6B85EEEB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EA38C57-8998-4EDA-9566-B4BAFD27EA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876B348-981A-4234-BDFF-99E9F7C7DD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755219F-BC4F-42EE-B630-CD68017BC5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164610A-B392-432E-96EA-DF24256C9F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C946037-1FF4-43F2-8BAE-0923895976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C0EC10-D221-4D13-8E64-6703AF12A1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124ED4-8F94-4EC3-8101-35B0499EC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F80802-55F9-4FCD-B1E1-2E52ADE913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4B91248-711A-4849-9AB3-5CD89A83FA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CE45CF1-1DBC-4676-A014-2D315A94F9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60F452E-A3A7-425B-9400-FB19E53745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F75966F-C08D-4EF9-877B-5C736323FD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07914DE-2C42-4A88-AB04-19843FB11E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846916C-5367-4D39-B879-9B2C1D7171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56073BE-EDCB-4441-B9BC-A5A8A3ED9A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6434D0C-FE5E-48D7-8C12-BF5EB055A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7296CA-360C-45A5-9356-89B3E0129F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9734C4-85C5-4B51-9C01-161C2F657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83CC0B2-1618-4BCF-9210-9875CE7175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E956BB3-9DE7-4B6B-80F6-B5A855AD1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9296A2C-6951-44B8-84BA-C62936AEDF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9B21D12-82FB-4210-94B6-F98E1CC908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4EAB3E7-B27B-4C11-A489-416A4A936C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0FE7EA-7091-4D71-8B5A-0AB43CFFC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96F510-C839-4C11-95A8-068462536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C41F74-57E2-4F64-9EB0-15A7F5865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DB88F3-488E-42D4-AD9C-BF5524FC2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E21EE4-3D87-4F7E-BA56-2CC9A3626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23EE1F23-2DDB-4584-864B-8E22DD89B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7BCFB9-7A8C-46EB-8521-CDBD30095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C51224-CE47-47A5-8AE5-2C6880E193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BF91B2-8D1A-4CBD-BA7D-9B52803CB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D5C02D-48BB-4334-BB90-C96A0C5D6C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A6386F-FB19-467D-8A51-8E3CD6F6AC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5C1B0F-0005-4B2D-A42A-AFBE40D33E0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A313D6-3329-4CE9-98F9-02A30C7462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CED75F2-1099-4457-91E4-860F46BC20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3C4D2A-035C-42C4-B30A-F5D720C3D1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813499A-B64B-4D4C-A207-370BD885F1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A0FC5C85-A504-4F71-8140-870F0080DB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439952-5325-4920-A077-4E9E939AAA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C002A8-15D2-4C69-AC30-7EA61BE222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FAFCC5-71B0-4F9C-8B18-37351C839C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7BBE12-745A-4441-9C0E-729D0B327F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BE21C0-575C-41E4-9110-2179C58813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9B7950E-D0DE-43F3-A458-3A352F77E2A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A6F79CE-7F63-48B1-8251-A0BD1F59ABE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8B69926-2882-419C-AA22-62074E44A9E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9B17C13-4A86-4B39-B3E3-1CADC70DB4E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7E6B8CF-CAD2-40F0-A7E9-F0C7C4D909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2DEC8065-9D38-457D-82FF-4E2766F290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34986B-2D3C-47D2-8A09-F619A36BED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E5D47A-6900-49B2-BCA4-0727BA49360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BB14275-849A-448A-BCBD-1135C07620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27E155-2FB7-46E9-8435-A88E876255A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0AE980-44A6-49CA-B322-4B9F25CA9AF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3AEAAC-4D68-475F-9434-548782DE4A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D2DEBE-22AE-4C8F-BB00-2920805125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0B7A4A4-FB3C-4146-954F-EA45DFF3578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B4607E0-ACF5-4485-92C4-7E19C58A9FB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63E052F-8C9D-4AFA-A18C-EB5FF8256A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FA60FF9D-1AB0-47C7-BC55-700418E5EA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4128153-72FE-4554-9DE8-0E8332EA6E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5D7B656-7916-41C2-AB0A-AC6D4A1879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97A694F-696A-4B09-A936-9BF58DB473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73195D-D56A-4F6F-8F5D-8F94B5BBD5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9D924D-C38F-4B69-BE77-2ED931C4A7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5A75199-6116-43C0-9FED-59467F9814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213BAED-B370-4906-8B6F-6346CFE58A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C1B975-7379-4D5E-9C33-C8F979FF1E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7920822-6CAB-45E2-850D-A775C359C0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135DB5-91B6-435C-A19F-1178B0DE8C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2DA2ACD5-CF6A-45A0-9F6B-07041F92F7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4632754-E264-4393-853A-1CF0B81BA78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171EA99-FDDC-4A05-B5E7-16D881F391A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FCB0A44-809B-4F1D-858E-4EBAAAEDF9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0EDFC18-89A0-47F7-8E90-C064F4B6360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AD28905-CF39-4475-93B8-9A43F0FCA1C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CDAD947-B0CE-4775-BF7A-62B40A87916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F19897-A748-494E-A40F-8FDB593B4F6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B5549E-3B48-4AA2-B81A-D3E0420A0EE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E84D95A-5BC7-4207-B413-BFD74E389D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7E4C512-848B-4955-BE2C-AE4B9C832A9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69F6BA12-AC04-4B35-999E-FC173A528C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8E04AF6-8D22-4EEA-9038-9D26DBA6C12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8F70181-74A0-4852-A9A2-F152CDC8B97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43A8E4E-6426-48DF-A8A4-EC42B189751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ED0A422-B0C8-415C-B519-11DCF4A78DA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F9B1107-9E07-44BA-BEDA-5C5EBCDA02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93AF83-874C-4962-9CC5-9253AA947B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9AE3BA-5062-42EA-B252-F67F7C1C2F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B545964-6753-406E-966F-3FA55455428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74167EA-6517-44BE-9535-153D1558342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BE3480C-D999-4A74-8CC6-ADE1A49E41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C6192C0B-FF59-4E2D-9E53-57C64AB3A6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EEAF1B-A808-416D-BCAD-F39B700922E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381E73-18DF-415F-825E-DF1FBB89C3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4B96ED0-D0D0-4604-82FE-0B33A3850B5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1B5B7A2-03DA-44AC-BFD7-9F175FB8D11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A0FE116-EAE7-469A-A70D-7E7D2C3D734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D7F4366-2912-4570-8FF5-1DEA5ADB2D0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0481F34-8132-46D7-BD7C-E0BE1B0AAB8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7BC142D-75C7-459C-B589-D1DC7A7EB9A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1EB68E4-A17F-43EC-B268-D846110514E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5B969F1-EB63-49FB-B912-BCC9FF88D07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222E337F-47F1-4522-9F66-953219806B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4D91843-8A12-48C0-B6D3-03C239C943D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E0FC1E-8292-429F-9DD6-2720879E0BE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F33EE9A-663D-47C9-9544-140CB9274C6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E3786B-57BA-4BFA-BE23-A63A7FB3D7B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5D72C94-2BFE-4CC6-A080-BF57698E76E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E46C514-6836-4A2D-953F-CFB87039039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4E394C9-052D-454D-80A6-CC8F53FF1C1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3D64184-0799-4A13-98FF-BB2B6D4DB08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1B08BB5-F084-4A9C-B7E1-28C0331FA41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3259422-C494-4E14-AEE5-BBC98B30CB9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1D36-1F2F-4E74-96F0-60E1B2091AA8}"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782E-5912-4ECF-A91A-EDD3AFC9507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B5AF-ADEC-4A70-A652-4378CC053143}"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830A-62DF-42F4-B3C6-8A1774925F2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38EF-0CE1-429E-AF5F-6B46C3F14EE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F247-FF48-4ED0-B7C3-2B206F869922}" type="datetime">
              <a:rPr b="0" lang="en-US" sz="2400" spc="-1" strike="noStrike">
                <a:solidFill>
                  <a:srgbClr val="878787"/>
                </a:solidFill>
                <a:latin typeface="Times New Roman"/>
              </a:rPr>
              <a:t>07/29/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7E5A-AF20-4D3A-88AA-78CBEF2E1A9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26DB-6A26-4866-8DCD-3AC351133ED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DD05-95AE-4C32-9ECE-303476796EDD}"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3163-8CC8-4E89-8358-8A891CC0743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F750-120E-477D-91CD-E1F87890244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888E-DBEC-4458-9E0E-8575208D5A8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EA0B-6009-4860-87FD-D5A03408247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E5FF-938E-481D-83DA-36BEB8C5739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0620-569D-45CD-BB53-71E97D23F959}"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496E-1B6A-4003-BD35-9158D9CE258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82FE-3B5B-4C69-BDB8-0DEC15BC296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29FE-B9F0-4055-B1D1-914E31BD849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8EA5-FB6E-4045-8AF2-749356F25A26}"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B51B-44DE-4186-B0FA-4C1C5188079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9F3F-5A81-4612-82D3-FC2D5A76D1F5}"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6312-D135-470D-86CD-DE839D49F71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223E-BA7C-42DA-90FE-D04995C53545}"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DA03-92D6-4C55-B85F-5B93F4BD90B5}"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510D-D842-40C6-A8F5-F91E16487E67}"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4F85-64BD-43ED-B445-8DDFA2BA77B7}"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161C-F23D-47A1-BC35-0EB744D80141}"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4580-ED07-489F-89B3-2D8D73223386}"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9F64-26FC-442A-9553-198FD6A83270}"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