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3EC-9756-4FDE-AFDE-CCC9F793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82D1-2C27-42E2-9D08-973CFB9D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C1B1-0A3B-4616-9C78-9808FEC5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F363-2DF3-423F-8EB4-4601DDD31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5FAC-8B50-4D73-9DAB-CB56C279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21EC-5967-4BC2-9E89-C755F6EB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5B59-D811-4911-A336-F68C1795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1F16-0C4E-40E2-B86A-7D03D238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C1FC-775F-4610-9772-C453088F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6543-AEF0-4D92-B19B-E53878D8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8164-1757-412B-949B-96185421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249D-C82F-4CF2-A55F-39CD801D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0662-61FF-4789-BB61-D784F90A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492D-2CAD-4E75-822E-E7AC0C5B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4B6A-03BE-4151-BAE9-5E5737DD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6545-5149-4321-A0F9-FB372F00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9217-C201-4407-8571-77EBA402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EDE11-CDE1-4F64-8F77-CC80A9F1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8F3AC-A30F-4F08-9A09-CE7A6535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7C1A9-1B61-4D1D-9DFD-72D63A30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5D656-5FD9-4092-97B0-B07E32E3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2C2DD-769F-4155-9566-62BEDF63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108-D8E1-48B5-A2A3-A06EB7D3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19379-4AD4-4423-BC33-18E2A67E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DD1CA-2565-4C6C-8DE0-F5764D03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FF880-0DD7-4BD4-92AC-C3EFFDEF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D40DA-EAFB-4A9F-9B02-05500D83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8A300-BAD3-422E-8FE1-F2EC45BE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89153-6D85-493D-A31A-62601A06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0A980-4083-4205-8FB4-21057AB8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93507-B3A3-4B8D-B639-22C8C655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DEBC9-56CE-4BDA-BF98-8DCAACB0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B0974-AF5E-414B-9626-172F3031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5E32-FEFE-4175-B00F-95CB2EF9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53126-8946-4323-8ADB-40074DFD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4D77A-C0BB-437E-B39B-80D613F6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FCFB6-D71E-42ED-A600-7D2AE38C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F1C3E-039C-4F7F-BF68-6F92613E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75BA7-318C-42DD-89C2-855B4752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7263B-5480-41A7-95E2-6F2CC89B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50A32-1DF3-4F5C-809B-0C8C6C93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BBAC9-8206-4312-BAE8-A3AA59C1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04D7C-2143-43B9-9CDC-A169D22A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821-20A0-4663-A50F-FBBC1042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02ED-C3F5-4C98-9A4C-B97B7145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E4ED-714D-409B-B71C-76498812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8872-FEFF-4DB2-93DA-50062C41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7D7-1263-4AB6-BD80-56837AE9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4F22-B9E3-4937-B1A6-96B70C9B3D58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5D46-00FD-4A69-9D65-DA326A4023B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5576-BA86-40F2-8A53-FA81FA8463A0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91BB-52E3-4ECB-B46F-C8ECE4B34B3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6"/>
          <p:cNvSpPr/>
          <p:nvPr/>
        </p:nvSpPr>
        <p:spPr>
          <a:xfrm>
            <a:off x="160200" y="144360"/>
            <a:ext cx="8831520" cy="6561360"/>
          </a:xfrm>
          <a:prstGeom prst="roundRect">
            <a:avLst>
              <a:gd name="adj" fmla="val 3912"/>
            </a:avLst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4736-B868-4CEB-B12A-476E57B360E5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0D03-08CD-45AF-BD98-F45AD515002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8BB2-9EC8-42A8-A3A7-B981F26B6BAA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DA94-CCF2-40C9-91FE-28AEAAA6844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4"/>
          <p:cNvSpPr/>
          <p:nvPr/>
        </p:nvSpPr>
        <p:spPr>
          <a:xfrm>
            <a:off x="973800" y="367200"/>
            <a:ext cx="70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Verdana"/>
              </a:rPr>
              <a:t>TỔNG HỢP SLIDE - TEMPLATES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ounded Rectangle 8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Rectangle 9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68" name="Rounded Rectangle 14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169" name="Rectangle 47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70" name="Rectangle 48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171" name="Oval 22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Group 24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173" name="Up Arrow 21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Round Same Side Corner Rectangle 23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5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48080"/>
          </a:xfrm>
          <a:prstGeom prst="rect">
            <a:avLst/>
          </a:prstGeom>
          <a:ln w="0">
            <a:noFill/>
          </a:ln>
        </p:spPr>
      </p:pic>
      <p:pic>
        <p:nvPicPr>
          <p:cNvPr id="176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14680"/>
          </a:xfrm>
          <a:prstGeom prst="rect">
            <a:avLst/>
          </a:prstGeom>
          <a:ln w="0">
            <a:noFill/>
          </a:ln>
        </p:spPr>
      </p:pic>
      <p:sp>
        <p:nvSpPr>
          <p:cNvPr id="177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224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5-Point Star 58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Group 59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180" name="Group 65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181" name="Oval 27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bdd5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3371a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Oval 7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9bc0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224c71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7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75a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18355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57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5996cd"/>
                </a:solidFill>
                <a:latin typeface="Arial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7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3371a9"/>
                </a:solidFill>
                <a:latin typeface="Arial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8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224c71"/>
                </a:solidFill>
                <a:latin typeface="Arial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28"/>
          <p:cNvSpPr/>
          <p:nvPr/>
        </p:nvSpPr>
        <p:spPr>
          <a:xfrm>
            <a:off x="2955960" y="4746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AIMIENPHI.V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82"/>
          <p:cNvSpPr/>
          <p:nvPr/>
        </p:nvSpPr>
        <p:spPr>
          <a:xfrm>
            <a:off x="2895480" y="3428640"/>
            <a:ext cx="167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OP TEMPL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83"/>
          <p:cNvSpPr/>
          <p:nvPr/>
        </p:nvSpPr>
        <p:spPr>
          <a:xfrm>
            <a:off x="2971800" y="2284920"/>
            <a:ext cx="167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OP SLI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ounded Rectangle 8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Rectangle 9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93" name="Rounded Rectangle 14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47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95" name="Rectangle 48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196" name="Oval 22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Group 24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198" name="Up Arrow 21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ound Same Side Corner Rectangle 23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0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36920"/>
          </a:xfrm>
          <a:prstGeom prst="rect">
            <a:avLst/>
          </a:prstGeom>
          <a:ln w="0">
            <a:noFill/>
          </a:ln>
        </p:spPr>
      </p:pic>
      <p:pic>
        <p:nvPicPr>
          <p:cNvPr id="201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02080"/>
          </a:xfrm>
          <a:prstGeom prst="rect">
            <a:avLst/>
          </a:prstGeom>
          <a:ln w="0">
            <a:noFill/>
          </a:ln>
        </p:spPr>
      </p:pic>
      <p:sp>
        <p:nvSpPr>
          <p:cNvPr id="202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5-Point Star 58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Group 59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205" name="Group 65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206" name="Oval 27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eba7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b24d1d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7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d788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8a2e4e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val 7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cd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87439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val 57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de6c36"/>
                </a:solidFill>
                <a:latin typeface="Arial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7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b83d68"/>
                </a:solidFill>
                <a:latin typeface="Arial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8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ac66bb"/>
                </a:solidFill>
                <a:latin typeface="Arial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28"/>
          <p:cNvSpPr/>
          <p:nvPr/>
        </p:nvSpPr>
        <p:spPr>
          <a:xfrm>
            <a:off x="2955960" y="474660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82"/>
          <p:cNvSpPr/>
          <p:nvPr/>
        </p:nvSpPr>
        <p:spPr>
          <a:xfrm>
            <a:off x="2955960" y="3414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83"/>
          <p:cNvSpPr/>
          <p:nvPr/>
        </p:nvSpPr>
        <p:spPr>
          <a:xfrm>
            <a:off x="2955960" y="211932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6"/>
          <p:cNvSpPr/>
          <p:nvPr/>
        </p:nvSpPr>
        <p:spPr>
          <a:xfrm>
            <a:off x="7050600" y="650556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d9d9d9"/>
                </a:solidFill>
                <a:latin typeface="Arial"/>
                <a:ea typeface="Calibri"/>
              </a:rPr>
              <a:t>www.PowerPointDep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ounded Rectangle 41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Rectangle 42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19" name="Rounded Rectangle 43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220" name="Rectangle 44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45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222" name="Oval 46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oup 47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224" name="Up Arrow 48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ound Same Side Corner Rectangle 49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6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38360"/>
          </a:xfrm>
          <a:prstGeom prst="rect">
            <a:avLst/>
          </a:prstGeom>
          <a:ln w="0">
            <a:noFill/>
          </a:ln>
        </p:spPr>
      </p:pic>
      <p:pic>
        <p:nvPicPr>
          <p:cNvPr id="227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04960"/>
          </a:xfrm>
          <a:prstGeom prst="rect">
            <a:avLst/>
          </a:prstGeom>
          <a:ln w="0">
            <a:noFill/>
          </a:ln>
        </p:spPr>
      </p:pic>
      <p:sp>
        <p:nvSpPr>
          <p:cNvPr id="228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5-Point Star 53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Group 54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231" name="Group 57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232" name="Oval 65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c8a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705032"/>
                </a:solidFill>
                <a:latin typeface="Calibri"/>
                <a:ea typeface="SimSu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6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bdb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6c6f4c"/>
                </a:solidFill>
                <a:latin typeface="Calibri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6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fec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d77c01"/>
                </a:solidFill>
                <a:latin typeface="Calibri"/>
                <a:ea typeface="SimSu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68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956b43"/>
                </a:solidFill>
                <a:latin typeface="Calibri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6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909465"/>
                </a:solidFill>
                <a:latin typeface="Calibri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7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fea022"/>
                </a:solidFill>
                <a:latin typeface="Calibri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71"/>
          <p:cNvSpPr/>
          <p:nvPr/>
        </p:nvSpPr>
        <p:spPr>
          <a:xfrm>
            <a:off x="2955960" y="474660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72"/>
          <p:cNvSpPr/>
          <p:nvPr/>
        </p:nvSpPr>
        <p:spPr>
          <a:xfrm>
            <a:off x="2955960" y="3414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73"/>
          <p:cNvSpPr/>
          <p:nvPr/>
        </p:nvSpPr>
        <p:spPr>
          <a:xfrm>
            <a:off x="2955960" y="211932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5"/>
          <p:cNvSpPr/>
          <p:nvPr/>
        </p:nvSpPr>
        <p:spPr>
          <a:xfrm>
            <a:off x="7131240" y="65055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d9d9d9"/>
                </a:solidFill>
                <a:latin typeface="Calibri"/>
                <a:ea typeface="SimSun"/>
              </a:rPr>
              <a:t>www.PowerPointDep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ounded Rectangle 41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Rectangle 42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45" name="Rounded Rectangle 43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246" name="Rectangle 44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45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248" name="Oval 46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47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250" name="Up Arrow 48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ound Same Side Corner Rectangle 49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2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38360"/>
          </a:xfrm>
          <a:prstGeom prst="rect">
            <a:avLst/>
          </a:prstGeom>
          <a:ln w="0">
            <a:noFill/>
          </a:ln>
        </p:spPr>
      </p:pic>
      <p:pic>
        <p:nvPicPr>
          <p:cNvPr id="253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04960"/>
          </a:xfrm>
          <a:prstGeom prst="rect">
            <a:avLst/>
          </a:prstGeom>
          <a:ln w="0">
            <a:noFill/>
          </a:ln>
        </p:spPr>
      </p:pic>
      <p:sp>
        <p:nvSpPr>
          <p:cNvPr id="254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5-Point Star 53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Group 54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257" name="Group 57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258" name="Oval 65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dff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6f9500"/>
                </a:solidFill>
                <a:latin typeface="Calibri"/>
                <a:ea typeface="SimSu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Oval 6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d0f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4a6300"/>
                </a:solidFill>
                <a:latin typeface="Calibri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Oval 6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c4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354800"/>
                </a:solidFill>
                <a:latin typeface="Calibri"/>
                <a:ea typeface="SimSu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Oval 68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94c600"/>
                </a:solidFill>
                <a:latin typeface="Calibri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val 6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6f9500"/>
                </a:solidFill>
                <a:latin typeface="Calibri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Oval 7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4a6300"/>
                </a:solidFill>
                <a:latin typeface="Calibri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71"/>
          <p:cNvSpPr/>
          <p:nvPr/>
        </p:nvSpPr>
        <p:spPr>
          <a:xfrm>
            <a:off x="2955960" y="474660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72"/>
          <p:cNvSpPr/>
          <p:nvPr/>
        </p:nvSpPr>
        <p:spPr>
          <a:xfrm>
            <a:off x="2955960" y="3414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73"/>
          <p:cNvSpPr/>
          <p:nvPr/>
        </p:nvSpPr>
        <p:spPr>
          <a:xfrm>
            <a:off x="2955960" y="211932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5"/>
          <p:cNvSpPr/>
          <p:nvPr/>
        </p:nvSpPr>
        <p:spPr>
          <a:xfrm>
            <a:off x="7131240" y="65055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d9d9d9"/>
                </a:solidFill>
                <a:latin typeface="Calibri"/>
                <a:ea typeface="SimSun"/>
              </a:rPr>
              <a:t>www.PowerPointDep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7:15:53Z</dcterms:created>
  <dc:creator>dell</dc:creator>
  <dc:description/>
  <dc:language>en-US</dc:language>
  <cp:lastModifiedBy>MavisVermillion</cp:lastModifiedBy>
  <dcterms:modified xsi:type="dcterms:W3CDTF">2016-05-16T09:08:46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