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7A851-32B0-4C02-999B-E8A08C6F0F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03A0AB7F-C3B8-47E7-B260-76A04E92582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E0135C6-6894-4063-807D-2BB977AD15B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0249134-47E9-4229-887E-146B85DD700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1BCB3B4-4C97-4780-A114-5D06B74B00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EA54D9-5A2A-4982-9F50-3F92B113254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22785B7-5E0F-49E4-BB5D-1A0C0AE2281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F0DE47B-C3F6-4EB9-B3BD-4A410673F20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0742B11-AF65-4D13-87C9-BDB9A0A4C0A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0ACEED1-019A-493B-A2CA-4657EB3B4E1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8BD1C3B-D818-4723-BAAA-1B9A3A1D36A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3C51959-77ED-4A86-95D1-EE53C9763FE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CBCA9389-4683-4A71-9AB2-2D19742AB0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7B50DD2-733E-49D5-B841-29516B64E1D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49F2359-99AE-46A7-93B7-FAFA003E42C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03D3862-0954-47AB-9791-E7E8945353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E9F98C7-0FFA-40E2-96DF-A794B197A9A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FE7ABD-EB97-4B71-AE31-155C5E01DF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8AD68C6-CE7E-48BC-A549-F4C05C29D8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BA6B87F-19AE-40F7-85C0-852A328E3C3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DAB423-6C7B-4C1E-A7AB-C9169E77A3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0814B41-B0DA-4D5C-97FA-BE670F85B01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218F057-279D-4129-9CB8-9E08858F270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52F66310-ADC3-417A-BFC7-5BDDA93F1F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BBAB479-7A46-4D9C-AA27-93CFBB6665F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9CFBC9A-7DAF-4910-B15E-C0037B821A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9CBEABD-344F-43D9-929C-F5B2931923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FC00DC3-42A9-4643-8A91-0CF1C2E1DE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FEA166C-55BC-4604-AAF8-85C96CB96B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A8F7C2C-93C2-47B2-B53C-4A60217307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227D483-D9CC-48BE-B60B-E3C5418E2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E03881E-185C-4DA4-AE43-0899E6AA96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9371002-3194-4DE4-9691-5FC222CC3B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3065322-2285-4235-8BA9-0DD1AD8224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7AD182-BC37-4D64-9280-EF8EE4115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4F999DD-4524-49BD-805B-5C43C88E8F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16DB0A7-9F98-4110-B32C-5D0FDD2B10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303A3CB-18E6-44FE-BC5C-D451EC4F1F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608B009-30F0-42CD-BE6E-8BA2DC58C8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F9EBE11-52A8-47FD-BC0C-71C0C273A1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B46284C-D203-442D-B3D9-FE0C88C345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E94EC0F-B02D-4B70-83DD-25FC30C54F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5FE323B-4ED6-45A1-A5F7-114980DA3E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6D8987F-0374-4F84-B5F6-D6A7382136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3CBEF19-58F1-4318-B5B7-FDA12BACC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4AA81D0-923C-4CFD-81AC-C04E241B9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E9655DC-C36C-44DC-BE71-1DF23D3021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F97D4D0-A5EA-4DC6-A49B-4F4A376C0F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A2F4BA1-AD5B-4233-A301-18E9F7A1B8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32BE620-CEF9-4372-BA2F-5E8AB5DAF6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D085242-C832-4DF3-A57B-71B9A5CC94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9F9CAF-3A3C-4620-99E5-363908476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DB3BB7-D9AC-4575-9916-A2FDD24E2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7D9008-98FA-4E95-A33F-47968ECB6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28DE1C-554B-4CF6-A11F-76C449FCA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01314E-35B2-4BF2-BAD8-44259C118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EBA35D1D-F4B3-432A-A3C2-6E13E082C1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1EA4FF-EB47-4B99-891E-30E799129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57D350-E0D0-489F-AF51-998CC33EA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624368-8920-40DF-A8FA-1C9F7F147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841931E-44AC-4BF8-B12F-3027B86C940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C1D97A-B689-40AF-A7AE-F2D374797B8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3A15C05-B146-4388-A1BA-A212C738B9A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11EF57-7A3A-48EB-98A6-F415CFFEC16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DE3F5B3-CD3C-426D-8BFC-4E814CF0F51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118752F-BBCB-47DD-ABF0-0443394D30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F42F11-EB9F-443F-A69C-7FF708ACB4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580453EF-4B2A-456F-8BB1-E3254ECF7B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D76447-7799-4D4D-81D1-0141D1FAA9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C1D92B-B192-4A11-B33F-C2CEC5248E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019AAA-B82E-4C58-B73B-613C6721C5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D2CC7E-C4C0-4C24-94D0-A81E128B06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C05029-3FE3-4BB2-A448-CCFB01B155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DBC66B7-6569-4013-B666-F3F8DEAFB6A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46A2391-2148-4FE2-A020-4F4A67B2CDA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5DB42C7-FAE0-4101-A1FA-EF9A604C6EC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B38A9D2-12B9-408C-8618-6C4EF8E186C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8FD64E-A6EC-4360-8182-97A5207D8BE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1802251C-4DB3-4D54-9B6D-523C22699F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065658D-DE1A-408E-ADFF-9B5B8E2E0DB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2FE26C9-30F1-4828-A4E8-F0FA655897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FD763C8-E75C-43DC-972E-3B9D2F52A2B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7EF2202-1E2E-4DF7-A0D8-68FEA4F416F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34DA4AA-9357-4C65-BD3F-D41738C64C2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5E6534-B307-46E8-B3D5-9A69C45AC3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81244D-F425-422F-88C8-C13F541F56D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972DBF3-866D-4881-A099-F67D4E95FBE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49FFF74-74C0-40E5-A523-BAB66C9559D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B0531BC-FCB2-4B25-A3EE-ED3DFB91EC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B7D73544-8FC3-4B50-A5F2-E9FDE57A05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CC7279E-B107-4E60-937B-2D2B428D161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9C891C9-546A-47C0-9D7F-89D0C39381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4CF71F-29FD-4006-9895-552D3EDE3F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0C1D88A-081D-488F-A005-6FC8F7A5FD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FCACC58-0E01-40CF-950D-7469C87FD2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46E3B2F-9258-42E2-9C0E-3B6CFF899A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05E5807-ED12-42E4-8BFA-C6194BF9DA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7DCCF0C-4361-4022-90D1-35A917768C4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5A7EB0E-C805-47C0-A703-F516B5A1FE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FFF7F2C-2EF2-42E8-8C0C-DE5DED5ED5D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E38C1083-8860-4123-B9CB-73022B1F28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9C5305F-1335-450C-9C2D-323A3226A7A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3BB846D-3815-4A73-A556-FDBC6484E05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74D7FE2-0EE2-4F12-955E-93A0B0164C5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C130821-86F1-4ADE-943B-390BDDEF844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50A33D2-172A-4C6D-949D-241EA176E1A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169EF86-F7BD-4E02-9015-1DA77FC6DF6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C54CD36-8258-4014-855D-E3F45E89449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5983D4-C720-426E-913C-5BE55D5B8D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A3DCFF-2018-418B-8A0E-7DC79F913DC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644680-69C8-4E8B-8238-3B7069F613A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76F8F8AE-E376-4059-A05C-C65B56F683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A835698-BBBF-4182-AF6E-F62705ABEBF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06A20A0-CA54-4497-9DEB-F8151716292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4169F24-8AA5-49AC-8DB2-904CC9B943E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B682266-A7D7-4691-9F09-E3513E19573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FA82C96-D200-4D95-B21C-09823E20A60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CE4C0AE-DF63-4A10-B98F-30DC9DD1777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524096-D75B-42C2-A73D-960C569F2AA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CBCA21-C561-45B2-BC44-771A850F7D8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BF7F87F-967A-409D-BA9A-785EB6A3178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8E4B979-A11B-4B63-951E-C50348FF6E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95DB20DE-1750-4E48-A548-9FCA4D4D3C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737CE1-13F3-4BC8-AAE2-9A306F6E0BB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CF4253-9A10-4949-B8A2-7C08CB34A81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81438B0-09D3-49D4-92DC-D5E9A2230A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894B0DF-D145-4C21-BAF2-F80F07A22B3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B2A2CEA-EA9E-4BF6-90A5-AB285CBE409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39A4C73-DB27-4D5B-83EB-9347A48D1F6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A9E349A-9B30-4D6F-9791-D7EA944FF33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D1BE64F-716A-40EC-BF11-F055CFD43BF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225A92F-8AFB-4FDA-A6DA-016E21CCA6F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1B950FE-61A6-4CBD-9590-EC65443F96E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7378D537-E6A7-4123-BE47-B7A2872B66C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1E5609A-F770-4252-BB20-6592D4754B9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2529FF0-BB25-49C6-A14A-B302264D46B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AC59C9-E6C6-4DFF-86FF-37CF3B9F25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7768DB-AAA3-4590-B829-A4FDAA2ABD0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5FBDC1F-69D1-4F59-B8D8-583C17F78B6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48247E2-5791-48EB-B7D9-E069D76B7A9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B2A25BB-74BE-4C63-A3FE-3228DBFE3ED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BCB2019-DF55-4016-B920-2223CDC303D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B012022-B55C-4E74-BFCC-8882E0B59EC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F27B2A7-0FEF-4A42-9840-E952560179B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91D1-FA94-449C-9D6B-5BF64C41F36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2C6B-A20C-447E-9EAF-972ECFB1F12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2CBA-2F50-47A0-8F1C-8BC34F290CC4}"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1556-5F60-4ECC-AEC4-7136B6BBCC5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3130-07CF-4C2F-87A5-C0776478CDE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551F-31A2-4E35-AE4A-4481FD9A9B01}" type="datetime">
              <a:rPr b="0" lang="en-US" sz="2400" spc="-1" strike="noStrike">
                <a:solidFill>
                  <a:srgbClr val="878787"/>
                </a:solidFill>
                <a:latin typeface="Times New Roman"/>
              </a:rPr>
              <a:t>07/29/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6F08-FCC2-4500-AAF5-3948C112420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7CAA-09D7-4F19-ACBB-5D4D54564AE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D9CA-EE0D-40BB-8B18-0027FEFF8B3C}"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44E0-D022-406C-A63F-963A807B36C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0537-382B-4723-818F-083C60CE3A0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B206-79E7-403C-89FB-DDEFD6AD5E6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4F20-B642-40B8-A07E-C89B7F68F8F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367D-DFE8-4EE8-9C7F-657F2F20BC7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1A5E-8368-4F91-A82F-53C69D860F6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913C-4A5C-461B-8692-C4E4F702859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B2B6-F252-4CC8-8A0B-8BEE2A47EB6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18D9-375D-4260-B070-7469CE277F3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4760-0B75-44CB-98D5-EEBECBC0031C}"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D6B3-7786-44D7-8BB2-21792B322BE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A869-0191-4FCF-AF09-F051CE61AE3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5C68-78F4-438F-81D2-C2756801F81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7B06-4B7F-4FE6-B3A3-ADB7E058BB69}"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F3F1-E4A5-4FFF-8A72-1162B4C5D26A}"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86AE-44A9-4E27-89E1-083113A5FB30}"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A8CC-9FB8-48CD-973C-6FA5B27DCC76}"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1B05-24B3-45F8-AA91-29BBC1202766}"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45BE-67C0-40A9-8079-92004713793F}"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4776-2D4A-4A1E-865F-B64B24A4D737}"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