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60CAF-2B32-44B6-A357-F666454832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921DA-7323-4FFE-B7CD-EF9F731904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7BA4D-61A4-4BAB-9A73-FF23B2386C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1B0EA-EA1D-4051-90A5-570A46AB9AC6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Slide Number Placeholder 22"/>
          <p:cNvSpPr/>
          <p:nvPr/>
        </p:nvSpPr>
        <p:spPr>
          <a:xfrm>
            <a:off x="8550360" y="6327720"/>
            <a:ext cx="457200" cy="457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54A4A-5AF0-42F7-94C2-9A054E0ABBE6}" type="slidenum">
              <a:rPr b="0" lang="en-US" sz="1200" spc="-1" strike="noStrike">
                <a:solidFill>
                  <a:srgbClr val="59595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lide Number Placeholder 22"/>
          <p:cNvSpPr/>
          <p:nvPr/>
        </p:nvSpPr>
        <p:spPr>
          <a:xfrm>
            <a:off x="8550360" y="6327720"/>
            <a:ext cx="457200" cy="457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64AA8-0D11-480F-A3D3-FDAA0497EF60}" type="slidenum">
              <a:rPr b="0" lang="en-US" sz="1200" spc="-1" strike="noStrike">
                <a:solidFill>
                  <a:srgbClr val="59595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CF2FB-B742-4B7D-91C0-D02859A04C38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13.xml"/><Relationship Id="rId10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Group 21"/>
          <p:cNvGrpSpPr/>
          <p:nvPr/>
        </p:nvGrpSpPr>
        <p:grpSpPr>
          <a:xfrm>
            <a:off x="696960" y="3450960"/>
            <a:ext cx="7151760" cy="290520"/>
            <a:chOff x="696960" y="3450960"/>
            <a:chExt cx="7151760" cy="290520"/>
          </a:xfrm>
        </p:grpSpPr>
        <p:sp>
          <p:nvSpPr>
            <p:cNvPr id="90" name="Straight Connector 11"/>
            <p:cNvSpPr/>
            <p:nvPr/>
          </p:nvSpPr>
          <p:spPr>
            <a:xfrm>
              <a:off x="1090440" y="3592440"/>
              <a:ext cx="6758280" cy="21960"/>
            </a:xfrm>
            <a:prstGeom prst="line">
              <a:avLst/>
            </a:prstGeom>
            <a:ln w="9360">
              <a:solidFill>
                <a:srgbClr val="adad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35"/>
            <p:cNvSpPr/>
            <p:nvPr/>
          </p:nvSpPr>
          <p:spPr>
            <a:xfrm rot="16200000">
              <a:off x="748440" y="3399480"/>
              <a:ext cx="290520" cy="393480"/>
            </a:xfrm>
            <a:custGeom>
              <a:avLst/>
              <a:gdLst/>
              <a:ahLst/>
              <a:rect l="l" t="t" r="r" b="b"/>
              <a:pathLst>
                <a:path w="1441790" h="2081221">
                  <a:moveTo>
                    <a:pt x="737934" y="2081221"/>
                  </a:moveTo>
                  <a:lnTo>
                    <a:pt x="64040" y="1006483"/>
                  </a:lnTo>
                  <a:cubicBezTo>
                    <a:pt x="-70104" y="659615"/>
                    <a:pt x="29116" y="455621"/>
                    <a:pt x="154528" y="265915"/>
                  </a:cubicBezTo>
                  <a:cubicBezTo>
                    <a:pt x="280734" y="105842"/>
                    <a:pt x="516478" y="537"/>
                    <a:pt x="721265" y="8"/>
                  </a:cubicBezTo>
                  <a:cubicBezTo>
                    <a:pt x="956745" y="-1051"/>
                    <a:pt x="1166031" y="97904"/>
                    <a:pt x="1327691" y="308777"/>
                  </a:cubicBezTo>
                  <a:cubicBezTo>
                    <a:pt x="1453633" y="547961"/>
                    <a:pt x="1472417" y="777619"/>
                    <a:pt x="1398334" y="976321"/>
                  </a:cubicBezTo>
                  <a:lnTo>
                    <a:pt x="737934" y="2081221"/>
                  </a:lnTo>
                  <a:close/>
                </a:path>
              </a:pathLst>
            </a:cu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2" name="TextBox 2"/>
          <p:cNvSpPr/>
          <p:nvPr/>
        </p:nvSpPr>
        <p:spPr>
          <a:xfrm>
            <a:off x="3149640" y="230040"/>
            <a:ext cx="280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800" spc="-1" strike="noStrike">
                <a:solidFill>
                  <a:srgbClr val="6b7073"/>
                </a:solidFill>
                <a:latin typeface="Arial"/>
                <a:ea typeface="Arial"/>
              </a:rPr>
              <a:t>TIÊU ĐỀ CHÍN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TextBox 237"/>
          <p:cNvSpPr/>
          <p:nvPr/>
        </p:nvSpPr>
        <p:spPr>
          <a:xfrm>
            <a:off x="4946760" y="4714920"/>
            <a:ext cx="137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Nội dung chính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Box 249"/>
          <p:cNvSpPr/>
          <p:nvPr/>
        </p:nvSpPr>
        <p:spPr>
          <a:xfrm>
            <a:off x="1240560" y="2327760"/>
            <a:ext cx="1638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171360" indent="-171360">
              <a:buClr>
                <a:srgbClr val="3c3c3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3c3c3c"/>
                </a:solidFill>
                <a:latin typeface="Arial"/>
                <a:ea typeface="Arial"/>
              </a:rPr>
              <a:t>Chú thích của bạ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1360" indent="-171360">
              <a:buClr>
                <a:srgbClr val="3c3c3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3c3c3c"/>
                </a:solidFill>
                <a:latin typeface="Arial"/>
                <a:ea typeface="Arial"/>
              </a:rPr>
              <a:t>Chú thích của bạ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1360" indent="-171360">
              <a:buClr>
                <a:srgbClr val="3c3c3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3c3c3c"/>
                </a:solidFill>
                <a:latin typeface="Arial"/>
                <a:ea typeface="Arial"/>
              </a:rPr>
              <a:t>Chú thích của bạ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Box 250"/>
          <p:cNvSpPr/>
          <p:nvPr/>
        </p:nvSpPr>
        <p:spPr>
          <a:xfrm>
            <a:off x="1245240" y="1821240"/>
            <a:ext cx="115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1600" spc="-1" strike="noStrike">
                <a:solidFill>
                  <a:srgbClr val="2e95c0"/>
                </a:solidFill>
                <a:latin typeface="Arial"/>
                <a:ea typeface="Arial"/>
              </a:rPr>
              <a:t>Thêm chữ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Group 268" descr=""/>
          <p:cNvPicPr/>
          <p:nvPr/>
        </p:nvPicPr>
        <p:blipFill>
          <a:blip r:embed="rId1"/>
          <a:stretch/>
        </p:blipFill>
        <p:spPr>
          <a:xfrm>
            <a:off x="749160" y="1908000"/>
            <a:ext cx="506520" cy="292320"/>
          </a:xfrm>
          <a:prstGeom prst="rect">
            <a:avLst/>
          </a:prstGeom>
          <a:ln w="0">
            <a:noFill/>
          </a:ln>
        </p:spPr>
      </p:pic>
      <p:sp>
        <p:nvSpPr>
          <p:cNvPr id="97" name="Straight Connector 25"/>
          <p:cNvSpPr/>
          <p:nvPr/>
        </p:nvSpPr>
        <p:spPr>
          <a:xfrm>
            <a:off x="1359000" y="2217600"/>
            <a:ext cx="1295280" cy="0"/>
          </a:xfrm>
          <a:prstGeom prst="line">
            <a:avLst/>
          </a:prstGeom>
          <a:ln w="9360">
            <a:solidFill>
              <a:srgbClr val="7bc2d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Freeform 97"/>
          <p:cNvSpPr/>
          <p:nvPr/>
        </p:nvSpPr>
        <p:spPr>
          <a:xfrm flipH="1">
            <a:off x="6444360" y="4213080"/>
            <a:ext cx="295560" cy="346320"/>
          </a:xfrm>
          <a:custGeom>
            <a:avLst/>
            <a:gdLst/>
            <a:ahLst/>
            <a:rect l="l" t="t" r="r" b="b"/>
            <a:pathLst>
              <a:path w="303" h="360">
                <a:moveTo>
                  <a:pt x="303" y="102"/>
                </a:moveTo>
                <a:lnTo>
                  <a:pt x="303" y="360"/>
                </a:lnTo>
                <a:lnTo>
                  <a:pt x="0" y="360"/>
                </a:lnTo>
                <a:lnTo>
                  <a:pt x="0" y="0"/>
                </a:lnTo>
                <a:lnTo>
                  <a:pt x="200" y="0"/>
                </a:lnTo>
                <a:lnTo>
                  <a:pt x="303" y="102"/>
                </a:lnTo>
                <a:close/>
                <a:moveTo>
                  <a:pt x="153" y="148"/>
                </a:moveTo>
                <a:lnTo>
                  <a:pt x="153" y="37"/>
                </a:lnTo>
                <a:lnTo>
                  <a:pt x="38" y="37"/>
                </a:lnTo>
                <a:lnTo>
                  <a:pt x="38" y="322"/>
                </a:lnTo>
                <a:lnTo>
                  <a:pt x="266" y="322"/>
                </a:lnTo>
                <a:lnTo>
                  <a:pt x="266" y="148"/>
                </a:lnTo>
                <a:lnTo>
                  <a:pt x="153" y="148"/>
                </a:lnTo>
                <a:close/>
                <a:moveTo>
                  <a:pt x="192" y="43"/>
                </a:moveTo>
                <a:lnTo>
                  <a:pt x="192" y="111"/>
                </a:lnTo>
                <a:lnTo>
                  <a:pt x="260" y="111"/>
                </a:lnTo>
                <a:lnTo>
                  <a:pt x="192" y="43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xtBox 252"/>
          <p:cNvSpPr/>
          <p:nvPr/>
        </p:nvSpPr>
        <p:spPr>
          <a:xfrm>
            <a:off x="5529960" y="2327760"/>
            <a:ext cx="1638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171360" indent="-171360">
              <a:buClr>
                <a:srgbClr val="3c3c3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3c3c3c"/>
                </a:solidFill>
                <a:latin typeface="Arial"/>
                <a:ea typeface="Arial"/>
              </a:rPr>
              <a:t>Chú thích của bạ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1360" indent="-171360">
              <a:buClr>
                <a:srgbClr val="3c3c3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3c3c3c"/>
                </a:solidFill>
                <a:latin typeface="Arial"/>
                <a:ea typeface="Arial"/>
              </a:rPr>
              <a:t>Chú thích của bạ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1360" indent="-171360">
              <a:buClr>
                <a:srgbClr val="3c3c3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3c3c3c"/>
                </a:solidFill>
                <a:latin typeface="Arial"/>
                <a:ea typeface="Arial"/>
              </a:rPr>
              <a:t>Chú thích của bạ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Box 253"/>
          <p:cNvSpPr/>
          <p:nvPr/>
        </p:nvSpPr>
        <p:spPr>
          <a:xfrm>
            <a:off x="5535360" y="1821240"/>
            <a:ext cx="115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1600" spc="-1" strike="noStrike">
                <a:solidFill>
                  <a:srgbClr val="2e95c0"/>
                </a:solidFill>
                <a:latin typeface="Arial"/>
                <a:ea typeface="Arial"/>
              </a:rPr>
              <a:t>Thêm chữ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Straight Connector 261"/>
          <p:cNvSpPr/>
          <p:nvPr/>
        </p:nvSpPr>
        <p:spPr>
          <a:xfrm>
            <a:off x="5653080" y="2217600"/>
            <a:ext cx="1295280" cy="0"/>
          </a:xfrm>
          <a:prstGeom prst="line">
            <a:avLst/>
          </a:prstGeom>
          <a:ln w="9360">
            <a:solidFill>
              <a:srgbClr val="7bc2d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Box 264"/>
          <p:cNvSpPr/>
          <p:nvPr/>
        </p:nvSpPr>
        <p:spPr>
          <a:xfrm>
            <a:off x="2774880" y="4645440"/>
            <a:ext cx="1638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171360" indent="-171360">
              <a:buClr>
                <a:srgbClr val="3c3c3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3c3c3c"/>
                </a:solidFill>
                <a:latin typeface="Arial"/>
                <a:ea typeface="Arial"/>
              </a:rPr>
              <a:t>Chú thích của bạ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1360" indent="-171360">
              <a:buClr>
                <a:srgbClr val="3c3c3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3c3c3c"/>
                </a:solidFill>
                <a:latin typeface="Arial"/>
                <a:ea typeface="Arial"/>
              </a:rPr>
              <a:t>Chú thích của bạ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1360" indent="-171360">
              <a:buClr>
                <a:srgbClr val="3c3c3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3c3c3c"/>
                </a:solidFill>
                <a:latin typeface="Arial"/>
                <a:ea typeface="Arial"/>
              </a:rPr>
              <a:t>Chú thích của bạ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Box 265"/>
          <p:cNvSpPr/>
          <p:nvPr/>
        </p:nvSpPr>
        <p:spPr>
          <a:xfrm>
            <a:off x="2779560" y="4138200"/>
            <a:ext cx="115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1600" spc="-1" strike="noStrike">
                <a:solidFill>
                  <a:srgbClr val="2e95c0"/>
                </a:solidFill>
                <a:latin typeface="Arial"/>
                <a:ea typeface="Arial"/>
              </a:rPr>
              <a:t>Thêm chữ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Straight Connector 266"/>
          <p:cNvSpPr/>
          <p:nvPr/>
        </p:nvSpPr>
        <p:spPr>
          <a:xfrm>
            <a:off x="2898720" y="4535640"/>
            <a:ext cx="1295280" cy="0"/>
          </a:xfrm>
          <a:prstGeom prst="line">
            <a:avLst/>
          </a:prstGeom>
          <a:ln w="9360">
            <a:solidFill>
              <a:srgbClr val="7bc2d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Box 269"/>
          <p:cNvSpPr/>
          <p:nvPr/>
        </p:nvSpPr>
        <p:spPr>
          <a:xfrm>
            <a:off x="6758640" y="4645440"/>
            <a:ext cx="1638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171360" indent="-171360">
              <a:buClr>
                <a:srgbClr val="3c3c3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3c3c3c"/>
                </a:solidFill>
                <a:latin typeface="Arial"/>
                <a:ea typeface="Arial"/>
              </a:rPr>
              <a:t>Chú thích của bạ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1360" indent="-171360">
              <a:buClr>
                <a:srgbClr val="3c3c3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3c3c3c"/>
                </a:solidFill>
                <a:latin typeface="Arial"/>
                <a:ea typeface="Arial"/>
              </a:rPr>
              <a:t>Chú thích của bạ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1360" indent="-171360">
              <a:buClr>
                <a:srgbClr val="3c3c3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3c3c3c"/>
                </a:solidFill>
                <a:latin typeface="Arial"/>
                <a:ea typeface="Arial"/>
              </a:rPr>
              <a:t>Chú thích của bạ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Box 270"/>
          <p:cNvSpPr/>
          <p:nvPr/>
        </p:nvSpPr>
        <p:spPr>
          <a:xfrm>
            <a:off x="6763320" y="4138200"/>
            <a:ext cx="115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1600" spc="-1" strike="noStrike">
                <a:solidFill>
                  <a:srgbClr val="2e95c0"/>
                </a:solidFill>
                <a:latin typeface="Arial"/>
                <a:ea typeface="Arial"/>
              </a:rPr>
              <a:t>Thêm chữ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Straight Connector 271"/>
          <p:cNvSpPr/>
          <p:nvPr/>
        </p:nvSpPr>
        <p:spPr>
          <a:xfrm>
            <a:off x="6881760" y="4535640"/>
            <a:ext cx="1295280" cy="0"/>
          </a:xfrm>
          <a:prstGeom prst="line">
            <a:avLst/>
          </a:prstGeom>
          <a:ln w="9360">
            <a:solidFill>
              <a:srgbClr val="7bc2d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Group 70" descr=""/>
          <p:cNvPicPr/>
          <p:nvPr/>
        </p:nvPicPr>
        <p:blipFill>
          <a:blip r:embed="rId2"/>
          <a:stretch/>
        </p:blipFill>
        <p:spPr>
          <a:xfrm>
            <a:off x="2438280" y="4200480"/>
            <a:ext cx="274680" cy="390600"/>
          </a:xfrm>
          <a:prstGeom prst="rect">
            <a:avLst/>
          </a:prstGeom>
          <a:ln w="0">
            <a:noFill/>
          </a:ln>
        </p:spPr>
      </p:pic>
      <p:pic>
        <p:nvPicPr>
          <p:cNvPr id="109" name="Group 275" descr=""/>
          <p:cNvPicPr/>
          <p:nvPr/>
        </p:nvPicPr>
        <p:blipFill>
          <a:blip r:embed="rId3"/>
          <a:stretch/>
        </p:blipFill>
        <p:spPr>
          <a:xfrm>
            <a:off x="5016600" y="1944720"/>
            <a:ext cx="463320" cy="341280"/>
          </a:xfrm>
          <a:prstGeom prst="rect">
            <a:avLst/>
          </a:prstGeom>
          <a:ln w="0">
            <a:noFill/>
          </a:ln>
        </p:spPr>
      </p:pic>
      <p:grpSp>
        <p:nvGrpSpPr>
          <p:cNvPr id="110" name="Group 30"/>
          <p:cNvGrpSpPr/>
          <p:nvPr/>
        </p:nvGrpSpPr>
        <p:grpSpPr>
          <a:xfrm>
            <a:off x="2666520" y="1346040"/>
            <a:ext cx="1757880" cy="2311560"/>
            <a:chOff x="2666520" y="1346040"/>
            <a:chExt cx="1757880" cy="2311560"/>
          </a:xfrm>
        </p:grpSpPr>
        <p:grpSp>
          <p:nvGrpSpPr>
            <p:cNvPr id="111" name="Group 3"/>
            <p:cNvGrpSpPr/>
            <p:nvPr/>
          </p:nvGrpSpPr>
          <p:grpSpPr>
            <a:xfrm>
              <a:off x="3481560" y="3544200"/>
              <a:ext cx="113400" cy="113400"/>
              <a:chOff x="3481560" y="3544200"/>
              <a:chExt cx="113400" cy="113400"/>
            </a:xfrm>
          </p:grpSpPr>
          <p:sp>
            <p:nvSpPr>
              <p:cNvPr id="112" name="Oval 119"/>
              <p:cNvSpPr/>
              <p:nvPr/>
            </p:nvSpPr>
            <p:spPr>
              <a:xfrm>
                <a:off x="3481560" y="3544200"/>
                <a:ext cx="113400" cy="113400"/>
              </a:xfrm>
              <a:prstGeom prst="ellipse">
                <a:avLst/>
              </a:prstGeom>
              <a:solidFill>
                <a:srgbClr val="2e95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127"/>
              <p:cNvSpPr/>
              <p:nvPr/>
            </p:nvSpPr>
            <p:spPr>
              <a:xfrm>
                <a:off x="3502080" y="3564720"/>
                <a:ext cx="72000" cy="72000"/>
              </a:xfrm>
              <a:prstGeom prst="ellips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4" name="Teardrop 278"/>
            <p:cNvSpPr/>
            <p:nvPr/>
          </p:nvSpPr>
          <p:spPr>
            <a:xfrm rot="8110800">
              <a:off x="2923560" y="1603080"/>
              <a:ext cx="1243080" cy="1243080"/>
            </a:xfrm>
            <a:custGeom>
              <a:avLst/>
              <a:gdLst/>
              <a:ahLst/>
              <a:rect l="l" t="t" r="r" b="b"/>
              <a:pathLst>
                <a:path w="1243272" h="1243083">
                  <a:moveTo>
                    <a:pt x="0" y="621542"/>
                  </a:moveTo>
                  <a:cubicBezTo>
                    <a:pt x="0" y="278274"/>
                    <a:pt x="278316" y="0"/>
                    <a:pt x="621636" y="0"/>
                  </a:cubicBezTo>
                  <a:cubicBezTo>
                    <a:pt x="906217" y="0"/>
                    <a:pt x="1190797" y="-77357"/>
                    <a:pt x="1475378" y="-232071"/>
                  </a:cubicBezTo>
                  <a:cubicBezTo>
                    <a:pt x="1320641" y="52466"/>
                    <a:pt x="1243272" y="337004"/>
                    <a:pt x="1243272" y="621542"/>
                  </a:cubicBezTo>
                  <a:cubicBezTo>
                    <a:pt x="1243272" y="964810"/>
                    <a:pt x="964956" y="1243084"/>
                    <a:pt x="621636" y="1243084"/>
                  </a:cubicBezTo>
                  <a:cubicBezTo>
                    <a:pt x="278316" y="1243084"/>
                    <a:pt x="0" y="964810"/>
                    <a:pt x="0" y="621542"/>
                  </a:cubicBezTo>
                  <a:close/>
                </a:path>
              </a:pathLst>
            </a:custGeom>
            <a:solidFill>
              <a:srgbClr val="2e95c0"/>
            </a:solidFill>
            <a:ln w="76320">
              <a:solidFill>
                <a:srgbClr val="ffffff"/>
              </a:solidFill>
              <a:round/>
            </a:ln>
            <a:effectLst>
              <a:outerShdw dist="15375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TextBox 279"/>
          <p:cNvSpPr/>
          <p:nvPr/>
        </p:nvSpPr>
        <p:spPr>
          <a:xfrm>
            <a:off x="2859120" y="1981440"/>
            <a:ext cx="137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Nội dung chính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6" name="Group 287"/>
          <p:cNvGrpSpPr/>
          <p:nvPr/>
        </p:nvGrpSpPr>
        <p:grpSpPr>
          <a:xfrm>
            <a:off x="6959160" y="1346040"/>
            <a:ext cx="1757880" cy="2311560"/>
            <a:chOff x="6959160" y="1346040"/>
            <a:chExt cx="1757880" cy="2311560"/>
          </a:xfrm>
        </p:grpSpPr>
        <p:grpSp>
          <p:nvGrpSpPr>
            <p:cNvPr id="117" name="Group 288"/>
            <p:cNvGrpSpPr/>
            <p:nvPr/>
          </p:nvGrpSpPr>
          <p:grpSpPr>
            <a:xfrm>
              <a:off x="7773840" y="3544200"/>
              <a:ext cx="113400" cy="113400"/>
              <a:chOff x="7773840" y="3544200"/>
              <a:chExt cx="113400" cy="113400"/>
            </a:xfrm>
          </p:grpSpPr>
          <p:sp>
            <p:nvSpPr>
              <p:cNvPr id="118" name="Oval 290"/>
              <p:cNvSpPr/>
              <p:nvPr/>
            </p:nvSpPr>
            <p:spPr>
              <a:xfrm>
                <a:off x="7773840" y="3544200"/>
                <a:ext cx="113400" cy="113400"/>
              </a:xfrm>
              <a:prstGeom prst="ellipse">
                <a:avLst/>
              </a:prstGeom>
              <a:solidFill>
                <a:srgbClr val="2e95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291"/>
              <p:cNvSpPr/>
              <p:nvPr/>
            </p:nvSpPr>
            <p:spPr>
              <a:xfrm>
                <a:off x="7794360" y="3564720"/>
                <a:ext cx="72000" cy="72000"/>
              </a:xfrm>
              <a:prstGeom prst="ellips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0" name="Teardrop 289"/>
            <p:cNvSpPr/>
            <p:nvPr/>
          </p:nvSpPr>
          <p:spPr>
            <a:xfrm rot="8110800">
              <a:off x="7216560" y="1603080"/>
              <a:ext cx="1242720" cy="1243080"/>
            </a:xfrm>
            <a:custGeom>
              <a:avLst/>
              <a:gdLst/>
              <a:ahLst/>
              <a:rect l="l" t="t" r="r" b="b"/>
              <a:pathLst>
                <a:path w="1243272" h="1243083">
                  <a:moveTo>
                    <a:pt x="0" y="621542"/>
                  </a:moveTo>
                  <a:cubicBezTo>
                    <a:pt x="0" y="278274"/>
                    <a:pt x="278316" y="0"/>
                    <a:pt x="621636" y="0"/>
                  </a:cubicBezTo>
                  <a:cubicBezTo>
                    <a:pt x="906217" y="0"/>
                    <a:pt x="1190797" y="-77357"/>
                    <a:pt x="1475378" y="-232071"/>
                  </a:cubicBezTo>
                  <a:cubicBezTo>
                    <a:pt x="1320641" y="52466"/>
                    <a:pt x="1243272" y="337004"/>
                    <a:pt x="1243272" y="621542"/>
                  </a:cubicBezTo>
                  <a:cubicBezTo>
                    <a:pt x="1243272" y="964810"/>
                    <a:pt x="964956" y="1243084"/>
                    <a:pt x="621636" y="1243084"/>
                  </a:cubicBezTo>
                  <a:cubicBezTo>
                    <a:pt x="278316" y="1243084"/>
                    <a:pt x="0" y="964810"/>
                    <a:pt x="0" y="621542"/>
                  </a:cubicBezTo>
                  <a:close/>
                </a:path>
              </a:pathLst>
            </a:custGeom>
            <a:solidFill>
              <a:srgbClr val="2e95c0"/>
            </a:solidFill>
            <a:ln w="76320">
              <a:solidFill>
                <a:srgbClr val="ffffff"/>
              </a:solidFill>
              <a:round/>
            </a:ln>
            <a:effectLst>
              <a:outerShdw dist="15375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1" name="TextBox 292"/>
          <p:cNvSpPr/>
          <p:nvPr/>
        </p:nvSpPr>
        <p:spPr>
          <a:xfrm>
            <a:off x="7151760" y="1981440"/>
            <a:ext cx="137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Nội dung chính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2" name="Group 293"/>
          <p:cNvGrpSpPr/>
          <p:nvPr/>
        </p:nvGrpSpPr>
        <p:grpSpPr>
          <a:xfrm>
            <a:off x="4749120" y="3557520"/>
            <a:ext cx="1757880" cy="2311560"/>
            <a:chOff x="4749120" y="3557520"/>
            <a:chExt cx="1757880" cy="2311560"/>
          </a:xfrm>
        </p:grpSpPr>
        <p:grpSp>
          <p:nvGrpSpPr>
            <p:cNvPr id="123" name="Group 294"/>
            <p:cNvGrpSpPr/>
            <p:nvPr/>
          </p:nvGrpSpPr>
          <p:grpSpPr>
            <a:xfrm>
              <a:off x="5564160" y="3557520"/>
              <a:ext cx="113400" cy="113400"/>
              <a:chOff x="5564160" y="3557520"/>
              <a:chExt cx="113400" cy="113400"/>
            </a:xfrm>
          </p:grpSpPr>
          <p:sp>
            <p:nvSpPr>
              <p:cNvPr id="124" name="Oval 296"/>
              <p:cNvSpPr/>
              <p:nvPr/>
            </p:nvSpPr>
            <p:spPr>
              <a:xfrm flipV="1">
                <a:off x="5564160" y="3557160"/>
                <a:ext cx="113400" cy="113400"/>
              </a:xfrm>
              <a:prstGeom prst="ellipse">
                <a:avLst/>
              </a:prstGeom>
              <a:solidFill>
                <a:srgbClr val="2e95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97"/>
              <p:cNvSpPr/>
              <p:nvPr/>
            </p:nvSpPr>
            <p:spPr>
              <a:xfrm flipV="1">
                <a:off x="5584680" y="3578400"/>
                <a:ext cx="72000" cy="72000"/>
              </a:xfrm>
              <a:prstGeom prst="ellips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6" name="Teardrop 295"/>
            <p:cNvSpPr/>
            <p:nvPr/>
          </p:nvSpPr>
          <p:spPr>
            <a:xfrm flipV="1" rot="13489200">
              <a:off x="5006160" y="4367880"/>
              <a:ext cx="1243080" cy="1243080"/>
            </a:xfrm>
            <a:custGeom>
              <a:avLst/>
              <a:gdLst/>
              <a:ahLst/>
              <a:rect l="l" t="t" r="r" b="b"/>
              <a:pathLst>
                <a:path w="1243272" h="1243083">
                  <a:moveTo>
                    <a:pt x="0" y="621542"/>
                  </a:moveTo>
                  <a:cubicBezTo>
                    <a:pt x="0" y="278274"/>
                    <a:pt x="278316" y="0"/>
                    <a:pt x="621636" y="0"/>
                  </a:cubicBezTo>
                  <a:cubicBezTo>
                    <a:pt x="906217" y="0"/>
                    <a:pt x="1190797" y="-77357"/>
                    <a:pt x="1475378" y="-232071"/>
                  </a:cubicBezTo>
                  <a:cubicBezTo>
                    <a:pt x="1320641" y="52466"/>
                    <a:pt x="1243272" y="337004"/>
                    <a:pt x="1243272" y="621542"/>
                  </a:cubicBezTo>
                  <a:cubicBezTo>
                    <a:pt x="1243272" y="964810"/>
                    <a:pt x="964956" y="1243084"/>
                    <a:pt x="621636" y="1243084"/>
                  </a:cubicBezTo>
                  <a:cubicBezTo>
                    <a:pt x="278316" y="1243084"/>
                    <a:pt x="0" y="964810"/>
                    <a:pt x="0" y="621542"/>
                  </a:cubicBezTo>
                  <a:close/>
                </a:path>
              </a:pathLst>
            </a:custGeom>
            <a:solidFill>
              <a:srgbClr val="2e95c0"/>
            </a:solidFill>
            <a:ln w="76320">
              <a:solidFill>
                <a:srgbClr val="ffffff"/>
              </a:solidFill>
              <a:round/>
            </a:ln>
            <a:effectLst>
              <a:outerShdw dist="15375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7" name="Group 298"/>
          <p:cNvGrpSpPr/>
          <p:nvPr/>
        </p:nvGrpSpPr>
        <p:grpSpPr>
          <a:xfrm>
            <a:off x="774000" y="3557520"/>
            <a:ext cx="1757880" cy="2311560"/>
            <a:chOff x="774000" y="3557520"/>
            <a:chExt cx="1757880" cy="2311560"/>
          </a:xfrm>
        </p:grpSpPr>
        <p:grpSp>
          <p:nvGrpSpPr>
            <p:cNvPr id="128" name="Group 299"/>
            <p:cNvGrpSpPr/>
            <p:nvPr/>
          </p:nvGrpSpPr>
          <p:grpSpPr>
            <a:xfrm>
              <a:off x="1589040" y="3557520"/>
              <a:ext cx="113400" cy="113400"/>
              <a:chOff x="1589040" y="3557520"/>
              <a:chExt cx="113400" cy="113400"/>
            </a:xfrm>
          </p:grpSpPr>
          <p:sp>
            <p:nvSpPr>
              <p:cNvPr id="129" name="Oval 301"/>
              <p:cNvSpPr/>
              <p:nvPr/>
            </p:nvSpPr>
            <p:spPr>
              <a:xfrm flipV="1">
                <a:off x="1589040" y="3557160"/>
                <a:ext cx="113400" cy="113400"/>
              </a:xfrm>
              <a:prstGeom prst="ellipse">
                <a:avLst/>
              </a:prstGeom>
              <a:solidFill>
                <a:srgbClr val="2e95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Oval 302"/>
              <p:cNvSpPr/>
              <p:nvPr/>
            </p:nvSpPr>
            <p:spPr>
              <a:xfrm flipV="1">
                <a:off x="1609560" y="3578400"/>
                <a:ext cx="72000" cy="72000"/>
              </a:xfrm>
              <a:prstGeom prst="ellips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31" name="Teardrop 300"/>
            <p:cNvSpPr/>
            <p:nvPr/>
          </p:nvSpPr>
          <p:spPr>
            <a:xfrm flipV="1" rot="13489200">
              <a:off x="1031040" y="4367880"/>
              <a:ext cx="1243080" cy="1243080"/>
            </a:xfrm>
            <a:custGeom>
              <a:avLst/>
              <a:gdLst/>
              <a:ahLst/>
              <a:rect l="l" t="t" r="r" b="b"/>
              <a:pathLst>
                <a:path w="1243272" h="1243083">
                  <a:moveTo>
                    <a:pt x="0" y="621542"/>
                  </a:moveTo>
                  <a:cubicBezTo>
                    <a:pt x="0" y="278274"/>
                    <a:pt x="278316" y="0"/>
                    <a:pt x="621636" y="0"/>
                  </a:cubicBezTo>
                  <a:cubicBezTo>
                    <a:pt x="906217" y="0"/>
                    <a:pt x="1190797" y="-77357"/>
                    <a:pt x="1475378" y="-232071"/>
                  </a:cubicBezTo>
                  <a:cubicBezTo>
                    <a:pt x="1320641" y="52466"/>
                    <a:pt x="1243272" y="337004"/>
                    <a:pt x="1243272" y="621542"/>
                  </a:cubicBezTo>
                  <a:cubicBezTo>
                    <a:pt x="1243272" y="964810"/>
                    <a:pt x="964956" y="1243084"/>
                    <a:pt x="621636" y="1243084"/>
                  </a:cubicBezTo>
                  <a:cubicBezTo>
                    <a:pt x="278316" y="1243084"/>
                    <a:pt x="0" y="964810"/>
                    <a:pt x="0" y="621542"/>
                  </a:cubicBezTo>
                  <a:close/>
                </a:path>
              </a:pathLst>
            </a:custGeom>
            <a:solidFill>
              <a:srgbClr val="2e95c0"/>
            </a:solidFill>
            <a:ln w="76320">
              <a:solidFill>
                <a:srgbClr val="ffffff"/>
              </a:solidFill>
              <a:round/>
            </a:ln>
            <a:effectLst>
              <a:outerShdw dist="15375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2" name="TextBox 303"/>
          <p:cNvSpPr/>
          <p:nvPr/>
        </p:nvSpPr>
        <p:spPr>
          <a:xfrm>
            <a:off x="958680" y="4702320"/>
            <a:ext cx="1373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Nội dung chính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TextBox 304"/>
          <p:cNvSpPr/>
          <p:nvPr/>
        </p:nvSpPr>
        <p:spPr>
          <a:xfrm>
            <a:off x="4933800" y="4702320"/>
            <a:ext cx="1373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Nội dung chính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Box 2"/>
          <p:cNvSpPr/>
          <p:nvPr/>
        </p:nvSpPr>
        <p:spPr>
          <a:xfrm>
            <a:off x="3149640" y="230040"/>
            <a:ext cx="280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800" spc="-1" strike="noStrike">
                <a:solidFill>
                  <a:srgbClr val="6b7073"/>
                </a:solidFill>
                <a:latin typeface="Arial"/>
                <a:ea typeface="Arial"/>
              </a:rPr>
              <a:t>TIÊU ĐỀ CHÍN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Straight Connector 4"/>
          <p:cNvSpPr/>
          <p:nvPr/>
        </p:nvSpPr>
        <p:spPr>
          <a:xfrm flipV="1">
            <a:off x="1967040" y="2206800"/>
            <a:ext cx="5333760" cy="2666880"/>
          </a:xfrm>
          <a:prstGeom prst="line">
            <a:avLst/>
          </a:prstGeom>
          <a:ln w="38160">
            <a:solidFill>
              <a:srgbClr val="2e95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6" name="Group 28"/>
          <p:cNvGrpSpPr/>
          <p:nvPr/>
        </p:nvGrpSpPr>
        <p:grpSpPr>
          <a:xfrm>
            <a:off x="5911920" y="3669840"/>
            <a:ext cx="1872720" cy="1211760"/>
            <a:chOff x="5911920" y="3669840"/>
            <a:chExt cx="1872720" cy="1211760"/>
          </a:xfrm>
        </p:grpSpPr>
        <p:sp>
          <p:nvSpPr>
            <p:cNvPr id="137" name="Freeform 26"/>
            <p:cNvSpPr/>
            <p:nvPr/>
          </p:nvSpPr>
          <p:spPr>
            <a:xfrm>
              <a:off x="5911920" y="3844800"/>
              <a:ext cx="1778400" cy="1036800"/>
            </a:xfrm>
            <a:custGeom>
              <a:avLst/>
              <a:gdLst/>
              <a:ahLst/>
              <a:rect l="l" t="t" r="r" b="b"/>
              <a:pathLst>
                <a:path w="1778337" h="1035700">
                  <a:moveTo>
                    <a:pt x="0" y="592932"/>
                  </a:moveTo>
                  <a:cubicBezTo>
                    <a:pt x="154252" y="803276"/>
                    <a:pt x="349383" y="943769"/>
                    <a:pt x="554038" y="1002506"/>
                  </a:cubicBezTo>
                  <a:cubicBezTo>
                    <a:pt x="758693" y="1061243"/>
                    <a:pt x="1043650" y="1041929"/>
                    <a:pt x="1227932" y="945356"/>
                  </a:cubicBezTo>
                  <a:cubicBezTo>
                    <a:pt x="1412214" y="848783"/>
                    <a:pt x="1553766" y="723503"/>
                    <a:pt x="1645444" y="565944"/>
                  </a:cubicBezTo>
                  <a:cubicBezTo>
                    <a:pt x="1737122" y="408385"/>
                    <a:pt x="1782762" y="260350"/>
                    <a:pt x="1778000" y="0"/>
                  </a:cubicBezTo>
                </a:path>
              </a:pathLst>
            </a:custGeom>
            <a:noFill/>
            <a:ln w="38160">
              <a:solidFill>
                <a:srgbClr val="2e95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Isosceles Triangle 27"/>
            <p:cNvSpPr/>
            <p:nvPr/>
          </p:nvSpPr>
          <p:spPr>
            <a:xfrm rot="20986200">
              <a:off x="7572240" y="3686040"/>
              <a:ext cx="198360" cy="171360"/>
            </a:xfrm>
            <a:prstGeom prst="triangle">
              <a:avLst>
                <a:gd name="adj" fmla="val 50000"/>
              </a:avLst>
            </a:prstGeom>
            <a:solidFill>
              <a:srgbClr val="2e95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9" name="Group 47"/>
          <p:cNvGrpSpPr/>
          <p:nvPr/>
        </p:nvGrpSpPr>
        <p:grpSpPr>
          <a:xfrm>
            <a:off x="2959200" y="5070240"/>
            <a:ext cx="1872720" cy="1209960"/>
            <a:chOff x="2959200" y="5070240"/>
            <a:chExt cx="1872720" cy="1209960"/>
          </a:xfrm>
        </p:grpSpPr>
        <p:sp>
          <p:nvSpPr>
            <p:cNvPr id="140" name="Freeform 48"/>
            <p:cNvSpPr/>
            <p:nvPr/>
          </p:nvSpPr>
          <p:spPr>
            <a:xfrm>
              <a:off x="2959200" y="5245200"/>
              <a:ext cx="1778400" cy="1035000"/>
            </a:xfrm>
            <a:custGeom>
              <a:avLst/>
              <a:gdLst/>
              <a:ahLst/>
              <a:rect l="l" t="t" r="r" b="b"/>
              <a:pathLst>
                <a:path w="1778337" h="1035700">
                  <a:moveTo>
                    <a:pt x="0" y="592932"/>
                  </a:moveTo>
                  <a:cubicBezTo>
                    <a:pt x="154252" y="803276"/>
                    <a:pt x="349383" y="943769"/>
                    <a:pt x="554038" y="1002506"/>
                  </a:cubicBezTo>
                  <a:cubicBezTo>
                    <a:pt x="758693" y="1061243"/>
                    <a:pt x="1043650" y="1041929"/>
                    <a:pt x="1227932" y="945356"/>
                  </a:cubicBezTo>
                  <a:cubicBezTo>
                    <a:pt x="1412214" y="848783"/>
                    <a:pt x="1553766" y="723503"/>
                    <a:pt x="1645444" y="565944"/>
                  </a:cubicBezTo>
                  <a:cubicBezTo>
                    <a:pt x="1737122" y="408385"/>
                    <a:pt x="1782762" y="260350"/>
                    <a:pt x="1778000" y="0"/>
                  </a:cubicBezTo>
                </a:path>
              </a:pathLst>
            </a:custGeom>
            <a:noFill/>
            <a:ln w="38160">
              <a:solidFill>
                <a:srgbClr val="2e95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Isosceles Triangle 49"/>
            <p:cNvSpPr/>
            <p:nvPr/>
          </p:nvSpPr>
          <p:spPr>
            <a:xfrm rot="20986200">
              <a:off x="4619520" y="5086440"/>
              <a:ext cx="198360" cy="171360"/>
            </a:xfrm>
            <a:prstGeom prst="triangle">
              <a:avLst>
                <a:gd name="adj" fmla="val 50000"/>
              </a:avLst>
            </a:prstGeom>
            <a:solidFill>
              <a:srgbClr val="2e95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2" name="Group 38"/>
          <p:cNvGrpSpPr/>
          <p:nvPr/>
        </p:nvGrpSpPr>
        <p:grpSpPr>
          <a:xfrm>
            <a:off x="809640" y="4533840"/>
            <a:ext cx="1566720" cy="1900440"/>
            <a:chOff x="809640" y="4533840"/>
            <a:chExt cx="1566720" cy="1900440"/>
          </a:xfrm>
        </p:grpSpPr>
        <p:grpSp>
          <p:nvGrpSpPr>
            <p:cNvPr id="143" name="Group 34"/>
            <p:cNvGrpSpPr/>
            <p:nvPr/>
          </p:nvGrpSpPr>
          <p:grpSpPr>
            <a:xfrm>
              <a:off x="809640" y="5829120"/>
              <a:ext cx="1566720" cy="605160"/>
              <a:chOff x="809640" y="5829120"/>
              <a:chExt cx="1566720" cy="605160"/>
            </a:xfrm>
          </p:grpSpPr>
          <p:sp>
            <p:nvSpPr>
              <p:cNvPr id="144" name="Rectangle 11"/>
              <p:cNvSpPr/>
              <p:nvPr/>
            </p:nvSpPr>
            <p:spPr>
              <a:xfrm>
                <a:off x="812520" y="6035400"/>
                <a:ext cx="1416240" cy="387720"/>
              </a:xfrm>
              <a:prstGeom prst="rect">
                <a:avLst/>
              </a:prstGeom>
              <a:solidFill>
                <a:srgbClr val="2e95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14"/>
              <p:cNvSpPr/>
              <p:nvPr/>
            </p:nvSpPr>
            <p:spPr>
              <a:xfrm>
                <a:off x="809640" y="5832000"/>
                <a:ext cx="1566720" cy="203400"/>
              </a:xfrm>
              <a:custGeom>
                <a:avLst/>
                <a:gdLst/>
                <a:ahLst/>
                <a:rect l="l" t="t" r="r" b="b"/>
                <a:pathLst>
                  <a:path w="1566862" h="202406">
                    <a:moveTo>
                      <a:pt x="0" y="202406"/>
                    </a:moveTo>
                    <a:lnTo>
                      <a:pt x="1419225" y="202406"/>
                    </a:lnTo>
                    <a:lnTo>
                      <a:pt x="1566862" y="0"/>
                    </a:lnTo>
                    <a:lnTo>
                      <a:pt x="316706" y="0"/>
                    </a:lnTo>
                    <a:lnTo>
                      <a:pt x="0" y="202406"/>
                    </a:lnTo>
                    <a:close/>
                  </a:path>
                </a:pathLst>
              </a:custGeom>
              <a:solidFill>
                <a:srgbClr val="2370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15"/>
              <p:cNvSpPr/>
              <p:nvPr/>
            </p:nvSpPr>
            <p:spPr>
              <a:xfrm>
                <a:off x="2225880" y="5829120"/>
                <a:ext cx="147600" cy="605160"/>
              </a:xfrm>
              <a:custGeom>
                <a:avLst/>
                <a:gdLst/>
                <a:ahLst/>
                <a:rect l="l" t="t" r="r" b="b"/>
                <a:pathLst>
                  <a:path w="147743" h="604837">
                    <a:moveTo>
                      <a:pt x="105" y="207169"/>
                    </a:moveTo>
                    <a:lnTo>
                      <a:pt x="147743" y="0"/>
                    </a:lnTo>
                    <a:lnTo>
                      <a:pt x="147743" y="326231"/>
                    </a:lnTo>
                    <a:lnTo>
                      <a:pt x="2487" y="604837"/>
                    </a:lnTo>
                    <a:cubicBezTo>
                      <a:pt x="3281" y="472281"/>
                      <a:pt x="-689" y="339725"/>
                      <a:pt x="105" y="207169"/>
                    </a:cubicBezTo>
                    <a:close/>
                  </a:path>
                </a:pathLst>
              </a:custGeom>
              <a:solidFill>
                <a:srgbClr val="174a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47" name="Oval 5"/>
            <p:cNvSpPr/>
            <p:nvPr/>
          </p:nvSpPr>
          <p:spPr>
            <a:xfrm>
              <a:off x="1198440" y="4533840"/>
              <a:ext cx="1031760" cy="10303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2e95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TextBox 35"/>
            <p:cNvSpPr/>
            <p:nvPr/>
          </p:nvSpPr>
          <p:spPr>
            <a:xfrm>
              <a:off x="1330560" y="4845240"/>
              <a:ext cx="767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2e95c0"/>
                  </a:solidFill>
                  <a:latin typeface="Arial"/>
                  <a:ea typeface="Arial"/>
                </a:rPr>
                <a:t>$12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TextBox 37"/>
            <p:cNvSpPr/>
            <p:nvPr/>
          </p:nvSpPr>
          <p:spPr>
            <a:xfrm>
              <a:off x="1042200" y="6035760"/>
              <a:ext cx="956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Tháng 1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0" name="Group 40"/>
          <p:cNvGrpSpPr/>
          <p:nvPr/>
        </p:nvGrpSpPr>
        <p:grpSpPr>
          <a:xfrm>
            <a:off x="3902040" y="3043080"/>
            <a:ext cx="1416240" cy="1698840"/>
            <a:chOff x="3902040" y="3043080"/>
            <a:chExt cx="1416240" cy="1698840"/>
          </a:xfrm>
        </p:grpSpPr>
        <p:sp>
          <p:nvSpPr>
            <p:cNvPr id="151" name="Rectangle 17"/>
            <p:cNvSpPr/>
            <p:nvPr/>
          </p:nvSpPr>
          <p:spPr>
            <a:xfrm>
              <a:off x="3902040" y="4353120"/>
              <a:ext cx="1416240" cy="388800"/>
            </a:xfrm>
            <a:prstGeom prst="rect">
              <a:avLst/>
            </a:prstGeom>
            <a:solidFill>
              <a:srgbClr val="2e95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Oval 62"/>
            <p:cNvSpPr/>
            <p:nvPr/>
          </p:nvSpPr>
          <p:spPr>
            <a:xfrm>
              <a:off x="4117680" y="3043080"/>
              <a:ext cx="1030680" cy="10303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2e95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TextBox 43"/>
            <p:cNvSpPr/>
            <p:nvPr/>
          </p:nvSpPr>
          <p:spPr>
            <a:xfrm>
              <a:off x="4249080" y="3387600"/>
              <a:ext cx="767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2e95c0"/>
                  </a:solidFill>
                  <a:latin typeface="Arial"/>
                  <a:ea typeface="Arial"/>
                </a:rPr>
                <a:t>$18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TextBox 52"/>
            <p:cNvSpPr/>
            <p:nvPr/>
          </p:nvSpPr>
          <p:spPr>
            <a:xfrm>
              <a:off x="4119840" y="4350600"/>
              <a:ext cx="956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Tháng 3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5" name="Group 39"/>
          <p:cNvGrpSpPr/>
          <p:nvPr/>
        </p:nvGrpSpPr>
        <p:grpSpPr>
          <a:xfrm>
            <a:off x="2386080" y="3738600"/>
            <a:ext cx="1495440" cy="1843200"/>
            <a:chOff x="2386080" y="3738600"/>
            <a:chExt cx="1495440" cy="1843200"/>
          </a:xfrm>
        </p:grpSpPr>
        <p:grpSp>
          <p:nvGrpSpPr>
            <p:cNvPr id="156" name="Group 33"/>
            <p:cNvGrpSpPr/>
            <p:nvPr/>
          </p:nvGrpSpPr>
          <p:grpSpPr>
            <a:xfrm>
              <a:off x="2386080" y="5072040"/>
              <a:ext cx="1495440" cy="509760"/>
              <a:chOff x="2386080" y="5072040"/>
              <a:chExt cx="1495440" cy="509760"/>
            </a:xfrm>
          </p:grpSpPr>
          <p:sp>
            <p:nvSpPr>
              <p:cNvPr id="157" name="Rectangle 65"/>
              <p:cNvSpPr/>
              <p:nvPr/>
            </p:nvSpPr>
            <p:spPr>
              <a:xfrm>
                <a:off x="2386080" y="5191200"/>
                <a:ext cx="1417680" cy="389160"/>
              </a:xfrm>
              <a:prstGeom prst="rect">
                <a:avLst/>
              </a:prstGeom>
              <a:solidFill>
                <a:srgbClr val="9797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" name="Freeform 16"/>
              <p:cNvSpPr/>
              <p:nvPr/>
            </p:nvSpPr>
            <p:spPr>
              <a:xfrm>
                <a:off x="2386080" y="5072040"/>
                <a:ext cx="1495440" cy="119160"/>
              </a:xfrm>
              <a:custGeom>
                <a:avLst/>
                <a:gdLst/>
                <a:ahLst/>
                <a:rect l="l" t="t" r="r" b="b"/>
                <a:pathLst>
                  <a:path w="1500187" h="119063">
                    <a:moveTo>
                      <a:pt x="0" y="119063"/>
                    </a:moveTo>
                    <a:lnTo>
                      <a:pt x="1421606" y="119063"/>
                    </a:lnTo>
                    <a:lnTo>
                      <a:pt x="1500187" y="0"/>
                    </a:lnTo>
                    <a:lnTo>
                      <a:pt x="307181" y="0"/>
                    </a:lnTo>
                    <a:lnTo>
                      <a:pt x="0" y="119063"/>
                    </a:lnTo>
                    <a:close/>
                  </a:path>
                </a:pathLst>
              </a:custGeom>
              <a:solidFill>
                <a:srgbClr val="7171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29"/>
              <p:cNvSpPr/>
              <p:nvPr/>
            </p:nvSpPr>
            <p:spPr>
              <a:xfrm>
                <a:off x="3802320" y="5072040"/>
                <a:ext cx="79200" cy="509760"/>
              </a:xfrm>
              <a:custGeom>
                <a:avLst/>
                <a:gdLst/>
                <a:ahLst/>
                <a:rect l="l" t="t" r="r" b="b"/>
                <a:pathLst>
                  <a:path w="78581" h="509587">
                    <a:moveTo>
                      <a:pt x="0" y="509587"/>
                    </a:moveTo>
                    <a:lnTo>
                      <a:pt x="0" y="114300"/>
                    </a:lnTo>
                    <a:lnTo>
                      <a:pt x="78581" y="0"/>
                    </a:lnTo>
                    <a:lnTo>
                      <a:pt x="78581" y="269081"/>
                    </a:lnTo>
                    <a:lnTo>
                      <a:pt x="0" y="509587"/>
                    </a:lnTo>
                    <a:close/>
                  </a:path>
                </a:pathLst>
              </a:custGeom>
              <a:solidFill>
                <a:srgbClr val="4b4b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60" name="Oval 57"/>
            <p:cNvSpPr/>
            <p:nvPr/>
          </p:nvSpPr>
          <p:spPr>
            <a:xfrm>
              <a:off x="2751120" y="3738600"/>
              <a:ext cx="1030320" cy="10303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9797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TextBox 42"/>
            <p:cNvSpPr/>
            <p:nvPr/>
          </p:nvSpPr>
          <p:spPr>
            <a:xfrm>
              <a:off x="2869200" y="4071240"/>
              <a:ext cx="76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777777"/>
                  </a:solidFill>
                  <a:latin typeface="Arial"/>
                  <a:ea typeface="Arial"/>
                </a:rPr>
                <a:t>$15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TextBox 51"/>
            <p:cNvSpPr/>
            <p:nvPr/>
          </p:nvSpPr>
          <p:spPr>
            <a:xfrm>
              <a:off x="2655360" y="5202360"/>
              <a:ext cx="956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Tháng 2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3" name="Group 41"/>
          <p:cNvGrpSpPr/>
          <p:nvPr/>
        </p:nvGrpSpPr>
        <p:grpSpPr>
          <a:xfrm>
            <a:off x="5305320" y="2305080"/>
            <a:ext cx="1490760" cy="1860480"/>
            <a:chOff x="5305320" y="2305080"/>
            <a:chExt cx="1490760" cy="1860480"/>
          </a:xfrm>
        </p:grpSpPr>
        <p:grpSp>
          <p:nvGrpSpPr>
            <p:cNvPr id="164" name="Group 31"/>
            <p:cNvGrpSpPr/>
            <p:nvPr/>
          </p:nvGrpSpPr>
          <p:grpSpPr>
            <a:xfrm>
              <a:off x="5305320" y="3639240"/>
              <a:ext cx="1490760" cy="526320"/>
              <a:chOff x="5305320" y="3639240"/>
              <a:chExt cx="1490760" cy="526320"/>
            </a:xfrm>
          </p:grpSpPr>
          <p:sp>
            <p:nvSpPr>
              <p:cNvPr id="165" name="Rectangle 18"/>
              <p:cNvSpPr/>
              <p:nvPr/>
            </p:nvSpPr>
            <p:spPr>
              <a:xfrm>
                <a:off x="5378040" y="3642120"/>
                <a:ext cx="1416240" cy="388440"/>
              </a:xfrm>
              <a:prstGeom prst="rect">
                <a:avLst/>
              </a:prstGeom>
              <a:solidFill>
                <a:srgbClr val="9797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" name="Freeform 1"/>
              <p:cNvSpPr/>
              <p:nvPr/>
            </p:nvSpPr>
            <p:spPr>
              <a:xfrm>
                <a:off x="5305320" y="3639240"/>
                <a:ext cx="74520" cy="523440"/>
              </a:xfrm>
              <a:custGeom>
                <a:avLst/>
                <a:gdLst/>
                <a:ahLst/>
                <a:rect l="l" t="t" r="r" b="b"/>
                <a:pathLst>
                  <a:path w="73819" h="523875">
                    <a:moveTo>
                      <a:pt x="73819" y="0"/>
                    </a:moveTo>
                    <a:lnTo>
                      <a:pt x="73819" y="397669"/>
                    </a:lnTo>
                    <a:lnTo>
                      <a:pt x="0" y="523875"/>
                    </a:lnTo>
                    <a:lnTo>
                      <a:pt x="0" y="195263"/>
                    </a:lnTo>
                    <a:lnTo>
                      <a:pt x="73819" y="0"/>
                    </a:lnTo>
                    <a:close/>
                  </a:path>
                </a:pathLst>
              </a:custGeom>
              <a:solidFill>
                <a:srgbClr val="4b4b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" name="Freeform 6"/>
              <p:cNvSpPr/>
              <p:nvPr/>
            </p:nvSpPr>
            <p:spPr>
              <a:xfrm>
                <a:off x="5305320" y="4029480"/>
                <a:ext cx="1490760" cy="136080"/>
              </a:xfrm>
              <a:custGeom>
                <a:avLst/>
                <a:gdLst/>
                <a:ahLst/>
                <a:rect l="l" t="t" r="r" b="b"/>
                <a:pathLst>
                  <a:path w="1490663" h="135731">
                    <a:moveTo>
                      <a:pt x="71437" y="0"/>
                    </a:moveTo>
                    <a:lnTo>
                      <a:pt x="1490663" y="0"/>
                    </a:lnTo>
                    <a:lnTo>
                      <a:pt x="1193006" y="135731"/>
                    </a:lnTo>
                    <a:lnTo>
                      <a:pt x="0" y="135731"/>
                    </a:lnTo>
                    <a:lnTo>
                      <a:pt x="71437" y="0"/>
                    </a:lnTo>
                    <a:close/>
                  </a:path>
                </a:pathLst>
              </a:custGeom>
              <a:solidFill>
                <a:srgbClr val="7171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68" name="Oval 63"/>
            <p:cNvSpPr/>
            <p:nvPr/>
          </p:nvSpPr>
          <p:spPr>
            <a:xfrm>
              <a:off x="5570280" y="2305080"/>
              <a:ext cx="1032120" cy="10303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9797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TextBox 44"/>
            <p:cNvSpPr/>
            <p:nvPr/>
          </p:nvSpPr>
          <p:spPr>
            <a:xfrm>
              <a:off x="5702040" y="2621160"/>
              <a:ext cx="768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717171"/>
                  </a:solidFill>
                  <a:latin typeface="Arial"/>
                  <a:ea typeface="Arial"/>
                </a:rPr>
                <a:t>$21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TextBox 53"/>
            <p:cNvSpPr/>
            <p:nvPr/>
          </p:nvSpPr>
          <p:spPr>
            <a:xfrm>
              <a:off x="5608080" y="3643200"/>
              <a:ext cx="956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Tháng 4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1" name="Group 50"/>
          <p:cNvGrpSpPr/>
          <p:nvPr/>
        </p:nvGrpSpPr>
        <p:grpSpPr>
          <a:xfrm>
            <a:off x="6819840" y="1555920"/>
            <a:ext cx="1559160" cy="1863720"/>
            <a:chOff x="6819840" y="1555920"/>
            <a:chExt cx="1559160" cy="1863720"/>
          </a:xfrm>
        </p:grpSpPr>
        <p:grpSp>
          <p:nvGrpSpPr>
            <p:cNvPr id="172" name="Group 32"/>
            <p:cNvGrpSpPr/>
            <p:nvPr/>
          </p:nvGrpSpPr>
          <p:grpSpPr>
            <a:xfrm>
              <a:off x="6819840" y="2807280"/>
              <a:ext cx="1559160" cy="612360"/>
              <a:chOff x="6819840" y="2807280"/>
              <a:chExt cx="1559160" cy="612360"/>
            </a:xfrm>
          </p:grpSpPr>
          <p:sp>
            <p:nvSpPr>
              <p:cNvPr id="173" name="Rectangle 19"/>
              <p:cNvSpPr/>
              <p:nvPr/>
            </p:nvSpPr>
            <p:spPr>
              <a:xfrm>
                <a:off x="6964200" y="2808720"/>
                <a:ext cx="1414800" cy="388800"/>
              </a:xfrm>
              <a:prstGeom prst="rect">
                <a:avLst/>
              </a:prstGeom>
              <a:solidFill>
                <a:srgbClr val="2e95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" name="Freeform 7"/>
              <p:cNvSpPr/>
              <p:nvPr/>
            </p:nvSpPr>
            <p:spPr>
              <a:xfrm>
                <a:off x="6819840" y="2807280"/>
                <a:ext cx="142920" cy="612360"/>
              </a:xfrm>
              <a:custGeom>
                <a:avLst/>
                <a:gdLst/>
                <a:ahLst/>
                <a:rect l="l" t="t" r="r" b="b"/>
                <a:pathLst>
                  <a:path w="142873" h="611982">
                    <a:moveTo>
                      <a:pt x="142873" y="0"/>
                    </a:moveTo>
                    <a:lnTo>
                      <a:pt x="142873" y="392907"/>
                    </a:lnTo>
                    <a:lnTo>
                      <a:pt x="0" y="611982"/>
                    </a:lnTo>
                    <a:cubicBezTo>
                      <a:pt x="1587" y="488951"/>
                      <a:pt x="793" y="363538"/>
                      <a:pt x="2380" y="240507"/>
                    </a:cubicBezTo>
                    <a:lnTo>
                      <a:pt x="142873" y="0"/>
                    </a:lnTo>
                    <a:close/>
                  </a:path>
                </a:pathLst>
              </a:custGeom>
              <a:solidFill>
                <a:srgbClr val="174a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" name="Freeform 9"/>
              <p:cNvSpPr/>
              <p:nvPr/>
            </p:nvSpPr>
            <p:spPr>
              <a:xfrm>
                <a:off x="6819840" y="3197520"/>
                <a:ext cx="1559160" cy="218880"/>
              </a:xfrm>
              <a:custGeom>
                <a:avLst/>
                <a:gdLst/>
                <a:ahLst/>
                <a:rect l="l" t="t" r="r" b="b"/>
                <a:pathLst>
                  <a:path w="1559718" h="219075">
                    <a:moveTo>
                      <a:pt x="145256" y="0"/>
                    </a:moveTo>
                    <a:lnTo>
                      <a:pt x="1559718" y="0"/>
                    </a:lnTo>
                    <a:lnTo>
                      <a:pt x="1231106" y="219075"/>
                    </a:lnTo>
                    <a:lnTo>
                      <a:pt x="0" y="219075"/>
                    </a:lnTo>
                    <a:lnTo>
                      <a:pt x="145256" y="0"/>
                    </a:lnTo>
                    <a:close/>
                  </a:path>
                </a:pathLst>
              </a:custGeom>
              <a:solidFill>
                <a:srgbClr val="2370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76" name="Oval 64"/>
            <p:cNvSpPr/>
            <p:nvPr/>
          </p:nvSpPr>
          <p:spPr>
            <a:xfrm>
              <a:off x="7067520" y="1555920"/>
              <a:ext cx="1030680" cy="10303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2e95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TextBox 45"/>
            <p:cNvSpPr/>
            <p:nvPr/>
          </p:nvSpPr>
          <p:spPr>
            <a:xfrm>
              <a:off x="7215480" y="1872000"/>
              <a:ext cx="767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2e95c0"/>
                  </a:solidFill>
                  <a:latin typeface="Arial"/>
                  <a:ea typeface="Arial"/>
                </a:rPr>
                <a:t>$24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TextBox 54"/>
            <p:cNvSpPr/>
            <p:nvPr/>
          </p:nvSpPr>
          <p:spPr>
            <a:xfrm>
              <a:off x="7192800" y="2851920"/>
              <a:ext cx="956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Tháng 5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9" name="TextBox 55"/>
          <p:cNvSpPr/>
          <p:nvPr/>
        </p:nvSpPr>
        <p:spPr>
          <a:xfrm>
            <a:off x="898200" y="3774240"/>
            <a:ext cx="15530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171360" indent="-171360">
              <a:buClr>
                <a:srgbClr val="59595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595959"/>
                </a:solidFill>
                <a:latin typeface="Arial"/>
                <a:ea typeface="Arial"/>
              </a:rPr>
              <a:t>Nội dung của bạ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1360" indent="-171360">
              <a:buClr>
                <a:srgbClr val="59595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595959"/>
                </a:solidFill>
                <a:latin typeface="Arial"/>
                <a:ea typeface="Arial"/>
              </a:rPr>
              <a:t>Nội dung của bạ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1360" indent="-171360">
              <a:buClr>
                <a:srgbClr val="59595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595959"/>
                </a:solidFill>
                <a:latin typeface="Arial"/>
                <a:ea typeface="Arial"/>
              </a:rPr>
              <a:t>Nội dung của bạ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TextBox 56"/>
          <p:cNvSpPr/>
          <p:nvPr/>
        </p:nvSpPr>
        <p:spPr>
          <a:xfrm>
            <a:off x="2376360" y="2964600"/>
            <a:ext cx="15530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171360" indent="-171360">
              <a:buClr>
                <a:srgbClr val="59595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595959"/>
                </a:solidFill>
                <a:latin typeface="Arial"/>
                <a:ea typeface="Arial"/>
              </a:rPr>
              <a:t>Nội dung của bạ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1360" indent="-171360">
              <a:buClr>
                <a:srgbClr val="59595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595959"/>
                </a:solidFill>
                <a:latin typeface="Arial"/>
                <a:ea typeface="Arial"/>
              </a:rPr>
              <a:t>Nội dung của bạ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1360" indent="-171360">
              <a:buClr>
                <a:srgbClr val="59595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595959"/>
                </a:solidFill>
                <a:latin typeface="Arial"/>
                <a:ea typeface="Arial"/>
              </a:rPr>
              <a:t>Nội dung của bạ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xtBox 58"/>
          <p:cNvSpPr/>
          <p:nvPr/>
        </p:nvSpPr>
        <p:spPr>
          <a:xfrm>
            <a:off x="3709800" y="2234160"/>
            <a:ext cx="15530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171360" indent="-171360">
              <a:buClr>
                <a:srgbClr val="59595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595959"/>
                </a:solidFill>
                <a:latin typeface="Arial"/>
                <a:ea typeface="Arial"/>
              </a:rPr>
              <a:t>Nội dung của bạ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1360" indent="-171360">
              <a:buClr>
                <a:srgbClr val="59595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595959"/>
                </a:solidFill>
                <a:latin typeface="Arial"/>
                <a:ea typeface="Arial"/>
              </a:rPr>
              <a:t>Nội dung của bạ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1360" indent="-171360">
              <a:buClr>
                <a:srgbClr val="59595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595959"/>
                </a:solidFill>
                <a:latin typeface="Arial"/>
                <a:ea typeface="Arial"/>
              </a:rPr>
              <a:t>Nội dung của bạ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TextBox 59"/>
          <p:cNvSpPr/>
          <p:nvPr/>
        </p:nvSpPr>
        <p:spPr>
          <a:xfrm>
            <a:off x="5224320" y="1558080"/>
            <a:ext cx="15530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171360" indent="-171360">
              <a:buClr>
                <a:srgbClr val="59595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595959"/>
                </a:solidFill>
                <a:latin typeface="Arial"/>
                <a:ea typeface="Arial"/>
              </a:rPr>
              <a:t>Nội dung của bạ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1360" indent="-171360">
              <a:buClr>
                <a:srgbClr val="59595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595959"/>
                </a:solidFill>
                <a:latin typeface="Arial"/>
                <a:ea typeface="Arial"/>
              </a:rPr>
              <a:t>Nội dung của bạ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1360" indent="-171360">
              <a:buClr>
                <a:srgbClr val="59595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595959"/>
                </a:solidFill>
                <a:latin typeface="Arial"/>
                <a:ea typeface="Arial"/>
              </a:rPr>
              <a:t>Nội dung của bạ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TextBox 60"/>
          <p:cNvSpPr/>
          <p:nvPr/>
        </p:nvSpPr>
        <p:spPr>
          <a:xfrm>
            <a:off x="6737040" y="843480"/>
            <a:ext cx="15530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171360" indent="-171360">
              <a:buClr>
                <a:srgbClr val="59595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595959"/>
                </a:solidFill>
                <a:latin typeface="Arial"/>
                <a:ea typeface="Arial"/>
              </a:rPr>
              <a:t>Nội dung của bạ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1360" indent="-171360">
              <a:buClr>
                <a:srgbClr val="59595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595959"/>
                </a:solidFill>
                <a:latin typeface="Arial"/>
                <a:ea typeface="Arial"/>
              </a:rPr>
              <a:t>Nội dung của bạ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1360" indent="-171360">
              <a:buClr>
                <a:srgbClr val="59595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595959"/>
                </a:solidFill>
                <a:latin typeface="Arial"/>
                <a:ea typeface="Arial"/>
              </a:rPr>
              <a:t>Nội dung của bạ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Box 2"/>
          <p:cNvSpPr/>
          <p:nvPr/>
        </p:nvSpPr>
        <p:spPr>
          <a:xfrm>
            <a:off x="3149640" y="230040"/>
            <a:ext cx="280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800" spc="-1" strike="noStrike">
                <a:solidFill>
                  <a:srgbClr val="6b7073"/>
                </a:solidFill>
                <a:latin typeface="Arial"/>
                <a:ea typeface="Arial"/>
              </a:rPr>
              <a:t>TIÊU ĐỀ CHÍN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Rounded Rectangle 4"/>
          <p:cNvSpPr/>
          <p:nvPr/>
        </p:nvSpPr>
        <p:spPr>
          <a:xfrm>
            <a:off x="1943280" y="1295280"/>
            <a:ext cx="5106960" cy="4413240"/>
          </a:xfrm>
          <a:prstGeom prst="roundRect">
            <a:avLst>
              <a:gd name="adj" fmla="val 10690"/>
            </a:avLst>
          </a:prstGeom>
          <a:solidFill>
            <a:srgbClr val="a7d6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Round Same Side Corner Rectangle 3"/>
          <p:cNvSpPr/>
          <p:nvPr/>
        </p:nvSpPr>
        <p:spPr>
          <a:xfrm>
            <a:off x="2152800" y="1521000"/>
            <a:ext cx="4678200" cy="952200"/>
          </a:xfrm>
          <a:custGeom>
            <a:avLst/>
            <a:gdLst/>
            <a:ahLst/>
            <a:rect l="l" t="t" r="r" b="b"/>
            <a:pathLst>
              <a:path w="4678363" h="952500">
                <a:moveTo>
                  <a:pt x="476250" y="0"/>
                </a:moveTo>
                <a:lnTo>
                  <a:pt x="4202113" y="0"/>
                </a:lnTo>
                <a:cubicBezTo>
                  <a:pt x="4465139" y="0"/>
                  <a:pt x="4678363" y="213224"/>
                  <a:pt x="4678363" y="476250"/>
                </a:cubicBezTo>
                <a:lnTo>
                  <a:pt x="4678363" y="952500"/>
                </a:lnTo>
                <a:lnTo>
                  <a:pt x="4678363" y="952500"/>
                </a:lnTo>
                <a:lnTo>
                  <a:pt x="0" y="952500"/>
                </a:lnTo>
                <a:lnTo>
                  <a:pt x="0" y="952500"/>
                </a:lnTo>
                <a:lnTo>
                  <a:pt x="0" y="476250"/>
                </a:lnTo>
                <a:cubicBezTo>
                  <a:pt x="0" y="213224"/>
                  <a:pt x="213224" y="0"/>
                  <a:pt x="476250" y="0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Round Same Side Corner Rectangle 5"/>
          <p:cNvSpPr/>
          <p:nvPr/>
        </p:nvSpPr>
        <p:spPr>
          <a:xfrm flipV="1">
            <a:off x="2152800" y="2472840"/>
            <a:ext cx="4678200" cy="3098880"/>
          </a:xfrm>
          <a:custGeom>
            <a:avLst/>
            <a:gdLst/>
            <a:ahLst/>
            <a:rect l="l" t="t" r="r" b="b"/>
            <a:pathLst>
              <a:path w="4678363" h="3098800">
                <a:moveTo>
                  <a:pt x="516477" y="0"/>
                </a:moveTo>
                <a:lnTo>
                  <a:pt x="4161886" y="0"/>
                </a:lnTo>
                <a:cubicBezTo>
                  <a:pt x="4447128" y="0"/>
                  <a:pt x="4678363" y="231235"/>
                  <a:pt x="4678363" y="516477"/>
                </a:cubicBezTo>
                <a:lnTo>
                  <a:pt x="4678363" y="3098800"/>
                </a:lnTo>
                <a:lnTo>
                  <a:pt x="4678363" y="3098800"/>
                </a:lnTo>
                <a:lnTo>
                  <a:pt x="0" y="3098800"/>
                </a:lnTo>
                <a:lnTo>
                  <a:pt x="0" y="3098800"/>
                </a:lnTo>
                <a:lnTo>
                  <a:pt x="0" y="516477"/>
                </a:lnTo>
                <a:cubicBezTo>
                  <a:pt x="0" y="231235"/>
                  <a:pt x="231235" y="0"/>
                  <a:pt x="516477" y="0"/>
                </a:cubicBez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Round Same Side Corner Rectangle 57"/>
          <p:cNvSpPr/>
          <p:nvPr/>
        </p:nvSpPr>
        <p:spPr>
          <a:xfrm flipV="1">
            <a:off x="2157480" y="2472840"/>
            <a:ext cx="4678200" cy="3005280"/>
          </a:xfrm>
          <a:custGeom>
            <a:avLst/>
            <a:gdLst/>
            <a:ahLst/>
            <a:rect l="l" t="t" r="r" b="b"/>
            <a:pathLst>
              <a:path w="4678362" h="3005138">
                <a:moveTo>
                  <a:pt x="500866" y="0"/>
                </a:moveTo>
                <a:lnTo>
                  <a:pt x="4177496" y="0"/>
                </a:lnTo>
                <a:cubicBezTo>
                  <a:pt x="4454117" y="0"/>
                  <a:pt x="4678362" y="224245"/>
                  <a:pt x="4678362" y="500866"/>
                </a:cubicBezTo>
                <a:lnTo>
                  <a:pt x="4678362" y="3005138"/>
                </a:lnTo>
                <a:lnTo>
                  <a:pt x="4678362" y="3005138"/>
                </a:lnTo>
                <a:lnTo>
                  <a:pt x="0" y="3005138"/>
                </a:lnTo>
                <a:lnTo>
                  <a:pt x="0" y="3005138"/>
                </a:lnTo>
                <a:lnTo>
                  <a:pt x="0" y="500866"/>
                </a:lnTo>
                <a:cubicBezTo>
                  <a:pt x="0" y="224245"/>
                  <a:pt x="224245" y="0"/>
                  <a:pt x="500866" y="0"/>
                </a:cubicBezTo>
                <a:close/>
              </a:path>
            </a:pathLst>
          </a:cu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Round Same Side Corner Rectangle 6"/>
          <p:cNvSpPr/>
          <p:nvPr/>
        </p:nvSpPr>
        <p:spPr>
          <a:xfrm flipV="1">
            <a:off x="2147760" y="2472120"/>
            <a:ext cx="4676760" cy="2845080"/>
          </a:xfrm>
          <a:custGeom>
            <a:avLst/>
            <a:gdLst/>
            <a:ahLst/>
            <a:rect l="l" t="t" r="r" b="b"/>
            <a:pathLst>
              <a:path w="4676775" h="2844800">
                <a:moveTo>
                  <a:pt x="474143" y="0"/>
                </a:moveTo>
                <a:lnTo>
                  <a:pt x="4202632" y="0"/>
                </a:lnTo>
                <a:cubicBezTo>
                  <a:pt x="4464494" y="0"/>
                  <a:pt x="4676775" y="212281"/>
                  <a:pt x="4676775" y="474143"/>
                </a:cubicBezTo>
                <a:lnTo>
                  <a:pt x="4676775" y="2844800"/>
                </a:lnTo>
                <a:lnTo>
                  <a:pt x="4676775" y="2844800"/>
                </a:lnTo>
                <a:lnTo>
                  <a:pt x="0" y="2844800"/>
                </a:lnTo>
                <a:lnTo>
                  <a:pt x="0" y="2844800"/>
                </a:lnTo>
                <a:lnTo>
                  <a:pt x="0" y="474143"/>
                </a:lnTo>
                <a:cubicBezTo>
                  <a:pt x="0" y="212281"/>
                  <a:pt x="212281" y="0"/>
                  <a:pt x="474143" y="0"/>
                </a:cubicBezTo>
                <a:close/>
              </a:path>
            </a:pathLst>
          </a:custGeom>
          <a:solidFill>
            <a:srgbClr val="ffffff"/>
          </a:solidFill>
          <a:ln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0" name="Group 16"/>
          <p:cNvGrpSpPr/>
          <p:nvPr/>
        </p:nvGrpSpPr>
        <p:grpSpPr>
          <a:xfrm>
            <a:off x="2152800" y="2927520"/>
            <a:ext cx="4682880" cy="1882440"/>
            <a:chOff x="2152800" y="2927520"/>
            <a:chExt cx="4682880" cy="1882440"/>
          </a:xfrm>
        </p:grpSpPr>
        <p:pic>
          <p:nvPicPr>
            <p:cNvPr id="191" name="Group 7" descr=""/>
            <p:cNvPicPr/>
            <p:nvPr/>
          </p:nvPicPr>
          <p:blipFill>
            <a:blip r:embed="rId2"/>
            <a:stretch/>
          </p:blipFill>
          <p:spPr>
            <a:xfrm>
              <a:off x="2152800" y="2927520"/>
              <a:ext cx="4682880" cy="473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2" name="Group 17" descr=""/>
            <p:cNvPicPr/>
            <p:nvPr/>
          </p:nvPicPr>
          <p:blipFill>
            <a:blip r:embed="rId3"/>
            <a:stretch/>
          </p:blipFill>
          <p:spPr>
            <a:xfrm>
              <a:off x="2152800" y="3395160"/>
              <a:ext cx="4682880" cy="479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3" name="Group 26" descr=""/>
            <p:cNvPicPr/>
            <p:nvPr/>
          </p:nvPicPr>
          <p:blipFill>
            <a:blip r:embed="rId4"/>
            <a:stretch/>
          </p:blipFill>
          <p:spPr>
            <a:xfrm>
              <a:off x="2152800" y="3868920"/>
              <a:ext cx="4682880" cy="473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" name="Group 35" descr=""/>
            <p:cNvPicPr/>
            <p:nvPr/>
          </p:nvPicPr>
          <p:blipFill>
            <a:blip r:embed="rId5"/>
            <a:stretch/>
          </p:blipFill>
          <p:spPr>
            <a:xfrm>
              <a:off x="2152800" y="4336560"/>
              <a:ext cx="4682880" cy="473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5" name="Heart 45"/>
          <p:cNvSpPr/>
          <p:nvPr/>
        </p:nvSpPr>
        <p:spPr>
          <a:xfrm>
            <a:off x="5116680" y="3436920"/>
            <a:ext cx="164880" cy="163440"/>
          </a:xfrm>
          <a:custGeom>
            <a:avLst/>
            <a:gdLst/>
            <a:ahLst/>
            <a:rect l="l" t="t" r="r" b="b"/>
            <a:pathLst>
              <a:path w="165100" h="163512">
                <a:moveTo>
                  <a:pt x="82550" y="40878"/>
                </a:moveTo>
                <a:cubicBezTo>
                  <a:pt x="116946" y="-54504"/>
                  <a:pt x="251090" y="40878"/>
                  <a:pt x="82550" y="163512"/>
                </a:cubicBezTo>
                <a:cubicBezTo>
                  <a:pt x="-85990" y="40878"/>
                  <a:pt x="48154" y="-54504"/>
                  <a:pt x="82550" y="40878"/>
                </a:cubicBezTo>
                <a:close/>
              </a:path>
            </a:pathLst>
          </a:custGeom>
          <a:solidFill>
            <a:srgbClr val="237090"/>
          </a:solidFill>
          <a:ln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6" name="Group 60"/>
          <p:cNvGrpSpPr/>
          <p:nvPr/>
        </p:nvGrpSpPr>
        <p:grpSpPr>
          <a:xfrm>
            <a:off x="2916000" y="3056040"/>
            <a:ext cx="228960" cy="212760"/>
            <a:chOff x="2916000" y="3056040"/>
            <a:chExt cx="228960" cy="212760"/>
          </a:xfrm>
        </p:grpSpPr>
        <p:sp>
          <p:nvSpPr>
            <p:cNvPr id="197" name="Straight Connector 59"/>
            <p:cNvSpPr/>
            <p:nvPr/>
          </p:nvSpPr>
          <p:spPr>
            <a:xfrm>
              <a:off x="2916360" y="3056040"/>
              <a:ext cx="228600" cy="212760"/>
            </a:xfrm>
            <a:prstGeom prst="line">
              <a:avLst/>
            </a:prstGeom>
            <a:ln w="28440">
              <a:solidFill>
                <a:srgbClr val="2370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Straight Connector 61"/>
            <p:cNvSpPr/>
            <p:nvPr/>
          </p:nvSpPr>
          <p:spPr>
            <a:xfrm flipH="1">
              <a:off x="2916000" y="3056040"/>
              <a:ext cx="228600" cy="212760"/>
            </a:xfrm>
            <a:prstGeom prst="line">
              <a:avLst/>
            </a:prstGeom>
            <a:ln w="28440">
              <a:solidFill>
                <a:srgbClr val="2370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9" name="Oval 62"/>
          <p:cNvSpPr/>
          <p:nvPr/>
        </p:nvSpPr>
        <p:spPr>
          <a:xfrm>
            <a:off x="3424320" y="3433680"/>
            <a:ext cx="406440" cy="406440"/>
          </a:xfrm>
          <a:prstGeom prst="ellipse">
            <a:avLst/>
          </a:prstGeom>
          <a:noFill/>
          <a:ln w="28440">
            <a:solidFill>
              <a:srgbClr val="2370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Oval 64"/>
          <p:cNvSpPr/>
          <p:nvPr/>
        </p:nvSpPr>
        <p:spPr>
          <a:xfrm>
            <a:off x="4594320" y="3895560"/>
            <a:ext cx="406440" cy="406440"/>
          </a:xfrm>
          <a:prstGeom prst="ellipse">
            <a:avLst/>
          </a:prstGeom>
          <a:noFill/>
          <a:ln w="28440">
            <a:solidFill>
              <a:srgbClr val="2370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TextBox 43007"/>
          <p:cNvSpPr/>
          <p:nvPr/>
        </p:nvSpPr>
        <p:spPr>
          <a:xfrm>
            <a:off x="3019320" y="5810400"/>
            <a:ext cx="3291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777777"/>
                </a:solidFill>
                <a:latin typeface="Arial"/>
                <a:ea typeface="Arial"/>
              </a:rPr>
              <a:t>Sự kiện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77777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777777"/>
                </a:solidFill>
                <a:latin typeface="Arial"/>
                <a:ea typeface="Arial"/>
              </a:rPr>
              <a:t>Ngày 14/2: Lễ Valentin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77777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777777"/>
                </a:solidFill>
                <a:latin typeface="Arial"/>
                <a:ea typeface="Arial"/>
              </a:rPr>
              <a:t>Ngày 27/2: Ngày Thầy thuốc Việt Na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TextBox 66"/>
          <p:cNvSpPr/>
          <p:nvPr/>
        </p:nvSpPr>
        <p:spPr>
          <a:xfrm>
            <a:off x="3558240" y="1563840"/>
            <a:ext cx="1855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>
                <a:solidFill>
                  <a:srgbClr val="ffffff"/>
                </a:solidFill>
                <a:latin typeface="Arial"/>
                <a:ea typeface="Arial"/>
              </a:rPr>
              <a:t>Tháng </a:t>
            </a:r>
            <a:r>
              <a:rPr b="1" lang="vi-VN" sz="4800" spc="-1" strike="noStrike">
                <a:solidFill>
                  <a:srgbClr val="ffffff"/>
                </a:solidFill>
                <a:latin typeface="Arial"/>
                <a:ea typeface="Arial"/>
              </a:rPr>
              <a:t>02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3" name="Group 43013"/>
          <p:cNvGrpSpPr/>
          <p:nvPr/>
        </p:nvGrpSpPr>
        <p:grpSpPr>
          <a:xfrm>
            <a:off x="3351240" y="4363920"/>
            <a:ext cx="168120" cy="223920"/>
            <a:chOff x="3351240" y="4363920"/>
            <a:chExt cx="168120" cy="223920"/>
          </a:xfrm>
        </p:grpSpPr>
        <p:grpSp>
          <p:nvGrpSpPr>
            <p:cNvPr id="204" name="Group 71"/>
            <p:cNvGrpSpPr/>
            <p:nvPr/>
          </p:nvGrpSpPr>
          <p:grpSpPr>
            <a:xfrm>
              <a:off x="3440160" y="4367880"/>
              <a:ext cx="79200" cy="110520"/>
              <a:chOff x="3440160" y="4367880"/>
              <a:chExt cx="79200" cy="110520"/>
            </a:xfrm>
          </p:grpSpPr>
          <p:sp>
            <p:nvSpPr>
              <p:cNvPr id="205" name="Freeform 72"/>
              <p:cNvSpPr/>
              <p:nvPr/>
            </p:nvSpPr>
            <p:spPr>
              <a:xfrm flipH="1">
                <a:off x="3440160" y="4367880"/>
                <a:ext cx="79200" cy="110520"/>
              </a:xfrm>
              <a:custGeom>
                <a:avLst/>
                <a:gdLst/>
                <a:ahLst/>
                <a:rect l="l" t="t" r="r" b="b"/>
                <a:pathLst>
                  <a:path w="2444776" h="3397449">
                    <a:moveTo>
                      <a:pt x="0" y="0"/>
                    </a:moveTo>
                    <a:cubicBezTo>
                      <a:pt x="140799" y="402052"/>
                      <a:pt x="196847" y="1085115"/>
                      <a:pt x="190450" y="1616521"/>
                    </a:cubicBezTo>
                    <a:cubicBezTo>
                      <a:pt x="229783" y="2517268"/>
                      <a:pt x="456458" y="2735563"/>
                      <a:pt x="750039" y="3051987"/>
                    </a:cubicBezTo>
                    <a:cubicBezTo>
                      <a:pt x="1140693" y="3362216"/>
                      <a:pt x="1500121" y="3436040"/>
                      <a:pt x="1774802" y="3380509"/>
                    </a:cubicBezTo>
                    <a:cubicBezTo>
                      <a:pt x="2125356" y="3256178"/>
                      <a:pt x="2346556" y="3087243"/>
                      <a:pt x="2438401" y="2637297"/>
                    </a:cubicBezTo>
                    <a:cubicBezTo>
                      <a:pt x="2473431" y="2219700"/>
                      <a:pt x="2365727" y="1802104"/>
                      <a:pt x="2075141" y="1371126"/>
                    </a:cubicBezTo>
                    <a:cubicBezTo>
                      <a:pt x="1619833" y="789190"/>
                      <a:pt x="794305" y="345530"/>
                      <a:pt x="0" y="0"/>
                    </a:cubicBezTo>
                    <a:close/>
                  </a:path>
                </a:pathLst>
              </a:custGeom>
              <a:solidFill>
                <a:srgbClr val="2370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Freeform 74"/>
              <p:cNvSpPr/>
              <p:nvPr/>
            </p:nvSpPr>
            <p:spPr>
              <a:xfrm flipH="1" rot="480000">
                <a:off x="3462120" y="4417200"/>
                <a:ext cx="18720" cy="59400"/>
              </a:xfrm>
              <a:custGeom>
                <a:avLst/>
                <a:gdLst/>
                <a:ahLst/>
                <a:rect l="l" t="t" r="r" b="b"/>
                <a:pathLst>
                  <a:path w="30297" h="93644">
                    <a:moveTo>
                      <a:pt x="30297" y="93644"/>
                    </a:moveTo>
                    <a:cubicBezTo>
                      <a:pt x="30067" y="72528"/>
                      <a:pt x="29837" y="51412"/>
                      <a:pt x="24788" y="35805"/>
                    </a:cubicBezTo>
                    <a:cubicBezTo>
                      <a:pt x="19739" y="20198"/>
                      <a:pt x="9869" y="10099"/>
                      <a:pt x="0" y="0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Group 43012"/>
            <p:cNvGrpSpPr/>
            <p:nvPr/>
          </p:nvGrpSpPr>
          <p:grpSpPr>
            <a:xfrm>
              <a:off x="3351240" y="4363920"/>
              <a:ext cx="124200" cy="223920"/>
              <a:chOff x="3351240" y="4363920"/>
              <a:chExt cx="124200" cy="223920"/>
            </a:xfrm>
          </p:grpSpPr>
          <p:sp>
            <p:nvSpPr>
              <p:cNvPr id="208" name="Freeform 51"/>
              <p:cNvSpPr/>
              <p:nvPr/>
            </p:nvSpPr>
            <p:spPr>
              <a:xfrm>
                <a:off x="3351240" y="4363920"/>
                <a:ext cx="124200" cy="173160"/>
              </a:xfrm>
              <a:custGeom>
                <a:avLst/>
                <a:gdLst/>
                <a:ahLst/>
                <a:rect l="l" t="t" r="r" b="b"/>
                <a:pathLst>
                  <a:path w="2444776" h="3397449">
                    <a:moveTo>
                      <a:pt x="0" y="0"/>
                    </a:moveTo>
                    <a:cubicBezTo>
                      <a:pt x="140799" y="402052"/>
                      <a:pt x="196847" y="1085115"/>
                      <a:pt x="190450" y="1616521"/>
                    </a:cubicBezTo>
                    <a:cubicBezTo>
                      <a:pt x="229783" y="2517268"/>
                      <a:pt x="456458" y="2735563"/>
                      <a:pt x="750039" y="3051987"/>
                    </a:cubicBezTo>
                    <a:cubicBezTo>
                      <a:pt x="1140693" y="3362216"/>
                      <a:pt x="1500121" y="3436040"/>
                      <a:pt x="1774802" y="3380509"/>
                    </a:cubicBezTo>
                    <a:cubicBezTo>
                      <a:pt x="2125356" y="3256178"/>
                      <a:pt x="2346556" y="3087243"/>
                      <a:pt x="2438401" y="2637297"/>
                    </a:cubicBezTo>
                    <a:cubicBezTo>
                      <a:pt x="2473431" y="2219700"/>
                      <a:pt x="2365727" y="1802104"/>
                      <a:pt x="2075141" y="1371126"/>
                    </a:cubicBezTo>
                    <a:cubicBezTo>
                      <a:pt x="1619833" y="789190"/>
                      <a:pt x="794305" y="345530"/>
                      <a:pt x="0" y="0"/>
                    </a:cubicBezTo>
                    <a:close/>
                  </a:path>
                </a:pathLst>
              </a:custGeom>
              <a:solidFill>
                <a:srgbClr val="2370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Freeform 52"/>
              <p:cNvSpPr/>
              <p:nvPr/>
            </p:nvSpPr>
            <p:spPr>
              <a:xfrm>
                <a:off x="3405240" y="4449600"/>
                <a:ext cx="60480" cy="138240"/>
              </a:xfrm>
              <a:custGeom>
                <a:avLst/>
                <a:gdLst/>
                <a:ahLst/>
                <a:rect l="l" t="t" r="r" b="b"/>
                <a:pathLst>
                  <a:path w="1193223" h="2710789">
                    <a:moveTo>
                      <a:pt x="43034" y="294375"/>
                    </a:moveTo>
                    <a:cubicBezTo>
                      <a:pt x="234732" y="677771"/>
                      <a:pt x="489691" y="1032412"/>
                      <a:pt x="618128" y="1444563"/>
                    </a:cubicBezTo>
                    <a:cubicBezTo>
                      <a:pt x="740814" y="1818375"/>
                      <a:pt x="800242" y="2180684"/>
                      <a:pt x="830913" y="2531492"/>
                    </a:cubicBezTo>
                    <a:cubicBezTo>
                      <a:pt x="894174" y="2819039"/>
                      <a:pt x="1164468" y="2721273"/>
                      <a:pt x="1193223" y="2514239"/>
                    </a:cubicBezTo>
                    <a:cubicBezTo>
                      <a:pt x="1162552" y="2146179"/>
                      <a:pt x="1091623" y="1737861"/>
                      <a:pt x="980438" y="1375552"/>
                    </a:cubicBezTo>
                    <a:cubicBezTo>
                      <a:pt x="830913" y="930812"/>
                      <a:pt x="583623" y="497575"/>
                      <a:pt x="324830" y="58586"/>
                    </a:cubicBezTo>
                    <a:cubicBezTo>
                      <a:pt x="161887" y="-92855"/>
                      <a:pt x="-104574" y="72005"/>
                      <a:pt x="43034" y="294375"/>
                    </a:cubicBezTo>
                    <a:close/>
                  </a:path>
                </a:pathLst>
              </a:custGeom>
              <a:solidFill>
                <a:srgbClr val="2370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Freeform 43011"/>
              <p:cNvSpPr/>
              <p:nvPr/>
            </p:nvSpPr>
            <p:spPr>
              <a:xfrm rot="21120000">
                <a:off x="3409920" y="4441320"/>
                <a:ext cx="30240" cy="93600"/>
              </a:xfrm>
              <a:custGeom>
                <a:avLst/>
                <a:gdLst/>
                <a:ahLst/>
                <a:rect l="l" t="t" r="r" b="b"/>
                <a:pathLst>
                  <a:path w="30297" h="93644">
                    <a:moveTo>
                      <a:pt x="30297" y="93644"/>
                    </a:moveTo>
                    <a:cubicBezTo>
                      <a:pt x="30067" y="72528"/>
                      <a:pt x="29837" y="51412"/>
                      <a:pt x="24788" y="35805"/>
                    </a:cubicBezTo>
                    <a:cubicBezTo>
                      <a:pt x="19739" y="20198"/>
                      <a:pt x="9869" y="10099"/>
                      <a:pt x="0" y="0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Box 2"/>
          <p:cNvSpPr/>
          <p:nvPr/>
        </p:nvSpPr>
        <p:spPr>
          <a:xfrm>
            <a:off x="3149640" y="230040"/>
            <a:ext cx="280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800" spc="-1" strike="noStrike">
                <a:solidFill>
                  <a:srgbClr val="6b7073"/>
                </a:solidFill>
                <a:latin typeface="Arial"/>
                <a:ea typeface="Arial"/>
              </a:rPr>
              <a:t>TIÊU ĐỀ CHÍN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Rectangle 37"/>
          <p:cNvSpPr/>
          <p:nvPr/>
        </p:nvSpPr>
        <p:spPr>
          <a:xfrm>
            <a:off x="-12600" y="4597560"/>
            <a:ext cx="9156600" cy="812520"/>
          </a:xfrm>
          <a:prstGeom prst="rect">
            <a:avLst/>
          </a:prstGeom>
          <a:solidFill>
            <a:srgbClr val="2e95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3" name="Group 10"/>
          <p:cNvGrpSpPr/>
          <p:nvPr/>
        </p:nvGrpSpPr>
        <p:grpSpPr>
          <a:xfrm>
            <a:off x="700200" y="2146320"/>
            <a:ext cx="7773840" cy="3632040"/>
            <a:chOff x="700200" y="2146320"/>
            <a:chExt cx="7773840" cy="3632040"/>
          </a:xfrm>
        </p:grpSpPr>
        <p:grpSp>
          <p:nvGrpSpPr>
            <p:cNvPr id="214" name="Group 5"/>
            <p:cNvGrpSpPr/>
            <p:nvPr/>
          </p:nvGrpSpPr>
          <p:grpSpPr>
            <a:xfrm>
              <a:off x="700200" y="2146320"/>
              <a:ext cx="1806120" cy="3632040"/>
              <a:chOff x="700200" y="2146320"/>
              <a:chExt cx="1806120" cy="3632040"/>
            </a:xfrm>
          </p:grpSpPr>
          <p:sp>
            <p:nvSpPr>
              <p:cNvPr id="215" name="Rounded Rectangle 1"/>
              <p:cNvSpPr/>
              <p:nvPr/>
            </p:nvSpPr>
            <p:spPr>
              <a:xfrm>
                <a:off x="700200" y="2146320"/>
                <a:ext cx="1806120" cy="3632040"/>
              </a:xfrm>
              <a:custGeom>
                <a:avLst/>
                <a:gdLst>
                  <a:gd name="textAreaLeft" fmla="*/ 34920 w 1806120"/>
                  <a:gd name="textAreaRight" fmla="*/ 1771200 w 1806120"/>
                  <a:gd name="textAreaTop" fmla="*/ 34920 h 3632040"/>
                  <a:gd name="textAreaBottom" fmla="*/ 3597120 h 3632040"/>
                </a:gdLst>
                <a:ahLst/>
                <a:rect l="textAreaLeft" t="textAreaTop" r="textAreaRight" b="textAreaBottom"/>
                <a:pathLst>
                  <a:path w="21600" h="43432">
                    <a:moveTo>
                      <a:pt x="1434" y="0"/>
                    </a:moveTo>
                    <a:arcTo wR="1434" hR="1434" stAng="16200000" swAng="-5400000"/>
                    <a:lnTo>
                      <a:pt x="0" y="41998"/>
                    </a:lnTo>
                    <a:arcTo wR="1434" hR="1434" stAng="10800000" swAng="-5400000"/>
                    <a:lnTo>
                      <a:pt x="20166" y="43432"/>
                    </a:lnTo>
                    <a:arcTo wR="1434" hR="1434" stAng="5400000" swAng="-5400000"/>
                    <a:lnTo>
                      <a:pt x="21600" y="1434"/>
                    </a:lnTo>
                    <a:arcTo wR="1434" hR="1434" stAng="0" swAng="-5400000"/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16" name="Rounded Rectangle 3"/>
              <p:cNvGrpSpPr/>
              <p:nvPr/>
            </p:nvGrpSpPr>
            <p:grpSpPr>
              <a:xfrm>
                <a:off x="999720" y="4523040"/>
                <a:ext cx="146160" cy="956880"/>
                <a:chOff x="999720" y="4523040"/>
                <a:chExt cx="146160" cy="956880"/>
              </a:xfrm>
            </p:grpSpPr>
            <p:pic>
              <p:nvPicPr>
                <p:cNvPr id="217" name="Rounded Rectangle 3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999720" y="4523040"/>
                  <a:ext cx="146160" cy="956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18" name=""/>
                <p:cNvSpPr/>
                <p:nvPr/>
              </p:nvSpPr>
              <p:spPr>
                <a:xfrm>
                  <a:off x="1020240" y="4542480"/>
                  <a:ext cx="104040" cy="91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Rounded Rectangle 34"/>
              <p:cNvGrpSpPr/>
              <p:nvPr/>
            </p:nvGrpSpPr>
            <p:grpSpPr>
              <a:xfrm>
                <a:off x="2054160" y="4523040"/>
                <a:ext cx="146160" cy="956880"/>
                <a:chOff x="2054160" y="4523040"/>
                <a:chExt cx="146160" cy="956880"/>
              </a:xfrm>
            </p:grpSpPr>
            <p:pic>
              <p:nvPicPr>
                <p:cNvPr id="220" name="Rounded Rectangle 34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2054160" y="4523040"/>
                  <a:ext cx="146160" cy="956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21" name=""/>
                <p:cNvSpPr/>
                <p:nvPr/>
              </p:nvSpPr>
              <p:spPr>
                <a:xfrm>
                  <a:off x="2073960" y="4542480"/>
                  <a:ext cx="104040" cy="91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2" name="Rectangle 4"/>
              <p:cNvSpPr/>
              <p:nvPr/>
            </p:nvSpPr>
            <p:spPr>
              <a:xfrm>
                <a:off x="998280" y="4597200"/>
                <a:ext cx="1201320" cy="812520"/>
              </a:xfrm>
              <a:prstGeom prst="rect">
                <a:avLst/>
              </a:prstGeom>
              <a:solidFill>
                <a:srgbClr val="2e95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23" name="Group 39"/>
            <p:cNvGrpSpPr/>
            <p:nvPr/>
          </p:nvGrpSpPr>
          <p:grpSpPr>
            <a:xfrm>
              <a:off x="2705400" y="2146320"/>
              <a:ext cx="1806120" cy="3632040"/>
              <a:chOff x="2705400" y="2146320"/>
              <a:chExt cx="1806120" cy="3632040"/>
            </a:xfrm>
          </p:grpSpPr>
          <p:sp>
            <p:nvSpPr>
              <p:cNvPr id="224" name="Rounded Rectangle 40"/>
              <p:cNvSpPr/>
              <p:nvPr/>
            </p:nvSpPr>
            <p:spPr>
              <a:xfrm>
                <a:off x="2705400" y="2146320"/>
                <a:ext cx="1806120" cy="3632040"/>
              </a:xfrm>
              <a:custGeom>
                <a:avLst/>
                <a:gdLst>
                  <a:gd name="textAreaLeft" fmla="*/ 34920 w 1806120"/>
                  <a:gd name="textAreaRight" fmla="*/ 1771200 w 1806120"/>
                  <a:gd name="textAreaTop" fmla="*/ 34920 h 3632040"/>
                  <a:gd name="textAreaBottom" fmla="*/ 3597120 h 3632040"/>
                </a:gdLst>
                <a:ahLst/>
                <a:rect l="textAreaLeft" t="textAreaTop" r="textAreaRight" b="textAreaBottom"/>
                <a:pathLst>
                  <a:path w="21600" h="43432">
                    <a:moveTo>
                      <a:pt x="1434" y="0"/>
                    </a:moveTo>
                    <a:arcTo wR="1434" hR="1434" stAng="16200000" swAng="-5400000"/>
                    <a:lnTo>
                      <a:pt x="0" y="41998"/>
                    </a:lnTo>
                    <a:arcTo wR="1434" hR="1434" stAng="10800000" swAng="-5400000"/>
                    <a:lnTo>
                      <a:pt x="20166" y="43432"/>
                    </a:lnTo>
                    <a:arcTo wR="1434" hR="1434" stAng="5400000" swAng="-5400000"/>
                    <a:lnTo>
                      <a:pt x="21600" y="1434"/>
                    </a:lnTo>
                    <a:arcTo wR="1434" hR="1434" stAng="0" swAng="-5400000"/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25" name="Rounded Rectangle 41"/>
              <p:cNvGrpSpPr/>
              <p:nvPr/>
            </p:nvGrpSpPr>
            <p:grpSpPr>
              <a:xfrm>
                <a:off x="3005280" y="4523040"/>
                <a:ext cx="146160" cy="956880"/>
                <a:chOff x="3005280" y="4523040"/>
                <a:chExt cx="146160" cy="956880"/>
              </a:xfrm>
            </p:grpSpPr>
            <p:pic>
              <p:nvPicPr>
                <p:cNvPr id="226" name="Rounded Rectangle 41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005280" y="4523040"/>
                  <a:ext cx="146160" cy="956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27" name=""/>
                <p:cNvSpPr/>
                <p:nvPr/>
              </p:nvSpPr>
              <p:spPr>
                <a:xfrm>
                  <a:off x="3025440" y="4542480"/>
                  <a:ext cx="104040" cy="91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Rounded Rectangle 42"/>
              <p:cNvGrpSpPr/>
              <p:nvPr/>
            </p:nvGrpSpPr>
            <p:grpSpPr>
              <a:xfrm>
                <a:off x="4060080" y="4523040"/>
                <a:ext cx="146160" cy="956880"/>
                <a:chOff x="4060080" y="4523040"/>
                <a:chExt cx="146160" cy="956880"/>
              </a:xfrm>
            </p:grpSpPr>
            <p:pic>
              <p:nvPicPr>
                <p:cNvPr id="229" name="Rounded Rectangle 42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4060080" y="4523040"/>
                  <a:ext cx="146160" cy="956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30" name=""/>
                <p:cNvSpPr/>
                <p:nvPr/>
              </p:nvSpPr>
              <p:spPr>
                <a:xfrm>
                  <a:off x="4079880" y="4542480"/>
                  <a:ext cx="104040" cy="91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1" name="Rectangle 43"/>
              <p:cNvSpPr/>
              <p:nvPr/>
            </p:nvSpPr>
            <p:spPr>
              <a:xfrm>
                <a:off x="3003480" y="4597200"/>
                <a:ext cx="1201320" cy="812520"/>
              </a:xfrm>
              <a:prstGeom prst="rect">
                <a:avLst/>
              </a:prstGeom>
              <a:solidFill>
                <a:srgbClr val="2e95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32" name="TextBox 9"/>
            <p:cNvSpPr/>
            <p:nvPr/>
          </p:nvSpPr>
          <p:spPr>
            <a:xfrm>
              <a:off x="1143720" y="4815720"/>
              <a:ext cx="91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vi-VN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uần 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TextBox 28"/>
            <p:cNvSpPr/>
            <p:nvPr/>
          </p:nvSpPr>
          <p:spPr>
            <a:xfrm>
              <a:off x="3149280" y="4815720"/>
              <a:ext cx="91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vi-VN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uần 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34" name="Group 29"/>
            <p:cNvGrpSpPr/>
            <p:nvPr/>
          </p:nvGrpSpPr>
          <p:grpSpPr>
            <a:xfrm>
              <a:off x="4699440" y="2146320"/>
              <a:ext cx="1806120" cy="3632040"/>
              <a:chOff x="4699440" y="2146320"/>
              <a:chExt cx="1806120" cy="3632040"/>
            </a:xfrm>
          </p:grpSpPr>
          <p:sp>
            <p:nvSpPr>
              <p:cNvPr id="235" name="Rounded Rectangle 30"/>
              <p:cNvSpPr/>
              <p:nvPr/>
            </p:nvSpPr>
            <p:spPr>
              <a:xfrm>
                <a:off x="4699440" y="2146320"/>
                <a:ext cx="1806120" cy="3632040"/>
              </a:xfrm>
              <a:custGeom>
                <a:avLst/>
                <a:gdLst>
                  <a:gd name="textAreaLeft" fmla="*/ 34920 w 1806120"/>
                  <a:gd name="textAreaRight" fmla="*/ 1771200 w 1806120"/>
                  <a:gd name="textAreaTop" fmla="*/ 34920 h 3632040"/>
                  <a:gd name="textAreaBottom" fmla="*/ 3597120 h 3632040"/>
                </a:gdLst>
                <a:ahLst/>
                <a:rect l="textAreaLeft" t="textAreaTop" r="textAreaRight" b="textAreaBottom"/>
                <a:pathLst>
                  <a:path w="21600" h="43432">
                    <a:moveTo>
                      <a:pt x="1434" y="0"/>
                    </a:moveTo>
                    <a:arcTo wR="1434" hR="1434" stAng="16200000" swAng="-5400000"/>
                    <a:lnTo>
                      <a:pt x="0" y="41998"/>
                    </a:lnTo>
                    <a:arcTo wR="1434" hR="1434" stAng="10800000" swAng="-5400000"/>
                    <a:lnTo>
                      <a:pt x="20166" y="43432"/>
                    </a:lnTo>
                    <a:arcTo wR="1434" hR="1434" stAng="5400000" swAng="-5400000"/>
                    <a:lnTo>
                      <a:pt x="21600" y="1434"/>
                    </a:lnTo>
                    <a:arcTo wR="1434" hR="1434" stAng="0" swAng="-5400000"/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36" name="Rounded Rectangle 31"/>
              <p:cNvGrpSpPr/>
              <p:nvPr/>
            </p:nvGrpSpPr>
            <p:grpSpPr>
              <a:xfrm>
                <a:off x="4998960" y="4523040"/>
                <a:ext cx="146160" cy="956880"/>
                <a:chOff x="4998960" y="4523040"/>
                <a:chExt cx="146160" cy="956880"/>
              </a:xfrm>
            </p:grpSpPr>
            <p:pic>
              <p:nvPicPr>
                <p:cNvPr id="237" name="Rounded Rectangle 3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4998960" y="4523040"/>
                  <a:ext cx="146160" cy="956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38" name=""/>
                <p:cNvSpPr/>
                <p:nvPr/>
              </p:nvSpPr>
              <p:spPr>
                <a:xfrm>
                  <a:off x="5019840" y="4542480"/>
                  <a:ext cx="104040" cy="91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9" name="Rounded Rectangle 32"/>
              <p:cNvGrpSpPr/>
              <p:nvPr/>
            </p:nvGrpSpPr>
            <p:grpSpPr>
              <a:xfrm>
                <a:off x="6053400" y="4523040"/>
                <a:ext cx="146160" cy="956880"/>
                <a:chOff x="6053400" y="4523040"/>
                <a:chExt cx="146160" cy="956880"/>
              </a:xfrm>
            </p:grpSpPr>
            <p:pic>
              <p:nvPicPr>
                <p:cNvPr id="240" name="Rounded Rectangle 3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053400" y="4523040"/>
                  <a:ext cx="146160" cy="956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41" name=""/>
                <p:cNvSpPr/>
                <p:nvPr/>
              </p:nvSpPr>
              <p:spPr>
                <a:xfrm>
                  <a:off x="6073560" y="4542480"/>
                  <a:ext cx="104040" cy="91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42" name="Rectangle 33"/>
              <p:cNvSpPr/>
              <p:nvPr/>
            </p:nvSpPr>
            <p:spPr>
              <a:xfrm>
                <a:off x="4997520" y="4597200"/>
                <a:ext cx="1201320" cy="812520"/>
              </a:xfrm>
              <a:prstGeom prst="rect">
                <a:avLst/>
              </a:prstGeom>
              <a:solidFill>
                <a:srgbClr val="2e95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43" name="Group 35"/>
            <p:cNvGrpSpPr/>
            <p:nvPr/>
          </p:nvGrpSpPr>
          <p:grpSpPr>
            <a:xfrm>
              <a:off x="6667920" y="2146320"/>
              <a:ext cx="1806120" cy="3632040"/>
              <a:chOff x="6667920" y="2146320"/>
              <a:chExt cx="1806120" cy="3632040"/>
            </a:xfrm>
          </p:grpSpPr>
          <p:sp>
            <p:nvSpPr>
              <p:cNvPr id="244" name="Rounded Rectangle 36"/>
              <p:cNvSpPr/>
              <p:nvPr/>
            </p:nvSpPr>
            <p:spPr>
              <a:xfrm>
                <a:off x="6667920" y="2146320"/>
                <a:ext cx="1806120" cy="3632040"/>
              </a:xfrm>
              <a:custGeom>
                <a:avLst/>
                <a:gdLst>
                  <a:gd name="textAreaLeft" fmla="*/ 34920 w 1806120"/>
                  <a:gd name="textAreaRight" fmla="*/ 1771200 w 1806120"/>
                  <a:gd name="textAreaTop" fmla="*/ 34920 h 3632040"/>
                  <a:gd name="textAreaBottom" fmla="*/ 3597120 h 3632040"/>
                </a:gdLst>
                <a:ahLst/>
                <a:rect l="textAreaLeft" t="textAreaTop" r="textAreaRight" b="textAreaBottom"/>
                <a:pathLst>
                  <a:path w="21600" h="43432">
                    <a:moveTo>
                      <a:pt x="1434" y="0"/>
                    </a:moveTo>
                    <a:arcTo wR="1434" hR="1434" stAng="16200000" swAng="-5400000"/>
                    <a:lnTo>
                      <a:pt x="0" y="41998"/>
                    </a:lnTo>
                    <a:arcTo wR="1434" hR="1434" stAng="10800000" swAng="-5400000"/>
                    <a:lnTo>
                      <a:pt x="20166" y="43432"/>
                    </a:lnTo>
                    <a:arcTo wR="1434" hR="1434" stAng="5400000" swAng="-5400000"/>
                    <a:lnTo>
                      <a:pt x="21600" y="1434"/>
                    </a:lnTo>
                    <a:arcTo wR="1434" hR="1434" stAng="0" swAng="-5400000"/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45" name="Rounded Rectangle 38"/>
              <p:cNvGrpSpPr/>
              <p:nvPr/>
            </p:nvGrpSpPr>
            <p:grpSpPr>
              <a:xfrm>
                <a:off x="6967800" y="4523040"/>
                <a:ext cx="146160" cy="956880"/>
                <a:chOff x="6967800" y="4523040"/>
                <a:chExt cx="146160" cy="956880"/>
              </a:xfrm>
            </p:grpSpPr>
            <p:pic>
              <p:nvPicPr>
                <p:cNvPr id="246" name="Rounded Rectangle 38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6967800" y="4523040"/>
                  <a:ext cx="146160" cy="956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47" name=""/>
                <p:cNvSpPr/>
                <p:nvPr/>
              </p:nvSpPr>
              <p:spPr>
                <a:xfrm>
                  <a:off x="6987960" y="4542480"/>
                  <a:ext cx="104040" cy="91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8" name="Rounded Rectangle 44"/>
              <p:cNvGrpSpPr/>
              <p:nvPr/>
            </p:nvGrpSpPr>
            <p:grpSpPr>
              <a:xfrm>
                <a:off x="8022600" y="4523040"/>
                <a:ext cx="146160" cy="956880"/>
                <a:chOff x="8022600" y="4523040"/>
                <a:chExt cx="146160" cy="956880"/>
              </a:xfrm>
            </p:grpSpPr>
            <p:pic>
              <p:nvPicPr>
                <p:cNvPr id="249" name="Rounded Rectangle 4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022600" y="4523040"/>
                  <a:ext cx="146160" cy="956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50" name=""/>
                <p:cNvSpPr/>
                <p:nvPr/>
              </p:nvSpPr>
              <p:spPr>
                <a:xfrm>
                  <a:off x="8042400" y="4542480"/>
                  <a:ext cx="104040" cy="91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1" name="Rectangle 50"/>
              <p:cNvSpPr/>
              <p:nvPr/>
            </p:nvSpPr>
            <p:spPr>
              <a:xfrm>
                <a:off x="6966000" y="4597200"/>
                <a:ext cx="1201320" cy="812520"/>
              </a:xfrm>
              <a:prstGeom prst="rect">
                <a:avLst/>
              </a:prstGeom>
              <a:solidFill>
                <a:srgbClr val="2e95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52" name="TextBox 51"/>
            <p:cNvSpPr/>
            <p:nvPr/>
          </p:nvSpPr>
          <p:spPr>
            <a:xfrm>
              <a:off x="5143320" y="4815720"/>
              <a:ext cx="91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vi-VN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uần 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TextBox 52"/>
            <p:cNvSpPr/>
            <p:nvPr/>
          </p:nvSpPr>
          <p:spPr>
            <a:xfrm>
              <a:off x="7111800" y="4815720"/>
              <a:ext cx="91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vi-VN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uần 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4" name="TextBox 53"/>
          <p:cNvSpPr/>
          <p:nvPr/>
        </p:nvSpPr>
        <p:spPr>
          <a:xfrm>
            <a:off x="783360" y="3128760"/>
            <a:ext cx="16383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171360" indent="-171360">
              <a:buClr>
                <a:srgbClr val="77777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777777"/>
                </a:solidFill>
                <a:latin typeface="Arial"/>
                <a:ea typeface="Arial"/>
              </a:rPr>
              <a:t>Chú thích của bạ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1360" indent="-171360">
              <a:buClr>
                <a:srgbClr val="77777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777777"/>
                </a:solidFill>
                <a:latin typeface="Arial"/>
                <a:ea typeface="Arial"/>
              </a:rPr>
              <a:t>Chú thích của bạ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1360" indent="-171360">
              <a:buClr>
                <a:srgbClr val="77777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777777"/>
                </a:solidFill>
                <a:latin typeface="Arial"/>
                <a:ea typeface="Arial"/>
              </a:rPr>
              <a:t>Chú thích của bạ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1360" indent="-171360">
              <a:buClr>
                <a:srgbClr val="77777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777777"/>
                </a:solidFill>
                <a:latin typeface="Arial"/>
                <a:ea typeface="Arial"/>
              </a:rPr>
              <a:t>Chú thích của bạ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1360" indent="-171360">
              <a:buClr>
                <a:srgbClr val="77777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777777"/>
                </a:solidFill>
                <a:latin typeface="Arial"/>
                <a:ea typeface="Arial"/>
              </a:rPr>
              <a:t>Chú thích của bạ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TextBox 54"/>
          <p:cNvSpPr/>
          <p:nvPr/>
        </p:nvSpPr>
        <p:spPr>
          <a:xfrm>
            <a:off x="814320" y="2405520"/>
            <a:ext cx="154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1600" spc="-1" strike="noStrike">
                <a:solidFill>
                  <a:srgbClr val="2e95c0"/>
                </a:solidFill>
                <a:latin typeface="Arial"/>
                <a:ea typeface="Arial"/>
              </a:rPr>
              <a:t>Ngày ... đến 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TextBox 55"/>
          <p:cNvSpPr/>
          <p:nvPr/>
        </p:nvSpPr>
        <p:spPr>
          <a:xfrm>
            <a:off x="2785320" y="3128760"/>
            <a:ext cx="16383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171360" indent="-171360">
              <a:buClr>
                <a:srgbClr val="77777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777777"/>
                </a:solidFill>
                <a:latin typeface="Arial"/>
                <a:ea typeface="Arial"/>
              </a:rPr>
              <a:t>Chú thích của bạ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1360" indent="-171360">
              <a:buClr>
                <a:srgbClr val="77777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777777"/>
                </a:solidFill>
                <a:latin typeface="Arial"/>
                <a:ea typeface="Arial"/>
              </a:rPr>
              <a:t>Chú thích của bạ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1360" indent="-171360">
              <a:buClr>
                <a:srgbClr val="77777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777777"/>
                </a:solidFill>
                <a:latin typeface="Arial"/>
                <a:ea typeface="Arial"/>
              </a:rPr>
              <a:t>Chú thích của bạ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1360" indent="-171360">
              <a:buClr>
                <a:srgbClr val="77777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777777"/>
                </a:solidFill>
                <a:latin typeface="Arial"/>
                <a:ea typeface="Arial"/>
              </a:rPr>
              <a:t>Chú thích của bạ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1360" indent="-171360">
              <a:buClr>
                <a:srgbClr val="77777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777777"/>
                </a:solidFill>
                <a:latin typeface="Arial"/>
                <a:ea typeface="Arial"/>
              </a:rPr>
              <a:t>Chú thích của bạ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TextBox 56"/>
          <p:cNvSpPr/>
          <p:nvPr/>
        </p:nvSpPr>
        <p:spPr>
          <a:xfrm>
            <a:off x="4784040" y="3128760"/>
            <a:ext cx="16383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171360" indent="-171360">
              <a:buClr>
                <a:srgbClr val="77777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777777"/>
                </a:solidFill>
                <a:latin typeface="Arial"/>
                <a:ea typeface="Arial"/>
              </a:rPr>
              <a:t>Chú thích của bạ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1360" indent="-171360">
              <a:buClr>
                <a:srgbClr val="77777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777777"/>
                </a:solidFill>
                <a:latin typeface="Arial"/>
                <a:ea typeface="Arial"/>
              </a:rPr>
              <a:t>Chú thích của bạ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1360" indent="-171360">
              <a:buClr>
                <a:srgbClr val="77777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777777"/>
                </a:solidFill>
                <a:latin typeface="Arial"/>
                <a:ea typeface="Arial"/>
              </a:rPr>
              <a:t>Chú thích của bạ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1360" indent="-171360">
              <a:buClr>
                <a:srgbClr val="77777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777777"/>
                </a:solidFill>
                <a:latin typeface="Arial"/>
                <a:ea typeface="Arial"/>
              </a:rPr>
              <a:t>Chú thích của bạ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1360" indent="-171360">
              <a:buClr>
                <a:srgbClr val="77777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777777"/>
                </a:solidFill>
                <a:latin typeface="Arial"/>
                <a:ea typeface="Arial"/>
              </a:rPr>
              <a:t>Chú thích của bạ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TextBox 57"/>
          <p:cNvSpPr/>
          <p:nvPr/>
        </p:nvSpPr>
        <p:spPr>
          <a:xfrm>
            <a:off x="6785640" y="3128760"/>
            <a:ext cx="16383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171360" indent="-171360">
              <a:buClr>
                <a:srgbClr val="77777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777777"/>
                </a:solidFill>
                <a:latin typeface="Arial"/>
                <a:ea typeface="Arial"/>
              </a:rPr>
              <a:t>Chú thích của bạ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1360" indent="-171360">
              <a:buClr>
                <a:srgbClr val="77777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777777"/>
                </a:solidFill>
                <a:latin typeface="Arial"/>
                <a:ea typeface="Arial"/>
              </a:rPr>
              <a:t>Chú thích của bạ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1360" indent="-171360">
              <a:buClr>
                <a:srgbClr val="77777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777777"/>
                </a:solidFill>
                <a:latin typeface="Arial"/>
                <a:ea typeface="Arial"/>
              </a:rPr>
              <a:t>Chú thích của bạ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1360" indent="-171360">
              <a:buClr>
                <a:srgbClr val="77777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777777"/>
                </a:solidFill>
                <a:latin typeface="Arial"/>
                <a:ea typeface="Arial"/>
              </a:rPr>
              <a:t>Chú thích của bạ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1360" indent="-171360">
              <a:buClr>
                <a:srgbClr val="77777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777777"/>
                </a:solidFill>
                <a:latin typeface="Arial"/>
                <a:ea typeface="Arial"/>
              </a:rPr>
              <a:t>Chú thích của bạ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TextBox 58"/>
          <p:cNvSpPr/>
          <p:nvPr/>
        </p:nvSpPr>
        <p:spPr>
          <a:xfrm>
            <a:off x="2832480" y="2405520"/>
            <a:ext cx="154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1600" spc="-1" strike="noStrike">
                <a:solidFill>
                  <a:srgbClr val="2e95c0"/>
                </a:solidFill>
                <a:latin typeface="Arial"/>
                <a:ea typeface="Arial"/>
              </a:rPr>
              <a:t>Ngày ... đến 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TextBox 59"/>
          <p:cNvSpPr/>
          <p:nvPr/>
        </p:nvSpPr>
        <p:spPr>
          <a:xfrm>
            <a:off x="4831200" y="2405520"/>
            <a:ext cx="154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1600" spc="-1" strike="noStrike">
                <a:solidFill>
                  <a:srgbClr val="2e95c0"/>
                </a:solidFill>
                <a:latin typeface="Arial"/>
                <a:ea typeface="Arial"/>
              </a:rPr>
              <a:t>Ngày ... đến 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TextBox 60"/>
          <p:cNvSpPr/>
          <p:nvPr/>
        </p:nvSpPr>
        <p:spPr>
          <a:xfrm>
            <a:off x="6798960" y="2405520"/>
            <a:ext cx="154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1600" spc="-1" strike="noStrike">
                <a:solidFill>
                  <a:srgbClr val="2e95c0"/>
                </a:solidFill>
                <a:latin typeface="Arial"/>
                <a:ea typeface="Arial"/>
              </a:rPr>
              <a:t>Ngày ... đến 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2" name="Group 13"/>
          <p:cNvGrpSpPr/>
          <p:nvPr/>
        </p:nvGrpSpPr>
        <p:grpSpPr>
          <a:xfrm>
            <a:off x="2646360" y="1219320"/>
            <a:ext cx="3863880" cy="419040"/>
            <a:chOff x="2646360" y="1219320"/>
            <a:chExt cx="3863880" cy="419040"/>
          </a:xfrm>
        </p:grpSpPr>
        <p:sp>
          <p:nvSpPr>
            <p:cNvPr id="263" name="Rounded Rectangle 11"/>
            <p:cNvSpPr/>
            <p:nvPr/>
          </p:nvSpPr>
          <p:spPr>
            <a:xfrm>
              <a:off x="2646360" y="1219320"/>
              <a:ext cx="3863880" cy="41904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324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TextBox 12"/>
            <p:cNvSpPr/>
            <p:nvPr/>
          </p:nvSpPr>
          <p:spPr>
            <a:xfrm>
              <a:off x="3422520" y="1244160"/>
              <a:ext cx="233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vi-VN" sz="1800" spc="-1" strike="noStrike">
                  <a:solidFill>
                    <a:srgbClr val="2e95c0"/>
                  </a:solidFill>
                  <a:latin typeface="Arial"/>
                  <a:ea typeface="Arial"/>
                </a:rPr>
                <a:t>THÁNG 5 NĂM 2015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5" name="Straight Connector 15"/>
          <p:cNvSpPr/>
          <p:nvPr/>
        </p:nvSpPr>
        <p:spPr>
          <a:xfrm>
            <a:off x="830160" y="2781360"/>
            <a:ext cx="1536840" cy="0"/>
          </a:xfrm>
          <a:prstGeom prst="line">
            <a:avLst/>
          </a:prstGeom>
          <a:ln w="9360">
            <a:solidFill>
              <a:srgbClr val="b2b2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Straight Connector 61"/>
          <p:cNvSpPr/>
          <p:nvPr/>
        </p:nvSpPr>
        <p:spPr>
          <a:xfrm>
            <a:off x="2849400" y="2781360"/>
            <a:ext cx="1536840" cy="0"/>
          </a:xfrm>
          <a:prstGeom prst="line">
            <a:avLst/>
          </a:prstGeom>
          <a:ln w="9360">
            <a:solidFill>
              <a:srgbClr val="b2b2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Straight Connector 62"/>
          <p:cNvSpPr/>
          <p:nvPr/>
        </p:nvSpPr>
        <p:spPr>
          <a:xfrm>
            <a:off x="4830840" y="2781360"/>
            <a:ext cx="1536480" cy="0"/>
          </a:xfrm>
          <a:prstGeom prst="line">
            <a:avLst/>
          </a:prstGeom>
          <a:ln w="9360">
            <a:solidFill>
              <a:srgbClr val="b2b2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Straight Connector 63"/>
          <p:cNvSpPr/>
          <p:nvPr/>
        </p:nvSpPr>
        <p:spPr>
          <a:xfrm>
            <a:off x="6811920" y="2781360"/>
            <a:ext cx="1536840" cy="0"/>
          </a:xfrm>
          <a:prstGeom prst="line">
            <a:avLst/>
          </a:prstGeom>
          <a:ln w="9360">
            <a:solidFill>
              <a:srgbClr val="b2b2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9" name="Group 138"/>
          <p:cNvGrpSpPr/>
          <p:nvPr/>
        </p:nvGrpSpPr>
        <p:grpSpPr>
          <a:xfrm>
            <a:off x="322200" y="972720"/>
            <a:ext cx="8512200" cy="5688000"/>
            <a:chOff x="322200" y="972720"/>
            <a:chExt cx="8512200" cy="5688000"/>
          </a:xfrm>
        </p:grpSpPr>
        <p:sp>
          <p:nvSpPr>
            <p:cNvPr id="270" name="WordArt 15"/>
            <p:cNvSpPr txBox="1"/>
            <p:nvPr/>
          </p:nvSpPr>
          <p:spPr>
            <a:xfrm rot="18363600">
              <a:off x="3544200" y="1199880"/>
              <a:ext cx="1099800" cy="105624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3933131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1" strike="noStrike">
                  <a:ln w="0">
                    <a:noFill/>
                  </a:ln>
                  <a:solidFill>
                    <a:srgbClr val="8c8c8c"/>
                  </a:solidFill>
                  <a:latin typeface="+mn-lt"/>
                </a:rPr>
                <a:t>2014</a:t>
              </a:r>
              <a:endParaRPr b="1" lang="en-US" sz="700" spc="1" strike="noStrike">
                <a:ln w="0">
                  <a:noFill/>
                </a:ln>
                <a:solidFill>
                  <a:srgbClr val="8c8c8c"/>
                </a:solidFill>
                <a:latin typeface="+mn-lt"/>
                <a:ea typeface="+mn-lt"/>
              </a:endParaRPr>
            </a:p>
          </p:txBody>
        </p:sp>
        <p:sp>
          <p:nvSpPr>
            <p:cNvPr id="271" name="WordArt 15"/>
            <p:cNvSpPr txBox="1"/>
            <p:nvPr/>
          </p:nvSpPr>
          <p:spPr>
            <a:xfrm rot="18363600">
              <a:off x="797760" y="1199880"/>
              <a:ext cx="1099800" cy="105624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3933131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1" strike="noStrike">
                  <a:ln w="0">
                    <a:noFill/>
                  </a:ln>
                  <a:solidFill>
                    <a:srgbClr val="8c8c8c"/>
                  </a:solidFill>
                  <a:latin typeface="+mn-lt"/>
                </a:rPr>
                <a:t>2012</a:t>
              </a:r>
              <a:endParaRPr b="1" lang="en-US" sz="700" spc="1" strike="noStrike">
                <a:ln w="0">
                  <a:noFill/>
                </a:ln>
                <a:solidFill>
                  <a:srgbClr val="8c8c8c"/>
                </a:solidFill>
                <a:latin typeface="+mn-lt"/>
                <a:ea typeface="+mn-lt"/>
              </a:endParaRPr>
            </a:p>
          </p:txBody>
        </p:sp>
        <p:grpSp>
          <p:nvGrpSpPr>
            <p:cNvPr id="272" name="Group 40"/>
            <p:cNvGrpSpPr/>
            <p:nvPr/>
          </p:nvGrpSpPr>
          <p:grpSpPr>
            <a:xfrm>
              <a:off x="322200" y="3666600"/>
              <a:ext cx="8512200" cy="508680"/>
              <a:chOff x="322200" y="3666600"/>
              <a:chExt cx="8512200" cy="508680"/>
            </a:xfrm>
          </p:grpSpPr>
          <p:sp>
            <p:nvSpPr>
              <p:cNvPr id="273" name="Rectangle 14"/>
              <p:cNvSpPr/>
              <p:nvPr/>
            </p:nvSpPr>
            <p:spPr>
              <a:xfrm>
                <a:off x="322200" y="3885840"/>
                <a:ext cx="8512200" cy="63360"/>
              </a:xfrm>
              <a:prstGeom prst="rect">
                <a:avLst/>
              </a:prstGeom>
              <a:solidFill>
                <a:srgbClr val="8c8c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Rectangle 6"/>
              <p:cNvSpPr/>
              <p:nvPr/>
            </p:nvSpPr>
            <p:spPr>
              <a:xfrm>
                <a:off x="322200" y="3666600"/>
                <a:ext cx="90360" cy="508680"/>
              </a:xfrm>
              <a:prstGeom prst="rect">
                <a:avLst/>
              </a:prstGeom>
              <a:solidFill>
                <a:srgbClr val="8c8c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Rectangle 36"/>
              <p:cNvSpPr/>
              <p:nvPr/>
            </p:nvSpPr>
            <p:spPr>
              <a:xfrm>
                <a:off x="8744040" y="3666600"/>
                <a:ext cx="90360" cy="508680"/>
              </a:xfrm>
              <a:prstGeom prst="rect">
                <a:avLst/>
              </a:prstGeom>
              <a:solidFill>
                <a:srgbClr val="8c8c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76" name="Group 22"/>
            <p:cNvGrpSpPr/>
            <p:nvPr/>
          </p:nvGrpSpPr>
          <p:grpSpPr>
            <a:xfrm>
              <a:off x="931680" y="1168560"/>
              <a:ext cx="1735200" cy="1735560"/>
              <a:chOff x="931680" y="1168560"/>
              <a:chExt cx="1735200" cy="1735560"/>
            </a:xfrm>
          </p:grpSpPr>
          <p:sp>
            <p:nvSpPr>
              <p:cNvPr id="277" name="Oval 11"/>
              <p:cNvSpPr/>
              <p:nvPr/>
            </p:nvSpPr>
            <p:spPr>
              <a:xfrm>
                <a:off x="931680" y="1168560"/>
                <a:ext cx="1735200" cy="1735560"/>
              </a:xfrm>
              <a:prstGeom prst="ellipse">
                <a:avLst/>
              </a:prstGeom>
              <a:solidFill>
                <a:srgbClr val="2e95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Donut 12"/>
              <p:cNvSpPr/>
              <p:nvPr/>
            </p:nvSpPr>
            <p:spPr>
              <a:xfrm>
                <a:off x="982440" y="1219320"/>
                <a:ext cx="1633680" cy="1634040"/>
              </a:xfrm>
              <a:custGeom>
                <a:avLst/>
                <a:gdLst/>
                <a:ahLst/>
                <a:rect l="l" t="t" r="r" b="b"/>
                <a:pathLst>
                  <a:path w="1508487" h="1508099">
                    <a:moveTo>
                      <a:pt x="0" y="754050"/>
                    </a:moveTo>
                    <a:cubicBezTo>
                      <a:pt x="0" y="337600"/>
                      <a:pt x="337687" y="0"/>
                      <a:pt x="754244" y="0"/>
                    </a:cubicBezTo>
                    <a:cubicBezTo>
                      <a:pt x="1170801" y="0"/>
                      <a:pt x="1508488" y="337600"/>
                      <a:pt x="1508488" y="754050"/>
                    </a:cubicBezTo>
                    <a:cubicBezTo>
                      <a:pt x="1508488" y="1170500"/>
                      <a:pt x="1170801" y="1508100"/>
                      <a:pt x="754244" y="1508100"/>
                    </a:cubicBezTo>
                    <a:cubicBezTo>
                      <a:pt x="337687" y="1508100"/>
                      <a:pt x="0" y="1170500"/>
                      <a:pt x="0" y="754050"/>
                    </a:cubicBezTo>
                    <a:close/>
                    <a:moveTo>
                      <a:pt x="23481" y="754050"/>
                    </a:moveTo>
                    <a:cubicBezTo>
                      <a:pt x="23481" y="1157532"/>
                      <a:pt x="350654" y="1484618"/>
                      <a:pt x="754243" y="1484618"/>
                    </a:cubicBezTo>
                    <a:cubicBezTo>
                      <a:pt x="1157832" y="1484618"/>
                      <a:pt x="1485005" y="1157532"/>
                      <a:pt x="1485005" y="754050"/>
                    </a:cubicBezTo>
                    <a:cubicBezTo>
                      <a:pt x="1485005" y="350568"/>
                      <a:pt x="1157832" y="23482"/>
                      <a:pt x="754243" y="23482"/>
                    </a:cubicBezTo>
                    <a:cubicBezTo>
                      <a:pt x="350654" y="23482"/>
                      <a:pt x="23481" y="350568"/>
                      <a:pt x="23481" y="75405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79" name="Rectangle 46"/>
            <p:cNvSpPr/>
            <p:nvPr/>
          </p:nvSpPr>
          <p:spPr>
            <a:xfrm>
              <a:off x="1739880" y="2894040"/>
              <a:ext cx="126720" cy="896760"/>
            </a:xfrm>
            <a:prstGeom prst="rect">
              <a:avLst/>
            </a:prstGeom>
            <a:solidFill>
              <a:srgbClr val="2e95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80" name="Group 24"/>
            <p:cNvGrpSpPr/>
            <p:nvPr/>
          </p:nvGrpSpPr>
          <p:grpSpPr>
            <a:xfrm>
              <a:off x="3692880" y="1168560"/>
              <a:ext cx="1735200" cy="1735560"/>
              <a:chOff x="3692880" y="1168560"/>
              <a:chExt cx="1735200" cy="1735560"/>
            </a:xfrm>
          </p:grpSpPr>
          <p:sp>
            <p:nvSpPr>
              <p:cNvPr id="281" name="Oval 51"/>
              <p:cNvSpPr/>
              <p:nvPr/>
            </p:nvSpPr>
            <p:spPr>
              <a:xfrm>
                <a:off x="3692880" y="1168560"/>
                <a:ext cx="1735200" cy="1735560"/>
              </a:xfrm>
              <a:prstGeom prst="ellipse">
                <a:avLst/>
              </a:prstGeom>
              <a:solidFill>
                <a:srgbClr val="2e95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Donut 52"/>
              <p:cNvSpPr/>
              <p:nvPr/>
            </p:nvSpPr>
            <p:spPr>
              <a:xfrm>
                <a:off x="3743640" y="1219320"/>
                <a:ext cx="1633680" cy="1634040"/>
              </a:xfrm>
              <a:custGeom>
                <a:avLst/>
                <a:gdLst/>
                <a:ahLst/>
                <a:rect l="l" t="t" r="r" b="b"/>
                <a:pathLst>
                  <a:path w="1508487" h="1508099">
                    <a:moveTo>
                      <a:pt x="0" y="754050"/>
                    </a:moveTo>
                    <a:cubicBezTo>
                      <a:pt x="0" y="337600"/>
                      <a:pt x="337687" y="0"/>
                      <a:pt x="754244" y="0"/>
                    </a:cubicBezTo>
                    <a:cubicBezTo>
                      <a:pt x="1170801" y="0"/>
                      <a:pt x="1508488" y="337600"/>
                      <a:pt x="1508488" y="754050"/>
                    </a:cubicBezTo>
                    <a:cubicBezTo>
                      <a:pt x="1508488" y="1170500"/>
                      <a:pt x="1170801" y="1508100"/>
                      <a:pt x="754244" y="1508100"/>
                    </a:cubicBezTo>
                    <a:cubicBezTo>
                      <a:pt x="337687" y="1508100"/>
                      <a:pt x="0" y="1170500"/>
                      <a:pt x="0" y="754050"/>
                    </a:cubicBezTo>
                    <a:close/>
                    <a:moveTo>
                      <a:pt x="23481" y="754050"/>
                    </a:moveTo>
                    <a:cubicBezTo>
                      <a:pt x="23481" y="1157532"/>
                      <a:pt x="350654" y="1484618"/>
                      <a:pt x="754243" y="1484618"/>
                    </a:cubicBezTo>
                    <a:cubicBezTo>
                      <a:pt x="1157832" y="1484618"/>
                      <a:pt x="1485005" y="1157532"/>
                      <a:pt x="1485005" y="754050"/>
                    </a:cubicBezTo>
                    <a:cubicBezTo>
                      <a:pt x="1485005" y="350568"/>
                      <a:pt x="1157832" y="23482"/>
                      <a:pt x="754243" y="23482"/>
                    </a:cubicBezTo>
                    <a:cubicBezTo>
                      <a:pt x="350654" y="23482"/>
                      <a:pt x="23481" y="350568"/>
                      <a:pt x="23481" y="75405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83" name="Rectangle 53"/>
            <p:cNvSpPr/>
            <p:nvPr/>
          </p:nvSpPr>
          <p:spPr>
            <a:xfrm>
              <a:off x="4500360" y="2894040"/>
              <a:ext cx="126720" cy="896760"/>
            </a:xfrm>
            <a:prstGeom prst="rect">
              <a:avLst/>
            </a:prstGeom>
            <a:solidFill>
              <a:srgbClr val="2e95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84" name="Group 25"/>
            <p:cNvGrpSpPr/>
            <p:nvPr/>
          </p:nvGrpSpPr>
          <p:grpSpPr>
            <a:xfrm>
              <a:off x="6394320" y="1168560"/>
              <a:ext cx="1735200" cy="1735560"/>
              <a:chOff x="6394320" y="1168560"/>
              <a:chExt cx="1735200" cy="1735560"/>
            </a:xfrm>
          </p:grpSpPr>
          <p:sp>
            <p:nvSpPr>
              <p:cNvPr id="285" name="Oval 58"/>
              <p:cNvSpPr/>
              <p:nvPr/>
            </p:nvSpPr>
            <p:spPr>
              <a:xfrm>
                <a:off x="6394320" y="1168560"/>
                <a:ext cx="1735200" cy="1735560"/>
              </a:xfrm>
              <a:prstGeom prst="ellipse">
                <a:avLst/>
              </a:prstGeom>
              <a:solidFill>
                <a:srgbClr val="2e95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Donut 59"/>
              <p:cNvSpPr/>
              <p:nvPr/>
            </p:nvSpPr>
            <p:spPr>
              <a:xfrm>
                <a:off x="6445080" y="1219320"/>
                <a:ext cx="1633680" cy="1634040"/>
              </a:xfrm>
              <a:custGeom>
                <a:avLst/>
                <a:gdLst/>
                <a:ahLst/>
                <a:rect l="l" t="t" r="r" b="b"/>
                <a:pathLst>
                  <a:path w="1508487" h="1508099">
                    <a:moveTo>
                      <a:pt x="0" y="754050"/>
                    </a:moveTo>
                    <a:cubicBezTo>
                      <a:pt x="0" y="337600"/>
                      <a:pt x="337687" y="0"/>
                      <a:pt x="754244" y="0"/>
                    </a:cubicBezTo>
                    <a:cubicBezTo>
                      <a:pt x="1170801" y="0"/>
                      <a:pt x="1508488" y="337600"/>
                      <a:pt x="1508488" y="754050"/>
                    </a:cubicBezTo>
                    <a:cubicBezTo>
                      <a:pt x="1508488" y="1170500"/>
                      <a:pt x="1170801" y="1508100"/>
                      <a:pt x="754244" y="1508100"/>
                    </a:cubicBezTo>
                    <a:cubicBezTo>
                      <a:pt x="337687" y="1508100"/>
                      <a:pt x="0" y="1170500"/>
                      <a:pt x="0" y="754050"/>
                    </a:cubicBezTo>
                    <a:close/>
                    <a:moveTo>
                      <a:pt x="23481" y="754050"/>
                    </a:moveTo>
                    <a:cubicBezTo>
                      <a:pt x="23481" y="1157532"/>
                      <a:pt x="350654" y="1484618"/>
                      <a:pt x="754243" y="1484618"/>
                    </a:cubicBezTo>
                    <a:cubicBezTo>
                      <a:pt x="1157832" y="1484618"/>
                      <a:pt x="1485005" y="1157532"/>
                      <a:pt x="1485005" y="754050"/>
                    </a:cubicBezTo>
                    <a:cubicBezTo>
                      <a:pt x="1485005" y="350568"/>
                      <a:pt x="1157832" y="23482"/>
                      <a:pt x="754243" y="23482"/>
                    </a:cubicBezTo>
                    <a:cubicBezTo>
                      <a:pt x="350654" y="23482"/>
                      <a:pt x="23481" y="350568"/>
                      <a:pt x="23481" y="75405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87" name="Rectangle 60"/>
            <p:cNvSpPr/>
            <p:nvPr/>
          </p:nvSpPr>
          <p:spPr>
            <a:xfrm>
              <a:off x="7202520" y="2894040"/>
              <a:ext cx="126720" cy="896760"/>
            </a:xfrm>
            <a:prstGeom prst="rect">
              <a:avLst/>
            </a:prstGeom>
            <a:solidFill>
              <a:srgbClr val="2e95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88" name="Group 112"/>
            <p:cNvGrpSpPr/>
            <p:nvPr/>
          </p:nvGrpSpPr>
          <p:grpSpPr>
            <a:xfrm>
              <a:off x="2316600" y="4925160"/>
              <a:ext cx="1735200" cy="1735560"/>
              <a:chOff x="2316600" y="4925160"/>
              <a:chExt cx="1735200" cy="1735560"/>
            </a:xfrm>
          </p:grpSpPr>
          <p:sp>
            <p:nvSpPr>
              <p:cNvPr id="289" name="Oval 117"/>
              <p:cNvSpPr/>
              <p:nvPr/>
            </p:nvSpPr>
            <p:spPr>
              <a:xfrm flipV="1">
                <a:off x="2316600" y="4924800"/>
                <a:ext cx="1735200" cy="1735560"/>
              </a:xfrm>
              <a:prstGeom prst="ellipse">
                <a:avLst/>
              </a:prstGeom>
              <a:solidFill>
                <a:srgbClr val="2e95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Donut 118"/>
              <p:cNvSpPr/>
              <p:nvPr/>
            </p:nvSpPr>
            <p:spPr>
              <a:xfrm flipV="1">
                <a:off x="2367360" y="4975560"/>
                <a:ext cx="1633680" cy="1634040"/>
              </a:xfrm>
              <a:custGeom>
                <a:avLst/>
                <a:gdLst/>
                <a:ahLst/>
                <a:rect l="l" t="t" r="r" b="b"/>
                <a:pathLst>
                  <a:path w="1508487" h="1508100">
                    <a:moveTo>
                      <a:pt x="0" y="754050"/>
                    </a:moveTo>
                    <a:cubicBezTo>
                      <a:pt x="0" y="337600"/>
                      <a:pt x="337687" y="0"/>
                      <a:pt x="754244" y="0"/>
                    </a:cubicBezTo>
                    <a:cubicBezTo>
                      <a:pt x="1170801" y="0"/>
                      <a:pt x="1508488" y="337600"/>
                      <a:pt x="1508488" y="754050"/>
                    </a:cubicBezTo>
                    <a:cubicBezTo>
                      <a:pt x="1508488" y="1170500"/>
                      <a:pt x="1170801" y="1508100"/>
                      <a:pt x="754244" y="1508100"/>
                    </a:cubicBezTo>
                    <a:cubicBezTo>
                      <a:pt x="337687" y="1508100"/>
                      <a:pt x="0" y="1170500"/>
                      <a:pt x="0" y="754050"/>
                    </a:cubicBezTo>
                    <a:close/>
                    <a:moveTo>
                      <a:pt x="23481" y="754050"/>
                    </a:moveTo>
                    <a:cubicBezTo>
                      <a:pt x="23481" y="1157532"/>
                      <a:pt x="350654" y="1484619"/>
                      <a:pt x="754243" y="1484619"/>
                    </a:cubicBezTo>
                    <a:cubicBezTo>
                      <a:pt x="1157832" y="1484619"/>
                      <a:pt x="1485005" y="1157532"/>
                      <a:pt x="1485005" y="754050"/>
                    </a:cubicBezTo>
                    <a:cubicBezTo>
                      <a:pt x="1485005" y="350568"/>
                      <a:pt x="1157832" y="23481"/>
                      <a:pt x="754243" y="23481"/>
                    </a:cubicBezTo>
                    <a:cubicBezTo>
                      <a:pt x="350654" y="23481"/>
                      <a:pt x="23481" y="350568"/>
                      <a:pt x="23481" y="75405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91" name="Rectangle 115"/>
            <p:cNvSpPr/>
            <p:nvPr/>
          </p:nvSpPr>
          <p:spPr>
            <a:xfrm flipV="1">
              <a:off x="3125520" y="4041720"/>
              <a:ext cx="125280" cy="893520"/>
            </a:xfrm>
            <a:prstGeom prst="rect">
              <a:avLst/>
            </a:prstGeom>
            <a:solidFill>
              <a:srgbClr val="2e95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2" name="Group 120"/>
            <p:cNvGrpSpPr/>
            <p:nvPr/>
          </p:nvGrpSpPr>
          <p:grpSpPr>
            <a:xfrm>
              <a:off x="5077800" y="4925160"/>
              <a:ext cx="1735200" cy="1735560"/>
              <a:chOff x="5077800" y="4925160"/>
              <a:chExt cx="1735200" cy="1735560"/>
            </a:xfrm>
          </p:grpSpPr>
          <p:sp>
            <p:nvSpPr>
              <p:cNvPr id="293" name="Oval 125"/>
              <p:cNvSpPr/>
              <p:nvPr/>
            </p:nvSpPr>
            <p:spPr>
              <a:xfrm flipV="1">
                <a:off x="5077800" y="4924800"/>
                <a:ext cx="1735200" cy="1735560"/>
              </a:xfrm>
              <a:prstGeom prst="ellipse">
                <a:avLst/>
              </a:prstGeom>
              <a:solidFill>
                <a:srgbClr val="2e95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Donut 126"/>
              <p:cNvSpPr/>
              <p:nvPr/>
            </p:nvSpPr>
            <p:spPr>
              <a:xfrm flipV="1">
                <a:off x="5128560" y="4975560"/>
                <a:ext cx="1633680" cy="1634040"/>
              </a:xfrm>
              <a:custGeom>
                <a:avLst/>
                <a:gdLst/>
                <a:ahLst/>
                <a:rect l="l" t="t" r="r" b="b"/>
                <a:pathLst>
                  <a:path w="1508487" h="1508100">
                    <a:moveTo>
                      <a:pt x="0" y="754050"/>
                    </a:moveTo>
                    <a:cubicBezTo>
                      <a:pt x="0" y="337600"/>
                      <a:pt x="337687" y="0"/>
                      <a:pt x="754244" y="0"/>
                    </a:cubicBezTo>
                    <a:cubicBezTo>
                      <a:pt x="1170801" y="0"/>
                      <a:pt x="1508488" y="337600"/>
                      <a:pt x="1508488" y="754050"/>
                    </a:cubicBezTo>
                    <a:cubicBezTo>
                      <a:pt x="1508488" y="1170500"/>
                      <a:pt x="1170801" y="1508100"/>
                      <a:pt x="754244" y="1508100"/>
                    </a:cubicBezTo>
                    <a:cubicBezTo>
                      <a:pt x="337687" y="1508100"/>
                      <a:pt x="0" y="1170500"/>
                      <a:pt x="0" y="754050"/>
                    </a:cubicBezTo>
                    <a:close/>
                    <a:moveTo>
                      <a:pt x="23481" y="754050"/>
                    </a:moveTo>
                    <a:cubicBezTo>
                      <a:pt x="23481" y="1157532"/>
                      <a:pt x="350654" y="1484619"/>
                      <a:pt x="754243" y="1484619"/>
                    </a:cubicBezTo>
                    <a:cubicBezTo>
                      <a:pt x="1157832" y="1484619"/>
                      <a:pt x="1485005" y="1157532"/>
                      <a:pt x="1485005" y="754050"/>
                    </a:cubicBezTo>
                    <a:cubicBezTo>
                      <a:pt x="1485005" y="350568"/>
                      <a:pt x="1157832" y="23481"/>
                      <a:pt x="754243" y="23481"/>
                    </a:cubicBezTo>
                    <a:cubicBezTo>
                      <a:pt x="350654" y="23481"/>
                      <a:pt x="23481" y="350568"/>
                      <a:pt x="23481" y="75405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95" name="Group 84"/>
            <p:cNvGrpSpPr/>
            <p:nvPr/>
          </p:nvGrpSpPr>
          <p:grpSpPr>
            <a:xfrm>
              <a:off x="1657080" y="3762720"/>
              <a:ext cx="5754240" cy="303480"/>
              <a:chOff x="1657080" y="3762720"/>
              <a:chExt cx="5754240" cy="303480"/>
            </a:xfrm>
          </p:grpSpPr>
          <p:grpSp>
            <p:nvGrpSpPr>
              <p:cNvPr id="296" name="Group 44"/>
              <p:cNvGrpSpPr/>
              <p:nvPr/>
            </p:nvGrpSpPr>
            <p:grpSpPr>
              <a:xfrm>
                <a:off x="1657080" y="3774240"/>
                <a:ext cx="291600" cy="291960"/>
                <a:chOff x="1657080" y="3774240"/>
                <a:chExt cx="291600" cy="291960"/>
              </a:xfrm>
            </p:grpSpPr>
            <p:sp>
              <p:nvSpPr>
                <p:cNvPr id="297" name="Oval 7"/>
                <p:cNvSpPr/>
                <p:nvPr/>
              </p:nvSpPr>
              <p:spPr>
                <a:xfrm>
                  <a:off x="1657080" y="3774240"/>
                  <a:ext cx="291600" cy="291960"/>
                </a:xfrm>
                <a:prstGeom prst="ellipse">
                  <a:avLst/>
                </a:prstGeom>
                <a:solidFill>
                  <a:srgbClr val="2e95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8" name="Oval 38"/>
                <p:cNvSpPr/>
                <p:nvPr/>
              </p:nvSpPr>
              <p:spPr>
                <a:xfrm>
                  <a:off x="1712520" y="3834000"/>
                  <a:ext cx="180720" cy="17208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9" name="Group 47"/>
              <p:cNvGrpSpPr/>
              <p:nvPr/>
            </p:nvGrpSpPr>
            <p:grpSpPr>
              <a:xfrm>
                <a:off x="4418280" y="3774240"/>
                <a:ext cx="291600" cy="291960"/>
                <a:chOff x="4418280" y="3774240"/>
                <a:chExt cx="291600" cy="291960"/>
              </a:xfrm>
            </p:grpSpPr>
            <p:sp>
              <p:nvSpPr>
                <p:cNvPr id="300" name="Oval 49"/>
                <p:cNvSpPr/>
                <p:nvPr/>
              </p:nvSpPr>
              <p:spPr>
                <a:xfrm>
                  <a:off x="4418280" y="3774240"/>
                  <a:ext cx="291600" cy="291960"/>
                </a:xfrm>
                <a:prstGeom prst="ellipse">
                  <a:avLst/>
                </a:prstGeom>
                <a:solidFill>
                  <a:srgbClr val="2e95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1" name="Oval 50"/>
                <p:cNvSpPr/>
                <p:nvPr/>
              </p:nvSpPr>
              <p:spPr>
                <a:xfrm>
                  <a:off x="4473720" y="3834000"/>
                  <a:ext cx="180720" cy="17208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2" name="Group 83"/>
              <p:cNvGrpSpPr/>
              <p:nvPr/>
            </p:nvGrpSpPr>
            <p:grpSpPr>
              <a:xfrm>
                <a:off x="7119720" y="3774240"/>
                <a:ext cx="291600" cy="291960"/>
                <a:chOff x="7119720" y="3774240"/>
                <a:chExt cx="291600" cy="291960"/>
              </a:xfrm>
            </p:grpSpPr>
            <p:sp>
              <p:nvSpPr>
                <p:cNvPr id="303" name="Oval 56"/>
                <p:cNvSpPr/>
                <p:nvPr/>
              </p:nvSpPr>
              <p:spPr>
                <a:xfrm>
                  <a:off x="7119720" y="3774240"/>
                  <a:ext cx="291600" cy="291960"/>
                </a:xfrm>
                <a:prstGeom prst="ellipse">
                  <a:avLst/>
                </a:prstGeom>
                <a:solidFill>
                  <a:srgbClr val="2e95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4" name="Oval 57"/>
                <p:cNvSpPr/>
                <p:nvPr/>
              </p:nvSpPr>
              <p:spPr>
                <a:xfrm>
                  <a:off x="7175160" y="3834000"/>
                  <a:ext cx="180720" cy="17208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5" name="Group 45"/>
              <p:cNvGrpSpPr/>
              <p:nvPr/>
            </p:nvGrpSpPr>
            <p:grpSpPr>
              <a:xfrm>
                <a:off x="3042000" y="3762720"/>
                <a:ext cx="291600" cy="291960"/>
                <a:chOff x="3042000" y="3762720"/>
                <a:chExt cx="291600" cy="291960"/>
              </a:xfrm>
            </p:grpSpPr>
            <p:sp>
              <p:nvSpPr>
                <p:cNvPr id="306" name="Oval 113"/>
                <p:cNvSpPr/>
                <p:nvPr/>
              </p:nvSpPr>
              <p:spPr>
                <a:xfrm flipV="1">
                  <a:off x="3042000" y="3762360"/>
                  <a:ext cx="291600" cy="291960"/>
                </a:xfrm>
                <a:prstGeom prst="ellipse">
                  <a:avLst/>
                </a:prstGeom>
                <a:solidFill>
                  <a:srgbClr val="2e95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7" name="Oval 114"/>
                <p:cNvSpPr/>
                <p:nvPr/>
              </p:nvSpPr>
              <p:spPr>
                <a:xfrm flipV="1">
                  <a:off x="3096000" y="3822840"/>
                  <a:ext cx="183240" cy="17208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8" name="Group 81"/>
              <p:cNvGrpSpPr/>
              <p:nvPr/>
            </p:nvGrpSpPr>
            <p:grpSpPr>
              <a:xfrm>
                <a:off x="5803200" y="3762720"/>
                <a:ext cx="291600" cy="291960"/>
                <a:chOff x="5803200" y="3762720"/>
                <a:chExt cx="291600" cy="291960"/>
              </a:xfrm>
            </p:grpSpPr>
            <p:sp>
              <p:nvSpPr>
                <p:cNvPr id="309" name="Oval 121"/>
                <p:cNvSpPr/>
                <p:nvPr/>
              </p:nvSpPr>
              <p:spPr>
                <a:xfrm flipV="1">
                  <a:off x="5803200" y="3762360"/>
                  <a:ext cx="291600" cy="291960"/>
                </a:xfrm>
                <a:prstGeom prst="ellipse">
                  <a:avLst/>
                </a:prstGeom>
                <a:solidFill>
                  <a:srgbClr val="2e95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0" name="Oval 122"/>
                <p:cNvSpPr/>
                <p:nvPr/>
              </p:nvSpPr>
              <p:spPr>
                <a:xfrm flipV="1">
                  <a:off x="5858640" y="3822840"/>
                  <a:ext cx="180720" cy="17208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11" name="Rectangle 123"/>
            <p:cNvSpPr/>
            <p:nvPr/>
          </p:nvSpPr>
          <p:spPr>
            <a:xfrm flipV="1">
              <a:off x="5886360" y="4041720"/>
              <a:ext cx="126720" cy="893520"/>
            </a:xfrm>
            <a:prstGeom prst="rect">
              <a:avLst/>
            </a:prstGeom>
            <a:solidFill>
              <a:srgbClr val="2e95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WordArt 15"/>
            <p:cNvSpPr txBox="1"/>
            <p:nvPr/>
          </p:nvSpPr>
          <p:spPr>
            <a:xfrm rot="18363600">
              <a:off x="6269400" y="1199880"/>
              <a:ext cx="1099800" cy="105624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3933131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1" strike="noStrike">
                  <a:ln w="0">
                    <a:noFill/>
                  </a:ln>
                  <a:solidFill>
                    <a:srgbClr val="8c8c8c"/>
                  </a:solidFill>
                  <a:latin typeface="+mn-lt"/>
                </a:rPr>
                <a:t>2016</a:t>
              </a:r>
              <a:endParaRPr b="1" lang="en-US" sz="700" spc="1" strike="noStrike">
                <a:ln w="0">
                  <a:noFill/>
                </a:ln>
                <a:solidFill>
                  <a:srgbClr val="8c8c8c"/>
                </a:solidFill>
                <a:latin typeface="+mn-lt"/>
                <a:ea typeface="+mn-lt"/>
              </a:endParaRPr>
            </a:p>
          </p:txBody>
        </p:sp>
        <p:sp>
          <p:nvSpPr>
            <p:cNvPr id="313" name="WordArt 15"/>
            <p:cNvSpPr txBox="1"/>
            <p:nvPr/>
          </p:nvSpPr>
          <p:spPr>
            <a:xfrm rot="18363600">
              <a:off x="2150640" y="4928040"/>
              <a:ext cx="1099800" cy="105624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3933131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1" strike="noStrike">
                  <a:ln w="0">
                    <a:noFill/>
                  </a:ln>
                  <a:solidFill>
                    <a:srgbClr val="8c8c8c"/>
                  </a:solidFill>
                  <a:latin typeface="+mn-lt"/>
                </a:rPr>
                <a:t>2013</a:t>
              </a:r>
              <a:endParaRPr b="1" lang="en-US" sz="700" spc="1" strike="noStrike">
                <a:ln w="0">
                  <a:noFill/>
                </a:ln>
                <a:solidFill>
                  <a:srgbClr val="8c8c8c"/>
                </a:solidFill>
                <a:latin typeface="+mn-lt"/>
                <a:ea typeface="+mn-lt"/>
              </a:endParaRPr>
            </a:p>
          </p:txBody>
        </p:sp>
        <p:sp>
          <p:nvSpPr>
            <p:cNvPr id="314" name="WordArt 15"/>
            <p:cNvSpPr txBox="1"/>
            <p:nvPr/>
          </p:nvSpPr>
          <p:spPr>
            <a:xfrm rot="18363600">
              <a:off x="4971600" y="4928040"/>
              <a:ext cx="1099800" cy="105624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3933131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1" strike="noStrike">
                  <a:ln w="0">
                    <a:noFill/>
                  </a:ln>
                  <a:solidFill>
                    <a:srgbClr val="8c8c8c"/>
                  </a:solidFill>
                  <a:latin typeface="+mn-lt"/>
                </a:rPr>
                <a:t>2015</a:t>
              </a:r>
              <a:endParaRPr b="1" lang="en-US" sz="700" spc="1" strike="noStrike">
                <a:ln w="0">
                  <a:noFill/>
                </a:ln>
                <a:solidFill>
                  <a:srgbClr val="8c8c8c"/>
                </a:solidFill>
                <a:latin typeface="+mn-lt"/>
                <a:ea typeface="+mn-lt"/>
              </a:endParaRPr>
            </a:p>
          </p:txBody>
        </p:sp>
        <p:sp>
          <p:nvSpPr>
            <p:cNvPr id="315" name="Straight Connector 9"/>
            <p:cNvSpPr/>
            <p:nvPr/>
          </p:nvSpPr>
          <p:spPr>
            <a:xfrm>
              <a:off x="1798560" y="2852640"/>
              <a:ext cx="4680" cy="9763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Straight Connector 54"/>
            <p:cNvSpPr/>
            <p:nvPr/>
          </p:nvSpPr>
          <p:spPr>
            <a:xfrm>
              <a:off x="4560840" y="2852640"/>
              <a:ext cx="2880" cy="9763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Straight Connector 62"/>
            <p:cNvSpPr/>
            <p:nvPr/>
          </p:nvSpPr>
          <p:spPr>
            <a:xfrm>
              <a:off x="7261200" y="2852640"/>
              <a:ext cx="4680" cy="9763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Straight Connector 116"/>
            <p:cNvSpPr/>
            <p:nvPr/>
          </p:nvSpPr>
          <p:spPr>
            <a:xfrm flipV="1">
              <a:off x="3184560" y="4000680"/>
              <a:ext cx="2880" cy="9763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Straight Connector 124"/>
            <p:cNvSpPr/>
            <p:nvPr/>
          </p:nvSpPr>
          <p:spPr>
            <a:xfrm flipV="1">
              <a:off x="5945040" y="4000680"/>
              <a:ext cx="4680" cy="9763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TextBox 140"/>
            <p:cNvSpPr/>
            <p:nvPr/>
          </p:nvSpPr>
          <p:spPr>
            <a:xfrm>
              <a:off x="1233000" y="1456560"/>
              <a:ext cx="11322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Thay thế văn bản này bằng văn bản của bạn.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TextBox 141"/>
            <p:cNvSpPr/>
            <p:nvPr/>
          </p:nvSpPr>
          <p:spPr>
            <a:xfrm>
              <a:off x="4012200" y="1456560"/>
              <a:ext cx="11322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Thay thế văn bản này bằng văn bản của bạn.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TextBox 142"/>
            <p:cNvSpPr/>
            <p:nvPr/>
          </p:nvSpPr>
          <p:spPr>
            <a:xfrm>
              <a:off x="6699600" y="1456560"/>
              <a:ext cx="11322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Thay thế văn bản này bằng văn bản của bạn.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TextBox 143"/>
            <p:cNvSpPr/>
            <p:nvPr/>
          </p:nvSpPr>
          <p:spPr>
            <a:xfrm>
              <a:off x="5383440" y="5213520"/>
              <a:ext cx="11322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Thay thế văn bản này bằng văn bản của bạn.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TextBox 144"/>
            <p:cNvSpPr/>
            <p:nvPr/>
          </p:nvSpPr>
          <p:spPr>
            <a:xfrm>
              <a:off x="2621880" y="5213520"/>
              <a:ext cx="11322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Thay thế văn bản này bằng văn bản của bạn.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5" name="TextBox 146"/>
          <p:cNvSpPr/>
          <p:nvPr/>
        </p:nvSpPr>
        <p:spPr>
          <a:xfrm>
            <a:off x="3149640" y="230040"/>
            <a:ext cx="280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800" spc="-1" strike="noStrike">
                <a:solidFill>
                  <a:srgbClr val="6b7073"/>
                </a:solidFill>
                <a:latin typeface="Arial"/>
                <a:ea typeface="Arial"/>
              </a:rPr>
              <a:t>TIÊU ĐỀ CHÍN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23T04:25:09Z</dcterms:created>
  <dc:creator>PowerPoint Đẹp</dc:creator>
  <dc:description/>
  <dc:language>en-US</dc:language>
  <cp:lastModifiedBy>PowerPoint Đẹp</cp:lastModifiedBy>
  <dcterms:modified xsi:type="dcterms:W3CDTF">2015-05-23T04:31:15Z</dcterms:modified>
  <cp:revision>2</cp:revision>
  <dc:subject/>
  <dc:title>PowerPoint Presentation</dc:title>
</cp:coreProperties>
</file>