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CDD-8DCF-4DC3-BDD5-617B4360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431-D905-40CB-8582-B0445CFD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30C-F36A-45EA-ABCA-6B4C3D63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B1B-F020-4E99-BC14-5DDCF75B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4049-9EAD-40ED-A1A1-EA098EAD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B734-37FF-447A-B841-21BB4ACF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D83A-611E-4377-AFA4-22CAF7E4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F821-B7C4-412B-B1C9-6E4D5A2E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4AA3-9949-47D1-A910-BC9C06CA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EBE3-5C45-4AF5-AA65-6681F106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F84B-6566-44F1-95E5-4B870448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0CF-14B4-4ECA-A433-21044EB4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3CD8-2980-45E4-852B-3EA1F55F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A984-417D-40EB-AF08-262422B9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BC55-1140-4B33-B7C2-1D2CEC81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0616-026D-4A28-B9D4-CC12E965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4F40-3556-4A73-815B-61D6A936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DB8E-1497-494B-826C-E26F956A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0D67-A980-4B46-8831-D98833AC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1790-EC78-4B1A-ABFF-4A372496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9259-6699-4C56-B6CF-6D69995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88C7-FD53-43A1-890C-B05460B1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43FC-1DF3-469B-B90F-1A15F32E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6252-0C5C-4E29-BF6A-4E93096E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EBF8-B929-437A-AFDD-BE7EB283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9E1C4-0C55-4755-B54A-F593F9A8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1153-A3D8-4095-A78A-3085BC28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E3BA-A631-4E5B-BF90-97800D63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CDEC-23FD-44D9-B8B6-D3B8D314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6207-177F-48F7-AE79-CBD8D309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355-C48B-4A58-90AF-C1B85C05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8C2-D35E-4CAA-AD53-8E2538B4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4C0-96FE-4B94-9A8D-BDF4C258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65F-CA42-4D08-9FE3-4D186B54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677-B57F-41D7-8A18-573D694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D0D-6F09-4635-BABD-E5606334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AAD-DDA2-4608-A12E-FC6F34F24D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DF80-4E43-42CB-9B9F-FF3370B21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E28C-8D83-4C4B-AF17-ADEED3B2896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6205-1FCE-4AFE-B270-9EF44AA931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390-2B18-4D5E-A17D-38AE470391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F9D9-BF64-4246-BB1D-A9ED024B8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1407600" y="816840"/>
            <a:ext cx="6223680" cy="5739480"/>
            <a:chOff x="1407600" y="816840"/>
            <a:chExt cx="6223680" cy="5739480"/>
          </a:xfrm>
        </p:grpSpPr>
        <p:grpSp>
          <p:nvGrpSpPr>
            <p:cNvPr id="126" name="Group 10"/>
            <p:cNvGrpSpPr/>
            <p:nvPr/>
          </p:nvGrpSpPr>
          <p:grpSpPr>
            <a:xfrm>
              <a:off x="1407600" y="816840"/>
              <a:ext cx="6223680" cy="2121840"/>
              <a:chOff x="1407600" y="816840"/>
              <a:chExt cx="6223680" cy="2121840"/>
            </a:xfrm>
          </p:grpSpPr>
          <p:grpSp>
            <p:nvGrpSpPr>
              <p:cNvPr id="127" name="Group 7"/>
              <p:cNvGrpSpPr/>
              <p:nvPr/>
            </p:nvGrpSpPr>
            <p:grpSpPr>
              <a:xfrm>
                <a:off x="1407600" y="1364400"/>
                <a:ext cx="6223680" cy="1574280"/>
                <a:chOff x="1407600" y="1364400"/>
                <a:chExt cx="6223680" cy="1574280"/>
              </a:xfrm>
            </p:grpSpPr>
            <p:pic>
              <p:nvPicPr>
                <p:cNvPr id="128" name="Picture 345" descr="shadow_1_m"/>
                <p:cNvPicPr/>
                <p:nvPr/>
              </p:nvPicPr>
              <p:blipFill>
                <a:blip r:embed="rId1"/>
                <a:srcRect l="0" t="1518" r="0" b="0"/>
                <a:stretch/>
              </p:blipFill>
              <p:spPr>
                <a:xfrm>
                  <a:off x="1407600" y="257904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8"/>
                <p:cNvSpPr/>
                <p:nvPr/>
              </p:nvSpPr>
              <p:spPr>
                <a:xfrm>
                  <a:off x="1963080" y="1364400"/>
                  <a:ext cx="5346000" cy="1439280"/>
                </a:xfrm>
                <a:prstGeom prst="rect">
                  <a:avLst/>
                </a:prstGeom>
                <a:solidFill>
                  <a:srgbClr val="e66c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1"/>
                <p:cNvSpPr/>
                <p:nvPr/>
              </p:nvSpPr>
              <p:spPr>
                <a:xfrm>
                  <a:off x="2085840" y="148716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1420560" y="816840"/>
                <a:ext cx="2106360" cy="1894680"/>
                <a:chOff x="1420560" y="816840"/>
                <a:chExt cx="2106360" cy="1894680"/>
              </a:xfrm>
            </p:grpSpPr>
            <p:sp>
              <p:nvSpPr>
                <p:cNvPr id="132" name="Right Triangle 5"/>
                <p:cNvSpPr/>
                <p:nvPr/>
              </p:nvSpPr>
              <p:spPr>
                <a:xfrm flipH="1">
                  <a:off x="1765440" y="253764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ight Triangle 41"/>
                <p:cNvSpPr/>
                <p:nvPr/>
              </p:nvSpPr>
              <p:spPr>
                <a:xfrm flipH="1">
                  <a:off x="3304800" y="11905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rapezoid 2"/>
                <p:cNvSpPr/>
                <p:nvPr/>
              </p:nvSpPr>
              <p:spPr>
                <a:xfrm rot="19191000">
                  <a:off x="1320840" y="149688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" name="Group 46"/>
            <p:cNvGrpSpPr/>
            <p:nvPr/>
          </p:nvGrpSpPr>
          <p:grpSpPr>
            <a:xfrm>
              <a:off x="1407600" y="2630520"/>
              <a:ext cx="6223680" cy="2121840"/>
              <a:chOff x="1407600" y="2630520"/>
              <a:chExt cx="6223680" cy="2121840"/>
            </a:xfrm>
          </p:grpSpPr>
          <p:grpSp>
            <p:nvGrpSpPr>
              <p:cNvPr id="136" name="Group 49"/>
              <p:cNvGrpSpPr/>
              <p:nvPr/>
            </p:nvGrpSpPr>
            <p:grpSpPr>
              <a:xfrm>
                <a:off x="1407600" y="3178080"/>
                <a:ext cx="6223680" cy="1574280"/>
                <a:chOff x="1407600" y="3178080"/>
                <a:chExt cx="6223680" cy="1574280"/>
              </a:xfrm>
            </p:grpSpPr>
            <p:pic>
              <p:nvPicPr>
                <p:cNvPr id="137" name="Picture 345" descr="shadow_1_m"/>
                <p:cNvPicPr/>
                <p:nvPr/>
              </p:nvPicPr>
              <p:blipFill>
                <a:blip r:embed="rId2"/>
                <a:srcRect l="0" t="1518" r="0" b="0"/>
                <a:stretch/>
              </p:blipFill>
              <p:spPr>
                <a:xfrm>
                  <a:off x="1407600" y="439272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Rectangle 61"/>
                <p:cNvSpPr/>
                <p:nvPr/>
              </p:nvSpPr>
              <p:spPr>
                <a:xfrm>
                  <a:off x="1963080" y="3178080"/>
                  <a:ext cx="5346000" cy="1439280"/>
                </a:xfrm>
                <a:prstGeom prst="rect">
                  <a:avLst/>
                </a:pr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Rectangle 62"/>
                <p:cNvSpPr/>
                <p:nvPr/>
              </p:nvSpPr>
              <p:spPr>
                <a:xfrm>
                  <a:off x="2085840" y="330084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50"/>
              <p:cNvGrpSpPr/>
              <p:nvPr/>
            </p:nvGrpSpPr>
            <p:grpSpPr>
              <a:xfrm>
                <a:off x="1420560" y="2630520"/>
                <a:ext cx="2106360" cy="1894680"/>
                <a:chOff x="1420560" y="2630520"/>
                <a:chExt cx="2106360" cy="1894680"/>
              </a:xfrm>
            </p:grpSpPr>
            <p:sp>
              <p:nvSpPr>
                <p:cNvPr id="141" name="Right Triangle 51"/>
                <p:cNvSpPr/>
                <p:nvPr/>
              </p:nvSpPr>
              <p:spPr>
                <a:xfrm flipH="1">
                  <a:off x="1765440" y="43513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ight Triangle 52"/>
                <p:cNvSpPr/>
                <p:nvPr/>
              </p:nvSpPr>
              <p:spPr>
                <a:xfrm flipH="1">
                  <a:off x="3304800" y="300420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rapezoid 2"/>
                <p:cNvSpPr/>
                <p:nvPr/>
              </p:nvSpPr>
              <p:spPr>
                <a:xfrm rot="19191000">
                  <a:off x="1320840" y="331056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63"/>
            <p:cNvGrpSpPr/>
            <p:nvPr/>
          </p:nvGrpSpPr>
          <p:grpSpPr>
            <a:xfrm>
              <a:off x="1407600" y="4434480"/>
              <a:ext cx="6223680" cy="2121840"/>
              <a:chOff x="1407600" y="4434480"/>
              <a:chExt cx="6223680" cy="2121840"/>
            </a:xfrm>
          </p:grpSpPr>
          <p:grpSp>
            <p:nvGrpSpPr>
              <p:cNvPr id="145" name="Group 67"/>
              <p:cNvGrpSpPr/>
              <p:nvPr/>
            </p:nvGrpSpPr>
            <p:grpSpPr>
              <a:xfrm>
                <a:off x="1407600" y="4982040"/>
                <a:ext cx="6223680" cy="1574280"/>
                <a:chOff x="1407600" y="4982040"/>
                <a:chExt cx="6223680" cy="1574280"/>
              </a:xfrm>
            </p:grpSpPr>
            <p:pic>
              <p:nvPicPr>
                <p:cNvPr id="146" name="Picture 345" descr="shadow_1_m"/>
                <p:cNvPicPr/>
                <p:nvPr/>
              </p:nvPicPr>
              <p:blipFill>
                <a:blip r:embed="rId3"/>
                <a:srcRect l="0" t="1518" r="0" b="0"/>
                <a:stretch/>
              </p:blipFill>
              <p:spPr>
                <a:xfrm>
                  <a:off x="1407600" y="619668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Rectangle 85"/>
                <p:cNvSpPr/>
                <p:nvPr/>
              </p:nvSpPr>
              <p:spPr>
                <a:xfrm>
                  <a:off x="1963080" y="4982040"/>
                  <a:ext cx="5346000" cy="1439280"/>
                </a:xfrm>
                <a:prstGeom prst="rect">
                  <a:avLst/>
                </a:prstGeom>
                <a:solidFill>
                  <a:srgbClr val="5a6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86"/>
                <p:cNvSpPr/>
                <p:nvPr/>
              </p:nvSpPr>
              <p:spPr>
                <a:xfrm>
                  <a:off x="2085840" y="510480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" name="Group 68"/>
              <p:cNvGrpSpPr/>
              <p:nvPr/>
            </p:nvGrpSpPr>
            <p:grpSpPr>
              <a:xfrm>
                <a:off x="1420560" y="4434480"/>
                <a:ext cx="2106360" cy="1894680"/>
                <a:chOff x="1420560" y="4434480"/>
                <a:chExt cx="2106360" cy="1894680"/>
              </a:xfrm>
            </p:grpSpPr>
            <p:sp>
              <p:nvSpPr>
                <p:cNvPr id="150" name="Right Triangle 73"/>
                <p:cNvSpPr/>
                <p:nvPr/>
              </p:nvSpPr>
              <p:spPr>
                <a:xfrm flipH="1">
                  <a:off x="1765440" y="615528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ight Triangle 78"/>
                <p:cNvSpPr/>
                <p:nvPr/>
              </p:nvSpPr>
              <p:spPr>
                <a:xfrm flipH="1">
                  <a:off x="3304800" y="480816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rapezoid 2"/>
                <p:cNvSpPr/>
                <p:nvPr/>
              </p:nvSpPr>
              <p:spPr>
                <a:xfrm rot="19191000">
                  <a:off x="1320840" y="511452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5-Point Star 87"/>
          <p:cNvSpPr/>
          <p:nvPr/>
        </p:nvSpPr>
        <p:spPr>
          <a:xfrm>
            <a:off x="624528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88" descr=""/>
          <p:cNvPicPr/>
          <p:nvPr/>
        </p:nvPicPr>
        <p:blipFill>
          <a:blip r:embed="rId4"/>
          <a:stretch/>
        </p:blipFill>
        <p:spPr>
          <a:xfrm>
            <a:off x="6257880" y="5486400"/>
            <a:ext cx="617760" cy="453960"/>
          </a:xfrm>
          <a:prstGeom prst="rect">
            <a:avLst/>
          </a:prstGeom>
          <a:ln w="0">
            <a:noFill/>
          </a:ln>
        </p:spPr>
      </p:pic>
      <p:pic>
        <p:nvPicPr>
          <p:cNvPr id="155" name="Group 91" descr=""/>
          <p:cNvPicPr/>
          <p:nvPr/>
        </p:nvPicPr>
        <p:blipFill>
          <a:blip r:embed="rId5"/>
          <a:stretch/>
        </p:blipFill>
        <p:spPr>
          <a:xfrm>
            <a:off x="6095880" y="1582560"/>
            <a:ext cx="8398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0"/>
          <p:cNvSpPr/>
          <p:nvPr/>
        </p:nvSpPr>
        <p:spPr>
          <a:xfrm>
            <a:off x="2851200" y="180972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1"/>
          <p:cNvSpPr/>
          <p:nvPr/>
        </p:nvSpPr>
        <p:spPr>
          <a:xfrm>
            <a:off x="2851200" y="360360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2"/>
          <p:cNvSpPr/>
          <p:nvPr/>
        </p:nvSpPr>
        <p:spPr>
          <a:xfrm>
            <a:off x="2851200" y="5435640"/>
            <a:ext cx="320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3"/>
          <p:cNvSpPr/>
          <p:nvPr/>
        </p:nvSpPr>
        <p:spPr>
          <a:xfrm rot="19125600">
            <a:off x="159084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4"/>
          <p:cNvSpPr/>
          <p:nvPr/>
        </p:nvSpPr>
        <p:spPr>
          <a:xfrm rot="19125600">
            <a:off x="159048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5"/>
          <p:cNvSpPr/>
          <p:nvPr/>
        </p:nvSpPr>
        <p:spPr>
          <a:xfrm rot="19125600">
            <a:off x="1590840" y="5186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3"/>
          <p:cNvGrpSpPr/>
          <p:nvPr/>
        </p:nvGrpSpPr>
        <p:grpSpPr>
          <a:xfrm>
            <a:off x="1322280" y="1295280"/>
            <a:ext cx="2822760" cy="1498680"/>
            <a:chOff x="1322280" y="1295280"/>
            <a:chExt cx="2822760" cy="1498680"/>
          </a:xfrm>
        </p:grpSpPr>
        <p:sp>
          <p:nvSpPr>
            <p:cNvPr id="163" name="Rectangle 3"/>
            <p:cNvSpPr/>
            <p:nvPr/>
          </p:nvSpPr>
          <p:spPr>
            <a:xfrm>
              <a:off x="132228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322280" y="1295280"/>
              <a:ext cx="2822760" cy="380880"/>
            </a:xfrm>
            <a:prstGeom prst="rect">
              <a:avLst/>
            </a:prstGeom>
            <a:solidFill>
              <a:srgbClr val="e66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12"/>
            <p:cNvSpPr/>
            <p:nvPr/>
          </p:nvSpPr>
          <p:spPr>
            <a:xfrm>
              <a:off x="132228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4892760" y="1295280"/>
            <a:ext cx="2833560" cy="1498680"/>
            <a:chOff x="4892760" y="1295280"/>
            <a:chExt cx="2833560" cy="1498680"/>
          </a:xfrm>
        </p:grpSpPr>
        <p:sp>
          <p:nvSpPr>
            <p:cNvPr id="167" name="Rectangle 33"/>
            <p:cNvSpPr/>
            <p:nvPr/>
          </p:nvSpPr>
          <p:spPr>
            <a:xfrm>
              <a:off x="490356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4903560" y="1295280"/>
              <a:ext cx="2822760" cy="3808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76"/>
            <p:cNvSpPr/>
            <p:nvPr/>
          </p:nvSpPr>
          <p:spPr>
            <a:xfrm>
              <a:off x="489276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322280" y="3124080"/>
            <a:ext cx="2822760" cy="1498680"/>
            <a:chOff x="1322280" y="3124080"/>
            <a:chExt cx="2822760" cy="1498680"/>
          </a:xfrm>
        </p:grpSpPr>
        <p:sp>
          <p:nvSpPr>
            <p:cNvPr id="171" name="Rectangle 35"/>
            <p:cNvSpPr/>
            <p:nvPr/>
          </p:nvSpPr>
          <p:spPr>
            <a:xfrm>
              <a:off x="132228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1322280" y="3124080"/>
              <a:ext cx="2822760" cy="380880"/>
            </a:xfrm>
            <a:prstGeom prst="rect">
              <a:avLst/>
            </a:prstGeom>
            <a:solidFill>
              <a:srgbClr val="5a6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77"/>
            <p:cNvSpPr/>
            <p:nvPr/>
          </p:nvSpPr>
          <p:spPr>
            <a:xfrm>
              <a:off x="1322280" y="3568680"/>
              <a:ext cx="2822760" cy="0"/>
            </a:xfrm>
            <a:prstGeom prst="line">
              <a:avLst/>
            </a:prstGeom>
            <a:ln w="12600">
              <a:solidFill>
                <a:srgbClr val="5a637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892760" y="3124080"/>
            <a:ext cx="2833560" cy="1498680"/>
            <a:chOff x="4892760" y="3124080"/>
            <a:chExt cx="2833560" cy="1498680"/>
          </a:xfrm>
        </p:grpSpPr>
        <p:sp>
          <p:nvSpPr>
            <p:cNvPr id="175" name="Rectangle 37"/>
            <p:cNvSpPr/>
            <p:nvPr/>
          </p:nvSpPr>
          <p:spPr>
            <a:xfrm>
              <a:off x="490356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4903560" y="3124080"/>
              <a:ext cx="2822760" cy="380880"/>
            </a:xfrm>
            <a:prstGeom prst="rect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79"/>
            <p:cNvSpPr/>
            <p:nvPr/>
          </p:nvSpPr>
          <p:spPr>
            <a:xfrm>
              <a:off x="4892760" y="3568680"/>
              <a:ext cx="2822760" cy="0"/>
            </a:xfrm>
            <a:prstGeom prst="line">
              <a:avLst/>
            </a:prstGeom>
            <a:ln w="12600">
              <a:solidFill>
                <a:srgbClr val="60b5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1322280" y="4924440"/>
            <a:ext cx="2822760" cy="1498680"/>
            <a:chOff x="1322280" y="4924440"/>
            <a:chExt cx="2822760" cy="1498680"/>
          </a:xfrm>
        </p:grpSpPr>
        <p:sp>
          <p:nvSpPr>
            <p:cNvPr id="179" name="Rectangle 40"/>
            <p:cNvSpPr/>
            <p:nvPr/>
          </p:nvSpPr>
          <p:spPr>
            <a:xfrm>
              <a:off x="132228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1322280" y="4924440"/>
              <a:ext cx="2822760" cy="380880"/>
            </a:xfrm>
            <a:prstGeom prst="rect">
              <a:avLst/>
            </a:prstGeom>
            <a:solidFill>
              <a:srgbClr val="6bb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1322280" y="5385240"/>
              <a:ext cx="2822760" cy="0"/>
            </a:xfrm>
            <a:prstGeom prst="line">
              <a:avLst/>
            </a:prstGeom>
            <a:ln w="12600">
              <a:solidFill>
                <a:srgbClr val="6bb76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4892760" y="4924440"/>
            <a:ext cx="2833560" cy="1498680"/>
            <a:chOff x="4892760" y="4924440"/>
            <a:chExt cx="2833560" cy="1498680"/>
          </a:xfrm>
        </p:grpSpPr>
        <p:sp>
          <p:nvSpPr>
            <p:cNvPr id="183" name="Rectangle 44"/>
            <p:cNvSpPr/>
            <p:nvPr/>
          </p:nvSpPr>
          <p:spPr>
            <a:xfrm>
              <a:off x="490356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4903560" y="4924440"/>
              <a:ext cx="2822760" cy="380880"/>
            </a:xfrm>
            <a:prstGeom prst="rect">
              <a:avLst/>
            </a:prstGeom>
            <a:solidFill>
              <a:srgbClr val="e88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82"/>
            <p:cNvSpPr/>
            <p:nvPr/>
          </p:nvSpPr>
          <p:spPr>
            <a:xfrm>
              <a:off x="4892760" y="5385240"/>
              <a:ext cx="2822760" cy="0"/>
            </a:xfrm>
            <a:prstGeom prst="line">
              <a:avLst/>
            </a:prstGeom>
            <a:ln w="12600">
              <a:solidFill>
                <a:srgbClr val="e8865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1547640" y="1962000"/>
            <a:ext cx="66060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5073480" y="1962000"/>
            <a:ext cx="66204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547640" y="377676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5a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5073480" y="377676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1547640" y="551808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bb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57"/>
          <p:cNvSpPr/>
          <p:nvPr/>
        </p:nvSpPr>
        <p:spPr>
          <a:xfrm>
            <a:off x="5073480" y="551808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262080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9"/>
          <p:cNvSpPr/>
          <p:nvPr/>
        </p:nvSpPr>
        <p:spPr>
          <a:xfrm>
            <a:off x="262080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62080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612612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12612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12612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181764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81764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181764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539892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539892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39892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"/>
          <p:cNvSpPr/>
          <p:nvPr/>
        </p:nvSpPr>
        <p:spPr>
          <a:xfrm>
            <a:off x="1206360" y="1090440"/>
            <a:ext cx="2857680" cy="1424160"/>
          </a:xfrm>
          <a:custGeom>
            <a:avLst/>
            <a:gdLst/>
            <a:ahLst/>
            <a:rect l="l" t="t" r="r" b="b"/>
            <a:pathLst>
              <a:path w="2338397" h="1164664">
                <a:moveTo>
                  <a:pt x="399528" y="1157520"/>
                </a:moveTo>
                <a:lnTo>
                  <a:pt x="1910034" y="1164664"/>
                </a:lnTo>
                <a:cubicBezTo>
                  <a:pt x="2016661" y="1128946"/>
                  <a:pt x="2266163" y="1043220"/>
                  <a:pt x="2327547" y="705083"/>
                </a:cubicBezTo>
                <a:cubicBezTo>
                  <a:pt x="2336542" y="575703"/>
                  <a:pt x="2390783" y="351070"/>
                  <a:pt x="2133078" y="95483"/>
                </a:cubicBezTo>
                <a:cubicBezTo>
                  <a:pt x="2004226" y="-24109"/>
                  <a:pt x="1708686" y="-69882"/>
                  <a:pt x="1536972" y="191526"/>
                </a:cubicBezTo>
                <a:cubicBezTo>
                  <a:pt x="1252016" y="79078"/>
                  <a:pt x="983728" y="114267"/>
                  <a:pt x="796403" y="354245"/>
                </a:cubicBezTo>
                <a:cubicBezTo>
                  <a:pt x="439215" y="199728"/>
                  <a:pt x="53453" y="485743"/>
                  <a:pt x="110603" y="805095"/>
                </a:cubicBezTo>
                <a:cubicBezTo>
                  <a:pt x="-116939" y="979720"/>
                  <a:pt x="19851" y="1149582"/>
                  <a:pt x="399528" y="1157520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"/>
          <p:cNvSpPr/>
          <p:nvPr/>
        </p:nvSpPr>
        <p:spPr>
          <a:xfrm>
            <a:off x="3925800" y="2478240"/>
            <a:ext cx="3586320" cy="1614240"/>
          </a:xfrm>
          <a:custGeom>
            <a:avLst/>
            <a:gdLst/>
            <a:ahLst/>
            <a:rect l="l" t="t" r="r" b="b"/>
            <a:pathLst>
              <a:path w="3008161" h="1285704">
                <a:moveTo>
                  <a:pt x="420994" y="1285704"/>
                </a:moveTo>
                <a:lnTo>
                  <a:pt x="2497444" y="1285704"/>
                </a:lnTo>
                <a:cubicBezTo>
                  <a:pt x="2800127" y="1269829"/>
                  <a:pt x="2934536" y="1209504"/>
                  <a:pt x="2976869" y="1085679"/>
                </a:cubicBezTo>
                <a:cubicBezTo>
                  <a:pt x="3073177" y="872954"/>
                  <a:pt x="2928186" y="730079"/>
                  <a:pt x="2799069" y="676104"/>
                </a:cubicBezTo>
                <a:cubicBezTo>
                  <a:pt x="2787427" y="258062"/>
                  <a:pt x="2299536" y="49571"/>
                  <a:pt x="1964044" y="279229"/>
                </a:cubicBezTo>
                <a:cubicBezTo>
                  <a:pt x="1792594" y="-106004"/>
                  <a:pt x="1087744" y="-88013"/>
                  <a:pt x="897244" y="304629"/>
                </a:cubicBezTo>
                <a:cubicBezTo>
                  <a:pt x="468619" y="101429"/>
                  <a:pt x="1894" y="488779"/>
                  <a:pt x="297169" y="895179"/>
                </a:cubicBezTo>
                <a:cubicBezTo>
                  <a:pt x="-188606" y="965029"/>
                  <a:pt x="-29856" y="1266654"/>
                  <a:pt x="420994" y="1285704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"/>
          <p:cNvSpPr/>
          <p:nvPr/>
        </p:nvSpPr>
        <p:spPr>
          <a:xfrm>
            <a:off x="320760" y="3627360"/>
            <a:ext cx="3406680" cy="1712880"/>
          </a:xfrm>
          <a:custGeom>
            <a:avLst/>
            <a:gdLst/>
            <a:ahLst/>
            <a:rect l="l" t="t" r="r" b="b"/>
            <a:pathLst>
              <a:path w="2679088" h="1359584">
                <a:moveTo>
                  <a:pt x="423812" y="1359584"/>
                </a:moveTo>
                <a:lnTo>
                  <a:pt x="2236737" y="1359584"/>
                </a:lnTo>
                <a:cubicBezTo>
                  <a:pt x="2656895" y="1356409"/>
                  <a:pt x="2851629" y="896034"/>
                  <a:pt x="2487562" y="664259"/>
                </a:cubicBezTo>
                <a:cubicBezTo>
                  <a:pt x="2492854" y="595467"/>
                  <a:pt x="2472745" y="428251"/>
                  <a:pt x="2255787" y="505509"/>
                </a:cubicBezTo>
                <a:cubicBezTo>
                  <a:pt x="2253670" y="392267"/>
                  <a:pt x="2242029" y="279026"/>
                  <a:pt x="2030362" y="280084"/>
                </a:cubicBezTo>
                <a:cubicBezTo>
                  <a:pt x="2004962" y="137209"/>
                  <a:pt x="1795412" y="-21541"/>
                  <a:pt x="1601737" y="156259"/>
                </a:cubicBezTo>
                <a:cubicBezTo>
                  <a:pt x="1470504" y="-88216"/>
                  <a:pt x="1209095" y="-15191"/>
                  <a:pt x="1112787" y="165784"/>
                </a:cubicBezTo>
                <a:cubicBezTo>
                  <a:pt x="1008012" y="122392"/>
                  <a:pt x="865137" y="98051"/>
                  <a:pt x="817512" y="280084"/>
                </a:cubicBezTo>
                <a:cubicBezTo>
                  <a:pt x="568804" y="70534"/>
                  <a:pt x="53395" y="245159"/>
                  <a:pt x="166637" y="572184"/>
                </a:cubicBezTo>
                <a:cubicBezTo>
                  <a:pt x="-110646" y="775384"/>
                  <a:pt x="-13280" y="1102409"/>
                  <a:pt x="249187" y="1267509"/>
                </a:cubicBezTo>
                <a:cubicBezTo>
                  <a:pt x="288345" y="1352176"/>
                  <a:pt x="346554" y="1357467"/>
                  <a:pt x="423812" y="1359584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5072040" y="4702320"/>
            <a:ext cx="3154320" cy="1622160"/>
          </a:xfrm>
          <a:custGeom>
            <a:avLst/>
            <a:gdLst/>
            <a:ahLst/>
            <a:rect l="l" t="t" r="r" b="b"/>
            <a:pathLst>
              <a:path w="2565854" h="1319019">
                <a:moveTo>
                  <a:pt x="323711" y="1319019"/>
                </a:moveTo>
                <a:lnTo>
                  <a:pt x="2228711" y="1319019"/>
                </a:lnTo>
                <a:cubicBezTo>
                  <a:pt x="2606536" y="1287269"/>
                  <a:pt x="2689086" y="814194"/>
                  <a:pt x="2362061" y="633219"/>
                </a:cubicBezTo>
                <a:cubicBezTo>
                  <a:pt x="2659453" y="331594"/>
                  <a:pt x="2283744" y="-176406"/>
                  <a:pt x="1857236" y="179194"/>
                </a:cubicBezTo>
                <a:cubicBezTo>
                  <a:pt x="1719653" y="50077"/>
                  <a:pt x="1540794" y="32086"/>
                  <a:pt x="1387336" y="220469"/>
                </a:cubicBezTo>
                <a:cubicBezTo>
                  <a:pt x="1247636" y="-148889"/>
                  <a:pt x="936486" y="8802"/>
                  <a:pt x="872986" y="236344"/>
                </a:cubicBezTo>
                <a:cubicBezTo>
                  <a:pt x="609461" y="94527"/>
                  <a:pt x="301486" y="241636"/>
                  <a:pt x="330061" y="477644"/>
                </a:cubicBezTo>
                <a:cubicBezTo>
                  <a:pt x="104636" y="466002"/>
                  <a:pt x="41136" y="613111"/>
                  <a:pt x="158611" y="709419"/>
                </a:cubicBezTo>
                <a:cubicBezTo>
                  <a:pt x="70769" y="788794"/>
                  <a:pt x="84528" y="880869"/>
                  <a:pt x="152261" y="947544"/>
                </a:cubicBezTo>
                <a:cubicBezTo>
                  <a:pt x="-127139" y="1033269"/>
                  <a:pt x="6211" y="1299969"/>
                  <a:pt x="323711" y="131901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4064040" y="1866960"/>
            <a:ext cx="369720" cy="647640"/>
            <a:chOff x="4064040" y="1866960"/>
            <a:chExt cx="369720" cy="647640"/>
          </a:xfrm>
        </p:grpSpPr>
        <p:sp>
          <p:nvSpPr>
            <p:cNvPr id="211" name="Oval 10"/>
            <p:cNvSpPr/>
            <p:nvPr/>
          </p:nvSpPr>
          <p:spPr>
            <a:xfrm>
              <a:off x="4064040" y="233460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4244040" y="212868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4253760" y="186696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Group 62" descr=""/>
          <p:cNvPicPr/>
          <p:nvPr/>
        </p:nvPicPr>
        <p:blipFill>
          <a:blip r:embed="rId1"/>
          <a:stretch/>
        </p:blipFill>
        <p:spPr>
          <a:xfrm>
            <a:off x="7551720" y="3357720"/>
            <a:ext cx="434880" cy="82224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3" descr=""/>
          <p:cNvPicPr/>
          <p:nvPr/>
        </p:nvPicPr>
        <p:blipFill>
          <a:blip r:embed="rId2"/>
          <a:stretch/>
        </p:blipFill>
        <p:spPr>
          <a:xfrm>
            <a:off x="8308800" y="5549760"/>
            <a:ext cx="4352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85" descr=""/>
          <p:cNvPicPr/>
          <p:nvPr/>
        </p:nvPicPr>
        <p:blipFill>
          <a:blip r:embed="rId3"/>
          <a:stretch/>
        </p:blipFill>
        <p:spPr>
          <a:xfrm>
            <a:off x="3741840" y="4627440"/>
            <a:ext cx="473040" cy="808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1"/>
          <p:cNvSpPr/>
          <p:nvPr/>
        </p:nvSpPr>
        <p:spPr>
          <a:xfrm>
            <a:off x="1809720" y="167904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916520" y="311544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5842080" y="535716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63520" y="43063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676680" y="1320840"/>
            <a:ext cx="1590480" cy="25970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 flipH="1" flipV="1" rot="151800">
            <a:off x="3745440" y="3947040"/>
            <a:ext cx="159048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88651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 flipH="1" flipV="1" rot="14441400">
            <a:off x="4827960" y="193932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 flipH="1" flipV="1" rot="18011400">
            <a:off x="4829040" y="3270600"/>
            <a:ext cx="1590840" cy="259920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bb76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 rot="17884800">
            <a:off x="2499480" y="200700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 rot="14421600">
            <a:off x="2626200" y="332784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G_Oval 58" descr=""/>
          <p:cNvPicPr/>
          <p:nvPr/>
        </p:nvPicPr>
        <p:blipFill>
          <a:blip r:embed="rId1"/>
          <a:stretch/>
        </p:blipFill>
        <p:spPr>
          <a:xfrm>
            <a:off x="4181400" y="3684600"/>
            <a:ext cx="668520" cy="799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6"/>
          <p:cNvSpPr/>
          <p:nvPr/>
        </p:nvSpPr>
        <p:spPr>
          <a:xfrm>
            <a:off x="3890880" y="17938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3890880" y="54374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5316480" y="4497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08640" y="27219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2374920" y="45086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371680" y="2742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 Same Side Corner Rectangle 3"/>
          <p:cNvSpPr/>
          <p:nvPr/>
        </p:nvSpPr>
        <p:spPr>
          <a:xfrm rot="16200000">
            <a:off x="3444840" y="-45252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d9253e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 Same Side Corner Rectangle 6"/>
          <p:cNvSpPr/>
          <p:nvPr/>
        </p:nvSpPr>
        <p:spPr>
          <a:xfrm flipH="1" rot="5400000">
            <a:off x="6303240" y="140148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d9253e"/>
              </a:gs>
              <a:gs pos="100000">
                <a:srgbClr val="e66c7d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 Same Side Corner Rectangle 26"/>
          <p:cNvSpPr/>
          <p:nvPr/>
        </p:nvSpPr>
        <p:spPr>
          <a:xfrm rot="16200000">
            <a:off x="3444840" y="73296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60b5cc"/>
              </a:gs>
              <a:gs pos="100000">
                <a:srgbClr val="3792a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ound Same Side Corner Rectangle 27"/>
          <p:cNvSpPr/>
          <p:nvPr/>
        </p:nvSpPr>
        <p:spPr>
          <a:xfrm flipH="1" rot="5400000">
            <a:off x="6303240" y="258732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3792aa"/>
              </a:gs>
              <a:gs pos="100000">
                <a:srgbClr val="60b5cc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 Same Side Corner Rectangle 28"/>
          <p:cNvSpPr/>
          <p:nvPr/>
        </p:nvSpPr>
        <p:spPr>
          <a:xfrm rot="16200000">
            <a:off x="3445560" y="195444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5a6378"/>
              </a:gs>
              <a:gs pos="100000">
                <a:srgbClr val="444a5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ound Same Side Corner Rectangle 29"/>
          <p:cNvSpPr/>
          <p:nvPr/>
        </p:nvSpPr>
        <p:spPr>
          <a:xfrm flipH="1" rot="5400000">
            <a:off x="6303960" y="380880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444a5a"/>
              </a:gs>
              <a:gs pos="100000">
                <a:srgbClr val="5a6378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und Same Side Corner Rectangle 30"/>
          <p:cNvSpPr/>
          <p:nvPr/>
        </p:nvSpPr>
        <p:spPr>
          <a:xfrm rot="16200000">
            <a:off x="3445560" y="314028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b48200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 Same Side Corner Rectangle 31"/>
          <p:cNvSpPr/>
          <p:nvPr/>
        </p:nvSpPr>
        <p:spPr>
          <a:xfrm flipH="1" rot="5400000">
            <a:off x="6303960" y="499464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b48200"/>
              </a:gs>
              <a:gs pos="100000">
                <a:srgbClr val="f0ad00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45" descr="shadow_1_m"/>
          <p:cNvPicPr/>
          <p:nvPr/>
        </p:nvPicPr>
        <p:blipFill>
          <a:blip r:embed="rId1"/>
          <a:srcRect l="0" t="0" r="61593" b="0"/>
          <a:stretch/>
        </p:blipFill>
        <p:spPr>
          <a:xfrm>
            <a:off x="6165720" y="185760"/>
            <a:ext cx="131760" cy="7134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6515640" y="155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515640" y="2737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6515640" y="395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6515640" y="5145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2055960" y="17352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2055960" y="29210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2055960" y="41432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2055960" y="532908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5840" y="1335240"/>
            <a:ext cx="5094360" cy="16351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6b101c"/>
              </a:gs>
              <a:gs pos="100000">
                <a:srgbClr val="d620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471920" y="1047600"/>
            <a:ext cx="662040" cy="1814760"/>
            <a:chOff x="4471920" y="1047600"/>
            <a:chExt cx="662040" cy="1814760"/>
          </a:xfrm>
        </p:grpSpPr>
        <p:sp>
          <p:nvSpPr>
            <p:cNvPr id="256" name="Freeform 4"/>
            <p:cNvSpPr/>
            <p:nvPr/>
          </p:nvSpPr>
          <p:spPr>
            <a:xfrm>
              <a:off x="4471920" y="1156680"/>
              <a:ext cx="662040" cy="170568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643280" y="1047600"/>
              <a:ext cx="39996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Freeform 78"/>
          <p:cNvSpPr/>
          <p:nvPr/>
        </p:nvSpPr>
        <p:spPr>
          <a:xfrm>
            <a:off x="-15840" y="3070080"/>
            <a:ext cx="6172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986c00"/>
              </a:gs>
              <a:gs pos="100000">
                <a:srgbClr val="ffc3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5648400" y="2766960"/>
            <a:ext cx="555480" cy="1816200"/>
            <a:chOff x="5648400" y="2766960"/>
            <a:chExt cx="555480" cy="1816200"/>
          </a:xfrm>
        </p:grpSpPr>
        <p:sp>
          <p:nvSpPr>
            <p:cNvPr id="260" name="Freeform 80"/>
            <p:cNvSpPr/>
            <p:nvPr/>
          </p:nvSpPr>
          <p:spPr>
            <a:xfrm>
              <a:off x="5648400" y="2876040"/>
              <a:ext cx="555480" cy="17071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1"/>
            <p:cNvSpPr/>
            <p:nvPr/>
          </p:nvSpPr>
          <p:spPr>
            <a:xfrm>
              <a:off x="5792040" y="2766960"/>
              <a:ext cx="335880" cy="16740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Freeform 82"/>
          <p:cNvSpPr/>
          <p:nvPr/>
        </p:nvSpPr>
        <p:spPr>
          <a:xfrm>
            <a:off x="-15840" y="4813200"/>
            <a:ext cx="7207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844102"/>
              </a:gs>
              <a:gs pos="100000">
                <a:srgbClr val="fb8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83"/>
          <p:cNvGrpSpPr/>
          <p:nvPr/>
        </p:nvGrpSpPr>
        <p:grpSpPr>
          <a:xfrm>
            <a:off x="6832440" y="4525920"/>
            <a:ext cx="397080" cy="1814400"/>
            <a:chOff x="6832440" y="4525920"/>
            <a:chExt cx="397080" cy="1814400"/>
          </a:xfrm>
        </p:grpSpPr>
        <p:sp>
          <p:nvSpPr>
            <p:cNvPr id="264" name="Freeform 84"/>
            <p:cNvSpPr/>
            <p:nvPr/>
          </p:nvSpPr>
          <p:spPr>
            <a:xfrm>
              <a:off x="6832440" y="4635000"/>
              <a:ext cx="397080" cy="17053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5"/>
            <p:cNvSpPr/>
            <p:nvPr/>
          </p:nvSpPr>
          <p:spPr>
            <a:xfrm>
              <a:off x="6935040" y="4525920"/>
              <a:ext cx="24012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86"/>
          <p:cNvSpPr/>
          <p:nvPr/>
        </p:nvSpPr>
        <p:spPr>
          <a:xfrm>
            <a:off x="204480" y="16941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204480" y="34300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204480" y="51732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89"/>
          <p:cNvSpPr/>
          <p:nvPr/>
        </p:nvSpPr>
        <p:spPr>
          <a:xfrm>
            <a:off x="1341360" y="1893960"/>
            <a:ext cx="2621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1341360" y="3629160"/>
            <a:ext cx="40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1341360" y="5052960"/>
            <a:ext cx="408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451880" y="816840"/>
            <a:ext cx="6223680" cy="2151720"/>
            <a:chOff x="1451880" y="816840"/>
            <a:chExt cx="6223680" cy="2151720"/>
          </a:xfrm>
        </p:grpSpPr>
        <p:grpSp>
          <p:nvGrpSpPr>
            <p:cNvPr id="274" name="Group 18"/>
            <p:cNvGrpSpPr/>
            <p:nvPr/>
          </p:nvGrpSpPr>
          <p:grpSpPr>
            <a:xfrm>
              <a:off x="1451880" y="1364400"/>
              <a:ext cx="6223680" cy="1604160"/>
              <a:chOff x="1451880" y="1364400"/>
              <a:chExt cx="6223680" cy="1604160"/>
            </a:xfrm>
          </p:grpSpPr>
          <p:pic>
            <p:nvPicPr>
              <p:cNvPr id="275" name="Picture 345" descr="shadow_1_m"/>
              <p:cNvPicPr/>
              <p:nvPr/>
            </p:nvPicPr>
            <p:blipFill>
              <a:blip r:embed="rId1"/>
              <a:srcRect l="0" t="1518" r="0" b="0"/>
              <a:stretch/>
            </p:blipFill>
            <p:spPr>
              <a:xfrm>
                <a:off x="1451880" y="2608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24"/>
              <p:cNvSpPr/>
              <p:nvPr/>
            </p:nvSpPr>
            <p:spPr>
              <a:xfrm>
                <a:off x="2007360" y="1364400"/>
                <a:ext cx="5346000" cy="1439640"/>
              </a:xfrm>
              <a:prstGeom prst="rect">
                <a:avLst/>
              </a:prstGeom>
              <a:solidFill>
                <a:srgbClr val="d62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19"/>
            <p:cNvGrpSpPr/>
            <p:nvPr/>
          </p:nvGrpSpPr>
          <p:grpSpPr>
            <a:xfrm>
              <a:off x="1464840" y="816840"/>
              <a:ext cx="2106360" cy="1895040"/>
              <a:chOff x="1464840" y="816840"/>
              <a:chExt cx="2106360" cy="1895040"/>
            </a:xfrm>
          </p:grpSpPr>
          <p:sp>
            <p:nvSpPr>
              <p:cNvPr id="278" name="Right Triangle 20"/>
              <p:cNvSpPr/>
              <p:nvPr/>
            </p:nvSpPr>
            <p:spPr>
              <a:xfrm flipH="1">
                <a:off x="1809720" y="2538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ight Triangle 21"/>
              <p:cNvSpPr/>
              <p:nvPr/>
            </p:nvSpPr>
            <p:spPr>
              <a:xfrm flipH="1">
                <a:off x="3349080" y="1190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rapezoid 2"/>
              <p:cNvSpPr/>
              <p:nvPr/>
            </p:nvSpPr>
            <p:spPr>
              <a:xfrm rot="19191000">
                <a:off x="1365120" y="1496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26"/>
          <p:cNvGrpSpPr/>
          <p:nvPr/>
        </p:nvGrpSpPr>
        <p:grpSpPr>
          <a:xfrm>
            <a:off x="1451880" y="2630160"/>
            <a:ext cx="6223680" cy="2152800"/>
            <a:chOff x="1451880" y="2630160"/>
            <a:chExt cx="6223680" cy="2152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1451880" y="3177360"/>
              <a:ext cx="6223680" cy="1605600"/>
              <a:chOff x="1451880" y="3177360"/>
              <a:chExt cx="6223680" cy="1605600"/>
            </a:xfrm>
          </p:grpSpPr>
          <p:pic>
            <p:nvPicPr>
              <p:cNvPr id="283" name="Picture 345" descr="shadow_1_m"/>
              <p:cNvPicPr/>
              <p:nvPr/>
            </p:nvPicPr>
            <p:blipFill>
              <a:blip r:embed="rId2"/>
              <a:srcRect l="0" t="1518" r="0" b="0"/>
              <a:stretch/>
            </p:blipFill>
            <p:spPr>
              <a:xfrm>
                <a:off x="1451880" y="4422960"/>
                <a:ext cx="6223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33"/>
              <p:cNvSpPr/>
              <p:nvPr/>
            </p:nvSpPr>
            <p:spPr>
              <a:xfrm>
                <a:off x="2007360" y="3177360"/>
                <a:ext cx="5346000" cy="1440720"/>
              </a:xfrm>
              <a:prstGeom prst="rect">
                <a:avLst/>
              </a:prstGeom>
              <a:solidFill>
                <a:srgbClr val="ffc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28"/>
            <p:cNvGrpSpPr/>
            <p:nvPr/>
          </p:nvGrpSpPr>
          <p:grpSpPr>
            <a:xfrm>
              <a:off x="1464480" y="2630160"/>
              <a:ext cx="2106720" cy="1895760"/>
              <a:chOff x="1464480" y="2630160"/>
              <a:chExt cx="2106720" cy="1895760"/>
            </a:xfrm>
          </p:grpSpPr>
          <p:sp>
            <p:nvSpPr>
              <p:cNvPr id="286" name="Right Triangle 29"/>
              <p:cNvSpPr/>
              <p:nvPr/>
            </p:nvSpPr>
            <p:spPr>
              <a:xfrm flipH="1">
                <a:off x="1809720" y="435204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ight Triangle 30"/>
              <p:cNvSpPr/>
              <p:nvPr/>
            </p:nvSpPr>
            <p:spPr>
              <a:xfrm flipH="1">
                <a:off x="3349080" y="300348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rapezoid 2"/>
              <p:cNvSpPr/>
              <p:nvPr/>
            </p:nvSpPr>
            <p:spPr>
              <a:xfrm rot="19191000">
                <a:off x="1365120" y="3310200"/>
                <a:ext cx="2305440" cy="53460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Group 35"/>
          <p:cNvGrpSpPr/>
          <p:nvPr/>
        </p:nvGrpSpPr>
        <p:grpSpPr>
          <a:xfrm>
            <a:off x="1451880" y="4434840"/>
            <a:ext cx="6223680" cy="2151720"/>
            <a:chOff x="1451880" y="4434840"/>
            <a:chExt cx="6223680" cy="2151720"/>
          </a:xfrm>
        </p:grpSpPr>
        <p:grpSp>
          <p:nvGrpSpPr>
            <p:cNvPr id="290" name="Group 36"/>
            <p:cNvGrpSpPr/>
            <p:nvPr/>
          </p:nvGrpSpPr>
          <p:grpSpPr>
            <a:xfrm>
              <a:off x="1451880" y="4982400"/>
              <a:ext cx="6223680" cy="1604160"/>
              <a:chOff x="1451880" y="4982400"/>
              <a:chExt cx="6223680" cy="1604160"/>
            </a:xfrm>
          </p:grpSpPr>
          <p:pic>
            <p:nvPicPr>
              <p:cNvPr id="291" name="Picture 345" descr="shadow_1_m"/>
              <p:cNvPicPr/>
              <p:nvPr/>
            </p:nvPicPr>
            <p:blipFill>
              <a:blip r:embed="rId3"/>
              <a:srcRect l="0" t="1518" r="0" b="0"/>
              <a:stretch/>
            </p:blipFill>
            <p:spPr>
              <a:xfrm>
                <a:off x="1451880" y="6226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42"/>
              <p:cNvSpPr/>
              <p:nvPr/>
            </p:nvSpPr>
            <p:spPr>
              <a:xfrm>
                <a:off x="2007360" y="4982400"/>
                <a:ext cx="5346000" cy="1439640"/>
              </a:xfrm>
              <a:prstGeom prst="rect">
                <a:avLst/>
              </a:prstGeom>
              <a:solidFill>
                <a:srgbClr val="fb8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37"/>
            <p:cNvGrpSpPr/>
            <p:nvPr/>
          </p:nvGrpSpPr>
          <p:grpSpPr>
            <a:xfrm>
              <a:off x="1464840" y="4434840"/>
              <a:ext cx="2106360" cy="1895040"/>
              <a:chOff x="1464840" y="4434840"/>
              <a:chExt cx="2106360" cy="1895040"/>
            </a:xfrm>
          </p:grpSpPr>
          <p:sp>
            <p:nvSpPr>
              <p:cNvPr id="294" name="Right Triangle 38"/>
              <p:cNvSpPr/>
              <p:nvPr/>
            </p:nvSpPr>
            <p:spPr>
              <a:xfrm flipH="1">
                <a:off x="1809720" y="6156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ight Triangle 39"/>
              <p:cNvSpPr/>
              <p:nvPr/>
            </p:nvSpPr>
            <p:spPr>
              <a:xfrm flipH="1">
                <a:off x="3349080" y="4808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rapezoid 2"/>
              <p:cNvSpPr/>
              <p:nvPr/>
            </p:nvSpPr>
            <p:spPr>
              <a:xfrm rot="19191000">
                <a:off x="1365120" y="5114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5-Point Star 44"/>
          <p:cNvSpPr/>
          <p:nvPr/>
        </p:nvSpPr>
        <p:spPr>
          <a:xfrm>
            <a:off x="628956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oup 45" descr=""/>
          <p:cNvPicPr/>
          <p:nvPr/>
        </p:nvPicPr>
        <p:blipFill>
          <a:blip r:embed="rId4"/>
          <a:stretch/>
        </p:blipFill>
        <p:spPr>
          <a:xfrm>
            <a:off x="6302520" y="5486400"/>
            <a:ext cx="617400" cy="453960"/>
          </a:xfrm>
          <a:prstGeom prst="rect">
            <a:avLst/>
          </a:prstGeom>
          <a:ln w="0">
            <a:noFill/>
          </a:ln>
        </p:spPr>
      </p:pic>
      <p:pic>
        <p:nvPicPr>
          <p:cNvPr id="299" name="Group 48" descr=""/>
          <p:cNvPicPr/>
          <p:nvPr/>
        </p:nvPicPr>
        <p:blipFill>
          <a:blip r:embed="rId5"/>
          <a:stretch/>
        </p:blipFill>
        <p:spPr>
          <a:xfrm>
            <a:off x="6140520" y="1582560"/>
            <a:ext cx="838080" cy="858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6"/>
          <p:cNvSpPr/>
          <p:nvPr/>
        </p:nvSpPr>
        <p:spPr>
          <a:xfrm>
            <a:off x="3156120" y="17924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3156120" y="36050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156120" y="541008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9"/>
          <p:cNvSpPr/>
          <p:nvPr/>
        </p:nvSpPr>
        <p:spPr>
          <a:xfrm rot="19125600">
            <a:off x="163512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0"/>
          <p:cNvSpPr/>
          <p:nvPr/>
        </p:nvSpPr>
        <p:spPr>
          <a:xfrm rot="19125600">
            <a:off x="163476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1"/>
          <p:cNvSpPr/>
          <p:nvPr/>
        </p:nvSpPr>
        <p:spPr>
          <a:xfrm rot="19125600">
            <a:off x="1635120" y="5158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4:11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