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C85F97-BABF-4F12-A2D9-5596532A04A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854D70-0277-4AB8-9544-47A1EAE46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9DCF2E-D755-40CD-8B88-AA63B87E7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8"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9"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0"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9D6AAD-5B16-4C80-AEAE-3F50BC7FE3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C02C6D-0A89-430E-AB86-2E16DCD301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E2951-AD23-4CF1-B336-58393380C0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BDDAA1-7C48-47C7-B2A1-81EC0470B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2"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B4F6E1-E3E3-43F4-A5CB-74774CCE60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9C7D18-41A4-4B66-9EA0-D494522F8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7D722B-CC53-4D40-AEC6-75CA6A6347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7"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8"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25732-9E14-4C9E-8067-C0A0A8F011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D8A88F-357F-4853-A7E4-C252269B6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2"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8DB8DB-E645-4604-A2DD-8A2FD7E830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6"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049637-894D-4B0C-9581-0729BD934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9"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FFFB9-F20C-496F-9DF9-A736E05CC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2"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3"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4"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EEFD32-D699-4342-8D8D-B97B9B410B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6"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7"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8"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9"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0"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1"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60B30F-E5CF-4A5D-9529-8A68945434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437ED-AFF3-4752-8C2D-296AC79A02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9176C7-3D93-4703-9A9F-280556377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AE041-D740-4A39-9929-12E43E9D9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D0FD7-0AAB-4EB1-800C-9703025842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E94365-E8D0-496E-B4AB-DC8AFD881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1"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8D67EF-BFC8-426F-BE06-4A3FA05153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1C426-D7BA-4FCC-9497-54CAC9428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9360"/>
            <a:ext cx="1557360" cy="6878520"/>
            <a:chOff x="0" y="-9360"/>
            <a:chExt cx="1557360" cy="6878520"/>
          </a:xfrm>
        </p:grpSpPr>
        <p:sp>
          <p:nvSpPr>
            <p:cNvPr id="1" name=""/>
            <p:cNvSpPr/>
            <p:nvPr/>
          </p:nvSpPr>
          <p:spPr>
            <a:xfrm>
              <a:off x="719280" y="341460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 name=""/>
            <p:cNvSpPr/>
            <p:nvPr/>
          </p:nvSpPr>
          <p:spPr>
            <a:xfrm>
              <a:off x="0" y="341460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3" name=""/>
            <p:cNvSpPr/>
            <p:nvPr/>
          </p:nvSpPr>
          <p:spPr>
            <a:xfrm>
              <a:off x="352440" y="341460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4" name=""/>
            <p:cNvSpPr/>
            <p:nvPr/>
          </p:nvSpPr>
          <p:spPr>
            <a:xfrm>
              <a:off x="900000" y="342900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5" name=""/>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6" name=""/>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 name=""/>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 name=""/>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 name=""/>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 name=""/>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 name=""/>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 name=""/>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3"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4"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5"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6"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7" name=""/>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8" name=""/>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9" name=""/>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0" name=""/>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1" name=""/>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2" name=""/>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3" name=""/>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4"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5" name=""/>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6" name=""/>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7" name=""/>
            <p:cNvSpPr/>
            <p:nvPr/>
          </p:nvSpPr>
          <p:spPr>
            <a:xfrm>
              <a:off x="1224000" y="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8" name=""/>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29" name=""/>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sp>
        <p:nvSpPr>
          <p:cNvPr id="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1"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32" name="PlaceHolder 3"/>
          <p:cNvSpPr>
            <a:spLocks noGrp="1"/>
          </p:cNvSpPr>
          <p:nvPr>
            <p:ph type="dt" idx="1"/>
          </p:nvPr>
        </p:nvSpPr>
        <p:spPr>
          <a:xfrm>
            <a:off x="1447920" y="6324120"/>
            <a:ext cx="1409760" cy="4906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date/time&gt;</a:t>
            </a:r>
            <a:endParaRPr b="0" lang="en-US" sz="1400" spc="-1" strike="noStrike">
              <a:solidFill>
                <a:srgbClr val="000000"/>
              </a:solidFill>
              <a:latin typeface="Times New Roman"/>
            </a:endParaRPr>
          </a:p>
        </p:txBody>
      </p:sp>
      <p:sp>
        <p:nvSpPr>
          <p:cNvPr id="33" name="PlaceHolder 4"/>
          <p:cNvSpPr>
            <a:spLocks noGrp="1"/>
          </p:cNvSpPr>
          <p:nvPr>
            <p:ph type="ftr" idx="2"/>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34" name="PlaceHolder 5"/>
          <p:cNvSpPr>
            <a:spLocks noGrp="1"/>
          </p:cNvSpPr>
          <p:nvPr>
            <p:ph type="sldNum" idx="3"/>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D381C-D721-4ADC-95E5-EF09BBD67386}"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2" name="PlaceHolder 2"/>
          <p:cNvSpPr>
            <a:spLocks noGrp="1"/>
          </p:cNvSpPr>
          <p:nvPr>
            <p:ph type="dt" idx="4"/>
          </p:nvPr>
        </p:nvSpPr>
        <p:spPr>
          <a:xfrm>
            <a:off x="2742840" y="5410080"/>
            <a:ext cx="62485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3333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Times New Roman"/>
              </a:rPr>
              <a:t>&lt;date/time&gt;</a:t>
            </a:r>
            <a:endParaRPr b="0" lang="en-US" sz="3200" spc="-1" strike="noStrike">
              <a:solidFill>
                <a:srgbClr val="000000"/>
              </a:solidFill>
              <a:latin typeface="Times New Roman"/>
            </a:endParaRPr>
          </a:p>
        </p:txBody>
      </p:sp>
      <p:grpSp>
        <p:nvGrpSpPr>
          <p:cNvPr id="73" name=""/>
          <p:cNvGrpSpPr/>
          <p:nvPr/>
        </p:nvGrpSpPr>
        <p:grpSpPr>
          <a:xfrm>
            <a:off x="0" y="0"/>
            <a:ext cx="1557360" cy="6878520"/>
            <a:chOff x="0" y="0"/>
            <a:chExt cx="1557360" cy="6878520"/>
          </a:xfrm>
        </p:grpSpPr>
        <p:sp>
          <p:nvSpPr>
            <p:cNvPr id="74"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5"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76"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7"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78"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79"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0"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1"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2"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3"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4"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5"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6"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7"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88"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89"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90"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1"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2"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3"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4"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5"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6"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7"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8"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99"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0"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1"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2"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grpSp>
        <p:nvGrpSpPr>
          <p:cNvPr id="103" name=""/>
          <p:cNvGrpSpPr/>
          <p:nvPr/>
        </p:nvGrpSpPr>
        <p:grpSpPr>
          <a:xfrm>
            <a:off x="523800" y="1428840"/>
            <a:ext cx="2095560" cy="2095560"/>
            <a:chOff x="523800" y="1428840"/>
            <a:chExt cx="2095560" cy="2095560"/>
          </a:xfrm>
        </p:grpSpPr>
        <p:sp>
          <p:nvSpPr>
            <p:cNvPr id="104"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nvGrpSpPr>
            <p:cNvPr id="105" name=""/>
            <p:cNvGrpSpPr/>
            <p:nvPr/>
          </p:nvGrpSpPr>
          <p:grpSpPr>
            <a:xfrm>
              <a:off x="523800" y="1610640"/>
              <a:ext cx="1712880" cy="1683360"/>
              <a:chOff x="523800" y="1610640"/>
              <a:chExt cx="1712880" cy="1683360"/>
            </a:xfrm>
          </p:grpSpPr>
          <p:grpSp>
            <p:nvGrpSpPr>
              <p:cNvPr id="106" name=""/>
              <p:cNvGrpSpPr/>
              <p:nvPr/>
            </p:nvGrpSpPr>
            <p:grpSpPr>
              <a:xfrm>
                <a:off x="523800" y="1610640"/>
                <a:ext cx="1712880" cy="1683360"/>
                <a:chOff x="523800" y="1610640"/>
                <a:chExt cx="1712880" cy="1683360"/>
              </a:xfrm>
            </p:grpSpPr>
            <p:grpSp>
              <p:nvGrpSpPr>
                <p:cNvPr id="107" name=""/>
                <p:cNvGrpSpPr/>
                <p:nvPr/>
              </p:nvGrpSpPr>
              <p:grpSpPr>
                <a:xfrm>
                  <a:off x="523800" y="1610640"/>
                  <a:ext cx="1712880" cy="1683360"/>
                  <a:chOff x="523800" y="1610640"/>
                  <a:chExt cx="1712880" cy="1683360"/>
                </a:xfrm>
              </p:grpSpPr>
              <p:sp>
                <p:nvSpPr>
                  <p:cNvPr id="108"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09"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0"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1"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grpSp>
            <p:sp>
              <p:nvSpPr>
                <p:cNvPr id="112"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3"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14"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sp>
              <p:nvSpPr>
                <p:cNvPr id="115"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grpSp>
          <p:grpSp>
            <p:nvGrpSpPr>
              <p:cNvPr id="116" name=""/>
              <p:cNvGrpSpPr/>
              <p:nvPr/>
            </p:nvGrpSpPr>
            <p:grpSpPr>
              <a:xfrm>
                <a:off x="1006560" y="2135160"/>
                <a:ext cx="709560" cy="638280"/>
                <a:chOff x="1006560" y="2135160"/>
                <a:chExt cx="709560" cy="638280"/>
              </a:xfrm>
            </p:grpSpPr>
            <p:sp>
              <p:nvSpPr>
                <p:cNvPr id="117"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8"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19"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endParaRPr b="0" lang="en-US" sz="1800" spc="-1" strike="noStrike">
                    <a:solidFill>
                      <a:srgbClr val="333300"/>
                    </a:solidFill>
                    <a:latin typeface="Arial"/>
                  </a:endParaRPr>
                </a:p>
              </p:txBody>
            </p:sp>
            <p:sp>
              <p:nvSpPr>
                <p:cNvPr id="120"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1"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333300"/>
                    </a:solidFill>
                    <a:latin typeface="Arial"/>
                  </a:endParaRPr>
                </a:p>
              </p:txBody>
            </p:sp>
            <p:sp>
              <p:nvSpPr>
                <p:cNvPr id="122"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p:txBody>
            </p:sp>
          </p:grpSp>
        </p:grpSp>
      </p:grpSp>
      <p:sp>
        <p:nvSpPr>
          <p:cNvPr id="123" name="PlaceHolder 3"/>
          <p:cNvSpPr>
            <a:spLocks noGrp="1"/>
          </p:cNvSpPr>
          <p:nvPr>
            <p:ph type="ftr" idx="5"/>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00"/>
                </a:solidFill>
                <a:latin typeface="Times New Roman"/>
              </a:rPr>
              <a:t>&lt;footer&gt;</a:t>
            </a:r>
            <a:endParaRPr b="0" lang="en-US" sz="1400" spc="-1" strike="noStrike">
              <a:solidFill>
                <a:srgbClr val="000000"/>
              </a:solidFill>
              <a:latin typeface="Times New Roman"/>
            </a:endParaRPr>
          </a:p>
        </p:txBody>
      </p:sp>
      <p:sp>
        <p:nvSpPr>
          <p:cNvPr id="124" name="PlaceHolder 4"/>
          <p:cNvSpPr>
            <a:spLocks noGrp="1"/>
          </p:cNvSpPr>
          <p:nvPr>
            <p:ph type="sldNum" idx="6"/>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33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D11CF4-9283-4BF5-B92F-EA2518D35E58}" type="slidenum">
              <a:rPr b="0" lang="en-US" sz="1400" spc="-1" strike="noStrike">
                <a:solidFill>
                  <a:srgbClr val="333300"/>
                </a:solidFill>
                <a:latin typeface="Times New Roman"/>
              </a:rPr>
              <a:t>&lt;number&gt;</a:t>
            </a:fld>
            <a:endParaRPr b="0" lang="en-US" sz="1400" spc="-1" strike="noStrike">
              <a:solidFill>
                <a:srgbClr val="000000"/>
              </a:solidFill>
              <a:latin typeface="Times New Roman"/>
            </a:endParaRPr>
          </a:p>
        </p:txBody>
      </p:sp>
      <p:sp>
        <p:nvSpPr>
          <p:cNvPr id="12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Second Outline Level</a:t>
            </a:r>
            <a:endParaRPr b="1" lang="en-US" sz="2800" spc="-1" strike="noStrike">
              <a:solidFill>
                <a:srgbClr val="333300"/>
              </a:solidFill>
              <a:latin typeface="Arial"/>
            </a:endParaRPr>
          </a:p>
          <a:p>
            <a:pPr lvl="2" marL="914400" algn="ctr">
              <a:spcBef>
                <a:spcPts val="601"/>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ird Outline Level</a:t>
            </a:r>
            <a:endParaRPr b="1" lang="en-US" sz="2400" spc="-1" strike="noStrike">
              <a:solidFill>
                <a:srgbClr val="3333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ourth Outline Level</a:t>
            </a:r>
            <a:endParaRPr b="1" lang="en-US" sz="2000" spc="-1" strike="noStrike">
              <a:solidFill>
                <a:srgbClr val="3333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Fifth Outline Level</a:t>
            </a:r>
            <a:endParaRPr b="1" lang="en-US" sz="2000" spc="-1" strike="noStrike">
              <a:solidFill>
                <a:srgbClr val="3333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ixth Outline Level</a:t>
            </a:r>
            <a:endParaRPr b="1" lang="en-US" sz="2000" spc="-1" strike="noStrike">
              <a:solidFill>
                <a:srgbClr val="3333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eventh Outline Level</a:t>
            </a:r>
            <a:endParaRPr b="1" lang="en-US" sz="2000" spc="-1" strike="noStrike">
              <a:solidFill>
                <a:srgbClr val="3333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ương II: </a:t>
            </a:r>
            <a:endParaRPr b="0" lang="en-US" sz="4400" spc="-1" strike="noStrike">
              <a:solidFill>
                <a:srgbClr val="000000"/>
              </a:solidFill>
              <a:latin typeface="Times New Roman"/>
            </a:endParaRPr>
          </a:p>
        </p:txBody>
      </p:sp>
      <p:sp>
        <p:nvSpPr>
          <p:cNvPr id="163" name="PlaceHolder 2"/>
          <p:cNvSpPr>
            <a:spLocks noGrp="1"/>
          </p:cNvSpPr>
          <p:nvPr>
            <p:ph type="subTitle"/>
          </p:nvPr>
        </p:nvSpPr>
        <p:spPr>
          <a:xfrm>
            <a:off x="2741400" y="4124160"/>
            <a:ext cx="6249960" cy="1285920"/>
          </a:xfrm>
          <a:prstGeom prst="rect">
            <a:avLst/>
          </a:prstGeom>
          <a:noFill/>
          <a:ln w="0">
            <a:noFill/>
          </a:ln>
        </p:spPr>
        <p:txBody>
          <a:bodyPr lIns="92160" rIns="92160" tIns="46080" bIns="4608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huyên chở hàng hóa xuất nhập khẩu bằng đường biển</a:t>
            </a: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Phân loại tàu buôn</a:t>
            </a:r>
            <a:endParaRPr b="0" lang="en-US" sz="3200" spc="-1" strike="noStrike">
              <a:solidFill>
                <a:srgbClr val="000000"/>
              </a:solidFill>
              <a:latin typeface="Times New Roman"/>
            </a:endParaRPr>
          </a:p>
        </p:txBody>
      </p:sp>
      <p:sp>
        <p:nvSpPr>
          <p:cNvPr id="18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ăn cứ vào phương thức kinh doanh:</a:t>
            </a:r>
            <a:endParaRPr b="1" lang="en-US" sz="28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chợ</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chạy rông</a:t>
            </a:r>
            <a:endParaRPr b="1" lang="en-US" sz="2400" spc="-1" strike="noStrike">
              <a:solidFill>
                <a:srgbClr val="333300"/>
              </a:solidFill>
              <a:latin typeface="Arial"/>
            </a:endParaRPr>
          </a:p>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ăn cứ vào động cơ</a:t>
            </a:r>
            <a:endParaRPr b="1" lang="en-US" sz="28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chạy động cơ diezen</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chạy động cơ hơi nước</a:t>
            </a:r>
            <a:endParaRPr b="1" lang="en-US" sz="2400" spc="-1" strike="noStrike">
              <a:solidFill>
                <a:srgbClr val="333300"/>
              </a:solidFill>
              <a:latin typeface="Arial"/>
            </a:endParaRPr>
          </a:p>
          <a:p>
            <a:pPr marL="343080" indent="-343080">
              <a:lnSpc>
                <a:spcPct val="90000"/>
              </a:lnSpc>
              <a:spcBef>
                <a:spcPts val="7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00"/>
                </a:solidFill>
                <a:latin typeface="Arial"/>
              </a:rPr>
              <a:t>Căn cứ vào tuổi tàu</a:t>
            </a:r>
            <a:endParaRPr b="1" lang="en-US" sz="28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trẻ</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trung bình</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già</a:t>
            </a:r>
            <a:endParaRPr b="1" lang="en-US" sz="2400" spc="-1" strike="noStrike">
              <a:solidFill>
                <a:srgbClr val="333300"/>
              </a:solidFill>
              <a:latin typeface="Arial"/>
            </a:endParaRPr>
          </a:p>
          <a:p>
            <a:pPr lvl="1" marL="743040" indent="-285840">
              <a:lnSpc>
                <a:spcPct val="9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àu rất già</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Cảng biển</a:t>
            </a:r>
            <a:br>
              <a:rPr sz="2800"/>
            </a:br>
            <a:endParaRPr b="0" lang="en-US" sz="2800" spc="-1" strike="noStrike">
              <a:solidFill>
                <a:srgbClr val="000000"/>
              </a:solidFill>
              <a:latin typeface="Times New Roman"/>
            </a:endParaRPr>
          </a:p>
        </p:txBody>
      </p:sp>
      <p:sp>
        <p:nvSpPr>
          <p:cNvPr id="183"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2.1. Khái niệm, chức năng, nhiệm vụ</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Khái niệm: Cảng biển là nơi ra vào, neo đậu của tàu biển, là nơi phục vụ tàu bè và hàng hóa, là đầu mối giao thông quan trọng của các quốc gia có biển</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ức năng</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hục vụ tàu biển</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hục vụ hàng hóa</a:t>
            </a:r>
            <a:endParaRPr b="1" lang="en-US" sz="16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hiệm vụ của cảng biển Việt nam</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Xây dựng quy hoạch, kế hoạch phát triển cảng biển trong phạm vi trách nhiệm</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hối hợp hoạt động của các tổ chức, cơ quan thực hiện chức năng quản lý nhà nước chuyên ngành tại cảng biển</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iểm tra, giám sát việc thực hiện các quy định của pháp luật về đảm bảo an toàn cảng và luồng ra vào cả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hối hợp với các cơ quan hữu quan thực hiện các hoạt động tìm kiếm, cứu nạn hoặc xử lý sự cố môi trườ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ấp giấy phép cho tàu ra, vào cảng và thực hiện các yêu cầu về bắt giữ, tạm giữ hàng hải</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Yêu cầu các cá nhân, cơ quan hữu quan cung cấp các thông tin, tài liệu để thực hiện chức năng quản lý nhà nước của cảng</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Cảng biển</a:t>
            </a:r>
            <a:br>
              <a:rPr sz="3200"/>
            </a:br>
            <a:endParaRPr b="0" lang="en-US" sz="3200" spc="-1" strike="noStrike">
              <a:solidFill>
                <a:srgbClr val="000000"/>
              </a:solidFill>
              <a:latin typeface="Times New Roman"/>
            </a:endParaRPr>
          </a:p>
        </p:txBody>
      </p:sp>
      <p:sp>
        <p:nvSpPr>
          <p:cNvPr id="185" name="PlaceHolder 2"/>
          <p:cNvSpPr>
            <a:spLocks noGrp="1"/>
          </p:cNvSpPr>
          <p:nvPr>
            <p:ph/>
          </p:nvPr>
        </p:nvSpPr>
        <p:spPr>
          <a:xfrm>
            <a:off x="1447560" y="1218960"/>
            <a:ext cx="7491240" cy="563868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 Trang thiết bị và các chỉ tiêu hoạt động của cả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ang thiết bị:</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phục vụ tàu ra vào cảng và chờ đợi xếp dỡ hàng: cầu tàu, luồng lạch, ke, đê đập chắn sóng, hệ thống báo hiệu, hệ thống cầu tà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phục vụ việc vận chuyển, xếp dỡ hàng hóa tại cảng: cần cẩu, xe nâng hàng, máy bơm hút hàng, băng chuyền, đầu máy…</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kho bãi của cảng sử dụng để chứa đựng và bảo quản hàng hóa: hệ thống kho bãi, kho ngoại quan, bể chứa dầu, các trang thiết bị kho bãi..</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ệ thống đường giao thông và các công cụ vận tải của cảng: hệ thống đường sắt, đường bộ, đường nội thủy…</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nổi của cảng: cầu tàu, cần cẩ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hóm trang thiết bị khác: điện, hệ thống đèn chiếu sáng, đèn hiệu, hệ thống thông tin liên lạc, máy vi tính…</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ác chỉ tiêu hoạt động của cả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ố lượng tàu/ tổng dung tích đăng ký/ trọng tải toàn phần ra vào cảng trong một năm</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ố tàu biển có thể xếp dỡ hàng hóa cùng một lúc</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ối lượng hàng hóa xếp dỡ trong một năm</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ức xếp dỡ hàng hóa ở cả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ả năng chứa hàng trong kho bãi của cả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Luật lệ, tập quán, các loại phí, giá cả các loại dịch vụ của cảng</a:t>
            </a:r>
            <a:endParaRPr b="1" lang="en-US" sz="1600" spc="-1" strike="noStrike">
              <a:solidFill>
                <a:srgbClr val="3333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II. Các phương thức thuê tàu</a:t>
            </a:r>
            <a:endParaRPr b="0" lang="en-US" sz="4000" spc="-1" strike="noStrike">
              <a:solidFill>
                <a:srgbClr val="000000"/>
              </a:solidFill>
              <a:latin typeface="Times New Roman"/>
            </a:endParaRPr>
          </a:p>
        </p:txBody>
      </p:sp>
      <p:sp>
        <p:nvSpPr>
          <p:cNvPr id="18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609480" indent="-609480">
              <a:lnSpc>
                <a:spcPct val="80000"/>
              </a:lnSpc>
              <a:spcBef>
                <a:spcPts val="499"/>
              </a:spcBef>
              <a:buClr>
                <a:srgbClr val="9999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Phương thức thuê tàu chợ</a:t>
            </a:r>
            <a:endParaRPr b="1" lang="en-US" sz="2000" spc="-1" strike="noStrike">
              <a:solidFill>
                <a:srgbClr val="3333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1. Khái niệm và đặc điểm tàu chợ</a:t>
            </a:r>
            <a:endParaRPr b="1" lang="en-US" sz="2000" spc="-1" strike="noStrike">
              <a:solidFill>
                <a:srgbClr val="333300"/>
              </a:solidFill>
              <a:latin typeface="Arial"/>
            </a:endParaRPr>
          </a:p>
          <a:p>
            <a:pPr marL="609480" indent="-6094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Khái niệm: Tàu chợ là tàu chạy thường xuyên trên một tuyến đường nhất định, ghé qua những cảng nhất định và theo một lịch trình định trước.</a:t>
            </a:r>
            <a:endParaRPr b="1" lang="en-US" sz="2000" spc="-1" strike="noStrike">
              <a:solidFill>
                <a:srgbClr val="333300"/>
              </a:solidFill>
              <a:latin typeface="Arial"/>
            </a:endParaRPr>
          </a:p>
          <a:p>
            <a:pPr marL="609480" indent="-6094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ặc điểm:</a:t>
            </a:r>
            <a:endParaRPr b="1" lang="en-US" sz="20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ạy giữa các cảng theo một lịch trình định trước</a:t>
            </a:r>
            <a:endParaRPr b="1" lang="en-US" sz="18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ứng từ điều chỉnh các mối quan hệ trong thuê tàu chợ là vận đơn đường biển</a:t>
            </a:r>
            <a:endParaRPr b="1" lang="en-US" sz="18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Khi thuê tàu chợ, chủ hàng phải mặc nhiên chấp nhận các điều kiện, điều khoản do hãng tàu đặt ra</a:t>
            </a:r>
            <a:endParaRPr b="1" lang="en-US" sz="18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iá cước tàu chợ do các hãng tàu quy định và được công bố sẵn trên biểu cước</a:t>
            </a:r>
            <a:endParaRPr b="1" lang="en-US" sz="1800" spc="-1" strike="noStrike">
              <a:solidFill>
                <a:srgbClr val="333300"/>
              </a:solidFill>
              <a:latin typeface="Arial"/>
            </a:endParaRPr>
          </a:p>
          <a:p>
            <a:pPr lvl="1" marL="990720" indent="-53352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ác chủ tàu thường cùng nhau thành lập các công hội tàu chợ (liner conference) hay công hội cước phí (freight conference) để khống chế thị trường và nâng cao khả năng cạnh tranh</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Phương thức thuê tàu chợ</a:t>
            </a:r>
            <a:br>
              <a:rPr sz="3200"/>
            </a:br>
            <a:endParaRPr b="0" lang="en-US" sz="3200" spc="-1" strike="noStrike">
              <a:solidFill>
                <a:srgbClr val="000000"/>
              </a:solidFill>
              <a:latin typeface="Times New Roman"/>
            </a:endParaRPr>
          </a:p>
        </p:txBody>
      </p:sp>
      <p:sp>
        <p:nvSpPr>
          <p:cNvPr id="189"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2. Phương thức thuê tàu chợ</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Khái niệm: thuê tàu chợ/ lưu cước tàu chợ (booking shipping space) là việc chủ hàng liên hệ với chủ tàu hoặc đại lý của chủ tàu để dành chỗ trên tàu để chuyên chở hàng hóa từ một cảng này đến một cảng khác</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ình tự các bước thuê tàu chợ:</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ủ hàng yêu cầu người môi giới tìm tàu vận chuyển hàng hóa cho mình</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môi giới chào tàu, hỏi tàu (gửi booking note cho người chuyên chở)</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môi giới và người chuyên chở đàm phán với nhau môt số điều kiện và điều khoản: tên hàng, số lượng hàng hóa, cảng xếp, cảng dỡ, chứng từ cung cấp</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môi giới thông báo cho người thuê tàu biết về kết quả thuê tà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ủ hàng vận chuyển hàng hóa ra cảng giao cho người chuyên chở</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chuyên chở phát hành vận đơn/ chứng từ vận tải cho người gửi hàng</a:t>
            </a:r>
            <a:endParaRPr b="1" lang="en-US" sz="1600" spc="-1" strike="noStrike">
              <a:solidFill>
                <a:srgbClr val="3333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	</a:t>
            </a:r>
            <a:r>
              <a:rPr b="1" lang="en-US" sz="1800" spc="-1" strike="noStrike">
                <a:solidFill>
                  <a:srgbClr val="333300"/>
                </a:solidFill>
                <a:latin typeface="Arial"/>
              </a:rPr>
              <a:t>	</a:t>
            </a:r>
            <a:r>
              <a:rPr b="1" lang="en-US" sz="1800" spc="-1" strike="noStrike">
                <a:solidFill>
                  <a:srgbClr val="333300"/>
                </a:solidFill>
                <a:latin typeface="Arial"/>
              </a:rPr>
              <a:t>	</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500120" y="228600"/>
            <a:ext cx="74916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191" name="PlaceHolder 2"/>
          <p:cNvSpPr>
            <a:spLocks noGrp="1"/>
          </p:cNvSpPr>
          <p:nvPr>
            <p:ph/>
          </p:nvPr>
        </p:nvSpPr>
        <p:spPr>
          <a:xfrm>
            <a:off x="1652400" y="990720"/>
            <a:ext cx="7491240" cy="586728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1. Khái niệm và chức nă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ái niệm: vận đơn đường biển là chứng từ chuyên chở hàng hóa bằng đường biển do người chuyên chở hoặc đại diện của người chuyên chở cấp phát cho người gửi hàng sau khi hàng hóa được xếp lên tàu hoặc sau khi nhận hàng để xếp.</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cấp vận đơn: người có phương tiện chuyên chở, người kinh doanh phương tiện chuyên chở, người được người có phương tiện chuyên chở ủy quyền =&gt; phải ký, ghi rõ tên, địa chỉ công ty và tư cách pháp lý của mình trên vận đơn</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ed by Mr… as the carrier</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ed by Mr… as the Master</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ed by Vietfract as agent for the carrier</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ed by Mr… on behalf of Mr… as the Master</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ời điểm cấp vận đơn:</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au khi hàng hóa được xếp lên tàu</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au khi nhận hàng để xếp</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được cấp vận đơn: người gửi hàng (người Xk hoặc người được người XK ủy thác</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ức nă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ường biển là bằng chứng xác nhận một hợp đồng chuyên chở hàng hóa bằng đường biển đã được ký kết</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ường biển là biên lai nhận hàng để chở của người chuyên chở phát hành cho người gửi hà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ường biển là chứng từ xác nhận quyền sở hữu hàng hóa ghi trên vận đơn</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Vận đơn đường biển (Bill of Lading-B/L</a:t>
            </a:r>
            <a:endParaRPr b="0" lang="en-US" sz="3200" spc="-1" strike="noStrike">
              <a:solidFill>
                <a:srgbClr val="000000"/>
              </a:solidFill>
              <a:latin typeface="Times New Roman"/>
            </a:endParaRPr>
          </a:p>
        </p:txBody>
      </p:sp>
      <p:sp>
        <p:nvSpPr>
          <p:cNvPr id="193"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2.2. Tác dụng của B/L</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ối với người gửi hàng:</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dùng B/L làm bằng chứng đã giao hàng cho người mua thông qua người chuyên chở</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dùng B/L để chứng minh với người mua về tình trạng hàng hoá</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B/L cùng các chứng từ khác lập thành bộ chứng từ thanh toán tiền hàng</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ối với người vận chuyển:</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dùng B/L để phát hành cho người gửi hàng khi nhận hàng để chở</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 </a:t>
            </a:r>
            <a:r>
              <a:rPr b="0" lang="en-US" sz="1800" spc="-1" strike="noStrike">
                <a:solidFill>
                  <a:srgbClr val="333300"/>
                </a:solidFill>
                <a:latin typeface="Arial"/>
              </a:rPr>
              <a:t>dùng B/L để giao hàng ở cảng đến</a:t>
            </a:r>
            <a:r>
              <a:rPr b="1" lang="en-US" sz="1800" spc="-1" strike="noStrike">
                <a:solidFill>
                  <a:srgbClr val="333300"/>
                </a:solidFill>
                <a:latin typeface="Arial"/>
              </a:rPr>
              <a:t> </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ối với người nhận hàng</a:t>
            </a:r>
            <a:endParaRPr b="1" lang="en-US" sz="20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xuất trình để nhận hàng</a:t>
            </a:r>
            <a:r>
              <a:rPr b="1" lang="en-US" sz="1900" spc="-1" strike="noStrike">
                <a:solidFill>
                  <a:srgbClr val="333300"/>
                </a:solidFill>
                <a:latin typeface="Arial"/>
              </a:rPr>
              <a:t> </a:t>
            </a:r>
            <a:endParaRPr b="1" lang="en-US" sz="19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XĐ lượng hàng hoá ng bán giao cho mình</a:t>
            </a:r>
            <a:endParaRPr b="1" lang="en-US" sz="19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làm chứng từ cầm cố thế chấp chuyển nhượng </a:t>
            </a:r>
            <a:endParaRPr b="1" lang="en-US" sz="19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làm chứng từ trong bộ hồ sơ khiếu nại </a:t>
            </a:r>
            <a:endParaRPr b="1" lang="en-US" sz="1900" spc="-1" strike="noStrike">
              <a:solidFill>
                <a:srgbClr val="333300"/>
              </a:solidFill>
              <a:latin typeface="Arial"/>
            </a:endParaRPr>
          </a:p>
          <a:p>
            <a:pPr lvl="1" marL="743040" indent="-285840">
              <a:lnSpc>
                <a:spcPct val="80000"/>
              </a:lnSpc>
              <a:spcBef>
                <a:spcPts val="476"/>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00"/>
                </a:solidFill>
                <a:latin typeface="Arial"/>
              </a:rPr>
              <a:t>dùng VĐ làm chứng từ hoàn tất thủ tục XNK</a:t>
            </a:r>
            <a:endParaRPr b="1" lang="en-US" sz="19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195" name="PlaceHolder 2"/>
          <p:cNvSpPr>
            <a:spLocks noGrp="1"/>
          </p:cNvSpPr>
          <p:nvPr>
            <p:ph/>
          </p:nvPr>
        </p:nvSpPr>
        <p:spPr>
          <a:xfrm>
            <a:off x="1500120" y="1066680"/>
            <a:ext cx="7491600" cy="55627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 Phân loại vận đơn</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1. Căn cứ vào khả năng lưu thông của vận đơn (quyền chuyển nhượng, sở hữu hàng hóa ghi trên vận đơn)</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ích danh (Straight B/L): là loại vận đơn trên đó người ta ghi rõ tên và địa chỉ người nhận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ỉ người nào có tên và địa chỉ đúng như trên B/L mới nhận được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ông chuyển nhượng được cho người khác bằng cách ký hậu chuyển nhượng</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ỉ được sử dụng trong 1 số ít trường hợp: hàng cá nhân gửi cá nhân, hàng quà biếu, hàng triển lãm, hàng công ty mẹ gửi công ty con.</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theo lệnh (To order B/L): là loại B/L trên đó không ghi tên và địa chỉ người nhận hàng mà chỉ ghi “theo lệnh” (to order) hoặc có ghi tên của người nhận hàng nhưng đồng thời ghi thêm “hoặc theo lệnh” (or to order)</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nào được quyền đi nhận hàng là tùy thuộc vào người ra lệnh</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ại mục người nhận hàng (Consignee) có thể ghi:</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To order of shipper- theo lệnh của người gửi hàng</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To order of consignee- theo lệnh của người nhận hàng</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To order of bank- theo lệnh của ngân hàng thanh toán</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theo lệnh được dùng rất phổ biến trong buôn bán và vận tải quốc tế, có thể chuyển nhượng được bằng cách ký hậu.</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197" name="PlaceHolder 2"/>
          <p:cNvSpPr>
            <a:spLocks noGrp="1"/>
          </p:cNvSpPr>
          <p:nvPr>
            <p:ph/>
          </p:nvPr>
        </p:nvSpPr>
        <p:spPr>
          <a:xfrm>
            <a:off x="1500120" y="1066680"/>
            <a:ext cx="7491600" cy="563904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Ký hậu (endorsement): là một thủ tục chuyển nhượng quyền sở hữu hàng hóa ghi trên B/L từ người hưởng lợi này sang người hưởng lợi khác.</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Người ký hậu phải ký tên, đóng dấu vào mặt sau B/L và trao cho người hưởng lợi</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Về mặt pháp lý, hành vi ký hậu của người ký tên trên B/L thừa nhận việc từ bỏ quyền sở hữu hàng hóa ghi trên B/L cho người được hưởng.</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Người ký hậu phải tuân thủ các quy định:</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Ký hậu bằng ngôn ngữ của chính người hưởng lợi trên B/L</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Phải ký vào chính B/L gốc</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Phải thể hiện rõ ý chí về việc chuyển nhượng  quyền sở hữu B/L</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ác cách ký hậ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ý hậu đích danh: mặt sau của B/L gốc, người ký hậu ghi rõ tên người hưởng lợi, ký và đóng dấu xác nhận</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ý hậu theo lệnh: mặt sau của B/L gốc, người ký hậu ghi “theo lệnh của…”</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ý hậu vô danh/để trống: mặt sau của B/L gốc, người ký hậu chỉ ghi tên mình, ký và đóng dấu xác nhận hoặc ghi rõ là để trố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ý hậu miễn truy đòi (without recourse)</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00120" y="228600"/>
            <a:ext cx="74916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199" name="PlaceHolder 2"/>
          <p:cNvSpPr>
            <a:spLocks noGrp="1"/>
          </p:cNvSpPr>
          <p:nvPr>
            <p:ph/>
          </p:nvPr>
        </p:nvSpPr>
        <p:spPr>
          <a:xfrm>
            <a:off x="1500120" y="1066320"/>
            <a:ext cx="7491600" cy="5172120"/>
          </a:xfrm>
          <a:prstGeom prst="rect">
            <a:avLst/>
          </a:prstGeom>
          <a:noFill/>
          <a:ln w="0">
            <a:noFill/>
          </a:ln>
        </p:spPr>
        <p:txBody>
          <a:bodyPr lIns="92160" rIns="92160" tIns="46080" bIns="46080" anchor="t">
            <a:normAutofit fontScale="97000"/>
          </a:bodyPr>
          <a:p>
            <a:pPr marL="332640" indent="-33264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vô danh (to bearer B/L): là loại B/L trên đó không ghi tên người nhận hàng, hoặc ghi rõ là vô danh, hoặc phát hành theo lệnh nhưng không ghi rõ là theo lệnh của ai, hoặc phát hành theo lệnh cho một người hưởng lợi nhưng người đó đã ký hậu vận đơn và không chỉ định một người hưởng lợi khác</a:t>
            </a:r>
            <a:endParaRPr b="1" lang="en-US" sz="1600" spc="-1" strike="noStrike">
              <a:solidFill>
                <a:srgbClr val="3333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2. Căn cứ vào việc xếp hàng</a:t>
            </a:r>
            <a:endParaRPr b="1" lang="en-US" sz="1600" spc="-1" strike="noStrike">
              <a:solidFill>
                <a:srgbClr val="333300"/>
              </a:solidFill>
              <a:latin typeface="Arial"/>
            </a:endParaRPr>
          </a:p>
          <a:p>
            <a:pPr marL="332640" indent="-33264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ã xếp hàng (shipped on board B/L): là loại B/L được cấp sau khi hàng hóa đã được xếp lên tàu. Trên B/L thường thể hiện:</a:t>
            </a:r>
            <a:endParaRPr b="1" lang="en-US" sz="1600" spc="-1" strike="noStrike">
              <a:solidFill>
                <a:srgbClr val="333300"/>
              </a:solidFill>
              <a:latin typeface="Arial"/>
            </a:endParaRPr>
          </a:p>
          <a:p>
            <a:pPr lvl="1" marL="720720" indent="-27720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hipped On Board</a:t>
            </a:r>
            <a:endParaRPr b="1" lang="en-US" sz="1600" spc="-1" strike="noStrike">
              <a:solidFill>
                <a:srgbClr val="333300"/>
              </a:solidFill>
              <a:latin typeface="Arial"/>
            </a:endParaRPr>
          </a:p>
          <a:p>
            <a:pPr lvl="1" marL="720720" indent="-27720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On Board</a:t>
            </a:r>
            <a:endParaRPr b="1" lang="en-US" sz="1600" spc="-1" strike="noStrike">
              <a:solidFill>
                <a:srgbClr val="333300"/>
              </a:solidFill>
              <a:latin typeface="Arial"/>
            </a:endParaRPr>
          </a:p>
          <a:p>
            <a:pPr lvl="1" marL="720720" indent="-27720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hipped</a:t>
            </a:r>
            <a:endParaRPr b="1" lang="en-US" sz="1600" spc="-1" strike="noStrike">
              <a:solidFill>
                <a:srgbClr val="333300"/>
              </a:solidFill>
              <a:latin typeface="Arial"/>
            </a:endParaRPr>
          </a:p>
          <a:p>
            <a:pPr lvl="1" marL="720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t; Có giá trị chứng cứ rất lớn- chứng tỏ hàng hóa đã được xếp lên tàu và người bán đã hoàn thành trách nhiệm giao hàng cho người mua theo hợp đồng mua bán, đặc biệt khi mua bán theo các điều kiện FOB, CIF, CFR (incoterms 2000)</a:t>
            </a:r>
            <a:endParaRPr b="1" lang="en-US" sz="1600" spc="-1" strike="noStrike">
              <a:solidFill>
                <a:srgbClr val="333300"/>
              </a:solidFill>
              <a:latin typeface="Arial"/>
            </a:endParaRPr>
          </a:p>
          <a:p>
            <a:pPr marL="332640" indent="-33264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nhận hàng để xếp (Received for shipment B/L): là loại B/L được phát hành sau khi người chuyên chở nhận hàng, cam kết sẽ xếp hàng và vận chuyển hàng hóa bằng con tàu ghi trên B/L</a:t>
            </a:r>
            <a:endParaRPr b="1" lang="en-US" sz="1600" spc="-1" strike="noStrike">
              <a:solidFill>
                <a:srgbClr val="3333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ường được phát hành:</a:t>
            </a:r>
            <a:endParaRPr b="1" lang="en-US" sz="1600" spc="-1" strike="noStrike">
              <a:solidFill>
                <a:srgbClr val="333300"/>
              </a:solidFill>
              <a:latin typeface="Arial"/>
            </a:endParaRPr>
          </a:p>
          <a:p>
            <a:pPr marL="332640" indent="-33264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àng hóa đã được giao cho người chuyên chở nhưng tàu chưa đến hoặc tàu đã đến nhưng chưa đủ điều kiện để xếp hàng</a:t>
            </a:r>
            <a:endParaRPr b="1" lang="en-US" sz="1600" spc="-1" strike="noStrike">
              <a:solidFill>
                <a:srgbClr val="333300"/>
              </a:solidFill>
              <a:latin typeface="Arial"/>
            </a:endParaRPr>
          </a:p>
          <a:p>
            <a:pPr marL="332640" indent="-33264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iệc bán hàng thông qua nhiều người trung gian: người gom hàng, người giao nhận</a:t>
            </a:r>
            <a:endParaRPr b="1" lang="en-US" sz="1600" spc="-1" strike="noStrike">
              <a:solidFill>
                <a:srgbClr val="333300"/>
              </a:solidFill>
              <a:latin typeface="Arial"/>
            </a:endParaRPr>
          </a:p>
          <a:p>
            <a:pPr marL="332640" indent="-33264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iao hàng từ kho đến kho</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ài liệu tham khảo</a:t>
            </a:r>
            <a:endParaRPr b="0" lang="en-US" sz="3200" spc="-1" strike="noStrike">
              <a:solidFill>
                <a:srgbClr val="000000"/>
              </a:solidFill>
              <a:latin typeface="Times New Roman"/>
            </a:endParaRPr>
          </a:p>
        </p:txBody>
      </p:sp>
      <p:sp>
        <p:nvSpPr>
          <p:cNvPr id="16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ông ước quốc tế để thống nhất một số quy tắc về vân đơn đường biển (International Convention for the unification of certain rules relating to Bills of lading)- Công ước Brussel 1924/ Quy tắc Hague</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ghị định thư sửa đổi Công ước quốc tế để thống nhất một số quy tắc về vận đơn đường biển- Quy tắc Hague Visby 1968</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ghị định thư SDR 1979</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ông ước của Liên hiệp quốc về chuyên chở hàng hóa bằng đường biển (United Nation Convention on the carriage of goods by sea)- Công ước/ Quy tắc Hamburg 1978</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Bộ luật hàng hải Việt nam (14/06/2005)</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Hợp đồng mẫu GENCON</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201" name="PlaceHolder 2"/>
          <p:cNvSpPr>
            <a:spLocks noGrp="1"/>
          </p:cNvSpPr>
          <p:nvPr>
            <p:ph/>
          </p:nvPr>
        </p:nvSpPr>
        <p:spPr>
          <a:xfrm>
            <a:off x="1500120" y="914400"/>
            <a:ext cx="7491600" cy="5943600"/>
          </a:xfrm>
          <a:prstGeom prst="rect">
            <a:avLst/>
          </a:prstGeom>
          <a:noFill/>
          <a:ln w="0">
            <a:noFill/>
          </a:ln>
        </p:spPr>
        <p:txBody>
          <a:bodyPr lIns="92160" rIns="92160" tIns="46080" bIns="4608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2.2.3. Căn cứ vào nhận xét, ghi chú trên B/L</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Vận đơn sạch/ hoàn hảo (Clean B/L): là loại B/L trên đó không có ghi chú xấu hay ghi chú bảo lưu của thuyền trưởng về hàng hóa hoặc tình trạng bên ngoài của hàng hóa</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h thể hiện:</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a:t>
            </a:r>
            <a:r>
              <a:rPr b="1" lang="en-US" sz="1400" spc="-1" strike="noStrike">
                <a:solidFill>
                  <a:srgbClr val="333300"/>
                </a:solidFill>
                <a:latin typeface="Arial"/>
              </a:rPr>
              <a:t>- Đóng dấu chữ “Clean” lên phần nhận xét về hàng hóa hoặc bao bì</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a:t>
            </a:r>
            <a:r>
              <a:rPr b="1" lang="en-US" sz="1400" spc="-1" strike="noStrike">
                <a:solidFill>
                  <a:srgbClr val="333300"/>
                </a:solidFill>
                <a:latin typeface="Arial"/>
              </a:rPr>
              <a:t>- Không có phê chú gì lên B/L</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a:t>
            </a:r>
            <a:r>
              <a:rPr b="1" lang="en-US" sz="1400" spc="-1" strike="noStrike">
                <a:solidFill>
                  <a:srgbClr val="333300"/>
                </a:solidFill>
                <a:latin typeface="Arial"/>
              </a:rPr>
              <a:t>- Có phê chú nhưng không làm mất tính hoàn hảo của B/L</a:t>
            </a:r>
            <a:endParaRPr b="1" lang="en-US" sz="1400" spc="-1" strike="noStrike">
              <a:solidFill>
                <a:srgbClr val="333300"/>
              </a:solidFill>
              <a:latin typeface="Arial"/>
            </a:endParaRPr>
          </a:p>
          <a:p>
            <a:pPr marL="343080" indent="-34308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ó giá trị chứng cứ lớn, chứng tỏ người bán đã hoàn thành nghĩa vụ giao hàng đúng như số lượng và tình trạng hàng hóa như lúc nhận từ người gửi hàng</a:t>
            </a:r>
            <a:endParaRPr b="1" lang="en-US" sz="1400" spc="-1" strike="noStrike">
              <a:solidFill>
                <a:srgbClr val="333300"/>
              </a:solidFill>
              <a:latin typeface="Arial"/>
            </a:endParaRPr>
          </a:p>
          <a:p>
            <a:pPr marL="343080" indent="-34308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mua và ngân hàng thanh toán chỉ chấp nhận thanh toán tiền hàng khi có B/L sạch.</a:t>
            </a:r>
            <a:endParaRPr b="1" lang="en-US" sz="1400" spc="-1" strike="noStrike">
              <a:solidFill>
                <a:srgbClr val="333300"/>
              </a:solidFill>
              <a:latin typeface="Arial"/>
            </a:endParaRPr>
          </a:p>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Vận đơn không hoàn hảo (Unclean B/L): là loại B/L trên đó có phê chú xấu hay phê chú phản đối hay phê chú bảo lưu  của thuyền trưởng về hàng hóa hoặc tình trạng của hàng hóa</a:t>
            </a:r>
            <a:endParaRPr b="1" lang="en-US" sz="1400" spc="-1" strike="noStrike">
              <a:solidFill>
                <a:srgbClr val="333300"/>
              </a:solidFill>
              <a:latin typeface="Arial"/>
            </a:endParaRPr>
          </a:p>
          <a:p>
            <a:pPr marL="343080" indent="-34308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ếu không có quy định gì khác thì người mua và ngân hàng thanh toán không chấp nhận trả tiên hàng đối với B/L không hoàn hảo.</a:t>
            </a:r>
            <a:endParaRPr b="1" lang="en-US" sz="1400" spc="-1" strike="noStrike">
              <a:solidFill>
                <a:srgbClr val="333300"/>
              </a:solidFill>
              <a:latin typeface="Arial"/>
            </a:endParaRPr>
          </a:p>
          <a:p>
            <a:pPr marL="343080" indent="-34308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h khắc phục để lấy được Clean B/L:</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ay thể hoặc bổ sung hàng hóa trong trường hợp hàng hóa bị hỏng hoặc bị thiêu</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Sửa chữa hàng hóa nếu không có hàng thay thể hoặc hàng hóa có thể sửa chữa được</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Lập thư đảm bảo (Letter of Indemnity) cho phần hàng tổn thất để thanh toán phần hàng hoàn hảo (người XK viết cho người chuyên chở trong đó cam đoan bồi thường cho người chuyên chở khi hàng hóa bị tổn thất do những nguyên nhân bảo lưu mà người chuyên chở muốn ghi trên B/L nhưng đã không ghi vì có thư bảo đảm)</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500120" y="228600"/>
            <a:ext cx="74916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203" name="PlaceHolder 2"/>
          <p:cNvSpPr>
            <a:spLocks noGrp="1"/>
          </p:cNvSpPr>
          <p:nvPr>
            <p:ph/>
          </p:nvPr>
        </p:nvSpPr>
        <p:spPr>
          <a:xfrm>
            <a:off x="1500120" y="1142640"/>
            <a:ext cx="7491600" cy="50958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4. Căn cứ vào hành trình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i thẳng (Direct B/L): là loại B/L được cấp khi hàng hóa được chuyên chở thẳng từ cảng xếp hàng đến cảng dỡ hàng mà không có chuyển tải dọc đườ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chở suốt (Through B/L): là loại B/L được cấp  khi hàng hóa được chuyên chở qua nhiều chặng (bằng hai hay nhiều con tàu của hai hay nhiều người chuyên chở) nhưng do một người phát hành và chịu trách nhiệm về hàng hóa từ điểm đầu đến điểm cuối của hành trình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vận tải đa phương thức (Multimodal Transport B/L): là loại B/L được cấp khi hàng hóa được chuyên chở từ nơi này đến nơi khác bằng hai hay nhiều phương thức vận tải khác nhau</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5. Căn cứ vào phương thức thuê tàu</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tàu chợ: là loại B/L được cấp khi hàng hóa được chuyên chở bằng tàu chợ</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theo hợp đồng thuê tàu (Charter party B/L): là loại B/L được cấp khi hàng hóa được chuyên chở bằng một hợp đồng thuê tàu (tàu chuyến, tàu định hạn)</a:t>
            </a:r>
            <a:endParaRPr b="1" lang="en-US" sz="16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ên B/L thường có ghi: phụ thuộc vào hợp đồng thuê tàu hoặc sử dụng với hợp đồng thuê tàu (to be used with charter party)</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2.6. Một số loại vận đơn khác</a:t>
            </a:r>
            <a:endParaRPr b="1" lang="en-US" sz="1600" spc="-1" strike="noStrike">
              <a:solidFill>
                <a:srgbClr val="333300"/>
              </a:solidFill>
              <a:latin typeface="Arial"/>
            </a:endParaRPr>
          </a:p>
          <a:p>
            <a:pPr marL="343080" indent="-34308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iấy gửi hàng đường biển (Sea Waybill)</a:t>
            </a:r>
            <a:endParaRPr b="1" lang="en-US" sz="1600" spc="-1" strike="noStrike">
              <a:solidFill>
                <a:srgbClr val="333300"/>
              </a:solidFill>
              <a:latin typeface="Arial"/>
            </a:endParaRPr>
          </a:p>
          <a:p>
            <a:pPr marL="343080" indent="-34308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ận đơn đã xuất trình tại cảng gửi.</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ận đơn đường biển (Bill of Lading-B/L)</a:t>
            </a:r>
            <a:br>
              <a:rPr sz="2800"/>
            </a:br>
            <a:endParaRPr b="0" lang="en-US" sz="2800" spc="-1" strike="noStrike">
              <a:solidFill>
                <a:srgbClr val="000000"/>
              </a:solidFill>
              <a:latin typeface="Times New Roman"/>
            </a:endParaRPr>
          </a:p>
        </p:txBody>
      </p:sp>
      <p:sp>
        <p:nvSpPr>
          <p:cNvPr id="205" name="PlaceHolder 2"/>
          <p:cNvSpPr>
            <a:spLocks noGrp="1"/>
          </p:cNvSpPr>
          <p:nvPr>
            <p:ph/>
          </p:nvPr>
        </p:nvSpPr>
        <p:spPr>
          <a:xfrm>
            <a:off x="1500120" y="914400"/>
            <a:ext cx="7491600" cy="594360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3. Nội dung B/L</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3.1. Mặt trước</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hipper- người gửi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onsignee- người nhận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otify party/ notify address- địa chỉ thông báo</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Vessel- tàu</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ort of loading- cảng xếp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Port of discharge- cảng dỡ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oods- Hàng hóa</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Freight and Charge- thông tin về cước phí</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umber of Original- số bản vận đơn gốc</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ate and Place of issue- Ngày và nơi phát hành</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ignature- chữ ký</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3.2. Mặt sau</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ác khái niệm</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ách nhiệm của người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iễn trách của người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Quy định về xếp, dỡ, bảo quản hàng hóa</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ước phí và phụ phí</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về chiến tranh, đình công, bạo động, nổi loạn dân sự</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về chậm giao hà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về tổn thất chung</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hai tàu đâm va nhau cùng có lỗi</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tối cao</a:t>
            </a:r>
            <a:endParaRPr b="1" lang="en-US" sz="1600" spc="-1" strike="noStrike">
              <a:solidFill>
                <a:srgbClr val="3333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2.4. Nguồn luật điều chỉnh B/L</a:t>
            </a:r>
            <a:endParaRPr b="0" lang="en-US" sz="4000" spc="-1" strike="noStrike">
              <a:solidFill>
                <a:srgbClr val="000000"/>
              </a:solidFill>
              <a:latin typeface="Times New Roman"/>
            </a:endParaRPr>
          </a:p>
        </p:txBody>
      </p:sp>
      <p:sp>
        <p:nvSpPr>
          <p:cNvPr id="20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ông ước quốc tế để thống nhất một số quy tắc về vân đơn đường biển (International Convention for the unification of certain rules relating to Bills of lading)- Công ước Brussel 1924/ Quy tắc Hague</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ghị định thư sửa đổi Công ước quốc tế để thống nhất một số quy tắc về vận đơn đường biển- Quy tắc Hague Visby 1968</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ghị định thư SDR 1979</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ông ước của Liên hiệp quốc về chuyên chở hàng hóa bằng đường biển (United Nation Convention on the carriage of goods by sea)- Công ước/ Quy tắc Hamburg 1978</a:t>
            </a:r>
            <a:endParaRPr b="1" lang="en-US" sz="24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Bộ luật hàng hải Việt nam</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0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5.1. Thời hạn trách nhiệm (Period of Responsibility): là một khoảng thời gian và không gian mà người chuyên chở phải chịu trách nhiệm về những mất mát, hư hỏng của hàng hóa</a:t>
            </a:r>
            <a:endParaRPr b="1" lang="en-US" sz="1600" spc="-1" strike="noStrike">
              <a:solidFill>
                <a:srgbClr val="333300"/>
              </a:solidFill>
              <a:latin typeface="Arial"/>
            </a:endParaRPr>
          </a:p>
          <a:p>
            <a:pPr marL="339480" indent="-3394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eo Công ước Brussel 1924 và NĐT Visby 1968:</a:t>
            </a:r>
            <a:endParaRPr b="1" lang="en-US" sz="16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huyên chở chịu trách nhiệm đối với hàng hóa kể từ khi hàng hóa được xếp lên tàu tại cảng đi cho đến khi hàng hóa được dỡ ra khỏi tàu tại cảng đến</a:t>
            </a:r>
            <a:endParaRPr b="1" lang="en-US" sz="1400" spc="-1" strike="noStrike">
              <a:solidFill>
                <a:srgbClr val="333300"/>
              </a:solidFill>
              <a:latin typeface="Arial"/>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gt; Thời hạn trách nhiệm từ móc cẩu đến móc cẩu (from tackle to tackle)</a:t>
            </a:r>
            <a:endParaRPr b="1" lang="en-US" sz="1400" spc="-1" strike="noStrike">
              <a:solidFill>
                <a:srgbClr val="333300"/>
              </a:solidFill>
              <a:latin typeface="Arial"/>
            </a:endParaRPr>
          </a:p>
          <a:p>
            <a:pPr marL="339480" indent="-3394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eo Công ước Hamburg 1978:</a:t>
            </a:r>
            <a:endParaRPr b="1" lang="en-US" sz="16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huyên chở chịu trách nhiệm đối với hàng hóa kể từ khi nhận hàng để chở ở cảng xếp hàng cho đến khi giao xong hàng ở cảng dỡ hàng</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ời hạn trách nhiệm từ khi nhận đến khi giao</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huyên chở được coi như đã nhận hàng để chở khi nhận hàng từ:</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gửi hàng hoặc người thay mặt người gửi hàng</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ột cơ quan có thẩm quyền hoặc một người thứ ba mà theo luật lệ hoặc quy định tại cảng xếp hàng thì hàng hóa phải giao cho người đó</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huyên chở được coi như đã giao hàng cho người nhận khi giao hàng cho:</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nhận hàng hoặc người thay mặt người nhận hàng</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Đặt hàng hóa dưới sự định đoạt của người nhận hàng phù hợp với hợp đồng, luật lệ hay tập quán buôn bán mặt hàng đó tại cảng dỡ</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ột cơ quan có thẩm quyền hoặc một người thứ ba mà theo luật lệ hoặc quy định tại cảng dỡ hàng thì hàng hóa phải nhận từ người đó</a:t>
            </a:r>
            <a:endParaRPr b="1" lang="en-US" sz="1400" spc="-1" strike="noStrike">
              <a:solidFill>
                <a:srgbClr val="3333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1" name="PlaceHolder 2"/>
          <p:cNvSpPr>
            <a:spLocks noGrp="1"/>
          </p:cNvSpPr>
          <p:nvPr>
            <p:ph/>
          </p:nvPr>
        </p:nvSpPr>
        <p:spPr>
          <a:xfrm>
            <a:off x="1500120" y="1523880"/>
            <a:ext cx="7491600" cy="502920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2.5.2. Cơ sở trách nhiệm (basis of liability): trách nhiệm của người chuyên chở về những mất mát, hư hỏng của hàng hóa</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heo Công ước Brussel 1924 và NĐT Visby 1968: người chuyên chở phải chịu trách nhiệm về những thiệt hại do mất mát, hư hỏng của hàng hóa khi hàng hóa còn thuộc trách nhiệm của người chuyên chở</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heo Công ước Hamburg 1978: người chuyên chở phải chịu trách nhiệm về thiệt hại do mất mát, hư hỏng của hàng hóa và chậm giao hàng khi hàng hóa còn thuộc trách nhiệm của người chuyên chở</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Hàng hóa bị coi là chậm giao nếu không được giao tại cảng dỡ hàng quy định trong hợp đồng chuyên chở hàng hóa bằng đường biển trong thời gian đã thỏa thuận rõ ràng hoặc nếu không có thỏa thuận như vậy thì là trong thời gian hợp lý một người chuyên chở cần mẫn phải giao, có tính đến hoàn cảnh của sự việc.</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Hàng bị coi là mất nếu không được giao như trên trong thời hạn 60 ngày liên tục kể từ ngày hết thời hạn giao hàng quy định</a:t>
            </a:r>
            <a:endParaRPr b="1" lang="en-US" sz="1800" spc="-1" strike="noStrike">
              <a:solidFill>
                <a:srgbClr val="3333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ững trách nhiệm chính của người chuyên chở</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Công ước Brussel 1924 và NĐT Visby 1968: 3 trách nhiệm chính:</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ung cấp tàu có đủ khả năng đi biển:</a:t>
            </a:r>
            <a:endParaRPr b="1" lang="en-US" sz="16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phải bền chắc, kín nước, chịu được sóng gió trong điều kiện thông thường</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phải thích hợp cho việc chuyên chở hàng hóa</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ược cung ứng đầy đủ về nhiên liệu, biên chế đầy đủ về thủy thủ</a:t>
            </a:r>
            <a:endParaRPr b="1" lang="en-US" sz="14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ách nhiệm thương mại: người chuyên chở phải tiến hành một cách thích hợp và cẩn thận việc xếp, dịch chuyển, sắp xếp, chuyên chở, coi giữ, chăm sóc và dỡ những hàng hóa được chuyên chở</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ách nhiệm cung cấp B/L: sau khi nhận hàng từ người gửi hàng tại cảng xếp hàng quy định phải phát hành B/L cho người gửi hàng</a:t>
            </a:r>
            <a:endParaRPr b="1" lang="en-US" sz="16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Công ước Hamburg 1978: quy định trách nhiệm của người chuyên chở dựa trên nguyên tắc “lỗi hay sơ suất suy đoán”- Presumed Fault or Neglect</a:t>
            </a:r>
            <a:endParaRPr b="1" lang="en-US" sz="1800" spc="-1" strike="noStrike">
              <a:solidFill>
                <a:srgbClr val="3333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5"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343080">
              <a:lnSpc>
                <a:spcPct val="80000"/>
              </a:lnSpc>
              <a:spcBef>
                <a:spcPts val="374"/>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Miễn trách cho người chuyên chở:</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eo Công ước Brussel 1924 và NĐT Visby 1968: người chuyên chở được hưởng 17 trường hợp miễn trác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1) Hành vi sơ suất hay khuyết điểm của thuyền trưởng, thủy thủ, hoa tiêu hay người giúp việc cho người chuyên chở trong thuật đi biển và quản trị tàu.</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ật đi biển (Navigation) là những hành động có liên quan đến việc điều khiển tàu chạy hoặc đỗ</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Quản trị tàu (Management of ship) là hành động có liên quan đến việc quản lý và chăm sóc tàu trong hành trìn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2) Cháy, trừ khi do lỗi lầm thực sự hay hành động cố ý của người chuyên chở gây nên</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 Tai họa, nguy hiểm, tai nạn của biển gây ra</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4) Thiên tai</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5) Hành động chiến tran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6) Hành động thù địc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7) Tàu và hàng hóa bị cầm giữ, bị câu thúc do lệnh của vua chúa, chính quyền nhân dân hoặc bị tịch thu do lệnh của tòa án.</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8) Hạn chế về kiểm dịch</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9) Đình công, cấm xưởng hoặc lao động bị ngưng trệ vì bất cứ nguyên nhân nào, xảy ra toàn bộ hay cục bộ</a:t>
            </a:r>
            <a:endParaRPr b="1" lang="en-US" sz="1500" spc="-1" strike="noStrike">
              <a:solidFill>
                <a:srgbClr val="333300"/>
              </a:solidFill>
              <a:latin typeface="Arial"/>
            </a:endParaRPr>
          </a:p>
          <a:p>
            <a:pPr lvl="1" marL="74304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10) Hành vi hay thiếu sót của chủ hàng, của đại lý hoặc đại diện của chủ hàng</a:t>
            </a:r>
            <a:endParaRPr b="1" lang="en-US" sz="15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1) Bạo động hay nổi loạn</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2) Cứu hay cố ý cứu sinh mạng và tài sản trên biển</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3) Hao hụt về trọng lượng hoặc khối lượng hoặc hư hỏng do nội tỳ, ẩn tỳ hoặc bản chất đặc biệt của hàng hóa</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4) Bao bì không đầy đủ</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5) Ký mã hiệu không đầy đủ hoặc sai</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6) Do ẩn tỳ của tàu mà bằng sự cần mẫn hợp lý không phát hiện ra được</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17) Mọi nguyên nhân khác không phải do lỗi lầm hoặc trách nhiệm của người chuyên chở hoặc lỗi lầm do sơ suất của đại lý hay nhân viên của người chuyên chở</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Công ước Hamburg 1978: không liệt kê các trường hợp miễn trách cho người chuyên chở mà dưa trên nguyên tắc suy đoán lỗi=&gt; người chuyên chở được miễn trách nếu chứng minh được mình đã áp dụng mọi biện pháp cần thiết hợp lý nhằm ngăn ngừa tổn thất và tổn thất không do lỗi lầm hay sơ suất của mình gây nên.</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t; Trách nhiệm chứng minh lỗi thuộc về người chuyên chở</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19"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2.5.3. Giới hạn trách nhiệm (Limit of Liability): là số tiền tối đa mà người chuyên chở phải bồi thường cho một đơn vị hàng hóa bị tổn thất trong trường hợp giá trị hàng hóa không được kê khai trên B/L hay chứng từ vận tải.</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Công ước Brussel 1924: 100GBP/ kiện hay đơn vị hàng hóa bị mất mát, hư hỏng</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eo NĐT Visby 1968: 10 000Franc vàng /kiện, đơn vị hàng hóa hoặc 30 Franc vàng/ kg hàng hóa cả bì bị mất mát hư hỏng tùy theo cách tính nào có lợi chủ hàng lựa chọn</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Franc vàng là đồng tiền có chứa 65.5 mg vàng với độ nguyên chất là 900/1000</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ối với hàng hóa chuyên chở trong Container:</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Đơn vị hàng hóa là đơn vị tính cước</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ếu có kê khai trên B/L số lượng gói, bao, kiện… đóng trong các đơn vị đó thì các kiện, bao, gói đó được coi là đơn vị tính cước (số bồi thường = số kê khai)</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ếu không kê khai thì tất cả Container được tính là một đơn vị để bồi thường.</a:t>
            </a:r>
            <a:endParaRPr b="1" lang="en-US" sz="14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ĐT SDR 1979: 666.67 SDR/kiện, đơn vị hàng hóa, hoặc 2SDR/kg hàng hóa cả bì bị mất mát hư hỏng tùy theo cách tính nào có lợi chủ hàng lựa chọn</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I. </a:t>
            </a:r>
            <a:r>
              <a:rPr b="0" lang="en-US" sz="4000" spc="-1" strike="noStrike">
                <a:solidFill>
                  <a:srgbClr val="000000"/>
                </a:solidFill>
                <a:latin typeface="Arial"/>
              </a:rPr>
              <a:t>Đặc điểm của vận tải đường biển</a:t>
            </a:r>
            <a:endParaRPr b="0" lang="en-US" sz="4000" spc="-1" strike="noStrike">
              <a:solidFill>
                <a:srgbClr val="000000"/>
              </a:solidFill>
              <a:latin typeface="Times New Roman"/>
            </a:endParaRPr>
          </a:p>
        </p:txBody>
      </p:sp>
      <p:sp>
        <p:nvSpPr>
          <p:cNvPr id="16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1. Ưu điểm</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ác tuyến đường vận tải hầu hết là các tuyến đường giao thông tự nhiên</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Năng lực vận chuyển rất lớn</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Giá thành thấp</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hích hợp với việc vận chuyển hầu hết các loại hàng hóa trong buôn bán quốc tế</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iêu thụ nhiên liệu trên một tấn trọng tải thấp</a:t>
            </a:r>
            <a:endParaRPr b="1" lang="en-US" sz="2400" spc="-1" strike="noStrike">
              <a:solidFill>
                <a:srgbClr val="33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2. Nhược điểm</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Phụ thuộc nhiều vào điều kiện tự nhiên và điều kiện hàng hải</a:t>
            </a:r>
            <a:endParaRPr b="1" lang="en-US" sz="2400" spc="-1" strike="noStrike">
              <a:solidFill>
                <a:srgbClr val="333300"/>
              </a:solidFill>
              <a:latin typeface="Arial"/>
            </a:endParaRPr>
          </a:p>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Tốc độ vận chuyển chậm</a:t>
            </a:r>
            <a:endParaRPr b="1" lang="en-US" sz="2400" spc="-1" strike="noStrike">
              <a:solidFill>
                <a:srgbClr val="3333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21" name="PlaceHolder 2"/>
          <p:cNvSpPr>
            <a:spLocks noGrp="1"/>
          </p:cNvSpPr>
          <p:nvPr>
            <p:ph/>
          </p:nvPr>
        </p:nvSpPr>
        <p:spPr>
          <a:xfrm>
            <a:off x="1500120" y="1523880"/>
            <a:ext cx="7491600" cy="502920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heo Công ước Hamburg 1978:</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Hàng hóa bị mất mát, hư hỏng: 835 SDR/kiện, đơn vị hoặc 2.5SDR/kg hàng hóa cả bì tùy theo cách tính nào có lợi chủ hàng lựa chọ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ối với các nước không phải là thành viên của IMF hoặc những nước luật lệ không cho phép sử dụng đồng SDR thì có thể tuyên bố giới hạn trách nhiệm theo đơn vị tiền tệ (mu- monetary unit): 12 500mu/kiện, đơn vị hoặc 37.5 mu/kg hàng hóa</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ối với hàng chuyên chở trong Container: quy định giổng NDT Visby 1968, bổ sung thêm: nếu bản thân vỏ Container hoặc công cụ vận tải tương tự bị mất mát, hư hại thì container đó được tính là một đơn vị hàng hóa để bồi thường nếu không thuộc sở hữu của người chuyên chở hoặc không do người chuyên chở cung cấp.</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ậm giao hàng: giới hạn trách nhiệm của người chuyên chở là một số tiền tương đường với 2.5 lần tiền cước của số hàng chậm giao nhưng không vượt quá tổng tiền cước của toàn bộ hợp đồng vận chuyển đường biển.</a:t>
            </a:r>
            <a:endParaRPr b="1" lang="en-US" sz="18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endParaRPr b="1" lang="en-US" sz="2000" spc="-1" strike="noStrike">
              <a:solidFill>
                <a:srgbClr val="3333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 Trách nhiệm của người chuyên chở đường biển đối với hàng hóa vận chuyển theo B/L</a:t>
            </a:r>
            <a:endParaRPr b="0" lang="en-US" sz="2800" spc="-1" strike="noStrike">
              <a:solidFill>
                <a:srgbClr val="000000"/>
              </a:solidFill>
              <a:latin typeface="Times New Roman"/>
            </a:endParaRPr>
          </a:p>
        </p:txBody>
      </p:sp>
      <p:sp>
        <p:nvSpPr>
          <p:cNvPr id="223"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Khi chuyên chở hàng hóa bằng đường biển thì trách nhiệm của người chuyên chở đối với hàng hóa được quy định bởi 3 quy tắc: Hague, Hague- Visby và Hamburg</a:t>
            </a:r>
            <a:endParaRPr b="1" lang="en-US" sz="2000" spc="-1" strike="noStrike">
              <a:solidFill>
                <a:srgbClr val="333300"/>
              </a:solidFill>
              <a:latin typeface="Arial"/>
            </a:endParaRPr>
          </a:p>
          <a:p>
            <a:pPr marL="343080" indent="-34308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Quy tắc Hamburg quy định trách nhiệm của người chuyên chở rộng nhất, nhiều nhất, đảm bảo quyền lợi của chủ hàng nhiều hơn nên chưa được áp dụng nhiều trong thực tế</a:t>
            </a:r>
            <a:endParaRPr b="1" lang="en-US" sz="2000" spc="-1" strike="noStrike">
              <a:solidFill>
                <a:srgbClr val="333300"/>
              </a:solidFill>
              <a:latin typeface="Arial"/>
            </a:endParaRPr>
          </a:p>
          <a:p>
            <a:pPr marL="343080" indent="-34308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ững điểm tiến bộ của Hamburg:</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Quy định trách nhiệm của người chuyên chở là hợp lý, bảo vệ quyền lợi của chủ hàng nhiều hơ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iều chỉnh cả việc chuyên chở hàng xếp trên boong và súc vật sống, cả hàng hóa đóng trong container, pallet và các công cụ vận tải tương tự</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Quy định trách nhiệm của cả người chuyên chở và người chuyên chở thực tế:</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chuyên chở là bất kỳ người nào tự mình hoặc thông qua một người khác ký kết một hợp đồng chuyên chở hàng hóa với người gửi hàng</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gười chuyên chở thực tế là bất kỳ người nào thực hiện một phần hoặc toàn bộ hành trình theo sự ủy thác của người chuyên chở</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ách nhiệm của người chuyên chở hàng hóa bằng đường biển theo vận đơn quy định trong Bộ luật hàng hải Việt nam</a:t>
            </a:r>
            <a:r>
              <a:rPr b="0" lang="en-US" sz="4000" spc="-1" strike="noStrike">
                <a:solidFill>
                  <a:srgbClr val="000000"/>
                </a:solidFill>
                <a:latin typeface="Times New Roman"/>
              </a:rPr>
              <a:t> </a:t>
            </a:r>
            <a:r>
              <a:rPr b="0" lang="en-US" sz="2800" spc="-1" strike="noStrike">
                <a:solidFill>
                  <a:srgbClr val="000000"/>
                </a:solidFill>
                <a:latin typeface="Arial"/>
              </a:rPr>
              <a:t>2005</a:t>
            </a:r>
            <a:endParaRPr b="0" lang="en-US" sz="2800" spc="-1" strike="noStrike">
              <a:solidFill>
                <a:srgbClr val="000000"/>
              </a:solidFill>
              <a:latin typeface="Times New Roman"/>
            </a:endParaRPr>
          </a:p>
        </p:txBody>
      </p:sp>
      <p:sp>
        <p:nvSpPr>
          <p:cNvPr id="225" name="PlaceHolder 2"/>
          <p:cNvSpPr>
            <a:spLocks noGrp="1"/>
          </p:cNvSpPr>
          <p:nvPr>
            <p:ph/>
          </p:nvPr>
        </p:nvSpPr>
        <p:spPr>
          <a:xfrm>
            <a:off x="1523880" y="1523880"/>
            <a:ext cx="7491600" cy="5029200"/>
          </a:xfrm>
          <a:prstGeom prst="rect">
            <a:avLst/>
          </a:prstGeom>
          <a:noFill/>
          <a:ln w="0">
            <a:noFill/>
          </a:ln>
        </p:spPr>
        <p:txBody>
          <a:bodyPr lIns="92160" rIns="92160" tIns="46080" bIns="46080" anchor="t">
            <a:normAutofit/>
          </a:bodyPr>
          <a:p>
            <a:pPr marL="343080" indent="-343080">
              <a:lnSpc>
                <a:spcPct val="80000"/>
              </a:lnSpc>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ời hạn trách nhiệm: Điều 74: “Trách nhiệm của người vận chuyển phát sinh từ khi người vận chuyển nhận hàng tại cảng nhận hàng, được duy trì trong suốt quá trình vận chuyển và chấm dứt khi kết thúc việc trả hàng tại cảng trả hàng.”</a:t>
            </a:r>
            <a:r>
              <a:rPr b="1" lang="en-US" sz="3200" spc="-1" strike="noStrike">
                <a:solidFill>
                  <a:srgbClr val="333300"/>
                </a:solidFill>
                <a:latin typeface="Arial"/>
              </a:rPr>
              <a:t> </a:t>
            </a:r>
            <a:endParaRPr b="1" lang="en-US" sz="32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ơ sở trách nhiệm: người chuyên chở chịu trách nhiệm về những mất mát, hư hỏng của hàng hóa và chậm giao hàng.</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Quy định 3 trách nhiệm chính của người chuyên chở</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Quy định 17 trường hợp miễn trách cho người chuyên chở, nhưng người chuyên chở muốn được miễn trách thì phải chứng minh mình không có lỗi.</a:t>
            </a:r>
            <a:endParaRPr b="1" lang="en-US" sz="16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iới hạn trách nhiệm: </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àng có kê khai giá trị: bồi thường theo giá trị kê khai</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àng không kê khai giá trị: 666.67 SDR/ kiện, đơn vị hàng hóa hoặc 2SDR/kg hàng hóa cả bì tùy theo cách tính nào có lợi chủ hàng lựa chọn. Tiền bồi thường được chuyển đổi thành tiền Việt nam theo tỷ giá chính thức do Ngân hàng Ngoại thương Việt nam công bố ở thời điểm thanh toán tiền bồi thườ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ối với hàng hóa chuyên chở trong Container và các công cụ vận tải tương tự: quy định giống NĐT Visby 1968</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ậm giao hàng: quy định giống Hamburg</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6. Thông báo tổn thất và khiếu nại người chuyên chở</a:t>
            </a:r>
            <a:endParaRPr b="0" lang="en-US" sz="3200" spc="-1" strike="noStrike">
              <a:solidFill>
                <a:srgbClr val="000000"/>
              </a:solidFill>
              <a:latin typeface="Times New Roman"/>
            </a:endParaRPr>
          </a:p>
        </p:txBody>
      </p:sp>
      <p:sp>
        <p:nvSpPr>
          <p:cNvPr id="22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2.6.1. Thông báo tổn thất: là thông báo bằng văn bản của người nhận hàng, nói rõ tình trạng tổn thất của hàng hóa, gửi cho người chuyên chở trong một thời gian quy định để bảo lưu quyền khiếu nại với người chuyên chở.</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ếu tổn thất rõ rệt: là những tổn thất có thể nhìn thấy được bằng mắt thường</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ông báo tổn thất được thể hiện bằng COR (biên bản hàng đổ vỡ hư hỏ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Công ước Brussel và NĐT Visby: COR phải được lập trước hoặc vào lúc giao hà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Công ước Hamburg: COR phải được lập không muộn hơn ngày làm việc sau ngày giao hàng cho người nhận</a:t>
            </a:r>
            <a:endParaRPr b="1" lang="en-US" sz="14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Nếu tổn thất không rõ rệt: là những tổn thất khó có thể phát hiện được bằng mắt thường hay là những nghi ngờ có tổn thất.</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ông báo tổn thất được thể hiện bằng LOR (Letter of Reservation- thư dự kháng) cho người chuyên chở hoặc đại lý của họ.</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Công ước Brussel và NĐT Visby: phải thông báo trong vòng 3 ngày sau khi nhận được hà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Công ước Hamburg: phải thông báo trong vòng 15 ngày liên tục sau khi nhận được hàng</a:t>
            </a:r>
            <a:endParaRPr b="1" lang="en-US" sz="14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ậm giao hàng (chỉ áp dụng riêng cho Công ước Hamburg):  người nhận hàng phải thông báo bằng văn bản cho người chuyên chở trong vòng 60 ngày liên tục sau ngày hàng hóa được giao cho người nhận.</a:t>
            </a:r>
            <a:endParaRPr b="1" lang="en-US" sz="1600" spc="-1" strike="noStrike">
              <a:solidFill>
                <a:srgbClr val="3333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00120" y="228240"/>
            <a:ext cx="74916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6. Thông báo tổn thất và khiếu nại người chuyên chở</a:t>
            </a:r>
            <a:endParaRPr b="0" lang="en-US" sz="2400" spc="-1" strike="noStrike">
              <a:solidFill>
                <a:srgbClr val="000000"/>
              </a:solidFill>
              <a:latin typeface="Times New Roman"/>
            </a:endParaRPr>
          </a:p>
        </p:txBody>
      </p:sp>
      <p:sp>
        <p:nvSpPr>
          <p:cNvPr id="229" name="PlaceHolder 2"/>
          <p:cNvSpPr>
            <a:spLocks noGrp="1"/>
          </p:cNvSpPr>
          <p:nvPr>
            <p:ph/>
          </p:nvPr>
        </p:nvSpPr>
        <p:spPr>
          <a:xfrm>
            <a:off x="1500120" y="1142640"/>
            <a:ext cx="7491600" cy="5715000"/>
          </a:xfrm>
          <a:prstGeom prst="rect">
            <a:avLst/>
          </a:prstGeom>
          <a:noFill/>
          <a:ln w="0">
            <a:noFill/>
          </a:ln>
        </p:spPr>
        <p:txBody>
          <a:bodyPr lIns="92160" rIns="92160" tIns="46080" bIns="46080"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2.6.2. Khiếu nại người chuyên chở</a:t>
            </a:r>
            <a:endParaRPr b="1" lang="en-US" sz="1400" spc="-1" strike="noStrike">
              <a:solidFill>
                <a:srgbClr val="333300"/>
              </a:solidFill>
              <a:latin typeface="Arial"/>
            </a:endParaRPr>
          </a:p>
          <a:p>
            <a:pPr marL="339480" indent="-3394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hững người có thể khiếu nại người chuyên chở:</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gửi hàng</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nhận hàng</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cầm giữ vận đơn</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ười bảo hiểm</a:t>
            </a:r>
            <a:endParaRPr b="1" lang="en-US" sz="1400" spc="-1" strike="noStrike">
              <a:solidFill>
                <a:srgbClr val="333300"/>
              </a:solidFill>
              <a:latin typeface="Arial"/>
            </a:endParaRPr>
          </a:p>
          <a:p>
            <a:pPr marL="339480" indent="-3394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Hồ sơ khiếu nại:</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hằm mục đích:</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ứng minh cho lợi ích của người khiếu nại đối với hàng hóa</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ứng minh cho thiệt hại xảy ra và mức độ thiệt hại</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ứng minh thiệt hại xảy ra là do lỗi của người chuyên chở</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Gồm các giấy tờ, chứng từ:</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Vận đơn đường biển</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Hóa đơn thương mại</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hiếu đóng gói</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Biên bản hàng đổ vỡ hư hỏng (COR)</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Biên bản kết toán nhận hàng với tàu (ROROC)</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Giấy chứng nhận hàng thiếu (Certificate of Shortlanded Cargo)</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ư dự kháng (LOR)</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Biên bản giám định (Survey Report)</a:t>
            </a:r>
            <a:endParaRPr b="1" lang="en-US" sz="1400" spc="-1" strike="noStrike">
              <a:solidFill>
                <a:srgbClr val="333300"/>
              </a:solidFill>
              <a:latin typeface="Arial"/>
            </a:endParaRPr>
          </a:p>
          <a:p>
            <a:pPr lvl="2" marL="1131480" indent="-22608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 giấy tờ, chứng từ chứng minh lỗi của người chuyên chở</a:t>
            </a:r>
            <a:endParaRPr b="1" lang="en-US" sz="1400" spc="-1" strike="noStrike">
              <a:solidFill>
                <a:srgbClr val="333300"/>
              </a:solidFill>
              <a:latin typeface="Arial"/>
            </a:endParaRPr>
          </a:p>
          <a:p>
            <a:pPr marL="339480" indent="-3394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ời hạn khiếu nại</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ông ước Brussel: 1 năm kể từ ngày giao hàng hoặc từ ngày hàng hóa đáng lẽ phải được giao</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ĐT Visby: 1 năm và các bên có thể thỏa thuận kéo dài thêm nhưng thời hạn kéo dài không được quá 3 tháng</a:t>
            </a:r>
            <a:endParaRPr b="1" lang="en-US" sz="1400" spc="-1" strike="noStrike">
              <a:solidFill>
                <a:srgbClr val="333300"/>
              </a:solidFill>
              <a:latin typeface="Arial"/>
            </a:endParaRPr>
          </a:p>
          <a:p>
            <a:pPr lvl="1" marL="735480" indent="-28296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ông ước Hamburg: 2 năm và các bên cũng có thể thỏa thuận kéo dài thêm</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Phương thức thuê tàu chuyến</a:t>
            </a:r>
            <a:endParaRPr b="0" lang="en-US" sz="3200" spc="-1" strike="noStrike">
              <a:solidFill>
                <a:srgbClr val="000000"/>
              </a:solidFill>
              <a:latin typeface="Times New Roman"/>
            </a:endParaRPr>
          </a:p>
        </p:txBody>
      </p:sp>
      <p:sp>
        <p:nvSpPr>
          <p:cNvPr id="23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3.1. Khái niệm và đặc điểm của tàu chuyến</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3.1.1. Khái niệm</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uyến là tàu chuyên chở hàng hóa giữa hai hoặc nhiều cảng theo yêu cầu của chủ hàng trên cơ sở một hợp đồng thuê tàu.</a:t>
            </a:r>
            <a:endParaRPr b="1" lang="en-US" sz="1800" spc="-1" strike="noStrike">
              <a:solidFill>
                <a:srgbClr val="333300"/>
              </a:solidFill>
              <a:latin typeface="Arial"/>
            </a:endParaRPr>
          </a:p>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uyến là tàu không chạy thường xuyên trên một tuyến đường nhất định, không ghé qua những cảng nhất định và không theo một lịch trình định trước.</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3.1.2. Đặc điểm</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ường được dùng để chuyên chở hàng hóa có khối lượng lớn, tính chất hàng hóa tương đối thuần nhất và người thuê tàu thường có đủ hàng để xếp đầy tàu.</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hường có 1 boong, miệng hầm rộng để thuận tiện cho việc xếp dỡ hàng hóa lên xuống tàu.</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ốc độ tàu chuyến tương đối chậm hơn so với tàu chợ</a:t>
            </a:r>
            <a:endParaRPr b="1" lang="en-US" sz="18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iều kiện chuyên chở, cước phí, chi phí bốc xếp hàng hóa được quy định cụ thể trong hợp đồng thuê tàu do hai bên thỏa thuận ký kết.</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00120" y="228600"/>
            <a:ext cx="7491600" cy="5335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Phương thức thuê tàu chuyến</a:t>
            </a:r>
            <a:endParaRPr b="0" lang="en-US" sz="2800" spc="-1" strike="noStrike">
              <a:solidFill>
                <a:srgbClr val="000000"/>
              </a:solidFill>
              <a:latin typeface="Times New Roman"/>
            </a:endParaRPr>
          </a:p>
        </p:txBody>
      </p:sp>
      <p:sp>
        <p:nvSpPr>
          <p:cNvPr id="233" name="PlaceHolder 2"/>
          <p:cNvSpPr>
            <a:spLocks noGrp="1"/>
          </p:cNvSpPr>
          <p:nvPr>
            <p:ph/>
          </p:nvPr>
        </p:nvSpPr>
        <p:spPr>
          <a:xfrm>
            <a:off x="1500120" y="761760"/>
            <a:ext cx="7491600" cy="6095880"/>
          </a:xfrm>
          <a:prstGeom prst="rect">
            <a:avLst/>
          </a:prstGeom>
          <a:noFill/>
          <a:ln w="0">
            <a:noFill/>
          </a:ln>
        </p:spPr>
        <p:txBody>
          <a:bodyPr lIns="92160" rIns="92160" tIns="46080" bIns="4608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2. Phương thức thuê tàu chuyến</a:t>
            </a:r>
            <a:endParaRPr b="1" lang="en-US" sz="1500" spc="-1" strike="noStrike">
              <a:solidFill>
                <a:srgbClr val="3333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2.1. Khái niệm</a:t>
            </a:r>
            <a:endParaRPr b="1" lang="en-US" sz="1500" spc="-1" strike="noStrike">
              <a:solidFill>
                <a:srgbClr val="333300"/>
              </a:solidFill>
              <a:latin typeface="Arial"/>
            </a:endParaRPr>
          </a:p>
          <a:p>
            <a:pPr marL="343080" indent="-343080">
              <a:lnSpc>
                <a:spcPct val="80000"/>
              </a:lnSpc>
              <a:spcBef>
                <a:spcPts val="374"/>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tàu chuyến là việc chủ hàng dành cho người thuê thuê toàn bộ hay một phần con tàu để chuyên chở hàng hóa từ một cảng này đến một cảng khác.</a:t>
            </a:r>
            <a:endParaRPr b="1" lang="en-US" sz="1500" spc="-1" strike="noStrike">
              <a:solidFill>
                <a:srgbClr val="3333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2.2. Các hình thức thuê tàu chuyến</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chuyến một (single trip):</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chuyến một khứ hồi (round trip)</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chuyến một liên tục (Consecutive voyage)</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liên tục khứ hồi</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khoán</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bao</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định hạn:</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định hạn trơn</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Thuê định hạn không trơn</a:t>
            </a:r>
            <a:endParaRPr b="1" lang="en-US" sz="1500" spc="-1" strike="noStrike">
              <a:solidFill>
                <a:srgbClr val="333300"/>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3.2.3. Trình tự các bước thuê tàu chuyến</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1: người thuê tàu nhờ người môi giới tìm tàu, hỏi tàu</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2: người môi giới chào tàu, hỏi tàu</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3: người môi giới và người chuyên chở đàm phán với nhau tất cả các điều kiện, điều khoản của hợp đồng thuê tàu</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4: người môi giới thông báo kết quả thuê tàu cho người thuê</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5: người thuê tàu và người chuyên chở ký hợp đồng thuê tàu</a:t>
            </a:r>
            <a:endParaRPr b="1" lang="en-US" sz="1500" spc="-1" strike="noStrike">
              <a:solidFill>
                <a:srgbClr val="333300"/>
              </a:solidFill>
              <a:latin typeface="Arial"/>
            </a:endParaRPr>
          </a:p>
          <a:p>
            <a:pPr marL="343080" indent="-34308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Bước 6: thực hiện hợp đồng thuê tàu:</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Người thuê tàu vận chuyển hàng hóa ra cảng giao cho người chuyên chở</a:t>
            </a:r>
            <a:endParaRPr b="1" lang="en-US" sz="1500" spc="-1" strike="noStrike">
              <a:solidFill>
                <a:srgbClr val="333300"/>
              </a:solidFill>
              <a:latin typeface="Arial"/>
            </a:endParaRPr>
          </a:p>
          <a:p>
            <a:pPr lvl="1" marL="743040" indent="-285840">
              <a:lnSpc>
                <a:spcPct val="80000"/>
              </a:lnSpc>
              <a:spcBef>
                <a:spcPts val="374"/>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Người chuyên chở hoặc đại diện của người chuyên chở phát hành bộ vận đơn cho người gửi hàng</a:t>
            </a:r>
            <a:endParaRPr b="1" lang="en-US" sz="15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3. Hợp đồng thuê tàu chuyến (Charter Party C/P)</a:t>
            </a:r>
            <a:endParaRPr b="0" lang="en-US" sz="3200" spc="-1" strike="noStrike">
              <a:solidFill>
                <a:srgbClr val="000000"/>
              </a:solidFill>
              <a:latin typeface="Times New Roman"/>
            </a:endParaRPr>
          </a:p>
        </p:txBody>
      </p:sp>
      <p:sp>
        <p:nvSpPr>
          <p:cNvPr id="23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3.3.1. Khái niệm</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ợp đồng thuê tàu chuyến là loại hợp đồng chuyên chở hàng hóa bằng đường biển, trong đó người chuyên chở cam kết chuyen chở hàng hóa từ một hay nhiều cảng này và giao cho một người nhận ở một hay nhiều cảng khác, còn người đi thuê tàu cam kết trả tiền cước thuê tàu đúng như hai bên đã thỏa thuận trong hợp đồng.</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3.2.2. Các mẫu hợp đồng thuê tàu chuyến thường gặp</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ẫu hợp đồng thuê tàu mang tính chất tổng hợp:</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GENCON</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NUVOY</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SCANCON…</a:t>
            </a:r>
            <a:endParaRPr b="1" lang="en-US" sz="14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ẫu hợp đồng thuê tàu mang tính chất chuyên dụng</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NORGRAIN 89 của hiệp hội môi giới và đại lý Mỹ để chuyên chở ngũ cốc</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CEMENCO của Mỹ phát hành năm 1922 để chuyên chở xi mă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CUBASUGAR của Cuba để chuyên chở đường</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EXONVOY, MOBILVOY, SHELLVOY của Mỹ để chuyên chở dầu</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ẫu hợp đồng RUSSWOOD của Nga dùng để chuyên chở gỗ…</a:t>
            </a:r>
            <a:endParaRPr b="1" lang="en-US" sz="1400" spc="-1" strike="noStrike">
              <a:solidFill>
                <a:srgbClr val="3333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2388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3.3.3. Nội dung hợp đồng thuê tàu chuyến</a:t>
            </a:r>
            <a:endParaRPr b="0" lang="en-US" sz="3000" spc="-1" strike="noStrike">
              <a:solidFill>
                <a:srgbClr val="000000"/>
              </a:solidFill>
              <a:latin typeface="Times New Roman"/>
            </a:endParaRPr>
          </a:p>
        </p:txBody>
      </p:sp>
      <p:sp>
        <p:nvSpPr>
          <p:cNvPr id="23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về chủ thể hợp đồng</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ủ thể của hợp đồng: người chuyên chở, người thuê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ần ghi rõ tên, địa chỉ, số điện thoại, số Fax của các bê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ếu ký hợp đồng thông qua đại lý hoặc công ty môi giới cần ghi rõ “as agent only” ở cuối hợp đồng</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về con tàu: quy định một cách cụ thể các đặc trưng cơ bản của con tàu:</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ên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Quốc tịch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ất lượng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ộng cơ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ấp hạng tàu</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tải</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Dung tích</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ớn nước</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Vị trí của tàu</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39"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thời gian tàu đến cảng xếp hàng: là thời gian tàu phải đến cảng xếp hàng nhận hàng để chở theo quy định của hợp đồng</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 cách quy địn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ngày cụ thể “ngày 25/11/2008 tàu phải đến cảng Hải phòng nhận hàng để xếp”</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một khoảng thời gian: “tàu phải đến cảng Tiên Sa để nhận hàng từ ngày 22 đến 25 tháng 11 năm 2008”</a:t>
            </a:r>
            <a:endParaRPr b="1" lang="en-US" sz="1400" spc="-1" strike="noStrike">
              <a:solidFill>
                <a:srgbClr val="3333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 Lưu ý: Khi ký hợp đồng, nếu con tàu được thuê đang ở một khu vực lân cận hoặc gần cảng xếp hàng thì có thể thỏa thuận theo các điều khoản:</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rompt: tàu đến cảng xếp hàng vài ba ngày sau ngày ký hợp đồ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romptisimo: tàu đến cảng xếp hàng ngay trong ngày ký hợp đồ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Spot prompt: tàu đến cảng xếp hàng một vài giờ sau khi ký hợp đồng.</a:t>
            </a:r>
            <a:endParaRPr b="1" lang="en-US" sz="1400" spc="-1" strike="noStrike">
              <a:solidFill>
                <a:srgbClr val="333300"/>
              </a:solidFill>
              <a:latin typeface="Arial"/>
            </a:endParaRPr>
          </a:p>
          <a:p>
            <a:pPr marL="343080" indent="-34308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ù quy định theo cách nào thì người chuyên chở cũng phải thông báo cho người thuê tàu thời gian dự kiến tàu đến cảng xếp hàng quy định (ETA- Estimated Time of Arrival)</a:t>
            </a:r>
            <a:endParaRPr b="1" lang="en-US" sz="16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Một con tàu được coi như đã đến cảng và sẵn sàng xếp hàng hoặc dỡ hàng khi:</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ã đến được vùng thương mại của cả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sẵn sàng xếp dỡ về mọi mặt:</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Làm xong các thủ tục vào cảng (hải quan, biên phòng, vệ sinh y tế)</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Sẵn sàng các điều kiện kỹ thuật cho việc xếp hà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ã trao thông báo sẵn sàng xếp dỡ (NOR- Notice of Readiness) cho người thuê tàu hoặc người nhận hàng một cách thích hợp.</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I. Cơ sở vật chất kỹ thuật</a:t>
            </a:r>
            <a:endParaRPr b="0" lang="en-US" sz="4400" spc="-1" strike="noStrike">
              <a:solidFill>
                <a:srgbClr val="000000"/>
              </a:solidFill>
              <a:latin typeface="Times New Roman"/>
            </a:endParaRPr>
          </a:p>
        </p:txBody>
      </p:sp>
      <p:sp>
        <p:nvSpPr>
          <p:cNvPr id="16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 Tàu buôn</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1. Định nghĩa</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r>
              <a:rPr b="1" lang="en-US" sz="2000" spc="-1" strike="noStrike">
                <a:solidFill>
                  <a:srgbClr val="333300"/>
                </a:solidFill>
                <a:latin typeface="Arial"/>
              </a:rPr>
              <a:t>Theo Viện kinh tế hàng hải và Logistics: “Tàu buôn là những tàu chở hàng và chở khách vì mục đích thương mại”</a:t>
            </a:r>
            <a:endParaRPr b="1" lang="en-US" sz="2000" spc="-1" strike="noStrike">
              <a:solidFill>
                <a:srgbClr val="3333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1.2. Đặc trưng</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ên tàu- Ship’s name</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ảng đăng ký của tàu (Port of Registry): thông thường là một cảng thuộc nước sở hữu con tàu</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ờ tàu- Flag: là cờ quốc tịch của tàu:</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ờ thường- Conventional Flag</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ờ phương tiện- Flag of Convenience</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hủ tàu- Shipowner</a:t>
            </a:r>
            <a:endParaRPr b="1" lang="en-US" sz="20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Kích thước của tàu- Dimension of Ship:</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iều dài của tàu- Length overall</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hiều rộng của tàu- Breadth Extreme</a:t>
            </a:r>
            <a:endParaRPr b="1" lang="en-US" sz="1800" spc="-1" strike="noStrike">
              <a:solidFill>
                <a:srgbClr val="3333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1"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Điều khoản về hàng hóa (Cargo Clause)</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ên hàng: </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hi rõ tên hàng hóa chuyên chở</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ếu chủ hàng muốn chuyên chở hai loại hàng hóa trên cùng một chuyến tàu thì phải ghi “và/ hoặc tên hàng hóa thay thế”: “1000 MT of rice and/or maize”</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Nếu vào lúc ký hợp đồng thuê tàu chưa xác định được tên hàng thì có thể quy định chung “giao một mặt hàng hợp pháp”: “rubber and/or any lawful goods”</a:t>
            </a:r>
            <a:endParaRPr b="1" lang="en-US" sz="18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Bao bì hàng hóa: quy định loại bao bì cụ thể, ghi rõ ký mã hiệu</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Số lượng hàng hóa: tùy theo từng mặt hàng có thể quy định chở theo trọng lượng hoặc thể tích, nên quy định kèm theo một tỷ lệ dung sai:</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Khoảng (about)</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Số lượng tối đa, tối thiểu (max, mi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hi chính xác số lượng + dung sai: 10 000 MT more or less 5% at Master’s option</a:t>
            </a:r>
            <a:endParaRPr b="1" lang="en-US" sz="1800" spc="-1" strike="noStrike">
              <a:solidFill>
                <a:srgbClr val="333300"/>
              </a:solidFill>
              <a:latin typeface="Arial"/>
            </a:endParaRPr>
          </a:p>
          <a:p>
            <a:pPr lvl="2" marL="1143000" indent="0">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Điều khoản cảng xếp, cảng dỡ hàng (Loading/Discharging Port)</a:t>
            </a:r>
            <a:endParaRPr b="1" lang="en-US" sz="2400" spc="-1" strike="noStrike">
              <a:solidFill>
                <a:srgbClr val="33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2 cách quy định:</a:t>
            </a:r>
            <a:endParaRPr b="1" lang="en-US" sz="2400" spc="-1" strike="noStrike">
              <a:solidFill>
                <a:srgbClr val="333300"/>
              </a:solidFill>
              <a:latin typeface="Arial"/>
            </a:endParaRPr>
          </a:p>
          <a:p>
            <a:pPr marL="343080" indent="-343080">
              <a:lnSpc>
                <a:spcPct val="8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ụ thể cảng nào, cầu cảng số mấy</a:t>
            </a:r>
            <a:endParaRPr b="1" lang="en-US" sz="2400" spc="-1" strike="noStrike">
              <a:solidFill>
                <a:srgbClr val="33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gt; Nếu xếp dỡ tại nhiều cảng, cầu thì phải quy định thứ tự xếp dỡ và chi phí chuyển cầu (shifting expense)</a:t>
            </a:r>
            <a:endParaRPr b="1" lang="en-US" sz="2400" spc="-1" strike="noStrike">
              <a:solidFill>
                <a:srgbClr val="333300"/>
              </a:solidFill>
              <a:latin typeface="Arial"/>
            </a:endParaRPr>
          </a:p>
          <a:p>
            <a:pPr marL="343080" indent="-343080">
              <a:lnSpc>
                <a:spcPct val="8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hung chung: “one safe berth, Haiphong Port)</a:t>
            </a:r>
            <a:endParaRPr b="1" lang="en-US" sz="2400" spc="-1" strike="noStrike">
              <a:solidFill>
                <a:srgbClr val="33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ảng xếp dỡ phải an toàn: </a:t>
            </a:r>
            <a:endParaRPr b="1" lang="en-US" sz="2400" spc="-1" strike="noStrike">
              <a:solidFill>
                <a:srgbClr val="333300"/>
              </a:solidFill>
              <a:latin typeface="Arial"/>
            </a:endParaRPr>
          </a:p>
          <a:p>
            <a:pPr marL="343080" indent="-343080">
              <a:lnSpc>
                <a:spcPct val="8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Về hàng hải</a:t>
            </a:r>
            <a:endParaRPr b="1" lang="en-US" sz="2400" spc="-1" strike="noStrike">
              <a:solidFill>
                <a:srgbClr val="333300"/>
              </a:solidFill>
              <a:latin typeface="Arial"/>
            </a:endParaRPr>
          </a:p>
          <a:p>
            <a:pPr marL="343080" indent="-343080">
              <a:lnSpc>
                <a:spcPct val="80000"/>
              </a:lnSpc>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Về chính trị</a:t>
            </a:r>
            <a:endParaRPr b="1" lang="en-US" sz="2400" spc="-1" strike="noStrike">
              <a:solidFill>
                <a:srgbClr val="3333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hú ý: “or so near thereto as ship may safely get and she always afloat”</a:t>
            </a: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5"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iều khoản cước phí thuê tàu: là số tiền mà người thuê tàu phải trả cho việc vận chuyển hàng hóa hoặc những dịch vụ có liên quan đến việc vận chuyển</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ức cước: là số tiền cước tính trên một đơn vị hàng hóa</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ơn vị tính cước:</a:t>
            </a:r>
            <a:endParaRPr b="1" lang="en-US" sz="1600" spc="-1" strike="noStrike">
              <a:solidFill>
                <a:srgbClr val="333300"/>
              </a:solidFill>
              <a:latin typeface="Arial"/>
            </a:endParaRPr>
          </a:p>
          <a:p>
            <a:pPr lvl="2" marL="1143000" indent="-228600">
              <a:lnSpc>
                <a:spcPct val="80000"/>
              </a:lnSpc>
              <a:spcBef>
                <a:spcPts val="374"/>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Hàng nặng: MT, long ton, short ton</a:t>
            </a:r>
            <a:endParaRPr b="1" lang="en-US" sz="1500" spc="-1" strike="noStrike">
              <a:solidFill>
                <a:srgbClr val="333300"/>
              </a:solidFill>
              <a:latin typeface="Arial"/>
            </a:endParaRPr>
          </a:p>
          <a:p>
            <a:pPr lvl="2" marL="1143000" indent="-228600">
              <a:lnSpc>
                <a:spcPct val="80000"/>
              </a:lnSpc>
              <a:spcBef>
                <a:spcPts val="374"/>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333300"/>
                </a:solidFill>
                <a:latin typeface="Arial"/>
              </a:rPr>
              <a:t>Hàng nhẹ, cồng kềnh: m3, cubic feet, tấn thể tích (measurement ton) = 40c.ft</a:t>
            </a:r>
            <a:endParaRPr b="1" lang="en-US" sz="15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ố lượng hàng hóa tính cước:</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số lượng hàng hóa thực xếp lên tàu tại cảng đi (On taken quantity)</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eo số lượng hàng thực giao tại cảng đến (Delivery Quantity)</a:t>
            </a:r>
            <a:endParaRPr b="1" lang="en-US" sz="14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ời gian thanh toán:</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iền cước trả trước: Freight Prepaid/ Freight payable at Loading port</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iền cước trả sau: Freight to Collect</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rả khi bắt đầu dỡ hàng (Freight payable on commencement of discharge)</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rả đồng thời với việc dỡ hàng (Freight payable concurrent with discharge)</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rả khi dỡ hàng xong (Freight payable on completion of discharge)</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rả khi hàng hóa được giao thực sự và đúng đắn (freight payable on actual and proper completion of discharge)</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Lưu ý: Đối với tàu chở dầu thì người chuyên chở phải giao hàng xong mới được thanh toán tiền cước</a:t>
            </a:r>
            <a:endParaRPr b="1" lang="en-US" sz="1400" spc="-1" strike="noStrike">
              <a:solidFill>
                <a:srgbClr val="3333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3" marL="16002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Điều khoản chi phí xếp dỡ</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 </a:t>
            </a:r>
            <a:r>
              <a:rPr b="1" lang="en-US" sz="2000" spc="-1" strike="noStrike">
                <a:solidFill>
                  <a:srgbClr val="333300"/>
                </a:solidFill>
                <a:latin typeface="Arial"/>
              </a:rPr>
              <a:t>Điều kiện tàu chợ (Liner terms/Gross terms/Berth terms)</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iện miễn chi phí xếp dỡ cho người chuyên chở (FIO- Free In and Out, FIOS, FIOT, FIOST)</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iện miễn chi phí xếp hàng cho người chuyên chở (FI- Free In, FIS, FIT, FIST)</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iện miễn chi phí dỡ hàng cho người chuyên chở (FO- Free Out, FOS, FOT, FOST)</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ác thuật ngữ trên phải đi kèm với giá cước trong hợp đồng</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Phải lựa chọn điều kiện chi phí xếp dỡ phù hợp để:</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ánh trả hai lần chi phí xếp dỡ hai lần cho người chuyên chở hoặc người bá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ạo điều kiện thuận lợi cho việc xếp dỡ hàng</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iết kiệm ngoại tệ</a:t>
            </a:r>
            <a:endParaRPr b="1" lang="en-US" sz="1800" spc="-1" strike="noStrike">
              <a:solidFill>
                <a:srgbClr val="3333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49"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343080">
              <a:lnSpc>
                <a:spcPct val="80000"/>
              </a:lnSpc>
              <a:spcBef>
                <a:spcPts val="3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Điều khoản về thời gian xếp dỡ (Laytime): là một khoảng thời gian do hai bên thỏa thuận trong hợp đồng thuê tàu để thực hiện công việc xếp dỡ hàng hóa lên xuống tàu, còn gọi là thời gian cho phép (allowed time)</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 cách quy địn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một số ngày cụ thể</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mức xếp dỡ hàng hóa cho toàn tàu hoặc cho một máng xếp dỡ trong ngày</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Quy định xếp dỡ theo tập quán</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Đơn vị tính thời gian xếp dỡ:</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days): ngày theo lịc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iên tục (running days): là những ngày kế tiếp nhau trên lịch kể cả chủ nhật và ngày lễ</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àm việc (Working Days): là những ngày làm việc chính thức mà chính phủ quy định tại các nước hay các cảng biển liên quan.</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àm việc 24h (Working Days of 24hours): cứ 24h làm việc mới được tính là 1 ngày</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àm việc 24h liên tục (Working Days of 24 Consecutive hours): tính từ 0h đến 24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àm việc thời tiết tốt (Weather Working Days): ngày làm việc chính thức tại các cảng trong đó thời tiết tốt cho phép tiến hành công việc xếp dỡ hàng</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ủ nhật (Sundays): ngày nghỉ cuối tuần do luật pháp từng nước quy định</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ễ (holidays): gồm ngày lễ quốc gia và ngày lễ quốc tế</a:t>
            </a:r>
            <a:endParaRPr b="1" lang="en-US" sz="1400" spc="-1" strike="noStrike">
              <a:solidFill>
                <a:srgbClr val="333300"/>
              </a:solidFill>
              <a:latin typeface="Arial"/>
            </a:endParaRPr>
          </a:p>
          <a:p>
            <a:pPr lvl="1" marL="743040" indent="-285840">
              <a:lnSpc>
                <a:spcPct val="80000"/>
              </a:lnSpc>
              <a:spcBef>
                <a:spcPts val="349"/>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Ngày lễ và chủ nhật có tính vào thời gian xếp dỡ hay không phải quy định cụ thể trong hợp đồng thuê tàu</a:t>
            </a: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Có thể quy định:</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7 WWD, S.H. EX, U.U (Cargo to be loaded in 7 weather working days of 24 consecutive hours, Sundays and holidays excepted, unless used)</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7 WWD, S.H. EX, E.U (Cargo to be loaded in 7 weather working days of 24 consecutive hours, Sundays and holidays excepted, even if used)</a:t>
            </a:r>
            <a:endParaRPr b="1" lang="en-US" sz="1600" spc="-1" strike="noStrike">
              <a:solidFill>
                <a:srgbClr val="333300"/>
              </a:solidFill>
              <a:latin typeface="Arial"/>
            </a:endParaRPr>
          </a:p>
          <a:p>
            <a:pPr marL="343080" indent="-34308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ốc tính thời gian xếp dỡ: phụ thuộc vào việc người chuyên chở đã trao thông báo sẵn sàng xếp dỡ (NOR- Notice of Readiness) và người thuê tàu chấp nhận thông báo này.</a:t>
            </a:r>
            <a:endParaRPr b="1" lang="en-US" sz="18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ước khi chấp nhận NOR, chủ hàng phải kiểm tra tính sẵn sàng của tàu:</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ã cập vào vùng thương mại của cảng hay chưa</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àu đã làm xong các thủ tục vào cảng hay chưa</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ác trang thiết bị xếp dỡ, các hầm quầy hàng đã sẵn sàng xếp hay dỡ hàng hóa chưa</a:t>
            </a:r>
            <a:endParaRPr b="1" lang="en-US" sz="14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ánh để người chuyên chở ghi trên hợp đồng “W, W, W, W”</a:t>
            </a:r>
            <a:endParaRPr b="1" lang="en-US" sz="16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WIPON: Whether in Port or not</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WIBON: Whether in Berth or not</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WIFON: Whether in Free Pratique or not</a:t>
            </a:r>
            <a:endParaRPr b="1" lang="en-US" sz="1400" spc="-1" strike="noStrike">
              <a:solidFill>
                <a:srgbClr val="333300"/>
              </a:solidFill>
              <a:latin typeface="Arial"/>
            </a:endParaRPr>
          </a:p>
          <a:p>
            <a:pPr lvl="2" marL="11430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WICON: Whether in Custom Cleared or not</a:t>
            </a:r>
            <a:endParaRPr b="1" lang="en-US" sz="1400" spc="-1" strike="noStrike">
              <a:solidFill>
                <a:srgbClr val="3333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Hợp đồng mẫu GENCON quy định:</a:t>
            </a:r>
            <a:endParaRPr b="1" lang="en-US" sz="28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Thời gian làm hàng bắt đầu được tính từ 13h nếu NOR được trao trước hoặc vào lúc 12h trưa</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Thời gian làm hàng được tính từ 6h sáng hôm sau nếu NOR được trao vào giờ làm việc sau 12h trưa</a:t>
            </a:r>
            <a:endParaRPr b="1" lang="en-US" sz="2400" spc="-1" strike="noStrike">
              <a:solidFill>
                <a:srgbClr val="333300"/>
              </a:solidFill>
              <a:latin typeface="Arial"/>
            </a:endParaRPr>
          </a:p>
          <a:p>
            <a:pPr lvl="1" marL="743040" indent="-285840">
              <a:spcBef>
                <a:spcPts val="60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Khoảng thời gian sau không tính vào thời gian làm hàng: từ 13h chiều thứ 7 hoặc 13h của ngày làm việc trước ngày nghỉ lễ đến 7h sáng của ngày thứ 2 hoặc 7h sáng của ngày làm việc kế tiếp sau ngày nghỉ lễ</a:t>
            </a:r>
            <a:endParaRPr b="1" lang="en-US" sz="2400" spc="-1" strike="noStrike">
              <a:solidFill>
                <a:srgbClr val="3333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5" name="PlaceHolder 2"/>
          <p:cNvSpPr>
            <a:spLocks noGrp="1"/>
          </p:cNvSpPr>
          <p:nvPr>
            <p:ph/>
          </p:nvPr>
        </p:nvSpPr>
        <p:spPr>
          <a:xfrm>
            <a:off x="1500120" y="1523520"/>
            <a:ext cx="7491600" cy="53341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thưởng phạt xếp dỡ nhanh chậm</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iền thưởng xếp dỡ nhanh (Despatch money): là khoản tiền người chuyên chở phải trả cho người thuê tàu về việc người thuê tàu xếp dỡ hàng hóa nhanh hơn so với thời gian quy định trong hợp đồng</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ức thưởng = ½ mức phạt:</a:t>
            </a:r>
            <a:endParaRPr b="1" lang="en-US" sz="16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ưởng cho toàn tàu trong 1 ngày</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hưởng cho 1 đơn vị trọng tải/dung tích</a:t>
            </a:r>
            <a:endParaRPr b="1" lang="en-US" sz="14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ời gian thưởng:</a:t>
            </a:r>
            <a:endParaRPr b="1" lang="en-US" sz="16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Tính cho toàn bộ thời gian tiết kiệm được (for all time saved)</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Chỉ thưởng cho thời gian làm việc tiết kiệm được (all working time saved)</a:t>
            </a:r>
            <a:endParaRPr b="1" lang="en-US" sz="14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ổng tiền thưởng = mức thưởng X thời gian thưởng</a:t>
            </a:r>
            <a:endParaRPr b="1" lang="en-US" sz="16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iền phạt xếp dỡ chậm (demurrage money): là khoản tiền mà người thuê tàu phải trả cho người chuyên chở về việc xếp dỡ hàng hóa chậm hơn so với thời gian quy định của hợp đồng </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Mức phạt = 2 mức thưởng</a:t>
            </a:r>
            <a:endParaRPr b="1" lang="en-US" sz="16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hạt cho toàn tàu trong 1 ngày</a:t>
            </a:r>
            <a:endParaRPr b="1" lang="en-US" sz="1400" spc="-1" strike="noStrike">
              <a:solidFill>
                <a:srgbClr val="333300"/>
              </a:solidFill>
              <a:latin typeface="Arial"/>
            </a:endParaRPr>
          </a:p>
          <a:p>
            <a:pPr lvl="3" marL="1600200" indent="-228600">
              <a:lnSpc>
                <a:spcPct val="80000"/>
              </a:lnSpc>
              <a:spcBef>
                <a:spcPts val="3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00"/>
                </a:solidFill>
                <a:latin typeface="Arial"/>
              </a:rPr>
              <a:t>Phạt cho 1 đơn vị trọng tải/dung tích</a:t>
            </a:r>
            <a:endParaRPr b="1" lang="en-US" sz="14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ời gian phạt: một khi đã bị phạt thì luôn luôn bị phạt (once on demurrage, always on demurrage)</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ổng tiền phạt = mức phạt X thời gian phạt</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7" name="PlaceHolder 2"/>
          <p:cNvSpPr>
            <a:spLocks noGrp="1"/>
          </p:cNvSpPr>
          <p:nvPr>
            <p:ph/>
          </p:nvPr>
        </p:nvSpPr>
        <p:spPr>
          <a:xfrm>
            <a:off x="1500120" y="1523880"/>
            <a:ext cx="7491600" cy="502920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ách tính thưởng phạt:</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ính bù trừ: thời gian thưởng – thời gian phạt</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ính riêng: tiền thưởng riêng, tiền phạt riêng</a:t>
            </a:r>
            <a:endParaRPr b="1" lang="en-US" sz="2000" spc="-1" strike="noStrike">
              <a:solidFill>
                <a:srgbClr val="333300"/>
              </a:solidFill>
              <a:latin typeface="Arial"/>
            </a:endParaRPr>
          </a:p>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Để xem xét vấn đề thưởng phạt xếp dỡ nhanh chậm cần thực hiện:</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ghiên cứu C/P để xem thời gian xếp, dỡ được quy định là bao nhiều, mốc tính thời gian xếp dỡ từ khi nào, khoảng thời gian nào không tính vào thời gian xếp dỡ</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ính toán để biết thực tế xếp, dỡ hết bao nhiêu ngày, giờ căn cứ vào biên bản sự kiện (Statement of Facts- là một chứng từ do đại lý tàu lập ra trong đó ghi lại tất cả các sự kiện có liên quan đến con tàu  kể từ khi tàu đến cảng cho đến khi tàu hoàn thành việc xếp dỡ)</a:t>
            </a:r>
            <a:endParaRPr b="1" lang="en-US" sz="20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rên cơ sở biên bản sự kiện lập bảng tính thời gian xếp dỡ (Time Sheet) để tính xem bao nhiêu ngày bị phạt, bao nhiêu ngày được thưởng.</a:t>
            </a:r>
            <a:endParaRPr b="1" lang="en-US" sz="2000" spc="-1" strike="noStrike">
              <a:solidFill>
                <a:srgbClr val="3333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5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trách nhiệm và miễn trách của chủ tàu/người chuyên chở</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ách nhiệm:</a:t>
            </a:r>
            <a:r>
              <a:rPr b="1" lang="en-US" sz="1800" spc="-1" strike="noStrike">
                <a:solidFill>
                  <a:srgbClr val="333300"/>
                </a:solidFill>
                <a:latin typeface="Arial"/>
              </a:rPr>
              <a:t>	</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ung cấp tàu có đủ khả năng đi biển, điều tàu đến cảng theo đúng thời gian quy định</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ướng dẫn việc xếp dỡ hàng hóa lên xuống tàu</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hịu trách nhiệm về tổn thất của hàng hóa do lỗi lầm, sơ suất của thuyền trưởng, thủy thủ, hoa tiêu trong thuật đi biển và quản trị tàu</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iển tàu chạy trên biển với tốc độ hợp lý, không cho tàu đậu đỗ bất kỳ nơi nào không có trong hành trình trừ trường hợp bất khả kháng</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Sau khi nhận hàng phải cấp vận đơn</a:t>
            </a:r>
            <a:endParaRPr b="1" lang="en-US" sz="16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iễn trách:</a:t>
            </a:r>
            <a:endParaRPr b="1" lang="en-US" sz="18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hiên tai</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ai nạn bất ngờ</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ác trường hợp bất khả kháng</a:t>
            </a:r>
            <a:endParaRPr b="1" lang="en-US" sz="1600" spc="-1" strike="noStrike">
              <a:solidFill>
                <a:srgbClr val="333300"/>
              </a:solidFill>
              <a:latin typeface="Arial"/>
            </a:endParaRPr>
          </a:p>
          <a:p>
            <a:pPr lvl="2" marL="1143000" indent="-228600">
              <a:lnSpc>
                <a:spcPct val="80000"/>
              </a:lnSpc>
              <a:spcBef>
                <a:spcPts val="400"/>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ành động của kẻ thù</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2. Đặc trưng</a:t>
            </a:r>
            <a:endParaRPr b="0" lang="en-US" sz="3200" spc="-1" strike="noStrike">
              <a:solidFill>
                <a:srgbClr val="000000"/>
              </a:solidFill>
              <a:latin typeface="Times New Roman"/>
            </a:endParaRPr>
          </a:p>
        </p:txBody>
      </p:sp>
      <p:sp>
        <p:nvSpPr>
          <p:cNvPr id="171" name="PlaceHolder 2"/>
          <p:cNvSpPr>
            <a:spLocks noGrp="1"/>
          </p:cNvSpPr>
          <p:nvPr>
            <p:ph/>
          </p:nvPr>
        </p:nvSpPr>
        <p:spPr>
          <a:xfrm>
            <a:off x="1500120" y="1523880"/>
            <a:ext cx="7491600" cy="51055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Mớn nước của tàu- Draught/Draft: là chiều cao thẳng góc từ đáy tàu lên mặt nước (đo bằng m hoặc feet)</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ớn nước cấu tạo/ mớn nước tối thiểu- Light Draught</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Mớn nước tối đa- Loaded Draught</a:t>
            </a:r>
            <a:endParaRPr b="1" lang="en-US" sz="1800" spc="-1" strike="noStrike">
              <a:solidFill>
                <a:srgbClr val="3333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gt; Là một đại lượng thay đổi tùy theo khối lượng hàng hóa chuyên chở, mùa và vùng biển tàu đi qua.</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rọng lượng của tàu- Displacement Tonnage: bằng trọng lượng khối nước bị tàu chiếm chỗ </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Đơn vị tính: long to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D = M/35</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lượng tàu không hàng- Light Displacemnt (LD): là trọng lượng nhỏ nhất của tàu, bao gồm trọng lượng vỏ tàu, máy móc thiết bị trên tàu, nồi hơi, nước trong nồi hơi, phụ tung, thuyền viên và hành lý của họ.</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lượng tàu đầy hàng- Heavy Displacement (HD): bao gồm trọng lượng tàu không hàng, trọng lượng hàng hóa thương mại và trọng lượng các vật phẩm cần thiết cung ứng cho một hành trình mà tàu có thể chở được ở mớn nước tối đa.</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HD = LD + hàng hóa + vật phẩm</a:t>
            </a:r>
            <a:endParaRPr b="1" lang="en-US" sz="1800" spc="-1" strike="noStrike">
              <a:solidFill>
                <a:srgbClr val="3333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1"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9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00"/>
                </a:solidFill>
                <a:latin typeface="Arial"/>
              </a:rPr>
              <a:t>Điều khoản trọng tài và luật xét xử</a:t>
            </a:r>
            <a:endParaRPr b="1" lang="en-US" sz="24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Trong tài là một loại tòa án tư (Private Court) do các bên tự nguyện lập ra và tự nguyện tuân thủ các quyết định của nó, gồm hai loại: trọng tài quy chế và trọng tài ADHOC</a:t>
            </a:r>
            <a:endParaRPr b="1" lang="en-US" sz="20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Điều kiện tiên quyết: muốn giải quyết tranh chấp bằng trọng tài thì các bên phải thỏa thuận về trọng tài hoặc phải có điều khoản về trọng tài trong hợp đồng thuê tàu</a:t>
            </a:r>
            <a:endParaRPr b="1" lang="en-US" sz="2000" spc="-1" strike="noStrike">
              <a:solidFill>
                <a:srgbClr val="333300"/>
              </a:solidFill>
              <a:latin typeface="Arial"/>
            </a:endParaRPr>
          </a:p>
          <a:p>
            <a:pPr lvl="1" marL="743040" indent="-285840">
              <a:lnSpc>
                <a:spcPct val="9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00"/>
                </a:solidFill>
                <a:latin typeface="Arial"/>
              </a:rPr>
              <a:t>Thỏa thuận trọng tài hay điều khoản trọng tài phải có đủ hai yếu tố:</a:t>
            </a:r>
            <a:endParaRPr b="1" lang="en-US" sz="2000" spc="-1" strike="noStrike">
              <a:solidFill>
                <a:srgbClr val="333300"/>
              </a:solidFill>
              <a:latin typeface="Arial"/>
            </a:endParaRPr>
          </a:p>
          <a:p>
            <a:pPr lvl="2" marL="1143000" indent="-228600">
              <a:lnSpc>
                <a:spcPct val="9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Tên đầy đủ, chính xác của tổ chức trọng tài</a:t>
            </a:r>
            <a:endParaRPr b="1" lang="en-US" sz="1800" spc="-1" strike="noStrike">
              <a:solidFill>
                <a:srgbClr val="333300"/>
              </a:solidFill>
              <a:latin typeface="Arial"/>
            </a:endParaRPr>
          </a:p>
          <a:p>
            <a:pPr lvl="2" marL="1143000" indent="-228600">
              <a:lnSpc>
                <a:spcPct val="9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Quy tắc tố tụng áp dụng để giải quyết vụ việc</a:t>
            </a:r>
            <a:endParaRPr b="1" lang="en-US" sz="1800" spc="-1" strike="noStrike">
              <a:solidFill>
                <a:srgbClr val="333300"/>
              </a:solidFill>
              <a:latin typeface="Arial"/>
            </a:endParaRPr>
          </a:p>
          <a:p>
            <a:pPr lvl="2" marL="1143000" indent="-228600">
              <a:lnSpc>
                <a:spcPct val="9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00"/>
                </a:solidFill>
                <a:latin typeface="Arial"/>
              </a:rPr>
              <a:t>Một số vấn đề khác: ngôn ngữ, số trọng tài viên, địa điểm</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64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Điều khoản trọng tài mẫu của VIAC</a:t>
            </a:r>
            <a:endParaRPr b="1" lang="en-US" sz="2600" spc="-1" strike="noStrike">
              <a:solidFill>
                <a:srgbClr val="3333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	</a:t>
            </a:r>
            <a:r>
              <a:rPr b="0" lang="en-US" sz="2600" spc="-1" strike="noStrike">
                <a:solidFill>
                  <a:srgbClr val="333300"/>
                </a:solidFill>
                <a:latin typeface="Arial"/>
              </a:rPr>
              <a:t>Mọi tranh chấp phát sinh từ hoặc liên quan đến hợp đồng này sẽ được giải quyết tại Trung tâm Trọng tài quốc tế Việt nam bên cạnh Phòng Thương mại và công nghiệp Việt nam theo Quy tắc tố tụng trọng tài của Trung tâm này.</a:t>
            </a:r>
            <a:endParaRPr b="1" lang="en-US" sz="2600" spc="-1" strike="noStrike">
              <a:solidFill>
                <a:srgbClr val="3333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	</a:t>
            </a:r>
            <a:endParaRPr b="1" lang="en-US" sz="2600" spc="-1" strike="noStrike">
              <a:solidFill>
                <a:srgbClr val="333300"/>
              </a:solidFill>
              <a:latin typeface="Arial"/>
            </a:endParaRPr>
          </a:p>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00"/>
                </a:solidFill>
                <a:latin typeface="Arial"/>
              </a:rPr>
              <a:t>	</a:t>
            </a:r>
            <a:r>
              <a:rPr b="0" lang="en-US" sz="2600" spc="-1" strike="noStrike">
                <a:solidFill>
                  <a:srgbClr val="333300"/>
                </a:solidFill>
                <a:latin typeface="Arial"/>
              </a:rPr>
              <a:t>“</a:t>
            </a:r>
            <a:r>
              <a:rPr b="0" lang="en-US" sz="2600" spc="-1" strike="noStrike">
                <a:solidFill>
                  <a:srgbClr val="333300"/>
                </a:solidFill>
                <a:latin typeface="Arial"/>
              </a:rPr>
              <a:t>All disputes arising out of or in relation to this contract shall be finally settled by the Vietnam International Arbitration Center at the Vietnam Chamber of Commerce and Industry in accordance with its Arbitration Rules”</a:t>
            </a:r>
            <a:endParaRPr b="1" lang="en-US" sz="2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00"/>
                </a:solidFill>
                <a:latin typeface="Arial"/>
              </a:rPr>
              <a:t>Thực tế điều khoản trọng tài trong các hợp đồng thuê tàu của chủ tàu Việt nam</a:t>
            </a:r>
            <a:endParaRPr b="1" lang="en-US" sz="32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Any dispute arising out of this C/P to be settled in Singapore and English law to apply.</a:t>
            </a:r>
            <a:endParaRPr b="1" lang="en-US" sz="2800" spc="-1" strike="noStrike">
              <a:solidFill>
                <a:srgbClr val="333300"/>
              </a:solidFill>
              <a:latin typeface="Arial"/>
            </a:endParaRPr>
          </a:p>
          <a:p>
            <a:pPr lvl="1" marL="743040" indent="-285840">
              <a:spcBef>
                <a:spcPts val="7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00"/>
                </a:solidFill>
                <a:latin typeface="Arial"/>
              </a:rPr>
              <a:t>Dispute, if any, to be settled fully and finally by HKIAC in HongKong and English law to apply</a:t>
            </a:r>
            <a:endParaRPr b="1" lang="en-US" sz="2800" spc="-1" strike="noStrike">
              <a:solidFill>
                <a:srgbClr val="3333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Điều khoản hai tàu đâm va nhau cùng có lỗi (Both to Blame Collision)</a:t>
            </a:r>
            <a:endParaRPr b="1" lang="en-US" sz="20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endParaRPr b="1" lang="en-US" sz="1600" spc="-1" strike="noStrike">
              <a:solidFill>
                <a:srgbClr val="3333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a:t>
            </a:r>
            <a:r>
              <a:rPr b="1" lang="en-US" sz="1600" spc="-1" strike="noStrike">
                <a:solidFill>
                  <a:srgbClr val="333300"/>
                </a:solidFill>
                <a:latin typeface="Arial"/>
              </a:rPr>
              <a:t>If the (Carrying) ship comes into collision with another ship as a result of the negligence of the other ship and any act, neglect or default in the navigation or the management of the carrying ship, the Merchant undertakes to pay the carrier or where the Carrier is not the owner and in possession of the carrying ship to pay to the Carrier as trustee for the owner and/or demise charterer of the carrying ship, a sum sufficient to indemnify the Carrier and/or the owners and/or demise charterer of the carrying ship against all loss or liability to the other or non carrying ship or her owners, insofar as such loss or liability represents loss of or damage to or any claim whatsoever of the Merchant, paid or payable by the other or non carrying ship or her owners to the Merchant and set off recouped or recovered by the other or non carrying ship or her owners as part of their claim against the carrying ship or her owner or demise charterer or the Carrier. The foregoing provisions shall also apply where the owners, operators or those in charge of any ship or ships or objects, other than, or in addition to the colliding ship or objects, are at fault in respect to a collision; contact, stranding or other accident.”</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6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ea typeface="MS PGothic"/>
              </a:rPr>
              <a:t>“</a:t>
            </a:r>
            <a:r>
              <a:rPr b="1" lang="en-US" sz="2000" spc="-1" strike="noStrike">
                <a:solidFill>
                  <a:srgbClr val="333300"/>
                </a:solidFill>
                <a:latin typeface="Arial"/>
                <a:ea typeface="MS PGothic"/>
              </a:rPr>
              <a:t>Nếu tàu chở hàng A đâm va tàu không hàng B do hậu quả sơ suất của tàu B và do hành vi sơ suất hoặc lỗi lầm của thuyền trưởng, thủy thủ, hoa tiêu hay người phục vụ trong việc chạy tàu và quản trị tàu chở hàng A, thì chủ hàng trên tàu A sẽ bồi thường cho người chuyên chở (Tàu A) mọi mất mát hoặc trách nhiệm đối với tàu không hàng B đến mức mất mát hoặc trách nhiệm này tương ứng với mất mát hoặc hư hỏng mà chủ hàng được tàu không hàng B đã hoặc sẽ bồi thường và nó đã được đối chiếu, giảm trừ hoặc trích giữ như làmột phần khiếu nại của tàu B đối với tàu A. Quy định vừa được đề cập cũng sẽ áp dụng tại nơi nào đó mà chủ tàu, người điều hành hoặc người quản lý tàu hay phương tiện nào khác mà phạm lỗi lầm trong một vụ tàu đâm va”.</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71" name="PlaceHolder 2"/>
          <p:cNvSpPr>
            <a:spLocks noGrp="1"/>
          </p:cNvSpPr>
          <p:nvPr>
            <p:ph/>
          </p:nvPr>
        </p:nvSpPr>
        <p:spPr>
          <a:xfrm>
            <a:off x="1500120" y="1523520"/>
            <a:ext cx="7491600" cy="5334120"/>
          </a:xfrm>
          <a:prstGeom prst="rect">
            <a:avLst/>
          </a:prstGeom>
          <a:noFill/>
          <a:ln w="0">
            <a:noFill/>
          </a:ln>
        </p:spPr>
        <p:txBody>
          <a:bodyPr lIns="92160" rIns="92160" tIns="46080" bIns="4608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Điều khoản tổn thất chung và New Jason (General Average and New Jason Clause)</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a:t>
            </a:r>
            <a:r>
              <a:rPr b="1" lang="en-US" sz="1600" spc="-1" strike="noStrike">
                <a:solidFill>
                  <a:srgbClr val="333300"/>
                </a:solidFill>
                <a:latin typeface="Arial"/>
              </a:rPr>
              <a:t>General Average shall be adjusted in London unless otherwise agreed in Box 22 according to York- Antwerp Rules 1994 and any subsequent modification thereof. Proprietors of cargo to pay the cargo’s share in the general expense even if same have been necessitated through neglect or default of the Owners’ servant.</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If General Average is to be adjusted in accordance with the law and practice of the US of America, the following clause shall apply: “ In the event of accident, danger, damage or disaster before or after the commencement of the voyage, resulting from any cause whatsoever, whether due to negligence or not, for which, or for the consequence of which, the Carrier is not responsible, by statute, contract or otherwise, the goods, Shippers, Consignees or owners of the goods shall contribute with the Carrier in general average to the payment of any sacrifices, losses or expenses of a general average nature that may be made or incurred and shall pay salvage and special charges incurred in respect of the goods. If a salving ship is owned or operated by the Carrier, salvage shall be paid for as fully as if the said salving ship or ships belonged to strangers. Such deposit as the Carrier or his agents may deem sufficient to cover the estimated contribution of the goods and any salvage and special charges thereon shall, if required, be made by the goods, Shippers, Consignees or owners of the goods to the Carrier before delivery”.”</a:t>
            </a: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3.3.3. Nội dung hợp đồng thuê tàu chuyến</a:t>
            </a:r>
            <a:endParaRPr b="0" lang="en-US" sz="3400" spc="-1" strike="noStrike">
              <a:solidFill>
                <a:srgbClr val="000000"/>
              </a:solidFill>
              <a:latin typeface="Times New Roman"/>
            </a:endParaRPr>
          </a:p>
        </p:txBody>
      </p:sp>
      <p:sp>
        <p:nvSpPr>
          <p:cNvPr id="27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a:t>
            </a:r>
            <a:r>
              <a:rPr b="1" lang="en-US" sz="2000" spc="-1" strike="noStrike">
                <a:solidFill>
                  <a:srgbClr val="333300"/>
                </a:solidFill>
                <a:latin typeface="Arial"/>
              </a:rPr>
              <a:t>Chủ hàng hoặc người gởi, người nhận hàng có bổn phận đóng góp tổn thất chung bất kể hiểm họa, tai nạn xảy ra trước hoặc sau hành trình của con tàu, bất kể nguyên nhân xảy ra tổn thất chung như thế nào bao gồm cả nguyên nhân bất cẩn của tàu mà tàu được hưởng miễn trách căn cứ theo luật pháp, hợp đồng hoặc cách nào khác. Họ sẽ trả phí cứu hộ và những chi phí đặc biệt phát sinh đối với hàng hóa. Phí cứu hộ sẽ được trả toàn bộ đầy đủ cho dù tàu cứu hộ thuộc sở hữu chủ tàu hay sở hữu của người ngoài. Số tiền ký quỹ đóng góp tổn thất chung do người chuyên chở hoặc đại lý của họ dự kiến coi như đầy đủ sẽ được chủ hàng, người gởi hoặc người nhận hàng giao nộp trước khi nhận hàng”. </a:t>
            </a:r>
            <a:br>
              <a:rPr sz="2000"/>
            </a:br>
            <a:r>
              <a:rPr b="1" lang="en-US" sz="2000" spc="-1" strike="noStrike">
                <a:solidFill>
                  <a:srgbClr val="333300"/>
                </a:solidFill>
                <a:latin typeface="Arial"/>
              </a:rPr>
              <a:t> </a:t>
            </a: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2. Đặc trưng</a:t>
            </a:r>
            <a:endParaRPr b="0" lang="en-US" sz="3200" spc="-1" strike="noStrike">
              <a:solidFill>
                <a:srgbClr val="000000"/>
              </a:solidFill>
              <a:latin typeface="Times New Roman"/>
            </a:endParaRPr>
          </a:p>
        </p:txBody>
      </p:sp>
      <p:sp>
        <p:nvSpPr>
          <p:cNvPr id="173" name="PlaceHolder 2"/>
          <p:cNvSpPr>
            <a:spLocks noGrp="1"/>
          </p:cNvSpPr>
          <p:nvPr>
            <p:ph/>
          </p:nvPr>
        </p:nvSpPr>
        <p:spPr>
          <a:xfrm>
            <a:off x="1500120" y="1523520"/>
            <a:ext cx="7491600" cy="53341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Trọng tải của tàu- Carrying Capacity: là sức chở của tàu tính bằng tấn dài ở mớn nước tối đa:</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tải toàn phần- Dead Weight Capacity (DWC): bằng hiệu số giữa trọng lượng tàu đầy hàng với trọng lượng tàu không hàng</a:t>
            </a:r>
            <a:endParaRPr b="1" lang="en-US" sz="1800" spc="-1" strike="noStrike">
              <a:solidFill>
                <a:srgbClr val="3333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	</a:t>
            </a:r>
            <a:r>
              <a:rPr b="1" lang="en-US" sz="1800" spc="-1" strike="noStrike">
                <a:solidFill>
                  <a:srgbClr val="333300"/>
                </a:solidFill>
                <a:latin typeface="Arial"/>
              </a:rPr>
              <a:t>DWC = HD – LD = hàng hóa + vật phẩm</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rọng tải tịnh- Dead Weight Cargo Capacity (DWCC): bằng trọng tải toàn phần trừ đi trọng lượng các vật phẩm cần thiết cung ứng cho hành trình</a:t>
            </a:r>
            <a:endParaRPr b="1" lang="en-US" sz="1800" spc="-1" strike="noStrike">
              <a:solidFill>
                <a:srgbClr val="3333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	</a:t>
            </a:r>
            <a:r>
              <a:rPr b="1" lang="en-US" sz="1800" spc="-1" strike="noStrike">
                <a:solidFill>
                  <a:srgbClr val="333300"/>
                </a:solidFill>
                <a:latin typeface="Arial"/>
              </a:rPr>
              <a:t>DWCC = DWC – vật phẩm = hàng hóa</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Dung tích đăng ký- Register Tonnage: là thể tích các khoảng trống khép kín trên tàu tính bằng m3, cubic feet(c.ft) hoặc tấn dung tích đăng ký (register ton)</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Dung tích đăng ký toàn phần- Gross Register Tonnage (GRT): bao gồm toàn bộ dung tích các khoang trống khép kín trên tàu, tính từ boong trên cùng trở xuống</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Dung tích đăng ký tịnh- Net Register Tonnage (NRT): bao gồm toàn bộ dung tích các khoang trống dùng để chứa hàng trên tàu</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ấp hạng của tàu- Class of Ship</a:t>
            </a:r>
            <a:endParaRPr b="1" lang="en-US" sz="2000" spc="-1" strike="noStrike">
              <a:solidFill>
                <a:srgbClr val="3333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Unicode MS"/>
              </a:rPr>
              <a:t>1.2. Đặc trưng</a:t>
            </a:r>
            <a:endParaRPr b="0" lang="en-US" sz="3200" spc="-1" strike="noStrike">
              <a:solidFill>
                <a:srgbClr val="000000"/>
              </a:solidFill>
              <a:latin typeface="Times New Roman"/>
            </a:endParaRPr>
          </a:p>
        </p:txBody>
      </p:sp>
      <p:sp>
        <p:nvSpPr>
          <p:cNvPr id="175" name="PlaceHolder 2"/>
          <p:cNvSpPr>
            <a:spLocks noGrp="1"/>
          </p:cNvSpPr>
          <p:nvPr>
            <p:ph/>
          </p:nvPr>
        </p:nvSpPr>
        <p:spPr>
          <a:xfrm>
            <a:off x="1500120" y="1523520"/>
            <a:ext cx="7491600" cy="5334120"/>
          </a:xfrm>
          <a:prstGeom prst="rect">
            <a:avLst/>
          </a:prstGeom>
          <a:noFill/>
          <a:ln w="0">
            <a:noFill/>
          </a:ln>
        </p:spPr>
        <p:txBody>
          <a:bodyPr lIns="92160" rIns="92160" tIns="46080" bIns="46080" anchor="t">
            <a:normAutofit/>
          </a:bodyPr>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ung tích chứa hàng- Cargo Space: là khả năng xếp các loại hàng hóa khác nhau trong hầm tàu của con tàu đó, tính bằng m3 hoặc c.ft:</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ung tích chứa hàng rời- Grain Space</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Dung tích chứa hàng bao kiện- Bale Space</a:t>
            </a:r>
            <a:endParaRPr b="1" lang="en-US" sz="1600" spc="-1" strike="noStrike">
              <a:solidFill>
                <a:srgbClr val="333300"/>
              </a:solidFill>
              <a:latin typeface="Arial"/>
            </a:endParaRPr>
          </a:p>
          <a:p>
            <a:pPr marL="343080" indent="-343080">
              <a:lnSpc>
                <a:spcPct val="80000"/>
              </a:lnSpc>
              <a:spcBef>
                <a:spcPts val="400"/>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ệ số xếp hàng</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ệ số xếp hàng của tàu- Coefficient of Loading(CL): mối quan hệ giữa dung tích chứa hàng của tàu và trọng tải tịnh của tàu</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CL = CS/DWCC</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gt; Cho biết một tấn trọng tải tịnh của tàu tương đương với bao nhiêu đơn vị dung tích chứa hàng của tàu đó</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Hệ số xếp hàng của hàng- Stowage Factor (SF): mối quan hệ tỷ lệ giữa thể tích và trọng lượng của hàng khi loại hàng này được xếp trong hầm tàu</a:t>
            </a:r>
            <a:endParaRPr b="1" lang="en-US" sz="1600" spc="-1" strike="noStrike">
              <a:solidFill>
                <a:srgbClr val="333300"/>
              </a:solidFill>
              <a:latin typeface="Arial"/>
            </a:endParaRPr>
          </a:p>
          <a:p>
            <a:pPr lvl="1" marL="743040" indent="-285840">
              <a:lnSpc>
                <a:spcPct val="80000"/>
              </a:lnSpc>
              <a:spcBef>
                <a:spcPts val="400"/>
              </a:spcBef>
              <a:buClr>
                <a:srgbClr val="999933"/>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Khi xếp hàng xuống hầm tàu, muốn tận dụng được hết trọng tải và dung tích của tàu thì nên lựa chọn các mặt hàng thỏa mãn:</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X1 + X2 + ….+ Xn = DWCC</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X1.SF1 + X2.SF2 + … + Xn.SFn = CS</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Trong đó: X1, X2, … , Xn là khối lượng của các mặt hàng</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SF1, SF2, … , SFn là hệ số xếp hàng tương ứng của các mặt hàng trên</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DWCC là trọng tải tịnh của tàu</a:t>
            </a:r>
            <a:endParaRPr b="1" lang="en-US" sz="1600" spc="-1" strike="noStrike">
              <a:solidFill>
                <a:srgbClr val="3333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00"/>
                </a:solidFill>
                <a:latin typeface="Arial"/>
              </a:rPr>
              <a:t>	</a:t>
            </a:r>
            <a:r>
              <a:rPr b="1" lang="en-US" sz="1600" spc="-1" strike="noStrike">
                <a:solidFill>
                  <a:srgbClr val="333300"/>
                </a:solidFill>
                <a:latin typeface="Arial"/>
              </a:rPr>
              <a:t>            </a:t>
            </a:r>
            <a:r>
              <a:rPr b="1" lang="en-US" sz="1600" spc="-1" strike="noStrike">
                <a:solidFill>
                  <a:srgbClr val="333300"/>
                </a:solidFill>
                <a:latin typeface="Arial"/>
              </a:rPr>
              <a:t>CS là dung tích chứa hàng của tàu</a:t>
            </a:r>
            <a:endParaRPr b="1" lang="en-US" sz="1600" spc="-1" strike="noStrike">
              <a:solidFill>
                <a:srgbClr val="3333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3. Phân loại tàu buôn</a:t>
            </a:r>
            <a:br>
              <a:rPr sz="4000"/>
            </a:br>
            <a:endParaRPr b="0" lang="en-US" sz="4000" spc="-1" strike="noStrike">
              <a:solidFill>
                <a:srgbClr val="000000"/>
              </a:solidFill>
              <a:latin typeface="Times New Roman"/>
            </a:endParaRPr>
          </a:p>
        </p:txBody>
      </p:sp>
      <p:sp>
        <p:nvSpPr>
          <p:cNvPr id="177" name="PlaceHolder 2"/>
          <p:cNvSpPr>
            <a:spLocks noGrp="1"/>
          </p:cNvSpPr>
          <p:nvPr>
            <p:ph/>
          </p:nvPr>
        </p:nvSpPr>
        <p:spPr>
          <a:xfrm>
            <a:off x="1500120" y="1523880"/>
            <a:ext cx="7491600" cy="5181840"/>
          </a:xfrm>
          <a:prstGeom prst="rect">
            <a:avLst/>
          </a:prstGeom>
          <a:noFill/>
          <a:ln w="0">
            <a:noFill/>
          </a:ln>
        </p:spPr>
        <p:txBody>
          <a:bodyPr lIns="92160" rIns="92160" tIns="46080" bIns="46080" anchor="t">
            <a:normAutofit/>
          </a:bodyPr>
          <a:p>
            <a:pPr marL="343080" indent="-343080">
              <a:lnSpc>
                <a:spcPct val="80000"/>
              </a:lnSpc>
              <a:spcBef>
                <a:spcPts val="601"/>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00"/>
                </a:solidFill>
                <a:latin typeface="Arial"/>
              </a:rPr>
              <a:t>Căn cứ vào công dụng</a:t>
            </a:r>
            <a:endParaRPr b="1" lang="en-US" sz="24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óm tàu chở hàng khô- Dry Cargo Ships: dùng trong chuyên chở hàng hóa ở thể rắn có bao bì hoặc không có bao bì và hàng hóa ở thể lỏng có bao bì:</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àng bách hóa</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ontainer</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xà la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àng khô có khối lượng lớ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àng kết hợp</a:t>
            </a:r>
            <a:endParaRPr b="1" lang="en-US" sz="18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óm tàu chở hàng lỏng: gồm các tàu chở hàng hóa ở thể lỏng không có bao bì:</a:t>
            </a:r>
            <a:endParaRPr b="1" lang="en-US" sz="20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dầu</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àng lỏng khác</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hơi đốt thiên nhiên</a:t>
            </a:r>
            <a:endParaRPr b="1" lang="en-US" sz="1800" spc="-1" strike="noStrike">
              <a:solidFill>
                <a:srgbClr val="333300"/>
              </a:solidFill>
              <a:latin typeface="Arial"/>
            </a:endParaRPr>
          </a:p>
          <a:p>
            <a:pPr lvl="2" marL="1143000" indent="-228600">
              <a:lnSpc>
                <a:spcPct val="80000"/>
              </a:lnSpc>
              <a:spcBef>
                <a:spcPts val="451"/>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ở dầu khí hóa lỏng </a:t>
            </a:r>
            <a:endParaRPr b="1" lang="en-US" sz="1800" spc="-1" strike="noStrike">
              <a:solidFill>
                <a:srgbClr val="333300"/>
              </a:solidFill>
              <a:latin typeface="Arial"/>
            </a:endParaRPr>
          </a:p>
          <a:p>
            <a:pPr lvl="1" marL="743040" indent="-285840">
              <a:lnSpc>
                <a:spcPct val="8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Nhóm tàu chở hàng đặc biệt: gồm những tàu chuyên chở những loại hàng hóa có nhu cầu xếp dỡ và bảo quản đặc biệt</a:t>
            </a:r>
            <a:endParaRPr b="1" lang="en-US" sz="2000" spc="-1" strike="noStrike">
              <a:solidFill>
                <a:srgbClr val="333300"/>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Phân loại tàu buôn</a:t>
            </a:r>
            <a:endParaRPr b="0" lang="en-US" sz="3200" spc="-1" strike="noStrike">
              <a:solidFill>
                <a:srgbClr val="000000"/>
              </a:solidFill>
              <a:latin typeface="Times New Roman"/>
            </a:endParaRPr>
          </a:p>
        </p:txBody>
      </p:sp>
      <p:sp>
        <p:nvSpPr>
          <p:cNvPr id="179"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ăn cứ theo cỡ tàu:</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ực lớn- Ultra Large Crude Carrier (ULCC): tàu chở dầu thô có trọng tải 350 000 DWT trở lên</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rất lớn (VLCC): tàu chở dầu có trọng tải 200 000 đến 350 000 DWT</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ó trọng tải trung bình: các tàu chở hàng rời và hàng bách hóa có trọng tải tịnh dưới 200 000DWT</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nhỏ: tàu có trọng tải  và dung tích đăng ký nhỏ (nhưng trọng tải toàn phần phải từ 300 DWT hoặc dung tích đăng ký phải từ 100GRT trở lên)</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ăn cứ theo cờ tàu</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treo cờ thường</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treo cờ phương tiện</a:t>
            </a:r>
            <a:endParaRPr b="1" lang="en-US" sz="1800" spc="-1" strike="noStrike">
              <a:solidFill>
                <a:srgbClr val="333300"/>
              </a:solidFill>
              <a:latin typeface="Arial"/>
            </a:endParaRPr>
          </a:p>
          <a:p>
            <a:pPr marL="343080" indent="-343080">
              <a:lnSpc>
                <a:spcPct val="80000"/>
              </a:lnSpc>
              <a:spcBef>
                <a:spcPts val="4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00"/>
                </a:solidFill>
                <a:latin typeface="Arial"/>
              </a:rPr>
              <a:t>Căn cứ vào phạm vi kinh doanh</a:t>
            </a:r>
            <a:endParaRPr b="1" lang="en-US" sz="20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ạy vùng biển xa</a:t>
            </a:r>
            <a:endParaRPr b="1" lang="en-US" sz="1800" spc="-1" strike="noStrike">
              <a:solidFill>
                <a:srgbClr val="333300"/>
              </a:solidFill>
              <a:latin typeface="Arial"/>
            </a:endParaRPr>
          </a:p>
          <a:p>
            <a:pPr lvl="1" marL="743040" indent="-285840">
              <a:lnSpc>
                <a:spcPct val="80000"/>
              </a:lnSpc>
              <a:spcBef>
                <a:spcPts val="451"/>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00"/>
                </a:solidFill>
                <a:latin typeface="Arial"/>
              </a:rPr>
              <a:t>Tàu chạy vùng biển gần</a:t>
            </a:r>
            <a:endParaRPr b="1" lang="en-US" sz="1800" spc="-1" strike="noStrike">
              <a:solidFill>
                <a:srgbClr val="3333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11:55:12Z</dcterms:created>
  <dc:creator>Cun</dc:creator>
  <dc:description/>
  <dc:language>en-US</dc:language>
  <cp:lastModifiedBy>Cun</cp:lastModifiedBy>
  <dcterms:modified xsi:type="dcterms:W3CDTF">2009-11-22T15:13:18Z</dcterms:modified>
  <cp:revision>91</cp:revision>
  <dc:subject/>
  <dc:title>Chương II: </dc:title>
</cp:coreProperties>
</file>