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6E7E-B535-4151-AB4D-3F1EDB43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D2CC4-4828-4C85-A003-07778DF9B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6C7A-E9B2-4131-9DB9-177E07E09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51C8-4F1C-4321-AEB7-FD3C5D6B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98345-D683-49EA-ABAD-9B0B7B730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E8735-F642-461B-952D-90FBEEBF6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C044C0-93F9-4EEE-A048-4BC62980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834C76-7A28-4160-A943-FB323D34C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23B1C1-561C-4188-AB96-1B8C3C4B1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25A36-3724-4AA6-9203-04CAB72D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D8F38-AEBF-40A4-8356-752208DE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94BAB-8CC2-4D7E-BE20-EDAD929C2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D637A4-319B-4328-89AD-206694ACF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16312B-AFDD-49DE-9586-39AC9B036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D33027-2DE5-4A3F-85F7-2E0984C12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EAAC35-3481-4139-8904-4ED3D73A2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DBC12-8953-4E64-9527-15BD445C3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1038-FA57-4F4F-94A8-B6A68BFF4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B5E6-193C-4DED-9271-E3BA24416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C5FC-13FE-4152-9ED5-B8E0A88D7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EB5-28C5-4AC0-AEF3-9922AE0F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610-52EC-4FA3-9104-4F6CFC42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40C5-8518-4BDC-A9CB-BDFE396E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880F-22C4-45D8-8CF4-220623893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BB3E-6BC6-4FEB-8637-DB7086C60366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19F87-2FE4-4640-A1B5-91E0AE18F7FF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50560" y="785520"/>
            <a:ext cx="889308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ợ là tàu chở hàng thường xuyên chạy trên một tuyến đường nhất định, ghé qua những cảng nhất định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huê tàu chợ là việc chủ hàng thông qua đại lý yêu cầu giành một chỗ trên tàu để chuyên chở hàng hóa từ nơi này đến nơ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Booking note </a:t>
            </a:r>
            <a:r>
              <a:rPr b="1" i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 giấy lưu khoang (giấy lưu cước tàu chợ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4.4- căn cứ vào việc đã xếp hàng hay chư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đã xếp (shipped on boar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nhận để xếp (received for shipment BL, taken in charg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4.5- một số loại BL và chứng từ vận tải khá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do người giao nhận cấp (FBL, FCT, Hous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 theo hợp đồng thuê tàu (charter party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ã xuất trỡnh (surrendered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có thể thay đổi (switch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BL thuyền phó (mate’s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Giấy gửi hàng đường biển (seawaybil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BL đến chậm (Stale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5- Nội du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50560" y="981000"/>
            <a:ext cx="87138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5.2- Mặt sau: các điều khoản in sẵn của 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ã</a:t>
            </a:r>
            <a:r>
              <a:rPr b="0" lang="vi-VN" sz="3200" spc="-1" strike="noStrike">
                <a:solidFill>
                  <a:srgbClr val="ffffff"/>
                </a:solidFill>
                <a:latin typeface="Tahoma"/>
              </a:rPr>
              <a:t>ng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th to blame collision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BE" sz="3200" spc="-1" strike="noStrike">
                <a:solidFill>
                  <a:srgbClr val="ffffff"/>
                </a:solidFill>
                <a:latin typeface="Tahoma"/>
              </a:rPr>
              <a:t>General average clau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ffffff"/>
                </a:solidFill>
                <a:latin typeface="Tahoma"/>
              </a:rPr>
              <a:t>Nguồn luật áp dụ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96472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II- Phương thức thuê tàu chợ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đặ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àu chạy theo một lịch trỡnh định trướ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ước phí được công bố từ trướ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F = f + I + O + S (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hứng từ vận tải B/L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Áp dụng khi nào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96472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98064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Bill of lading, Ocean bill of lading, marine bill of la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800" spc="-1" strike="noStrike">
                <a:solidFill>
                  <a:srgbClr val="ffffff"/>
                </a:solidFill>
                <a:latin typeface="Tahoma"/>
              </a:rPr>
              <a:t>1- Khái niệ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Là chứng từ vận tải mà người chuyên chở cấp cho người gửi hàng khi nhận hàng để xếp hoặc xếp hàng lên tà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96472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2- Cách phát hành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ược phát hành thành các bản gốc và bản copy (bản sa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ột bộ BL thường gồm 3 bản gốc và nhiều bản sa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Số bản copy được cấp theo yêu cầu của người gửi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ằng chứng của hợp đồng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iên lai nhận hàng để chở của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Là chứng từ sở hữu hàng hóa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document of title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vi-VN" sz="4000" spc="-1" strike="noStrike" u="sng">
                <a:solidFill>
                  <a:srgbClr val="ffffff"/>
                </a:solidFill>
                <a:uFillTx/>
                <a:latin typeface="Tahoma"/>
              </a:rPr>
              <a:t>IV- Vận đơn đường biển (B/L)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Chức năng của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BL: là việc ký và đóng dấu vào mặt sau của tờ BL, qua đó tài sản được chuyển từ sở hữu của người này sang người khác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ó 3 cách ký hậu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Ký hậu đích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theo lệ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Ký hậu vô dan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1412640"/>
            <a:ext cx="8713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1- căn cứ vào người hưởng thụ trên BL (hoặc khả năng lưu thông của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đích danh (strai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theo lệnh (to order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-BL vô danh (to bearer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50560" y="1413000"/>
            <a:ext cx="871380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2- căn cứ vào ghi chú trên B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hoàn hảo (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BL không hoàn hảo (unclean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000" spc="-1" strike="noStrike">
                <a:solidFill>
                  <a:srgbClr val="ffffff"/>
                </a:solidFill>
                <a:latin typeface="Tahoma"/>
              </a:rPr>
              <a:t>4- Phân loại B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50560" y="1916280"/>
            <a:ext cx="871380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.3- căn cứ vào hành trỡnh vận tả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i thẳ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irec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BL chở suốt (</a:t>
            </a:r>
            <a:r>
              <a:rPr b="1" i="1" lang="en-US" sz="3200" spc="-1" strike="noStrike">
                <a:solidFill>
                  <a:srgbClr val="ffffff"/>
                </a:solidFill>
                <a:latin typeface="Tahoma"/>
              </a:rPr>
              <a:t>throught B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BL đa phương thức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multimodal transport BL, intermodal transport BL, combined transport BL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7:57Z</dcterms:modified>
  <cp:revision>46</cp:revision>
  <dc:subject/>
  <dc:title>PowerPoint Presentation</dc:title>
</cp:coreProperties>
</file>