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CE42-DD59-44D5-A895-ADE98FD59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A51B-1B1B-425E-8912-97A97C00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7552-F4B7-4900-99E0-6F2D138F7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8F13-236F-40B1-A02B-B4260DC02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44AA0E-3FBA-4E2F-BC6E-AE2B959DC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1ADDEE-7BDD-42E5-AE88-BF74400CC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299344-A64B-4123-93ED-B10677146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A0BACC-8139-4843-BAD9-A78C8856E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46D75B-D18B-434E-96EC-B8D6B2A3A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F2D056-58F0-4D06-A6D7-B8E32E85E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97F85E-9673-4AAE-96D4-B0B504405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08C5-332B-4454-B557-51ED20C1F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57869-C04B-4683-AADD-3C71E98C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7C9C5B-3295-4202-8512-EF2C4269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8A46C-13D6-4080-B97C-3AF7761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0CC60C-6BFE-42CC-87D2-F0A86077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46A514-0E8E-4223-B365-3EDC8A584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C1B5-4072-4542-B620-5145FEBFE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D715-150F-4FCE-8458-857B3A3B2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E62C-3ECD-4AEF-BAEE-C96873E77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A856A-4FFE-491E-9848-0B62A2D65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653D-D503-40FD-B7D1-DA44FCBCD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08B1-DE30-4196-802F-0945630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86190-20A4-485B-A92B-A5CECA00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5C6D-E92C-48F9-B6D4-E1EEF9D6A893}" type="slidenum">
              <a:rPr b="0" lang="fr-B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B1D4D-92CC-4D0C-8AB0-6B103DC286B6}" type="slidenum">
              <a:rPr b="0" lang="fr-BE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1152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6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68360" y="1844640"/>
            <a:ext cx="842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 u="sng">
                <a:solidFill>
                  <a:srgbClr val="ffffff"/>
                </a:solidFill>
                <a:uFillTx/>
                <a:latin typeface="Tahoma"/>
              </a:rPr>
              <a:t>Nội dung cần nắm đượ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Các phương thức thuê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2- Vận đơn (B/L - Bill of Ladin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3- Trách nhiệm của người chuyên chở theo các công ước quốc tế và quy định của Việ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4- Các điều khoản trong VC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5- Khiếu nại người chuyên ch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4000" y="1412640"/>
            <a:ext cx="864072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 Theo c¸c ®Æc tr­ng kinh tÕ – kü thuËt cña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uæ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®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u t¹o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p h¹ng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ê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t¶i tµu (ULCC, VLCC,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468360" y="2204640"/>
            <a:ext cx="842472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3. Theo ph­¬ng thøc kinh doanh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î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iner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¹y r«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tramp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: tµu chuyÕn, tµu ®Þnh h¹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4- ®éi tµu bu«n thÕ giíi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539280" y="2636640"/>
            <a:ext cx="799308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ù ph¸t triÓn cña ®éi tµu bu«n thÕ gií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Xu h­íng tiÕn bé kü thuËt cña ®éi tµu bu«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647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5- ®éi tµu biÓn cña ViÖt Nam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55640" y="2707920"/>
            <a:ext cx="504036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æng träng t¶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¬ cÊu ®éi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76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1. ®Þnh nghÜ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Lµ n¬i ra vµo neo ®Ëu ®Ó xÕp dì hµng hãa cña tµu biÓ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 chøc n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ng: phôc vô tµu vµ hµ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2. trang thiÕt bÞ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718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3. c¸c chØ tiªu ho¹t ®éng cña c¶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ra vµ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Sè l­îng tµu cã thÓ lµm hµng trong cïng mét kháang thêi gi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Khèi l­îng hµng hãa xÕp dì trong 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n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4. P</a:t>
            </a:r>
            <a:r>
              <a:rPr b="1" lang="fr-BE" sz="3200" spc="-1" strike="noStrike">
                <a:solidFill>
                  <a:srgbClr val="000066"/>
                </a:solidFill>
                <a:latin typeface="Times New Roman"/>
              </a:rPr>
              <a:t>hân loại cả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4400" spc="-1" strike="noStrike">
                <a:solidFill>
                  <a:srgbClr val="ff3300"/>
                </a:solidFill>
                <a:latin typeface=".VnTime"/>
              </a:rPr>
              <a:t>2- c¶ng biÓn (Sgk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2.5. c¶ng biÓn ViÖt N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89344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39280" y="1268280"/>
            <a:ext cx="84250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- Ưu nhược điểm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- Ưu điểm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đầu tư cơ sở hạ tầng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năng lực chuyên chở lớ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giá thành VTB thấ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2- Nhược điể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Tốc độ thấp: 14 </a:t>
            </a:r>
            <a:r>
              <a:rPr b="1" lang="vi-VN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 20 hải lý/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Nhiều rủi r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115920"/>
            <a:ext cx="889344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800" spc="-1" strike="noStrike">
                <a:solidFill>
                  <a:srgbClr val="ffffff"/>
                </a:solidFill>
                <a:latin typeface="Tahoma"/>
              </a:rPr>
              <a:t>Chương 2: Chuyên chở hàng hóa XNK bằng đường biể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II- Cơ sở vật chất kỹ thuật của VT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àu buô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merchant ship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ảng biển (</a:t>
            </a:r>
            <a:r>
              <a:rPr b="1" i="1" lang="fr-BE" sz="3200" spc="-1" strike="noStrike">
                <a:solidFill>
                  <a:srgbClr val="ffffff"/>
                </a:solidFill>
                <a:latin typeface="Tahoma"/>
              </a:rPr>
              <a:t>port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- Tàu buô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1.1- khái niệ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iện KTếHHải: là tàu chở hàng hóa hoặc hành khách vỡ mục đích thương mạ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1.2- đặc trưng kinh tế kỹ thuật của tàu biể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1269720"/>
            <a:ext cx="8785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Tên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ffff"/>
                </a:solidFill>
                <a:latin typeface="Tahoma"/>
              </a:rPr>
              <a:t>Chủ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Cảng đăng ký của tà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của tàu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draught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không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Mớn nước khi tàu có hà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3200" spc="-1" strike="noStrike">
                <a:solidFill>
                  <a:srgbClr val="ffffff"/>
                </a:solidFill>
                <a:latin typeface="Tahoma"/>
              </a:rPr>
              <a:t>Vạch xếp hàng (</a:t>
            </a:r>
            <a:r>
              <a:rPr b="1" i="1" lang="vi-VN" sz="3200" spc="-1" strike="noStrike">
                <a:solidFill>
                  <a:srgbClr val="ffffff"/>
                </a:solidFill>
                <a:latin typeface="Tahoma"/>
              </a:rPr>
              <a:t>Load line) – vạch Plimso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539280" y="1412640"/>
            <a:ext cx="8425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Đéng c¬ tµ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00 CB = 2,83 m³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D = M/35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hÑ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LD – light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räng l­îng nÆ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HD – heavy displacement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D = LD + träng l­îng hµng hãa vµ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-Träng t¶i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carrying capacity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ßan phÇn (DWC) = HD – 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Träng t¶i tÞnh (DWCC) = DWC – träng l­îng vËt phÈm cung ø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ng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 ký cña tµu (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register ton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oµn phÇn (G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Gros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Dung tÝch ®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g ký tÞnh (NRT - </a:t>
            </a:r>
            <a:r>
              <a:rPr b="0" i="1" lang="fr-BE" sz="3200" spc="-1" strike="noStrike">
                <a:solidFill>
                  <a:srgbClr val="000066"/>
                </a:solidFill>
                <a:latin typeface=".VnTime"/>
              </a:rPr>
              <a:t>Net Register Tonage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RT = GRT – dung tÝch c¸c phßng </a:t>
            </a:r>
            <a:r>
              <a:rPr b="0" lang="fr-BE" sz="3200" spc="-1" strike="noStrike">
                <a:solidFill>
                  <a:srgbClr val="000066"/>
                </a:solidFill>
                <a:latin typeface="Times New Roman"/>
              </a:rPr>
              <a:t>ă</a:t>
            </a:r>
            <a:r>
              <a:rPr b="0" lang="fr-BE" sz="3200" spc="-1" strike="noStrike">
                <a:solidFill>
                  <a:srgbClr val="000066"/>
                </a:solidFill>
                <a:latin typeface=".VnTime"/>
              </a:rPr>
              <a:t>n ë, gi¶i trÝ, buång m¸y hoa tiªu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431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50560" y="980640"/>
            <a:ext cx="8713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-Dung tÝch chøa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argo space – CS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bao kiÖ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S hµng rê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tµu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coefficient loading – CL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CL = CS / DWC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HÖ sè xÕp hµng cña hµng (</a:t>
            </a:r>
            <a:r>
              <a:rPr b="1" i="1" lang="fr-BE" sz="3200" spc="-1" strike="noStrike">
                <a:solidFill>
                  <a:srgbClr val="000066"/>
                </a:solidFill>
                <a:latin typeface=".VnTime"/>
              </a:rPr>
              <a:t>stowage factor -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3200" spc="-1" strike="noStrike">
                <a:solidFill>
                  <a:srgbClr val="ff3300"/>
                </a:solidFill>
                <a:latin typeface=".VnTime"/>
              </a:rPr>
              <a:t>Lµm thÕ nµo ®Ó xÕp hµng tèi ­u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CL = SF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</a:t>
            </a:r>
            <a:r>
              <a:rPr b="1" lang="fr-BE" sz="3200" spc="-1" strike="noStrike">
                <a:solidFill>
                  <a:srgbClr val="000066"/>
                </a:solidFill>
                <a:latin typeface="Wingdings"/>
                <a:ea typeface="Wingdings"/>
              </a:rPr>
              <a:t></a:t>
            </a: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 Sg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360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ff3300"/>
                </a:solidFill>
                <a:latin typeface=".VnTime"/>
              </a:rPr>
              <a:t>1.2- ®Æc tr­ng kinh tÕ kü thuËt cña tµu b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KÝch th­íc cña tµu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dµi: chiÒu dµi toµn bé vµ chiÒu dµi theo mín n­íc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hiÒu réng cña tµu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p h¹ng cña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lass of ship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µu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: cê cña n­íc mµ tµu mang quèc tÞch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th­êng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conventional flag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(</a:t>
            </a:r>
            <a:r>
              <a:rPr b="1" i="1" lang="fr-BE" sz="3000" spc="-1" strike="noStrike">
                <a:solidFill>
                  <a:srgbClr val="000066"/>
                </a:solidFill>
                <a:latin typeface=".VnTime"/>
              </a:rPr>
              <a:t>flag of convinience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Cê ph­¬ng tiÖn phæ biÕn trong TMQT v</a:t>
            </a:r>
            <a:r>
              <a:rPr b="1" lang="fr-BE" sz="3000" spc="-1" strike="noStrike">
                <a:solidFill>
                  <a:srgbClr val="000066"/>
                </a:solidFill>
                <a:latin typeface="Times New Roman"/>
              </a:rPr>
              <a:t>ì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 2 lý do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chÝnh tr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	</a:t>
            </a:r>
            <a:r>
              <a:rPr b="1" lang="fr-BE" sz="3000" spc="-1" strike="noStrike">
                <a:solidFill>
                  <a:srgbClr val="000066"/>
                </a:solidFill>
                <a:latin typeface=".VnTime"/>
              </a:rPr>
              <a:t>+ kinh tÕ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ff3300"/>
                </a:solidFill>
                <a:latin typeface=".VnTime"/>
              </a:rPr>
              <a:t>1.3- ph©n lo¹i tµu bu«n (Sgk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555920"/>
            <a:ext cx="86407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1. Theo c«ng dông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kh«: tµu chë hµng b¸ch ho¸, tµu container, tµu LASH, tµu RO-RO, tµu LO-LO, tµu chë hµng ®«ng l¹nh, tµu kÕt hîp,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200" spc="-1" strike="noStrike">
                <a:solidFill>
                  <a:srgbClr val="000066"/>
                </a:solidFill>
                <a:latin typeface=".VnTime"/>
              </a:rPr>
              <a:t>Tµu chë hµng láng: tµu dÇu, tµu chë nhiªn liÖu hãa láng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rinh Huong</cp:lastModifiedBy>
  <dcterms:modified xsi:type="dcterms:W3CDTF">2010-12-18T21:53:27Z</dcterms:modified>
  <cp:revision>50</cp:revision>
  <dc:subject/>
  <dc:title>PowerPoint Presentation</dc:title>
</cp:coreProperties>
</file>