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B96EEB-E256-43F1-AB93-6671D5BA56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5770E-B214-4B75-8240-4A72917C1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1F42BA-D891-42A4-83EB-F602C84376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EDC10C-8646-48D2-BAA9-B416D5A017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181D3F-CFAF-48FB-9E56-8B02E885A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A0F894-C8F7-4EE9-85AB-4E8EB5C202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C0023E-7839-4171-9539-17F40CD82E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854D85-71E6-4021-9D16-1F72643074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36E1DA-521C-481A-B3F9-140BEAE0C7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118905-2AB3-4CEA-AEB9-43A1D08B6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411582-41AF-41D1-B5EE-2F6F075F28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5FB6D-70BB-46E5-97FA-8CC78FE50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05AB41-8644-4E2D-B6B1-A4305A7E86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536DD9-2317-4F0F-8936-399143251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8BE42D-E406-49C1-B703-00DD4A5C82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DDE799-2E6C-4184-935D-DBA62A3DF6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3AC8FE-0EDE-4AE4-B799-FDDA31C935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C88FB-6349-48D5-AFE3-75AD0806D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3F2AF-B507-4173-B362-E50507F989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78570A-1F48-4B23-8C6E-3F2F7559C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624A49-E2B3-4259-ABAD-DFF7C9E19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E95DD-2E4E-4A17-B56B-2BB42930A7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18932-6CAC-4AEC-8EF5-5D6CC5EC9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6032D-53DE-4D4A-B97D-098CD8C71B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F58D3-E1C8-48C2-B90E-B2E08502F33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5464E-6EB7-4D5A-A645-7169C14846AC}"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66"/>
                </a:solidFill>
                <a:latin typeface="Arial"/>
              </a:rPr>
              <a:t>Vận tải và giao nhận hàng hóa XNK</a:t>
            </a:r>
            <a:endParaRPr b="1" lang="en-US" sz="4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2. Tác dụng của vận tải quốc tế</a:t>
            </a:r>
            <a:br>
              <a:rPr sz="3200"/>
            </a:br>
            <a:endParaRPr b="1" lang="en-US" sz="3200" spc="-1" strike="noStrike">
              <a:solidFill>
                <a:srgbClr val="006666"/>
              </a:solidFill>
              <a:latin typeface="Arial"/>
            </a:endParaRPr>
          </a:p>
        </p:txBody>
      </p:sp>
      <p:sp>
        <p:nvSpPr>
          <p:cNvPr id="11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Góp phần thúc đẩy buôn bán quốc tế phát triển: “Khối lượng hàng hóa lưu chuyển giữa hai nước tỷ lệ thuận với tích số tiềm năng kinh tế của hai nước và tỷ lệ nghịch với khoảng cách chuyên chở giữa hai nước đó”</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	</a:t>
            </a:r>
            <a:r>
              <a:rPr b="1" lang="en-US" sz="2400" spc="-1" strike="noStrike">
                <a:solidFill>
                  <a:srgbClr val="800080"/>
                </a:solidFill>
                <a:latin typeface="Arial"/>
              </a:rPr>
              <a:t>	</a:t>
            </a:r>
            <a:r>
              <a:rPr b="1" lang="en-US" sz="2400" spc="-1" strike="noStrike">
                <a:solidFill>
                  <a:srgbClr val="800080"/>
                </a:solidFill>
                <a:latin typeface="Arial"/>
              </a:rPr>
              <a:t>	</a:t>
            </a:r>
            <a:r>
              <a:rPr b="1" lang="en-US" sz="2400" spc="-1" strike="noStrike">
                <a:solidFill>
                  <a:srgbClr val="800080"/>
                </a:solidFill>
                <a:latin typeface="Arial"/>
              </a:rPr>
              <a:t>Q = P</a:t>
            </a:r>
            <a:r>
              <a:rPr b="1" lang="en-US" sz="2400" spc="-1" strike="noStrike" baseline="-25000">
                <a:solidFill>
                  <a:srgbClr val="800080"/>
                </a:solidFill>
                <a:latin typeface="Arial"/>
              </a:rPr>
              <a:t>1</a:t>
            </a:r>
            <a:r>
              <a:rPr b="1" lang="en-US" sz="2400" spc="-1" strike="noStrike">
                <a:solidFill>
                  <a:srgbClr val="800080"/>
                </a:solidFill>
                <a:latin typeface="Arial"/>
              </a:rPr>
              <a:t>P</a:t>
            </a:r>
            <a:r>
              <a:rPr b="1" lang="en-US" sz="2400" spc="-1" strike="noStrike" baseline="-25000">
                <a:solidFill>
                  <a:srgbClr val="800080"/>
                </a:solidFill>
                <a:latin typeface="Arial"/>
              </a:rPr>
              <a:t>2</a:t>
            </a:r>
            <a:r>
              <a:rPr b="1" lang="en-US" sz="2400" spc="-1" strike="noStrike">
                <a:solidFill>
                  <a:srgbClr val="800080"/>
                </a:solidFill>
                <a:latin typeface="Arial"/>
              </a:rPr>
              <a:t>/L</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Góp phần mở rộng cơ cấu mặt hàng và cơ cấu thị trường trong buôn bán quốc tế</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Góp phần cải thiện cán cân thanh toán quốc tế</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1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3.1. Quyền vận tải và quyền thuê tàu</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Quyền vận tải là quyền và nghĩa vụ tổ chức quá trình chuyên chở hàng hóa và thanh toán cước phí trực tiếp với người chuyên chở</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Quyền thuê tàu là quyền vận tải đường biển</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3.2. Phân chia trách nhiệm vận tải trong hợp đồng mua bán ngoại thương</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3.2.1. Căn cứ để phân chia trách nhiệm vận tải: các điều kiện cơ sở giao hàng trong Incoterms 2000</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20" name="PlaceHolder 1"/>
          <p:cNvSpPr>
            <a:spLocks noGrp="1"/>
          </p:cNvSpPr>
          <p:nvPr>
            <p:ph/>
          </p:nvPr>
        </p:nvSpPr>
        <p:spPr>
          <a:xfrm>
            <a:off x="838080" y="2361960"/>
            <a:ext cx="7693200" cy="43434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3.2.2. Cách thức phân chi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Arial"/>
              </a:rPr>
              <a:t>Căn cứ vào chặng vận tải chính</a:t>
            </a:r>
            <a:endParaRPr b="0" lang="en-US" sz="28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E: EXW</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F: FCA, FOB, FAS</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C: CIP, CPT, CIF, CFR</a:t>
            </a:r>
            <a:endParaRPr b="0" lang="en-US" sz="2400" spc="-1" strike="noStrike">
              <a:solidFill>
                <a:srgbClr val="003366"/>
              </a:solidFill>
              <a:latin typeface="Arial"/>
            </a:endParaRPr>
          </a:p>
          <a:p>
            <a:pPr lvl="1" marL="743040" indent="-285840">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hóm D: DDP, DAT, DAP</a:t>
            </a:r>
            <a:endParaRPr b="0" lang="en-US" sz="24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22"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Những lợi ích khi giành được quyền vận tả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Bên giành được quyền vận tải có được sự chủ động trong việc tổ chức chuyên chở, đàm phán, ký kết hợp đồ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Giành được quyền thuê tàu cho phép ngoại thương sử dụng tốt lực lượng tàu buôn và phương tiện vận tải trong nước, đồng thời góp phần các nghiệp vụ khác cùng phát triển (bảo hiểm, môi giới, gom hàng, giao nhậ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Nếu hợp đồng mua bán ngoại thương không quy định một thời hạn giao hàng cụ thể, bên giành được quyền vận tải có được sự chủ động trong việc thuê tàu, giao nhận hàng hóa tại cảng biển</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Góp phần tăng thu, giảm chi ngoại tệ cho đất nước</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Có điều kiện tham gia vào phân công lao động trên thị trường thuê tàu trong khu vực và trên thế giới; chủ động thực hiện các chính sách đối ngoại, đẩy mạnh XK của Đảng và Nhà nước…</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3. Phân chia trách nhiệm vận tải trong hợp đồng mua bán ngoại thương</a:t>
            </a:r>
            <a:endParaRPr b="1" lang="en-US" sz="3200" spc="-1" strike="noStrike">
              <a:solidFill>
                <a:srgbClr val="006666"/>
              </a:solidFill>
              <a:latin typeface="Arial"/>
            </a:endParaRPr>
          </a:p>
        </p:txBody>
      </p:sp>
      <p:sp>
        <p:nvSpPr>
          <p:cNvPr id="124"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	</a:t>
            </a:r>
            <a:r>
              <a:rPr b="0" lang="en-US" sz="2000" spc="-1" strike="noStrike">
                <a:solidFill>
                  <a:srgbClr val="ff0000"/>
                </a:solidFill>
                <a:latin typeface="Arial"/>
              </a:rPr>
              <a:t>Một số trường hợp không nên giành quyền vận tải/ quyền thuê tà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Dự đoán giá cước trên thị trường thuê tàu có xu hướng tăng mạnh so với thời điểm ký kết hợp đồng mua bán ngoại thươ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Dự đoán thấy khó khăn trong việc thuê tàu để thực hiện hợp đồng</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Tính toán thấy sự chênh lệch giữa giá XK CIF, CFR với giá NK FOB do người nước ngoài đề nghị không lớn và mức chênh lệch này không đủ để bù đắp cước phí vận tải và/ hoặc phí bảo hiểm mà chúng ta phải bỏ ra (hoặc sự chênh lệch giữa giá NK CIF/CFR do người nước ngoài chào và giá NK FOB mà chúng ta định mua quá nhỏ)</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Quá cần bán hoặc quá cần mua một mặt hàng nào đó mà phí đối phương lại muốn giành quyền vận tả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Khi tập quán hoặc luật lệ quốc tế quy định</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ô tả môn học</a:t>
            </a:r>
            <a:endParaRPr b="1" lang="en-US" sz="3600" spc="-1" strike="noStrike">
              <a:solidFill>
                <a:srgbClr val="006666"/>
              </a:solidFill>
              <a:latin typeface="Arial"/>
            </a:endParaRPr>
          </a:p>
        </p:txBody>
      </p:sp>
      <p:sp>
        <p:nvSpPr>
          <p:cNvPr id="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0080"/>
                </a:solidFill>
                <a:latin typeface=".VnTime"/>
              </a:rPr>
              <a:t>M</a:t>
            </a:r>
            <a:r>
              <a:rPr b="0" lang="en-US" sz="2800" spc="-1" strike="noStrike">
                <a:solidFill>
                  <a:srgbClr val="800080"/>
                </a:solidFill>
                <a:latin typeface="Arial"/>
              </a:rPr>
              <a:t>ôn học vận tải và giao nhận hàng hóa XNK gồm 3 đơn vị học trình (45 tiết )nhằm trang bị cho người học một cách có hệ thống, khoa học, toàn diện các kiến thức nghiệp vụ chủ yếu về vận tải giao nhận hàng hóa XNK trong lĩnh vực thương mại quốc tế.</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Kết cấu nội dung môn học: 7 chương</a:t>
            </a:r>
            <a:endParaRPr b="1" lang="en-US" sz="3200" spc="-1" strike="noStrike">
              <a:solidFill>
                <a:srgbClr val="006666"/>
              </a:solidFill>
              <a:latin typeface="Arial"/>
            </a:endParaRPr>
          </a:p>
        </p:txBody>
      </p:sp>
      <p:sp>
        <p:nvSpPr>
          <p:cNvPr id="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 Vận tải trong buôn bán quốc tế</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I: Chuyên chở hàng hóa XNK bằng đường biể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II: Chuyên chở hàng hóa XNK bằng Container</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II: Chuyên chở hàng hóa XNK bằng đường hàng không</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IV: Vận tải đa phương thức quốc tế</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Chương VII: Giao nhận hàng hóa XNK chuyên chở bằng đường biển</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iáo trình- Tài liệu tham khảo</a:t>
            </a:r>
            <a:endParaRPr b="1" lang="en-US" sz="3600" spc="-1" strike="noStrike">
              <a:solidFill>
                <a:srgbClr val="006666"/>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Vận tải và giao nhận trong ngoại thương, PGS.TS. Nguyễn Như Tiến, NXB Giao thông vận tải, 201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Các công ước quốc tế về vận tải và hàng hải, Trường ĐH Ngoại thương, 2000</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Bộ luật hàng hải, 2005</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80"/>
                </a:solidFill>
                <a:latin typeface="Arial"/>
              </a:rPr>
              <a:t>Luật hàng không dân dụng, 2006</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ương I: Vận tải trong buôn bán quốc tế</a:t>
            </a:r>
            <a:endParaRPr b="1" lang="en-US" sz="3200" spc="-1" strike="noStrike">
              <a:solidFill>
                <a:srgbClr val="006666"/>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711360" indent="-711360">
              <a:spcBef>
                <a:spcPts val="601"/>
              </a:spcBef>
              <a:buClr>
                <a:srgbClr val="003366"/>
              </a:buClr>
              <a:buSzPct val="75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Khái quát về vận tải</a:t>
            </a:r>
            <a:endParaRPr b="0" lang="en-US" sz="2400" spc="-1" strike="noStrike">
              <a:solidFill>
                <a:srgbClr val="003366"/>
              </a:solidFill>
              <a:latin typeface="Arial"/>
            </a:endParaRPr>
          </a:p>
          <a:p>
            <a:pPr marL="711360" indent="-711360">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Định nghĩa</a:t>
            </a:r>
            <a:endParaRPr b="0" lang="en-US" sz="2400" spc="-1" strike="noStrike">
              <a:solidFill>
                <a:srgbClr val="003366"/>
              </a:solidFill>
              <a:latin typeface="Arial"/>
            </a:endParaRPr>
          </a:p>
          <a:p>
            <a:pPr marL="711360" indent="-711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Theo nghĩa rộng: “Vận tải là một quy trình kỹ thuật của bất kỳ sự di chuyển vị trí nào trong không gian của con người và vật phẩm”</a:t>
            </a:r>
            <a:endParaRPr b="0" lang="en-US" sz="2400" spc="-1" strike="noStrike">
              <a:solidFill>
                <a:srgbClr val="003366"/>
              </a:solidFill>
              <a:latin typeface="Arial"/>
            </a:endParaRPr>
          </a:p>
          <a:p>
            <a:pPr marL="711360" indent="-71136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Theo nghĩa hẹp (kinh tế): “Vận tải là một hoạt động kinh tế có mục đích của con người nhằm đáp ứng nhu cầu di chuyển vị trí trong không gian của đối tượng vận chuyển</a:t>
            </a:r>
            <a:r>
              <a:rPr b="0" lang="en-US" sz="2400" spc="-1" strike="noStrike">
                <a:solidFill>
                  <a:srgbClr val="800080"/>
                </a:solidFill>
                <a:latin typeface="Arial"/>
              </a:rPr>
              <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 Khái quát về vận tải</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2. Đặc điể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Vận tải là một ngành sản xuất vật chất</a:t>
            </a:r>
            <a:endParaRPr b="0" lang="en-US" sz="24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80"/>
                </a:solidFill>
                <a:latin typeface="Arial"/>
              </a:rPr>
              <a:t>       </a:t>
            </a:r>
            <a:r>
              <a:rPr b="1" lang="en-US" sz="1800" spc="-1" strike="noStrike">
                <a:solidFill>
                  <a:srgbClr val="800080"/>
                </a:solidFill>
                <a:latin typeface="Arial"/>
              </a:rPr>
              <a:t>Sức lao động</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	</a:t>
            </a:r>
            <a:r>
              <a:rPr b="1" lang="en-US" sz="1800" spc="-1" strike="noStrike">
                <a:solidFill>
                  <a:srgbClr val="800080"/>
                </a:solidFill>
                <a:latin typeface="Arial"/>
              </a:rPr>
              <a:t>	</a:t>
            </a:r>
            <a:r>
              <a:rPr b="1" lang="en-US" sz="1800" spc="-1" strike="noStrike">
                <a:solidFill>
                  <a:srgbClr val="800080"/>
                </a:solidFill>
                <a:latin typeface="Arial"/>
              </a:rPr>
              <a:t>	</a:t>
            </a:r>
            <a:r>
              <a:rPr b="1" lang="en-US" sz="1800" spc="-1" strike="noStrike">
                <a:solidFill>
                  <a:srgbClr val="800080"/>
                </a:solidFill>
                <a:latin typeface="Arial"/>
              </a:rPr>
              <a:t>	</a:t>
            </a:r>
            <a:r>
              <a:rPr b="1" lang="en-US" sz="1800" spc="-1" strike="noStrike">
                <a:solidFill>
                  <a:srgbClr val="800080"/>
                </a:solidFill>
                <a:latin typeface="Arial"/>
              </a:rPr>
              <a:t>Đối tượng lao động</a:t>
            </a:r>
            <a:r>
              <a:rPr b="1" lang="en-US" sz="1800" spc="-1" strike="noStrike">
                <a:solidFill>
                  <a:srgbClr val="800080"/>
                </a:solidFill>
                <a:latin typeface="Arial"/>
              </a:rPr>
              <a:t>	</a:t>
            </a:r>
            <a:r>
              <a:rPr b="1" lang="en-US" sz="1800" spc="-1" strike="noStrike">
                <a:solidFill>
                  <a:srgbClr val="800080"/>
                </a:solidFill>
                <a:latin typeface="Arial"/>
              </a:rPr>
              <a:t>Sản phẩm mới</a:t>
            </a:r>
            <a:endParaRPr b="0" lang="en-US" sz="1800" spc="-1" strike="noStrike">
              <a:solidFill>
                <a:srgbClr val="003366"/>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0080"/>
                </a:solidFill>
                <a:latin typeface="Arial"/>
              </a:rPr>
              <a:t>Công cụ lao động</a:t>
            </a:r>
            <a:endParaRPr b="0" lang="en-US" sz="18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Vận tải là một ngành sản xuất vật chất đặc biệt</a:t>
            </a:r>
            <a:endParaRPr b="0" lang="en-US" sz="24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Sản xuất trong ngành vận tải là quá trình tác động vào đối tượng lao động về mặt không gian</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Sản phẩm của ngành vận tải có tính chất vô hình</a:t>
            </a:r>
            <a:endParaRPr b="0" lang="en-US" sz="2000" spc="-1" strike="noStrike">
              <a:solidFill>
                <a:srgbClr val="003366"/>
              </a:solidFill>
              <a:latin typeface="Arial"/>
            </a:endParaRPr>
          </a:p>
          <a:p>
            <a:pPr lvl="1" marL="743040" indent="-285840">
              <a:spcBef>
                <a:spcPts val="49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0080"/>
                </a:solidFill>
                <a:latin typeface="Arial"/>
              </a:rPr>
              <a:t>Quá trình sản xuất và tiêu thụ không tách rời nhau</a:t>
            </a:r>
            <a:endParaRPr b="0" lang="en-US" sz="2000" spc="-1" strike="noStrike">
              <a:solidFill>
                <a:srgbClr val="003366"/>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6" name=""/>
          <p:cNvSpPr/>
          <p:nvPr/>
        </p:nvSpPr>
        <p:spPr>
          <a:xfrm>
            <a:off x="2895480" y="3429000"/>
            <a:ext cx="685800" cy="30492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7" name=""/>
          <p:cNvSpPr/>
          <p:nvPr/>
        </p:nvSpPr>
        <p:spPr>
          <a:xfrm flipV="1">
            <a:off x="2895480" y="3733920"/>
            <a:ext cx="609840" cy="38088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108" name=""/>
          <p:cNvSpPr/>
          <p:nvPr/>
        </p:nvSpPr>
        <p:spPr>
          <a:xfrm>
            <a:off x="5867280" y="3733920"/>
            <a:ext cx="60984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910440" y="834120"/>
            <a:ext cx="778032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 Khái quát về vận tải</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4267080"/>
          </a:xfrm>
          <a:prstGeom prst="rect">
            <a:avLst/>
          </a:prstGeom>
          <a:noFill/>
          <a:ln w="0">
            <a:noFill/>
          </a:ln>
        </p:spPr>
        <p:txBody>
          <a:bodyPr lIns="90000" rIns="90000" tIns="46800" bIns="46800" anchor="t">
            <a:normAutofit fontScale="94000"/>
          </a:bodyPr>
          <a:p>
            <a:pPr marL="3222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80"/>
                </a:solidFill>
                <a:latin typeface="Arial"/>
              </a:rPr>
              <a:t>3. Phân loại vận tải</a:t>
            </a:r>
            <a:endParaRPr b="0" lang="en-US" sz="2000" spc="-1" strike="noStrike">
              <a:solidFill>
                <a:srgbClr val="003366"/>
              </a:solidFill>
              <a:latin typeface="Arial"/>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3.1. Căn cứ vào phạm vi phục vụ</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nội bộ</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công cộng</a:t>
            </a:r>
            <a:endParaRPr b="0" lang="en-US" sz="1600" spc="-1" strike="noStrike">
              <a:solidFill>
                <a:srgbClr val="003366"/>
              </a:solidFill>
              <a:latin typeface="Arial"/>
            </a:endParaRPr>
          </a:p>
          <a:p>
            <a:pPr marL="3222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3.2. Căn cứ vào môi trường hoạt động</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thủy:</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biển</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sông</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pha sông biển</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hồ</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bộ:</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sắt</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ô tô</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hàng không:</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máy bay</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khinh khí cầu</a:t>
            </a:r>
            <a:endParaRPr b="0" lang="en-US" sz="1600" spc="-1" strike="noStrike">
              <a:solidFill>
                <a:srgbClr val="003366"/>
              </a:solidFill>
              <a:latin typeface="Arial"/>
            </a:endParaRPr>
          </a:p>
          <a:p>
            <a:pPr lvl="1" marL="698400" indent="-268560">
              <a:lnSpc>
                <a:spcPct val="80000"/>
              </a:lnSpc>
              <a:spcBef>
                <a:spcPts val="4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vệ tinh</a:t>
            </a:r>
            <a:endParaRPr b="0" lang="en-US" sz="1600" spc="-1" strike="noStrike">
              <a:solidFill>
                <a:srgbClr val="003366"/>
              </a:solidFill>
              <a:latin typeface="Arial"/>
            </a:endParaRPr>
          </a:p>
          <a:p>
            <a:pPr marL="322200" indent="-32220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Vận tải đường ống</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 Khái quát về vận tải</a:t>
            </a:r>
            <a:endParaRPr b="1" lang="en-US" sz="3600" spc="-1" strike="noStrike">
              <a:solidFill>
                <a:srgbClr val="006666"/>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3.3. Căn cứ vào đối tượng chuyên chở</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hàng hóa</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hành khách</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3.4. Căn cứ vào cách tổ chức quá trình vận chuyển</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ơn phương thứ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a phương thức</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chặng</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3.5. Căn cứ vào khoảng cách hoạt động</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ường gần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80"/>
                </a:solidFill>
                <a:latin typeface="Arial"/>
              </a:rPr>
              <a:t>Vận tải đường x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II. Vận tải quốc tế</a:t>
            </a:r>
            <a:endParaRPr b="1" lang="en-US" sz="3600" spc="-1" strike="noStrike">
              <a:solidFill>
                <a:srgbClr val="006666"/>
              </a:solidFill>
              <a:latin typeface="Arial"/>
            </a:endParaRPr>
          </a:p>
        </p:txBody>
      </p:sp>
      <p:sp>
        <p:nvSpPr>
          <p:cNvPr id="11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533520" indent="-533520">
              <a:lnSpc>
                <a:spcPct val="80000"/>
              </a:lnSpc>
              <a:spcBef>
                <a:spcPts val="601"/>
              </a:spcBef>
              <a:buClr>
                <a:srgbClr val="003366"/>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Khái niệm và đặc điểm</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1.1. Khái niệm: “Vận tải quốc tế là quá trình chuyên chở hàng hóa được tiến hành trên lãnh thổ của hai hay nhiều nước khác nhau”</a:t>
            </a:r>
            <a:endParaRPr b="0" lang="en-US" sz="2400" spc="-1" strike="noStrike">
              <a:solidFill>
                <a:srgbClr val="003366"/>
              </a:solidFill>
              <a:latin typeface="Arial"/>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1.2. Đặc điểm</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Việc chuyên chở diễn ra trên lãnh thổ của hai nước trở lên</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Nơi đi và nơi đến phải thuộc hai nước khác nhau</a:t>
            </a:r>
            <a:endParaRPr b="0" lang="en-US" sz="2400" spc="-1" strike="noStrike">
              <a:solidFill>
                <a:srgbClr val="003366"/>
              </a:solidFill>
              <a:latin typeface="Arial"/>
            </a:endParaRPr>
          </a:p>
          <a:p>
            <a:pPr marL="533520" indent="-53352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0080"/>
                </a:solidFill>
                <a:latin typeface="Arial"/>
              </a:rPr>
              <a:t>Các mối quan hệ phát sinh trong quá trình vận chuyển phải do các quy phạm pháp luật quốc tế điều chỉnh</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4T07:07:27Z</dcterms:created>
  <dc:creator> Ha</dc:creator>
  <dc:description/>
  <dc:language>en-US</dc:language>
  <cp:lastModifiedBy>Cun</cp:lastModifiedBy>
  <dcterms:modified xsi:type="dcterms:W3CDTF">2011-01-13T13:09:05Z</dcterms:modified>
  <cp:revision>48</cp:revision>
  <dc:subject/>
  <dc:title>Bảo hiểm trong kinh doanh</dc:title>
</cp:coreProperties>
</file>