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C0C3C-BDFC-4562-A11F-0EB1630B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D7DC-775B-42C4-8554-3BB7F0E0B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54B9B-034D-4E18-979A-1EC69CE3A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A31B5-6F25-4302-AE84-D40E1676F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EDEA2-D947-4EA2-9DAC-BC402E8A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5DC1-D54D-4082-A219-9007E2EDD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9AC6-0C2C-4559-AD79-A4DFB110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DC4F-4EB4-49D1-AABE-2C1F46AD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DC46-031E-4050-84F5-1907FAC5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4957-75E4-4302-9726-D5620D86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7E48-F742-4568-A06E-CCC51FDBA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BD21-301A-422F-8C19-F8F989F0B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BDDA-5972-4D4B-9707-1AC4058632AC}" type="datetime">
              <a:rPr b="0" lang="en-US" sz="1400" spc="-1" strike="noStrike">
                <a:solidFill>
                  <a:srgbClr val="000000"/>
                </a:solidFill>
                <a:latin typeface="Arial"/>
              </a:rPr>
              <a:t>07/30/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869C-C83A-424C-BEB3-224143B55BA9}"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43DF4281-2B5A-4283-BF18-15A921513A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73B3667-CFFB-410C-B7C1-34F3182307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7D9EC8F-A6C7-41C9-90B7-D1404F461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96334C2-F2AC-4D0A-8697-E04ABB3C3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8600AB4-AA11-4506-8F10-4C36E1F0E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54249D3-CC2C-4EAD-9CC7-9DA69BF36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364D122-FD27-46F0-BA84-76E096E35A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28109AA-3568-4C66-B18F-FB689C544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561CBC7-EB90-42D2-80F4-2A6BF58A21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0CF42E3-0F23-4AAE-BE6C-3C598AD26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4B2C441-1F2B-4342-8944-C511E85C31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CC97D418-BA57-4F63-91B5-12485E55E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90EBC11-F1B4-4503-88C6-445496B65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00870F5-22CA-41F0-B2BE-FF3607C3B9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52EC6C2-F0D4-46AE-9D48-56F2750850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E2E3B12-6AEC-4321-B5A7-612F31BC8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4581C40-7BF9-45F8-AE89-4DB295880F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C47CF19-F8F7-404B-A813-57DCBB7C75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73D9B93-B261-4A66-94D8-E7EF96C008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E11D842-71A5-4B89-BA14-7AAAFE2F2E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08F257E-9F7B-48C9-8338-87C2CED8E3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47514CC-3918-4CF6-835F-92A0E2C52E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2BBAC15-B740-4322-B29F-298C63F15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0857169-59FA-4728-8050-4E227B6388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414B97E-98C2-49B2-B430-90D5B8BE86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3B2DF4F-1EA2-4CC2-A1C5-24A06F66E2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EB42DD2-6898-42EF-9AAF-BDB546A0FC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2B08050-7F30-482E-A89C-1D634D4E710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C98C95-CDF8-449C-B93F-E1BF56959B1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EF34311-EA96-45BD-A2E9-13178C7779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84DB2A9-BD26-43CA-BFF8-14A22A406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A93A9AC-B942-4053-96B5-721AC2BF9E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47544C7-F41A-4F24-A162-5E2CE12A2B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58A90F1-8674-461D-89B5-BDA2C2B7A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C29DC3B-6090-417B-A7B6-957996378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