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4C00F-ABEA-4596-8AF7-4285DC206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70603-BAC5-4E35-984B-4A991FC62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EFA11-0A57-4A94-B69C-BF544D371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93F41-878C-4983-AE60-A2ECBC5B3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C4E91-0538-4DDC-87BC-ED8F1D0D3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57199-5BD9-4820-B379-5272494AE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541C1-05FC-4BD4-B4C9-64D538413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480BA-AC3A-43FA-A9D0-60CCF6D3D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AB9C4-47D6-4814-9CF3-695A9A610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FAE39-B62E-4E6E-8E30-B241DF6FE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5C77A-4E14-4C12-B7FC-18AF5D98A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F5768-4DC1-4AA1-830A-305FC5F32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7F69-524F-4056-8A78-962D0CFDB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VIỆN THƯƠNG MẠI &amp; KTQT</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6" name=""/>
          <p:cNvSpPr/>
          <p:nvPr/>
        </p:nvSpPr>
        <p:spPr>
          <a:xfrm>
            <a:off x="838080" y="1676520"/>
            <a:ext cx="8001000" cy="2189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ÀI 7</a:t>
            </a:r>
            <a:endParaRPr b="0" lang="en-US" sz="3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ỊCH VỤ THƯƠNG MẠI</a:t>
            </a:r>
            <a:endParaRPr b="0" lang="en-US" sz="3600" spc="-1" strike="noStrike">
              <a:solidFill>
                <a:srgbClr val="000000"/>
              </a:solidFill>
              <a:latin typeface="Arial"/>
            </a:endParaRPr>
          </a:p>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E8081353-C333-4C5F-9A13-D021F4B7E9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14280" y="190440"/>
            <a:ext cx="8601120" cy="66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Gia công trong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Gia công trong thương mại là hoạt động thương mại, theo đó bên nhận gia công sử dụng một phần hoặc toàn bộ nguyên liệu, vật liệu của bên đặt gia công để thực hiện một hoặc nhiều công đoạn trong quá trình sản xuất theo yêu cầu của bên đặt gia công để hưởng thù lao. </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Nhượng quyền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Nhượng quyền thương mại là hoạt động thương mại, theo đó bên nhượng quyền cho phép và yêu cầu bên nhận quyền tự mình tiến hành việc mua bán hàng hoá, cung ứng dịch vụ theo các điều kiện sau đâ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1. Việc mua bán hàng hoá, cung ứng dịch vụ được tiến hành theo cách thức tổ chức kinh doanh do bên nhượng quyền quy định và được gắn với nhãn hiệu hàng hoá, tên thương mại, bí quyết kinh doanh, khẩu hiệu kinh doanh, biểu tượng kinh doanh, quảng cáo của bên nhượng quyền;</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 Bên nhượng quyền có quyền kiểm soát và trợ giúp cho bên nhận quyền trong việc điều hành công việc kinh doanh.</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78, 28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CECB052-C20E-4321-9E8C-749F877440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95200" y="324000"/>
            <a:ext cx="8487000" cy="5955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hàng hoá</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Cho thuê hàng hoá là hoạt động thương mại, theo đó một bên chuyển quyền chiếm hữu và sử dụng hàng hoá (gọi là bên cho thuê) cho bên khác (gọi là bên thuê) trong một thời hạn nhất định để nhận tiền cho thuê.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l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Bên thuê chỉ được cho thuê lại hàng hoá khi có sự chấp thuận của bên cho thuê. Bên thuê phải chịu trách nhiệm về hàng hoá cho thuê lại trừ trường hợp có thoả thuận khác với bên cho thuê.</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Trong trường hợp bên thuê cho thuê lại hàng hóa cho thuê mà không có sự chấp thuận của bên cho thuê thì bên cho thuê có quyền hủy hợp đồng cho thuê. Người thuê lại phải có trách nhiệm trả lại ngay hàng hóa cho bên cho thuê.</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69, 281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1EEE943-6775-4E4A-A3BE-3E45A934A2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4280" y="304920"/>
            <a:ext cx="8524800" cy="595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ịch vụ logistics là hoạt động thương mại, theo đó thương nhân tổ chức thực hiện một hoặc nhiều công việc bao gồm nhận hàng, vận chuyển, lưu kho, lưu bãi, làm thủ tục hải quan, các thủ tục giấy tờ khác, tư vấn khách hàng, đóng gói bao bì, ghi ký mã hiệu, giao hàng hoặc các dịch vụ khác có liên quan đến hàng hoá theo thoả thuận với khách hàng để hưởng thù lao. Dịch vụ logistics được phiên âm theo tiếng Việt là dịch vụ lô-gi-stíc.</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iều kiện kinh doanh 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Thương nhân kinh doanh dịch vụ logistics là doanh nghiệp có đủ điều kiện kinh doanh dịch vụ logistics theo quy định của pháp luật.</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Chính phủ quy định chi tiết điều kiện kinh doanh dịch vụ logistics.</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33, 23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616DAC0-0C87-43A1-914C-5AB07D2810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610840" cy="65113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Dịch vụ trong lĩnh vực lưu thông thuần tuý</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Uỷ thác mua bán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Đại lý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quá cảnh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giám định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Khuyến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Quảng cáo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rưng bày, giới thiệu hàng hóa, dịch vụ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ội chợ triển lãm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Chào hàng</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5D8A13E-6839-4A51-9E0F-1D745CCE17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28760" y="123840"/>
            <a:ext cx="8258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Uỷ thác mua bán hàng hóa </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Uỷ thác mua bán hàng hoá là hoạt động thương mại, theo đó bên nhận uỷ thác thực hiện việc mua bán hàng hoá với danh nghĩa của mình theo những điều kiện đã thoả thuận với bên uỷ thác và được nhận thù lao uỷ thác.</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Đại lý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ại lý thương mại là hoạt động thương mại,</a:t>
            </a:r>
            <a:r>
              <a:rPr b="0" lang="vi-VN" sz="2400" spc="-1" strike="noStrike">
                <a:solidFill>
                  <a:srgbClr val="000000"/>
                </a:solidFill>
                <a:latin typeface="Times New Roman"/>
                <a:ea typeface="Times New Roman"/>
              </a:rPr>
              <a:t> theo đó bên giao đại lý và bên đại lý thoả thuận việc bên đại lý nhân danh chính mình mua, bán hàng hoá cho bên giao đại lý hoặc cung ứng dịch vụ của bên giao đại lý cho khách hàng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55, 16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F2E8C2A-5A5B-402C-B14D-D5F4FC9195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47680" y="276120"/>
            <a:ext cx="8610480" cy="639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ác hình thức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lý bao tiêu là hình thức đại lý mà bên đại lý thực hiện việc mua, bán trọn vẹn một khối lượng hàng hoá hoặc cung ứng đầy đủ một dịch vụ cho bên giao đại lý.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Đại lý độc quyền là hình thức đại lý mà tại một khu vực địa lý nhất định bên giao đại lý chỉ giao cho một đại lý mua, bán một hoặc một số mặt hàng hoặc cung ứng một hoặc một số loại dịch vụ nhất định.</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3. Tổng đại lý mua bán hàng hoá, cung ứng dịch vụ là hình thức đại lý mà bên đại lý tổ chức một hệ thống đại lý trực thuộc để thực hiện việc mua bán hàng hoá, cung ứng dịch vụ cho bên giao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Tổng đại lý đại diện cho hệ thống đại lý trực thuộc. Các đại lý trực thuộc hoạt động dưới sự quản lý của tổng đại lý và với danh nghĩa của tổng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4. Các hình thức đại lý khác mà các bên thỏa thuận.</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6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A079376-1FC2-43FA-BC51-F426A7AC3D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152280"/>
            <a:ext cx="860112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Quá cình hàng hóa là việc vận chuyển hàng hóa thuộc sở hữu của tổ chức, cá nhân nước ngoài qua lãnh thổ Việt Nam, kể cả việc trung chuyển, chuyển tải, lưu kho, chia tách lô hàng, thay đổi phương thức vận tải hoặc các công việc khác được thực hiện trong thời gian quá cả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quá cảnh hàng hóa là hoạt động thương mại, theo đó thương nhân thực hiện việc quá cảnh cho hàng hóa thuộc sở hữu của tổ chức, cá nhân nước ngoài qua lãnh thổ Việt Nam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41, 24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1735A45-19B5-4BFE-B1B7-D6B3D73696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3080" y="228600"/>
            <a:ext cx="8420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giám đị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giám định là hoạt động thương mại, theo đó một thương nhân thực hiện những công việc cần thiết để xác định tình trạng thực tế của hàng hoá, kết quả cung ứng dịch vụ và những nội dung khác theo yêu cầu của khách hà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hương nhân kinh doanh dịch vụ giám định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hỉ các thương nhân có đủ điều kiện theo quy định của pháp luật và được cấp giấy chứng nhận đăng ký kinh doanh dịch vụ giám định thương mại mới được phép thực hiện dịch vụ giám định và cấp chứng thư giám định.</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54, 25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98E134B-DE4E-456D-9B5F-D702026D0B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44440"/>
            <a:ext cx="8642520" cy="640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huyến mại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Khuyến mại là hoạt động xúc tiến thương mại của thương nhân nhằm xúc tiến việc mua bán hàng hoá, cung ứng dịch vụ bằng cách dành cho khách hàng những lợi ích nhất định.</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hương nhân thực hiện khuyến mại là thương nhân thuộc một trong các trường hợp sau đây:</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a) Thương nhân trực tiếp khuyến mại hàng hóa, dịch vụ mà mình kinh doanh;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b) Thương nhân kinh doanh dịch vụ khuyến mại thực hiện khuyến mại cho hàng hóa, dịch vụ của thương nhân khác theo thỏa thuận với thương nhân đó.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inh doanh dịch vụ khuyến mại</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Kinh doanh dịch vụ khuyến mại là hoạt động thương mại, theo đó một thương nhân thực hiện khuyến mại cho hàng hóa, dịch vụ của thương nhân khác trên cơ sở hợp đồng.</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88, 8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107EDE7-6D08-4917-91F8-86895F56D8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457200"/>
            <a:ext cx="8591400" cy="579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Quảng cáo thương mại là hoạt động xúc tiến thương mại của thương nhân để giới thiệu với khách hàng về hoạt động kinh doanh hàng hoá, dịch vụ của mình </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Kinh doanh dịch vụ quảng cáo thương mại là hoạt động thương mại của thương nhân để thực hiện việc quảng cáo thương mại cho thương nhân khác.</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02, 10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E49D9AF-A610-40BA-BAAE-A37F405B1D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ài 7:</a:t>
            </a:r>
            <a:br>
              <a:rPr sz="4000"/>
            </a:br>
            <a:r>
              <a:rPr b="1" lang="en-US" sz="4000" spc="-1" strike="noStrike">
                <a:solidFill>
                  <a:srgbClr val="000000"/>
                </a:solidFill>
                <a:latin typeface="Times New Roman"/>
              </a:rPr>
              <a:t>Dịch vụ thương mạ</a:t>
            </a:r>
            <a:r>
              <a:rPr b="1" lang="en-US" sz="4000" spc="-1" strike="noStrike">
                <a:solidFill>
                  <a:srgbClr val="000000"/>
                </a:solidFill>
                <a:latin typeface="Arial"/>
              </a:rPr>
              <a:t>i</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447920" y="2514600"/>
            <a:ext cx="662940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Khái quát dịch vụ và đặc điểm sản phẩm dịch vụ</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ác loại dịch vụ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Tổ chức các hoạt động dịch vụ và hệ thống chỉ tiêu đánh giá</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Phát triển thị trường và thương mại dịch vụ ở Việt Nam</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801BB62-9B25-445D-89D2-787781C7C8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38120" y="380880"/>
            <a:ext cx="8400960" cy="5784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rưng bày, giới thiệu hàng hoá, dịch vụ</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Trưng bày, giới thiệu hàng hoá, dịch vụ là hoạt động xúc tiến thương mại của thương nhân dùng hàng hoá, dịch vụ và tài liệu về hàng hoá, dịch vụ để giới thiệu với khách hàng về hàng hoá, dịch vụ đó (</a:t>
            </a:r>
            <a:r>
              <a:rPr b="0" lang="en-US" sz="2400" spc="-1" strike="noStrike">
                <a:solidFill>
                  <a:srgbClr val="000000"/>
                </a:solidFill>
                <a:latin typeface="Times New Roman"/>
              </a:rPr>
              <a:t>Điều 117 Luật thương mại 200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trưng bày, giới thiệu hàng hoá, dịch vụ </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Kinh doanh dịch vụ trưng bày, giới thiệu hàng hoá, dịch vụ là hoạt động thương mại, theo đó một thương nhân thực hiện cung ứng dịch vụ trưng bày, giới thiệu hàng hoá, dịch vụ cho thương nhân khá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Điều 11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BC1C519-A1A7-4524-9C1E-71D8526ADF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6880" y="182520"/>
            <a:ext cx="8510760" cy="6224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Hội chợ, triển lãm thương mại là hoạt động xúc tiến thương mại được thực hiện tập trung trong một thời gian và tại một địa điểm nhất định để thương nhân trưng bày, giới thiệu hàng hoá, dịch vụ nhằm mục đích thúc đẩy, tìm kiếm cơ hội giao kết hợp đồng mua bán hàng hoá, hợp đồng dịch vụ.</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Kinh doanh dịch vụ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 Kinh doanh dịch vụ hội chợ, triển lãm thương mại là hoạt động thương mại, theo đó thương nhân kinh doanh dịch vụ này cung ứng dịch vụ tổ chức hoặc tham gia hội chợ, triển lãm thương mại cho thương nhân khác để nhận thù lao dịch vụ tổ chức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2. Hợp đồng dịch vụ tổ chức, tham gia hội chợ, triển lãm thương mại phải được lập thành văn bản hoặc bằng hình thức khác có giá trị pháp lý tương đương.</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29, 130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73569B1-0ACE-4E23-8B60-33D35434E8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89080" y="139680"/>
            <a:ext cx="8610480" cy="4572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79440" y="228600"/>
            <a:ext cx="8610480" cy="61506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Dịch vụ trong quản lý kinh doanh </a:t>
            </a:r>
            <a:endParaRPr b="0" lang="en-US" sz="32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Đại diện cho thương nhâ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ôi giới thương mại</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ịch vụ tư vấ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ịch vụ đào tạo và bồi dưỡng nghiệp vụ</a:t>
            </a:r>
            <a:endParaRPr b="0" lang="en-US" sz="2800" spc="-1" strike="noStrike">
              <a:solidFill>
                <a:srgbClr val="000000"/>
              </a:solidFill>
              <a:latin typeface="Arial"/>
            </a:endParaRPr>
          </a:p>
          <a:p>
            <a:pPr marL="57240" indent="-57240" algn="just">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Dịch vụ quản lý</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6C5FE8C-FB55-46A1-B77E-B6B07EA641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6720" y="181080"/>
            <a:ext cx="8420400" cy="6323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ại diện cho thương nhâ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diện cho thương nhân là việc một thương nhân nhận uỷ nhiệm (</a:t>
            </a:r>
            <a:r>
              <a:rPr b="0" lang="fr-FR" sz="2200" spc="-1" strike="noStrike">
                <a:solidFill>
                  <a:srgbClr val="000000"/>
                </a:solidFill>
                <a:latin typeface="Times New Roman"/>
                <a:ea typeface="Times New Roman"/>
              </a:rPr>
              <a:t>gọi là bên đại diện)</a:t>
            </a:r>
            <a:r>
              <a:rPr b="0" lang="vi-VN" sz="2200" spc="-1" strike="noStrike">
                <a:solidFill>
                  <a:srgbClr val="000000"/>
                </a:solidFill>
                <a:latin typeface="Times New Roman"/>
                <a:ea typeface="Times New Roman"/>
              </a:rPr>
              <a:t> của thương nhân khác (gọi là bên giao đại diện) để thực hiện các hoạt động thương mại với danh nghĩa, theo sự chỉ dẫn của thương nhân đó và được hưởng thù lao về việc đại diệ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rong trường hợp thương nhân cử người của mình để làm đại diện cho mình thì áp dụng quy định của Bộ luật dân sự.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Môi giới thương m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Môi giới thương mại là hoạt động thương mại, theo đó một thương nhân làm trung gian (gọi là bên môi giới) cho các bên mua bán hàng hoá, cung ứng dịch vụ (gọi là bên được môi giới) trong việc đàm phán, giao kết hợp đồng mua bán hàng hoá, dịch vụ và được hưởng thù lao theo hợp đồng môi giới.</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41, 150 Luật thương mại 2005)</a:t>
            </a:r>
            <a:endParaRPr b="0" lang="en-US" sz="2400" spc="-1" strike="noStrike">
              <a:solidFill>
                <a:srgbClr val="000000"/>
              </a:solidFill>
              <a:latin typeface="Arial"/>
            </a:endParaRPr>
          </a:p>
        </p:txBody>
      </p:sp>
      <p:sp>
        <p:nvSpPr>
          <p:cNvPr id="90" name=""/>
          <p:cNvSpPr/>
          <p:nvPr/>
        </p:nvSpPr>
        <p:spPr>
          <a:xfrm>
            <a:off x="2819520" y="632448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EF646A7-1A7E-40E3-9A20-695496D9C0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92"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9999"/>
                </a:solidFill>
                <a:latin typeface="Times New Roman"/>
              </a:rPr>
              <a:t>Tổ chứ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ổ chức bộ phận làm công tác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hành lập doanh nghiệp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Lựa chọn và bố trí lao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ổ chức vận hành cá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hân tích và đánh giá hoạt động dịch vụ</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384B93A0-B7AD-4035-9393-7AB55FCEE8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4" name=""/>
          <p:cNvSpPr/>
          <p:nvPr/>
        </p:nvSpPr>
        <p:spPr>
          <a:xfrm>
            <a:off x="304920" y="1676520"/>
            <a:ext cx="8534160" cy="3323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ông thường chi phí cho một loại dịch vụ, người ta tính theo giờ và gọi là giá tính cho một giờ.</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i phí cho 1 giờ dịch vụ=Chi phí trực tiếp tính cho 1 giờ + Lợi nhuậnLợi nhuận </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chất ở đây là phần lãi gộp) trong một giờ được cộng vào để bù đắp chi phí gián tiếp và có lã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6C5E492-BC39-4E9E-B92C-AD26191388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6" name=""/>
          <p:cNvSpPr/>
          <p:nvPr/>
        </p:nvSpPr>
        <p:spPr>
          <a:xfrm>
            <a:off x="304920" y="167652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á trị thực hiện dịch vụ (Cd) được tính theo công thứ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Qi - ưKhối lượng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Gi - Giá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   - Số lượng các dịch vụ loại i.</a:t>
            </a:r>
            <a:endParaRPr b="0" lang="en-US" sz="2800" spc="-1" strike="noStrike">
              <a:solidFill>
                <a:srgbClr val="000000"/>
              </a:solidFill>
              <a:latin typeface="Arial"/>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362320" y="3352680"/>
            <a:ext cx="3124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d =      Gi</a:t>
            </a:r>
            <a:endParaRPr b="0" lang="en-US" sz="36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657600" y="3429000"/>
                <a:ext cx="762120" cy="6634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Q</m:t>
                            </m:r>
                          </m:e>
                          <m:sub>
                            <m:r>
                              <m:t xml:space="preserve">i</m:t>
                            </m:r>
                            <m:r>
                              <m:t xml:space="preserve"> </m:t>
                            </m:r>
                          </m:sub>
                        </m:sSub>
                        <m:r>
                          <m:t xml:space="preserve">×</m:t>
                        </m:r>
                      </m:e>
                    </m:nary>
                  </m:oMath>
                </a14:m>
              </a:p>
            </p:txBody>
          </p:sp>
        </mc:Choice>
        <mc:Fallback/>
      </mc:AlternateContent>
      <p:sp>
        <p:nvSpPr>
          <p:cNvPr id="3" name="PlaceHolder 2"/>
          <p:cNvSpPr>
            <a:spLocks noGrp="1"/>
          </p:cNvSpPr>
          <p:nvPr>
            <p:ph type="sldNum" idx="3"/>
          </p:nvPr>
        </p:nvSpPr>
        <p:spPr/>
        <p:txBody>
          <a:bodyPr/>
          <a:p>
            <a:fld id="{6E7840C4-91E4-4F00-ADD3-2135C18F1F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
          <p:cNvSpPr/>
          <p:nvPr/>
        </p:nvSpPr>
        <p:spPr>
          <a:xfrm>
            <a:off x="228600" y="1752480"/>
            <a:ext cx="8534520" cy="44834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ỉ tiêu đáp ứng nhu cầu dịch vụ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0 - Khối lượng dịch vụ loại i mà doanh nghiệp thương mại thực hiện trong năm.</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0 - Số lượng khách hàng được thực hiện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Qni -  Nhu cầu hàng năm về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Nin - Số lượng khách hàng có nhu cầu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  -  Số lượng các dịch vụ được các doanh nghiệp thương mại thực hiện.</a:t>
            </a:r>
            <a:endParaRPr b="0" lang="en-US" sz="20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4" name=""/>
          <p:cNvSpPr/>
          <p:nvPr/>
        </p:nvSpPr>
        <p:spPr>
          <a:xfrm>
            <a:off x="1800" y="1197720"/>
            <a:ext cx="1130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05" name=""/>
          <p:cNvSpPr/>
          <p:nvPr/>
        </p:nvSpPr>
        <p:spPr>
          <a:xfrm>
            <a:off x="3581280" y="2895480"/>
            <a:ext cx="41148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K = </a:t>
            </a:r>
            <a:endParaRPr b="0" lang="en-US" sz="36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876920" y="3048120"/>
                <a:ext cx="1371600" cy="12189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m</m:t>
                            </m:r>
                          </m:sup>
                          <m:e>
                            <m:sSubSup>
                              <m:e>
                                <m:r>
                                  <m:t xml:space="preserve">Q</m:t>
                                </m:r>
                              </m:e>
                              <m:sub>
                                <m:r>
                                  <m:t xml:space="preserve">i</m:t>
                                </m:r>
                              </m:sub>
                              <m:sup>
                                <m:r>
                                  <m:t xml:space="preserve">0</m:t>
                                </m:r>
                              </m:sup>
                            </m:sSubSup>
                            <m:sSubSup>
                              <m:e>
                                <m:r>
                                  <m:t xml:space="preserve">N</m:t>
                                </m:r>
                              </m:e>
                              <m:sub>
                                <m:r>
                                  <m:t xml:space="preserve">i</m:t>
                                </m:r>
                              </m:sub>
                              <m:sup>
                                <m:r>
                                  <m:t xml:space="preserve">0</m:t>
                                </m:r>
                              </m:sup>
                            </m:sSubSup>
                          </m:e>
                        </m:nary>
                      </m:num>
                      <m:den>
                        <m:nary>
                          <m:naryPr>
                            <m:chr m:val="∑"/>
                          </m:naryPr>
                          <m:sub>
                            <m:r>
                              <m:t xml:space="preserve">i</m:t>
                            </m:r>
                            <m:r>
                              <m:t xml:space="preserve">=</m:t>
                            </m:r>
                            <m:r>
                              <m:t xml:space="preserve">1</m:t>
                            </m:r>
                          </m:sub>
                          <m:sup>
                            <m:r>
                              <m:t xml:space="preserve">n</m:t>
                            </m:r>
                          </m:sup>
                          <m:e>
                            <m:sSubSup>
                              <m:e>
                                <m:r>
                                  <m:t xml:space="preserve">Q</m:t>
                                </m:r>
                              </m:e>
                              <m:sub>
                                <m:r>
                                  <m:t xml:space="preserve">i</m:t>
                                </m:r>
                              </m:sub>
                              <m:sup>
                                <m:r>
                                  <m:t xml:space="preserve">n</m:t>
                                </m:r>
                              </m:sup>
                            </m:sSubSup>
                            <m:sSubSup>
                              <m:e>
                                <m:r>
                                  <m:t xml:space="preserve">N</m:t>
                                </m:r>
                              </m:e>
                              <m:sub>
                                <m:r>
                                  <m:t xml:space="preserve">i</m:t>
                                </m:r>
                              </m:sub>
                              <m:sup>
                                <m:r>
                                  <m:t xml:space="preserve">n</m:t>
                                </m:r>
                              </m:sup>
                            </m:sSubSup>
                          </m:e>
                        </m:nary>
                      </m:den>
                    </m:f>
                  </m:oMath>
                </a14:m>
              </a:p>
            </p:txBody>
          </p:sp>
        </mc:Choice>
        <mc:Fallback/>
      </mc:AlternateContent>
      <p:sp>
        <p:nvSpPr>
          <p:cNvPr id="3" name="PlaceHolder 2"/>
          <p:cNvSpPr>
            <a:spLocks noGrp="1"/>
          </p:cNvSpPr>
          <p:nvPr>
            <p:ph type="sldNum" idx="3"/>
          </p:nvPr>
        </p:nvSpPr>
        <p:spPr/>
        <p:txBody>
          <a:bodyPr/>
          <a:p>
            <a:fld id="{BB62E891-0C67-4098-821E-12F150E99A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08" name=""/>
          <p:cNvSpPr/>
          <p:nvPr/>
        </p:nvSpPr>
        <p:spPr>
          <a:xfrm>
            <a:off x="304920" y="1676520"/>
            <a:ext cx="8534160" cy="2654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Sau gần 30 năm thực hiện chính sách đổi mới kể từ Đại hội Đảng toàn quốc lần thứ VI (</a:t>
            </a:r>
            <a:r>
              <a:rPr b="0" lang="en-US" sz="2400" spc="-1" strike="noStrike">
                <a:solidFill>
                  <a:srgbClr val="000000"/>
                </a:solidFill>
                <a:latin typeface="Times New Roman"/>
              </a:rPr>
              <a:t>1986), với nền kinh tế nhiều thành phần đã làm cho kinh tế Việt Nam có những thay đổi lớn lao không phải chỉ ở mức tăng trưởng mà còn ở thay đổi cơ cấu kinh tế</a:t>
            </a:r>
            <a:endParaRPr b="0" lang="en-US" sz="24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dịch vụ xuất hiện ngày càng nhiều và tỏ ra thích ứng nhanh vì đem lại hiệu quả kinh tế ca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E8B7515-5FFF-4805-9F8F-8C97F410B0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0" name=""/>
          <p:cNvSpPr/>
          <p:nvPr/>
        </p:nvSpPr>
        <p:spPr>
          <a:xfrm>
            <a:off x="304920" y="167652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các ngành dịch vụ phải kể tới vai trò không nhỏ của lĩnh vực thương mại.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hững năm đổi mới vừa qua, thương mại phát triển khá, bảo đảm lưu chuyển, cung ứng vật tư, hàng hóa trong cả nước và trên từng vùng</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ương mại quốc doanh được sắp xếp lại theo hướng nắm bán buôn, tham gia kinh doanh bán lẻ đối với một số mặt hàng thiết yếu;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02AD628-DED6-4390-B4B3-328B783C7D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Khái quát dịch vụ và đặc điểm sản phẩm dịch vụ</a:t>
            </a:r>
            <a:endParaRPr b="0" lang="en-US" sz="4000" spc="-1" strike="noStrike">
              <a:solidFill>
                <a:srgbClr val="000000"/>
              </a:solidFill>
              <a:latin typeface="Arial"/>
            </a:endParaRPr>
          </a:p>
        </p:txBody>
      </p:sp>
      <p:sp>
        <p:nvSpPr>
          <p:cNvPr id="51" name=""/>
          <p:cNvSpPr/>
          <p:nvPr/>
        </p:nvSpPr>
        <p:spPr>
          <a:xfrm>
            <a:off x="304920" y="137160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Quan điểm về dịch v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rộng,</a:t>
            </a:r>
            <a:r>
              <a:rPr b="1" i="1" lang="en-US" sz="2800" spc="-1" strike="noStrike">
                <a:solidFill>
                  <a:srgbClr val="000000"/>
                </a:solidFill>
                <a:latin typeface="Times New Roman"/>
              </a:rPr>
              <a:t> dịch vụ được coi là lĩnh vực kinh tế thứ ba trong nền kinh tế quốc dân. Theo cách hiểu này, các hoạt động kinh tế nằm ngoài 2 ngành công nghiệp và nông nghiệp đều thuộc ngành dịch vụ. ở các nước phát triển, dịch vụ chiếm trên 70% GD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hẹp,</a:t>
            </a:r>
            <a:r>
              <a:rPr b="1" i="1" lang="en-US" sz="2800" spc="-1" strike="noStrike">
                <a:solidFill>
                  <a:srgbClr val="000000"/>
                </a:solidFill>
                <a:latin typeface="Times New Roman"/>
              </a:rPr>
              <a:t> dịch vụ là những hoạt động hỗ trợ cho quá trình kinh doanh, bao gồm các hỗ trợ trước, trong và sau khi bán, là phần mềm của sản phẩm được cung ứng cho khách hà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681D966-C9A2-48C7-ACC7-F613099545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IV. Phát triển thị trường và thương mại dịch vụ ở Việt Nam</a:t>
            </a:r>
            <a:endParaRPr b="0" lang="en-US" sz="3600" spc="-1" strike="noStrike">
              <a:solidFill>
                <a:srgbClr val="000000"/>
              </a:solidFill>
              <a:latin typeface="Arial"/>
            </a:endParaRPr>
          </a:p>
        </p:txBody>
      </p:sp>
      <p:sp>
        <p:nvSpPr>
          <p:cNvPr id="112" name=""/>
          <p:cNvSpPr/>
          <p:nvPr/>
        </p:nvSpPr>
        <p:spPr>
          <a:xfrm>
            <a:off x="304920" y="167652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ương mại ngoài quốc doanh tăng lên đáng kể về số lượng từ đó góp phần làm cho thị trường trong nước sôi động phong phú.</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ạng lưới chợ, các điểm bán hàng hóa và kinh doanh dịch vụ phát triển rộng khắp trên phạm vi cả nước.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siêu thị, trung tâm thương mại, hội chợ và triển lãm hàng hóa được hình thành và phát triển.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963121D-5038-46AD-B208-FB8E2B39AD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4" name=""/>
          <p:cNvSpPr/>
          <p:nvPr/>
        </p:nvSpPr>
        <p:spPr>
          <a:xfrm>
            <a:off x="304920" y="167652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Nhiều hình thức thu hút khách hàng của các nước tiên tiến trên thế giới được áp dụng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ội ngũ nhân viên, nhà quản lý trong lĩnh vực thương mại dịch vụ đã trưởng thành nhiều mặt, biết cách thu hút khách hàng bằng chính chất lượng phục vụ của mình.</a:t>
            </a:r>
            <a:r>
              <a:rPr b="0" lang="en-US" sz="3600" spc="-1" strike="noStrike">
                <a:solidFill>
                  <a:srgbClr val="000000"/>
                </a:solidFill>
                <a:latin typeface="Times New Roman"/>
              </a:rPr>
              <a:t> </a:t>
            </a:r>
            <a:endParaRPr b="0" lang="en-US" sz="36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Một số điều cần biết đối với doanh nhâ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822D536-003C-48B7-8463-BF71CCF7EF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1280" y="314280"/>
            <a:ext cx="8502840" cy="60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SỬ DỤNG BÍ QUYẾT 10 CHỮ TRONG BÁN HÀNG</a:t>
            </a:r>
            <a:endParaRPr b="0" lang="en-US" sz="23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Chữ "tin" thông tin thị trường để nắm thời cơ</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Chữ "mới" sản phẩm mới để chiến thắng đối thủ</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Chữ "nổi" sản phẩm nổi tiếng để mở rộng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Chữ "quảng" quảng cáo sản phẩm để thu hút khách hàng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Chữ "mạng" phát triển mạng lưới bán hàng để mở rộng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Chữ "liên" liên doanh để tấn công vào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Chữ "giá" định giá sản phẩm để kích thích nhu cầu</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Chữ "công" quan hệ công chúng để xây dựng hình tượ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Chữ "bao" bao tiêu sản phẩm để đẩy mạnh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Chữ "thành" thành tâm phục vụ để đứng vững trên thị trường </a:t>
            </a:r>
            <a:endParaRPr b="0" lang="en-US" sz="2200" spc="-1" strike="noStrike">
              <a:solidFill>
                <a:srgbClr val="000000"/>
              </a:solidFill>
              <a:latin typeface="Arial"/>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ệt Nam thường có 8 chữ "T")</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95FD4F25-BBA3-4F16-AE12-A1648BFFA1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1280" y="314280"/>
            <a:ext cx="8502840" cy="5894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Ủ DOANH NGHIỆP THÀNH CÔNG CÓ ĐƯỢC NHỜ:</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Biết săn lùng cơ hộ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Biết hướng tới tương la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Luôn phấn đấu thành người giỏi giang nhất</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Luôn hướng vào người tiêu dù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Phải coi trọng nhân viên của mì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Là những người thực tế</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Là những người chịu được sự vô vị</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Là những người có sức bậ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B3639AB-134D-459A-96EF-0939CB3024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41280" y="314280"/>
            <a:ext cx="8502840" cy="627984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HỮNG TIÊU CHUẨN CƠ BẢN CỦA NGƯỜI GIÁM ĐỐC</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rung thành với nhiệm vụ và gương mẫu</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Hiểu biết nhiều và thông thạo nghiệp vụ.</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ó con mắt nhạy bén và giỏi về kinh doanh</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iết người biết ta, biết cách lãnh đạo</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ó tinh thần sáng tạo nhưng thực tế</a:t>
            </a:r>
            <a:endParaRPr b="0" lang="en-US" sz="2800" spc="-1" strike="noStrike">
              <a:solidFill>
                <a:srgbClr val="000000"/>
              </a:solidFill>
              <a:latin typeface="Arial"/>
            </a:endParaRPr>
          </a:p>
        </p:txBody>
      </p:sp>
      <p:sp>
        <p:nvSpPr>
          <p:cNvPr id="118" name=""/>
          <p:cNvSpPr/>
          <p:nvPr/>
        </p:nvSpPr>
        <p:spPr>
          <a:xfrm>
            <a:off x="6705720" y="3352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ữ</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990A9D5-31AF-42C5-8714-8040F09D90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41280" y="257040"/>
            <a:ext cx="8502840" cy="6438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ƯỜI MỤC TIÊU GIÁM ĐỐC CẦN THEO ĐUỔ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ốn trở thành giám đốc giỏi cần phải theo đuổi 10 mục tiêu:</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Giám đốc giỏi phải là người biết vạch phương hướ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Giám đốc giỏi phải là người tổ chức giỏ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Giám đốc giỏi phải là người biết điều hàn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Giám đốc giỏi phải là người biết quản lý chặt chẽ</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Giám đốc giỏi phải là một nhà phân tíc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Giám đốc giỏi phải là một nhà cổ độ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Giám đốc giỏi phải là người sáng tạo</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Giám đốc giỏi phải là người biết chắp nối mọi ý kiế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Giám đốc giỏi phải là người thầy</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Giám đốc giỏi phải là người quyết định mọi chủ trương</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12E7366F-F1DC-4375-BF38-53082293EB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41280" y="257040"/>
            <a:ext cx="8502840" cy="5351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ĂM LOẠI NGƯỜI KHÔNG DÙNG ĐƯỢ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1. Không chủ ý, không khéo gỡ tình thế</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2. Ba phải, vô nguyên tắ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3. Tâm thuật bất chính, sử dụng quyền lực như trò chơi, thích chia rẽ, lấy chức mưu quyền, "Khẩu phật tâm xà".</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4. Không tôn trọng đoàn thể, không biết tới đại cục, vô tổ chức vô kỹ thuật.</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5. Không có trách nhiệm, không mục tiêu, không sự nghiệp.</a:t>
            </a:r>
            <a:endParaRPr b="0" lang="en-US" sz="2500" spc="-1" strike="noStrike">
              <a:solidFill>
                <a:srgbClr val="000000"/>
              </a:solidFill>
              <a:latin typeface="Arial"/>
            </a:endParaRPr>
          </a:p>
        </p:txBody>
      </p:sp>
      <p:sp>
        <p:nvSpPr>
          <p:cNvPr id="2" name="PlaceHolder 1"/>
          <p:cNvSpPr>
            <a:spLocks noGrp="1"/>
          </p:cNvSpPr>
          <p:nvPr>
            <p:ph type="sldNum" idx="3"/>
          </p:nvPr>
        </p:nvSpPr>
        <p:spPr/>
        <p:txBody>
          <a:bodyPr/>
          <a:p>
            <a:fld id="{AE5DC0D3-EF83-47BA-B247-FE31EA30D7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41280" y="257040"/>
            <a:ext cx="8502840" cy="5755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TÁM ĐIỀU CẤM KỴ TRONG DÙNG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Một là,</a:t>
            </a:r>
            <a:r>
              <a:rPr b="0" lang="en-US" sz="2300" spc="-1" strike="noStrike">
                <a:solidFill>
                  <a:srgbClr val="000000"/>
                </a:solidFill>
                <a:latin typeface="Times New Roman"/>
                <a:ea typeface="Times New Roman"/>
              </a:rPr>
              <a:t> dùng quan niệm lý tưởng hoá để tuyển chọn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Hai là, đánh giá theo con mắt tĩnh,</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a là, suy từ điểm nhỏ ra toàn bộ để phủ định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ốn là,</a:t>
            </a:r>
            <a:r>
              <a:rPr b="0" lang="en-US" sz="2300" spc="-1" strike="noStrike">
                <a:solidFill>
                  <a:srgbClr val="000000"/>
                </a:solidFill>
                <a:latin typeface="Times New Roman"/>
                <a:ea typeface="Times New Roman"/>
              </a:rPr>
              <a:t> hại người bằng những thiên kiến thế tục, nhìn người không toàn diện - "nhìn người qua lỗ cửa".</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ea typeface="Times New Roman"/>
              </a:rPr>
              <a:t>Nă</a:t>
            </a:r>
            <a:r>
              <a:rPr b="0" i="1" lang="en-US" sz="2300" spc="-1" strike="noStrike">
                <a:solidFill>
                  <a:srgbClr val="000000"/>
                </a:solidFill>
                <a:latin typeface="Times New Roman"/>
                <a:ea typeface="Times New Roman"/>
              </a:rPr>
              <a:t>m là, dùng người theo ân oán cá nhân</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Sáu là, hiểu sai người vì những lời dèm pha bông đùa của người khác</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ảy là, lấy việc thua nhất thời để xét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Tám là, để kẻ tiểu nhân hại người đức tà</a:t>
            </a:r>
            <a:r>
              <a:rPr b="0" lang="en-US" sz="2300" spc="-1" strike="noStrike">
                <a:solidFill>
                  <a:srgbClr val="000000"/>
                </a:solidFill>
                <a:latin typeface="Times New Roman"/>
                <a:ea typeface="Times New Roman"/>
              </a:rPr>
              <a:t>i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BBA0201D-51CF-4887-B1C8-7C418B6C3A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41280" y="257040"/>
            <a:ext cx="8502840" cy="612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10 LỜI KHUYÊN CỦA MC. CORMACK - NHÀ KINH DOANH, GIÁO SƯ CỦA ĐẠI HỌC HARVARRD</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Không bao giờ đánh giá thấp đồng tiề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Đừng bao giờ đánh giá quá cao về tiền bạc</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Bao giờ cũng có nhiều bạn bè trong kinh doanh</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Đừng "sĩ diện" khi phải nói "tôi không biết"</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ói ít nghe nhiều hơ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Giữ lời hứa dù lớn hay nhỏ</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7. Mọi giao dịch đều có tính cách riêng</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8. Theo đuổi chất lượng ngay từ đầu</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9. Cư xử tốt với mọi người</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0. Đừng giành lấy công lao.</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48D48C21-4E82-4B39-8F1A-CB9EF43D20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41280" y="76320"/>
            <a:ext cx="8502840" cy="664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6 TIÊU CHÍ ĐÁNH GIÁ HIỆU QUẢ DOANH NGHIỆP (BỘ TÀI CHÍ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Bảo toàn và phát triển được vốn kinh doanh, trích khấu hao TSCĐ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Lương trả cho người lao động tối thiểu bằng mức bình quân của doanh nghiệp trên địa bà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Trả đầy đủ các khoản nợ đến hạn, không có nợ quá hạ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Nộp đủ các khoản thuế phải nộp theo luật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ộp đủ tiền bảo hiểm xã hội, bảo hiểm y tế cho người lao động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Có lãi, nộp đủ tiền thu sử dụng vốn và lập đủ các quỹ doanh nghiệp theo quy định hiện hành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155E1E0D-3E7C-4E58-879F-A4DA6FEEE6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Khái quát dịch vụ và đặc điểm sản phẩm dịch vụ</a:t>
            </a:r>
            <a:endParaRPr b="0" lang="en-US" sz="4400" spc="-1" strike="noStrike">
              <a:solidFill>
                <a:srgbClr val="000000"/>
              </a:solidFill>
              <a:latin typeface="Arial"/>
            </a:endParaRPr>
          </a:p>
        </p:txBody>
      </p:sp>
      <p:sp>
        <p:nvSpPr>
          <p:cNvPr id="53" name=""/>
          <p:cNvSpPr/>
          <p:nvPr/>
        </p:nvSpPr>
        <p:spPr>
          <a:xfrm>
            <a:off x="304920" y="13716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2. Bản chất:</a:t>
            </a:r>
            <a:endParaRPr b="0" lang="en-US" sz="28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chất lượng dịch vụ rất khó đánh giá vì nó chịu nhiều yếu tố tác động như người bán, người mua và cả thời điểm mua bán dịch vụ đó.</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dịch vụ có sự khác biệt về chi phí so với các sản phẩm vật chất</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ản xuất và tiêu dùng dịch vụ diễn ra đồng thời, nên cung cầu dịch vụ không thể tách rời nhau mà phải tiến hành cùng lúc.</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ịch vụ không thể cất giữ trong kho, làm phần đệm điều chỉnh sự thay đổi nhu cầu thị trường như các sản phẩm vật chất khác...</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A366823-90C6-44AC-B7B7-77EEF0886D8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5"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Dịch vụ và vai trò của nó trong nền kinh tế quốc dâ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hân biệt sản phẩm dịch vụ và sản phẩm vật chất, từ đó cho biết biện pháp để nâng cao hiệu quả kinh doanh dịch vụ.</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ác loại dịch vụ thương mại ở nước ta (thực trạng và biện pháp phát triể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ệ thống các chỉ tiêu đánh giá hiệu quả dịch vụ (ý nghĩa và phương pháp xác định)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hân tích và đánh giá tình hình phát triển thương mại - dịch vụ Việt Nam những năm đổi mới vừa qu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6A091A-8EA1-48A6-85AC-0B39798E191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I. Các loại dịch vụ thương mại</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5" name=""/>
          <p:cNvSpPr/>
          <p:nvPr/>
        </p:nvSpPr>
        <p:spPr>
          <a:xfrm>
            <a:off x="304920" y="1371600"/>
            <a:ext cx="8534160" cy="42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1.</a:t>
            </a:r>
            <a:r>
              <a:rPr b="1" i="1" lang="en-US" sz="3600" spc="-1" strike="noStrike">
                <a:solidFill>
                  <a:srgbClr val="009999"/>
                </a:solidFill>
                <a:latin typeface="Times New Roman"/>
              </a:rPr>
              <a:t> Vai trò của dịch vụ thương mại</a:t>
            </a:r>
            <a:endParaRPr b="0" lang="en-US" sz="3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Mục đích của dịch vụ là để thu lợi nhuận cao qua thỏa mãn yêu cầu của khách hàng.</a:t>
            </a:r>
            <a:endParaRPr b="0" lang="en-US" sz="25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500" spc="-1" strike="noStrike">
                <a:solidFill>
                  <a:srgbClr val="000000"/>
                </a:solidFill>
                <a:latin typeface="Times New Roman"/>
              </a:rPr>
              <a:t>Nó giúp cho doanh nghiệp bán được nhiều hàng, thu được nhiều lợi nhuận, đẩy nhanh tốc độ lưu chuyển hàng hóa, tiền tệ. Dịch vụ lập nên hàng rào chắn, ngăn chặn sự xâm nhập của đối thủ cạnh tranh. Dịch vụ giúp cho việc phát triển thị trường và giữ thị trường ổn định. </a:t>
            </a: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777015E1-093E-47A5-A185-183CC63997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610480" cy="5526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II. Các loại dịch vụ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7" name=""/>
          <p:cNvSpPr/>
          <p:nvPr/>
        </p:nvSpPr>
        <p:spPr>
          <a:xfrm>
            <a:off x="304920" y="609480"/>
            <a:ext cx="8534160" cy="6497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2. Các loại dịch vụ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ăm 2006 - 2013, tổng quan về dịch vụ: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9 triệu người làm trong dịch vụ (25% lao đ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u vực dịch vụ: 2006: 38,1%, 2007: 38,2%, 2008: 38,17%, 2009:38,9%, 2010: 38.6%, 2011: 37,8%.2012:37,6%,2013:38,7%</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tăng hàng năm 2009: 6.5% bỡnh quõn 3 nam là 7.5%.</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ổng mức bán lẻ hàng hóa và doanh thu dịch vụ 5 năm tăng 15% vượt mục tiêu kế hoạch 11 – 12% (2005: 446 nghìn tỷ, 2006: 580,7nghìn tỷ, 2007: 708,5; 2008: 983,8; 2009: 1197,5 và đến 2010: 1561,6 nghìn tỷ đồng).2011 tang 24%,2012:18%,2013:20% đạt 2445 nghìn tỷ đồng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Khách quốc tế: 2,1 triệu người 2000 lên 3,25 triệu người 2005, đến năm 2008: 4,9-5 triệu (11-14%), 2010: 5 triệu (34,8%),2011:6,01tr,2012: 6,5tr,2013: 7tr. (doanh thu 2005: 30.000 tỷ; 2006: 36.000 tỷ, 2007 dự kiến 41 nghìn tỷ,  tăng 14%, 2010: 71.920 tỷ đồ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ách nội địa: 11,2 triệu người năm 2000 lên 15 triệu người năm 2005, 2008: 19 triệu, tăng 6%,201130tr,2012:32tr. 2013:34,5tr..</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Dịch vụ quan niệm như thế nào?</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Theo nghĩa r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nghĩa hẹp</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41DF86E-DC94-46B0-A540-A20FC26DE6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09960" y="714240"/>
            <a:ext cx="281952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ền sản xuấ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ã hội</a:t>
            </a:r>
            <a:endParaRPr b="0" lang="en-US" sz="2400" spc="-1" strike="noStrike">
              <a:solidFill>
                <a:srgbClr val="000000"/>
              </a:solidFill>
              <a:latin typeface="Arial"/>
            </a:endParaRPr>
          </a:p>
        </p:txBody>
      </p:sp>
      <p:sp>
        <p:nvSpPr>
          <p:cNvPr id="59" name=""/>
          <p:cNvSpPr/>
          <p:nvPr/>
        </p:nvSpPr>
        <p:spPr>
          <a:xfrm>
            <a:off x="70488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sản xuất vật chất</a:t>
            </a:r>
            <a:endParaRPr b="0" lang="en-US" sz="2400" spc="-1" strike="noStrike">
              <a:solidFill>
                <a:srgbClr val="000000"/>
              </a:solidFill>
              <a:latin typeface="Arial"/>
            </a:endParaRPr>
          </a:p>
        </p:txBody>
      </p:sp>
      <p:sp>
        <p:nvSpPr>
          <p:cNvPr id="60" name=""/>
          <p:cNvSpPr/>
          <p:nvPr/>
        </p:nvSpPr>
        <p:spPr>
          <a:xfrm>
            <a:off x="535320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phi vật chất</a:t>
            </a:r>
            <a:endParaRPr b="0" lang="en-US" sz="2400" spc="-1" strike="noStrike">
              <a:solidFill>
                <a:srgbClr val="000000"/>
              </a:solidFill>
              <a:latin typeface="Arial"/>
            </a:endParaRPr>
          </a:p>
        </p:txBody>
      </p:sp>
      <p:sp>
        <p:nvSpPr>
          <p:cNvPr id="61" name=""/>
          <p:cNvSpPr/>
          <p:nvPr/>
        </p:nvSpPr>
        <p:spPr>
          <a:xfrm>
            <a:off x="3753000" y="5799240"/>
            <a:ext cx="1885680" cy="128232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ịch vụ</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2856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xuất vật chất</a:t>
            </a:r>
            <a:endParaRPr b="0" lang="en-US" sz="2400" spc="-1" strike="noStrike">
              <a:solidFill>
                <a:srgbClr val="000000"/>
              </a:solidFill>
              <a:latin typeface="Arial"/>
            </a:endParaRPr>
          </a:p>
        </p:txBody>
      </p:sp>
      <p:sp>
        <p:nvSpPr>
          <p:cNvPr id="63" name=""/>
          <p:cNvSpPr/>
          <p:nvPr/>
        </p:nvSpPr>
        <p:spPr>
          <a:xfrm>
            <a:off x="27622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vật chất</a:t>
            </a:r>
            <a:endParaRPr b="0" lang="en-US" sz="2400" spc="-1" strike="noStrike">
              <a:solidFill>
                <a:srgbClr val="000000"/>
              </a:solidFill>
              <a:latin typeface="Arial"/>
            </a:endParaRPr>
          </a:p>
        </p:txBody>
      </p:sp>
      <p:sp>
        <p:nvSpPr>
          <p:cNvPr id="64" name=""/>
          <p:cNvSpPr/>
          <p:nvPr/>
        </p:nvSpPr>
        <p:spPr>
          <a:xfrm>
            <a:off x="52768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phi  vật chất</a:t>
            </a:r>
            <a:endParaRPr b="0" lang="en-US" sz="2400" spc="-1" strike="noStrike">
              <a:solidFill>
                <a:srgbClr val="000000"/>
              </a:solidFill>
              <a:latin typeface="Arial"/>
            </a:endParaRPr>
          </a:p>
        </p:txBody>
      </p:sp>
      <p:sp>
        <p:nvSpPr>
          <p:cNvPr id="65" name=""/>
          <p:cNvSpPr/>
          <p:nvPr/>
        </p:nvSpPr>
        <p:spPr>
          <a:xfrm>
            <a:off x="7410600" y="3468600"/>
            <a:ext cx="1143000" cy="155700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phi  vật chất</a:t>
            </a:r>
            <a:endParaRPr b="0" lang="en-US" sz="2400" spc="-1" strike="noStrike">
              <a:solidFill>
                <a:srgbClr val="000000"/>
              </a:solidFill>
              <a:latin typeface="Arial"/>
            </a:endParaRPr>
          </a:p>
        </p:txBody>
      </p:sp>
      <p:sp>
        <p:nvSpPr>
          <p:cNvPr id="66" name=""/>
          <p:cNvSpPr/>
          <p:nvPr/>
        </p:nvSpPr>
        <p:spPr>
          <a:xfrm>
            <a:off x="11620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626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7760" y="5283360"/>
            <a:ext cx="457200" cy="958680"/>
          </a:xfrm>
          <a:custGeom>
            <a:avLst/>
            <a:gdLst/>
            <a:ahLst/>
            <a:rect l="l" t="t" r="r" b="b"/>
            <a:pathLst>
              <a:path w="192" h="624">
                <a:moveTo>
                  <a:pt x="192" y="0"/>
                </a:moveTo>
                <a:lnTo>
                  <a:pt x="192" y="624"/>
                </a:lnTo>
                <a:lnTo>
                  <a:pt x="0" y="624"/>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38560" y="5283360"/>
            <a:ext cx="495360" cy="976320"/>
          </a:xfrm>
          <a:custGeom>
            <a:avLst/>
            <a:gdLst/>
            <a:ahLst/>
            <a:rect l="l" t="t" r="r" b="b"/>
            <a:pathLst>
              <a:path w="384" h="720">
                <a:moveTo>
                  <a:pt x="0" y="0"/>
                </a:moveTo>
                <a:lnTo>
                  <a:pt x="0" y="720"/>
                </a:lnTo>
                <a:lnTo>
                  <a:pt x="384" y="720"/>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076480" y="1082520"/>
            <a:ext cx="933480" cy="811440"/>
          </a:xfrm>
          <a:custGeom>
            <a:avLst/>
            <a:gdLst/>
            <a:ahLst/>
            <a:rect l="l" t="t" r="r" b="b"/>
            <a:pathLst>
              <a:path w="528" h="528">
                <a:moveTo>
                  <a:pt x="0" y="528"/>
                </a:moveTo>
                <a:lnTo>
                  <a:pt x="0" y="0"/>
                </a:lnTo>
                <a:lnTo>
                  <a:pt x="528"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867280" y="1082520"/>
            <a:ext cx="933480" cy="811440"/>
          </a:xfrm>
          <a:custGeom>
            <a:avLst/>
            <a:gdLst/>
            <a:ahLst/>
            <a:rect l="l" t="t" r="r" b="b"/>
            <a:pathLst>
              <a:path w="384" h="528">
                <a:moveTo>
                  <a:pt x="384" y="528"/>
                </a:moveTo>
                <a:lnTo>
                  <a:pt x="384" y="0"/>
                </a:lnTo>
                <a:lnTo>
                  <a:pt x="0"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37960" y="1620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 điểm phân chia dịch vụ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519EA24-C321-4C38-903B-9965534172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89080" y="507960"/>
            <a:ext cx="8610480" cy="51343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ặc điểm sản phẩm dịch vụ </a:t>
            </a:r>
            <a:endParaRPr b="0" lang="en-US" sz="28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vô hình khó đánh giá chất lượng, chất lượng dịch vụ phụ thuộc cả người bán, người mua và thời điểm bán dịch vụ.</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có sự khác biệt về chi phí sản xuất so với sản phẩm vật chất</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ản phẩm không cất giữ đề làm phần đệm, điều tiết nhu cầu thị trường</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iệc sản xuất và tiêu dùng sản phẩm dịch vụ diễn ra đồng thời</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Kinh doanh hàng hóa sử dụng nghệ thuật 4P’s còn kinh doanh dịch vụ, nghệ thuật ứng xử 5P’</a:t>
            </a:r>
            <a:r>
              <a:rPr b="0" lang="en-US" sz="2400" spc="-1" strike="noStrike" baseline="30000">
                <a:solidFill>
                  <a:srgbClr val="000000"/>
                </a:solidFill>
                <a:latin typeface="Times New Roman"/>
              </a:rPr>
              <a: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E18C479-5F48-4619-BCE4-4669EF263A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9440" y="290520"/>
            <a:ext cx="8610480" cy="61074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ỊCH VỤ TRONG THƯƠNG MẠI, PHÂN CHIA THEO QUÁ TRÌNH LƯU THÔNG</a:t>
            </a:r>
            <a:endParaRPr b="0" lang="en-US" sz="2800" spc="-1" strike="noStrike">
              <a:solidFill>
                <a:srgbClr val="000000"/>
              </a:solidFill>
              <a:latin typeface="Arial"/>
            </a:endParaRPr>
          </a:p>
          <a:p>
            <a:pPr marL="57240" indent="-5724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40" indent="-572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ịch vụ trong lĩnh vực lưu thông bổ sung</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án và chuyển hàng tận nơi theo yêu cầu của khách hàng</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huyển bị hàng hóa trước khi bán và đưa vào sử dụng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kỹ thuật khách hàng, gia công trong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cho thuê máy móc, thiết bị,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Nhượng quyền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ịch vụ logistic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C1E737B-1032-4370-B078-EB49E3A35A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9:39Z</dcterms:modified>
  <cp:revision>44</cp:revision>
  <dc:subject/>
  <dc:title>Slide 1</dc:title>
</cp:coreProperties>
</file>