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FFCD1-7FBF-490C-8212-3EE4299F4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C1772-3BFC-4113-ABB3-42B177ADC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54959-EDEC-491D-92B8-26BD7FED4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50DB1-348E-420D-B3D4-0332C87E2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B9E27-22C5-4AE3-A424-82E54FE4D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654B1-BCBC-4756-948A-EB3E196C9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39405-2DA5-4C8C-8059-217B16CF3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7EE44-2CF7-4012-8478-995AEF609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10AE7-4846-407B-8D60-2D762FCEC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39CD4-4082-433D-937A-E81F6FEAC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2C750-33C3-4027-B8B9-F063514E2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26B00-51A5-4F07-B679-509DE21E4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1B81-BFF5-4FE8-8E59-941A6B6A2796}"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9F26-3E3F-4F10-91D5-C7AA932DDABC}"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en-US" sz="2000" spc="-1" strike="noStrike">
                <a:solidFill>
                  <a:srgbClr val="0000ff"/>
                </a:solidFill>
                <a:latin typeface="Arial"/>
              </a:rPr>
              <a:t>VIỆN THƯƠNG MẠI VÀ KTQT</a:t>
            </a:r>
            <a:endParaRPr b="0" lang="en-US" sz="2000" spc="-1" strike="noStrike">
              <a:solidFill>
                <a:srgbClr val="000000"/>
              </a:solidFill>
              <a:latin typeface="Arial"/>
            </a:endParaRPr>
          </a:p>
        </p:txBody>
      </p:sp>
      <p:sp>
        <p:nvSpPr>
          <p:cNvPr id="42"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2</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Ị TRƯỜNG VÀ THƯƠNG MẠI VIỆT NAM</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 CÁC THỜI KỲ PHÁT TRIỂN</a:t>
            </a:r>
            <a:endParaRPr b="0" lang="en-US" sz="32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DED76F40-BEEB-4B76-A7B6-A08F6FADB4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3" name="Text Box 3"/>
          <p:cNvSpPr/>
          <p:nvPr/>
        </p:nvSpPr>
        <p:spPr>
          <a:xfrm>
            <a:off x="228600" y="1523880"/>
            <a:ext cx="8839080" cy="468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bảo đảm nguyên liệu cho các cơ sở sản xuất chủ yếu là xưởng cơ giới sản xuất vũ khí, bằng việc thu mua kim loại cũ trong dâ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ìm kiếm kim loại phế liệu, khai thác , vật liệu để cung ứng cho sản xuất quốc phòng và dân dụ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ới nguyên tắc Độc lập, tự chủ, tranh thủ trao đổi có lợi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A0A7AF9-2579-4DB5-AD30-896BC753E0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xuất nhập khẩu với vùng tạm bị địch kiểm soát gồm  những nội dung sa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ẩy mạnh xuất khẩu để phát triển sản xuất ở vùng tự do, nâng cao đời sống nhân dân để có ngoại tệ (tiền Đông Dươ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ranh thủ nhập khẩu hàng hóa cần thiết, cấm nhập khẩu hoặc hạn chế nhập khẩu những hàng hóa có khả năng cạnh tranh với các sản phẩm của vùng tự d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319501E-B865-4989-8C2F-D44D38BF69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7" name="Text Box 3"/>
          <p:cNvSpPr/>
          <p:nvPr/>
        </p:nvSpPr>
        <p:spPr>
          <a:xfrm>
            <a:off x="304920" y="1662120"/>
            <a:ext cx="8534160" cy="4274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giá cả trong trao đổi hàng hóa giữa hai vùng nhằm góp phần ổn định giá cả vùng tự do.</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tiền tệ (giữa tiền Việt Nam và tiền Đông Dương) nhằm mở rộng phạm vi lưu hành tiền Việt Nam và giữ  vững giá trị tiền Việt Na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8A5F173-8E14-4E37-92CF-53A3F83772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9" name="Text Box 3"/>
          <p:cNvSpPr/>
          <p:nvPr/>
        </p:nvSpPr>
        <p:spPr>
          <a:xfrm>
            <a:off x="304920" y="1654200"/>
            <a:ext cx="8534160" cy="413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ếu lấy năm 1948 bằng 100 thì lượng hàng xuất khẩu vào vùng tạm chiến năm 1951 tăng 94%; 1952 : 663%; 1953: 1.433% và năm 1954: 1.762% còn lượng hàng nhập khẩu từ vùng tạm chiến năm 1951 là 41%; 1952 : 268%; 1953: 770% và năm 1954 lên đến 947%.</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B3CB88B-4392-4C39-AAD5-69970A9C72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1" name="Text Box 3"/>
          <p:cNvSpPr/>
          <p:nvPr/>
        </p:nvSpPr>
        <p:spPr>
          <a:xfrm>
            <a:off x="304920" y="152388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Thị trường và Thương mại việt nam 1954-197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ời kỳ 1954-1975 đất nước còn bị chia làm hai miền.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Bắc đã thực hiện cơ chế quản lý kinh tế tập trung cao độ.</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Nam hoạt động thương mại, dịch vụ phát triển theo cơ chế thị trường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Năm 1954, Đảng và Nhà nước ta đã chủ trương chấn chỉnh thương nghiệp, thống nhất thị trường, giá cả hai v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9BD237A-9BB2-4D02-A3F9-0B1614B80F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3" name="Text Box 3"/>
          <p:cNvSpPr/>
          <p:nvPr/>
        </p:nvSpPr>
        <p:spPr>
          <a:xfrm>
            <a:off x="304920" y="1523880"/>
            <a:ext cx="853416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ăng cường thương nghiệp Nhà nước.</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ăng cường nắm nguồn hàng, thương nghiệp quốc doanh ,tăng cường thu mua nông sản phẩm</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ổ chức thương nghiệp quốc doanh cũng phát triển mạn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25AE2420-8AF9-4429-8224-7E86F11405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5" name="Text Box 3"/>
          <p:cNvSpPr/>
          <p:nvPr/>
        </p:nvSpPr>
        <p:spPr>
          <a:xfrm>
            <a:off x="304920" y="167004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ăm 1955 mới có 4 tổng công ty chuyên doanh, năm 1957 đã có 10 tổng công ty chuyên doanh.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hương nghiệp quốc doanh phát triển nhanh chóng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Ngoại thương, Nhà nước thi hành chính sách nắm ,quyền xuất nhập khẩu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B005E74-A4C3-4986-B2C8-4AA271B32A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7" name="Text Box 3"/>
          <p:cNvSpPr/>
          <p:nvPr/>
        </p:nvSpPr>
        <p:spPr>
          <a:xfrm>
            <a:off x="304920" y="1523880"/>
            <a:ext cx="8534160" cy="477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I. Thị trường và Thương mại việt nam 1954-1975</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ức bán buôn đến năm 1960 đã chiếm 93,5% tổng mức bán buôn của thương nghiệp quốc doanh và hợp tác xã mua bán,75,6% tổng mức bán lẻ của thương nghiệp thuần tuý.</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của kế hoạch 3 năm (1958-1960) thương nghiệp quốc doanh mở rộng bán lẻ, mở rộng kinh doanh phục vụ ăn uống,</a:t>
            </a:r>
            <a:r>
              <a:rPr b="0" lang="en-US" sz="2400" spc="-1" strike="noStrike">
                <a:solidFill>
                  <a:srgbClr val="000000"/>
                </a:solidFill>
                <a:latin typeface="Times New Roman"/>
              </a:rPr>
              <a:t> may mặc và sửa chữa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ạng lưới của thương nghiệp quốc doanh, mạng lưới thu mua, bán buôn và bán lẻ, đều được mở r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054D56E-FA04-4CAB-AEA9-8960CD2933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9" name="Text Box 3"/>
          <p:cNvSpPr/>
          <p:nvPr/>
        </p:nvSpPr>
        <p:spPr>
          <a:xfrm>
            <a:off x="304920" y="1523880"/>
            <a:ext cx="87026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Trình độ chuyên nghiệp hoá của thương nghiệp quốc doanh cũng được nâng cao thêm một b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 .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Bước đầu đặt quan hệ buôn bán với một số nước, góp phần tích cực vào việc khôi phục kinh tế và cung cấp hàng tiêu dùng.</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Sau chiến tranh ,nền kinh tế nước ta vẫn là một nền kinh tế lạc hậu, lệ thuộc nhiều vào nguồn nguyên, nhiên liệu, phụ tùng và thiết bị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F14C3FBE-3781-430D-BF85-554C2E0F8B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1"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rình độ chuyên nghiệp hoá của thương nghiệp quốc doanh cũng được nâng cao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ư tưởng chỉ đạo xuyên suốt toàn bộ thời kỳ 1960-1975 về công tác nội thương, ngoại thương, thị trường, giá cả là nội dung của Nghị quyết 10 (khoá III) của Trung ương Đả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3245965-C837-4F9F-8EB9-FDA9FB2312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6"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47" name="Text Box 4"/>
          <p:cNvSpPr/>
          <p:nvPr/>
        </p:nvSpPr>
        <p:spPr>
          <a:xfrm>
            <a:off x="1219320" y="2590920"/>
            <a:ext cx="7035840" cy="35067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a:t>
            </a:r>
            <a:r>
              <a:rPr b="1" lang="en-US" sz="2000" spc="-1" strike="noStrike">
                <a:solidFill>
                  <a:srgbClr val="000000"/>
                </a:solidFill>
                <a:latin typeface="Times New Roman"/>
              </a:rPr>
              <a:t>	</a:t>
            </a:r>
            <a:r>
              <a:rPr b="1" lang="en-US" sz="2000" spc="-1" strike="noStrike">
                <a:solidFill>
                  <a:srgbClr val="000000"/>
                </a:solidFill>
                <a:latin typeface="Times New Roman"/>
              </a:rPr>
              <a:t>Khái quát về thị trường và thương mại Việt Nam trước Cách mạng tháng 8 năm 194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45-1954</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1954-197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75-1986</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mở cửa (từ năm 1986 đến nay)</a:t>
            </a:r>
            <a:r>
              <a:rPr b="0" lang="en-US" sz="2000" spc="-1" strike="noStrike">
                <a:solidFill>
                  <a:srgbClr val="000000"/>
                </a:solidFill>
                <a:latin typeface="Times New Roman"/>
              </a:rPr>
              <a:t> </a:t>
            </a:r>
            <a:endParaRPr b="0" lang="en-US" sz="2000" spc="-1" strike="noStrike">
              <a:solidFill>
                <a:srgbClr val="000000"/>
              </a:solidFill>
              <a:latin typeface=".VnRevue"/>
            </a:endParaRPr>
          </a:p>
        </p:txBody>
      </p:sp>
      <p:sp>
        <p:nvSpPr>
          <p:cNvPr id="3" name="PlaceHolder 2"/>
          <p:cNvSpPr>
            <a:spLocks noGrp="1"/>
          </p:cNvSpPr>
          <p:nvPr>
            <p:ph type="sldNum" idx="3"/>
          </p:nvPr>
        </p:nvSpPr>
        <p:spPr/>
        <p:txBody>
          <a:bodyPr/>
          <a:p>
            <a:fld id="{015851D8-2C0B-43D6-A03A-6D23ECAF51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3" name="Text Box 3"/>
          <p:cNvSpPr/>
          <p:nvPr/>
        </p:nvSpPr>
        <p:spPr>
          <a:xfrm>
            <a:off x="304920" y="165744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Bước đầu đặt quan hệ buôn bán với một số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Kế hoạch 5 năm lần thứ nhất (1961-1965), ngoại thương được tăng cườ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_Sau chiến tranh kết thúc, nền kinh tế nước ta vẫn là một nền kinh tế lạc hậu, lệ thuộc nhiều vào nguồn nguyên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8E04A5E-A34B-4B0E-BD82-44C2956D65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5" name="Text Box 3"/>
          <p:cNvSpPr/>
          <p:nvPr/>
        </p:nvSpPr>
        <p:spPr>
          <a:xfrm>
            <a:off x="304920" y="1523880"/>
            <a:ext cx="853416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hát triển hệ thống thương mại thời kỳ này có những điểm  sau:</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ực hiện ,hai hình thức sở hữu toàn dân (quốc doanh) và sở hữu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ong lĩnh vực lưu thông hàng hóa xoá bỏ thương mại tư bản tư doanh, thương mại cá thể, hình thành chủ yếu các doanh nghiệp thương mại quốc doanh và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ạt động thương mại được thực hiện theo địa chỉ cụ thể và theo giá cả, chỉ tiêu kế hoạc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39D16563-2F5D-4B04-A580-847DAC53EF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7" name="Text Box 3"/>
          <p:cNvSpPr/>
          <p:nvPr/>
        </p:nvSpPr>
        <p:spPr>
          <a:xfrm>
            <a:off x="304920" y="18223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ự tách dần các loại hàng hóa theo tính chất sử dụng thành các doanh nghiệp riêng.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của các doanh nghiệp kinh doanh xuất nhập khẩu hướng vào việc đẩy mạnh xuất khẩu để đáp ứng nhu cầu nhập khẩu,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ính sách ngoại thương lúc này là mở rộng, đa dạng hoá và đa phương hoá thị trường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37F9AAE-A69D-4445-A963-16FA34A50B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9" name="Text Box 3"/>
          <p:cNvSpPr/>
          <p:nvPr/>
        </p:nvSpPr>
        <p:spPr>
          <a:xfrm>
            <a:off x="304920" y="1523880"/>
            <a:ext cx="8534160" cy="3840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V. Thị trường và Thương mại Việt Nam  thời kỳ 1975-1986</a:t>
            </a:r>
            <a:endParaRPr b="0" lang="en-US" sz="30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ản lý nhà nước đối với hoạt động thương mại phân tán ở các Bộ Ngoại thương, Bộ Vật tư, Bộ Nội thương. </a:t>
            </a:r>
            <a:endParaRPr b="0" lang="en-US" sz="26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ế độ hạch toán kinh tế trong thương mại còn mang tính hình thức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7EFE5D64-472B-4265-AB90-1AB996B08C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 Thị trường và Thương mại Việt Nam thời mở cửa (từ năm 1986 đến nay)</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ừ năm 1989 trở đi, nước ta đã bắt đầu xuất khẩu được mỗi năm từ 1-1,5 triệu tấn gạo</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Việc thực hiện 3 chương trình kinh tế lớn (lương thực - thực phẩm; hàng tiêu dùng; hàng xuất khẩu) đạt những tiến bộ rõ rệt.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ối năm 1988, Nhà nước đã ban hành một số quyết định quan trọng theo hướng khuyến khích mở rộng lưu thông hàng hó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ở rộng quyền đăng ký kinh doanh thương mại, dịch vụ.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128F606-DF57-4444-A270-A551673D93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3"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à nước bảo hộ các hoạt động kinh doanh hợp pháp, tạo điều kiện bình đẳng trong vay vốn, mở tài khoản ngân hàng và sử dụng lao độ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ùng với việc chuyển giao quyền tự chủ sản xuất - kinh doanh cho doanh nghiệp theo Quyết định 217/HĐBT ngày 14/11/1987, Nhà nước từng bước cắt bỏ cơ chế bao cấp đầu vào, đầu ra, cắt bỏ dần hệ thống chỉ tiêu pháp lệnh.</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E5F783A-B24C-43F8-A976-8EDC669758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5" name="Text Box 3"/>
          <p:cNvSpPr/>
          <p:nvPr/>
        </p:nvSpPr>
        <p:spPr>
          <a:xfrm>
            <a:off x="304920" y="171144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 Thị trường và Thương mại Việt Nam thời mở cửa (từ năm 1986 đến nay)</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hị quyết 12/NQ/TW ngày 3/01/1996 của Bộ Chính trị về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ếp tục đổi mới tổ chức và hoạt động thương nghiệp, phát triển thị trường theo định hướng XHC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ẳng định chính sách tự do lưu thông trong khuôn khổ pháp luậ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1C987CD-CC25-4AD3-A8C1-87683FE4AB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7" name="Text Box 3"/>
          <p:cNvSpPr/>
          <p:nvPr/>
        </p:nvSpPr>
        <p:spPr>
          <a:xfrm>
            <a:off x="304920" y="152388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n hành Nghị định 114-HĐBT ngày 7- 4-1992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Đ 33-CP ngày 19-4-1994, theo hướng bảo đảm sự quản lý Nhà nước thống nhất đối với xuất nhập khẩu, nới lỏng cơ chế quản lý để khuyến khích phát triển xuất khẩu vùng còn khó khă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CE681F86-A377-4773-A4E6-96FAEF2434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9" name="Text Box 3"/>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ở rộng quyền trực tiếp xuất khẩu của các doanh nghiệp sản xuất</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Về phát triển thương mại trong n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uyển việc mua bán hàng hóa từ cơ chế tập trung sang mua bán theo cơ chế thị trường, giá cả được hình thành trên cơ sở giá trị và quan hệ cung - cầu;</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ình thành thị trường thống nhất, ổn định và thông suốt trên cả nướ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CD9D3767-7790-47A8-B5F8-3308C07552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1"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0" lang="en-US" sz="2600" spc="-1" strike="noStrike">
                <a:solidFill>
                  <a:srgbClr val="000000"/>
                </a:solidFill>
                <a:latin typeface="Times New Roman"/>
              </a:rPr>
              <a:t>Hàng hóa, dịch vụ ngày càng phong phú, đa dạng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iềm chế được lạm phát, chỉ số giá tiêu dùng tăng ở mức hợp lý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ừng bước hình thành các kênh lưu thông một số mặt hàng chủ yếu,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ết cấu hạ tầng thương mại ngày càng phát triển theo hướng văn minh, hiện đại;</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30278351-8284-491A-BE28-5A43DC9FFF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9" name="Text Box 4"/>
          <p:cNvSpPr/>
          <p:nvPr/>
        </p:nvSpPr>
        <p:spPr>
          <a:xfrm>
            <a:off x="304920" y="1673280"/>
            <a:ext cx="853416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ời phong kiến, nền kinh tế Việt nam là một nền kinh tế nông nghiệp tự cấp, tự túc.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ịu nhiều thứ thuế rất nặng lại còn bị bọn vua quan chi phối trong việc buôn bán.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ều đình giữ độc quyền buôn bán với nước ngoài,ở trong nước.</a:t>
            </a:r>
            <a:r>
              <a:rPr b="1"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BDCC39D-C11A-47B0-AF3E-9DD51B55EE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3" name="Text Box 3"/>
          <p:cNvSpPr/>
          <p:nvPr/>
        </p:nvSpPr>
        <p:spPr>
          <a:xfrm>
            <a:off x="304920" y="15238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Phát triển được một đội ngũ thương nhân đông đảo và đa dạng</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ản lý nhà nước về thị trường và thương mại từng bước được hoàn thiệ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AADD56DF-3267-475A-BEA1-72F036EB39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Times New Roman"/>
              </a:rPr>
              <a:t>Về phát triển xuất - nhập khẩu </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 Xóa bỏ được cơ chế kế hoạch hóa tập trung bao cấp trong xuất nhập khẩu</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ngày càng mang lại nguồn thu đáng kể cho ngân sách nhà nước.</a:t>
            </a:r>
            <a:r>
              <a:rPr b="1" lang="en-US" sz="2600" spc="-1" strike="noStrike">
                <a:solidFill>
                  <a:srgbClr val="000000"/>
                </a:solidFill>
                <a:latin typeface="Times New Roman"/>
              </a:rPr>
              <a:t>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D2042E9-FBE4-4DC8-B749-90B6A589EE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7"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đã góp đáng kể vào việc đưa nước ta ra khỏi khủng hoảng kinh tế - xã hội</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Đội ngũ thương nhân tham gia hoạt động ngoại thương ngày càng lớn mạnh</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iều cán bộ quản lý và kinh doanh qua sàng lọc và đào tạo trong cơ chế mớ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232CA50C-FD2E-4B26-9347-CACA549223F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9"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xuất nhập khẩu được mở rộng theo hướng đa dạng hóa, đa phương hóa ,thúc đẩy sản xuất trong nước phát triển,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ạo thêm nhiều việc làm, tăng thu cho Ngân sách Nhà nước.</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C6D75B6D-3A9D-49BA-A551-A71D1A90456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11" name="Text Box 3"/>
          <p:cNvSpPr/>
          <p:nvPr/>
        </p:nvSpPr>
        <p:spPr>
          <a:xfrm>
            <a:off x="304920" y="1523880"/>
            <a:ext cx="8534160" cy="425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y mô kim ngạch xuất nhập khẩu gia tăng nhanh, 1986: 789 triệu, 2014: 144 tỷ USD</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ốc độ tăng trưởng thuộc loại cao trên thế giới.</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ơ cấu xuất khẩu cũng được chuyển dịch theo hướng tích cự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560EB42-63A7-42E3-88CA-4C6DB84CFF5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13"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ương mại là một ngành của nền KTQD và cho biết những đóng góp của ngành thương mại vào GDP?</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Khái quát thương mại Việt Nam qua các thời kỳ phát triể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 sánh hoạt động thương mại và kinh doanh xuất nhập khẩu thời kỳ trước và sau 1986?</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Thương mại Việt Nam 30 năm mở cửa: Khái quát hiện trạng và những vấn đề đặt 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4D5BC3F-F400-4E66-B345-4603E524A783}"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a:t>
            </a:r>
            <a:r>
              <a:rPr b="1" lang="fr-FR" sz="2800" spc="-1" strike="noStrike" u="sng">
                <a:solidFill>
                  <a:srgbClr val="000000"/>
                </a:solidFill>
                <a:uFillTx/>
                <a:latin typeface="Times New Roman"/>
              </a:rPr>
              <a:t>n</a:t>
            </a:r>
            <a:r>
              <a:rPr b="1" lang="fr-FR"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51" name="Text Box 3"/>
          <p:cNvSpPr/>
          <p:nvPr/>
        </p:nvSpPr>
        <p:spPr>
          <a:xfrm>
            <a:off x="304920" y="148896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mại dịch vụ bị thu hẹp trong thị trường từng địa phương nhỏ bé;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m môi giới cho những người sản xuất nhỏ trao đổi hàng hóa và làm môi giới cho địa chủ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ến thế kỷ 17, 18, 19 thương mại trong nước có bước phát triển hơn trước nhờ sự phát triển của sản xuất hàng hóa và ngoại thương.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ên thị trường đã xuất hiện các nhà buôn nước ngoài. Đến thế kỷ 17, các nhà buôn Hà Lan đã có mặt tại Hội An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100EA19-6307-49B3-9057-4DA8F8E346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3" name="Text Box 3"/>
          <p:cNvSpPr/>
          <p:nvPr/>
        </p:nvSpPr>
        <p:spPr>
          <a:xfrm>
            <a:off x="304920" y="152388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goại thương diễn ra giữa một số nước muốn bán sản phẩm cho Việt Nam .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Hàng bán ra gồm nông, lâm, hải sản quí hiếm do thiên nhiên sẵn có.</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ừ năm 1862 đến 1884, thương mại nước ta là thương mại của một nước thuộc địa và nửa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này mặt hàng chủ yếu xuất khẩu của nước ta là gạo,</a:t>
            </a:r>
            <a:r>
              <a:rPr b="0" lang="es-ES" sz="2400" spc="-1" strike="noStrike">
                <a:solidFill>
                  <a:srgbClr val="000000"/>
                </a:solidFill>
                <a:latin typeface="Times New Roman"/>
              </a:rPr>
              <a:t> cao su và than đ</a:t>
            </a:r>
            <a:r>
              <a:rPr b="0" lang="pt-BR" sz="2400" spc="-1" strike="noStrike">
                <a:solidFill>
                  <a:srgbClr val="000000"/>
                </a:solidFill>
                <a:latin typeface="Times New Roman"/>
              </a:rPr>
              <a:t>á.</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7A670AB-0DB7-4B06-A6EB-B68245EAEF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5" name="Text Box 3"/>
          <p:cNvSpPr/>
          <p:nvPr/>
        </p:nvSpPr>
        <p:spPr>
          <a:xfrm>
            <a:off x="304920" y="155880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ừ năm 1890 đến năm 1939, ba nước Đông Dương, trong đó chủ yếu là Việt Nam, xuất khẩu 57.788.000 tấn gạo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ung bình mỗi năm 1,15 triệu tấn, 28 triệu tấn tha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ai mặt hàng gạo và cao su chiếm 70 - 80% kim ngạch xuất khẩu.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0CEE6F6-9188-47F0-9BED-7493047501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7" name="Text Box 3"/>
          <p:cNvSpPr/>
          <p:nvPr/>
        </p:nvSpPr>
        <p:spPr>
          <a:xfrm>
            <a:off x="304920" y="152388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ập khẩu chủ yếu là hàng tiêu dùng và một số nguyên liệu như xăng, dầu, bông, vả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lĩnh vực ngoại thương, Pháp cho áp dụng ở Đông Dương ,thuế quan rất chặt chẽ, có lợi cho chúng.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ến năm 1939, chiến tranh thế giới thứ hai bùng nổ và chính sách, Đồng hóa thuế quan, được nhà cầm quyền Pháp thay bằng chế độ: Thuế quan tự trị.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0D27EE6-CA60-4888-96A5-254472035F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9"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 Thị trường và Thương mại việt nam thời kỳ 1945-1954</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ách mạng tháng Tám 1945 thành cô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rong những năm kháng chiến (1946-1954) trên cả nước hình thành hai vùng xen kẽ lẫn nhau: vùng tự do và vùng bị tạm chiến.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trong nước theo đó cũng bị chia cắt thành hai: thị trường vùng tự do và thị trường vùng tạm chiếm.</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AFD40D80-BCEC-4E22-9304-3796B6B473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1" name="Text Box 3"/>
          <p:cNvSpPr/>
          <p:nvPr/>
        </p:nvSpPr>
        <p:spPr>
          <a:xfrm>
            <a:off x="304920" y="1600200"/>
            <a:ext cx="8534160" cy="5083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ị trường hàng hóa vùng tạm chiếm bị thu hẹp trong những thành phố và thị trấn lớn ở các đầu mối giao thô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Hoạt động thương mại - dịch vụ do Pháp và Mỹ trực tiếp kiểm soát thông qua các công ty của Pháp, Mỹ.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ành kinh doanh phát triển nhất ở vùng tạm chiến là kinh doanh dịch vụ: nhà hàng ăn uống, quán rượu, tiệm cà phê, may mặc, cắt tóc...</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36B1CB1-3359-4066-812E-5CE87FF887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5:02Z</dcterms:modified>
  <cp:revision>50</cp:revision>
  <dc:subject/>
  <dc:title>Slide 1</dc:title>
</cp:coreProperties>
</file>