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18527-71FD-4B76-B946-9E0B00987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52E1-0A08-4531-91E9-013701E4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E2549-87BB-41EB-91A4-7FDD9C93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11A3-3E62-4989-A56E-B2925606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40BF-426D-41D5-BB6D-E4BA7E52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14ED-753B-4ECF-89D4-6D7FB3C4F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C399-C2B1-4E51-910E-16BEA123C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D323-C996-4B4D-A827-8946D950B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42E6C-363A-4471-BFFC-35206A779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7DC4-81C0-4ED4-BE6F-C740BEE4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A39A-E579-4948-B107-1CF34D3A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995D-B162-496D-B7C7-6AF2CD38B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E7EE-162E-463C-B206-3CF0508EEE1A}" type="datetime">
              <a:rPr b="0" lang="en-US" sz="1400" spc="-1" strike="noStrike">
                <a:solidFill>
                  <a:srgbClr val="000000"/>
                </a:solidFill>
                <a:latin typeface="Arial"/>
              </a:rPr>
              <a:t>07/30/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CFCC-5370-404E-8FD1-99125CC37C58}"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1CABE0A8-BFF6-48CA-8AB2-ACAA50AAA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61E8E5EE-B723-4AA4-81BB-3A06A7C8D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8CF5348-12A0-4D04-BFE9-BA50C7D064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1F834941-71A0-4E6F-873F-7CD4170D4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0BD93BFD-DF2D-4131-A9F8-926D71C65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FAC68B7-56EB-4332-9E7F-961FC876BE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F59F586-F37F-4A9E-BDE3-14C7A6B65F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921918F8-D1EB-45AC-B15E-76FCCF160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FEB905D-BB03-4E00-9379-E2B04D4B0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8F85B70-3413-4A81-9640-E8F2578413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6849995-D158-4EAA-90AA-375307F53A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BCC2B01-A535-4D84-AB43-4FBC65FD0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90D9A5C-E5A5-46FB-9EFD-51143BFE0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F28476B6-3F6F-4447-A67C-59267BC3E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5DBAC9D-3F99-4291-861F-1AD90A6E4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3EF593F-CBAD-4FC8-8007-81A495400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7A26BF0-7772-4104-8C65-155241BDE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1208312B-B2BF-47B4-8B0A-2B3573BDCF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C19C1DAD-D3FE-47AF-9305-216388F764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60C61B-C4A8-4097-8643-291C9B3544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FD1ADEE-F281-4568-84C1-46E6DFF7AA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42A78F3-6F1C-4F34-B615-A597DBD3AB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FAD22A6-C5A8-4712-B575-5E46F4474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A2CB153-D3E7-4CA8-982F-35AE955D9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328F62AE-9065-4DD3-B018-F6E6ABD229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8232780-EA36-48C8-8BF9-7E2197EE1F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D7F1BF2-50FF-4FD3-847C-0A3AC9D3C42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D508F25-F440-4882-94F2-3A6A924648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9BF7247-18AB-4434-A28B-3CAA73573BF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34D7329-AEB5-4B35-BAE2-37CEFFEEFA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E921E77-CC5F-468D-A06D-0C9D202654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36BF71C-75A5-433A-BB40-4EB64FE6EB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07D2C8D-BCEE-4098-A80F-1237B31D96C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8B63751-05AA-4D3A-AEED-98DBFC8FEDB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3475BC1-4FF6-4309-A5F9-06F99C0BDFE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2826D06-DB81-4BF8-A3B9-AC82EAC0ED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787912B-939D-438F-9E1B-3B159B87EF5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6148D872-B58D-4DDE-8615-D154899A676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2C1D874-6A5D-4F62-8681-B2806F37175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2A5CA4A-5206-4A1D-A8B8-936A28C9902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5934D29-9496-40E5-B528-C42F1A86AE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28091F-BEDC-4874-B85E-8242B45404BD}"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2E91ACF-8B2C-4904-8B79-C16AFCFC7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2B4CF4D-1809-4A81-B55C-AB60A34F5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64611D0-188E-4C61-92E2-6E874F852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06F0574-3079-4B6F-A4FB-694BD9A59E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61860E3-DC26-427A-A531-52E65B9281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