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B104D-E7E4-4C1C-9300-D6A42985C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DCE71-6DA4-4080-BC03-D05785E9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6D8F5-3C04-457C-9EC7-6BDD407A7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37F06-0981-43DC-B7AB-2DBCD094F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0A17-199B-4E98-A242-EBF2A166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CA029-DAC3-44CB-8539-59D4849C4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E7C3-37F6-4323-B1AF-4AD024426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2A6F-37FA-41E8-941F-AF25BB08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EAB6B-ECE2-40A6-809F-7175FBF2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8C6C3-55D8-4EF0-B7BA-EF6B45EF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4745-9CD0-44A3-A47E-9CCE6DE2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F11A-A7E3-443E-A561-E5F505C56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61C1-63E1-45C7-A3E9-A903A7EAB1C2}" type="datetime">
              <a:rPr b="0" lang="en-US" sz="1400" spc="-1" strike="noStrike">
                <a:solidFill>
                  <a:srgbClr val="000000"/>
                </a:solidFill>
                <a:latin typeface="Arial"/>
              </a:rPr>
              <a:t>07/30/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38A3-C38E-46FD-A35A-20ADA0523E8B}"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4E9016E-275C-492D-B82E-7CCC06400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2B20B24-A67A-4325-8325-3A1555B6E2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106DD10-3940-4519-A130-C3ED43CC4A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A63EA34-615C-4E81-88FF-E9E517EA9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04FC8BB-0C46-42FB-8471-1ADB105B71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842EE9E-5A64-4D6C-8923-777ACB0E2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247FB80-63B6-4D78-830F-4072A5C1F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9188421-9083-43AA-BBD1-75A1FCD4C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D567489-C14F-4B13-BC0C-E251C4DAB2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20379B9-B29B-4E60-B63F-5807C102D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444DCA3-3ADB-4075-8B8B-C64AA9CA74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F160372-605E-4CF4-A202-3309E9D321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D09CBFF-F54D-42F7-9881-BEFFF9E54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5E2F9AD-1800-4EEA-91C2-7DA65B5728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82DD95D-F38F-4EB5-8D87-152D886DF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A3110B4-4C3F-491D-8A41-EC2A86F097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F9611BA6-318F-42B7-ABA6-CB98E3CD0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FA20325-15DF-4C94-81D5-99E3BAEB04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A0ACA59-36D2-45A7-AB23-87A327D097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529B241-3BDC-4855-BAE0-32E5BF389D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48DF0C3-6FB2-41E8-A883-BCB953F797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7E141A2-8BC9-4065-AFBC-6DDB1A99F9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2C72518A-3BDF-432F-8EDC-938ED7A525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83BECB0-665B-4331-9D39-E37AFD06D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3F41AEB-9535-4C48-AAA2-C6C9CCCC09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7413350-80E0-46C8-9ED1-766D96BE3E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C928C44-3085-4FBE-9DF2-5A271C5040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540BEFF-E5AD-4561-89F3-2F48E1F71F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A1EF4B-4B96-4537-9FDF-F570537C3E5C}"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FD89A2D-EB25-4B7A-8FAE-4FA52923FA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92CC242-897A-4965-98AF-1E84C75C64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E07C01C-16B8-4202-A8D6-CC79CE1D8C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A76E93B-9A7A-4526-B4C2-BFA383BF74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04DB4C9-7ABC-47D3-9130-0ED5F077CC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7C2FFDA-F991-4EBC-B07D-A24E3B4B74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