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0F6C7-002F-4CA3-9362-1FD3D2059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2F899-87B6-4368-B4E6-6508D0B15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939C0-E9C8-4B0E-8BDD-1F4F5CB66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A1928-17FD-44E0-A0BD-EB2A670A1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F4A24-30EF-405E-B626-AC6154F63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15FCC-2229-4FDA-BBC8-926E9F337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34A60-5C70-4CF7-ABFE-C8C8692EB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BEB4C-E9F0-4440-AFF1-1AE8B80D0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C07D4-3D0B-4C61-96D9-3882CBA00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3D97-8266-4716-B2C8-9A0D84574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ACF0A-F5EB-47C6-9A6C-755806C62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B94E1-0518-4034-89EE-42B3587CB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AC3A-A809-40E7-B4BC-50F610DF51CF}"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BD02-5275-4C5A-BF4E-C5723519A83D}"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800" spc="-1" strike="noStrike">
                <a:solidFill>
                  <a:srgbClr val="000000"/>
                </a:solidFill>
                <a:latin typeface="Arial"/>
              </a:rPr>
              <a:t>BÀI 6</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 CHỨC KINH DOANH HÀNG HÓ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Ơ CHẾ THỊ TRƯỜNG</a:t>
            </a: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1BF7E8E7-5E49-49C3-989D-4E8242A650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09" name="Text Box 3"/>
          <p:cNvSpPr/>
          <p:nvPr/>
        </p:nvSpPr>
        <p:spPr>
          <a:xfrm>
            <a:off x="304920" y="1371600"/>
            <a:ext cx="8534160" cy="472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mục tiêu kinh doanh của doanh nghiệp thương mạ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Mục tiêu quan trọng nh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Mục tiêu cơ bản lâu dài hơn </a:t>
            </a:r>
            <a:endParaRPr b="0" lang="en-US" sz="2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ình 6.2: Tháp mục tiêu của doanh nghiệp</a:t>
            </a:r>
            <a:endParaRPr b="0" lang="en-US" sz="2800" spc="-1" strike="noStrike">
              <a:solidFill>
                <a:srgbClr val="000000"/>
              </a:solidFill>
              <a:latin typeface=".VnRevue"/>
            </a:endParaRPr>
          </a:p>
        </p:txBody>
      </p:sp>
      <p:sp>
        <p:nvSpPr>
          <p:cNvPr id="110" name="AutoShape 5"/>
          <p:cNvSpPr/>
          <p:nvPr/>
        </p:nvSpPr>
        <p:spPr>
          <a:xfrm>
            <a:off x="1295280" y="2362320"/>
            <a:ext cx="3005280" cy="253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1" name="Line 6"/>
          <p:cNvSpPr/>
          <p:nvPr/>
        </p:nvSpPr>
        <p:spPr>
          <a:xfrm flipV="1">
            <a:off x="1477800" y="4606560"/>
            <a:ext cx="261648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3600" spc="-1" strike="noStrike">
              <a:solidFill>
                <a:srgbClr val="000000"/>
              </a:solidFill>
              <a:latin typeface=".VnRevue"/>
            </a:endParaRPr>
          </a:p>
        </p:txBody>
      </p:sp>
      <p:sp>
        <p:nvSpPr>
          <p:cNvPr id="112" name="Line 7"/>
          <p:cNvSpPr/>
          <p:nvPr/>
        </p:nvSpPr>
        <p:spPr>
          <a:xfrm>
            <a:off x="1814400" y="4032360"/>
            <a:ext cx="193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3" name="Line 8"/>
          <p:cNvSpPr/>
          <p:nvPr/>
        </p:nvSpPr>
        <p:spPr>
          <a:xfrm>
            <a:off x="2178000" y="3405240"/>
            <a:ext cx="12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4" name="Line 9"/>
          <p:cNvSpPr/>
          <p:nvPr/>
        </p:nvSpPr>
        <p:spPr>
          <a:xfrm flipH="1">
            <a:off x="3123720" y="2590920"/>
            <a:ext cx="10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5" name="Line 10"/>
          <p:cNvSpPr/>
          <p:nvPr/>
        </p:nvSpPr>
        <p:spPr>
          <a:xfrm flipH="1" flipV="1">
            <a:off x="4292280" y="4800240"/>
            <a:ext cx="88884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3600" spc="-1" strike="noStrike">
              <a:solidFill>
                <a:srgbClr val="000000"/>
              </a:solidFill>
              <a:latin typeface=".VnRevue"/>
            </a:endParaRPr>
          </a:p>
        </p:txBody>
      </p:sp>
      <p:sp>
        <p:nvSpPr>
          <p:cNvPr id="116" name="Line 11"/>
          <p:cNvSpPr/>
          <p:nvPr/>
        </p:nvSpPr>
        <p:spPr>
          <a:xfrm>
            <a:off x="2532240" y="2817720"/>
            <a:ext cx="51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7" name="Line 12"/>
          <p:cNvSpPr/>
          <p:nvPr/>
        </p:nvSpPr>
        <p:spPr>
          <a:xfrm flipV="1">
            <a:off x="1609560" y="4334040"/>
            <a:ext cx="237996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3600" spc="-1" strike="noStrike">
              <a:solidFill>
                <a:srgbClr val="000000"/>
              </a:solidFill>
              <a:latin typeface=".VnRevue"/>
            </a:endParaRPr>
          </a:p>
        </p:txBody>
      </p:sp>
      <p:sp>
        <p:nvSpPr>
          <p:cNvPr id="118" name="Line 13"/>
          <p:cNvSpPr/>
          <p:nvPr/>
        </p:nvSpPr>
        <p:spPr>
          <a:xfrm>
            <a:off x="2021040" y="3708360"/>
            <a:ext cx="15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9" name="Line 14"/>
          <p:cNvSpPr/>
          <p:nvPr/>
        </p:nvSpPr>
        <p:spPr>
          <a:xfrm>
            <a:off x="2328840" y="3105000"/>
            <a:ext cx="92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A16D487-F337-4B4C-8593-35612BF45E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1" name="Text Box 3"/>
          <p:cNvSpPr/>
          <p:nvPr/>
        </p:nvSpPr>
        <p:spPr>
          <a:xfrm>
            <a:off x="304920" y="13716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ải sản xuất và kinh doanh những hàng hóa dịch vụ có chất lượng tốt, đáp ứng nhu cầu của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trước hết phải lôi cuốn khách hàng, rồi sau đó mới nghĩ đến cạnh tra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mỗi khi làm lợi cho mình thì đồng thời phải làm lợi cho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ìm kiếm thị trường đang lên và chiếm lĩnh thị trường nhanh chó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4B580F7-155A-41C4-B169-674C423381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3" name="Text Box 3"/>
          <p:cNvSpPr/>
          <p:nvPr/>
        </p:nvSpPr>
        <p:spPr>
          <a:xfrm>
            <a:off x="304920" y="1406520"/>
            <a:ext cx="8534160" cy="4177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Đầu tư vào tài năng và nguồn lực để tạo ra được nhiều giá trị sản phẩm dịch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hận thức và nắm cho được nhu cầu của thị trường để đáp ứng đầy đủ.</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Mọi hoạt động kinh doanh hàng hóa dịch vụ bao giờ cũng tuân theo cơ chế thị trường và thông qua hoạt động của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8BBEC30-DF8E-424A-A163-B60E5BF805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5" name="Text Box 3"/>
          <p:cNvSpPr/>
          <p:nvPr/>
        </p:nvSpPr>
        <p:spPr>
          <a:xfrm>
            <a:off x="304920" y="137160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chuyên môn hoá: chuyên kinh doanh một hoặc một nhóm hàng hoá có cùng công dụng,</a:t>
            </a:r>
            <a:r>
              <a:rPr b="0" lang="pt-BR" sz="2800" spc="-1" strike="noStrike">
                <a:solidFill>
                  <a:srgbClr val="000000"/>
                </a:solidFill>
                <a:latin typeface="Times New Roman"/>
              </a:rPr>
              <a:t> trạng thái hoặc tính chất nhất đị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ắm chắc được thông tin về người mua, người bán, giá cả thị trường, tình hình hàng hoá và dịch vụ nên có khả năng cạnh tranh trên thị trường, có thể vươn lên thành độc quyền kinh doa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3362DC5-EF7B-4940-9679-70D8FDCE0D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7" name="Text Box 3"/>
          <p:cNvSpPr/>
          <p:nvPr/>
        </p:nvSpPr>
        <p:spPr>
          <a:xfrm>
            <a:off x="304920" y="1371600"/>
            <a:ext cx="853416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Times New Roman"/>
              </a:rPr>
              <a:t> </a:t>
            </a:r>
            <a:r>
              <a:rPr b="0" lang="pt-BR" sz="2600" spc="-1" strike="noStrike">
                <a:solidFill>
                  <a:srgbClr val="009999"/>
                </a:solidFill>
                <a:latin typeface="Times New Roman"/>
              </a:rPr>
              <a:t>1.</a:t>
            </a:r>
            <a:r>
              <a:rPr b="1" lang="pt-BR" sz="2600" spc="-1" strike="noStrike">
                <a:solidFill>
                  <a:srgbClr val="009999"/>
                </a:solidFill>
                <a:latin typeface="Times New Roman"/>
              </a:rPr>
              <a:t> Theo mức độ chuyên doanh hàng hóa:</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23184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Kinh doanh chuyên môn hoá:</a:t>
            </a:r>
            <a:r>
              <a:rPr b="0" i="1" lang="pt-BR" sz="2600" spc="-1" strike="noStrike">
                <a:solidFill>
                  <a:srgbClr val="000000"/>
                </a:solidFill>
                <a:latin typeface="Times New Roman"/>
              </a:rPr>
              <a:t> (tiếp)</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rình độ chuyên môn hoá ngày càng được nâng cao</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Có khả năng đào tạo được những cán bộ quản lý ,kinh doanh giỏi.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 Kinh doanh tổng hợ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inh doanh nhiều hàng hoá có công dụng, trạng thái, tính chất khác nhau</a:t>
            </a:r>
            <a:r>
              <a:rPr b="1" lang="pt-BR" sz="2600" spc="-1" strike="noStrike">
                <a:solidFill>
                  <a:srgbClr val="000000"/>
                </a:solidFill>
                <a:latin typeface="Times New Roman"/>
              </a:rPr>
              <a:t>.</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B20799B9-BD57-42F0-A3D4-617E59D481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9" name="Text Box 3"/>
          <p:cNvSpPr/>
          <p:nvPr/>
        </p:nvSpPr>
        <p:spPr>
          <a:xfrm>
            <a:off x="304920" y="1371600"/>
            <a:ext cx="8534160" cy="4421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marL="609480" indent="-60948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Kinh doanh tổng hợ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ạn chế được một số rủi ro trong kinh doanh do dễ chuyển hướng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Vốn kinh doanh ít bị ứ đọng do mua nhanh, bán nhanh và đầu tư vốn cho nhiều ngành hàng, có khả năng quay vòng nhanh, bảo đảm cung ứng đồng bộ hàng hoá cho các nhu cầu.</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ó thị trường rộng, luôn có thị trường mới và đối đầu với cạnh tranh đã kích thích năng động, sáng tạo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3C1184C-97C4-4C01-8267-C7973A48DF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1" name="Text Box 3"/>
          <p:cNvSpPr/>
          <p:nvPr/>
        </p:nvSpPr>
        <p:spPr>
          <a:xfrm>
            <a:off x="304920" y="1371600"/>
            <a:ext cx="8534160" cy="4115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 Kinh doanh tổng hợp:</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Nhược điểm:</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vươn lên độc quyền trên thị trường </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đào tạo, bồi dưỡng được các chuyên gia ngàn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9C63D36-FDF3-49E2-B1EE-65841660DA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3" name="Text Box 3"/>
          <p:cNvSpPr/>
          <p:nvPr/>
        </p:nvSpPr>
        <p:spPr>
          <a:xfrm>
            <a:off x="304920" y="1371600"/>
            <a:ext cx="876276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66ff"/>
                </a:solidFill>
                <a:latin typeface="Times New Roman"/>
              </a:rPr>
              <a:t> </a:t>
            </a:r>
            <a:r>
              <a:rPr b="0" lang="pt-BR" sz="2400" spc="-1" strike="noStrike">
                <a:solidFill>
                  <a:srgbClr val="0066ff"/>
                </a:solidFill>
                <a:latin typeface="Times New Roman"/>
              </a:rPr>
              <a:t>2.</a:t>
            </a:r>
            <a:r>
              <a:rPr b="1" lang="pt-BR" sz="2400" spc="-1" strike="noStrike">
                <a:solidFill>
                  <a:srgbClr val="0066ff"/>
                </a:solidFill>
                <a:latin typeface="Times New Roman"/>
              </a:rPr>
              <a:t> Theo chủng loại hàng hoá kinh doanh:</a:t>
            </a:r>
            <a:r>
              <a:rPr b="1" i="1" lang="pt-BR"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 Loại hình kinh doanh hàng công nghiệp tiêu dùng</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ặc điểm: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ều người mua, gắn với cuộc sống hàng ngày.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ự khác biệt giữa người tiêu dùng rất lớn (thành phần, xã hội, nghề nghiệp, trình độ, tập quán...)</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iêu dùng cũng có những đặc thù riêng và khác biệt nhau.</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ỗi lần mua không nhiều, lặt vặt và phân tán, vì nhu cầu đời sống rất đa dạng</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ười tiêu dùng ít hiểu biết về hàng hoá có hệ thống.</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ức mua biến đổi lớn, họ thường cân nhắc khi cần mua sắ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5B0B677-78D2-4CC1-9D53-8D1415B531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5"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r>
              <a:rPr b="1" i="1"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oại hình kinh doanh hàng nông sả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Kinh doanh hàng nông sản có những đặc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thời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phân tá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u vự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tươi số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ông ổn đị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E7B789E6-DC1A-471C-A784-8DE1C46B4B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7" name="Text Box 3"/>
          <p:cNvSpPr/>
          <p:nvPr/>
        </p:nvSpPr>
        <p:spPr>
          <a:xfrm>
            <a:off x="304920" y="1371600"/>
            <a:ext cx="8534160" cy="463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lang="pt-BR" sz="2800" spc="-1" strike="noStrike">
                <a:solidFill>
                  <a:srgbClr val="009999"/>
                </a:solidFill>
                <a:latin typeface="Times New Roman"/>
              </a:rPr>
              <a:t> Loại hình kinh doanh tư liệu sản xuất công nghiệ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hị trường tiêu thụ tư liệu sản xuất dựa vào sản xuất và phục vụ sản xuất.</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chủ yếu là các đơn vị công nghiệp, xây dựng, giao thông vận tải, thăm dò địa chất...</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mỗi lần mua khá nhiề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biết nhiều về tính năng và giá trị sử dụng của các mặt hàng khác nha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Kinh doanh tư liệu sản xuất cần đồng bộ.</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F799DB86-628A-4EA8-9C90-3FFDBEB7A1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Bài 6: Tổ chức kinh doanh  hàng hóa trong cơ chế thị trường</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514600"/>
            <a:ext cx="6629400" cy="283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 Bản chất và đặc trưng của các mối quan hệ kinh tế trong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  Kinh doanh và mục tiêu của kinh doanh thương mại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I. Lựa chọn các loại hình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V.Phương pháp luận xây dựng kế hoạch kinh doanh hàng hóa trong cơ chế thị trường</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CC183DB-CD13-415C-90B8-688983BA3E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9" name="Text Box 3"/>
          <p:cNvSpPr/>
          <p:nvPr/>
        </p:nvSpPr>
        <p:spPr>
          <a:xfrm>
            <a:off x="304920" y="1371600"/>
            <a:ext cx="8534160" cy="3499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i="1" lang="pt-BR" sz="2800" spc="-1" strike="noStrike">
                <a:solidFill>
                  <a:srgbClr val="009999"/>
                </a:solidFill>
                <a:latin typeface="Times New Roman"/>
              </a:rPr>
              <a:t>  Loại hình kinh doanh tư liệu sản xuất nông nghiệp</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ình hình sản xuất và nhu cầu phức tạp, máy móc thiết bị kỹ thuật cỡ lớn ,có loại nhỏ do doanh nghiệp vừa thậm chí ngành thủ công nghiệp </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ính thời vụ, tính thời gian rõ rệ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5CF08B9-48F1-45DA-ABBE-DBE2420A79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V.Phương pháp luận xây dựng </a:t>
            </a:r>
            <a:br>
              <a:rPr sz="3200"/>
            </a:br>
            <a:r>
              <a:rPr b="0" lang="pt-BR" sz="3200" spc="-1" strike="noStrike">
                <a:solidFill>
                  <a:srgbClr val="000000"/>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1" name="Text Box 3"/>
          <p:cNvSpPr/>
          <p:nvPr/>
        </p:nvSpPr>
        <p:spPr>
          <a:xfrm>
            <a:off x="304920" y="16765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9999"/>
                </a:solidFill>
                <a:latin typeface="Times New Roman"/>
              </a:rPr>
              <a:t>1. Phương pháp luận lập kế hoạc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Mức lưu chuyển hàng hóa là chỉ tiêu đánh giá về mặt quy mô hoạt động của doanh nghiệp thương mại.</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ưu chuyển hàng hóa có thể phân chia thành lưu chuyển hàng hóa bán buôn và lưu chuyển hàng hóa bán lẻ</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ED3259D-A2C2-4F2C-94B8-AED85E510F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a:t>
            </a:r>
            <a:br>
              <a:rPr sz="3200"/>
            </a:br>
            <a:r>
              <a:rPr b="0" lang="pt-BR" sz="3200" spc="-1" strike="noStrike">
                <a:solidFill>
                  <a:srgbClr val="009999"/>
                </a:solidFill>
                <a:latin typeface="Times New Roman"/>
              </a:rPr>
              <a:t> kế hoạch kinh doanh hàng hóa trong cơ chế thị trường</a:t>
            </a:r>
            <a:endParaRPr b="0" lang="en-US" sz="3200" spc="-1" strike="noStrike">
              <a:solidFill>
                <a:srgbClr val="000000"/>
              </a:solidFill>
              <a:latin typeface="Arial"/>
            </a:endParaRPr>
          </a:p>
        </p:txBody>
      </p:sp>
      <p:sp>
        <p:nvSpPr>
          <p:cNvPr id="143" name="Text Box 3"/>
          <p:cNvSpPr/>
          <p:nvPr/>
        </p:nvSpPr>
        <p:spPr>
          <a:xfrm>
            <a:off x="304920" y="17524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1. Phương pháp luận lập kế hoạch</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Lưu chuyển hàng hóa thường có 4 loại:</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a. Lưu chuyển hàng hóa là những tư liệu sản xuất - yếu tố đầu vào sản xuất của các doanh nghiệp,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b. Lưu chuyển hàng hóa là các nông sản phẩm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c. Lưu chuyển hàng hóa là các tư liệu tiêu dùng phục vụ cho tiêu dùng cá nhân</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d. Lưu chuyển hàng hóa là các sản phẩm xuất nhập khẩu tham gia vào thương mại quốc tế.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FD8DFB06-9964-40D0-96B5-14046CBBF8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5" name="Text Box 3"/>
          <p:cNvSpPr/>
          <p:nvPr/>
        </p:nvSpPr>
        <p:spPr>
          <a:xfrm>
            <a:off x="304920" y="1523880"/>
            <a:ext cx="8534160" cy="4555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hiệm vụ chủ yếu của kế hoạch lưu chuyển hàng hóa </a:t>
            </a:r>
            <a:endParaRPr b="0" lang="en-US" sz="28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Đáp ứng kịp thời nhu cầu của khách hàng về số lượng, chất lượng, chủng loại và thời hạn giao hàng, </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Khai thác các nguồn hàng để thoả mãn đầy đủ các nhu cầu của thị trường.</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Thiết lập hợp lý tỷ lệ giữa các hình thức lưu chuyển thẳng và lưu chuyển qua kho.</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 Hình thành đầy đủ và đồng bộ lực lượng dự trữ hàng hóa ở các doanh nghiệp thương mại.</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 Tăng nhanh tốc độ chu chuyển của vốn lưu đ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644FFED-1A79-4448-958A-BEEE3FCDED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7" name="Text Box 3"/>
          <p:cNvSpPr/>
          <p:nvPr/>
        </p:nvSpPr>
        <p:spPr>
          <a:xfrm>
            <a:off x="304920" y="1523880"/>
            <a:ext cx="8534160" cy="3993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Các chỉ tiêu chủ yếu của kế hoạch lưu chuyển hàng hóa gồ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a. Doanh số bán hàng (theo các hình thức bán)</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 Doanh số mua vào (theo các nguồn thu mua)</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c. Tồn kho hàng hóa ở các doanh nghiệp đầu kỳ và cuối kỳ kế hoạch.</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 Tốc độ chu chuyển của vốn lưu động kỳ kế hoạch.</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534A00FB-E063-4200-81DD-097FD2B0C8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9" name="Text Box 3"/>
          <p:cNvSpPr/>
          <p:nvPr/>
        </p:nvSpPr>
        <p:spPr>
          <a:xfrm>
            <a:off x="304920" y="152388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ế hoạch lưu chuyển được xây dựng bằng 2 phương pháp:</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thống kê - kinh nghiệ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ực chất của phương pháp này là trên cơ sở của những số liệu báo cáo về hoạt động kinh doanh của 6 tháng hay 9 tháng (căn cứ vào thời điểm lên dự án kế hoạch) và ước thực hiện của kỳ còn lại để xác định ước thực hiện kế hoạch lưu chuyển trong nă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kinh tế - kỹ thuậ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ây là phương pháp kế hoạch hoá lưu chuyển hàng hóa được đánh giá là chính xác và có cơ sở. Bởi vì, cơ sở để làm kế hoạch lưu chuyển hàng hóa của doanh nghiệp thương mại là nhu cầu khách hàng và khả năng khai thác nguồn hàng để thoả mãn nhu cầu đó..</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344B33D-F7B5-4993-B722-239E6C97DD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1" name="Text Box 3"/>
          <p:cNvSpPr/>
          <p:nvPr/>
        </p:nvSpPr>
        <p:spPr>
          <a:xfrm>
            <a:off x="304920" y="1523880"/>
            <a:ext cx="8534160" cy="420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9999"/>
                </a:solidFill>
                <a:uFillTx/>
                <a:latin typeface="Times New Roman"/>
              </a:rPr>
              <a:t>Cách tính các chỉ tiê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ổng doanh số bán hàng (DS theo phương pháp thống kê):</a:t>
            </a:r>
            <a:endParaRPr b="0" lang="en-US" sz="2400" spc="-1" strike="noStrike">
              <a:solidFill>
                <a:srgbClr val="000000"/>
              </a:solidFill>
              <a:latin typeface=".VnRevu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S = DS</a:t>
            </a:r>
            <a:r>
              <a:rPr b="1" i="1" lang="pt-BR" sz="3200" spc="-1" strike="noStrike" baseline="-25000">
                <a:solidFill>
                  <a:srgbClr val="000000"/>
                </a:solidFill>
                <a:latin typeface="Times New Roman"/>
              </a:rPr>
              <a:t>BC</a:t>
            </a:r>
            <a:r>
              <a:rPr b="1" i="1" lang="pt-BR" sz="3200" spc="-1" strike="noStrike">
                <a:solidFill>
                  <a:srgbClr val="000000"/>
                </a:solidFill>
                <a:latin typeface="Times New Roman"/>
              </a:rPr>
              <a:t> . (1 + h)</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Trong đó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 – Doanh số bán hà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a:t>
            </a:r>
            <a:r>
              <a:rPr b="1" i="1" lang="pt-BR" sz="2400" spc="-1" strike="noStrike" baseline="-25000">
                <a:solidFill>
                  <a:srgbClr val="000000"/>
                </a:solidFill>
                <a:latin typeface="Times New Roman"/>
              </a:rPr>
              <a:t>BC</a:t>
            </a:r>
            <a:r>
              <a:rPr b="1" i="1" lang="pt-BR" sz="2400" spc="-1" strike="noStrike">
                <a:solidFill>
                  <a:srgbClr val="000000"/>
                </a:solidFill>
                <a:latin typeface="Times New Roman"/>
              </a:rPr>
              <a:t> – Doanh số bán hàng kỳ báo cáo</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 – Nhịp độ tăng giảm về mức bán trong kỳ</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ỉ tiêu doanh số bán còn có 3 cách tính khác...)</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A561D34-5C24-4217-BAB7-EE197ACD90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3" name="Text Box 3"/>
          <p:cNvSpPr/>
          <p:nvPr/>
        </p:nvSpPr>
        <p:spPr>
          <a:xfrm>
            <a:off x="304920" y="1523880"/>
            <a:ext cx="8534160" cy="4908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Lượng hàng hóa đầu kỳ (Dđk) trong kế hoạch lưu chuyển, được xác định theo phương pháp ước tính; còn dự trữ cuối kỳ (Dck) xác định theo phương pháp định mức cụ thể.</a:t>
            </a:r>
            <a:endParaRPr b="0" lang="en-US" sz="28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ck = m . 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m - Mức xuất bán bình quân ngày đêm, được tình bằng cách lấy tổng mức bán trong kỳ chia cho số ngày trong k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 - Mức dự trữ hàng hóa (ngày).</a:t>
            </a:r>
            <a:r>
              <a:rPr b="0" lang="fr-FR"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4EFBFEB-8569-465E-ADC1-DD2AEC8F83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5" name="Text Box 3"/>
          <p:cNvSpPr/>
          <p:nvPr/>
        </p:nvSpPr>
        <p:spPr>
          <a:xfrm>
            <a:off x="304920" y="1523880"/>
            <a:ext cx="85341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Để tính mức bán bình quân ngày đêm được chính xác hơn, người ta dùng công thức sau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N</a:t>
            </a:r>
            <a:r>
              <a:rPr b="1" lang="en-US" sz="3200" spc="-1" strike="noStrike">
                <a:solidFill>
                  <a:srgbClr val="000000"/>
                </a:solidFill>
                <a:latin typeface="Times New Roman"/>
              </a:rPr>
              <a:t> + Ddk</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  =---------------   </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65 + Dck</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ong đó:</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 - Mức hàng hóa nhập kho kỳ kế hoạc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ck - Mức dự trữ hàng hóa  cuối kỳ kế hoạch (ngày).</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72B5DD4-3530-45E2-8814-7935D3EC66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7" name="Text Box 3"/>
          <p:cNvSpPr/>
          <p:nvPr/>
        </p:nvSpPr>
        <p:spPr>
          <a:xfrm>
            <a:off x="304920" y="1523880"/>
            <a:ext cx="8534160" cy="34462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2. Công tác kế hoạch - nghiệp vụ kinh doanh ở các doanh nghiệp thương mại</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ghiên cứu và nắm nhu cầu cụ thể của thị trường về các hàng hóa dịch vụ.</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Xác định các nguồn hàng kinh doan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 Xây dựng kế hoạch kinh doanh mặt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5D993EC-BAE3-4C93-8653-AD90831EF4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50"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1. Bản c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a. Cơ sở của việc hình thành quan hệ kinh tế giữa các doanh nghiệp là sự  phân công lao động xã hội.</a:t>
            </a:r>
            <a:r>
              <a:rPr b="1" i="1" lang="pt-BR" sz="2800" spc="-1" strike="noStrike">
                <a:solidFill>
                  <a:srgbClr val="000000"/>
                </a:solidFill>
                <a:latin typeface="Times New Roman"/>
              </a:rPr>
              <a:t> Phân công lao động xã hội  định ra  sự cần thiết phải trao đổi sản phẩm giữa các đơn vị sản xuất kinh doanh với nhau</a:t>
            </a:r>
            <a:endParaRPr b="0" lang="en-US" sz="2800" spc="-1" strike="noStrike">
              <a:solidFill>
                <a:srgbClr val="000000"/>
              </a:solidFill>
              <a:latin typeface=".VnRevue"/>
            </a:endParaRPr>
          </a:p>
        </p:txBody>
      </p:sp>
      <p:grpSp>
        <p:nvGrpSpPr>
          <p:cNvPr id="51" name=""/>
          <p:cNvGrpSpPr/>
          <p:nvPr/>
        </p:nvGrpSpPr>
        <p:grpSpPr>
          <a:xfrm>
            <a:off x="1371600" y="2060640"/>
            <a:ext cx="6095520" cy="1970280"/>
            <a:chOff x="1371600" y="2060640"/>
            <a:chExt cx="6095520" cy="1970280"/>
          </a:xfrm>
        </p:grpSpPr>
        <p:sp>
          <p:nvSpPr>
            <p:cNvPr id="52" name=""/>
            <p:cNvSpPr/>
            <p:nvPr/>
          </p:nvSpPr>
          <p:spPr>
            <a:xfrm>
              <a:off x="3574800" y="2060640"/>
              <a:ext cx="164268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53" name=""/>
            <p:cNvSpPr/>
            <p:nvPr/>
          </p:nvSpPr>
          <p:spPr>
            <a:xfrm>
              <a:off x="227628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4" name=""/>
            <p:cNvSpPr/>
            <p:nvPr/>
          </p:nvSpPr>
          <p:spPr>
            <a:xfrm>
              <a:off x="226836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5" name=""/>
            <p:cNvSpPr/>
            <p:nvPr/>
          </p:nvSpPr>
          <p:spPr>
            <a:xfrm>
              <a:off x="137160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t>
              </a:r>
              <a:endParaRPr b="0" lang="en-US" sz="3600" spc="-1" strike="noStrike">
                <a:solidFill>
                  <a:srgbClr val="000000"/>
                </a:solidFill>
                <a:latin typeface=".VnRevue"/>
              </a:endParaRPr>
            </a:p>
          </p:txBody>
        </p:sp>
        <p:sp>
          <p:nvSpPr>
            <p:cNvPr id="56" name=""/>
            <p:cNvSpPr/>
            <p:nvPr/>
          </p:nvSpPr>
          <p:spPr>
            <a:xfrm>
              <a:off x="655308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a:t>
              </a:r>
              <a:endParaRPr b="0" lang="en-US" sz="3600" spc="-1" strike="noStrike">
                <a:solidFill>
                  <a:srgbClr val="000000"/>
                </a:solidFill>
                <a:latin typeface=".VnRevue"/>
              </a:endParaRPr>
            </a:p>
          </p:txBody>
        </p:sp>
        <p:sp>
          <p:nvSpPr>
            <p:cNvPr id="57" name=""/>
            <p:cNvSpPr/>
            <p:nvPr/>
          </p:nvSpPr>
          <p:spPr>
            <a:xfrm>
              <a:off x="525744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8" name=""/>
            <p:cNvSpPr/>
            <p:nvPr/>
          </p:nvSpPr>
          <p:spPr>
            <a:xfrm>
              <a:off x="524952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FC8C97B6-A00C-4547-B0AC-8556E9D3BB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9" name="Text Box 3"/>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b. 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Nguyên tắc mua được - bán được hợp pháp và có l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ơ cấu thu mua phải phù hợp với nhu cầu tiêu dùng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4585354-CF14-4080-9A44-DCF5F1B96F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1" name="Text Box 3"/>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Số lượng hàng thu mua. Về mặt nguyên tắc, số lượng hàng thu mua bao giờ cũng phải lớn hơn hoặc bằng số lượng tiêu thụ theo kế hoạch.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768AC3E-27D6-4D7C-9F5E-21C1D8E9E5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3" name="Text Box 3"/>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theo lô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có giới hạ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với số lương thích hợ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3236464-E5EB-4DFC-BCCB-24766525C04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5"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Thời cơ để nhập hàng củng là thời cơ để thu được lợi nhuận lớn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gian hình thành hàng hóa: giai đoạn sản xuất thử; giai đoạn dùng thử, giai đoạn phổ biến và giai đoạn suy thoái, thì người ta thường nhập hàng vào giai đoạn phổ biến là tốt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kỳ tiêu thụ</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FF64470-F819-4F4E-860C-2F673295D3B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7"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ở những đơn vị nhập hàng thì người ta nhập hàng ở những đơn vị nổi tiế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khâu bán buôn thì nhập hàng ở khâu bán buôn đầu tiên.</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sự biến động chất lượng và thời vụ thì mua hàng thanh lý, tồn kho lâu ngày, hàng khó bảo quản về tân trang rồi bán cho người có nhu cầ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09D5A9B-8723-411B-BA2D-D4DAAFA95E4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69"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Bản chất và cơ sở khoa học của các mối quan hệ kinh tế trong kinh doanh hàng hóa?</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inh doanh hàng hóa và các nguyên tắc đảm bảo cho sự thành công của doanh nghiệp trên thương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ân biệt các loại hình kinh doanh hàng hóa và cho biết biện pháp đẩy mạnh kinh doanh.</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ình bày phương pháp luận xây dựng kế hoạch kinh doanh hàng hóa trong cơ chế thị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hệ thuật nhập hàng trong kinh doanh hàng hoá.</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32828D-D036-4CF4-B0A4-9785415F161F}"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0" name="Text Box 3"/>
          <p:cNvSpPr/>
          <p:nvPr/>
        </p:nvSpPr>
        <p:spPr>
          <a:xfrm>
            <a:off x="304920" y="137160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b. Khái niệm:</a:t>
            </a:r>
            <a:r>
              <a:rPr b="1" i="1" lang="pt-BR" sz="2800" spc="-1" strike="noStrike">
                <a:solidFill>
                  <a:srgbClr val="000000"/>
                </a:solidFill>
                <a:latin typeface="Times New Roman"/>
              </a:rPr>
              <a:t> là tổng thể những mối quan hệ lẫn nhau về kinh tế, tổ chức và luật pháp phát sinh giữa các doanh nghiệp trong quá trình mua bán hàng hóa, dịch vụ. </a:t>
            </a:r>
            <a:endParaRPr b="0" lang="en-US" sz="28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heo nghĩa rộng, quan hệ kinh tế trong thương mại thực chất là hệ thống các quan hệ lẫn nhau giữa các doanh nghiệp về sự vận động của hàng hóa,</a:t>
            </a:r>
            <a:r>
              <a:rPr b="1" i="1" lang="pt-BR" sz="2400" spc="-1" strike="noStrike">
                <a:solidFill>
                  <a:srgbClr val="000000"/>
                </a:solidFill>
                <a:latin typeface="Times New Roman"/>
              </a:rPr>
              <a:t> dịch vụ trong những điều kiện kinh tế - xã hội nhất định.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5EBB2BE-1016-48D7-A672-01BD57883C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2" name="Text Box 3"/>
          <p:cNvSpPr/>
          <p:nvPr/>
        </p:nvSpPr>
        <p:spPr>
          <a:xfrm>
            <a:off x="304920" y="137160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2. Những đặc trưng cơ bản của quan hệ kinh tế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nhất:</a:t>
            </a:r>
            <a:r>
              <a:rPr b="0" lang="en-US" sz="2800" spc="-1" strike="noStrike">
                <a:solidFill>
                  <a:srgbClr val="000000"/>
                </a:solidFill>
                <a:latin typeface="Times New Roman"/>
              </a:rPr>
              <a:t> Các mối quan hệ kinh tế giữa các doanh nghiệp mang tính chất hàng hóa tiền tệ.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a:t>
            </a:r>
            <a:r>
              <a:rPr b="0" lang="en-US" sz="2800" spc="-1" strike="noStrike">
                <a:solidFill>
                  <a:srgbClr val="000000"/>
                </a:solidFill>
                <a:latin typeface="Times New Roman"/>
              </a:rPr>
              <a:t> Các quan hệ kinh tế thiết lập trên cơ sở định hướng kế hoạch của Nhà nước và các chế độ, chính sách hiện hà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A302910-799E-4DF2-8F0F-ED6779158B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4" name="Text Box 3"/>
          <p:cNvSpPr/>
          <p:nvPr/>
        </p:nvSpPr>
        <p:spPr>
          <a:xfrm>
            <a:off x="304920" y="1371600"/>
            <a:ext cx="8534160" cy="4299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a:t>
            </a:r>
            <a:r>
              <a:rPr b="0" lang="en-US" sz="2800" spc="-1" strike="noStrike">
                <a:solidFill>
                  <a:srgbClr val="000000"/>
                </a:solidFill>
                <a:latin typeface="Times New Roman"/>
              </a:rPr>
              <a:t> Tính pháp lý của các mối quan hệ kinh tế trong thương mại được bảo đảm  bằng hệ thống luật pháp của Nhà n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tư:</a:t>
            </a:r>
            <a:r>
              <a:rPr b="0" lang="en-US" sz="2800" spc="-1" strike="noStrike">
                <a:solidFill>
                  <a:srgbClr val="000000"/>
                </a:solidFill>
                <a:latin typeface="Times New Roman"/>
              </a:rPr>
              <a:t> Hệ thống các mối quan hệ kinh tế giữa các doanh nghiệp biểu hiện quan hệ hợp tác, tôn trọng lẫn nhau và cùng có l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imes New Roman"/>
              </a:rPr>
              <a:t>Toàn bộ các mối quan hệ kinh tế phát sinh giữa các doanh nghiệp trong quá trình mua bán hàng hóa, dịch vụ tạo thành một hệ thống các mối  quan hệ kinh tế trong nền kinh tế quốc dân</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D2089BD-E45E-4C05-A906-FF5AB6E795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6" name="Text Box 3"/>
          <p:cNvSpPr/>
          <p:nvPr/>
        </p:nvSpPr>
        <p:spPr>
          <a:xfrm>
            <a:off x="304920" y="1371600"/>
            <a:ext cx="8534160" cy="6415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Text Box 5"/>
          <p:cNvSpPr/>
          <p:nvPr/>
        </p:nvSpPr>
        <p:spPr>
          <a:xfrm>
            <a:off x="1066680" y="121932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ịnh hướng trước</a:t>
            </a:r>
            <a:endParaRPr b="0" lang="en-US" sz="1100" spc="-1" strike="noStrike">
              <a:solidFill>
                <a:srgbClr val="000000"/>
              </a:solidFill>
              <a:latin typeface=".VnRevue"/>
            </a:endParaRPr>
          </a:p>
        </p:txBody>
      </p:sp>
      <p:sp>
        <p:nvSpPr>
          <p:cNvPr id="68" name="Text Box 6"/>
          <p:cNvSpPr/>
          <p:nvPr/>
        </p:nvSpPr>
        <p:spPr>
          <a:xfrm>
            <a:off x="1066680" y="1601640"/>
            <a:ext cx="244800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Không định hướng trước</a:t>
            </a:r>
            <a:endParaRPr b="0" lang="en-US" sz="1100" spc="-1" strike="noStrike">
              <a:solidFill>
                <a:srgbClr val="000000"/>
              </a:solidFill>
              <a:latin typeface=".VnRevue"/>
            </a:endParaRPr>
          </a:p>
        </p:txBody>
      </p:sp>
      <p:sp>
        <p:nvSpPr>
          <p:cNvPr id="69" name="Text Box 7"/>
          <p:cNvSpPr/>
          <p:nvPr/>
        </p:nvSpPr>
        <p:spPr>
          <a:xfrm>
            <a:off x="1066680" y="203976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nh tế ngành</a:t>
            </a:r>
            <a:endParaRPr b="0" lang="en-US" sz="1100" spc="-1" strike="noStrike">
              <a:solidFill>
                <a:srgbClr val="000000"/>
              </a:solidFill>
              <a:latin typeface=".VnRevue"/>
            </a:endParaRPr>
          </a:p>
        </p:txBody>
      </p:sp>
      <p:sp>
        <p:nvSpPr>
          <p:cNvPr id="70" name="Text Box 8"/>
          <p:cNvSpPr/>
          <p:nvPr/>
        </p:nvSpPr>
        <p:spPr>
          <a:xfrm>
            <a:off x="1066680" y="24336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ên ngành</a:t>
            </a:r>
            <a:endParaRPr b="0" lang="en-US" sz="1100" spc="-1" strike="noStrike">
              <a:solidFill>
                <a:srgbClr val="000000"/>
              </a:solidFill>
              <a:latin typeface=".VnRevue"/>
            </a:endParaRPr>
          </a:p>
        </p:txBody>
      </p:sp>
      <p:sp>
        <p:nvSpPr>
          <p:cNvPr id="71" name="Text Box 9"/>
          <p:cNvSpPr/>
          <p:nvPr/>
        </p:nvSpPr>
        <p:spPr>
          <a:xfrm>
            <a:off x="1066680" y="282744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ãnh thổ</a:t>
            </a:r>
            <a:endParaRPr b="0" lang="en-US" sz="1100" spc="-1" strike="noStrike">
              <a:solidFill>
                <a:srgbClr val="000000"/>
              </a:solidFill>
              <a:latin typeface=".VnRevue"/>
            </a:endParaRPr>
          </a:p>
        </p:txBody>
      </p:sp>
      <p:sp>
        <p:nvSpPr>
          <p:cNvPr id="72" name="Text Box 10"/>
          <p:cNvSpPr/>
          <p:nvPr/>
        </p:nvSpPr>
        <p:spPr>
          <a:xfrm>
            <a:off x="1066680" y="322272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Times New Roman"/>
              </a:rPr>
              <a:t>Giữa các lãnh thổ</a:t>
            </a:r>
            <a:endParaRPr b="0" lang="en-US" sz="1100" spc="-1" strike="noStrike">
              <a:solidFill>
                <a:srgbClr val="000000"/>
              </a:solidFill>
              <a:latin typeface=".VnRevue"/>
            </a:endParaRPr>
          </a:p>
        </p:txBody>
      </p:sp>
      <p:sp>
        <p:nvSpPr>
          <p:cNvPr id="73" name="Text Box 11"/>
          <p:cNvSpPr/>
          <p:nvPr/>
        </p:nvSpPr>
        <p:spPr>
          <a:xfrm>
            <a:off x="1066680" y="36180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ực tiếp</a:t>
            </a:r>
            <a:endParaRPr b="0" lang="en-US" sz="1100" spc="-1" strike="noStrike">
              <a:solidFill>
                <a:srgbClr val="000000"/>
              </a:solidFill>
              <a:latin typeface=".VnRevue"/>
            </a:endParaRPr>
          </a:p>
        </p:txBody>
      </p:sp>
      <p:sp>
        <p:nvSpPr>
          <p:cNvPr id="74" name="Text Box 12"/>
          <p:cNvSpPr/>
          <p:nvPr/>
        </p:nvSpPr>
        <p:spPr>
          <a:xfrm>
            <a:off x="1066680" y="401148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ián tiếp</a:t>
            </a:r>
            <a:endParaRPr b="0" lang="en-US" sz="1100" spc="-1" strike="noStrike">
              <a:solidFill>
                <a:srgbClr val="000000"/>
              </a:solidFill>
              <a:latin typeface=".VnRevue"/>
            </a:endParaRPr>
          </a:p>
        </p:txBody>
      </p:sp>
      <p:sp>
        <p:nvSpPr>
          <p:cNvPr id="75" name="Text Box 13"/>
          <p:cNvSpPr/>
          <p:nvPr/>
        </p:nvSpPr>
        <p:spPr>
          <a:xfrm>
            <a:off x="1066680" y="4473720"/>
            <a:ext cx="2448000" cy="31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án thẳng</a:t>
            </a:r>
            <a:endParaRPr b="0" lang="en-US" sz="1100" spc="-1" strike="noStrike">
              <a:solidFill>
                <a:srgbClr val="000000"/>
              </a:solidFill>
              <a:latin typeface=".VnRevue"/>
            </a:endParaRPr>
          </a:p>
        </p:txBody>
      </p:sp>
      <p:sp>
        <p:nvSpPr>
          <p:cNvPr id="76" name="Text Box 14"/>
          <p:cNvSpPr/>
          <p:nvPr/>
        </p:nvSpPr>
        <p:spPr>
          <a:xfrm>
            <a:off x="1066680" y="4876920"/>
            <a:ext cx="2448000" cy="42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Bán qua kho trạm, cửa hàng</a:t>
            </a:r>
            <a:endParaRPr b="0" lang="en-US" sz="1100" spc="-1" strike="noStrike">
              <a:solidFill>
                <a:srgbClr val="000000"/>
              </a:solidFill>
              <a:latin typeface=".VnRevue"/>
            </a:endParaRPr>
          </a:p>
        </p:txBody>
      </p:sp>
      <p:sp>
        <p:nvSpPr>
          <p:cNvPr id="77" name="Text Box 15"/>
          <p:cNvSpPr/>
          <p:nvPr/>
        </p:nvSpPr>
        <p:spPr>
          <a:xfrm>
            <a:off x="1066680" y="5383080"/>
            <a:ext cx="244800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o từng hợp đồng</a:t>
            </a:r>
            <a:endParaRPr b="0" lang="en-US" sz="1100" spc="-1" strike="noStrike">
              <a:solidFill>
                <a:srgbClr val="000000"/>
              </a:solidFill>
              <a:latin typeface=".VnRevue"/>
            </a:endParaRPr>
          </a:p>
        </p:txBody>
      </p:sp>
      <p:sp>
        <p:nvSpPr>
          <p:cNvPr id="78" name="Text Box 16"/>
          <p:cNvSpPr/>
          <p:nvPr/>
        </p:nvSpPr>
        <p:spPr>
          <a:xfrm>
            <a:off x="1066680" y="5862600"/>
            <a:ext cx="244800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gắn hạn</a:t>
            </a:r>
            <a:endParaRPr b="0" lang="en-US" sz="1100" spc="-1" strike="noStrike">
              <a:solidFill>
                <a:srgbClr val="000000"/>
              </a:solidFill>
              <a:latin typeface=".VnRevue"/>
            </a:endParaRPr>
          </a:p>
        </p:txBody>
      </p:sp>
      <p:sp>
        <p:nvSpPr>
          <p:cNvPr id="79" name="Text Box 17"/>
          <p:cNvSpPr/>
          <p:nvPr/>
        </p:nvSpPr>
        <p:spPr>
          <a:xfrm>
            <a:off x="1066680" y="622476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ài hạn</a:t>
            </a:r>
            <a:endParaRPr b="0" lang="en-US" sz="1100" spc="-1" strike="noStrike">
              <a:solidFill>
                <a:srgbClr val="000000"/>
              </a:solidFill>
              <a:latin typeface=".VnRevue"/>
            </a:endParaRPr>
          </a:p>
        </p:txBody>
      </p:sp>
      <p:sp>
        <p:nvSpPr>
          <p:cNvPr id="80" name="Text Box 18"/>
          <p:cNvSpPr/>
          <p:nvPr/>
        </p:nvSpPr>
        <p:spPr>
          <a:xfrm>
            <a:off x="4627440" y="1447920"/>
            <a:ext cx="1335240" cy="59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hình thành</a:t>
            </a:r>
            <a:endParaRPr b="0" lang="en-US" sz="1100" spc="-1" strike="noStrike">
              <a:solidFill>
                <a:srgbClr val="000000"/>
              </a:solidFill>
              <a:latin typeface=".VnRevue"/>
            </a:endParaRPr>
          </a:p>
        </p:txBody>
      </p:sp>
      <p:sp>
        <p:nvSpPr>
          <p:cNvPr id="81" name="Text Box 19"/>
          <p:cNvSpPr/>
          <p:nvPr/>
        </p:nvSpPr>
        <p:spPr>
          <a:xfrm>
            <a:off x="4627440" y="2575080"/>
            <a:ext cx="1335240" cy="75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đối với hệ thống quản lý</a:t>
            </a:r>
            <a:endParaRPr b="0" lang="en-US" sz="1100" spc="-1" strike="noStrike">
              <a:solidFill>
                <a:srgbClr val="000000"/>
              </a:solidFill>
              <a:latin typeface=".VnRevue"/>
            </a:endParaRPr>
          </a:p>
        </p:txBody>
      </p:sp>
      <p:sp>
        <p:nvSpPr>
          <p:cNvPr id="82" name="Text Box 20"/>
          <p:cNvSpPr/>
          <p:nvPr/>
        </p:nvSpPr>
        <p:spPr>
          <a:xfrm>
            <a:off x="4627440" y="3625920"/>
            <a:ext cx="1335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 khâu trung gian</a:t>
            </a:r>
            <a:endParaRPr b="0" lang="en-US" sz="1100" spc="-1" strike="noStrike">
              <a:solidFill>
                <a:srgbClr val="000000"/>
              </a:solidFill>
              <a:latin typeface=".VnRevue"/>
            </a:endParaRPr>
          </a:p>
        </p:txBody>
      </p:sp>
      <p:sp>
        <p:nvSpPr>
          <p:cNvPr id="83" name="Text Box 21"/>
          <p:cNvSpPr/>
          <p:nvPr/>
        </p:nvSpPr>
        <p:spPr>
          <a:xfrm>
            <a:off x="4516560" y="474336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Theo hình thức bán hàng</a:t>
            </a:r>
            <a:endParaRPr b="0" lang="en-US" sz="1100" spc="-1" strike="noStrike">
              <a:solidFill>
                <a:srgbClr val="000000"/>
              </a:solidFill>
              <a:latin typeface=".VnRevue"/>
            </a:endParaRPr>
          </a:p>
        </p:txBody>
      </p:sp>
      <p:sp>
        <p:nvSpPr>
          <p:cNvPr id="84" name="Text Box 22"/>
          <p:cNvSpPr/>
          <p:nvPr/>
        </p:nvSpPr>
        <p:spPr>
          <a:xfrm>
            <a:off x="4516560" y="579600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ộ bền vững</a:t>
            </a:r>
            <a:endParaRPr b="0" lang="en-US" sz="1100" spc="-1" strike="noStrike">
              <a:solidFill>
                <a:srgbClr val="000000"/>
              </a:solidFill>
              <a:latin typeface=".VnRevue"/>
            </a:endParaRPr>
          </a:p>
        </p:txBody>
      </p:sp>
      <p:sp>
        <p:nvSpPr>
          <p:cNvPr id="85" name="Text Box 23"/>
          <p:cNvSpPr/>
          <p:nvPr/>
        </p:nvSpPr>
        <p:spPr>
          <a:xfrm>
            <a:off x="6853320" y="3241800"/>
            <a:ext cx="1224000" cy="156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 hệ kinh tế giữa các doanh nghiệp (hình thức tổ chức)</a:t>
            </a:r>
            <a:endParaRPr b="0" lang="en-US" sz="1100" spc="-1" strike="noStrike">
              <a:solidFill>
                <a:srgbClr val="000000"/>
              </a:solidFill>
              <a:latin typeface=".VnRevue"/>
            </a:endParaRPr>
          </a:p>
        </p:txBody>
      </p:sp>
      <p:sp>
        <p:nvSpPr>
          <p:cNvPr id="86" name="Line 24"/>
          <p:cNvSpPr/>
          <p:nvPr/>
        </p:nvSpPr>
        <p:spPr>
          <a:xfrm flipH="1" flipV="1">
            <a:off x="3530160" y="1383840"/>
            <a:ext cx="109692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7" name="Line 25"/>
          <p:cNvSpPr/>
          <p:nvPr/>
        </p:nvSpPr>
        <p:spPr>
          <a:xfrm flipH="1">
            <a:off x="3514320" y="16444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8" name="Line 26"/>
          <p:cNvSpPr/>
          <p:nvPr/>
        </p:nvSpPr>
        <p:spPr>
          <a:xfrm flipH="1" flipV="1">
            <a:off x="3514320" y="252396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9" name="Line 27"/>
          <p:cNvSpPr/>
          <p:nvPr/>
        </p:nvSpPr>
        <p:spPr>
          <a:xfrm flipH="1">
            <a:off x="3514320" y="2903400"/>
            <a:ext cx="111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0" name="Line 28"/>
          <p:cNvSpPr/>
          <p:nvPr/>
        </p:nvSpPr>
        <p:spPr>
          <a:xfrm flipH="1">
            <a:off x="3514320" y="290340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1" name="Line 29"/>
          <p:cNvSpPr/>
          <p:nvPr/>
        </p:nvSpPr>
        <p:spPr>
          <a:xfrm flipH="1">
            <a:off x="3514320" y="5072040"/>
            <a:ext cx="1001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3600" spc="-1" strike="noStrike">
              <a:solidFill>
                <a:srgbClr val="000000"/>
              </a:solidFill>
              <a:latin typeface=".VnRevue"/>
            </a:endParaRPr>
          </a:p>
        </p:txBody>
      </p:sp>
      <p:sp>
        <p:nvSpPr>
          <p:cNvPr id="92" name="Line 30"/>
          <p:cNvSpPr/>
          <p:nvPr/>
        </p:nvSpPr>
        <p:spPr>
          <a:xfrm flipH="1" flipV="1">
            <a:off x="3530160" y="4629240"/>
            <a:ext cx="986040" cy="44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3" name="Line 31"/>
          <p:cNvSpPr/>
          <p:nvPr/>
        </p:nvSpPr>
        <p:spPr>
          <a:xfrm flipH="1" flipV="1">
            <a:off x="3498480" y="5590800"/>
            <a:ext cx="101772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Line 32"/>
          <p:cNvSpPr/>
          <p:nvPr/>
        </p:nvSpPr>
        <p:spPr>
          <a:xfrm flipH="1">
            <a:off x="3514320" y="6059520"/>
            <a:ext cx="10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5" name="Line 33"/>
          <p:cNvSpPr/>
          <p:nvPr/>
        </p:nvSpPr>
        <p:spPr>
          <a:xfrm flipH="1">
            <a:off x="3514320" y="6059520"/>
            <a:ext cx="1001880" cy="3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6" name="Line 34"/>
          <p:cNvSpPr/>
          <p:nvPr/>
        </p:nvSpPr>
        <p:spPr>
          <a:xfrm flipH="1">
            <a:off x="5962680" y="3889440"/>
            <a:ext cx="89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7" name="Line 35"/>
          <p:cNvSpPr/>
          <p:nvPr/>
        </p:nvSpPr>
        <p:spPr>
          <a:xfrm flipH="1">
            <a:off x="5889240" y="3889440"/>
            <a:ext cx="963720" cy="98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36"/>
          <p:cNvSpPr/>
          <p:nvPr/>
        </p:nvSpPr>
        <p:spPr>
          <a:xfrm flipH="1">
            <a:off x="5869080" y="3889440"/>
            <a:ext cx="984240" cy="21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9" name="Line 37"/>
          <p:cNvSpPr/>
          <p:nvPr/>
        </p:nvSpPr>
        <p:spPr>
          <a:xfrm flipH="1" flipV="1">
            <a:off x="5969160" y="2968560"/>
            <a:ext cx="88416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0" name="Line 38"/>
          <p:cNvSpPr/>
          <p:nvPr/>
        </p:nvSpPr>
        <p:spPr>
          <a:xfrm flipH="1" flipV="1">
            <a:off x="5957640" y="1730160"/>
            <a:ext cx="89532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1" name="Line 39"/>
          <p:cNvSpPr/>
          <p:nvPr/>
        </p:nvSpPr>
        <p:spPr>
          <a:xfrm flipH="1" flipV="1">
            <a:off x="3514320" y="2236680"/>
            <a:ext cx="1112760" cy="65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2" name="Line 40"/>
          <p:cNvSpPr/>
          <p:nvPr/>
        </p:nvSpPr>
        <p:spPr>
          <a:xfrm flipH="1" flipV="1">
            <a:off x="3514320" y="37702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3" name="Line 41"/>
          <p:cNvSpPr/>
          <p:nvPr/>
        </p:nvSpPr>
        <p:spPr>
          <a:xfrm flipH="1">
            <a:off x="3514320" y="3946680"/>
            <a:ext cx="11127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C7B9855-EDF1-4932-BB20-D4826031DF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105" name="Text Box 3"/>
          <p:cNvSpPr/>
          <p:nvPr/>
        </p:nvSpPr>
        <p:spPr>
          <a:xfrm>
            <a:off x="380880" y="1371600"/>
            <a:ext cx="8534520" cy="4701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Xu hướng các mối quan hệ kinh tế trong thương mại: ngày càng trở nên phức tạp là do:</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nhất,</a:t>
            </a:r>
            <a:r>
              <a:rPr b="0" lang="en-US" sz="2400" spc="-1" strike="noStrike">
                <a:solidFill>
                  <a:srgbClr val="000000"/>
                </a:solidFill>
                <a:latin typeface="Times New Roman"/>
              </a:rPr>
              <a:t> quy mô sản xuất kinh doanh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hai,</a:t>
            </a:r>
            <a:r>
              <a:rPr b="0" lang="en-US" sz="2400" spc="-1" strike="noStrike">
                <a:solidFill>
                  <a:srgbClr val="000000"/>
                </a:solidFill>
                <a:latin typeface="Times New Roman"/>
              </a:rPr>
              <a:t> mở rộng danh mục sản phẩm sản xuất, kinh doanh.</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tư,</a:t>
            </a:r>
            <a:r>
              <a:rPr b="0" lang="en-US" sz="2400" spc="-1" strike="noStrike">
                <a:solidFill>
                  <a:srgbClr val="000000"/>
                </a:solidFill>
                <a:latin typeface="Times New Roman"/>
              </a:rPr>
              <a:t> sự phát triển sản xuất kinh doanh trên những vùng mới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ứ năm,</a:t>
            </a:r>
            <a:r>
              <a:rPr b="0" lang="pt-BR" sz="2400" spc="-1" strike="noStrike">
                <a:solidFill>
                  <a:srgbClr val="000000"/>
                </a:solidFill>
                <a:latin typeface="Times New Roman"/>
              </a:rPr>
              <a:t> chuyên môn hoá sản xuất phát triển</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eo ý kiến của các nhà kinh tế học, các mối quan hệ kinh tế tăng lên theo bình phương tăng của sản xuất</a:t>
            </a:r>
            <a:r>
              <a:rPr b="0"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B664C04-B09B-4D16-A596-E700C2D686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a:t>
            </a:r>
            <a:r>
              <a:rPr b="0" lang="pt-BR" sz="3200" spc="-1" strike="noStrike">
                <a:solidFill>
                  <a:srgbClr val="009999"/>
                </a:solidFill>
                <a:latin typeface="Times New Roman"/>
              </a:rPr>
              <a:t>  Kinh doanh và mục tiêu của kinh doanh thương mại hàng h</a:t>
            </a:r>
            <a:r>
              <a:rPr b="0" lang="pt-BR" sz="3200" spc="-1" strike="noStrike">
                <a:solidFill>
                  <a:srgbClr val="000000"/>
                </a:solidFill>
                <a:latin typeface="Times New Roman"/>
              </a:rPr>
              <a:t>óa</a:t>
            </a:r>
            <a:endParaRPr b="0" lang="en-US" sz="3200" spc="-1" strike="noStrike">
              <a:solidFill>
                <a:srgbClr val="000000"/>
              </a:solidFill>
              <a:latin typeface="Arial"/>
            </a:endParaRPr>
          </a:p>
        </p:txBody>
      </p:sp>
      <p:sp>
        <p:nvSpPr>
          <p:cNvPr id="107"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khái niệ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là việc thực hiện một, một số hoặc tất cả các công đoạn của quá trình đầu tư, từ sản xuất đến tiêu thụ sản phẩm hoặc cung ứng dịch vụ trên thị trường nhằm mục đích sinh lợi.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thương mại là sự đầu tư tiền của, công sức của một cá nhân hay tổ chức kinh tế vào lĩnh vực mua bán hàng hóa nhằm tìm kiếm lợi nhuận.</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B20F952-4346-484A-9A74-C1B9580853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8:14Z</dcterms:modified>
  <cp:revision>47</cp:revision>
  <dc:subject/>
  <dc:title>Slide 1</dc:title>
</cp:coreProperties>
</file>