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5D9D4-40F0-4CC3-A46E-53C8DECBC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58304-2063-4360-AA87-FA3B85329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78290-5862-4CEA-A4EA-B86953CC3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BEC9E-C098-4D96-B234-10C4090FD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85B33-65A4-4C34-AEEE-15008520F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ACC8F-FC53-4275-AAA4-B7E6DD4D1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90062-47DC-4626-B84E-41CE13B18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2538C-842A-430C-8C1F-1B9B132F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7F2AC-BBBC-48D5-B0AD-9456BFFD1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96BA-D17C-4189-BE80-3175FA478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2893F-9C1D-450D-85DC-B8EDBD9CD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D02B-5E45-4F73-91D9-9DF4C3589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E1A9-9BA1-4339-A678-7BD5FF40D2CD}"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78A4-CF09-4A09-AE9B-932C77AFAC0B}"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TRƯỜNG ĐẠI HỌC KINH TẾ QUỐC DÂN</a:t>
            </a:r>
            <a:br>
              <a:rPr sz="2400"/>
            </a:br>
            <a:r>
              <a:rPr b="1" lang="pt-BR" sz="2400" spc="-1" strike="noStrike">
                <a:solidFill>
                  <a:srgbClr val="0000ff"/>
                </a:solidFill>
                <a:latin typeface="Arial"/>
              </a:rPr>
              <a:t>VIỆN THƯƠNG MẠI VÀ KTQT</a:t>
            </a:r>
            <a:endParaRPr b="0" lang="en-US" sz="2400" spc="-1" strike="noStrike">
              <a:solidFill>
                <a:srgbClr val="000000"/>
              </a:solidFill>
              <a:latin typeface="Arial"/>
            </a:endParaRPr>
          </a:p>
        </p:txBody>
      </p:sp>
      <p:sp>
        <p:nvSpPr>
          <p:cNvPr id="42" name="PlaceHolder 2"/>
          <p:cNvSpPr>
            <a:spLocks noGrp="1"/>
          </p:cNvSpPr>
          <p:nvPr>
            <p:ph type="subTitle"/>
          </p:nvPr>
        </p:nvSpPr>
        <p:spPr>
          <a:xfrm>
            <a:off x="456840" y="22856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3</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ÍNH SÁCH QUẢN LÝ THƯƠNG MẠI</a:t>
            </a:r>
            <a:endParaRPr b="0" lang="en-US" sz="36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832DC2F3-235E-463C-9AC7-D2137E405E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4"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ung là điều chỉnh các hoạt động thương mại theo hướng phục vụ sự nghiệp phát triển kinh tế- xã hội của đất nước. </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xuất phát từ mục tiêu chiến lược phát triển kinh tế xã hội của Đảng và Nhà nước và bảo đảm thực hiện thắng lợi các mục tiêu ấy.</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trong nước, xuất nhập khẩu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0926AEC-90AA-4AB9-AE1C-5EDEDD5756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ính sách phát triển thương mại : Chính sách thương nhân, chính sách thị trường và các chính sách mặt hàng… nhằm thực hiện nhiệm vụ cơ bản sau: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a:t>
            </a:r>
            <a:r>
              <a:rPr b="1" lang="en-US" sz="2400" spc="-1" strike="noStrike">
                <a:solidFill>
                  <a:srgbClr val="000000"/>
                </a:solidFill>
                <a:latin typeface="Times New Roman"/>
              </a:rPr>
              <a:t>  tạo điều kiện thuận lợi cho các doanh nghiệp khai thác triệt để lợi thế so sánh của nền kinh tế</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a:t>
            </a:r>
            <a:r>
              <a:rPr b="1" lang="en-US" sz="2400" spc="-1" strike="noStrike">
                <a:solidFill>
                  <a:srgbClr val="000000"/>
                </a:solidFill>
                <a:latin typeface="Times New Roman"/>
              </a:rPr>
              <a:t> phát triển thị trường nội địa, tạo điều kiện cho các doanh nghiệp có khả năng đứng vững và trong hoạt động kinh doanh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45616AC-58D1-463E-A501-26921E5426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 </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phù hợp với các quy luật khách quan của nền kinh tế thị trườ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gắn kết với phát triển đa dạng về chế độ sở hữu và thành phần kinh tế của các chủ thể, về loại hình tổ chức và phương thức hoạt động</a:t>
            </a:r>
            <a:endParaRPr b="0" lang="en-US" sz="2400" spc="-1" strike="noStrike">
              <a:solidFill>
                <a:srgbClr val="000000"/>
              </a:solidFill>
              <a:latin typeface=".VnRevue"/>
            </a:endParaRPr>
          </a:p>
        </p:txBody>
      </p:sp>
      <p:sp>
        <p:nvSpPr>
          <p:cNvPr id="68"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457BA03A-E6C8-4189-9876-245D8088F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0" name="Text Box 3"/>
          <p:cNvSpPr/>
          <p:nvPr/>
        </p:nvSpPr>
        <p:spPr>
          <a:xfrm>
            <a:off x="304920" y="16765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hàng hóa gắn kết với đầu tư, sản xuất và thương mại dịch vụ theo lộ trình cam kết quốc tế</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trên cơ sở huy động tối đa mọi nguồn lực của xã hộ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Khuyến khích khả năng tích tụ và tập trung nguồn lực của doanh nghiệp để đầu tư phát triển kết cấu hạ tầng thương mại, mở rộng mạng lưới kinh doanh.</a:t>
            </a:r>
            <a:endParaRPr b="0" lang="en-US" sz="2400" spc="-1" strike="noStrike">
              <a:solidFill>
                <a:srgbClr val="000000"/>
              </a:solidFill>
              <a:latin typeface=".VnRevue"/>
            </a:endParaRPr>
          </a:p>
        </p:txBody>
      </p:sp>
      <p:sp>
        <p:nvSpPr>
          <p:cNvPr id="71"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B122C7AE-CB99-497A-903A-8CAFFFF6C0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3" name="Text Box 3"/>
          <p:cNvSpPr/>
          <p:nvPr/>
        </p:nvSpPr>
        <p:spPr>
          <a:xfrm>
            <a:off x="304920" y="16765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Chính sách phát triển  thương mại nội địa</a:t>
            </a:r>
            <a:endParaRPr b="0" lang="en-US" sz="26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imes New Roman"/>
              </a:rPr>
              <a:t>Về mục tiêu tổng quát:</a:t>
            </a:r>
            <a:r>
              <a:rPr b="1" i="1" lang="en-US" sz="2600" spc="-1" strike="noStrike">
                <a:solidFill>
                  <a:srgbClr val="000000"/>
                </a:solidFill>
                <a:latin typeface="Times New Roman"/>
              </a:rPr>
              <a:t> Xây dựng một nền thương mại trong nước phát triển vững mạnh và hiện đại,</a:t>
            </a:r>
            <a:r>
              <a:rPr b="1" lang="en-US" sz="2600" spc="-1" strike="noStrike">
                <a:solidFill>
                  <a:srgbClr val="000000"/>
                </a:solidFill>
                <a:latin typeface="Times New Roman"/>
              </a:rPr>
              <a:t> dựa trên một cấu trúc hợp lý các hệ thống và các kênh phân phối với sự tham gia của các thành phần kinh tế và loại hình tổ chức, vận hành trong môi trường cạnh tranh có sự quản lý và điều tiết vĩ mô của Nhà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Quyết định số 27/2007/QĐ-TTg ngày 15/2/2007)</a:t>
            </a:r>
            <a:endParaRPr b="0" lang="en-US" sz="2600" spc="-1" strike="noStrike">
              <a:solidFill>
                <a:srgbClr val="000000"/>
              </a:solidFill>
              <a:latin typeface=".VnRevue"/>
            </a:endParaRPr>
          </a:p>
        </p:txBody>
      </p:sp>
      <p:sp>
        <p:nvSpPr>
          <p:cNvPr id="74"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F1DD429F-D600-4A69-BCCC-5C04D95793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ục tiêu cụ thể về phát triển thương mại nội địa, các chỉ tiêu tăng trưởng của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óng góp của thương mại trong nước vào tổng sản phẩm trong nước (GDP) của cả nền kinh tế đến năm 2020 đạt gần 450 nghìn tỷ đồng (chiếm tỷ trọng khoảng 1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bình quân hàng năm (đã loại trừ yếu tố giá)  trên 10%/năm. </a:t>
            </a:r>
            <a:endParaRPr b="0" lang="en-US" sz="2400" spc="-1" strike="noStrike">
              <a:solidFill>
                <a:srgbClr val="000000"/>
              </a:solidFill>
              <a:latin typeface=".VnRevue"/>
            </a:endParaRPr>
          </a:p>
        </p:txBody>
      </p:sp>
      <p:sp>
        <p:nvSpPr>
          <p:cNvPr id="77"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E7A699C8-8979-44B9-93EC-DEC002DE6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9" name="Text Box 3"/>
          <p:cNvSpPr/>
          <p:nvPr/>
        </p:nvSpPr>
        <p:spPr>
          <a:xfrm>
            <a:off x="304920" y="1676520"/>
            <a:ext cx="85341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ến năm 2020 đạt trên 2.000 nghìn tỷ đồ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ỷ trọng mức bán lẻ hàng hóa theo thành phần kinh tế đến năm 2020: khu vực kinh tế trong nước (bao gồm khu vực kinh tế nhà nước và khu vực kinh tế ngoài nhà nước) chiếm khoảng 80%; khu vực có vốn đầu tư nước ngoài chiếm khoảng 20%</a:t>
            </a:r>
            <a:endParaRPr b="0" lang="en-US" sz="2400" spc="-1" strike="noStrike">
              <a:solidFill>
                <a:srgbClr val="000000"/>
              </a:solidFill>
              <a:latin typeface=".VnRevue"/>
            </a:endParaRPr>
          </a:p>
        </p:txBody>
      </p:sp>
      <p:sp>
        <p:nvSpPr>
          <p:cNvPr id="80"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4288D1D2-0F7A-45B0-B5A5-85FCF666F3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2" name="Text Box 3"/>
          <p:cNvSpPr/>
          <p:nvPr/>
        </p:nvSpPr>
        <p:spPr>
          <a:xfrm>
            <a:off x="304920" y="16765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ỷ trọng mức bán lẻ hàng hóa theo loại hình thương mại hiện đại (trung tâm thương mại, siêu thị, mạng lưới cửa hàng tiện lợi…) đến năm 2020 đạt 40%, trên 800 nghìn tỷ đồ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Về lĩnh vực dịch vụ logistics:</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ình thành dịch vụ trọn gói 3PL</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trưởng thị trường logistics là 20-25%/năm</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hị lệ thuê ngoài logistics (Ousstsourcing logistics) đến năm 2020: 40%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yết định 175/QĐ-TTg ngày 27/1/2011)</a:t>
            </a:r>
            <a:endParaRPr b="0" lang="en-US" sz="2400" spc="-1" strike="noStrike">
              <a:solidFill>
                <a:srgbClr val="000000"/>
              </a:solidFill>
              <a:latin typeface=".VnRevue"/>
            </a:endParaRPr>
          </a:p>
        </p:txBody>
      </p:sp>
      <p:sp>
        <p:nvSpPr>
          <p:cNvPr id="83"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E0834FF4-D494-4259-AA72-4F4EAA7AB3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5"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iện đại hóa kết cấu hạ tầng thương mại</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Phát triển đa dạng các loại hình và phương thức kinh doanh thương mại hiện đại khác như: sàn giao dịch hàng hóa, trung tâm đấu giá, nhượng quyền kinh doanh, thương mại điện tử….</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ình thành và phát triển một số tập đoàn thương mại mạnh, kinh doanh hàng hóa chuyên ngành hoặc tổng hợp</a:t>
            </a:r>
            <a:endParaRPr b="0" lang="en-US" sz="2400" spc="-1" strike="noStrike">
              <a:solidFill>
                <a:srgbClr val="000000"/>
              </a:solidFill>
              <a:latin typeface=".VnRevue"/>
            </a:endParaRPr>
          </a:p>
        </p:txBody>
      </p:sp>
      <p:sp>
        <p:nvSpPr>
          <p:cNvPr id="86"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C565FC15-56A8-4114-9FF5-E4DA1D6B7E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nguồn nhân lực thương mại có kiến thức, kỹ năng, nghiệp vụ kinh doanh hiện đại và chuyên nghiệp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Hoàn thiện thể chế quản lý về thương mại, bảo đảm hoạt động thương mại phát triển lành mạnh và bền vững;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âng cao khả năng tự điều chỉnh của thị trường trong nước khi thị trường thế giới biến động.</a:t>
            </a:r>
            <a:endParaRPr b="0" lang="en-US" sz="2400" spc="-1" strike="noStrike">
              <a:solidFill>
                <a:srgbClr val="000000"/>
              </a:solidFill>
              <a:latin typeface=".VnRevue"/>
            </a:endParaRPr>
          </a:p>
        </p:txBody>
      </p:sp>
      <p:sp>
        <p:nvSpPr>
          <p:cNvPr id="88" name="Rectangle 2"/>
          <p:cNvSpPr/>
          <p:nvPr/>
        </p:nvSpPr>
        <p:spPr>
          <a:xfrm>
            <a:off x="380880" y="304920"/>
            <a:ext cx="861084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29E794F4-0CEA-4938-9FF2-A320CDAB76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6" name="AutoShape 3"/>
          <p:cNvSpPr/>
          <p:nvPr/>
        </p:nvSpPr>
        <p:spPr>
          <a:xfrm>
            <a:off x="380880" y="1828800"/>
            <a:ext cx="861084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7" name="Text Box 4"/>
          <p:cNvSpPr/>
          <p:nvPr/>
        </p:nvSpPr>
        <p:spPr>
          <a:xfrm>
            <a:off x="1143000" y="2590920"/>
            <a:ext cx="718992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Mục tiêu của chính sách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Chính sách quản lý thương mại nội địa</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Chính sách quản lý thương mại quốc tế</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CD24D0C-B12F-4FEB-ADD0-C09E842B9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3"/>
          <p:cNvSpPr/>
          <p:nvPr/>
        </p:nvSpPr>
        <p:spPr>
          <a:xfrm>
            <a:off x="304920" y="1627200"/>
            <a:ext cx="8534160" cy="437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Định hướng phát triển </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doanh nghiệp với nhiều quy mô khác nhau</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kết cấu hạ tầng thương mại, kết hợp hài hòa giữa thương mại truyền thống với thương mại hiện đại</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các mô hình tổ chức lưu thông từng thị trường ngành hàng, phù hợp với tính chất và trình độ của sản xuất</a:t>
            </a:r>
            <a:endParaRPr b="0" lang="en-US" sz="2400" spc="-1" strike="noStrike">
              <a:solidFill>
                <a:srgbClr val="000000"/>
              </a:solidFill>
              <a:latin typeface=".VnRevue"/>
            </a:endParaRPr>
          </a:p>
        </p:txBody>
      </p:sp>
      <p:sp>
        <p:nvSpPr>
          <p:cNvPr id="90"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3FDCEC78-21FF-41C1-9580-CDA2FAF511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b. Đối với ngành hàng công nghiệp tiêu dùng</a:t>
            </a:r>
            <a:r>
              <a:rPr b="1" lang="pt-BR" sz="2400" spc="-1" strike="noStrike">
                <a:solidFill>
                  <a:srgbClr val="000000"/>
                </a:solidFill>
                <a:latin typeface="Times New Roman"/>
              </a:rPr>
              <a:t>:</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ình thành và phát triển các trung tâm giao dịch, bán buôn, các "chợ" công nghệ, "chợ" nguyên, phụ liệu… tại các đô thị, khu công nghiệp, khu kinh tế, khu chế xuất, khu kinh tế cửa khẩu;</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hú trọng phát triển nhanh hệ thống phân phối hiện đại theo mô hình "chuỗi" để mở rộng địa bàn theo không gian kinh tế</a:t>
            </a:r>
            <a:endParaRPr b="0" lang="en-US" sz="2400" spc="-1" strike="noStrike">
              <a:solidFill>
                <a:srgbClr val="000000"/>
              </a:solidFill>
              <a:latin typeface=".VnRevue"/>
            </a:endParaRPr>
          </a:p>
        </p:txBody>
      </p:sp>
      <p:sp>
        <p:nvSpPr>
          <p:cNvPr id="92"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82BB99E5-D105-4CFC-A42D-9BBDC92323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304920" y="1660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ủng cố hệ thống phân phối được hình thành trên cơ sở xác lập mối liên kết dọc, có quan hệ gắn kết chặt chẽ, ổn định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iết lập hệ thống phân phối trên cơ sở xây dựng và phát triển hệ thống tổng kho bán buôn, hệ thống trung tâm logistics được bố trí theo khu vực thị trường gắn kết các loại hình phương tiện vận tải.</a:t>
            </a:r>
            <a:endParaRPr b="0" lang="en-US" sz="2400" spc="-1" strike="noStrike">
              <a:solidFill>
                <a:srgbClr val="000000"/>
              </a:solidFill>
              <a:latin typeface=".VnRevue"/>
            </a:endParaRPr>
          </a:p>
        </p:txBody>
      </p:sp>
      <p:sp>
        <p:nvSpPr>
          <p:cNvPr id="94"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3A2E27ED-AA3F-4844-8290-D3DE2B558D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3"/>
          <p:cNvSpPr/>
          <p:nvPr/>
        </p:nvSpPr>
        <p:spPr>
          <a:xfrm>
            <a:off x="304920" y="15238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huyến khích các doanh nghiệp kinh doanh các nhóm, mặt hàng có mối quan hệ với nhau trong tiêu dùng phát triển mối liên kết ngang trong khâu phân phối để giảm chi phí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à nước can thiệp vào thị trường này chủ yếu bằng quy chế về tổ chức và kiểm soát hệ thống phân phối, sử dụng các công cụ gián tiếp như: tín dụng, lãi suất, thuế, dự trữ quốc gia… để tác động đến thị trường thông qua các doanh nghiệp đầu nguồn.</a:t>
            </a:r>
            <a:endParaRPr b="0" lang="en-US" sz="2400" spc="-1" strike="noStrike">
              <a:solidFill>
                <a:srgbClr val="000000"/>
              </a:solidFill>
              <a:latin typeface=".VnRevue"/>
            </a:endParaRPr>
          </a:p>
        </p:txBody>
      </p:sp>
      <p:sp>
        <p:nvSpPr>
          <p:cNvPr id="96"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9B494CF0-8F52-4432-B301-EC8DA46D71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610480" cy="7621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Arial"/>
            </a:endParaRPr>
          </a:p>
        </p:txBody>
      </p:sp>
      <p:sp>
        <p:nvSpPr>
          <p:cNvPr id="98" name="Text Box 3"/>
          <p:cNvSpPr/>
          <p:nvPr/>
        </p:nvSpPr>
        <p:spPr>
          <a:xfrm>
            <a:off x="304920" y="106668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à nước ta quản lý hoạt động kinh doanh xuất nhập khẩu bằng luật pháp và các chế độ chính sách có liên quan</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yết định 2471/QĐ-TTg ngày 28/11/2011 phê duyệt chiến lược xuất nhập khẩu hàng hóa thời kỳ 2011 – 2020, định hướng đến năm 2030)</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1FB98E7-581F-41DA-AA35-CF24BC7681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ình thức cơ bản:</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ạm nhập, tái xuất, tạm xuất, tái nhập, chuyển khẩu, quá cảng hàng hoá.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ại lý mua, bán hàng hóa với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Gia công hàng hóa có yếu tố nước ngoài và đặt gia công hàng hóa ở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Uỷ thác và nhận uỷ thác xuất khẩu, nhập khẩu hàng hóa..</a:t>
            </a:r>
            <a:endParaRPr b="0" lang="en-US" sz="2400" spc="-1" strike="noStrike">
              <a:solidFill>
                <a:srgbClr val="000000"/>
              </a:solidFill>
              <a:latin typeface=".VnRevue"/>
            </a:endParaRPr>
          </a:p>
        </p:txBody>
      </p:sp>
      <p:sp>
        <p:nvSpPr>
          <p:cNvPr id="10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00C8822B-50CB-4C9A-97BF-47FE0A148B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guyên tắc quản lý:</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Tuân thủ luật pháp và các chính sách có liên quan của Nhà nước về sản xuất, lưu thông và quản lý thị trường.</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Tôn trọng các cam kết với các tổ chức kinh tế quốc tế và tập quán thương mại quốc tế.</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Bảo đảm quyền tự chủ kinh doanh của các doanh nghiệp và bảo đảm sự quản lý của Nhà nước.</a:t>
            </a:r>
            <a:endParaRPr b="0" lang="en-US" sz="2400" spc="-1" strike="noStrike">
              <a:solidFill>
                <a:srgbClr val="000000"/>
              </a:solidFill>
              <a:latin typeface=".VnRevue"/>
            </a:endParaRPr>
          </a:p>
        </p:txBody>
      </p:sp>
      <p:sp>
        <p:nvSpPr>
          <p:cNvPr id="10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347264EF-4516-4362-8F3C-6A27474AF6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3"/>
          <p:cNvSpPr/>
          <p:nvPr/>
        </p:nvSpPr>
        <p:spPr>
          <a:xfrm>
            <a:off x="304920" y="137160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Vai trò của nhập khẩu: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tạo điều kiện thúc đẩy nhanh quá trình tăng cường cơ sở vật chất kỹ thuật, chuyển dịch cơ cấu kinh tế </a:t>
            </a:r>
            <a:endParaRPr b="0" lang="en-US" sz="2400" spc="-1" strike="noStrike">
              <a:solidFill>
                <a:srgbClr val="000000"/>
              </a:solidFill>
              <a:latin typeface=".VnRevue"/>
            </a:endParaRPr>
          </a:p>
          <a:p>
            <a:pPr indent="343080" algn="just">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ổ sung kịp thời những mất cân đối của nền kinh tế, đảm bảo phát triển kinh tế cân đối và ổn định.</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Nhập khẩu góp phần cải thiện và nâng cao mức sống của nhân dân</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có vai trò tích cực thúc đẩy xuất khẩu</a:t>
            </a:r>
            <a:endParaRPr b="0" lang="en-US" sz="2400" spc="-1" strike="noStrike">
              <a:solidFill>
                <a:srgbClr val="000000"/>
              </a:solidFill>
              <a:latin typeface=".VnRevue"/>
            </a:endParaRPr>
          </a:p>
        </p:txBody>
      </p:sp>
      <p:sp>
        <p:nvSpPr>
          <p:cNvPr id="10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64F4F9EB-210E-456A-A95F-43DF50FC7F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304920" y="144792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Nguyên tắc cơ bả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Sử dụng vốn nhập khẩu tiết kiệm đem lại hiểu quả kinh tế cao</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ập khẩu thiết bị kỹ thuật tiên tiến hiện đại.</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Bảo vệ và thúc đẩy sản xuất trong nước phát triển, tăng nhanh xuất khẩu.</a:t>
            </a:r>
            <a:endParaRPr b="0" lang="en-US" sz="2800" spc="-1" strike="noStrike">
              <a:solidFill>
                <a:srgbClr val="000000"/>
              </a:solidFill>
              <a:latin typeface=".VnRevue"/>
            </a:endParaRPr>
          </a:p>
        </p:txBody>
      </p:sp>
      <p:sp>
        <p:nvSpPr>
          <p:cNvPr id="10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EF4386B6-36A1-4F6F-9AEE-597ED715F1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304920" y="1371600"/>
            <a:ext cx="853416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Chính sách và quản lý xuất nhập khẩu của nước ta trong những năm tớ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ệm vụ : "Đẩy mạnh xuất khẩu, chủ động về nhập khẩu, kiềm chế và thu hẹp dần nhập siêu". Đối với nhập khẩu, mục tiêu được đặt ra là kiềm chế được nhập siêu, phấn đấu tiến tới cân bằng hợp lý cán cân xuất - nhập khẩu. Ưu tiên nhập khẩu vật tư, thiết bị và công nghệ tiên tiến; giữ thế chủ động trong nhập khẩu, tập trung vào nhập thiết bị hiện đại từ các nước có công nghệ nguồn; </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ấn đấu kim ngạch xuất khẩu tăng bình quân 12%/năm, giảm nhập siêu, phấn đấu đến năm 2020 cân bằng được xuất nhập khẩu (</a:t>
            </a:r>
            <a:r>
              <a:rPr b="0" i="1" lang="pt-BR" sz="2400" spc="-1" strike="noStrike">
                <a:solidFill>
                  <a:srgbClr val="000000"/>
                </a:solidFill>
                <a:latin typeface="Times New Roman"/>
              </a:rPr>
              <a:t>NQ Đại hội Đảng X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ện đại hóa và mở rộng các dịch vụ có GTGT cao như tài chính, ngân hàng, bảo hiểm, chứng khoán, logistics và các dịch vụ hỗ trợ kinh doanh khác.</a:t>
            </a:r>
            <a:endParaRPr b="0" lang="en-US" sz="2400" spc="-1" strike="noStrike">
              <a:solidFill>
                <a:srgbClr val="000000"/>
              </a:solidFill>
              <a:latin typeface=".VnRevue"/>
            </a:endParaRPr>
          </a:p>
        </p:txBody>
      </p:sp>
      <p:sp>
        <p:nvSpPr>
          <p:cNvPr id="10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5FDFCDA9-3C19-4405-A66D-6275089168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9" name="AutoShape 3"/>
          <p:cNvSpPr/>
          <p:nvPr/>
        </p:nvSpPr>
        <p:spPr>
          <a:xfrm>
            <a:off x="0" y="1828800"/>
            <a:ext cx="8991720" cy="50292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50" name="Text Box 4"/>
          <p:cNvSpPr/>
          <p:nvPr/>
        </p:nvSpPr>
        <p:spPr>
          <a:xfrm>
            <a:off x="990720" y="2619360"/>
            <a:ext cx="7391160" cy="2311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Cơ chế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a:t>
            </a:r>
            <a:r>
              <a:rPr b="1" lang="pt-BR" sz="2800" spc="-1" strike="noStrike">
                <a:solidFill>
                  <a:srgbClr val="000000"/>
                </a:solidFill>
                <a:latin typeface="Times New Roman"/>
              </a:rPr>
              <a:t>	</a:t>
            </a:r>
            <a:r>
              <a:rPr b="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871EABB-1C29-4C83-B4C7-462E7E0A27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304920" y="12193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Chính sách và quản lý nhập khẩu của nước ta trong những năm tới (tiế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Giảm nhanh và tiến tới hạn chế nhập thiết bị công nghệ lạc hậu hoặc công nghệ trung gia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ạn chế nhập khẩu hàng hóa vật tư thiết bị cũng như hàng tiêu dùng trong nước có thể sản xuất được và đáp ứng được.</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ăng tốc độ tăng trưởng nhập khẩu bình quân thời kỳ 2011 - 2020 đạt khoảng 14,5%/năm. Tổng kim ngạch nhập khẩu hàng hóa tăng qua các năm.</a:t>
            </a:r>
            <a:endParaRPr b="0" lang="en-US" sz="2800" spc="-1" strike="noStrike">
              <a:solidFill>
                <a:srgbClr val="000000"/>
              </a:solidFill>
              <a:latin typeface=".VnRevue"/>
            </a:endParaRPr>
          </a:p>
        </p:txBody>
      </p:sp>
      <p:sp>
        <p:nvSpPr>
          <p:cNvPr id="11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A23CB90-9F43-4C42-8649-E3210C1D37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304920" y="14479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 Vai trò của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nguồn vốn chủ yếu cho nhập khẩu phục vụ công nghiệp hoá và hiện đại hoá.</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đóng góp vào việc chuyển dịch cơ cấu kinh tế, thúc đẩy sản xuất phát triể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ra khả năng mở rộng thị trường tiêu thụ góp phần cho sản xuất phát triển ổn định.</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điều kiện mở rộng khả năng cung cấp đầu vào cho sản xuất, nâng cao năng lực sản xuất trong nước.</a:t>
            </a:r>
            <a:endParaRPr b="0" lang="en-US" sz="2800" spc="-1" strike="noStrike">
              <a:solidFill>
                <a:srgbClr val="000000"/>
              </a:solidFill>
              <a:latin typeface=".VnRevue"/>
            </a:endParaRPr>
          </a:p>
        </p:txBody>
      </p:sp>
      <p:sp>
        <p:nvSpPr>
          <p:cNvPr id="11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7688D623-C8F3-4BAA-9BF8-C052F0CBD0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304920" y="12193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quan điểm</a:t>
            </a:r>
            <a:r>
              <a:rPr b="0" lang="pt-BR" sz="2800" spc="-1" strike="noStrike">
                <a:solidFill>
                  <a:srgbClr val="000000"/>
                </a:solidFill>
                <a:latin typeface="Times New Roman"/>
              </a:rPr>
              <a:t>: Phát triển sản xuất để tăng nhanh xuất khẩu đồng thời đáp ứng nhu cầu trong nước.</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Xây dựng và củng cố đối tác chiến lược để phát triển thị trường bền vững</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a dạng hóa thị trường xuất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1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D74C2672-242E-4C9F-B030-65F62B7FE59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3"/>
          <p:cNvSpPr/>
          <p:nvPr/>
        </p:nvSpPr>
        <p:spPr>
          <a:xfrm>
            <a:off x="304920" y="121932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mục tiêu tổng quát</a:t>
            </a:r>
            <a:r>
              <a:rPr b="0" lang="pt-BR" sz="2800" spc="-1" strike="noStrike">
                <a:solidFill>
                  <a:srgbClr val="000000"/>
                </a:solidFill>
                <a:latin typeface="Times New Roman"/>
              </a:rPr>
              <a:t>:  Tổng KNXK đến năm 2020 gấp 3 lần năm 2010</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Bình quân đầu người về xuất khẩu là 2.000 USD, cân đối cán cân thương mại cân bằ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Về mục tiêu cụ thể: Tốc độ tăng xuất khẩu hàng hóa 2011 – 2020: 11 – 12%/năm; 2011 – 2015: 12%/năm; 2016 – 2020: 11%/năm; Duy trì tốc độ 10%/năm thời kỳ 2021 – 2030.</a:t>
            </a:r>
            <a:endParaRPr b="0" lang="en-US" sz="2800" spc="-1" strike="noStrike">
              <a:solidFill>
                <a:srgbClr val="000000"/>
              </a:solidFill>
              <a:latin typeface=".VnRevue"/>
            </a:endParaRPr>
          </a:p>
        </p:txBody>
      </p:sp>
      <p:sp>
        <p:nvSpPr>
          <p:cNvPr id="11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E68BDCA7-3651-49DB-AAE6-B85F462C9FA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Những biện pháp chính sách đẩy mạnh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 2471/QĐ-TT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sản xuất và chuyển dịch cơ cấu kinh tế</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thị trườn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ính sách tài chính, tín dụng và đầu tư phát triển sản xuất hàng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ầu tư phát triển cơ sở hạ tầng giao thông, kho vận, đẩy nhanh xã hội hóa hoạt động dịch vụ logistics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ào tạo phát triển nguồn nhân lực</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iểm soát nhập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âng cao sức cạnh tranh của doanh nghiệp và vai trò của Hiệp hội ngành.</a:t>
            </a:r>
            <a:endParaRPr b="0" lang="en-US" sz="2400" spc="-1" strike="noStrike">
              <a:solidFill>
                <a:srgbClr val="000000"/>
              </a:solidFill>
              <a:latin typeface=".VnRevue"/>
            </a:endParaRPr>
          </a:p>
        </p:txBody>
      </p:sp>
      <p:sp>
        <p:nvSpPr>
          <p:cNvPr id="11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01C31342-A6FD-4D4B-848B-75B18198765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304920" y="14479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ai trò của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tạo ra những tiền đề kinh tế, kỹ thuật nhằm cải tạo và nâng cao năng lực sản xuất trong nước.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òn đòi hỏi các doanh nghiệp phải luôn đổi mới và hoàn thiện quản trị sản  xuất và kinh doanh.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ó tác động tích cực đến việc giải quyết công ăn việc làm và cải thiện đời sống của nhân dân.</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là cơ sở để mở rộng và thúc đẩy các quan hệ kinh tế đối ngoại </a:t>
            </a:r>
            <a:endParaRPr b="0" lang="en-US" sz="2400" spc="-1" strike="noStrike">
              <a:solidFill>
                <a:srgbClr val="000000"/>
              </a:solidFill>
              <a:latin typeface=".VnRevue"/>
            </a:endParaRPr>
          </a:p>
        </p:txBody>
      </p:sp>
      <p:sp>
        <p:nvSpPr>
          <p:cNvPr id="12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701F2DA5-3262-43FA-ABE0-360EAD9BBC3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2" name="PlaceHolder 2"/>
          <p:cNvSpPr>
            <a:spLocks noGrp="1"/>
          </p:cNvSpPr>
          <p:nvPr>
            <p:ph type="subTitle"/>
          </p:nvPr>
        </p:nvSpPr>
        <p:spPr>
          <a:xfrm>
            <a:off x="609480" y="1447560"/>
            <a:ext cx="8229600" cy="5105160"/>
          </a:xfrm>
          <a:prstGeom prst="rect">
            <a:avLst/>
          </a:prstGeom>
          <a:noFill/>
          <a:ln w="0">
            <a:noFill/>
          </a:ln>
        </p:spPr>
        <p:txBody>
          <a:bodyPr anchor="t">
            <a:noAutofit/>
          </a:bodyPr>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Hiểu thế nào là cơ chế và cơ chế quản lý kinh tế?</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ính sách thương mại và mục tiêu cơ bản của chính sách </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rình bày chính sách phát triển thị trường trong thương mại nước ta hiện nay?</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Quan điểm và mục tiêu phát triển xuất khẩu ở nước ta thời gian tới?</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iện pháp thúc đẩy xuất khẩu và giảm nhập siê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2C6B7BA-4FAC-4F69-9495-192A877C75F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a:t>
            </a:r>
            <a:r>
              <a:rPr b="1" lang="en-US" sz="3600" spc="-1" strike="noStrike">
                <a:solidFill>
                  <a:srgbClr val="000000"/>
                </a:solidFill>
                <a:latin typeface="Times New Roman"/>
              </a:rPr>
              <a:t> Khái quát Cơ chế và cơ chế </a:t>
            </a:r>
            <a:br>
              <a:rPr sz="3600"/>
            </a:br>
            <a:r>
              <a:rPr b="1" lang="en-US" sz="3600" spc="-1" strike="noStrike">
                <a:solidFill>
                  <a:srgbClr val="000000"/>
                </a:solidFill>
                <a:latin typeface="Times New Roman"/>
              </a:rPr>
              <a:t>quản lý kinh tế</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Text Box 4"/>
          <p:cNvSpPr/>
          <p:nvPr/>
        </p:nvSpPr>
        <p:spPr>
          <a:xfrm>
            <a:off x="304920" y="1523880"/>
            <a:ext cx="8534160" cy="4897800"/>
          </a:xfrm>
          <a:prstGeom prst="rect">
            <a:avLst/>
          </a:prstGeom>
          <a:noFill/>
          <a:ln w="0">
            <a:noFill/>
          </a:ln>
        </p:spPr>
        <p:style>
          <a:lnRef idx="0"/>
          <a:fillRef idx="0"/>
          <a:effectRef idx="0"/>
          <a:fontRef idx="minor"/>
        </p:style>
        <p:txBody>
          <a:bodyPr lIns="0" rIns="0" tIns="0" bIns="0" anchor="t">
            <a:spAutoFit/>
          </a:bodyPr>
          <a:p>
            <a:pPr indent="343080" algn="just">
              <a:lnSpc>
                <a:spcPct val="120000"/>
              </a:lnSpc>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ơ chế kinh tế</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ơ chế là khái niệm dùng để chỉ sự tương tác giữa các yếu tố kết thành hệ thống mà nhờ đó hệ thống có thể hoạt động.</a:t>
            </a:r>
            <a:r>
              <a:rPr b="1" lang="en-US" sz="3200" spc="-1" strike="noStrike">
                <a:solidFill>
                  <a:srgbClr val="000000"/>
                </a:solidFill>
                <a:latin typeface="Times New Roman"/>
              </a:rPr>
              <a:t> </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ong thương mại, cơ chế kinh tế là tổng thể các yếu tố có mối liên hệ tác động qua lại lẫn nhau tạo thành động lực dẫn dắt nền thương mại phát triển.</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28E18990-6C02-43A0-999F-040C689F88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4" name="Text Box 3"/>
          <p:cNvSpPr/>
          <p:nvPr/>
        </p:nvSpPr>
        <p:spPr>
          <a:xfrm>
            <a:off x="304920" y="1523880"/>
            <a:ext cx="853416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2. Cơ chế quản lý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hái niệm dùng để chỉ phương thức mà qua đó nhà nước tác động vào nền kinh tế để định hướng nền kinh tế tự vận động đến các mục tiêu đã định</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Bao gồm các nội dung:</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nhất: là phương thức tự vận động của nền kinh tế, là biểu tượng của nhân tố khách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hai: tế là phương thức tác động của nhà nước nhằm định hướng nền kinh tế, nó mang tính chủ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ba: Nhà nước tác động vào nền kinh tế thông qua cơ chế kinh tế chứ không thể tác động trực tiếp vào nền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E371495-51EA-42E7-B228-207F365F3C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6" name="Text Box 3"/>
          <p:cNvSpPr/>
          <p:nvPr/>
        </p:nvSpPr>
        <p:spPr>
          <a:xfrm>
            <a:off x="304920" y="1676520"/>
            <a:ext cx="8534160" cy="3677400"/>
          </a:xfrm>
          <a:prstGeom prst="rect">
            <a:avLst/>
          </a:prstGeom>
          <a:noFill/>
          <a:ln w="0">
            <a:noFill/>
          </a:ln>
        </p:spPr>
        <p:style>
          <a:lnRef idx="0"/>
          <a:fillRef idx="0"/>
          <a:effectRef idx="0"/>
          <a:fontRef idx="minor"/>
        </p:style>
        <p:txBody>
          <a:bodyPr lIns="90000" rIns="90000" tIns="46800" bIns="46800" anchor="t">
            <a:spAutoFit/>
          </a:bodyPr>
          <a:p>
            <a:pPr indent="343080" algn="just">
              <a:lnSpc>
                <a:spcPct val="14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ề phương diện cấu trúc, là một hệ thống bao gồm các yếu tố cơ bản sau:</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hứ nhất là các mục tiêu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 là các công cụ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 là cơ chế kinh </a:t>
            </a:r>
            <a:r>
              <a:rPr b="0" lang="en-US" sz="2800" spc="-1" strike="noStrike">
                <a:solidFill>
                  <a:srgbClr val="000000"/>
                </a:solidFill>
                <a:latin typeface="Times New Roman"/>
              </a:rPr>
              <a:t>tế</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B6848D5-CE02-4361-998D-D9E86DBB8F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8" name="Text Box 3"/>
          <p:cNvSpPr/>
          <p:nvPr/>
        </p:nvSpPr>
        <p:spPr>
          <a:xfrm>
            <a:off x="304920" y="1676520"/>
            <a:ext cx="853416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thương mại quy định các vấn đề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nhân và hoạt động của thương nhân,</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phát triển thương mại trong nước và quốc tế,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thuế quan,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ợp tác quốc tế trong lĩnh vực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B14E89E-6197-4952-8D2B-5AECD11881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 </a:t>
            </a:r>
            <a:r>
              <a:rPr b="1" i="1" lang="en-US" sz="4400" spc="-1" strike="noStrike" u="sng">
                <a:solidFill>
                  <a:srgbClr val="000000"/>
                </a:solidFill>
                <a:uFillTx/>
                <a:latin typeface="Times New Roman"/>
              </a:rPr>
              <a:t>II.</a:t>
            </a:r>
            <a:r>
              <a:rPr b="1" lang="en-US" sz="4400" spc="-1" strike="noStrike">
                <a:solidFill>
                  <a:srgbClr val="000000"/>
                </a:solidFill>
                <a:latin typeface="Times New Roman"/>
              </a:rPr>
              <a:t> Mục tiêu của chính sách thương mại</a:t>
            </a:r>
            <a:r>
              <a:rPr b="1"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ính sách thương mại :</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ác dụng rất lớn đến việc mở rộng giao lưu hàng hoá trong nước và xuất khẩu,</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hể tạo ra nhu cầu cạnh tranh giữa các ngành công nghiệp sản xuất hàng thay thế hàng nhập khẩu cho thị trường trong nước</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một trong các yếu tố cấu thành của một chiến lược tổng hợp, nhằm khuyến khích xuất khẩu và phát triển công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B007E53-B6FB-43E3-8058-196D2128BD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2"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êu cầu </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hông kiềm chế hoạt động thương mại; Thúc đẩy các hoạt động đầu tư phát triển thương mại trong nước và thương mại quốc tế.</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ạo điều kiện cho các doanh nghiệp có giá thành và giá cả ngang với giá thế giới.</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ể các doanh nghiệp tự quyết định các vấn đề của kinh doanh.</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39B9E46-7B90-40C5-A954-B9A5C90117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6:33Z</dcterms:modified>
  <cp:revision>57</cp:revision>
  <dc:subject/>
  <dc:title>Slide 1</dc:title>
</cp:coreProperties>
</file>