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A309-3B40-49C7-8E74-1C214A3F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5040-0C5A-4BD4-B666-FAC8B27CC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E56-54CF-41E5-A9AF-FB0ACFA51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09A0-25FA-40B5-A526-81A0481C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1107-86F1-4D59-854A-5C632171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69A1-0D42-4750-BF1E-091A42B4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6E98-B20B-43D1-BC66-018C4482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17E-C33C-43E1-8127-315C034B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077-833C-4105-892A-72823500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166-ED6E-4837-9AD7-369D35BC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EF1-8244-4622-A2FE-084E42E3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D22-4156-49D0-AC6C-A156C06C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B4A-2251-49EC-8AA0-55C8B9AE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362-429F-405D-A650-C913C75A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735-0FA3-4F70-8291-F279A82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175-5EA8-494A-84A0-196A7BC4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85F-6558-4466-86CC-D8FD172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4EA-12FF-449B-88B8-AC83C981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C74-4638-487C-99BF-6FB1D385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BCB1-800E-46B3-A460-2301812BB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I TRÒ CỦA CHÍNH PHỦ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ững lý luận khác nhau về vai trò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năng KTvi m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: - CP tác động đến việc phân bổ và SD các nguồn lực để cải thiện hq KT =&gt; hq Pa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đảm bảo sự cạnh tranh công bằng tr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yếu t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ối thiểu hóa sự bóp méo KT(do th bại tt gây 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ự do hóa giá c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môi trường KD về KT và pháp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 cụ điều tiế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của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iền t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ài khó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 hệ thống ngân hàng Trung 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ơ cấu lại nề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ưu ý: đvới các nước đang ptr: chnăng là qtr nhất vì nó lq đến việc XD các thể chế KT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ẤT BẠI CỦA THỊ TRƯỜNG VÀ VAI TRÒ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533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ất bại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1936800"/>
            <a:ext cx="42670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.VnTime"/>
              </a:rPr>
              <a:t>Môc tiªu cña mäi nÒn SX-X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-  Lµ ph©n bæ cã Hq c¸c nguån lùc SX-XH cña toµn bé nÒn KTQ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XÐt trªn ph¹m vi toµn bé nÒn KTQD th× ph©n bæ cã Hq c¸c nguån lùc SX-XH nghÜa l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XH cÇn lo¹i SP nµo? sl lµ bao nhiªu? (cÇu) th× XH ph©n bæ c¸c nguån lùc ®Ó SX ®óng lo¹i SP ®ã víi sè l­îng XH cÇn thiÕt (c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ãi c¸ch kh¸c: ®¶m b¶o c©n b»ng cung-cÇu ë mäi thÞ tr­êng H2 (tr¶ lêi ®óng 3 c©u hái SX c¸i g×? nh­ thÕ nµo? cho a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l: ph©n bæ nguån lùc cã Hq lµ yªu cÇu sèng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ò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 cña mäi nÒ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uÈn mùc chung ®Ó ®¸nh gi¸ lµ Hq Pa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360" y="171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024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819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895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9360" y="4156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0" y="2631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89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02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7600" y="52228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4343400" cy="4359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phân bổ nguồn lực hiệu quả tại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SB=M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ẩn mực đánh g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B 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 cạnh tranh hoàn hảo là phân bổ nguồn lự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369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680" y="3387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ỆU QUẢ PA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33920" cy="457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 sử 1 nền KT chỉ SX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ì những kết hợp sản lượng theo mong muốn sẽ nằm trên đường PPF và khi đó việc phân bổ nguồn lực đạt Hq (hoặc đạt được Hq Pa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7432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16002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ững đi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ạt Hq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77120" y="274284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742840"/>
            <a:ext cx="30492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001000" y="2895480"/>
            <a:ext cx="152280" cy="32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2209680"/>
            <a:ext cx="21333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2819520" cy="914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iểm thất bại thị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04960" y="419076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876920"/>
            <a:ext cx="152280" cy="15228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à sự không hoàn hảo của cơ chế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à thuật ngữ dùng để chỉ 1 nền KT mà việc phân bổ nguồn lực không đạt Hq, hoặc sản xuất quá nhiều hoặc quá ít một loại hàng hóa nào đ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i đ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≠ M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êu dù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Òn KT t2 kh«ng ph¶i lóc nµo còng lµ lý t­ëng, lµ hoµn h¶o mµ còng cã nh÷ng mÆt tr¸i(trôc trÆc, khiÕm khuyÕt, khuyÕt tËt, thÊt b¹i,...)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®ßi hái ph¶i cã sù can thiÖp cña CP ®Ó h­íng dÉn “bµn tay v« h×nh „ cña t2 ho¹t ®éng cã Hq. Khi “bµn tay v« h×nh „ cña thÞ tr­êng ®em l¹i kÕt hîp SL kh«ng mong mu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=&gt; thÞ tr­êng ®· trôc trÆ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ông tin không hoàn 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ng cấp hàng hóa công c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ân phối thu nhập không công bằ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9160" y="627120"/>
            <a:ext cx="64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0320" y="275112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*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a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ản lượng th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y ra phần mất kh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W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720" y="1024920"/>
            <a:ext cx="5775840" cy="4524840"/>
            <a:chOff x="1143720" y="1024920"/>
            <a:chExt cx="5775840" cy="4524840"/>
          </a:xfrm>
        </p:grpSpPr>
        <p:sp>
          <p:nvSpPr>
            <p:cNvPr id="132" name=""/>
            <p:cNvSpPr/>
            <p:nvPr/>
          </p:nvSpPr>
          <p:spPr>
            <a:xfrm>
              <a:off x="2209680" y="2244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48355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7781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2549520"/>
              <a:ext cx="2590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11440" y="4572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1240" y="198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143720" y="1024200"/>
              <a:ext cx="33516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35720" y="205740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C=MSC=M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082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209320" y="300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4560" y="4724280"/>
              <a:ext cx="50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57080" y="2743200"/>
              <a:ext cx="4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3387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09680" y="3311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4240" y="4800600"/>
              <a:ext cx="51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5640" y="304776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520" y="35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8640" y="30826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28640" y="31590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80920" y="3235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05320" y="506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23880" y="2930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26708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R=M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90760" y="365760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=MS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68160" y="24732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W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581280" y="28537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09320" y="369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880" y="3512880"/>
              <a:ext cx="65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H"/>
                </a:rPr>
                <a:t>M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hững lý luận khác  nhau về vai trò của CP 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ầm quan trọng của Chính phủ trong nền KT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quan điểm khác nhau về vai trò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cổ đi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“tân cổ điể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thân thiện với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chức năng KT của CP: Chnăng KTvĩ m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mô,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ÔNG TIN KHÔNG HOÀN H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≠ MU td chú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 + người t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D THÔNG TIN KHÔNG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ình huống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ôi động thị trường ôtô c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á không phát tín hiệu chính xác nên mức sản lượng là không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0320"/>
            <a:ext cx="403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những ảnh hưởng  của hoạt động trong sản xuất hoặc tiêu d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hông được phản ánh trực tiếp trong giá 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sự chênh lệch về chi phí của cá nhân và XH Là sự chênh lệch về lợi ích của cá nhân và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hân lo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ích cực - Ngoại ứng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iêu cực - Ngoại ứng â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hái niệm: Ngoại ứng tiêu cực là 1 N.Ư mà hành vi của thành viên bên này đem lại thiệt hại về chi phí cho thành viên bên kia mà không được phản ánh 1 cách trực tiếp thông qua giá cả t2, là sự chênh lệch về chi phí giữa chi phí cá nhân và chi phí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C = MPC + M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PC: Chi phí cá nhân cận bi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EC: Chi phí ngoại ứng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SC: Chi phí xã hội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DỤ V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ình h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à máy thép xả chất thải vào dòng s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àn bộ thị trường thép có thể giảm sự ô nhiễm bằng cách hạ thấp sản lượng ( hàm sản xuất với tỷ lệ cố định các đầu v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ận biên của ngoại ứng (MEC) là chi phí mà các ngư dân ở hạ lưu phải gánh chịu đối với mỗi mức sản lượng sản xu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á nhân cận biên( 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xã hội cận biên MSC = MPC +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 P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" y="1830240"/>
            <a:ext cx="64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Times"/>
              </a:rPr>
              <a:t>Gi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8320" y="914400"/>
            <a:ext cx="8995680" cy="5691240"/>
            <a:chOff x="148320" y="914400"/>
            <a:chExt cx="8995680" cy="5691240"/>
          </a:xfrm>
        </p:grpSpPr>
        <p:grpSp>
          <p:nvGrpSpPr>
            <p:cNvPr id="179" name=""/>
            <p:cNvGrpSpPr/>
            <p:nvPr/>
          </p:nvGrpSpPr>
          <p:grpSpPr>
            <a:xfrm>
              <a:off x="598680" y="2183040"/>
              <a:ext cx="7620840" cy="3168000"/>
              <a:chOff x="598680" y="2183040"/>
              <a:chExt cx="7620840" cy="316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598680" y="2621160"/>
                <a:ext cx="2593800" cy="2489040"/>
              </a:xfrm>
              <a:custGeom>
                <a:avLst/>
                <a:gdLst/>
                <a:ahLst/>
                <a:rect l="l" t="t" r="r" b="b"/>
                <a:pathLst>
                  <a:path w="1634" h="1489">
                    <a:moveTo>
                      <a:pt x="0" y="1488"/>
                    </a:moveTo>
                    <a:lnTo>
                      <a:pt x="34" y="1478"/>
                    </a:lnTo>
                    <a:lnTo>
                      <a:pt x="74" y="1467"/>
                    </a:lnTo>
                    <a:lnTo>
                      <a:pt x="125" y="1452"/>
                    </a:lnTo>
                    <a:lnTo>
                      <a:pt x="183" y="1442"/>
                    </a:lnTo>
                    <a:lnTo>
                      <a:pt x="243" y="1421"/>
                    </a:lnTo>
                    <a:lnTo>
                      <a:pt x="311" y="1390"/>
                    </a:lnTo>
                    <a:lnTo>
                      <a:pt x="382" y="1359"/>
                    </a:lnTo>
                    <a:lnTo>
                      <a:pt x="453" y="1313"/>
                    </a:lnTo>
                    <a:lnTo>
                      <a:pt x="531" y="1262"/>
                    </a:lnTo>
                    <a:lnTo>
                      <a:pt x="619" y="1195"/>
                    </a:lnTo>
                    <a:lnTo>
                      <a:pt x="713" y="1123"/>
                    </a:lnTo>
                    <a:lnTo>
                      <a:pt x="808" y="1040"/>
                    </a:lnTo>
                    <a:lnTo>
                      <a:pt x="906" y="958"/>
                    </a:lnTo>
                    <a:lnTo>
                      <a:pt x="1001" y="875"/>
                    </a:lnTo>
                    <a:lnTo>
                      <a:pt x="1089" y="788"/>
                    </a:lnTo>
                    <a:lnTo>
                      <a:pt x="1166" y="706"/>
                    </a:lnTo>
                    <a:lnTo>
                      <a:pt x="1237" y="618"/>
                    </a:lnTo>
                    <a:lnTo>
                      <a:pt x="1308" y="520"/>
                    </a:lnTo>
                    <a:lnTo>
                      <a:pt x="1376" y="423"/>
                    </a:lnTo>
                    <a:lnTo>
                      <a:pt x="1437" y="325"/>
                    </a:lnTo>
                    <a:lnTo>
                      <a:pt x="1494" y="227"/>
                    </a:lnTo>
                    <a:lnTo>
                      <a:pt x="1545" y="139"/>
                    </a:lnTo>
                    <a:lnTo>
                      <a:pt x="1592" y="62"/>
                    </a:lnTo>
                    <a:lnTo>
                      <a:pt x="1633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62520" y="3318480"/>
                <a:ext cx="2527200" cy="2032560"/>
              </a:xfrm>
              <a:custGeom>
                <a:avLst/>
                <a:gdLst/>
                <a:ahLst/>
                <a:rect l="l" t="t" r="r" b="b"/>
                <a:pathLst>
                  <a:path w="1592" h="1216">
                    <a:moveTo>
                      <a:pt x="0" y="1215"/>
                    </a:moveTo>
                    <a:lnTo>
                      <a:pt x="31" y="1204"/>
                    </a:lnTo>
                    <a:lnTo>
                      <a:pt x="69" y="1193"/>
                    </a:lnTo>
                    <a:lnTo>
                      <a:pt x="114" y="1177"/>
                    </a:lnTo>
                    <a:lnTo>
                      <a:pt x="168" y="1161"/>
                    </a:lnTo>
                    <a:lnTo>
                      <a:pt x="289" y="1113"/>
                    </a:lnTo>
                    <a:lnTo>
                      <a:pt x="426" y="1054"/>
                    </a:lnTo>
                    <a:lnTo>
                      <a:pt x="495" y="1016"/>
                    </a:lnTo>
                    <a:lnTo>
                      <a:pt x="579" y="973"/>
                    </a:lnTo>
                    <a:lnTo>
                      <a:pt x="746" y="876"/>
                    </a:lnTo>
                    <a:lnTo>
                      <a:pt x="914" y="769"/>
                    </a:lnTo>
                    <a:lnTo>
                      <a:pt x="990" y="715"/>
                    </a:lnTo>
                    <a:lnTo>
                      <a:pt x="1058" y="666"/>
                    </a:lnTo>
                    <a:lnTo>
                      <a:pt x="1172" y="570"/>
                    </a:lnTo>
                    <a:lnTo>
                      <a:pt x="1264" y="468"/>
                    </a:lnTo>
                    <a:lnTo>
                      <a:pt x="1340" y="376"/>
                    </a:lnTo>
                    <a:lnTo>
                      <a:pt x="1408" y="285"/>
                    </a:lnTo>
                    <a:lnTo>
                      <a:pt x="1469" y="204"/>
                    </a:lnTo>
                    <a:lnTo>
                      <a:pt x="1522" y="123"/>
                    </a:lnTo>
                    <a:lnTo>
                      <a:pt x="1561" y="53"/>
                    </a:lnTo>
                    <a:lnTo>
                      <a:pt x="1576" y="27"/>
                    </a:lnTo>
                    <a:lnTo>
                      <a:pt x="1591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6600" y="218304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79400" y="2862000"/>
                <a:ext cx="1140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 = MP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48320" y="2373840"/>
              <a:ext cx="7908120" cy="3592800"/>
              <a:chOff x="148320" y="2373840"/>
              <a:chExt cx="7908120" cy="359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00120" y="4465080"/>
                <a:ext cx="3351240" cy="0"/>
              </a:xfrm>
              <a:prstGeom prst="line">
                <a:avLst/>
              </a:prstGeom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1680" y="2373840"/>
                <a:ext cx="2512800" cy="3218040"/>
              </a:xfrm>
              <a:custGeom>
                <a:avLst/>
                <a:gdLst/>
                <a:ahLst/>
                <a:rect l="l" t="t" r="r" b="b"/>
                <a:pathLst>
                  <a:path w="1583" h="1925">
                    <a:moveTo>
                      <a:pt x="0" y="0"/>
                    </a:moveTo>
                    <a:lnTo>
                      <a:pt x="112" y="208"/>
                    </a:lnTo>
                    <a:lnTo>
                      <a:pt x="216" y="410"/>
                    </a:lnTo>
                    <a:lnTo>
                      <a:pt x="328" y="601"/>
                    </a:lnTo>
                    <a:lnTo>
                      <a:pt x="384" y="685"/>
                    </a:lnTo>
                    <a:lnTo>
                      <a:pt x="432" y="769"/>
                    </a:lnTo>
                    <a:lnTo>
                      <a:pt x="480" y="847"/>
                    </a:lnTo>
                    <a:lnTo>
                      <a:pt x="527" y="920"/>
                    </a:lnTo>
                    <a:lnTo>
                      <a:pt x="615" y="1055"/>
                    </a:lnTo>
                    <a:lnTo>
                      <a:pt x="711" y="1178"/>
                    </a:lnTo>
                    <a:lnTo>
                      <a:pt x="815" y="1302"/>
                    </a:lnTo>
                    <a:lnTo>
                      <a:pt x="879" y="1369"/>
                    </a:lnTo>
                    <a:lnTo>
                      <a:pt x="943" y="1430"/>
                    </a:lnTo>
                    <a:lnTo>
                      <a:pt x="1087" y="1565"/>
                    </a:lnTo>
                    <a:lnTo>
                      <a:pt x="1159" y="1627"/>
                    </a:lnTo>
                    <a:lnTo>
                      <a:pt x="1230" y="1683"/>
                    </a:lnTo>
                    <a:lnTo>
                      <a:pt x="1286" y="1733"/>
                    </a:lnTo>
                    <a:lnTo>
                      <a:pt x="1342" y="1778"/>
                    </a:lnTo>
                    <a:lnTo>
                      <a:pt x="1390" y="1812"/>
                    </a:lnTo>
                    <a:lnTo>
                      <a:pt x="1422" y="1845"/>
                    </a:lnTo>
                    <a:lnTo>
                      <a:pt x="1462" y="1868"/>
                    </a:lnTo>
                    <a:lnTo>
                      <a:pt x="1486" y="1885"/>
                    </a:lnTo>
                    <a:lnTo>
                      <a:pt x="1542" y="1907"/>
                    </a:lnTo>
                    <a:lnTo>
                      <a:pt x="1582" y="1924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10480" y="560340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8320" y="42260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085080" y="3261960"/>
              <a:ext cx="382320" cy="1285560"/>
            </a:xfrm>
            <a:custGeom>
              <a:avLst/>
              <a:gdLst/>
              <a:ahLst/>
              <a:rect l="l" t="t" r="r" b="b"/>
              <a:pathLst>
                <a:path w="241" h="769">
                  <a:moveTo>
                    <a:pt x="240" y="0"/>
                  </a:moveTo>
                  <a:lnTo>
                    <a:pt x="240" y="768"/>
                  </a:lnTo>
                  <a:lnTo>
                    <a:pt x="0" y="480"/>
                  </a:lnTo>
                  <a:lnTo>
                    <a:pt x="240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4040" y="3582720"/>
              <a:ext cx="1828800" cy="820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XH  phải chịu do nư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315120" y="3985560"/>
              <a:ext cx="1217520" cy="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3295080"/>
              <a:ext cx="0" cy="130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1960" y="1014840"/>
              <a:ext cx="6516720" cy="5404320"/>
              <a:chOff x="561960" y="1014840"/>
              <a:chExt cx="6516720" cy="5404320"/>
            </a:xfrm>
          </p:grpSpPr>
          <p:sp>
            <p:nvSpPr>
              <p:cNvPr id="194" name=""/>
              <p:cNvSpPr/>
              <p:nvPr/>
            </p:nvSpPr>
            <p:spPr>
              <a:xfrm>
                <a:off x="6500880" y="4555440"/>
                <a:ext cx="0" cy="150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76600" y="4453560"/>
                <a:ext cx="0" cy="160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0280" y="4371840"/>
                <a:ext cx="15228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24560" y="4371840"/>
                <a:ext cx="15264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901760" y="4452120"/>
                <a:ext cx="146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0320" y="42127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54840" y="6005160"/>
                <a:ext cx="380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2800" y="6018480"/>
                <a:ext cx="4327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800" y="1886040"/>
                <a:ext cx="2367000" cy="3211200"/>
              </a:xfrm>
              <a:custGeom>
                <a:avLst/>
                <a:gdLst/>
                <a:ahLst/>
                <a:rect l="l" t="t" r="r" b="b"/>
                <a:pathLst>
                  <a:path w="1491" h="1921">
                    <a:moveTo>
                      <a:pt x="0" y="1920"/>
                    </a:moveTo>
                    <a:lnTo>
                      <a:pt x="31" y="1905"/>
                    </a:lnTo>
                    <a:lnTo>
                      <a:pt x="69" y="1894"/>
                    </a:lnTo>
                    <a:lnTo>
                      <a:pt x="113" y="1879"/>
                    </a:lnTo>
                    <a:lnTo>
                      <a:pt x="167" y="1858"/>
                    </a:lnTo>
                    <a:lnTo>
                      <a:pt x="224" y="1832"/>
                    </a:lnTo>
                    <a:lnTo>
                      <a:pt x="283" y="1796"/>
                    </a:lnTo>
                    <a:lnTo>
                      <a:pt x="346" y="1755"/>
                    </a:lnTo>
                    <a:lnTo>
                      <a:pt x="413" y="1699"/>
                    </a:lnTo>
                    <a:lnTo>
                      <a:pt x="485" y="1627"/>
                    </a:lnTo>
                    <a:lnTo>
                      <a:pt x="564" y="1544"/>
                    </a:lnTo>
                    <a:lnTo>
                      <a:pt x="649" y="1446"/>
                    </a:lnTo>
                    <a:lnTo>
                      <a:pt x="737" y="1344"/>
                    </a:lnTo>
                    <a:lnTo>
                      <a:pt x="825" y="1235"/>
                    </a:lnTo>
                    <a:lnTo>
                      <a:pt x="910" y="1127"/>
                    </a:lnTo>
                    <a:lnTo>
                      <a:pt x="989" y="1019"/>
                    </a:lnTo>
                    <a:lnTo>
                      <a:pt x="1062" y="911"/>
                    </a:lnTo>
                    <a:lnTo>
                      <a:pt x="1128" y="798"/>
                    </a:lnTo>
                    <a:lnTo>
                      <a:pt x="1191" y="674"/>
                    </a:lnTo>
                    <a:lnTo>
                      <a:pt x="1254" y="551"/>
                    </a:lnTo>
                    <a:lnTo>
                      <a:pt x="1310" y="422"/>
                    </a:lnTo>
                    <a:lnTo>
                      <a:pt x="1364" y="299"/>
                    </a:lnTo>
                    <a:lnTo>
                      <a:pt x="1411" y="185"/>
                    </a:lnTo>
                    <a:lnTo>
                      <a:pt x="1452" y="82"/>
                    </a:lnTo>
                    <a:lnTo>
                      <a:pt x="1474" y="41"/>
                    </a:lnTo>
                    <a:lnTo>
                      <a:pt x="1490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81520" y="164520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96000" y="2603160"/>
                <a:ext cx="1760400" cy="2734920"/>
              </a:xfrm>
              <a:custGeom>
                <a:avLst/>
                <a:gdLst/>
                <a:ahLst/>
                <a:rect l="l" t="t" r="r" b="b"/>
                <a:pathLst>
                  <a:path w="1109" h="1636">
                    <a:moveTo>
                      <a:pt x="0" y="1635"/>
                    </a:moveTo>
                    <a:lnTo>
                      <a:pt x="55" y="1603"/>
                    </a:lnTo>
                    <a:lnTo>
                      <a:pt x="124" y="1560"/>
                    </a:lnTo>
                    <a:lnTo>
                      <a:pt x="206" y="1501"/>
                    </a:lnTo>
                    <a:lnTo>
                      <a:pt x="247" y="1463"/>
                    </a:lnTo>
                    <a:lnTo>
                      <a:pt x="294" y="1420"/>
                    </a:lnTo>
                    <a:lnTo>
                      <a:pt x="342" y="1371"/>
                    </a:lnTo>
                    <a:lnTo>
                      <a:pt x="397" y="1312"/>
                    </a:lnTo>
                    <a:lnTo>
                      <a:pt x="459" y="1248"/>
                    </a:lnTo>
                    <a:lnTo>
                      <a:pt x="520" y="1178"/>
                    </a:lnTo>
                    <a:lnTo>
                      <a:pt x="636" y="1033"/>
                    </a:lnTo>
                    <a:lnTo>
                      <a:pt x="691" y="963"/>
                    </a:lnTo>
                    <a:lnTo>
                      <a:pt x="739" y="898"/>
                    </a:lnTo>
                    <a:lnTo>
                      <a:pt x="814" y="769"/>
                    </a:lnTo>
                    <a:lnTo>
                      <a:pt x="882" y="635"/>
                    </a:lnTo>
                    <a:lnTo>
                      <a:pt x="937" y="506"/>
                    </a:lnTo>
                    <a:lnTo>
                      <a:pt x="985" y="387"/>
                    </a:lnTo>
                    <a:lnTo>
                      <a:pt x="1026" y="280"/>
                    </a:lnTo>
                    <a:lnTo>
                      <a:pt x="1060" y="172"/>
                    </a:lnTo>
                    <a:lnTo>
                      <a:pt x="1087" y="75"/>
                    </a:lnTo>
                    <a:lnTo>
                      <a:pt x="1094" y="32"/>
                    </a:lnTo>
                    <a:lnTo>
                      <a:pt x="1108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52920" y="212652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960" y="1014840"/>
                <a:ext cx="2510280" cy="69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Khi có ngoại ứng âm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MSC = MPC + ME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9868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576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120" y="6070320"/>
              <a:ext cx="39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6440" y="6150960"/>
              <a:ext cx="1467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D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0880" y="6070320"/>
              <a:ext cx="237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ngà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27680" y="1738440"/>
              <a:ext cx="64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Times"/>
                </a:rPr>
                <a:t>Gia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7200" y="6070320"/>
              <a:ext cx="396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760" y="914400"/>
              <a:ext cx="835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760" y="6426360"/>
              <a:ext cx="835812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5680" y="6593760"/>
              <a:ext cx="835668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600120" y="987840"/>
              <a:ext cx="7738920" cy="5082120"/>
              <a:chOff x="600120" y="987840"/>
              <a:chExt cx="7738920" cy="508212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600120" y="5429880"/>
                <a:ext cx="2817720" cy="640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640" y="510876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867200" y="4787640"/>
                <a:ext cx="2741760" cy="12819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3280" y="454716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21080" y="9878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11280" y="4507200"/>
              <a:ext cx="0" cy="158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5320" y="441216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8320" y="6045480"/>
              <a:ext cx="3963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3280" y="4079160"/>
              <a:ext cx="0" cy="2017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7320" y="393048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65760" y="4010760"/>
              <a:ext cx="1217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4680" y="3771720"/>
              <a:ext cx="4222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6280" y="6058800"/>
              <a:ext cx="448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1880" y="2138040"/>
              <a:ext cx="1523880" cy="135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 ctranh của ngànhlà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rongkhi Q Hq là Q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9880" y="1014840"/>
              <a:ext cx="3572640" cy="87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Hãng </a:t>
              </a: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  <a:ea typeface="Times New Roman"/>
                </a:rPr>
                <a:t>MAX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sản xuất tại q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rong khi mức Q Hq là q</a:t>
              </a:r>
              <a:r>
                <a:rPr b="1" lang="en-US" sz="2400" spc="-1" strike="noStrike" baseline="30000">
                  <a:solidFill>
                    <a:srgbClr val="80808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V="1">
            <a:off x="2438280" y="-302040"/>
            <a:ext cx="4571640" cy="487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7" y="12"/>
                </a:moveTo>
                <a:arcTo wR="10800" hR="10800" stAng="-5238486" swAng="4260484"/>
                <a:lnTo>
                  <a:pt x="10800" y="10800"/>
                </a:lnTo>
                <a:close/>
              </a:path>
              <a:path fill="none" w="21600" h="21600">
                <a:moveTo>
                  <a:pt x="11307" y="12"/>
                </a:moveTo>
                <a:arcTo wR="10800" hR="10800" stAng="-5238486" swAng="42604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724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ÍNH KHÔNG HIỆU QUẢ CỦA 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ệc định giá sản phẩm không chính xá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sản phẩm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hản ánh chi phí tư nhân cận biên của hãng chứ không phải chi phí xã hội cận biê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47960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Đánh thuế vào từng đơn vị sản phẩ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=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PC = MSC,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 phí gây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ấp giấy phép xả chất thải, có thể mua, bán, chuyển nhượng đượ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KH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ý thức bảo vệ môi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hu công nghiệp xa khu dân c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ỹ thuật xử lý rác thả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ÁC ĐỘNG CỦA THUẾ</a:t>
            </a: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ánh vào ý thức BV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ùng tiền thuế để khắc phục hậu quả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giá và giảm sản lượng xuống đến mứ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m nhưng không xóa bỏ hoàn toàn ô nhiễm do sản lượng gây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hiệu quả cho xã hội với gỉa định rằng mức thuế được định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công bằng cho những người sống gần khu bị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 điểm của các nhà KT tan cổ đi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ế kỷ 17: Ađamsmith, Ric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P chỉ giữ vtrò min trong hđộng của nền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trung tâm trg việc pbổ nguồ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ơ chế thị trường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chủ đạo + tư nhân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n tay vô hình” + bài xích sự can thiệ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971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ưa phổ bi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òi hỏi nhiều thông tin để định đúng mức thu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một vấn đề còn“mớ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ôi khi gây ra gánh nặng không cân xứng lên các hộ thu nhập thấ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54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HỮNG VẤN ĐỀ CỦA THUẾ Ô NHIỄ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thuế ô nhiễm hay như vậy, tại sao chúng ta không sử dụng chú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ỮNG BIỆN PHÁP KHÁ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 về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ững cách giảm mức thải xuống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ịnh giới hạn hợp pháp về mức thải tại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ế tài bằng tiền phạt và hình s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chi phí sản xuất và giá nhập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 lệ phí ô nhiễ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hí đánh vào mỗi đơn vị t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GOẠI ỨNG TÍCH CỰC( N.Ư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5486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Ư dương là 1N.Ư mà hành vi của tviên bên này đem lại lợi ích cho hvi của tv bên kia mà không được ph.ánh 1 cách trực tiếp thông qua Pcả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à sự chênh lệch về L.I giữa L.I cá nhân và L.I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495680"/>
            <a:ext cx="2286000" cy="76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20040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4876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3124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28195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257440" y="-685800"/>
            <a:ext cx="533304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981440" y="-77040"/>
            <a:ext cx="5485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028480" y="3429000"/>
            <a:ext cx="6553080" cy="27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94" y="46"/>
                </a:moveTo>
                <a:arcTo wR="10800" hR="10800" stAng="-5083062" swAng="5083062"/>
                <a:lnTo>
                  <a:pt x="10800" y="10800"/>
                </a:lnTo>
                <a:close/>
              </a:path>
              <a:path fill="none" w="21600" h="21600">
                <a:moveTo>
                  <a:pt x="11794" y="46"/>
                </a:moveTo>
                <a:arcTo wR="10800" hR="10800" stAng="-5083062" swAng="508306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248520" y="-1752840"/>
            <a:ext cx="335160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38680" y="-305280"/>
            <a:ext cx="457128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4191120"/>
            <a:ext cx="380880" cy="761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48" y="480"/>
                </a:moveTo>
                <a:lnTo>
                  <a:pt x="96" y="384"/>
                </a:lnTo>
                <a:lnTo>
                  <a:pt x="240" y="240"/>
                </a:lnTo>
                <a:lnTo>
                  <a:pt x="144" y="144"/>
                </a:lnTo>
                <a:lnTo>
                  <a:pt x="0" y="0"/>
                </a:lnTo>
                <a:lnTo>
                  <a:pt x="0" y="240"/>
                </a:lnTo>
                <a:lnTo>
                  <a:pt x="48" y="48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4290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720"/>
                </a:moveTo>
                <a:lnTo>
                  <a:pt x="192" y="576"/>
                </a:lnTo>
                <a:lnTo>
                  <a:pt x="144" y="432"/>
                </a:lnTo>
                <a:lnTo>
                  <a:pt x="96" y="288"/>
                </a:lnTo>
                <a:lnTo>
                  <a:pt x="48" y="192"/>
                </a:lnTo>
                <a:lnTo>
                  <a:pt x="48" y="96"/>
                </a:lnTo>
                <a:lnTo>
                  <a:pt x="0" y="0"/>
                </a:lnTo>
                <a:lnTo>
                  <a:pt x="0" y="96"/>
                </a:lnTo>
                <a:lnTo>
                  <a:pt x="0" y="192"/>
                </a:lnTo>
                <a:lnTo>
                  <a:pt x="0" y="336"/>
                </a:lnTo>
                <a:lnTo>
                  <a:pt x="0" y="528"/>
                </a:lnTo>
                <a:lnTo>
                  <a:pt x="96" y="576"/>
                </a:lnTo>
                <a:lnTo>
                  <a:pt x="192" y="624"/>
                </a:lnTo>
                <a:lnTo>
                  <a:pt x="288" y="7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53080" y="3276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62485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403280"/>
            <a:ext cx="7848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lợi ích của XH ít hơn 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í dụ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: mức sản lượng tối ưu của xã hộ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mức Q tối ư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mức sản lượng bị </a:t>
            </a:r>
            <a:r>
              <a:rPr b="0" lang="en-US" sz="40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ất 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gt; Phần mất không của XH 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Í DỤ 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191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67400" y="1252440"/>
            <a:ext cx="6837480" cy="4951800"/>
            <a:chOff x="-167400" y="1252440"/>
            <a:chExt cx="6837480" cy="4951800"/>
          </a:xfrm>
        </p:grpSpPr>
        <p:grpSp>
          <p:nvGrpSpPr>
            <p:cNvPr id="285" name=""/>
            <p:cNvGrpSpPr/>
            <p:nvPr/>
          </p:nvGrpSpPr>
          <p:grpSpPr>
            <a:xfrm>
              <a:off x="-167400" y="1404720"/>
              <a:ext cx="6837480" cy="4799520"/>
              <a:chOff x="-167400" y="1404720"/>
              <a:chExt cx="6837480" cy="47995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43280" y="3362040"/>
                <a:ext cx="5042880" cy="439560"/>
                <a:chOff x="143280" y="3362040"/>
                <a:chExt cx="5042880" cy="439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34960" y="3665160"/>
                  <a:ext cx="4113000" cy="0"/>
                </a:xfrm>
                <a:prstGeom prst="line">
                  <a:avLst/>
                </a:prstGeom>
                <a:ln w="507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49760" y="3438360"/>
                  <a:ext cx="5364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3280" y="3362040"/>
                  <a:ext cx="4068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33160" y="1564920"/>
                <a:ext cx="0" cy="429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17000" y="5719320"/>
                <a:ext cx="2053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Möùc söûa nha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-167400" y="1429920"/>
                <a:ext cx="76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Gia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0280" y="2444400"/>
                <a:ext cx="3663720" cy="3129120"/>
                <a:chOff x="530280" y="2444400"/>
                <a:chExt cx="3663720" cy="31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0280" y="2444400"/>
                  <a:ext cx="3663720" cy="3129120"/>
                </a:xfrm>
                <a:custGeom>
                  <a:avLst/>
                  <a:gdLst/>
                  <a:ahLst/>
                  <a:rect l="l" t="t" r="r" b="b"/>
                  <a:pathLst>
                    <a:path w="2308" h="1971">
                      <a:moveTo>
                        <a:pt x="0" y="0"/>
                      </a:moveTo>
                      <a:lnTo>
                        <a:pt x="41" y="51"/>
                      </a:lnTo>
                      <a:lnTo>
                        <a:pt x="95" y="126"/>
                      </a:lnTo>
                      <a:lnTo>
                        <a:pt x="154" y="207"/>
                      </a:lnTo>
                      <a:lnTo>
                        <a:pt x="225" y="299"/>
                      </a:lnTo>
                      <a:lnTo>
                        <a:pt x="373" y="495"/>
                      </a:lnTo>
                      <a:lnTo>
                        <a:pt x="450" y="593"/>
                      </a:lnTo>
                      <a:lnTo>
                        <a:pt x="521" y="679"/>
                      </a:lnTo>
                      <a:lnTo>
                        <a:pt x="668" y="846"/>
                      </a:lnTo>
                      <a:lnTo>
                        <a:pt x="828" y="1008"/>
                      </a:lnTo>
                      <a:lnTo>
                        <a:pt x="988" y="1158"/>
                      </a:lnTo>
                      <a:lnTo>
                        <a:pt x="1142" y="1302"/>
                      </a:lnTo>
                      <a:lnTo>
                        <a:pt x="1296" y="1428"/>
                      </a:lnTo>
                      <a:lnTo>
                        <a:pt x="1449" y="1549"/>
                      </a:lnTo>
                      <a:lnTo>
                        <a:pt x="1597" y="1653"/>
                      </a:lnTo>
                      <a:lnTo>
                        <a:pt x="1745" y="1745"/>
                      </a:lnTo>
                      <a:lnTo>
                        <a:pt x="1899" y="1820"/>
                      </a:lnTo>
                      <a:lnTo>
                        <a:pt x="2053" y="1884"/>
                      </a:lnTo>
                      <a:lnTo>
                        <a:pt x="2130" y="1907"/>
                      </a:lnTo>
                      <a:lnTo>
                        <a:pt x="2195" y="1930"/>
                      </a:lnTo>
                      <a:lnTo>
                        <a:pt x="2260" y="1953"/>
                      </a:lnTo>
                      <a:lnTo>
                        <a:pt x="2307" y="1970"/>
                      </a:lnTo>
                    </a:path>
                  </a:pathLst>
                </a:custGeom>
                <a:noFill/>
                <a:ln cap="rnd" w="507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2480" y="2828520"/>
                  <a:ext cx="3459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867280" y="42494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9000" y="5868720"/>
                <a:ext cx="43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150560" y="3589200"/>
                <a:ext cx="373320" cy="2615040"/>
                <a:chOff x="1150560" y="3589200"/>
                <a:chExt cx="373320" cy="2615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47560" y="3666960"/>
                  <a:ext cx="0" cy="220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1600" y="3589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50560" y="5838480"/>
                  <a:ext cx="3704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588960" y="1628640"/>
                <a:ext cx="3663720" cy="3816360"/>
              </a:xfrm>
              <a:custGeom>
                <a:avLst/>
                <a:gdLst/>
                <a:ahLst/>
                <a:rect l="l" t="t" r="r" b="b"/>
                <a:pathLst>
                  <a:path w="2308" h="2404">
                    <a:moveTo>
                      <a:pt x="0" y="0"/>
                    </a:moveTo>
                    <a:lnTo>
                      <a:pt x="18" y="29"/>
                    </a:lnTo>
                    <a:lnTo>
                      <a:pt x="41" y="64"/>
                    </a:lnTo>
                    <a:lnTo>
                      <a:pt x="95" y="150"/>
                    </a:lnTo>
                    <a:lnTo>
                      <a:pt x="154" y="254"/>
                    </a:lnTo>
                    <a:lnTo>
                      <a:pt x="225" y="369"/>
                    </a:lnTo>
                    <a:lnTo>
                      <a:pt x="296" y="490"/>
                    </a:lnTo>
                    <a:lnTo>
                      <a:pt x="373" y="611"/>
                    </a:lnTo>
                    <a:lnTo>
                      <a:pt x="450" y="726"/>
                    </a:lnTo>
                    <a:lnTo>
                      <a:pt x="521" y="830"/>
                    </a:lnTo>
                    <a:lnTo>
                      <a:pt x="668" y="1032"/>
                    </a:lnTo>
                    <a:lnTo>
                      <a:pt x="828" y="1228"/>
                    </a:lnTo>
                    <a:lnTo>
                      <a:pt x="988" y="1418"/>
                    </a:lnTo>
                    <a:lnTo>
                      <a:pt x="1142" y="1591"/>
                    </a:lnTo>
                    <a:lnTo>
                      <a:pt x="1296" y="1746"/>
                    </a:lnTo>
                    <a:lnTo>
                      <a:pt x="1449" y="1890"/>
                    </a:lnTo>
                    <a:lnTo>
                      <a:pt x="1597" y="2017"/>
                    </a:lnTo>
                    <a:lnTo>
                      <a:pt x="1745" y="2132"/>
                    </a:lnTo>
                    <a:lnTo>
                      <a:pt x="1899" y="2224"/>
                    </a:lnTo>
                    <a:lnTo>
                      <a:pt x="2053" y="2294"/>
                    </a:lnTo>
                    <a:lnTo>
                      <a:pt x="2130" y="2328"/>
                    </a:lnTo>
                    <a:lnTo>
                      <a:pt x="2195" y="2357"/>
                    </a:lnTo>
                    <a:lnTo>
                      <a:pt x="2260" y="2380"/>
                    </a:lnTo>
                    <a:lnTo>
                      <a:pt x="2307" y="240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9960" y="140472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640" y="4833720"/>
                <a:ext cx="3351240" cy="912600"/>
              </a:xfrm>
              <a:prstGeom prst="line">
                <a:avLst/>
              </a:prstGeom>
              <a:ln w="507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640" y="445248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590920" y="1252440"/>
              <a:ext cx="320040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có n.ư +(lợi ích của việc sửa nhà đối với hàng xóm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SB &gt;lợi ích biên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3320" y="365904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7360" y="35812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5830560"/>
              <a:ext cx="38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396216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09120" y="4038480"/>
              <a:ext cx="1217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280" y="38113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715000" y="3048120"/>
            <a:ext cx="350532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ột chủ nhà đầu tư  vào sửa nhà do U riêng của mình.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Möùc Hq cuûa vieäc söûa nhaø q* laïi lôùn hôn. MEB dốc xuống vì lượng sửa chữa nh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em lại M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ớn, còn lượng schữa lớn mang lại MUnh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H KHÔNG HIỆU QUẢ CỦA NGOẠI ỨNG D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ủ ngôi nhà không thu được tất cả lợi ích của việc đầu tư vào sửa chữa và trang trí nhà của mìn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á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à quá cao không khuyến khích họ đầu tư đến mức xã hội mong muố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ọ cần mức giá thấp hơn là P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755720"/>
            <a:ext cx="82296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H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toàn bộ ( ví dụ: chương trình tiêm chủng mở rộ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*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cho các cá nhân thực hiện hoạt động: tr = M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SB = MP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04920"/>
            <a:ext cx="73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ÀNG HÓA CÔNG C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ặc điểm hàng hóa công cộng thuần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cạnh tranh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ới một mức sản lượng đã cho, chi phí cận biên của việc tăng thêm người tiêu dùng bằng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loại trừ</a:t>
            </a:r>
            <a:r>
              <a:rPr b="0" i="1" lang="en-US" sz="28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ông thể ngăn người khác SD hàng hóa công cộ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ông phải mọi hàng hóa do chính phủ cung cấp đều là hàng hóa công c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cạnh tranh và không loại trừ: giáo dục, công v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không cạnh tranh và loại trừ: kênh truyền h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1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NG CẤP HIỆU QUẢ HÀNG HÓA CÔNG C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1523880"/>
            <a:ext cx="8398080" cy="5334120"/>
            <a:chOff x="990720" y="1523880"/>
            <a:chExt cx="8398080" cy="5334120"/>
          </a:xfrm>
        </p:grpSpPr>
        <p:sp>
          <p:nvSpPr>
            <p:cNvPr id="326" name=""/>
            <p:cNvSpPr/>
            <p:nvPr/>
          </p:nvSpPr>
          <p:spPr>
            <a:xfrm>
              <a:off x="2438280" y="4221000"/>
              <a:ext cx="175104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3078000"/>
              <a:ext cx="159876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78240" y="1782720"/>
              <a:ext cx="1558800" cy="335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8480" y="5135400"/>
              <a:ext cx="912960" cy="11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4400" y="5744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0520" y="3458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92320" y="4525920"/>
              <a:ext cx="32760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81080" y="1523880"/>
              <a:ext cx="6507720" cy="11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hàng hóa là không cạnh tranh, MSBcủa việ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D(D) được xác định bằng việc cộng theo chiề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ẳngđứng các đường cầu cá nhân đối với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63943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1677960"/>
              <a:ext cx="0" cy="447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54120" y="6165720"/>
              <a:ext cx="493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81880" y="6040440"/>
              <a:ext cx="1175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ản lượ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86560" y="153972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ợi ích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431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80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114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46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156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46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98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3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2720" y="6134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82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0200" y="373356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29718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00200" y="22860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40080" y="3200400"/>
              <a:ext cx="4189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8800" y="2938320"/>
              <a:ext cx="152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i phí biê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4080" y="49528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4800600"/>
              <a:ext cx="689040" cy="33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31240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2408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00400" y="3201480"/>
              <a:ext cx="0" cy="297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0080" y="396216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0080" y="502920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2000" y="3886200"/>
              <a:ext cx="5070600" cy="1186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Hq xảy ra t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 = MB với Q = 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B  = $1,5 + $4,0 = $5,5</a:t>
              </a:r>
              <a:r>
                <a:rPr b="1" lang="en-US" sz="2400" spc="-1" strike="noStrike">
                  <a:solidFill>
                    <a:srgbClr val="000000"/>
                  </a:solidFill>
                  <a:latin typeface="VNI-Times"/>
                </a:rPr>
                <a:t>ø</a:t>
              </a:r>
              <a:r>
                <a:rPr b="1" lang="en-US" sz="1800" spc="-1" strike="noStrike">
                  <a:solidFill>
                    <a:srgbClr val="000000"/>
                  </a:solidFill>
                  <a:latin typeface="VNI-Time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ẤN ĐỀ ĂN THE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gười tiêu dùng hay người sản xuất không trả tiền cho tiêu dùng hàng hóa công c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: chương trình tiêm chủng mở rộng trong cộng đ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ương trình này mang lại lợi cho tất cả mọi trẻ em trong độ tuổi tiêm chủ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bà mẹ không có động cơ trả đúng giá trị mà chương trình này đem lại cho con h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ọ hành động như những kẻ ăn theo – đánh giá thấp giá trị của chương trình để được hưởng lợi mà không phải trả t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của các nhà KT “can thie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o những năm 30: Ky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ền KT khủng hoảnh thừa: S&gt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hất nghiệp, lạm phát, suy thoá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ải pháp: - CP nên can thiệp mạnh mẽ vào nền KT thông qua các ngành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Dcác chsách để hỗ trợ cho các ngành đó nhưng phải tuân theo nglý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:mô hình Đông 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àn quốc: tr/c tài chính để ptr CN nặng(h chấ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hật: hỗ trợ ptr cty lớn để tận dụng lợi thế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phải cung cấp hàng hóa công cộng để bù lỗ cho những kẻ ăn không gây 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ẢM BẢO PHÂN PHỐI THU NHẬP CÔNG BẰNG=&gt; giảm sự bất cô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thuế ng giàu, miễn thuế ng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yển giao thu nh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 nhập thừa kế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w.L + r.K + i.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ạo công ăn vlàm + chi tiêu cho người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ợ cấp cho người nghè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chỉnh P thông qua mức lương tối thiể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vào con ngườ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ỘC QUYỀN TỰ NHIÊ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: là DN có được tính KT theo quy m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ặc điểm: - có một hãng duy nhấ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đường cầu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doanh thu cận biên cũng dốc xuống và có độ dốc gấp đôi độ dốc của đường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àng rào ngăn cản gia nhập rất c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ATC luôn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MC cũng luôn dốc xuống và nằm dưới A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22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781680" y="3047400"/>
            <a:ext cx="33523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6553080" y="3809160"/>
            <a:ext cx="39621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44197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ĐS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*) =(MR) X(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*(P – 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ần mất không do độc quyền tự nhiên là AEF: D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nh phủ can t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ưa ra luật chốngĐ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án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5998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723920" y="-991080"/>
            <a:ext cx="65527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95680" y="2514240"/>
            <a:ext cx="6857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1828800"/>
            <a:ext cx="441972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1828800"/>
            <a:ext cx="243828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7242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943600" y="32763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32767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4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66720" y="49528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343040" y="3886200"/>
            <a:ext cx="160020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1911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       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60199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3048120"/>
            <a:ext cx="7617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438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352680"/>
            <a:ext cx="0" cy="5335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95288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952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gi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MC 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ộc quyền bị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sự công bằ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TC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sản xuấ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ông có mức sản lượng nào mà giá có thể bù đắp ATC =&gt; 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SẢN LƯỢ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đàm phán với nhà độc quyền để xác định một mức sản lượng tối thiểu.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được xác định dựa vào đường cầu của thị trường.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WL giảm, chỉ là diện tích A’F’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ƯU 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ự cthiệp của CP là vô cùng qtr đvới sự ptr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hưng k đồng nhất với vtrò tuyệt đối của Cpkhi Gq 3vđề KT CB trg cơ chế KHH tập t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ơ chế mệnh lệnh=CP+ hệ thống chỉt plệ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sx: sx cái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TD: TD cái gì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như cơ chế đàn o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thân thiện vớ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y là qđiểm dung hòa 2 qđiểm tr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: CP nên chủ động trong những khu vực mà tt hđộng k có h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 ít can thiệp vào nơi mà tt đang h động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hỗn hợp= tt +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Qlý định hướng + “bàn tay vô hình”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1 môi trường KT vĩ mô ổn định( hạn chế lạm phát, duy trì tỷ giá hối đoá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cho đào tạo nguồn nhâ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ự do hóa thương mại, không phân biệt giữa thị trường nội địa và tt nước ngo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Các ytố sx có ĐK di chuyển tự do v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tại các khu vực có lợi thế so sá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chức năng KT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năng KTvĩ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à chức năng điều tiết của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năng KTvĩ m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hóa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ạn chế sự dao động của chu kỳ KD nh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+ giảm thất nghiệp mãn t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ngưng trệ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tăng P trong ngắn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Điều chỉnh cơ cấu 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D các chính sách đảm bảo cho sự tăng trưởng và ptr KT bền vững trong dài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8:42:17Z</dcterms:created>
  <dc:creator>Mem nhun</dc:creator>
  <dc:description/>
  <dc:language>en-US</dc:language>
  <cp:lastModifiedBy>Retestrak</cp:lastModifiedBy>
  <dcterms:modified xsi:type="dcterms:W3CDTF">2008-09-29T03:32:17Z</dcterms:modified>
  <cp:revision>84</cp:revision>
  <dc:subject/>
  <dc:title>Slide 1</dc:title>
</cp:coreProperties>
</file>