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8A1C7-E2C2-46D2-8A13-131FDFC3D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E4E5C-CB36-4E99-BAA5-3285925B7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AE168-C516-4BC1-B4CF-3CD85C956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22ABE-E8A4-486E-B3DE-EE45763383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793E3-CEBB-4EBD-8AD4-914A317986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A98BA-56EE-4D1B-A53C-4E798D1944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0E84E-5C41-4189-8908-12F88C5DE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FD7D-2ACA-40D2-8639-08981121A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111D-1F3D-4AAD-B218-06413161B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7782-1F17-46D3-B751-9B2D76F78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F4B7-592E-4DBD-A6FD-0A27C3949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C7BF-0FF0-4C6C-AA69-AE8A734B0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2656-3A08-499A-8B94-D09410BA8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1F22-D5D6-45BA-B283-6A0868109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87EA-8057-4827-BC5F-E9DF2E412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AC6F-F705-4414-951D-A6C5AC66D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89F5-A6BC-435F-B979-9C365C900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9C31-B509-417C-8B21-B4C1A593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0203-84B5-47FF-920A-22FE455C9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D9E3D-65F6-4B27-B1FF-10C8421DD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AI TRÒ CỦA CHÍNH PHỦ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ong nền KT thị trườ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19051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Fixed Miriam Transpare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hững lý luận khác nhau về vai trò của Chính ph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Fixed Miriam Transpare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guyên nhân dẫn đến các thất bại của thị trườ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Fixed Miriam Transpare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ự can thiệp của chính ph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1532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hnăng KTvi m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p: - CP tác động đến việc phân bổ và SD các nguồn lực để cải thiện hq KT =&gt; hq Pare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đảm bảo sự cạnh tranh công bằng trê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 tt 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 tt yếu t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tối thiểu hóa sự bóp méo KT(do th bại tt gây r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tự do hóa giá cả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hức năng điều tiết của C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ạo lập môi trường KD về KT và pháp l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ông cụ điều tiế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 của 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 sách tiền t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 sách tài khó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 hệ thống ngân hàng Trung ươ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 sách thu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ơ cấu lại nền 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ưu ý: đvới các nước đang ptr: chnăng là qtr nhất vì nó lq đến việc XD các thể chế KT 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ẤT BẠI CỦA THỊ TRƯỜNG VÀ VAI TRÒ CỦA CHÍNH PH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2880" y="1523520"/>
            <a:ext cx="4191120" cy="53341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Fixed Miriam Transpare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ị trường và phân bổ nguồn lực hiệu qu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Fixed Miriam Transpare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ất bại thị trườ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Fixed Miriam Transpare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guyên nhân dẫn đến các thất bại của thị trườ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Fixed Miriam Transpare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ự can thiệp của chính ph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6320" y="1936800"/>
            <a:ext cx="4267080" cy="38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.VnTime"/>
              </a:rPr>
              <a:t>Môc tiªu cña mäi nÒn SX-X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839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.VnTime"/>
              </a:rPr>
              <a:t>-  Lµ ph©n bæ cã Hq c¸c nguån lùc SX-XH cña toµn bé nÒn KTQ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.VnTime"/>
              </a:rPr>
              <a:t>XÐt trªn ph¹m vi toµn bé nÒn KTQD th× ph©n bæ cã Hq c¸c nguån lùc SX-XH nghÜa l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+ XH cÇn lo¹i SP nµo? sl lµ bao nhiªu? (cÇu) th× XH ph©n bæ c¸c nguån lùc ®Ó SX ®óng lo¹i SP ®ã víi sè l­îng XH cÇn thiÕt (cu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+ nãi c¸ch kh¸c: ®¶m b¶o c©n b»ng cung-cÇu ë mäi thÞ tr­êng H2 (tr¶ lêi ®óng 3 c©u hái SX c¸i g×? nh­ thÕ nµo? cho ai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Kl: ph©n bæ nguån lùc cã Hq lµ yªu cÇu sèng 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ò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n cña mäi nÒn 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chuÈn mùc chung ®Ó ®¸nh gi¸ lµ Hq Par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Ị TRƯỜNG VÀ PHÂN BỔ NGUỒN LỰC HIỆU QU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219320" y="2133720"/>
            <a:ext cx="0" cy="30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219320" y="518148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00360" y="1717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20240" y="5222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447920" y="2819520"/>
            <a:ext cx="190476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523880" y="2895120"/>
            <a:ext cx="160020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39360" y="415620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=MS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10400" y="263196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=M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1218960" y="3657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362320" y="36576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00200" y="34704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127600" y="522288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1676520"/>
            <a:ext cx="4343400" cy="435924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ị trường phân bổ nguồn lực hiệu quả tại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SB=MS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uẩn mực đánh gi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C việc sx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MB t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ị trường cạnh tranh hoàn hảo là phân bổ nguồn lực hiệu qu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378160" y="36925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87680" y="3387600"/>
            <a:ext cx="45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ỆU QUẢ PARE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3733920" cy="4572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ả sử 1 nền KT chỉ SX 2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ì những kết hợp sản lượng theo mong muốn sẽ nằm trên đường PPF và khi đó việc phân bổ nguồn lực đạt Hq (hoặc đạt được Hq Par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617220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495680" y="228564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67040" y="2819520"/>
            <a:ext cx="6857280" cy="670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495680" y="34290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400800" y="34290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495680" y="44956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91520" y="44956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48320" y="2209680"/>
            <a:ext cx="533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324480" y="2743200"/>
            <a:ext cx="3812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0120" y="4191120"/>
            <a:ext cx="4572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153280" y="556272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934320" y="1600200"/>
            <a:ext cx="190476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hững điể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đạt Hq Pr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6477120" y="2742840"/>
            <a:ext cx="990360" cy="6094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7467480" y="2742840"/>
            <a:ext cx="304920" cy="16765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8001000" y="2895480"/>
            <a:ext cx="152280" cy="32004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648320" y="2209680"/>
            <a:ext cx="2133360" cy="5335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038480" y="1981080"/>
            <a:ext cx="3812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458200" y="6324480"/>
            <a:ext cx="3808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ẤT BẠI CỦA THỊ TRƯỜ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3505320"/>
            <a:ext cx="2819520" cy="9144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Điểm thất bại thị trườ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495680" y="617220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4495680" y="228564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67040" y="2819520"/>
            <a:ext cx="6857280" cy="670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495680" y="4952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48769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48320" y="2209680"/>
            <a:ext cx="533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553080" y="4800600"/>
            <a:ext cx="3812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53280" y="556272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3504960" y="4190760"/>
            <a:ext cx="2819160" cy="685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038480" y="1981080"/>
            <a:ext cx="3812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458200" y="6324480"/>
            <a:ext cx="3808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248520" y="4876920"/>
            <a:ext cx="152280" cy="152280"/>
          </a:xfrm>
          <a:prstGeom prst="flowChartConnector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1532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ẤT BẠI CỦA THỊ TRƯỜ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à sự không hoàn hảo của cơ chế 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là thuật ngữ dùng để chỉ 1 nền KT mà việc phân bổ nguồn lực không đạt Hq, hoặc sản xuất quá nhiều hoặc quá ít một loại hàng hóa nào đ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hi đó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C việc sx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≠ MB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êu dù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ú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NÒn KT t2 kh«ng ph¶i lóc nµo còng lµ lý t­ëng, lµ hoµn h¶o mµ còng cã nh÷ng mÆt tr¸i(trôc trÆc, khiÕm khuyÕt, khuyÕt tËt, thÊt b¹i,...) </a:t>
            </a: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®ßi hái ph¶i cã sù can thiÖp cña CP ®Ó h­íng dÉn “bµn tay v« h×nh „ cña t2 ho¹t ®éng cã Hq. Khi “bµn tay v« h×nh „ cña thÞ tr­êng ®em l¹i kÕt hîp SL kh«ng mong muè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        </a:t>
            </a: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=&gt; thÞ tr­êng ®· trôc trÆ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GUYÊN NHÂN DẪN ĐẾN CÁC THẤT BẠI CỦA THỊ TRƯỜ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874880"/>
            <a:ext cx="8686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ức mạnh thị trườ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ông tin không hoàn h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goại ứ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ng cấp hàng hóa công cộ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ân phối thu nhập không công bằng</a:t>
            </a: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379160" y="627120"/>
            <a:ext cx="641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ỨC MẠNH THỊ TRƯỜ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70320" y="2751120"/>
            <a:ext cx="320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H"/>
              </a:rPr>
              <a:t>*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ía c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H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.VnTimeH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ản lượng thấ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H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.VnTimeH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ây ra phần mất khô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W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143720" y="1024920"/>
            <a:ext cx="5775840" cy="4524840"/>
            <a:chOff x="1143720" y="1024920"/>
            <a:chExt cx="5775840" cy="4524840"/>
          </a:xfrm>
        </p:grpSpPr>
        <p:sp>
          <p:nvSpPr>
            <p:cNvPr id="132" name=""/>
            <p:cNvSpPr/>
            <p:nvPr/>
          </p:nvSpPr>
          <p:spPr>
            <a:xfrm>
              <a:off x="2209680" y="2244600"/>
              <a:ext cx="0" cy="259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09680" y="4835520"/>
              <a:ext cx="320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743200" y="2778120"/>
              <a:ext cx="1295280" cy="167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743200" y="2549520"/>
              <a:ext cx="259092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11440" y="45720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H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31240" y="198108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H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143720" y="1024200"/>
              <a:ext cx="3351600" cy="274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35720" y="2057400"/>
              <a:ext cx="228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H"/>
                </a:rPr>
                <a:t>MC=MSC=MP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429000" y="3082680"/>
              <a:ext cx="0" cy="17528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2209320" y="30067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184560" y="4724280"/>
              <a:ext cx="506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H"/>
                </a:rPr>
                <a:t>Q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.VnTimeH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57080" y="2743200"/>
              <a:ext cx="46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H"/>
                </a:rPr>
                <a:t>P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.VnTimeH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38480" y="338760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2209680" y="331128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864240" y="4800600"/>
              <a:ext cx="51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H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.VnTimeH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655640" y="3047760"/>
              <a:ext cx="465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H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.VnTimeH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575520" y="3581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H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3428640" y="3082680"/>
              <a:ext cx="1522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3428640" y="315900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3580920" y="32353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3505320" y="5064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1523880" y="29300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021200" y="4267080"/>
              <a:ext cx="147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H"/>
                </a:rPr>
                <a:t>MR=MP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90760" y="3657600"/>
              <a:ext cx="121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H"/>
                </a:rPr>
                <a:t>D=MS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68160" y="2473200"/>
              <a:ext cx="84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H"/>
                </a:rPr>
                <a:t>DW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3581280" y="2853720"/>
              <a:ext cx="1526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2209320" y="36925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460880" y="3512880"/>
              <a:ext cx="654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.VnTimeH"/>
                </a:rPr>
                <a:t>MC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.VnTimeH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hững lý luận khác  nhau về vai trò của CP trong nền KT thị trườ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Fixed Miriam Transpare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ầm quan trọng của Chính phủ trong nền KT thị trườ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Fixed Miriam Transpare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ác quan điểm khác nhau về vai trò của 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Quan điểm của các nhà KT cổ điể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Quan điểm của các nhà KT “tân cổ điể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Quan điểm thân thiện với thị trườ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Fixed Miriam Transpare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ác chức năng KT của CP: Chnăng KTvĩ mô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 mô, v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ức năng điều tiết của 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ÔNG TIN KHÔNG HOÀN H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C việc sx h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≠ MU td chú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+ người s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+ người t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+ người sx + người t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D THÔNG TIN KHÔNG HOÀN H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ình huống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ôi động thị trường ôtô c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iá không phát tín hiệu chính xác nên mức sản lượng là không hiệu qu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57200" y="2200320"/>
            <a:ext cx="40384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153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GOẠI Ứ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Khái niệ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à những ảnh hưởng  của hoạt động trong sản xuất hoặc tiêu dù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hông được phản ánh trực tiếp trong giá t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à sự chênh lệch về chi phí của cá nhân và XH Là sự chênh lệch về lợi ích của cá nhân và X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Phân loạ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Ảnh hưởng tích cực - Ngoại ứng dương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Ảnh hưởng tiêu cực - Ngoại ứng âm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GOẠI ỨNG Â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106668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hái niệm: Ngoại ứng tiêu cực là 1 N.Ư mà hành vi của thành viên bên này đem lại thiệt hại về chi phí cho thành viên bên kia mà không được phản ánh 1 cách trực tiếp thông qua giá cả t2, là sự chênh lệch về chi phí giữa chi phí cá nhân và chi phí X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SC = MPC + ME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MPC: Chi phí cá nhân cận biê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MEC: Chi phí ngoại ứng cận biê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MSC: Chi phí xã hội cận biê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571500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Í DỤ VỀ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GOẠI ỨNG Â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ình huố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hà máy thép xả chất thải vào dòng sô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àn bộ thị trường thép có thể giảm sự ô nhiễm bằng cách hạ thấp sản lượng ( hàm sản xuất với tỷ lệ cố định các đầu và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 phí cận biên của ngoại ứng (MEC) là chi phí mà các ngư dân ở hạ lưu phải gánh chịu đối với mỗi mức sản lượng sản xuấ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 phí cá nhân cận biên( MP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 phí xã hội cận biên MSC = MPC + M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6197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HI PH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160" y="1830240"/>
            <a:ext cx="644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NI-Times"/>
              </a:rPr>
              <a:t>Gia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48320" y="914400"/>
            <a:ext cx="8995680" cy="5691240"/>
            <a:chOff x="148320" y="914400"/>
            <a:chExt cx="8995680" cy="5691240"/>
          </a:xfrm>
        </p:grpSpPr>
        <p:grpSp>
          <p:nvGrpSpPr>
            <p:cNvPr id="179" name=""/>
            <p:cNvGrpSpPr/>
            <p:nvPr/>
          </p:nvGrpSpPr>
          <p:grpSpPr>
            <a:xfrm>
              <a:off x="598680" y="2183040"/>
              <a:ext cx="7620840" cy="3168000"/>
              <a:chOff x="598680" y="2183040"/>
              <a:chExt cx="7620840" cy="3168000"/>
            </a:xfrm>
          </p:grpSpPr>
          <p:sp>
            <p:nvSpPr>
              <p:cNvPr id="180" name=""/>
              <p:cNvSpPr/>
              <p:nvPr/>
            </p:nvSpPr>
            <p:spPr>
              <a:xfrm>
                <a:off x="598680" y="2621160"/>
                <a:ext cx="2593800" cy="2489040"/>
              </a:xfrm>
              <a:custGeom>
                <a:avLst/>
                <a:gdLst/>
                <a:ahLst/>
                <a:rect l="l" t="t" r="r" b="b"/>
                <a:pathLst>
                  <a:path w="1634" h="1489">
                    <a:moveTo>
                      <a:pt x="0" y="1488"/>
                    </a:moveTo>
                    <a:lnTo>
                      <a:pt x="34" y="1478"/>
                    </a:lnTo>
                    <a:lnTo>
                      <a:pt x="74" y="1467"/>
                    </a:lnTo>
                    <a:lnTo>
                      <a:pt x="125" y="1452"/>
                    </a:lnTo>
                    <a:lnTo>
                      <a:pt x="183" y="1442"/>
                    </a:lnTo>
                    <a:lnTo>
                      <a:pt x="243" y="1421"/>
                    </a:lnTo>
                    <a:lnTo>
                      <a:pt x="311" y="1390"/>
                    </a:lnTo>
                    <a:lnTo>
                      <a:pt x="382" y="1359"/>
                    </a:lnTo>
                    <a:lnTo>
                      <a:pt x="453" y="1313"/>
                    </a:lnTo>
                    <a:lnTo>
                      <a:pt x="531" y="1262"/>
                    </a:lnTo>
                    <a:lnTo>
                      <a:pt x="619" y="1195"/>
                    </a:lnTo>
                    <a:lnTo>
                      <a:pt x="713" y="1123"/>
                    </a:lnTo>
                    <a:lnTo>
                      <a:pt x="808" y="1040"/>
                    </a:lnTo>
                    <a:lnTo>
                      <a:pt x="906" y="958"/>
                    </a:lnTo>
                    <a:lnTo>
                      <a:pt x="1001" y="875"/>
                    </a:lnTo>
                    <a:lnTo>
                      <a:pt x="1089" y="788"/>
                    </a:lnTo>
                    <a:lnTo>
                      <a:pt x="1166" y="706"/>
                    </a:lnTo>
                    <a:lnTo>
                      <a:pt x="1237" y="618"/>
                    </a:lnTo>
                    <a:lnTo>
                      <a:pt x="1308" y="520"/>
                    </a:lnTo>
                    <a:lnTo>
                      <a:pt x="1376" y="423"/>
                    </a:lnTo>
                    <a:lnTo>
                      <a:pt x="1437" y="325"/>
                    </a:lnTo>
                    <a:lnTo>
                      <a:pt x="1494" y="227"/>
                    </a:lnTo>
                    <a:lnTo>
                      <a:pt x="1545" y="139"/>
                    </a:lnTo>
                    <a:lnTo>
                      <a:pt x="1592" y="62"/>
                    </a:lnTo>
                    <a:lnTo>
                      <a:pt x="1633" y="0"/>
                    </a:lnTo>
                  </a:path>
                </a:pathLst>
              </a:custGeom>
              <a:noFill/>
              <a:ln cap="rnd" w="507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862520" y="3318480"/>
                <a:ext cx="2527200" cy="2032560"/>
              </a:xfrm>
              <a:custGeom>
                <a:avLst/>
                <a:gdLst/>
                <a:ahLst/>
                <a:rect l="l" t="t" r="r" b="b"/>
                <a:pathLst>
                  <a:path w="1592" h="1216">
                    <a:moveTo>
                      <a:pt x="0" y="1215"/>
                    </a:moveTo>
                    <a:lnTo>
                      <a:pt x="31" y="1204"/>
                    </a:lnTo>
                    <a:lnTo>
                      <a:pt x="69" y="1193"/>
                    </a:lnTo>
                    <a:lnTo>
                      <a:pt x="114" y="1177"/>
                    </a:lnTo>
                    <a:lnTo>
                      <a:pt x="168" y="1161"/>
                    </a:lnTo>
                    <a:lnTo>
                      <a:pt x="289" y="1113"/>
                    </a:lnTo>
                    <a:lnTo>
                      <a:pt x="426" y="1054"/>
                    </a:lnTo>
                    <a:lnTo>
                      <a:pt x="495" y="1016"/>
                    </a:lnTo>
                    <a:lnTo>
                      <a:pt x="579" y="973"/>
                    </a:lnTo>
                    <a:lnTo>
                      <a:pt x="746" y="876"/>
                    </a:lnTo>
                    <a:lnTo>
                      <a:pt x="914" y="769"/>
                    </a:lnTo>
                    <a:lnTo>
                      <a:pt x="990" y="715"/>
                    </a:lnTo>
                    <a:lnTo>
                      <a:pt x="1058" y="666"/>
                    </a:lnTo>
                    <a:lnTo>
                      <a:pt x="1172" y="570"/>
                    </a:lnTo>
                    <a:lnTo>
                      <a:pt x="1264" y="468"/>
                    </a:lnTo>
                    <a:lnTo>
                      <a:pt x="1340" y="376"/>
                    </a:lnTo>
                    <a:lnTo>
                      <a:pt x="1408" y="285"/>
                    </a:lnTo>
                    <a:lnTo>
                      <a:pt x="1469" y="204"/>
                    </a:lnTo>
                    <a:lnTo>
                      <a:pt x="1522" y="123"/>
                    </a:lnTo>
                    <a:lnTo>
                      <a:pt x="1561" y="53"/>
                    </a:lnTo>
                    <a:lnTo>
                      <a:pt x="1576" y="27"/>
                    </a:lnTo>
                    <a:lnTo>
                      <a:pt x="1591" y="0"/>
                    </a:lnTo>
                  </a:path>
                </a:pathLst>
              </a:custGeom>
              <a:noFill/>
              <a:ln cap="rnd" w="507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946600" y="2183040"/>
                <a:ext cx="6890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P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079400" y="2862000"/>
                <a:ext cx="11401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 = MPC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148320" y="2373840"/>
              <a:ext cx="7908120" cy="3592800"/>
              <a:chOff x="148320" y="2373840"/>
              <a:chExt cx="7908120" cy="3592800"/>
            </a:xfrm>
          </p:grpSpPr>
          <p:sp>
            <p:nvSpPr>
              <p:cNvPr id="185" name=""/>
              <p:cNvSpPr/>
              <p:nvPr/>
            </p:nvSpPr>
            <p:spPr>
              <a:xfrm>
                <a:off x="600120" y="4465080"/>
                <a:ext cx="3351240" cy="0"/>
              </a:xfrm>
              <a:prstGeom prst="line">
                <a:avLst/>
              </a:prstGeom>
              <a:ln w="507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251680" y="2373840"/>
                <a:ext cx="2512800" cy="3218040"/>
              </a:xfrm>
              <a:custGeom>
                <a:avLst/>
                <a:gdLst/>
                <a:ahLst/>
                <a:rect l="l" t="t" r="r" b="b"/>
                <a:pathLst>
                  <a:path w="1583" h="1925">
                    <a:moveTo>
                      <a:pt x="0" y="0"/>
                    </a:moveTo>
                    <a:lnTo>
                      <a:pt x="112" y="208"/>
                    </a:lnTo>
                    <a:lnTo>
                      <a:pt x="216" y="410"/>
                    </a:lnTo>
                    <a:lnTo>
                      <a:pt x="328" y="601"/>
                    </a:lnTo>
                    <a:lnTo>
                      <a:pt x="384" y="685"/>
                    </a:lnTo>
                    <a:lnTo>
                      <a:pt x="432" y="769"/>
                    </a:lnTo>
                    <a:lnTo>
                      <a:pt x="480" y="847"/>
                    </a:lnTo>
                    <a:lnTo>
                      <a:pt x="527" y="920"/>
                    </a:lnTo>
                    <a:lnTo>
                      <a:pt x="615" y="1055"/>
                    </a:lnTo>
                    <a:lnTo>
                      <a:pt x="711" y="1178"/>
                    </a:lnTo>
                    <a:lnTo>
                      <a:pt x="815" y="1302"/>
                    </a:lnTo>
                    <a:lnTo>
                      <a:pt x="879" y="1369"/>
                    </a:lnTo>
                    <a:lnTo>
                      <a:pt x="943" y="1430"/>
                    </a:lnTo>
                    <a:lnTo>
                      <a:pt x="1087" y="1565"/>
                    </a:lnTo>
                    <a:lnTo>
                      <a:pt x="1159" y="1627"/>
                    </a:lnTo>
                    <a:lnTo>
                      <a:pt x="1230" y="1683"/>
                    </a:lnTo>
                    <a:lnTo>
                      <a:pt x="1286" y="1733"/>
                    </a:lnTo>
                    <a:lnTo>
                      <a:pt x="1342" y="1778"/>
                    </a:lnTo>
                    <a:lnTo>
                      <a:pt x="1390" y="1812"/>
                    </a:lnTo>
                    <a:lnTo>
                      <a:pt x="1422" y="1845"/>
                    </a:lnTo>
                    <a:lnTo>
                      <a:pt x="1462" y="1868"/>
                    </a:lnTo>
                    <a:lnTo>
                      <a:pt x="1486" y="1885"/>
                    </a:lnTo>
                    <a:lnTo>
                      <a:pt x="1542" y="1907"/>
                    </a:lnTo>
                    <a:lnTo>
                      <a:pt x="1582" y="1924"/>
                    </a:lnTo>
                  </a:path>
                </a:pathLst>
              </a:custGeom>
              <a:noFill/>
              <a:ln cap="rnd" w="507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710480" y="5603400"/>
                <a:ext cx="345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48320" y="4226040"/>
                <a:ext cx="40680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6085080" y="3261960"/>
              <a:ext cx="382320" cy="1285560"/>
            </a:xfrm>
            <a:custGeom>
              <a:avLst/>
              <a:gdLst/>
              <a:ahLst/>
              <a:rect l="l" t="t" r="r" b="b"/>
              <a:pathLst>
                <a:path w="241" h="769">
                  <a:moveTo>
                    <a:pt x="240" y="0"/>
                  </a:moveTo>
                  <a:lnTo>
                    <a:pt x="240" y="768"/>
                  </a:lnTo>
                  <a:lnTo>
                    <a:pt x="0" y="480"/>
                  </a:lnTo>
                  <a:lnTo>
                    <a:pt x="240" y="0"/>
                  </a:lnTo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304040" y="3582720"/>
              <a:ext cx="1828800" cy="8204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CXH  phải chịu do nư 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 flipV="1">
              <a:off x="6315120" y="3985560"/>
              <a:ext cx="1217520" cy="7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462720" y="3295080"/>
              <a:ext cx="0" cy="13057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561960" y="1014840"/>
              <a:ext cx="6516720" cy="5404320"/>
              <a:chOff x="561960" y="1014840"/>
              <a:chExt cx="6516720" cy="5404320"/>
            </a:xfrm>
          </p:grpSpPr>
          <p:sp>
            <p:nvSpPr>
              <p:cNvPr id="194" name=""/>
              <p:cNvSpPr/>
              <p:nvPr/>
            </p:nvSpPr>
            <p:spPr>
              <a:xfrm>
                <a:off x="6500880" y="4555440"/>
                <a:ext cx="0" cy="1501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776600" y="4453560"/>
                <a:ext cx="0" cy="1603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700280" y="4371840"/>
                <a:ext cx="152280" cy="160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424560" y="4371840"/>
                <a:ext cx="152640" cy="160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H="1">
                <a:off x="4901760" y="4452120"/>
                <a:ext cx="1460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450320" y="4212720"/>
                <a:ext cx="40680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554840" y="6005160"/>
                <a:ext cx="38088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202800" y="6018480"/>
                <a:ext cx="43272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31800" y="1886040"/>
                <a:ext cx="2367000" cy="3211200"/>
              </a:xfrm>
              <a:custGeom>
                <a:avLst/>
                <a:gdLst/>
                <a:ahLst/>
                <a:rect l="l" t="t" r="r" b="b"/>
                <a:pathLst>
                  <a:path w="1491" h="1921">
                    <a:moveTo>
                      <a:pt x="0" y="1920"/>
                    </a:moveTo>
                    <a:lnTo>
                      <a:pt x="31" y="1905"/>
                    </a:lnTo>
                    <a:lnTo>
                      <a:pt x="69" y="1894"/>
                    </a:lnTo>
                    <a:lnTo>
                      <a:pt x="113" y="1879"/>
                    </a:lnTo>
                    <a:lnTo>
                      <a:pt x="167" y="1858"/>
                    </a:lnTo>
                    <a:lnTo>
                      <a:pt x="224" y="1832"/>
                    </a:lnTo>
                    <a:lnTo>
                      <a:pt x="283" y="1796"/>
                    </a:lnTo>
                    <a:lnTo>
                      <a:pt x="346" y="1755"/>
                    </a:lnTo>
                    <a:lnTo>
                      <a:pt x="413" y="1699"/>
                    </a:lnTo>
                    <a:lnTo>
                      <a:pt x="485" y="1627"/>
                    </a:lnTo>
                    <a:lnTo>
                      <a:pt x="564" y="1544"/>
                    </a:lnTo>
                    <a:lnTo>
                      <a:pt x="649" y="1446"/>
                    </a:lnTo>
                    <a:lnTo>
                      <a:pt x="737" y="1344"/>
                    </a:lnTo>
                    <a:lnTo>
                      <a:pt x="825" y="1235"/>
                    </a:lnTo>
                    <a:lnTo>
                      <a:pt x="910" y="1127"/>
                    </a:lnTo>
                    <a:lnTo>
                      <a:pt x="989" y="1019"/>
                    </a:lnTo>
                    <a:lnTo>
                      <a:pt x="1062" y="911"/>
                    </a:lnTo>
                    <a:lnTo>
                      <a:pt x="1128" y="798"/>
                    </a:lnTo>
                    <a:lnTo>
                      <a:pt x="1191" y="674"/>
                    </a:lnTo>
                    <a:lnTo>
                      <a:pt x="1254" y="551"/>
                    </a:lnTo>
                    <a:lnTo>
                      <a:pt x="1310" y="422"/>
                    </a:lnTo>
                    <a:lnTo>
                      <a:pt x="1364" y="299"/>
                    </a:lnTo>
                    <a:lnTo>
                      <a:pt x="1411" y="185"/>
                    </a:lnTo>
                    <a:lnTo>
                      <a:pt x="1452" y="82"/>
                    </a:lnTo>
                    <a:lnTo>
                      <a:pt x="1474" y="41"/>
                    </a:lnTo>
                    <a:lnTo>
                      <a:pt x="1490" y="0"/>
                    </a:lnTo>
                  </a:path>
                </a:pathLst>
              </a:custGeom>
              <a:noFill/>
              <a:ln cap="rnd" w="507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981520" y="1645200"/>
                <a:ext cx="6890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S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896000" y="2603160"/>
                <a:ext cx="1760400" cy="2734920"/>
              </a:xfrm>
              <a:custGeom>
                <a:avLst/>
                <a:gdLst/>
                <a:ahLst/>
                <a:rect l="l" t="t" r="r" b="b"/>
                <a:pathLst>
                  <a:path w="1109" h="1636">
                    <a:moveTo>
                      <a:pt x="0" y="1635"/>
                    </a:moveTo>
                    <a:lnTo>
                      <a:pt x="55" y="1603"/>
                    </a:lnTo>
                    <a:lnTo>
                      <a:pt x="124" y="1560"/>
                    </a:lnTo>
                    <a:lnTo>
                      <a:pt x="206" y="1501"/>
                    </a:lnTo>
                    <a:lnTo>
                      <a:pt x="247" y="1463"/>
                    </a:lnTo>
                    <a:lnTo>
                      <a:pt x="294" y="1420"/>
                    </a:lnTo>
                    <a:lnTo>
                      <a:pt x="342" y="1371"/>
                    </a:lnTo>
                    <a:lnTo>
                      <a:pt x="397" y="1312"/>
                    </a:lnTo>
                    <a:lnTo>
                      <a:pt x="459" y="1248"/>
                    </a:lnTo>
                    <a:lnTo>
                      <a:pt x="520" y="1178"/>
                    </a:lnTo>
                    <a:lnTo>
                      <a:pt x="636" y="1033"/>
                    </a:lnTo>
                    <a:lnTo>
                      <a:pt x="691" y="963"/>
                    </a:lnTo>
                    <a:lnTo>
                      <a:pt x="739" y="898"/>
                    </a:lnTo>
                    <a:lnTo>
                      <a:pt x="814" y="769"/>
                    </a:lnTo>
                    <a:lnTo>
                      <a:pt x="882" y="635"/>
                    </a:lnTo>
                    <a:lnTo>
                      <a:pt x="937" y="506"/>
                    </a:lnTo>
                    <a:lnTo>
                      <a:pt x="985" y="387"/>
                    </a:lnTo>
                    <a:lnTo>
                      <a:pt x="1026" y="280"/>
                    </a:lnTo>
                    <a:lnTo>
                      <a:pt x="1060" y="172"/>
                    </a:lnTo>
                    <a:lnTo>
                      <a:pt x="1087" y="75"/>
                    </a:lnTo>
                    <a:lnTo>
                      <a:pt x="1094" y="32"/>
                    </a:lnTo>
                    <a:lnTo>
                      <a:pt x="1108" y="0"/>
                    </a:lnTo>
                  </a:path>
                </a:pathLst>
              </a:custGeom>
              <a:noFill/>
              <a:ln cap="rnd" w="507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352920" y="2126520"/>
                <a:ext cx="7257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SC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61960" y="1014840"/>
                <a:ext cx="2510280" cy="6987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8080"/>
                    </a:solidFill>
                    <a:latin typeface="Times New Roman"/>
                  </a:rPr>
                  <a:t>Khi có ngoại ứng âm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8080"/>
                    </a:solidFill>
                    <a:latin typeface="Times New Roman"/>
                  </a:rPr>
                  <a:t>MSC = MPC + ME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598680" y="1899360"/>
              <a:ext cx="0" cy="4170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865760" y="1899360"/>
              <a:ext cx="0" cy="4170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00120" y="6070320"/>
              <a:ext cx="3960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656440" y="6150960"/>
              <a:ext cx="1467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Q của D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770880" y="6070320"/>
              <a:ext cx="2373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Q của ngàn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027680" y="1738440"/>
              <a:ext cx="6447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NI-Times"/>
                </a:rPr>
                <a:t>Gia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867200" y="6070320"/>
              <a:ext cx="3961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85760" y="914400"/>
              <a:ext cx="83581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85760" y="6426360"/>
              <a:ext cx="8358120" cy="0"/>
            </a:xfrm>
            <a:prstGeom prst="line">
              <a:avLst/>
            </a:prstGeom>
            <a:ln w="38160">
              <a:solidFill>
                <a:srgbClr val="3765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55680" y="6593760"/>
              <a:ext cx="8356680" cy="0"/>
            </a:xfrm>
            <a:prstGeom prst="line">
              <a:avLst/>
            </a:prstGeom>
            <a:ln w="38160">
              <a:solidFill>
                <a:srgbClr val="3765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600120" y="987840"/>
              <a:ext cx="7738920" cy="5082120"/>
              <a:chOff x="600120" y="987840"/>
              <a:chExt cx="7738920" cy="5082120"/>
            </a:xfrm>
          </p:grpSpPr>
          <p:sp>
            <p:nvSpPr>
              <p:cNvPr id="218" name=""/>
              <p:cNvSpPr/>
              <p:nvPr/>
            </p:nvSpPr>
            <p:spPr>
              <a:xfrm flipV="1">
                <a:off x="600120" y="5429880"/>
                <a:ext cx="2817720" cy="640080"/>
              </a:xfrm>
              <a:prstGeom prst="line">
                <a:avLst/>
              </a:prstGeom>
              <a:ln w="507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419640" y="5108760"/>
                <a:ext cx="6890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E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V="1">
                <a:off x="4867200" y="4787640"/>
                <a:ext cx="2741760" cy="1281960"/>
              </a:xfrm>
              <a:prstGeom prst="line">
                <a:avLst/>
              </a:prstGeom>
              <a:ln w="507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613280" y="4547160"/>
                <a:ext cx="7257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EC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321080" y="987840"/>
                <a:ext cx="193680" cy="3459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1511280" y="4507200"/>
              <a:ext cx="0" cy="15897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435320" y="4412160"/>
              <a:ext cx="152280" cy="160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138320" y="6045480"/>
              <a:ext cx="396360" cy="363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q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083280" y="4079160"/>
              <a:ext cx="0" cy="20178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007320" y="3930480"/>
              <a:ext cx="152280" cy="160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4865760" y="4010760"/>
              <a:ext cx="12175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414680" y="3771720"/>
              <a:ext cx="422280" cy="363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P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786280" y="6058800"/>
              <a:ext cx="448200" cy="363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Q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341880" y="2138040"/>
              <a:ext cx="1523880" cy="1350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Q ctranh của ngànhlà Q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trongkhi Q Hq là Q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159880" y="1014840"/>
              <a:ext cx="3572640" cy="870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Hãng </a:t>
              </a:r>
              <a:r>
                <a:rPr b="1" lang="ru-RU" sz="2400" spc="-1" strike="noStrike">
                  <a:solidFill>
                    <a:srgbClr val="808080"/>
                  </a:solidFill>
                  <a:latin typeface="Times New Roman"/>
                  <a:ea typeface="Times New Roman"/>
                </a:rPr>
                <a:t>п</a:t>
              </a:r>
              <a:r>
                <a:rPr b="1" lang="en-US" sz="2400" spc="-1" strike="noStrike" baseline="-25000">
                  <a:solidFill>
                    <a:srgbClr val="808080"/>
                  </a:solidFill>
                  <a:latin typeface="Times New Roman"/>
                  <a:ea typeface="Times New Roman"/>
                </a:rPr>
                <a:t>MAX</a:t>
              </a: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 sản xuất tại q</a:t>
              </a:r>
              <a:r>
                <a:rPr b="1" lang="en-US" sz="2400" spc="-1" strike="noStrike" baseline="-25000">
                  <a:solidFill>
                    <a:srgbClr val="80808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trong khi mức Q Hq là q</a:t>
              </a:r>
              <a:r>
                <a:rPr b="1" lang="en-US" sz="2400" spc="-1" strike="noStrike" baseline="30000">
                  <a:solidFill>
                    <a:srgbClr val="808080"/>
                  </a:solidFill>
                  <a:latin typeface="Times New Roman"/>
                </a:rPr>
                <a:t>*</a:t>
              </a:r>
              <a:r>
                <a:rPr b="1" lang="en-US" sz="2400" spc="-1" strike="noStrike">
                  <a:solidFill>
                    <a:srgbClr val="80808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 flipV="1">
            <a:off x="2438280" y="-302040"/>
            <a:ext cx="4571640" cy="487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307" y="12"/>
                </a:moveTo>
                <a:arcTo wR="10800" hR="10800" stAng="-5238486" swAng="4260484"/>
                <a:lnTo>
                  <a:pt x="10800" y="10800"/>
                </a:lnTo>
                <a:close/>
              </a:path>
              <a:path fill="none" w="21600" h="21600">
                <a:moveTo>
                  <a:pt x="11307" y="12"/>
                </a:moveTo>
                <a:arcTo wR="10800" hR="10800" stAng="-5238486" swAng="426048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648320" y="4724280"/>
            <a:ext cx="152280" cy="685800"/>
          </a:xfrm>
          <a:custGeom>
            <a:avLst/>
            <a:gdLst>
              <a:gd name="textAreaLeft" fmla="*/ 97200 w 152280"/>
              <a:gd name="textAreaRight" fmla="*/ 15264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343400" y="4876920"/>
            <a:ext cx="3049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ÍNH KHÔNG HIỆU QUẢ CỦA NGOẠI ỨNG Â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ệc định giá sản phẩm không chính xá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á sản phẩm P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phản ánh chi phí tư nhân cận biên của hãng chứ không phải chi phí xã hội cận biê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64764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53352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N THIỆP CỦA CHÍNH PH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1479600"/>
            <a:ext cx="9144000" cy="48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Đánh thuế vào từng đơn vị sản phẩ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 =ME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&gt; MPC = MSC, Q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Q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i định chuẩn ô nhiễ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u phí gây ô nhiễ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ấp giấy phép xả chất thải, có thể mua, bán, chuyển nhượng đượ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ẢI PHÁP KHÁ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Xây dựng ý thức bảo vệ môi trườ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Xây dựng khu công nghiệp xa khu dân c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Xây dựng kỹ thuật xử lý rác thả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0773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ÁC ĐỘNG CỦA THUẾ</a:t>
            </a:r>
            <a:r>
              <a:rPr b="0" lang="en-US" sz="4400" spc="-1" strike="noStrike">
                <a:solidFill>
                  <a:srgbClr val="000000"/>
                </a:solidFill>
                <a:latin typeface="VNI-Time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Đánh vào ý thức BVM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ùng tiền thuế để khắc phục hậu quả ô nhiễ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ăng giá và giảm sản lượng xuống đến mức hiệu qu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ảm nhưng không xóa bỏ hoàn toàn ô nhiễm do sản lượng gây 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ợi về hiệu quả cho xã hội với gỉa định rằng mức thuế được định đú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ợi về công bằng cho những người sống gần khu bị ô nhiễ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an điểm của các nhà KT tan cổ điể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ế kỷ 17: Ađamsmith, Ricar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CP chỉ giữ vtrò min trong hđộng của nền K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iữ vtrò trung tâm trg việc pbổ nguồn lự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cơ chế thị trường tự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iữ vtrò chủ đạo + tư nhân tự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≡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àn tay vô hình” + bài xích sự can thiệ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ủa 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228600" y="2971800"/>
            <a:ext cx="8686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ưa phổ biế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Đòi hỏi nhiều thông tin để định đúng mức thu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à một vấn đề còn“mới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đôi khi gây ra gánh nặng không cân xứng lên các hộ thu nhập thấ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22543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HỮNG VẤN ĐỀ CỦA THUẾ Ô NHIỄ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304560" y="0"/>
            <a:ext cx="52578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ếu thuế ô nhiễm hay như vậy, tại sao chúng ta không sử dụng chú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HỮNG BIỆN PHÁP KHÁ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í dụ về ô nhiễ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hững cách giảm mức thải xuống Q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VNI-Time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28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i định chuẩn ô nhiễ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Định giới hạn hợp pháp về mức thải tại 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ế tài bằng tiền phạt và hình s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ăng chi phí sản xuất và giá nhập ngàn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u lệ phí ô nhiễ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phí đánh vào mỗi đơn vị thả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GOẠI ỨNG TÍCH CỰC( N.Ư DƯƠNG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3886200" cy="54864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hái niệ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.Ư dương là 1N.Ư mà hành vi của tviên bên này đem lại lợi ích cho hvi của tv bên kia mà không được ph.ánh 1 cách trực tiếp thông qua Pcả 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à sự chênh lệch về L.I giữa L.I cá nhân và L.I X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495680" y="617220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4495680" y="228564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4495680"/>
            <a:ext cx="2286000" cy="763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400800" y="3200400"/>
            <a:ext cx="0" cy="29718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495680" y="487692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0" y="449568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648320" y="2209680"/>
            <a:ext cx="533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P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400800" y="205740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S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620120" y="3124080"/>
            <a:ext cx="4572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181480" y="5562720"/>
            <a:ext cx="685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705720" y="2819520"/>
            <a:ext cx="6858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W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038480" y="1981080"/>
            <a:ext cx="3812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458200" y="6324480"/>
            <a:ext cx="3808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 flipV="1">
            <a:off x="5257440" y="-685800"/>
            <a:ext cx="5333040" cy="609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1981440" y="-77040"/>
            <a:ext cx="5485680" cy="5638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 flipV="1">
            <a:off x="5028480" y="3429000"/>
            <a:ext cx="6553080" cy="274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794" y="46"/>
                </a:moveTo>
                <a:arcTo wR="10800" hR="10800" stAng="-5083062" swAng="5083062"/>
                <a:lnTo>
                  <a:pt x="10800" y="10800"/>
                </a:lnTo>
                <a:close/>
              </a:path>
              <a:path fill="none" w="21600" h="21600">
                <a:moveTo>
                  <a:pt x="11794" y="46"/>
                </a:moveTo>
                <a:arcTo wR="10800" hR="10800" stAng="-5083062" swAng="5083062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248520" y="-1752840"/>
            <a:ext cx="3351600" cy="7162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924680" y="54100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 flipV="1">
            <a:off x="5638680" y="-305280"/>
            <a:ext cx="4571280" cy="5181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4191120"/>
            <a:ext cx="380880" cy="761760"/>
          </a:xfrm>
          <a:custGeom>
            <a:avLst/>
            <a:gdLst/>
            <a:ahLst/>
            <a:rect l="l" t="t" r="r" b="b"/>
            <a:pathLst>
              <a:path w="240" h="480">
                <a:moveTo>
                  <a:pt x="48" y="480"/>
                </a:moveTo>
                <a:lnTo>
                  <a:pt x="96" y="384"/>
                </a:lnTo>
                <a:lnTo>
                  <a:pt x="240" y="240"/>
                </a:lnTo>
                <a:lnTo>
                  <a:pt x="144" y="144"/>
                </a:lnTo>
                <a:lnTo>
                  <a:pt x="0" y="0"/>
                </a:lnTo>
                <a:lnTo>
                  <a:pt x="0" y="240"/>
                </a:lnTo>
                <a:lnTo>
                  <a:pt x="48" y="48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00800" y="3429000"/>
            <a:ext cx="457200" cy="1143000"/>
          </a:xfrm>
          <a:custGeom>
            <a:avLst/>
            <a:gdLst/>
            <a:ahLst/>
            <a:rect l="l" t="t" r="r" b="b"/>
            <a:pathLst>
              <a:path w="288" h="720">
                <a:moveTo>
                  <a:pt x="288" y="720"/>
                </a:moveTo>
                <a:lnTo>
                  <a:pt x="192" y="576"/>
                </a:lnTo>
                <a:lnTo>
                  <a:pt x="144" y="432"/>
                </a:lnTo>
                <a:lnTo>
                  <a:pt x="96" y="288"/>
                </a:lnTo>
                <a:lnTo>
                  <a:pt x="48" y="192"/>
                </a:lnTo>
                <a:lnTo>
                  <a:pt x="48" y="96"/>
                </a:lnTo>
                <a:lnTo>
                  <a:pt x="0" y="0"/>
                </a:lnTo>
                <a:lnTo>
                  <a:pt x="0" y="96"/>
                </a:lnTo>
                <a:lnTo>
                  <a:pt x="0" y="192"/>
                </a:lnTo>
                <a:lnTo>
                  <a:pt x="0" y="336"/>
                </a:lnTo>
                <a:lnTo>
                  <a:pt x="0" y="528"/>
                </a:lnTo>
                <a:lnTo>
                  <a:pt x="96" y="576"/>
                </a:lnTo>
                <a:lnTo>
                  <a:pt x="192" y="624"/>
                </a:lnTo>
                <a:lnTo>
                  <a:pt x="288" y="72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6553080" y="3276360"/>
            <a:ext cx="4572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114800" y="4343400"/>
            <a:ext cx="3049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172200" y="6248520"/>
            <a:ext cx="9144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GOẠI ỨNG DƯƠ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80880" y="1403280"/>
            <a:ext cx="7848720" cy="46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o lợi ích của XH ít hơn U của cá n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í dụ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: mức sản lượng tối ưu của xã hộ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mức Q tối ưu của cá n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– Q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= mức sản lượng bị </a:t>
            </a:r>
            <a:r>
              <a:rPr b="0" lang="en-US" sz="4000" spc="-1" strike="noStrike">
                <a:solidFill>
                  <a:srgbClr val="000000"/>
                </a:solidFill>
                <a:latin typeface=".VnTimeH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ất đ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=&gt; Phần mất không của XH : DW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762120" y="61977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276720" y="61977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Í DỤ NGOẠI ỨNG DƯƠ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124080" y="6191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-167400" y="1252440"/>
            <a:ext cx="6837480" cy="4951800"/>
            <a:chOff x="-167400" y="1252440"/>
            <a:chExt cx="6837480" cy="4951800"/>
          </a:xfrm>
        </p:grpSpPr>
        <p:grpSp>
          <p:nvGrpSpPr>
            <p:cNvPr id="285" name=""/>
            <p:cNvGrpSpPr/>
            <p:nvPr/>
          </p:nvGrpSpPr>
          <p:grpSpPr>
            <a:xfrm>
              <a:off x="-167400" y="1404720"/>
              <a:ext cx="6837480" cy="4799520"/>
              <a:chOff x="-167400" y="1404720"/>
              <a:chExt cx="6837480" cy="479952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143280" y="3362040"/>
                <a:ext cx="5042880" cy="439560"/>
                <a:chOff x="143280" y="3362040"/>
                <a:chExt cx="5042880" cy="43956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534960" y="3665160"/>
                  <a:ext cx="4113000" cy="0"/>
                </a:xfrm>
                <a:prstGeom prst="line">
                  <a:avLst/>
                </a:prstGeom>
                <a:ln w="5076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4649760" y="3438360"/>
                  <a:ext cx="53640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M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143280" y="3362040"/>
                  <a:ext cx="406800" cy="40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1" lang="en-US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0" name=""/>
              <p:cNvSpPr/>
              <p:nvPr/>
            </p:nvSpPr>
            <p:spPr>
              <a:xfrm>
                <a:off x="533160" y="1564920"/>
                <a:ext cx="0" cy="4291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617000" y="5719320"/>
                <a:ext cx="20530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NI-Times"/>
                  </a:rPr>
                  <a:t>Möùc söûa nha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-167400" y="1429920"/>
                <a:ext cx="76680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NI-Times"/>
                  </a:rPr>
                  <a:t>Giaù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3" name=""/>
              <p:cNvGrpSpPr/>
              <p:nvPr/>
            </p:nvGrpSpPr>
            <p:grpSpPr>
              <a:xfrm>
                <a:off x="530280" y="2444400"/>
                <a:ext cx="3663720" cy="3129120"/>
                <a:chOff x="530280" y="2444400"/>
                <a:chExt cx="3663720" cy="312912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530280" y="2444400"/>
                  <a:ext cx="3663720" cy="3129120"/>
                </a:xfrm>
                <a:custGeom>
                  <a:avLst/>
                  <a:gdLst/>
                  <a:ahLst/>
                  <a:rect l="l" t="t" r="r" b="b"/>
                  <a:pathLst>
                    <a:path w="2308" h="1971">
                      <a:moveTo>
                        <a:pt x="0" y="0"/>
                      </a:moveTo>
                      <a:lnTo>
                        <a:pt x="41" y="51"/>
                      </a:lnTo>
                      <a:lnTo>
                        <a:pt x="95" y="126"/>
                      </a:lnTo>
                      <a:lnTo>
                        <a:pt x="154" y="207"/>
                      </a:lnTo>
                      <a:lnTo>
                        <a:pt x="225" y="299"/>
                      </a:lnTo>
                      <a:lnTo>
                        <a:pt x="373" y="495"/>
                      </a:lnTo>
                      <a:lnTo>
                        <a:pt x="450" y="593"/>
                      </a:lnTo>
                      <a:lnTo>
                        <a:pt x="521" y="679"/>
                      </a:lnTo>
                      <a:lnTo>
                        <a:pt x="668" y="846"/>
                      </a:lnTo>
                      <a:lnTo>
                        <a:pt x="828" y="1008"/>
                      </a:lnTo>
                      <a:lnTo>
                        <a:pt x="988" y="1158"/>
                      </a:lnTo>
                      <a:lnTo>
                        <a:pt x="1142" y="1302"/>
                      </a:lnTo>
                      <a:lnTo>
                        <a:pt x="1296" y="1428"/>
                      </a:lnTo>
                      <a:lnTo>
                        <a:pt x="1449" y="1549"/>
                      </a:lnTo>
                      <a:lnTo>
                        <a:pt x="1597" y="1653"/>
                      </a:lnTo>
                      <a:lnTo>
                        <a:pt x="1745" y="1745"/>
                      </a:lnTo>
                      <a:lnTo>
                        <a:pt x="1899" y="1820"/>
                      </a:lnTo>
                      <a:lnTo>
                        <a:pt x="2053" y="1884"/>
                      </a:lnTo>
                      <a:lnTo>
                        <a:pt x="2130" y="1907"/>
                      </a:lnTo>
                      <a:lnTo>
                        <a:pt x="2195" y="1930"/>
                      </a:lnTo>
                      <a:lnTo>
                        <a:pt x="2260" y="1953"/>
                      </a:lnTo>
                      <a:lnTo>
                        <a:pt x="2307" y="1970"/>
                      </a:lnTo>
                    </a:path>
                  </a:pathLst>
                </a:custGeom>
                <a:noFill/>
                <a:ln cap="rnd" w="5076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582480" y="2828520"/>
                  <a:ext cx="34596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D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5867280" y="4249440"/>
                <a:ext cx="193680" cy="3459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49000" y="5868720"/>
                <a:ext cx="4302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8" name=""/>
              <p:cNvGrpSpPr/>
              <p:nvPr/>
            </p:nvGrpSpPr>
            <p:grpSpPr>
              <a:xfrm>
                <a:off x="1150560" y="3589200"/>
                <a:ext cx="373320" cy="2615040"/>
                <a:chOff x="1150560" y="3589200"/>
                <a:chExt cx="373320" cy="261504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1447560" y="3666960"/>
                  <a:ext cx="0" cy="2208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1371600" y="3589200"/>
                  <a:ext cx="152280" cy="1522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1150560" y="5838480"/>
                  <a:ext cx="37044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2" name=""/>
              <p:cNvSpPr/>
              <p:nvPr/>
            </p:nvSpPr>
            <p:spPr>
              <a:xfrm>
                <a:off x="588960" y="1628640"/>
                <a:ext cx="3663720" cy="3816360"/>
              </a:xfrm>
              <a:custGeom>
                <a:avLst/>
                <a:gdLst/>
                <a:ahLst/>
                <a:rect l="l" t="t" r="r" b="b"/>
                <a:pathLst>
                  <a:path w="2308" h="2404">
                    <a:moveTo>
                      <a:pt x="0" y="0"/>
                    </a:moveTo>
                    <a:lnTo>
                      <a:pt x="18" y="29"/>
                    </a:lnTo>
                    <a:lnTo>
                      <a:pt x="41" y="64"/>
                    </a:lnTo>
                    <a:lnTo>
                      <a:pt x="95" y="150"/>
                    </a:lnTo>
                    <a:lnTo>
                      <a:pt x="154" y="254"/>
                    </a:lnTo>
                    <a:lnTo>
                      <a:pt x="225" y="369"/>
                    </a:lnTo>
                    <a:lnTo>
                      <a:pt x="296" y="490"/>
                    </a:lnTo>
                    <a:lnTo>
                      <a:pt x="373" y="611"/>
                    </a:lnTo>
                    <a:lnTo>
                      <a:pt x="450" y="726"/>
                    </a:lnTo>
                    <a:lnTo>
                      <a:pt x="521" y="830"/>
                    </a:lnTo>
                    <a:lnTo>
                      <a:pt x="668" y="1032"/>
                    </a:lnTo>
                    <a:lnTo>
                      <a:pt x="828" y="1228"/>
                    </a:lnTo>
                    <a:lnTo>
                      <a:pt x="988" y="1418"/>
                    </a:lnTo>
                    <a:lnTo>
                      <a:pt x="1142" y="1591"/>
                    </a:lnTo>
                    <a:lnTo>
                      <a:pt x="1296" y="1746"/>
                    </a:lnTo>
                    <a:lnTo>
                      <a:pt x="1449" y="1890"/>
                    </a:lnTo>
                    <a:lnTo>
                      <a:pt x="1597" y="2017"/>
                    </a:lnTo>
                    <a:lnTo>
                      <a:pt x="1745" y="2132"/>
                    </a:lnTo>
                    <a:lnTo>
                      <a:pt x="1899" y="2224"/>
                    </a:lnTo>
                    <a:lnTo>
                      <a:pt x="2053" y="2294"/>
                    </a:lnTo>
                    <a:lnTo>
                      <a:pt x="2130" y="2328"/>
                    </a:lnTo>
                    <a:lnTo>
                      <a:pt x="2195" y="2357"/>
                    </a:lnTo>
                    <a:lnTo>
                      <a:pt x="2260" y="2380"/>
                    </a:lnTo>
                    <a:lnTo>
                      <a:pt x="2307" y="2403"/>
                    </a:lnTo>
                  </a:path>
                </a:pathLst>
              </a:custGeom>
              <a:noFill/>
              <a:ln cap="rnd" w="5076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69960" y="1404720"/>
                <a:ext cx="6890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MS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93640" y="4833720"/>
                <a:ext cx="3351240" cy="912600"/>
              </a:xfrm>
              <a:prstGeom prst="line">
                <a:avLst/>
              </a:prstGeom>
              <a:ln w="507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93640" y="4452480"/>
                <a:ext cx="6890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ME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"/>
            <p:cNvSpPr/>
            <p:nvPr/>
          </p:nvSpPr>
          <p:spPr>
            <a:xfrm>
              <a:off x="2590920" y="1252440"/>
              <a:ext cx="3200400" cy="1551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Khi có n.ư +(lợi ích của việc sửa nhà đối với hàng xóm)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SB &gt;lợi ích biên 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903320" y="3659040"/>
              <a:ext cx="0" cy="22082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827360" y="3581280"/>
              <a:ext cx="152280" cy="152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676520" y="5830560"/>
              <a:ext cx="38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827360" y="3962160"/>
              <a:ext cx="152280" cy="152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609120" y="4038480"/>
              <a:ext cx="12178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52280" y="3811320"/>
              <a:ext cx="422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P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5715000" y="3048120"/>
            <a:ext cx="3505320" cy="3380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ột chủ nhà đầu tư  vào sửa nhà do U riêng của mình.</a:t>
            </a:r>
            <a:r>
              <a:rPr b="1" lang="en-US" sz="2400" spc="-1" strike="noStrike">
                <a:solidFill>
                  <a:srgbClr val="000000"/>
                </a:solidFill>
                <a:latin typeface="VNI-Times"/>
              </a:rPr>
              <a:t> Möùc Hq cuûa vieäc söûa nhaø q* laïi lôùn hôn. MEB dốc xuống vì lượng sửa chữa nhỏ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đ</a:t>
            </a:r>
            <a:r>
              <a:rPr b="1" lang="en-US" sz="2400" spc="-1" strike="noStrike">
                <a:solidFill>
                  <a:srgbClr val="000000"/>
                </a:solidFill>
                <a:latin typeface="VNI-Times"/>
              </a:rPr>
              <a:t>em lại MU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ớn, còn lượng schữa lớn mang lại MUnh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ÍNH KHÔNG HIỆU QUẢ CỦA NGOẠI ỨNG DƯƠ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ủ ngôi nhà không thu được tất cả lợi ích của việc đầu tư vào sửa chữa và trang trí nhà của mình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iá 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là quá cao không khuyến khích họ đầu tư đến mức xã hội mong muố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ọ cần mức giá thấp hơn là P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15636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09480" y="1755720"/>
            <a:ext cx="8229600" cy="42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.VnTimeH"/>
              </a:rPr>
              <a:t>*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ợ cấp toàn bộ ( ví dụ: chương trình tiêm chủng mở rộn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.VnTimeH"/>
              </a:rPr>
              <a:t>*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ợ cấp cho các cá nhân thực hiện hoạt động: tr = M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&gt; MSB = MP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.VnTimeH"/>
              </a:rPr>
              <a:t>        </a:t>
            </a:r>
            <a:r>
              <a:rPr b="0" lang="en-US" sz="4400" spc="-1" strike="noStrike">
                <a:solidFill>
                  <a:srgbClr val="000000"/>
                </a:solidFill>
                <a:latin typeface=".VnTimeH"/>
              </a:rPr>
              <a:t>Q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.VnTimeH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.VnTimeH"/>
              </a:rPr>
              <a:t> = Q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.VnTimeH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85800" y="304920"/>
            <a:ext cx="732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N THIỆP CỦA CHÍNH PH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ÀNG HÓA CÔNG CỘ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609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449"/>
              </a:spcBef>
              <a:buClr>
                <a:srgbClr val="000000"/>
              </a:buClr>
              <a:buFont typeface="VNI-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Time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Đặc điểm hàng hóa công cộng thuần tú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hông cạnh tranh</a:t>
            </a: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ới một mức sản lượng đã cho, chi phí cận biên của việc tăng thêm người tiêu dùng bằng khô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hông loại trừ</a:t>
            </a:r>
            <a:r>
              <a:rPr b="0" i="1" lang="en-US" sz="2800" spc="-1" strike="noStrike">
                <a:solidFill>
                  <a:srgbClr val="000000"/>
                </a:solidFill>
                <a:latin typeface="VNI-Times"/>
              </a:rPr>
              <a:t>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hông thể ngăn người khác SD hàng hóa công cộ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hông phải mọi hàng hóa do chính phủ cung cấp đều là hàng hóa công cộ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ột số cạnh tranh và không loại trừ: giáo dục, công viê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ột số không cạnh tranh và loại trừ: kênh truyền hìn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21196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UNG CẤP HIỆU QUẢ HÀNG HÓA CÔNG CỘ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990720" y="1523880"/>
            <a:ext cx="8398080" cy="5334120"/>
            <a:chOff x="990720" y="1523880"/>
            <a:chExt cx="8398080" cy="5334120"/>
          </a:xfrm>
        </p:grpSpPr>
        <p:sp>
          <p:nvSpPr>
            <p:cNvPr id="326" name=""/>
            <p:cNvSpPr/>
            <p:nvPr/>
          </p:nvSpPr>
          <p:spPr>
            <a:xfrm>
              <a:off x="2438280" y="4221000"/>
              <a:ext cx="1751040" cy="205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438280" y="3078000"/>
              <a:ext cx="1598760" cy="205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478240" y="1782720"/>
              <a:ext cx="1558800" cy="335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038480" y="5135400"/>
              <a:ext cx="912960" cy="1141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974400" y="5744880"/>
              <a:ext cx="393120" cy="365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450520" y="3458880"/>
              <a:ext cx="393120" cy="365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892320" y="4525920"/>
              <a:ext cx="327600" cy="332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881080" y="1523880"/>
              <a:ext cx="6507720" cy="1186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Khi hàng hóa là không cạnh tranh, MSBcủa việ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D(D) được xác định bằng việc cộng theo chiề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ẳngđứng các đường cầu cá nhân đối với H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990720" y="640080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505320" y="64008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352680" y="639432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438280" y="1677960"/>
              <a:ext cx="0" cy="4475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454120" y="6165720"/>
              <a:ext cx="4937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481880" y="6040440"/>
              <a:ext cx="11750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ản lượ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209680" y="613404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186560" y="1539720"/>
              <a:ext cx="1141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ợi ích($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643120" y="613404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078000" y="613404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511440" y="613404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946320" y="613404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381560" y="613404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814640" y="613404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249880" y="613404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683320" y="613404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552720" y="6134040"/>
              <a:ext cx="4071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118200" y="613404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600200" y="3733560"/>
              <a:ext cx="6890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$4,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600200" y="2971800"/>
              <a:ext cx="6890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$5,5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600200" y="2286000"/>
              <a:ext cx="6890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$7,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440080" y="3200400"/>
              <a:ext cx="4189320" cy="0"/>
            </a:xfrm>
            <a:prstGeom prst="line">
              <a:avLst/>
            </a:prstGeom>
            <a:ln w="507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688800" y="2938320"/>
              <a:ext cx="1525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hi phí biê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124080" y="4952880"/>
              <a:ext cx="152640" cy="152280"/>
            </a:xfrm>
            <a:prstGeom prst="ellips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600200" y="4800600"/>
              <a:ext cx="689040" cy="3322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$1,5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124080" y="3124080"/>
              <a:ext cx="152640" cy="152280"/>
            </a:xfrm>
            <a:prstGeom prst="ellips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124080" y="3886200"/>
              <a:ext cx="152640" cy="152280"/>
            </a:xfrm>
            <a:prstGeom prst="ellips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3200400" y="3201480"/>
              <a:ext cx="0" cy="29703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440080" y="3962160"/>
              <a:ext cx="7603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440080" y="5029200"/>
              <a:ext cx="7603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302000" y="3886200"/>
              <a:ext cx="5070600" cy="118620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Q Hq xảy ra tạ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C = MB với Q = 2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B  = $1,5 + $4,0 = $5,5</a:t>
              </a:r>
              <a:r>
                <a:rPr b="1" lang="en-US" sz="2400" spc="-1" strike="noStrike">
                  <a:solidFill>
                    <a:srgbClr val="000000"/>
                  </a:solidFill>
                  <a:latin typeface="VNI-Times"/>
                </a:rPr>
                <a:t>ø</a:t>
              </a:r>
              <a:r>
                <a:rPr b="1" lang="en-US" sz="1800" spc="-1" strike="noStrike">
                  <a:solidFill>
                    <a:srgbClr val="000000"/>
                  </a:solidFill>
                  <a:latin typeface="VNI-Times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VẤN ĐỀ ĂN THEO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Người tiêu dùng hay người sản xuất không trả tiền cho tiêu dùng hàng hóa công cộ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NI-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í dụ: chương trình tiêm chủng mở rộng trong cộng đồ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ương trình này mang lại lợi cho tất cả mọi trẻ em trong độ tuổi tiêm chủ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ác bà mẹ không có động cơ trả đúng giá trị mà chương trình này đem lại cho con h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ọ hành động như những kẻ ăn theo – đánh giá thấp giá trị của chương trình để được hưởng lợi mà không phải trả tiề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điểm của các nhà KT “can thiep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ào những năm 30: Ky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ền KT khủng hoảnh thừa: S&gt;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&gt; thất nghiệp, lạm phát, suy thoái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ải pháp: - CP nên can thiệp mạnh mẽ vào nền KT thông qua các ngành m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SDcác chsách để hỗ trợ cho các ngành đó nhưng phải tuân theo nglý thị trườ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D:mô hình Đông 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Hàn quốc: tr/c tài chính để ptr CN nặng(h chấ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Nhật: hỗ trợ ptr cty lớn để tận dụng lợi thế qm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N THIỆP CỦA CHÍNH PH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ính phủ phải cung cấp hàng hóa công cộng để bù lỗ cho những kẻ ăn không gây 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ĐẢM BẢO PHÂN PHỐI THU NHẬP CÔNG BẰNG=&gt; giảm sự bất cô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Đánh thuế ng giàu, miễn thuế ng nghè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uyển giao thu nhậ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u nhập thừa kế khác nh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= w.L + r.K + i.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&gt; Tạo công ăn vlàm + chi tiêu cho người nghè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ợ cấp cho người nghèo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Điều chỉnh P thông qua mức lương tối thiể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Đầu tư vào con ngườ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ĐỘC QUYỀN TỰ NHIÊ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6095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: là DN có được tính KT theo quy m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đặc điểm: - có một hãng duy nhấ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 đường cầu dốc xuố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đường doanh thu cận biên cũng dốc xuống và có độ dốc gấp đôi độ dốc của đường cầ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àng rào ngăn cản gia nhập rất ca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đường ATC luôn dốc xuố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đường MC cũng luôn dốc xuống và nằm dưới A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6172200" y="29718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172200" y="579132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H="1" flipV="1">
            <a:off x="6781680" y="3047400"/>
            <a:ext cx="335232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H="1" flipV="1">
            <a:off x="6553080" y="3809160"/>
            <a:ext cx="396216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8001000" y="4419720"/>
            <a:ext cx="685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N THIỆP CỦA CHÍNH PH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35812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ĐSX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Q*) =(MR) X(M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*(P – A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ần mất không do độc quyền tự nhiên là AEF: DW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ính phủ can thiệ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Đưa ra luật chốngĐ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Đánh thu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Điều tiết bằng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Điều tiết bằng 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4343400" y="159984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343400" y="594360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H="1" flipV="1">
            <a:off x="4723920" y="-991080"/>
            <a:ext cx="6552720" cy="548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H="1" flipV="1">
            <a:off x="4495680" y="2514240"/>
            <a:ext cx="6857280" cy="243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343400" y="1828800"/>
            <a:ext cx="4419720" cy="4114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343400" y="1828800"/>
            <a:ext cx="2438280" cy="4343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943600" y="4724280"/>
            <a:ext cx="0" cy="121932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5943600" y="3276360"/>
            <a:ext cx="0" cy="152388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4343040" y="3276720"/>
            <a:ext cx="160020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086600" y="43434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4343400" y="43434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696080" y="495288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4266720" y="4952880"/>
            <a:ext cx="342900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4343040" y="3886200"/>
            <a:ext cx="1600200" cy="0"/>
          </a:xfrm>
          <a:prstGeom prst="line">
            <a:avLst/>
          </a:prstGeom>
          <a:ln w="936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543800" y="4191120"/>
            <a:ext cx="1295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        M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800600" y="6019920"/>
            <a:ext cx="4343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505320" y="3048120"/>
            <a:ext cx="761760" cy="21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562720" y="46483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019920" y="29718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867280" y="2438280"/>
            <a:ext cx="4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781680" y="3733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943600" y="3352680"/>
            <a:ext cx="0" cy="533520"/>
          </a:xfrm>
          <a:prstGeom prst="line">
            <a:avLst/>
          </a:prstGeom>
          <a:ln w="936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4952880" y="274320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ĐIỀU TIẾT BẰNG GI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5943600" cy="49528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ục tiêu hiệu quả giá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 = MC =&gt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Độc quyền bị l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hính phủ phải bù l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ục tiêu sự công bằ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ATC=&gt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ĐQ hòa vố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ục tiêu hiệu quả sản xuất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 = AT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hông có mức sản lượng nào mà giá có thể bù đắp ATC =&gt; Chính phủ phải bù l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5638680" y="220968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ĐIỀU TIẾT BẰNG SẢN LƯỢ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ính phủ đàm phán với nhà độc quyền để xác định một mức sản lượng tối thiểu. Q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&lt; Q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&lt; Q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á được xác định dựa vào đường cầu của thị trường. P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WL giảm, chỉ là diện tích A’F’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ƯU 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ự cthiệp của CP là vô cùng qtr đvới sự ptr K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hưng k đồng nhất với vtrò tuyệt đối của Cpkhi Gq 3vđề KT CB trg cơ chế KHH tập tr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ơ chế mệnh lệnh=CP+ hệ thống chỉt plệ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ng sx: sx cái gì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ng TD: TD cái gì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í như cơ chế đàn ong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điểm thân thiện với thị trườ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Đây là qđiểm dung hòa 2 qđiểm trê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f: CP nên chủ động trong những khu vực mà tt hđộng k có h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à ít can thiệp vào nơi mà tt đang h động tố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ơ chế hỗn hợp= tt + 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Qlý định hướng + “bàn tay vô hình”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ải pháp của C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ạo lập 1 môi trường KT vĩ mô ổn định( hạn chế lạm phát, duy trì tỷ giá hối đoá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Đầu tư cho đào tạo nguồn nhân lự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ự do hóa thương mại, không phân biệt giữa thị trường nội địa và tt nước ngoà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&gt; Các ytố sx có ĐK di chuyển tự do v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 tại các khu vực có lợi thế so sán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ác chức năng KT của C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Fixed Miriam Transpare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hnăng KTvĩ mô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Fixed Miriam Transpare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i mô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Fixed Miriam Transpare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à chức năng điều tiết của C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Chnăng KTvĩ mô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ổn định hóa K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Hạn chế sự dao động của chu kỳ KD nhằ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&gt; + giảm thất nghiệp mãn tín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giảm sự ngưng trệ K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giảm sự tăng P trong ngắn h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Điều chỉnh cơ cấu K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XD các chính sách đảm bảo cho sự tăng trưởng và ptr KT bền vững trong dài h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9T18:42:17Z</dcterms:created>
  <dc:creator>Mem nhun</dc:creator>
  <dc:description/>
  <dc:language>en-US</dc:language>
  <cp:lastModifiedBy>Retestrak</cp:lastModifiedBy>
  <dcterms:modified xsi:type="dcterms:W3CDTF">2008-09-29T03:32:17Z</dcterms:modified>
  <cp:revision>84</cp:revision>
  <dc:subject/>
  <dc:title>Slide 1</dc:title>
</cp:coreProperties>
</file>