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gif" ContentType="image/gif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5A35B-3C00-4BA6-8354-BF70F8B5A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E06C-DE0C-4339-84B7-980D8257E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1D15-6903-418A-ADB4-3C8110EF0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BA4A-0F57-4F5F-8C80-A8408E202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36BB-AB8A-4D9A-9D21-42A92DE93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174C-AFB3-4A64-8427-6194A336D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8D1A-FF03-41CA-A9AE-3D9A46F6D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67C1-1CD3-4EC5-8B5E-A14CFB150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399A-3152-4B02-953B-979DADCA9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26D4-0419-408C-8BC7-FF58E2F1A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EC7D-5DAD-4BC9-873D-151286EBD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D8D2-9E08-4ACB-A839-75150D993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C29F-8A5A-4B31-9314-740A42B39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DF1F5-4680-4E97-AEF4-5BD0BB59C6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92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Ị TRƯỜNG YẾU TỐ LAO ĐỘ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62520" cy="1981080"/>
          </a:xfrm>
          <a:prstGeom prst="rect">
            <a:avLst/>
          </a:prstGeom>
          <a:solidFill>
            <a:srgbClr val="99cc00"/>
          </a:solidFill>
          <a:ln w="76320">
            <a:solidFill>
              <a:srgbClr val="ffff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ầu L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ng L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ân bằng S-D l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5029200" y="1371600"/>
          <a:ext cx="396252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1371600"/>
                    <a:ext cx="3962520" cy="5105520"/>
                  </a:xfrm>
                  <a:prstGeom prst="rect">
                    <a:avLst/>
                  </a:prstGeom>
                  <a:ln w="1260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04920" y="3733920"/>
          <a:ext cx="4419360" cy="2895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733920"/>
                    <a:ext cx="4419360" cy="2895480"/>
                  </a:xfrm>
                  <a:prstGeom prst="rect">
                    <a:avLst/>
                  </a:prstGeom>
                  <a:ln w="12600">
                    <a:solidFill>
                      <a:srgbClr val="037c03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ÁC NHÂN TỐ ẢNH HƯỞNG TỚI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ẦU L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ầu về hàng hóa trên thị trường hàng hóa T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ăng suất LĐ: Sự thay đổi trong công ngh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Cầu lao động tăng thì đường cầu dịch chuyển sang phải (từ D thành D</a:t>
            </a:r>
            <a:r>
              <a:rPr b="0" i="1" lang="en-US" sz="4000" spc="-1" strike="noStrike" baseline="-25000">
                <a:solidFill>
                  <a:srgbClr val="000000"/>
                </a:solidFill>
                <a:latin typeface="Times New Roman"/>
              </a:rPr>
              <a:t>L1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Cầu lao động giảm thì đường cầu dịch chuyển sang trái (từ D</a:t>
            </a:r>
            <a:r>
              <a:rPr b="0" i="1" lang="en-US" sz="4000" spc="-1" strike="noStrike" baseline="-25000">
                <a:solidFill>
                  <a:srgbClr val="000000"/>
                </a:solidFill>
                <a:latin typeface="Times New Roman"/>
              </a:rPr>
              <a:t>L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thành D</a:t>
            </a:r>
            <a:r>
              <a:rPr b="0" i="1" lang="en-US" sz="4000" spc="-1" strike="noStrike" baseline="-25000">
                <a:solidFill>
                  <a:srgbClr val="000000"/>
                </a:solidFill>
                <a:latin typeface="Times New Roman"/>
              </a:rPr>
              <a:t>L2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ĐỒ THỊ SỰ THAY ĐỔI VỀ CẦU LĐ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343400" y="6248520"/>
            <a:ext cx="4191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343400" y="1828440"/>
            <a:ext cx="0" cy="4419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333760" y="-1372320"/>
            <a:ext cx="5485680" cy="7162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343400" y="419112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343400" y="495288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4191120"/>
            <a:ext cx="0" cy="20574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4952880"/>
            <a:ext cx="0" cy="12956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57600" y="1752480"/>
            <a:ext cx="4572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077320" y="6477120"/>
            <a:ext cx="5331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581280" y="3809880"/>
            <a:ext cx="6098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705720" y="6400800"/>
            <a:ext cx="609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4952520" y="3733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5105520"/>
            <a:ext cx="533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714640" y="6629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105520" y="6400800"/>
            <a:ext cx="533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562720" y="3048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315200" y="5105520"/>
            <a:ext cx="380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72200" y="4343400"/>
            <a:ext cx="304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15200" y="2971800"/>
            <a:ext cx="533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553080" y="6629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553080" y="44953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4723920" y="-457560"/>
            <a:ext cx="4114080" cy="6400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1981800" y="-77040"/>
            <a:ext cx="5333040" cy="5638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6248520" y="76680"/>
            <a:ext cx="3504240" cy="4571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4343400" y="541008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54100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505320" y="4572000"/>
            <a:ext cx="6094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095880" y="6400800"/>
            <a:ext cx="533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400800" y="2666880"/>
            <a:ext cx="6094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19720" y="3429000"/>
            <a:ext cx="457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ĐƯỜNG CẦU LAO ĐỘNG CỦA HÃ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ÍNH LÀ ĐƯỜNG MR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219320" y="1905120"/>
          <a:ext cx="6553080" cy="4657680"/>
        </p:xfrm>
        <a:graphic>
          <a:graphicData uri="http://schemas.openxmlformats.org/drawingml/2006/table">
            <a:tbl>
              <a:tblPr/>
              <a:tblGrid>
                <a:gridCol w="1346040"/>
                <a:gridCol w="1349280"/>
                <a:gridCol w="1341720"/>
                <a:gridCol w="1349280"/>
                <a:gridCol w="116676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RP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d"/>
  </p:transition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0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94384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ĐƯỜNG MRP P.A CẦU LĐ CỦA D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-360" y="1828800"/>
            <a:ext cx="4219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ị trường lao động là cạnh tran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Đường cầu lao động của hãng chính là đường sản phẩm doanh thu cận biên của lao độ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ình dáng của đường cầu LĐ phụ thuộc vào cả w và MR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651040" y="5446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5486400"/>
            <a:ext cx="99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4267080" y="1523880"/>
            <a:ext cx="4876920" cy="4711680"/>
            <a:chOff x="4267080" y="1523880"/>
            <a:chExt cx="4876920" cy="4711680"/>
          </a:xfrm>
        </p:grpSpPr>
        <p:sp>
          <p:nvSpPr>
            <p:cNvPr id="135" name=""/>
            <p:cNvSpPr/>
            <p:nvPr/>
          </p:nvSpPr>
          <p:spPr>
            <a:xfrm>
              <a:off x="4952880" y="5715000"/>
              <a:ext cx="419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267080" y="5257800"/>
              <a:ext cx="609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43400" y="2438280"/>
              <a:ext cx="533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495680" y="2362320"/>
              <a:ext cx="38124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876920" y="5867280"/>
              <a:ext cx="411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        1       2       3       4       5       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419720" y="1828800"/>
              <a:ext cx="457200" cy="37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4952880" y="1523880"/>
              <a:ext cx="0" cy="419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952880" y="5105520"/>
              <a:ext cx="35816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534520" y="5105520"/>
              <a:ext cx="0" cy="6094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952880" y="4419720"/>
              <a:ext cx="29718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001000" y="4419720"/>
              <a:ext cx="0" cy="12952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7391520" y="3657240"/>
              <a:ext cx="0" cy="20574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4952880" y="3657600"/>
              <a:ext cx="24386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6858000" y="2971800"/>
              <a:ext cx="0" cy="27432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4952880" y="2895480"/>
              <a:ext cx="19051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6248520" y="2209320"/>
              <a:ext cx="0" cy="35053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4952520" y="2209680"/>
              <a:ext cx="12956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5638680" y="2209320"/>
              <a:ext cx="0" cy="35053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48520" y="2209680"/>
              <a:ext cx="2743200" cy="342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77120" y="2057400"/>
              <a:ext cx="1523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RP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= 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43400" y="4419720"/>
              <a:ext cx="441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458200" y="40384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4038480" y="1219320"/>
            <a:ext cx="83844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,M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638680" y="220968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248520" y="2209680"/>
            <a:ext cx="175248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086600" y="274320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1532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UNG LAO ĐỘ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Kn: </a:t>
            </a: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Cung lđ</a:t>
            </a: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 lµ sè l­îng L§ mµ ng­êi L§ cã kh¶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   </a:t>
            </a: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n¨ng vµ s½n sµng cho thuª ë c¸c møc tiÒn c«ng kh¸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   </a:t>
            </a: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nhau trong mét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khoảng</a:t>
            </a: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 thêi gian n®Þnh nào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đó( cá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ntố khác không đổ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Lượng cung lđ</a:t>
            </a: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 là sè l­îng L§ mµ ng­êi L§ cã kh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   </a:t>
            </a: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n¨ng vµ s½n sµng cho thuª ë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một</a:t>
            </a: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 møc tiÒn c«ng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nhất định trong </a:t>
            </a: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mét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khoảng</a:t>
            </a: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 thêi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 gian nào đó( các ntố khác không đổ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Lùc l­îng L§XH = </a:t>
            </a: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</a:t>
            </a: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 ng­êi ®ang L§ hoÆc t×m kiÕm viÖc lµ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UẬT CUNG VỀ LAO ĐỘ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2057400"/>
            <a:ext cx="3733920" cy="41911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w 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(↓) =&gt; L</a:t>
            </a:r>
            <a:r>
              <a:rPr b="0" lang="de-DE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r>
              <a:rPr b="0" lang="de-DE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↓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ức lương (w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y đổi dẫn đế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ó sự vận độ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ọc theo đườ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ng ( I đến 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343400" y="62485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4343400" y="182844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343400" y="3733920"/>
            <a:ext cx="3200400" cy="75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343400" y="52578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543800" y="373392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00800" y="5257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657600" y="1752480"/>
            <a:ext cx="4572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077320" y="6400800"/>
            <a:ext cx="5331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7600" y="4952880"/>
            <a:ext cx="6094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172200" y="6324480"/>
            <a:ext cx="609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4114800" y="4343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33920" y="3429000"/>
            <a:ext cx="533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858000" y="6019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315200" y="6324480"/>
            <a:ext cx="533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495680" y="4267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0" y="6400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15200" y="4648320"/>
            <a:ext cx="4572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477120" y="5029200"/>
            <a:ext cx="3808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696080" y="3581280"/>
            <a:ext cx="3049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7315200" y="39625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6705720" y="47239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1600200" y="-1372680"/>
            <a:ext cx="6248160" cy="7162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924680" y="2362320"/>
            <a:ext cx="60984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0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7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0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3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6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9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2" dur="5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UNG LAO ĐỘ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5715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Đường cung lao động cá nhân có xu hướng vòng về phía sa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ảnh hưởng thay thế(SE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=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giá nghỉ ngơ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=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y thế làm việc cho nghỉ ngơi, thời gian làm việ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ảnh hưởng thu nhập(IE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&gt;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&gt; mua nhiều hàng hóa hơn, thời gian nghỉ ngơ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ời gian làm việ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ếu SE&gt;IE, đường cung lao động dốc lê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ếu SE&lt;IE, đường cung lao động vòng về phía s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Đường cung lao động thị trường thường là dốc lê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ộng chiều ngang các đường cung lao động của các cá nhâ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848720" y="44956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ố giờ làm việc/ngà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5475240" y="2362320"/>
            <a:ext cx="3287520" cy="3733200"/>
            <a:chOff x="5475240" y="2362320"/>
            <a:chExt cx="3287520" cy="3733200"/>
          </a:xfrm>
        </p:grpSpPr>
        <p:sp>
          <p:nvSpPr>
            <p:cNvPr id="192" name=""/>
            <p:cNvSpPr/>
            <p:nvPr/>
          </p:nvSpPr>
          <p:spPr>
            <a:xfrm flipV="1">
              <a:off x="6296760" y="2810160"/>
              <a:ext cx="0" cy="328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96760" y="6021000"/>
              <a:ext cx="246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5727960" y="2958840"/>
              <a:ext cx="2149200" cy="2687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75240" y="3183480"/>
              <a:ext cx="2401920" cy="208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791320" y="2362320"/>
              <a:ext cx="1137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iền lươ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436160" y="2884680"/>
              <a:ext cx="1263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Đường cung lao độ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8458200" y="61722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ÁC YẾU TỐ ẢNH HƯỞNG CUNG LĐ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-360" y="1066320"/>
            <a:ext cx="5257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Áp lực về kinh t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hu cầu về l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ự thay đổi của công ngh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âm lý X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ạm vi thời g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ung lao động tă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đườ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ng dịch chuyển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ành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L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ung lao động giả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đườ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ng dịch chuyển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ành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L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400800" y="53341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ượng cung lao độ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943600" y="2209680"/>
            <a:ext cx="1905120" cy="2133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562720" y="5029200"/>
            <a:ext cx="2971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5562720" y="1447920"/>
            <a:ext cx="0" cy="3581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5943600" y="2437920"/>
            <a:ext cx="2057400" cy="1752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6477120" y="2971440"/>
            <a:ext cx="1904760" cy="160020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467480" y="2895480"/>
            <a:ext cx="685800" cy="152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5715000" y="1905120"/>
            <a:ext cx="18288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6858000" y="251460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848720" y="3886200"/>
            <a:ext cx="3808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153280" y="1981080"/>
            <a:ext cx="6098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5562720" y="3352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934320" y="33526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477120" y="28954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391520" y="38862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5638320" y="28195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5562720" y="3886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0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7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68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ẢN PHẨM DOANH THU CẬN BIÊ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124080" y="6235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1166760" y="1752480"/>
            <a:ext cx="7068600" cy="4819680"/>
            <a:chOff x="1166760" y="1752480"/>
            <a:chExt cx="7068600" cy="4819680"/>
          </a:xfrm>
        </p:grpSpPr>
        <p:sp>
          <p:nvSpPr>
            <p:cNvPr id="223" name=""/>
            <p:cNvSpPr/>
            <p:nvPr/>
          </p:nvSpPr>
          <p:spPr>
            <a:xfrm>
              <a:off x="2133720" y="1981080"/>
              <a:ext cx="0" cy="426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127600" y="6237360"/>
              <a:ext cx="4276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733720" y="6208920"/>
              <a:ext cx="16520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ố giờ làm việ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166760" y="1752480"/>
              <a:ext cx="101808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Lươ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NI-Times"/>
                </a:rPr>
                <a:t>($/giờ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2743560" y="2610000"/>
              <a:ext cx="5491800" cy="2379960"/>
              <a:chOff x="2743560" y="2610000"/>
              <a:chExt cx="5491800" cy="2379960"/>
            </a:xfrm>
          </p:grpSpPr>
          <p:sp>
            <p:nvSpPr>
              <p:cNvPr id="228" name=""/>
              <p:cNvSpPr/>
              <p:nvPr/>
            </p:nvSpPr>
            <p:spPr>
              <a:xfrm>
                <a:off x="6490080" y="4589280"/>
                <a:ext cx="174528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MRP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L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= MP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743560" y="2610000"/>
                <a:ext cx="3738240" cy="2215800"/>
              </a:xfrm>
              <a:custGeom>
                <a:avLst/>
                <a:gdLst/>
                <a:ahLst/>
                <a:rect l="l" t="t" r="r" b="b"/>
                <a:pathLst>
                  <a:path w="2355" h="1396">
                    <a:moveTo>
                      <a:pt x="0" y="0"/>
                    </a:moveTo>
                    <a:lnTo>
                      <a:pt x="277" y="246"/>
                    </a:lnTo>
                    <a:lnTo>
                      <a:pt x="553" y="481"/>
                    </a:lnTo>
                    <a:lnTo>
                      <a:pt x="689" y="591"/>
                    </a:lnTo>
                    <a:lnTo>
                      <a:pt x="830" y="695"/>
                    </a:lnTo>
                    <a:lnTo>
                      <a:pt x="977" y="794"/>
                    </a:lnTo>
                    <a:lnTo>
                      <a:pt x="1119" y="883"/>
                    </a:lnTo>
                    <a:lnTo>
                      <a:pt x="1266" y="967"/>
                    </a:lnTo>
                    <a:lnTo>
                      <a:pt x="1420" y="1045"/>
                    </a:lnTo>
                    <a:lnTo>
                      <a:pt x="1574" y="1113"/>
                    </a:lnTo>
                    <a:lnTo>
                      <a:pt x="1727" y="1176"/>
                    </a:lnTo>
                    <a:lnTo>
                      <a:pt x="2041" y="1291"/>
                    </a:lnTo>
                    <a:lnTo>
                      <a:pt x="2354" y="1395"/>
                    </a:lnTo>
                  </a:path>
                </a:pathLst>
              </a:custGeom>
              <a:noFill/>
              <a:ln cap="rnd" w="507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245840" y="2622240"/>
                <a:ext cx="225864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VNI-Times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Thị trường lao động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cạnh tranh( P = MR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>
                <a:off x="4943520" y="3008160"/>
                <a:ext cx="252000" cy="1039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2170440" y="3295800"/>
              <a:ext cx="4684320" cy="2377080"/>
              <a:chOff x="2170440" y="3295800"/>
              <a:chExt cx="4684320" cy="2377080"/>
            </a:xfrm>
          </p:grpSpPr>
          <p:sp>
            <p:nvSpPr>
              <p:cNvPr id="233" name=""/>
              <p:cNvSpPr/>
              <p:nvPr/>
            </p:nvSpPr>
            <p:spPr>
              <a:xfrm>
                <a:off x="2587680" y="3295800"/>
                <a:ext cx="2138400" cy="2212920"/>
              </a:xfrm>
              <a:custGeom>
                <a:avLst/>
                <a:gdLst/>
                <a:ahLst/>
                <a:rect l="l" t="t" r="r" b="b"/>
                <a:pathLst>
                  <a:path w="1347" h="1394">
                    <a:moveTo>
                      <a:pt x="0" y="0"/>
                    </a:moveTo>
                    <a:lnTo>
                      <a:pt x="158" y="245"/>
                    </a:lnTo>
                    <a:lnTo>
                      <a:pt x="313" y="478"/>
                    </a:lnTo>
                    <a:lnTo>
                      <a:pt x="394" y="586"/>
                    </a:lnTo>
                    <a:lnTo>
                      <a:pt x="476" y="694"/>
                    </a:lnTo>
                    <a:lnTo>
                      <a:pt x="557" y="790"/>
                    </a:lnTo>
                    <a:lnTo>
                      <a:pt x="639" y="881"/>
                    </a:lnTo>
                    <a:lnTo>
                      <a:pt x="725" y="967"/>
                    </a:lnTo>
                    <a:lnTo>
                      <a:pt x="811" y="1041"/>
                    </a:lnTo>
                    <a:lnTo>
                      <a:pt x="897" y="1109"/>
                    </a:lnTo>
                    <a:lnTo>
                      <a:pt x="988" y="1171"/>
                    </a:lnTo>
                    <a:lnTo>
                      <a:pt x="1165" y="1285"/>
                    </a:lnTo>
                    <a:lnTo>
                      <a:pt x="1346" y="1393"/>
                    </a:lnTo>
                  </a:path>
                </a:pathLst>
              </a:custGeom>
              <a:noFill/>
              <a:ln cap="rnd" w="5076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810680" y="5272200"/>
                <a:ext cx="204408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MRP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L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= MP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L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x M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170440" y="4967280"/>
                <a:ext cx="221292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Thị trường lao động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độc quyền (P&gt;MR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3060720" y="4427640"/>
                <a:ext cx="201600" cy="633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28240" y="685800"/>
            <a:ext cx="87152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ÂN BẰNG CUNG CẦU LAO ĐỘ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ị trường lao động cạnh tran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ị trường lao động độc quyề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 độc quyền bá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 độc quyền mu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 độc quyền song phươ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219320" y="0"/>
            <a:ext cx="6933960" cy="678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28600" y="30240"/>
            <a:ext cx="86868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Đường cung lao động khi thị trường lao động là cạnh tra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-360" y="1828800"/>
            <a:ext cx="3963960" cy="502920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ng lao động của hãng là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oàn toàn co giã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và hãng có thể thuê tất cả lao động mà hãng muốn tại mức tiền lương w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885840" y="160020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4876920" y="205704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76920" y="4952880"/>
            <a:ext cx="3504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876920" y="380988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001000" y="34290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267080" y="3657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248520" y="513540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ượng cung l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Ị TRƯỜNG LĐ CẠNH TRANH 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YẾT ĐỊNH THUÊ LAO ĐỘ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1219320" y="1676520"/>
            <a:ext cx="7993080" cy="4956120"/>
            <a:chOff x="1219320" y="1676520"/>
            <a:chExt cx="7993080" cy="4956120"/>
          </a:xfrm>
        </p:grpSpPr>
        <p:sp>
          <p:nvSpPr>
            <p:cNvPr id="250" name=""/>
            <p:cNvSpPr/>
            <p:nvPr/>
          </p:nvSpPr>
          <p:spPr>
            <a:xfrm>
              <a:off x="1981080" y="1815840"/>
              <a:ext cx="0" cy="4265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974960" y="6072120"/>
              <a:ext cx="4276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275520" y="6056280"/>
              <a:ext cx="29368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Lượng lao độ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87240" y="167652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3300"/>
                  </a:solidFill>
                  <a:latin typeface="Times New Roman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4" name=""/>
            <p:cNvGrpSpPr/>
            <p:nvPr/>
          </p:nvGrpSpPr>
          <p:grpSpPr>
            <a:xfrm>
              <a:off x="2367000" y="2412720"/>
              <a:ext cx="6788160" cy="3995280"/>
              <a:chOff x="2367000" y="2412720"/>
              <a:chExt cx="6788160" cy="3995280"/>
            </a:xfrm>
          </p:grpSpPr>
          <p:sp>
            <p:nvSpPr>
              <p:cNvPr id="255" name=""/>
              <p:cNvSpPr/>
              <p:nvPr/>
            </p:nvSpPr>
            <p:spPr>
              <a:xfrm>
                <a:off x="2367000" y="2522160"/>
                <a:ext cx="3503520" cy="2820600"/>
              </a:xfrm>
              <a:custGeom>
                <a:avLst/>
                <a:gdLst/>
                <a:ahLst/>
                <a:rect l="l" t="t" r="r" b="b"/>
                <a:pathLst>
                  <a:path w="2207" h="1777">
                    <a:moveTo>
                      <a:pt x="0" y="0"/>
                    </a:moveTo>
                    <a:lnTo>
                      <a:pt x="258" y="308"/>
                    </a:lnTo>
                    <a:lnTo>
                      <a:pt x="381" y="461"/>
                    </a:lnTo>
                    <a:lnTo>
                      <a:pt x="516" y="605"/>
                    </a:lnTo>
                    <a:lnTo>
                      <a:pt x="645" y="748"/>
                    </a:lnTo>
                    <a:lnTo>
                      <a:pt x="780" y="880"/>
                    </a:lnTo>
                    <a:lnTo>
                      <a:pt x="915" y="1007"/>
                    </a:lnTo>
                    <a:lnTo>
                      <a:pt x="1051" y="1124"/>
                    </a:lnTo>
                    <a:lnTo>
                      <a:pt x="1186" y="1230"/>
                    </a:lnTo>
                    <a:lnTo>
                      <a:pt x="1327" y="1325"/>
                    </a:lnTo>
                    <a:lnTo>
                      <a:pt x="1475" y="1416"/>
                    </a:lnTo>
                    <a:lnTo>
                      <a:pt x="1616" y="1495"/>
                    </a:lnTo>
                    <a:lnTo>
                      <a:pt x="1764" y="1569"/>
                    </a:lnTo>
                    <a:lnTo>
                      <a:pt x="1911" y="1638"/>
                    </a:lnTo>
                    <a:lnTo>
                      <a:pt x="2206" y="1776"/>
                    </a:lnTo>
                  </a:path>
                </a:pathLst>
              </a:custGeom>
              <a:noFill/>
              <a:ln cap="rnd" w="507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103440" y="5030280"/>
                <a:ext cx="127692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MRP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L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= D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352680" y="3677760"/>
                <a:ext cx="0" cy="2410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119400" y="6044760"/>
                <a:ext cx="4100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L*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276720" y="3587400"/>
                <a:ext cx="15228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919760" y="2412720"/>
                <a:ext cx="4235400" cy="1001160"/>
              </a:xfrm>
              <a:prstGeom prst="rect">
                <a:avLst/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808080"/>
                    </a:solidFill>
                    <a:latin typeface="Times New Roman"/>
                  </a:rPr>
                  <a:t>Hãng tối đa hóa lợi nhuận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808080"/>
                    </a:solidFill>
                    <a:latin typeface="Times New Roman"/>
                  </a:rPr>
                  <a:t>sẽ thuê L</a:t>
                </a:r>
                <a:r>
                  <a:rPr b="1" lang="en-US" sz="2800" spc="-1" strike="noStrike" baseline="30000">
                    <a:solidFill>
                      <a:srgbClr val="808080"/>
                    </a:solidFill>
                    <a:latin typeface="Times New Roman"/>
                  </a:rPr>
                  <a:t>*</a:t>
                </a:r>
                <a:r>
                  <a:rPr b="1" lang="en-US" sz="2800" spc="-1" strike="noStrike">
                    <a:solidFill>
                      <a:srgbClr val="808080"/>
                    </a:solidFill>
                    <a:latin typeface="Times New Roman"/>
                  </a:rPr>
                  <a:t> tại MRP</a:t>
                </a:r>
                <a:r>
                  <a:rPr b="1" lang="en-US" sz="2800" spc="-1" strike="noStrike" baseline="-25000">
                    <a:solidFill>
                      <a:srgbClr val="808080"/>
                    </a:solidFill>
                    <a:latin typeface="Times New Roman"/>
                  </a:rPr>
                  <a:t>L</a:t>
                </a:r>
                <a:r>
                  <a:rPr b="1" lang="en-US" sz="2800" spc="-1" strike="noStrike">
                    <a:solidFill>
                      <a:srgbClr val="808080"/>
                    </a:solidFill>
                    <a:latin typeface="Times New Roman"/>
                  </a:rPr>
                  <a:t> = w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1981080" y="3663720"/>
              <a:ext cx="4267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219320" y="343512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"/>
          <p:cNvGrpSpPr/>
          <p:nvPr/>
        </p:nvGrpSpPr>
        <p:grpSpPr>
          <a:xfrm>
            <a:off x="1143000" y="2057400"/>
            <a:ext cx="2768760" cy="2522520"/>
            <a:chOff x="1143000" y="2057400"/>
            <a:chExt cx="2768760" cy="2522520"/>
          </a:xfrm>
        </p:grpSpPr>
        <p:sp>
          <p:nvSpPr>
            <p:cNvPr id="264" name=""/>
            <p:cNvSpPr/>
            <p:nvPr/>
          </p:nvSpPr>
          <p:spPr>
            <a:xfrm>
              <a:off x="1143000" y="2517840"/>
              <a:ext cx="2595240" cy="2062080"/>
            </a:xfrm>
            <a:custGeom>
              <a:avLst/>
              <a:gdLst/>
              <a:ahLst/>
              <a:rect l="l" t="t" r="r" b="b"/>
              <a:pathLst>
                <a:path w="1635" h="1299">
                  <a:moveTo>
                    <a:pt x="0" y="1298"/>
                  </a:moveTo>
                  <a:lnTo>
                    <a:pt x="260" y="1214"/>
                  </a:lnTo>
                  <a:lnTo>
                    <a:pt x="384" y="1170"/>
                  </a:lnTo>
                  <a:lnTo>
                    <a:pt x="508" y="1121"/>
                  </a:lnTo>
                  <a:lnTo>
                    <a:pt x="629" y="1067"/>
                  </a:lnTo>
                  <a:lnTo>
                    <a:pt x="746" y="1008"/>
                  </a:lnTo>
                  <a:lnTo>
                    <a:pt x="855" y="944"/>
                  </a:lnTo>
                  <a:lnTo>
                    <a:pt x="960" y="865"/>
                  </a:lnTo>
                  <a:lnTo>
                    <a:pt x="1058" y="782"/>
                  </a:lnTo>
                  <a:lnTo>
                    <a:pt x="1152" y="683"/>
                  </a:lnTo>
                  <a:lnTo>
                    <a:pt x="1239" y="580"/>
                  </a:lnTo>
                  <a:lnTo>
                    <a:pt x="1325" y="472"/>
                  </a:lnTo>
                  <a:lnTo>
                    <a:pt x="1404" y="359"/>
                  </a:lnTo>
                  <a:lnTo>
                    <a:pt x="1483" y="241"/>
                  </a:lnTo>
                  <a:lnTo>
                    <a:pt x="1634" y="0"/>
                  </a:lnTo>
                </a:path>
              </a:pathLst>
            </a:custGeom>
            <a:noFill/>
            <a:ln cap="rnd" w="507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578040" y="2057400"/>
              <a:ext cx="333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327040" y="2057400"/>
              <a:ext cx="18108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530440" y="2686320"/>
              <a:ext cx="658800" cy="506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ân bằng trong thị trường lđ cạnh tra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62120" y="1792440"/>
            <a:ext cx="0" cy="3935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029200" y="1792440"/>
            <a:ext cx="0" cy="3935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76160" y="5740560"/>
            <a:ext cx="3935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43600" y="5740560"/>
            <a:ext cx="3935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452040" y="5797440"/>
            <a:ext cx="1557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ượng lao độ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592040" y="5797440"/>
            <a:ext cx="1557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ượng lao độ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-1800" y="1828800"/>
            <a:ext cx="9464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iá la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Độ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113000" y="1828800"/>
            <a:ext cx="946440" cy="13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iá la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Độ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1216080" y="2538360"/>
            <a:ext cx="3376440" cy="2839680"/>
            <a:chOff x="1216080" y="2538360"/>
            <a:chExt cx="3376440" cy="2839680"/>
          </a:xfrm>
        </p:grpSpPr>
        <p:sp>
          <p:nvSpPr>
            <p:cNvPr id="278" name=""/>
            <p:cNvSpPr/>
            <p:nvPr/>
          </p:nvSpPr>
          <p:spPr>
            <a:xfrm>
              <a:off x="1216080" y="2538360"/>
              <a:ext cx="3130560" cy="2519280"/>
            </a:xfrm>
            <a:custGeom>
              <a:avLst/>
              <a:gdLst/>
              <a:ahLst/>
              <a:rect l="l" t="t" r="r" b="b"/>
              <a:pathLst>
                <a:path w="1972" h="1587">
                  <a:moveTo>
                    <a:pt x="0" y="0"/>
                  </a:moveTo>
                  <a:lnTo>
                    <a:pt x="35" y="32"/>
                  </a:lnTo>
                  <a:lnTo>
                    <a:pt x="75" y="70"/>
                  </a:lnTo>
                  <a:lnTo>
                    <a:pt x="119" y="118"/>
                  </a:lnTo>
                  <a:lnTo>
                    <a:pt x="171" y="166"/>
                  </a:lnTo>
                  <a:lnTo>
                    <a:pt x="224" y="225"/>
                  </a:lnTo>
                  <a:lnTo>
                    <a:pt x="285" y="285"/>
                  </a:lnTo>
                  <a:lnTo>
                    <a:pt x="412" y="408"/>
                  </a:lnTo>
                  <a:lnTo>
                    <a:pt x="552" y="543"/>
                  </a:lnTo>
                  <a:lnTo>
                    <a:pt x="688" y="672"/>
                  </a:lnTo>
                  <a:lnTo>
                    <a:pt x="828" y="795"/>
                  </a:lnTo>
                  <a:lnTo>
                    <a:pt x="955" y="903"/>
                  </a:lnTo>
                  <a:lnTo>
                    <a:pt x="1082" y="1000"/>
                  </a:lnTo>
                  <a:lnTo>
                    <a:pt x="1222" y="1102"/>
                  </a:lnTo>
                  <a:lnTo>
                    <a:pt x="1362" y="1199"/>
                  </a:lnTo>
                  <a:lnTo>
                    <a:pt x="1502" y="1290"/>
                  </a:lnTo>
                  <a:lnTo>
                    <a:pt x="1643" y="1376"/>
                  </a:lnTo>
                  <a:lnTo>
                    <a:pt x="1770" y="1457"/>
                  </a:lnTo>
                  <a:lnTo>
                    <a:pt x="1826" y="1489"/>
                  </a:lnTo>
                  <a:lnTo>
                    <a:pt x="1879" y="1527"/>
                  </a:lnTo>
                  <a:lnTo>
                    <a:pt x="1927" y="1559"/>
                  </a:lnTo>
                  <a:lnTo>
                    <a:pt x="1971" y="1586"/>
                  </a:lnTo>
                </a:path>
              </a:pathLst>
            </a:custGeom>
            <a:noFill/>
            <a:ln cap="rnd" w="507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246560" y="5014800"/>
              <a:ext cx="345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002120" y="3373560"/>
              <a:ext cx="18108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3951000" y="3925800"/>
              <a:ext cx="176040" cy="735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300240" y="2611440"/>
            <a:ext cx="8882280" cy="3563640"/>
            <a:chOff x="300240" y="2611440"/>
            <a:chExt cx="8882280" cy="3563640"/>
          </a:xfrm>
        </p:grpSpPr>
        <p:sp>
          <p:nvSpPr>
            <p:cNvPr id="283" name=""/>
            <p:cNvSpPr/>
            <p:nvPr/>
          </p:nvSpPr>
          <p:spPr>
            <a:xfrm>
              <a:off x="5056200" y="3911760"/>
              <a:ext cx="3452760" cy="0"/>
            </a:xfrm>
            <a:prstGeom prst="line">
              <a:avLst/>
            </a:prstGeom>
            <a:ln w="507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750960" y="3911760"/>
              <a:ext cx="37814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590920" y="38354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666880" y="4002120"/>
              <a:ext cx="0" cy="172548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1680" y="5811840"/>
              <a:ext cx="56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743600" y="3906720"/>
              <a:ext cx="143892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= ME = A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00240" y="3678120"/>
              <a:ext cx="43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567320" y="3713040"/>
              <a:ext cx="43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48520" y="2611440"/>
              <a:ext cx="18108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6999120" y="3164040"/>
              <a:ext cx="252720" cy="582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5445000" y="2033640"/>
            <a:ext cx="3959640" cy="4138200"/>
            <a:chOff x="5445000" y="2033640"/>
            <a:chExt cx="3959640" cy="4138200"/>
          </a:xfrm>
        </p:grpSpPr>
        <p:sp>
          <p:nvSpPr>
            <p:cNvPr id="294" name=""/>
            <p:cNvSpPr/>
            <p:nvPr/>
          </p:nvSpPr>
          <p:spPr>
            <a:xfrm>
              <a:off x="5445000" y="2536920"/>
              <a:ext cx="2524320" cy="2441520"/>
            </a:xfrm>
            <a:custGeom>
              <a:avLst/>
              <a:gdLst/>
              <a:ahLst/>
              <a:rect l="l" t="t" r="r" b="b"/>
              <a:pathLst>
                <a:path w="1590" h="1538">
                  <a:moveTo>
                    <a:pt x="0" y="0"/>
                  </a:moveTo>
                  <a:lnTo>
                    <a:pt x="16" y="21"/>
                  </a:lnTo>
                  <a:lnTo>
                    <a:pt x="32" y="53"/>
                  </a:lnTo>
                  <a:lnTo>
                    <a:pt x="65" y="122"/>
                  </a:lnTo>
                  <a:lnTo>
                    <a:pt x="105" y="201"/>
                  </a:lnTo>
                  <a:lnTo>
                    <a:pt x="153" y="297"/>
                  </a:lnTo>
                  <a:lnTo>
                    <a:pt x="258" y="487"/>
                  </a:lnTo>
                  <a:lnTo>
                    <a:pt x="315" y="578"/>
                  </a:lnTo>
                  <a:lnTo>
                    <a:pt x="371" y="657"/>
                  </a:lnTo>
                  <a:lnTo>
                    <a:pt x="500" y="805"/>
                  </a:lnTo>
                  <a:lnTo>
                    <a:pt x="637" y="943"/>
                  </a:lnTo>
                  <a:lnTo>
                    <a:pt x="782" y="1076"/>
                  </a:lnTo>
                  <a:lnTo>
                    <a:pt x="928" y="1192"/>
                  </a:lnTo>
                  <a:lnTo>
                    <a:pt x="1008" y="1245"/>
                  </a:lnTo>
                  <a:lnTo>
                    <a:pt x="1097" y="1298"/>
                  </a:lnTo>
                  <a:lnTo>
                    <a:pt x="1283" y="1394"/>
                  </a:lnTo>
                  <a:lnTo>
                    <a:pt x="1371" y="1436"/>
                  </a:lnTo>
                  <a:lnTo>
                    <a:pt x="1460" y="1473"/>
                  </a:lnTo>
                  <a:lnTo>
                    <a:pt x="1533" y="1505"/>
                  </a:lnTo>
                  <a:lnTo>
                    <a:pt x="1589" y="1537"/>
                  </a:lnTo>
                </a:path>
              </a:pathLst>
            </a:custGeom>
            <a:noFill/>
            <a:ln cap="rnd" w="507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289560" y="3998880"/>
              <a:ext cx="0" cy="17258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980320" y="5808600"/>
              <a:ext cx="43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961320" y="5040360"/>
              <a:ext cx="18396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6989760" y="4735080"/>
              <a:ext cx="20160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963200" y="4832280"/>
              <a:ext cx="116280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RP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L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= d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213600" y="383220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951160" y="2033640"/>
              <a:ext cx="3453480" cy="155196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.VnTime"/>
                </a:rPr>
                <a:t>Quan s¸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) Cty chấp nhận p= $10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) S = AE = ME = $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) ME = MRP = 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787320" y="1447920"/>
            <a:ext cx="8356680" cy="0"/>
          </a:xfrm>
          <a:prstGeom prst="line">
            <a:avLst/>
          </a:prstGeom>
          <a:ln w="38160">
            <a:solidFill>
              <a:srgbClr val="3765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19120" y="6440400"/>
            <a:ext cx="8356680" cy="0"/>
          </a:xfrm>
          <a:prstGeom prst="line">
            <a:avLst/>
          </a:prstGeom>
          <a:ln w="38160">
            <a:solidFill>
              <a:srgbClr val="3765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ỨC LƯƠNG THEO QUY ĐỊN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5909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q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gt; 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809880" y="609588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3809880" y="175212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H="1" flipV="1">
            <a:off x="4419360" y="-1219320"/>
            <a:ext cx="5637600" cy="670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1752840" y="-1143360"/>
            <a:ext cx="5181120" cy="6552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3809880" y="49528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638680" y="495288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809880" y="38862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553080" y="3886200"/>
            <a:ext cx="0" cy="22096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800600" y="3886200"/>
            <a:ext cx="0" cy="22096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276720" y="4724280"/>
            <a:ext cx="4572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00400" y="3505320"/>
            <a:ext cx="533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q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800600" y="380988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952880" y="3200400"/>
            <a:ext cx="1447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ất nghiệ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"/>
          <p:cNvGrpSpPr/>
          <p:nvPr/>
        </p:nvGrpSpPr>
        <p:grpSpPr>
          <a:xfrm>
            <a:off x="1177920" y="2590920"/>
            <a:ext cx="7958520" cy="3381840"/>
            <a:chOff x="1177920" y="2590920"/>
            <a:chExt cx="7958520" cy="3381840"/>
          </a:xfrm>
        </p:grpSpPr>
        <p:sp>
          <p:nvSpPr>
            <p:cNvPr id="320" name=""/>
            <p:cNvSpPr/>
            <p:nvPr/>
          </p:nvSpPr>
          <p:spPr>
            <a:xfrm>
              <a:off x="1177920" y="3071880"/>
              <a:ext cx="3071880" cy="246240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657960" y="5607000"/>
              <a:ext cx="115344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RP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440680" y="3124440"/>
              <a:ext cx="3071520" cy="246204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938000" y="5607000"/>
              <a:ext cx="115344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RP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435640" y="2590920"/>
              <a:ext cx="3511800" cy="185256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194320" y="4464000"/>
              <a:ext cx="94212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P *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P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28240" y="214200"/>
            <a:ext cx="8715240" cy="8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ÂN BẰNG THỊ TRƯỜNG LAO ĐỘ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-720" y="1828800"/>
            <a:ext cx="8904960" cy="4740120"/>
            <a:chOff x="-720" y="1828800"/>
            <a:chExt cx="8904960" cy="4740120"/>
          </a:xfrm>
        </p:grpSpPr>
        <p:grpSp>
          <p:nvGrpSpPr>
            <p:cNvPr id="328" name=""/>
            <p:cNvGrpSpPr/>
            <p:nvPr/>
          </p:nvGrpSpPr>
          <p:grpSpPr>
            <a:xfrm>
              <a:off x="1073160" y="2395440"/>
              <a:ext cx="7425720" cy="2696760"/>
              <a:chOff x="1073160" y="2395440"/>
              <a:chExt cx="7425720" cy="2696760"/>
            </a:xfrm>
          </p:grpSpPr>
          <p:sp>
            <p:nvSpPr>
              <p:cNvPr id="329" name=""/>
              <p:cNvSpPr/>
              <p:nvPr/>
            </p:nvSpPr>
            <p:spPr>
              <a:xfrm flipV="1">
                <a:off x="1073160" y="3103560"/>
                <a:ext cx="3224160" cy="1954080"/>
              </a:xfrm>
              <a:prstGeom prst="line">
                <a:avLst/>
              </a:prstGeom>
              <a:ln w="50760">
                <a:solidFill>
                  <a:srgbClr val="944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410280" y="2700360"/>
                <a:ext cx="902160" cy="36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1" i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L</a:t>
                </a: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 =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V="1">
                <a:off x="5410080" y="2756880"/>
                <a:ext cx="2543400" cy="2335320"/>
              </a:xfrm>
              <a:prstGeom prst="line">
                <a:avLst/>
              </a:prstGeom>
              <a:ln w="50760">
                <a:solidFill>
                  <a:srgbClr val="944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596720" y="2395440"/>
                <a:ext cx="902160" cy="36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1" i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L</a:t>
                </a: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 =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687240" y="2152800"/>
              <a:ext cx="0" cy="3935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954680" y="2152800"/>
              <a:ext cx="0" cy="3935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01640" y="6100920"/>
              <a:ext cx="3935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968720" y="6100920"/>
              <a:ext cx="3935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033720" y="6157800"/>
              <a:ext cx="19004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ố lượng công nhâ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870240" y="6205680"/>
              <a:ext cx="19598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ố lượng công nhân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-720" y="1828800"/>
              <a:ext cx="76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Lươ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190400" y="1828800"/>
              <a:ext cx="76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Lươ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41960" y="1919160"/>
              <a:ext cx="3418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.VnTime"/>
                </a:rPr>
                <a:t>ThÞ tr­êng ®Çu ra c¹nh tran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97600" y="1919160"/>
              <a:ext cx="34704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.VnTime"/>
                </a:rPr>
                <a:t>ThÞ tr­êng ®Çu ra ®éc quyÒ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3" name=""/>
            <p:cNvGrpSpPr/>
            <p:nvPr/>
          </p:nvGrpSpPr>
          <p:grpSpPr>
            <a:xfrm>
              <a:off x="236160" y="2895480"/>
              <a:ext cx="6848640" cy="3601080"/>
              <a:chOff x="236160" y="2895480"/>
              <a:chExt cx="6848640" cy="3601080"/>
            </a:xfrm>
          </p:grpSpPr>
          <p:sp>
            <p:nvSpPr>
              <p:cNvPr id="344" name=""/>
              <p:cNvSpPr/>
              <p:nvPr/>
            </p:nvSpPr>
            <p:spPr>
              <a:xfrm>
                <a:off x="2444760" y="4119480"/>
                <a:ext cx="152280" cy="152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>
                <a:off x="681120" y="4195800"/>
                <a:ext cx="17762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36160" y="4003560"/>
                <a:ext cx="45576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r>
                  <a:rPr b="1" i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2521080" y="4221360"/>
                <a:ext cx="0" cy="1866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293560" y="6095880"/>
                <a:ext cx="41760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r>
                  <a:rPr b="1" i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>
                <a:off x="4947840" y="4043520"/>
                <a:ext cx="16239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483240" y="3967200"/>
                <a:ext cx="15264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429080" y="3809880"/>
                <a:ext cx="46944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r>
                  <a:rPr b="1" i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559560" y="3219480"/>
                <a:ext cx="0" cy="2868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334200" y="6095880"/>
                <a:ext cx="43128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r>
                  <a:rPr b="1" i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H="1">
                <a:off x="4948200" y="3129120"/>
                <a:ext cx="151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483240" y="3052800"/>
                <a:ext cx="15264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429800" y="2895480"/>
                <a:ext cx="41760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r>
                  <a:rPr b="1" i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679480" y="400068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719760" y="384192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wipe dir="r"/>
  </p:transition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28240" y="214200"/>
            <a:ext cx="8915400" cy="10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ÂN BẰNG THỊ TRƯỜNG L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4343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ân bằng trong thị trường hàng hóa là cạnh tran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(MRP) = 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 W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MR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R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P * M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ị trường hiệu qu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190760" y="1600200"/>
            <a:ext cx="47638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ân bằng trong thị trường hàng hóa là độc quyề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R &lt;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RP = MR * M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huê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ại mức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= lợi ích biên của người tiêu dù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= chi phí biên của hã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ử dụng ít hơn mức sản lượng hiệu qu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7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2" dur="5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7" dur="5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2" dur="50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7" dur="500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2" dur="5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5" dur="500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8" dur="500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1" dur="500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4" dur="500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7" dur="500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0" dur="500"/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2209680" y="3048120"/>
            <a:ext cx="1677960" cy="2341440"/>
          </a:xfrm>
          <a:custGeom>
            <a:avLst/>
            <a:gdLst/>
            <a:ahLst/>
            <a:rect l="l" t="t" r="r" b="b"/>
            <a:pathLst>
              <a:path w="1057" h="1441">
                <a:moveTo>
                  <a:pt x="0" y="0"/>
                </a:moveTo>
                <a:lnTo>
                  <a:pt x="1056" y="0"/>
                </a:lnTo>
                <a:lnTo>
                  <a:pt x="1056" y="1056"/>
                </a:lnTo>
                <a:lnTo>
                  <a:pt x="0" y="1440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3886200" y="2960280"/>
            <a:ext cx="0" cy="30718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809880" y="2971800"/>
            <a:ext cx="15264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224080" y="3048120"/>
            <a:ext cx="15732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752840" y="2738520"/>
            <a:ext cx="432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659040" y="5962680"/>
            <a:ext cx="37044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572000" y="1066680"/>
            <a:ext cx="4343400" cy="2018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ếu nghiệp đoàn muốn L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 MAX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được thuê thì chọn A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ếu nghiệp đoàn muốn tối đa hóa tổng lương thì cung cấp tại L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với mức lương W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2201760" y="3890520"/>
            <a:ext cx="4049640" cy="1468440"/>
          </a:xfrm>
          <a:prstGeom prst="line">
            <a:avLst/>
          </a:prstGeom>
          <a:ln w="507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178680" y="3581280"/>
            <a:ext cx="38880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952720" y="2160720"/>
            <a:ext cx="3270240" cy="299556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249960" y="4975200"/>
            <a:ext cx="4266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541600" y="2389320"/>
            <a:ext cx="2081160" cy="3605040"/>
          </a:xfrm>
          <a:prstGeom prst="line">
            <a:avLst/>
          </a:prstGeom>
          <a:ln w="507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465880" y="5294160"/>
            <a:ext cx="536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4408560" y="5500800"/>
            <a:ext cx="1014480" cy="125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Ị TRƯỜNG LAO ĐỘNG ĐQ BÁN</a:t>
            </a:r>
            <a:r>
              <a:rPr b="0" lang="en-US" sz="3400" spc="-1" strike="noStrike">
                <a:solidFill>
                  <a:srgbClr val="000000"/>
                </a:solidFill>
                <a:latin typeface="VNI-Times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209680" y="1751040"/>
            <a:ext cx="0" cy="426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203560" y="6006960"/>
            <a:ext cx="4454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860800" y="5996160"/>
            <a:ext cx="2115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ố lượng công nhâ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588680" y="1670040"/>
            <a:ext cx="365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094360" y="375912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224080" y="4267080"/>
            <a:ext cx="29448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181480" y="4191120"/>
            <a:ext cx="15264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024160" y="5948280"/>
            <a:ext cx="375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5257800" y="4255560"/>
            <a:ext cx="0" cy="177660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747440" y="4110120"/>
            <a:ext cx="438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477120" y="2971800"/>
            <a:ext cx="2666880" cy="307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ếu nghiệp đoàn muốn đạt mức lương cao hơn thì hạn chế thành viên ở L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ới đơn giá W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 Điều này giúp nghiệp đoàn tối đa hóa tô kinh t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4648320" y="365760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20968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495680" y="6172200"/>
            <a:ext cx="381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600200" y="3429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80010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Ị TRƯỜNG LAO ĐỘNG ĐQ MU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685800" y="1752480"/>
            <a:ext cx="8458200" cy="4291920"/>
            <a:chOff x="685800" y="1752480"/>
            <a:chExt cx="8458200" cy="4291920"/>
          </a:xfrm>
        </p:grpSpPr>
        <p:sp>
          <p:nvSpPr>
            <p:cNvPr id="394" name=""/>
            <p:cNvSpPr/>
            <p:nvPr/>
          </p:nvSpPr>
          <p:spPr>
            <a:xfrm flipV="1">
              <a:off x="1371600" y="1752480"/>
              <a:ext cx="0" cy="381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371600" y="5562720"/>
              <a:ext cx="441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752480" y="2286000"/>
              <a:ext cx="3048120" cy="274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1523880" y="2285640"/>
              <a:ext cx="2819520" cy="243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 flipV="1">
              <a:off x="1828800" y="3809520"/>
              <a:ext cx="327672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419720" y="213372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181480" y="3657600"/>
              <a:ext cx="1905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= A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800600" y="4876920"/>
              <a:ext cx="838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RP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048120" y="342900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886200" y="419112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1371240" y="4495680"/>
              <a:ext cx="1676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1371240" y="4191120"/>
              <a:ext cx="25146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590920" y="5638680"/>
              <a:ext cx="4190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        L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              Đơn vị lao độ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85800" y="1981080"/>
              <a:ext cx="609480" cy="290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i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696080" y="281952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705720" y="2133720"/>
              <a:ext cx="2438280" cy="3573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Hãng thuê L* khi ME=MRP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tương ứng với L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và trả mức lương W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214200"/>
            <a:ext cx="8410320" cy="14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Ị TRƯỜNG LAO ĐỘNG ĐỘC QUYỀN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NG PHƯƠ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380880" y="1828800"/>
            <a:ext cx="8393760" cy="4733640"/>
            <a:chOff x="380880" y="1828800"/>
            <a:chExt cx="8393760" cy="4733640"/>
          </a:xfrm>
        </p:grpSpPr>
        <p:sp>
          <p:nvSpPr>
            <p:cNvPr id="412" name=""/>
            <p:cNvSpPr/>
            <p:nvPr/>
          </p:nvSpPr>
          <p:spPr>
            <a:xfrm>
              <a:off x="2209680" y="1962000"/>
              <a:ext cx="0" cy="426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203560" y="6218280"/>
              <a:ext cx="5395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081560" y="6248520"/>
              <a:ext cx="16930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ố lượng công nhâ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665360" y="1828800"/>
              <a:ext cx="3337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NI-Times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6" name=""/>
            <p:cNvGrpSpPr/>
            <p:nvPr/>
          </p:nvGrpSpPr>
          <p:grpSpPr>
            <a:xfrm>
              <a:off x="2846520" y="2617920"/>
              <a:ext cx="5195880" cy="2769840"/>
              <a:chOff x="2846520" y="2617920"/>
              <a:chExt cx="5195880" cy="2769840"/>
            </a:xfrm>
          </p:grpSpPr>
          <p:sp>
            <p:nvSpPr>
              <p:cNvPr id="417" name=""/>
              <p:cNvSpPr/>
              <p:nvPr/>
            </p:nvSpPr>
            <p:spPr>
              <a:xfrm>
                <a:off x="3075120" y="2617920"/>
                <a:ext cx="3909960" cy="1699920"/>
              </a:xfrm>
              <a:prstGeom prst="line">
                <a:avLst/>
              </a:prstGeom>
              <a:ln w="507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792840" y="4414680"/>
                <a:ext cx="124956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L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= MRP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846520" y="2846520"/>
                <a:ext cx="3071520" cy="2157120"/>
              </a:xfrm>
              <a:prstGeom prst="line">
                <a:avLst/>
              </a:prstGeom>
              <a:ln w="507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5710320" y="5024520"/>
                <a:ext cx="53640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M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1" name=""/>
            <p:cNvSpPr/>
            <p:nvPr/>
          </p:nvSpPr>
          <p:spPr>
            <a:xfrm>
              <a:off x="1900080" y="541332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747440" y="4611600"/>
              <a:ext cx="4071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747440" y="3808440"/>
              <a:ext cx="4071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747440" y="3006720"/>
              <a:ext cx="4071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747440" y="2205000"/>
              <a:ext cx="4071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043440" y="6199200"/>
              <a:ext cx="43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160880" y="6199200"/>
              <a:ext cx="43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396120" y="6199200"/>
              <a:ext cx="43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9" name=""/>
            <p:cNvGrpSpPr/>
            <p:nvPr/>
          </p:nvGrpSpPr>
          <p:grpSpPr>
            <a:xfrm>
              <a:off x="2787480" y="1900080"/>
              <a:ext cx="4557240" cy="3633480"/>
              <a:chOff x="2787480" y="1900080"/>
              <a:chExt cx="4557240" cy="3633480"/>
            </a:xfrm>
          </p:grpSpPr>
          <p:sp>
            <p:nvSpPr>
              <p:cNvPr id="430" name=""/>
              <p:cNvSpPr/>
              <p:nvPr/>
            </p:nvSpPr>
            <p:spPr>
              <a:xfrm flipV="1">
                <a:off x="2787480" y="2256480"/>
                <a:ext cx="2300760" cy="2826360"/>
              </a:xfrm>
              <a:prstGeom prst="line">
                <a:avLst/>
              </a:prstGeom>
              <a:ln w="507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V="1">
                <a:off x="3318840" y="3007800"/>
                <a:ext cx="3591360" cy="2525760"/>
              </a:xfrm>
              <a:prstGeom prst="line">
                <a:avLst/>
              </a:prstGeom>
              <a:ln w="5076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410520" y="2651040"/>
                <a:ext cx="934200" cy="36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1" i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L </a:t>
                </a: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 A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5032800" y="1900080"/>
                <a:ext cx="48636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4" name=""/>
            <p:cNvGrpSpPr/>
            <p:nvPr/>
          </p:nvGrpSpPr>
          <p:grpSpPr>
            <a:xfrm>
              <a:off x="1747440" y="3195720"/>
              <a:ext cx="3406680" cy="3366720"/>
              <a:chOff x="1747440" y="3195720"/>
              <a:chExt cx="3406680" cy="3366720"/>
            </a:xfrm>
          </p:grpSpPr>
          <p:sp>
            <p:nvSpPr>
              <p:cNvPr id="435" name=""/>
              <p:cNvSpPr/>
              <p:nvPr/>
            </p:nvSpPr>
            <p:spPr>
              <a:xfrm>
                <a:off x="4719600" y="6199200"/>
                <a:ext cx="4345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747440" y="3195720"/>
                <a:ext cx="40716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224080" y="3429000"/>
                <a:ext cx="2716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V="1">
                <a:off x="4952880" y="3494160"/>
                <a:ext cx="0" cy="2766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876920" y="3352680"/>
                <a:ext cx="152280" cy="152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0" name=""/>
            <p:cNvGrpSpPr/>
            <p:nvPr/>
          </p:nvGrpSpPr>
          <p:grpSpPr>
            <a:xfrm>
              <a:off x="2224080" y="3124080"/>
              <a:ext cx="2195640" cy="3136680"/>
              <a:chOff x="2224080" y="3124080"/>
              <a:chExt cx="2195640" cy="3136680"/>
            </a:xfrm>
          </p:grpSpPr>
          <p:sp>
            <p:nvSpPr>
              <p:cNvPr id="441" name=""/>
              <p:cNvSpPr/>
              <p:nvPr/>
            </p:nvSpPr>
            <p:spPr>
              <a:xfrm>
                <a:off x="4267080" y="472428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24080" y="3200400"/>
                <a:ext cx="20304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V="1">
                <a:off x="4343400" y="3188880"/>
                <a:ext cx="0" cy="3071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4267080" y="312408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224080" y="4800600"/>
                <a:ext cx="2106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380880" y="3425760"/>
              <a:ext cx="1452600" cy="1378080"/>
              <a:chOff x="380880" y="3425760"/>
              <a:chExt cx="1452600" cy="1378080"/>
            </a:xfrm>
          </p:grpSpPr>
          <p:sp>
            <p:nvSpPr>
              <p:cNvPr id="447" name=""/>
              <p:cNvSpPr/>
              <p:nvPr/>
            </p:nvSpPr>
            <p:spPr>
              <a:xfrm>
                <a:off x="1504080" y="3425760"/>
                <a:ext cx="325080" cy="1378080"/>
              </a:xfrm>
              <a:custGeom>
                <a:avLst/>
                <a:gdLst/>
                <a:ahLst/>
                <a:rect l="l" t="t" r="r" b="b"/>
                <a:pathLst>
                  <a:path w="241" h="868">
                    <a:moveTo>
                      <a:pt x="240" y="0"/>
                    </a:moveTo>
                    <a:lnTo>
                      <a:pt x="216" y="0"/>
                    </a:lnTo>
                    <a:lnTo>
                      <a:pt x="194" y="5"/>
                    </a:lnTo>
                    <a:lnTo>
                      <a:pt x="174" y="14"/>
                    </a:lnTo>
                    <a:lnTo>
                      <a:pt x="155" y="23"/>
                    </a:lnTo>
                    <a:lnTo>
                      <a:pt x="141" y="33"/>
                    </a:lnTo>
                    <a:lnTo>
                      <a:pt x="129" y="46"/>
                    </a:lnTo>
                    <a:lnTo>
                      <a:pt x="122" y="60"/>
                    </a:lnTo>
                    <a:lnTo>
                      <a:pt x="120" y="74"/>
                    </a:lnTo>
                    <a:lnTo>
                      <a:pt x="120" y="360"/>
                    </a:lnTo>
                    <a:lnTo>
                      <a:pt x="118" y="374"/>
                    </a:lnTo>
                    <a:lnTo>
                      <a:pt x="111" y="388"/>
                    </a:lnTo>
                    <a:lnTo>
                      <a:pt x="100" y="401"/>
                    </a:lnTo>
                    <a:lnTo>
                      <a:pt x="85" y="411"/>
                    </a:lnTo>
                    <a:lnTo>
                      <a:pt x="67" y="420"/>
                    </a:lnTo>
                    <a:lnTo>
                      <a:pt x="46" y="429"/>
                    </a:lnTo>
                    <a:lnTo>
                      <a:pt x="24" y="434"/>
                    </a:lnTo>
                    <a:lnTo>
                      <a:pt x="0" y="434"/>
                    </a:lnTo>
                    <a:lnTo>
                      <a:pt x="24" y="434"/>
                    </a:lnTo>
                    <a:lnTo>
                      <a:pt x="46" y="438"/>
                    </a:lnTo>
                    <a:lnTo>
                      <a:pt x="67" y="448"/>
                    </a:lnTo>
                    <a:lnTo>
                      <a:pt x="85" y="457"/>
                    </a:lnTo>
                    <a:lnTo>
                      <a:pt x="100" y="466"/>
                    </a:lnTo>
                    <a:lnTo>
                      <a:pt x="111" y="480"/>
                    </a:lnTo>
                    <a:lnTo>
                      <a:pt x="118" y="494"/>
                    </a:lnTo>
                    <a:lnTo>
                      <a:pt x="120" y="507"/>
                    </a:lnTo>
                    <a:lnTo>
                      <a:pt x="120" y="793"/>
                    </a:lnTo>
                    <a:lnTo>
                      <a:pt x="122" y="807"/>
                    </a:lnTo>
                    <a:lnTo>
                      <a:pt x="129" y="821"/>
                    </a:lnTo>
                    <a:lnTo>
                      <a:pt x="141" y="835"/>
                    </a:lnTo>
                    <a:lnTo>
                      <a:pt x="155" y="844"/>
                    </a:lnTo>
                    <a:lnTo>
                      <a:pt x="174" y="853"/>
                    </a:lnTo>
                    <a:lnTo>
                      <a:pt x="194" y="862"/>
                    </a:lnTo>
                    <a:lnTo>
                      <a:pt x="216" y="867"/>
                    </a:lnTo>
                    <a:lnTo>
                      <a:pt x="240" y="86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80880" y="3881520"/>
                <a:ext cx="1452600" cy="57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Mức lương có thể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9" name=""/>
            <p:cNvGrpSpPr/>
            <p:nvPr/>
          </p:nvGrpSpPr>
          <p:grpSpPr>
            <a:xfrm>
              <a:off x="1756440" y="3535200"/>
              <a:ext cx="4110840" cy="365760"/>
              <a:chOff x="1756440" y="3535200"/>
              <a:chExt cx="4110840" cy="365760"/>
            </a:xfrm>
          </p:grpSpPr>
          <p:sp>
            <p:nvSpPr>
              <p:cNvPr id="450" name=""/>
              <p:cNvSpPr/>
              <p:nvPr/>
            </p:nvSpPr>
            <p:spPr>
              <a:xfrm>
                <a:off x="2224080" y="3809880"/>
                <a:ext cx="34783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715000" y="373392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1756440" y="3535200"/>
                <a:ext cx="423720" cy="36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r>
                  <a:rPr b="1" i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ĐỘC QUYỀN SONG PHƯƠ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3971520" y="1676520"/>
            <a:ext cx="5171760" cy="4312080"/>
            <a:chOff x="3971520" y="1676520"/>
            <a:chExt cx="5171760" cy="4312080"/>
          </a:xfrm>
        </p:grpSpPr>
        <p:sp>
          <p:nvSpPr>
            <p:cNvPr id="455" name=""/>
            <p:cNvSpPr/>
            <p:nvPr/>
          </p:nvSpPr>
          <p:spPr>
            <a:xfrm>
              <a:off x="4484160" y="2116080"/>
              <a:ext cx="0" cy="359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480200" y="5703840"/>
              <a:ext cx="3583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93880" y="5529600"/>
              <a:ext cx="10494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971520" y="167652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059440" y="2669040"/>
              <a:ext cx="2596680" cy="143208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525440" y="4184280"/>
              <a:ext cx="101520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L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= MRP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906440" y="2862720"/>
              <a:ext cx="2040480" cy="181764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809040" y="4698360"/>
              <a:ext cx="4572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185720" y="502452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084560" y="434988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084560" y="367272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084560" y="299808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177080" y="232056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036400" y="5686560"/>
              <a:ext cx="379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779440" y="5686560"/>
              <a:ext cx="379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264080" y="5686560"/>
              <a:ext cx="379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flipV="1">
              <a:off x="4868280" y="2366280"/>
              <a:ext cx="1527840" cy="2381400"/>
            </a:xfrm>
            <a:prstGeom prst="line">
              <a:avLst/>
            </a:prstGeom>
            <a:ln w="507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5222160" y="2997720"/>
              <a:ext cx="2384280" cy="2128680"/>
            </a:xfrm>
            <a:prstGeom prst="line">
              <a:avLst/>
            </a:prstGeom>
            <a:ln w="507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272360" y="2697480"/>
              <a:ext cx="84780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i="1" lang="en-US" sz="1200" spc="-1" strike="noStrike" baseline="-25000">
                  <a:solidFill>
                    <a:srgbClr val="000000"/>
                  </a:solidFill>
                  <a:latin typeface="Arial"/>
                </a:rPr>
                <a:t>L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(AE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359400" y="2063880"/>
              <a:ext cx="4100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150960" y="5686560"/>
              <a:ext cx="379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084560" y="315684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493880" y="3353040"/>
              <a:ext cx="18050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 flipV="1">
              <a:off x="6306120" y="3407400"/>
              <a:ext cx="0" cy="233352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254640" y="3289680"/>
              <a:ext cx="101160" cy="128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851440" y="4445640"/>
              <a:ext cx="101160" cy="128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493880" y="3160800"/>
              <a:ext cx="13478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 flipV="1">
              <a:off x="5900760" y="3149640"/>
              <a:ext cx="0" cy="259092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851440" y="3095640"/>
              <a:ext cx="101160" cy="128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493880" y="4508640"/>
              <a:ext cx="13993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493880" y="3674880"/>
              <a:ext cx="230976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813000" y="3609720"/>
              <a:ext cx="101160" cy="128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090680" y="3441960"/>
              <a:ext cx="36432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1" i="1" lang="en-US" sz="12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342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hi không có quyền lực độc quyền của công đoà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uê L = 20 tại MRP = ME và w = $10/giờ</a:t>
            </a:r>
            <a:r>
              <a:rPr b="0" lang="en-US" sz="2400" spc="-1" strike="noStrike">
                <a:solidFill>
                  <a:srgbClr val="000000"/>
                </a:solidFill>
                <a:latin typeface="VNI-Times"/>
              </a:rPr>
              <a:t>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ục tiêu của công đoà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R = 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ại L = 25 và w = $19/gi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81532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ẦU LAO ĐỘ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9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Cầu thứ phá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Phụ thuộc vào 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Đường cầu lao động củ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ãng dốc xuố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MR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M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* M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MR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M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* 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 khi thị trường hàng hóa l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ạnh tranh hoàn hả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029200" y="2473200"/>
            <a:ext cx="4067280" cy="32529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ẦU L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KN: CÇu L§ lµ 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</a:rPr>
              <a:t>đại lượng phản ánh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sè l­î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L§ mµ ng­êi chñ s½n lßng vµ cã kh¶ n¨ng thu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m­ín ë c¸c møc tr¶ c«ng (l­¬ng) </a:t>
            </a:r>
            <a:r>
              <a:rPr b="0" lang="de-DE" sz="3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nhau tro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1 kho¶ng tgian n®Þnh(c¸c yÕu tè kh¸c kh«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®æ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CÇu vÒ L§ lµ cÇu thø ph¸t(cÇu dÉn xuÊ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§­êng cÇu vÒ L§ còng dèc xuèng vµ ph¶n ¸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luËt cÇu vÒ L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        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w 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(↓) =&gt; D</a:t>
            </a:r>
            <a:r>
              <a:rPr b="0" lang="de-DE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Đ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(↑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30240"/>
            <a:ext cx="86868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.VnTime"/>
              </a:rPr>
              <a:t>CÇu thø ph¸t(dÉn xuÊt</a:t>
            </a:r>
            <a:r>
              <a:rPr b="0" lang="de-DE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4000" spc="-1" strike="noStrike">
                <a:solidFill>
                  <a:srgbClr val="000000"/>
                </a:solidFill>
                <a:latin typeface=".VnTime"/>
              </a:rPr>
              <a:t>ph¸t sinh sau vµ phô thuéc vµo cÇu hµng ho¸, dÞch vô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</a:rPr>
              <a:t>Cầu lđ là cầu thứ phát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v× nã phô thuéc vµo v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®­îc dÉn xuÊt tõ møc s¶n l­îng ®Çu ra ví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CP ®Çu vµo cña DN mµ môc tiªu lµ II</a:t>
            </a:r>
            <a:r>
              <a:rPr b="0" lang="de-DE" sz="3600" spc="-1" strike="noStrike" baseline="-25000">
                <a:solidFill>
                  <a:srgbClr val="000000"/>
                </a:solidFill>
                <a:latin typeface=".VnTime"/>
              </a:rPr>
              <a:t>MAX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Muèn II</a:t>
            </a:r>
            <a:r>
              <a:rPr b="0" lang="de-DE" sz="3600" spc="-1" strike="noStrike" baseline="-25000">
                <a:solidFill>
                  <a:srgbClr val="000000"/>
                </a:solidFill>
                <a:latin typeface=".VnTime"/>
              </a:rPr>
              <a:t>MAX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th× c¸c DN l¹i dùa vµo cÇu cñ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ng­êi TD ®Ó X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.VnTime"/>
              </a:rPr>
              <a:t>+ L­îng H2 mµ DN ph¶i cung cho t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.VnTime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.VnTime"/>
              </a:rPr>
              <a:t>+ Chi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í</a:t>
            </a:r>
            <a:r>
              <a:rPr b="0" lang="en-US" sz="3600" spc="-1" strike="noStrike">
                <a:solidFill>
                  <a:srgbClr val="000000"/>
                </a:solidFill>
                <a:latin typeface=".VnTime"/>
              </a:rPr>
              <a:t> cho L§(møc tiÒn c«ng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UẬT CẦU VỀ LAO ĐỘ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2057400"/>
            <a:ext cx="3733920" cy="41911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w 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(↓) =&gt; D</a:t>
            </a:r>
            <a:r>
              <a:rPr b="0" lang="de-DE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Đ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(↑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ức lương (w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y đổi dẫn đế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ó sự vận độ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ọc theo đườ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ầu ( I đến 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343400" y="62485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343400" y="182844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5333760" y="-1372320"/>
            <a:ext cx="5485680" cy="7162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343400" y="37339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267080" y="52578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62720" y="373392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553080" y="5257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657600" y="1752480"/>
            <a:ext cx="4572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077320" y="6477120"/>
            <a:ext cx="5331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81280" y="4952880"/>
            <a:ext cx="6098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72200" y="6400800"/>
            <a:ext cx="609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3809880" y="4343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81280" y="3429000"/>
            <a:ext cx="533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5791320" y="66294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257800" y="6400800"/>
            <a:ext cx="533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95680" y="4267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91320" y="6019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15200" y="4648320"/>
            <a:ext cx="4572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705720" y="4800600"/>
            <a:ext cx="3808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15000" y="3276720"/>
            <a:ext cx="533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15000" y="4038480"/>
            <a:ext cx="763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 flipV="1">
            <a:off x="6171840" y="47239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3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6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9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2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5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8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IỚI HẠN GIÁ CẢ SL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.VnTime"/>
              </a:rPr>
              <a:t>* gi¸ trÞ t­ liÖu TD tèi thiÓu mµ 1 L§ cÇ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.VnTime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.VnTime"/>
              </a:rPr>
              <a:t>cã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.VnTime"/>
              </a:rPr>
              <a:t>cã ®iÒu tiÕt: TLTDmin (lương quy ®Þnh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.VnTime"/>
              </a:rPr>
              <a:t>kh«ng cã ®iÒu tiÕt: (tiÒn c«ng)min m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.VnTime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.VnTime"/>
              </a:rPr>
              <a:t>ng­êi L§ chÊp nhË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.VnTime"/>
              </a:rPr>
              <a:t>* giíi h¹n tèi ®a gi¸ c¶ SL§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.VnTime"/>
              </a:rPr>
              <a:t>       </a:t>
            </a:r>
            <a:r>
              <a:rPr b="0" lang="en-US" sz="4000" spc="-1" strike="noStrike">
                <a:solidFill>
                  <a:srgbClr val="000000"/>
                </a:solidFill>
                <a:latin typeface=".VnTime"/>
              </a:rPr>
              <a:t>W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≤ MR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019920" y="4597560"/>
            <a:ext cx="2971800" cy="19810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3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RP và MP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ản phẩm doanh thu cận biê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NI-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K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ản phẩm doanh thu cận biên là doanh thu thu thêm được khi SD thêm 1 đơn vị 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ông thức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MRP =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/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=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/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.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/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= MR.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2.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ản phẩm hiện vật cận biê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NI-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K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ản phẩm hiện vật cận biên là sp tăng thêm khi SD thêm 1 đơn vị 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ông thức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MPP =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/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= 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&gt; KL: nếu là thị trường CTHH =&gt;MRP = MPP.P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213840"/>
            <a:ext cx="8915400" cy="7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Nguyên tắc thuê</a:t>
            </a:r>
            <a:r>
              <a:rPr b="0" lang="en-US" sz="5400" spc="-1" strike="noStrike">
                <a:solidFill>
                  <a:srgbClr val="000000"/>
                </a:solidFill>
                <a:latin typeface="VNI-Times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lao độ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24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ếu MR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&gt; W: thuê thêm lao độ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ếu MR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&lt; W: thuê ít lao động</a:t>
            </a:r>
            <a:r>
              <a:rPr b="0" lang="en-US" sz="3600" spc="-1" strike="noStrike">
                <a:solidFill>
                  <a:srgbClr val="000000"/>
                </a:solidFill>
                <a:latin typeface="VNI-Times"/>
              </a:rPr>
              <a:t> hơ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ếu MR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= W: số lượng lao động đạt tối ưu tại đó tối đa hóa lợi nhuậ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VNI-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NI-Times"/>
              </a:rPr>
              <a:t>CM: Để 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A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Đ Q tại  MR = MC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NI-Time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VNI-Times"/>
              </a:rPr>
              <a:t>MC = W/ MP =&gt; MC = MR =&gt; W = MR.M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NI-Time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VNI-Times"/>
              </a:rPr>
              <a:t>MRP =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/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= 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/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.  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/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= MR.M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NI-Times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VNI-Times"/>
              </a:rPr>
              <a:t>=&gt; KL:  W = MR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VNI-Times"/>
              </a:rPr>
              <a:t>L</a:t>
            </a:r>
            <a:r>
              <a:rPr b="0" lang="en-US" sz="3600" spc="-1" strike="noStrike">
                <a:solidFill>
                  <a:srgbClr val="000000"/>
                </a:solidFill>
                <a:latin typeface="VNI-Times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9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3T18:29:25Z</dcterms:created>
  <dc:creator>Mem nhun</dc:creator>
  <dc:description/>
  <dc:language>en-US</dc:language>
  <cp:lastModifiedBy>Retestrak</cp:lastModifiedBy>
  <dcterms:modified xsi:type="dcterms:W3CDTF">2008-05-26T08:30:24Z</dcterms:modified>
  <cp:revision>85</cp:revision>
  <dc:subject/>
  <dc:title>Slide 1</dc:title>
</cp:coreProperties>
</file>