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56C-502D-499E-B3B0-24C077E2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117-97A9-4328-B6BF-49E12F8D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B3E4DB-E289-410F-8DA7-87BEE423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EB3C54-F76C-44BC-8BE9-8623A166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E778A1-31E5-4E15-AF56-454C9632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6E3871-4E24-4E42-9DC0-26E19436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DE6AA-1D59-4C81-B4D5-1B0C56F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6C5CD-2796-4DB3-B640-D503E0C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57F6D-4092-4029-B184-F25DBD1E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8BCBA0-75F9-4666-AC5A-770192C8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B9D3E-66AC-445E-88FB-53B23B02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F2A544-D16D-4DBE-8AAA-6F362091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89C-B954-49C7-AE93-CF495DFC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018D3-6AA9-4595-B996-DD95BEDE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8B2F44-681E-4E50-B0EA-4BA012A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7D4A99-1AB3-4D7F-A1D5-0571ABF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445BD-494A-494A-BEB1-A5170E0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D1E5A2-BA21-4DB4-AA7B-CD1E45D6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53AB81-9CCA-4B24-9514-1D5BA25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7A880D-BD9C-4B79-BFFB-7790625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D3056E-F2A7-4CE8-9962-B9BB00E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6619B5-AC39-4ABC-B748-03552E41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CC371D-430B-45D4-9191-9399583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DAA-BE35-4E05-BE7B-20D6AA85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BB902F-5271-4208-B9A5-74FE7462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12C7FE-0160-45A8-A088-B0623C23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A9F441-59BB-4EEE-A83E-77E906DC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F5632B-B168-40BA-9E65-DAE90003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CE82E0-E306-4543-9211-C4E76FB5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904A2D-5AAD-4AC9-A989-086DD7B4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03C319-DEAD-4788-8A50-93E705B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A56EC-A2AC-4DA4-B973-94118B00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2D71E4-9835-43BD-84A4-77097F8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9DB002-C80E-4853-BDAF-A616ECA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B8AC-AC33-42B0-975C-A0FE41C4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129D56-9F3F-4446-B1CD-5E53100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CF7FF7-504F-45FD-8676-7C2D769B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473A7C-111A-4764-ABF6-15514D55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E6C45B-57D6-4557-8AC2-7A152D0F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FE9EF6-9B98-42CF-A289-DED6C36E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835C30-09A5-4054-A3B2-A68CD6F6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F3EF28-F9F6-47F6-A857-6E7246A6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4C768E-CCC4-434B-9967-D47704AB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88C7DA-F2AE-4983-AD81-4DA4B4E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7EBC39-E278-4D15-9DC4-0098D75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B1CF-D6B6-4784-AAFE-121A897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B0731A-A7C3-4E18-8EC8-FC8ED16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31F1AC-2F68-4DBA-BCAC-FD2AD91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43DBC3-7126-45D7-A965-D0FAA33C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C41EBE-ABDC-4929-8BB8-F4CFBE1B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797B6B-7182-444B-B456-D114FF20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96D293-5C07-47BC-A9BE-0D693DA6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17FBBA-665F-4523-823B-537B776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55FFCC-3C84-487C-8206-00CA6477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D2DC18-9062-49EB-8133-1BDF9C97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A19CCD-ADCD-475E-855E-135F032A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9097-A82D-4A38-8CB3-766AE334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7D5756-AF67-4D71-A577-990B621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80322F-ED89-46D4-B9E8-9664C829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31963F-989E-4433-A6B2-77441A0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2F0858-91D7-482C-87CC-DF11C3A6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AAB0A9-A9A3-4A75-895D-8BE5B1E8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85834B-29BE-4A70-A9DD-4D114F2B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6600C-5D2E-4DB4-ABD2-4EFA3EBE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B2C2-E87E-4CBE-B250-1AF42D6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860D-5190-43F5-AF98-6A22A1A1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E2AE-502B-4957-8F91-5DBE1580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2450-7DC9-4D20-8ABD-F0750B6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764-5246-4179-AE16-70E5D43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EE22-D993-4457-A7DC-A6A2D04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DA0D-4DBB-4682-9255-40DB78D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FEA7-44BC-41AE-AA23-BFF4CF8F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ACBF-EF8F-48E1-A2B5-39125308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9882-B224-4DE6-ABFD-6055CF9A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C4C92-84EF-4B19-8469-0371A6CEF7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2F345-05A4-4F7C-B416-E00BFEA9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C4D80-4519-4A28-9DB6-7D7F13FF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7637F-49BE-4926-AA8B-181DEBDB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1C0CE-51C7-45CC-8307-92F0C961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5F5-1848-43E6-839B-9B873C8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CBD0E-4E86-4318-A23C-F74E1001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BC0A0-AA77-485A-AD1B-6BBEEEF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6FC3F-63A0-44D8-8612-2566DFE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9E43A-F76C-4DB8-9350-03F93446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7D7EA-8D1E-4D79-B7EC-CFAFB98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3A5D2-791D-4073-91C4-C563749A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0DAD0-3FFF-4D3F-A8A2-B402E1FDF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61054-32A8-4566-B3ED-C236FA27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7A528-71FB-48C6-8D49-D7B26A4A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CC328-9BC1-42A3-A3B4-B4FD0A2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ACA-DA91-4936-8D22-48D28864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2B86B-6E4F-4F41-8502-AEBAD39E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68FDE-ED5A-4616-AE19-F2F8A72F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F908F-D823-4EF2-A089-DF40D7A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C2251-D917-4906-9C30-DAB1E897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4E939-FD87-492D-AAAB-F143A44B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5E589-40AD-4030-B34D-8745F55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AAD75-0CEC-4EC1-921A-E82B26DE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E1A31-8354-480A-A5A7-29B47F8C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52DCD-5364-4E42-AADB-DCBA8DFD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C00E9-6CE5-41D5-B474-3664853A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D77-3AC6-42A1-8607-F022E92A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F5601-198F-4DBF-B83B-0B3F074C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985D0-E9CA-4A5F-9E14-D0AA0D4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70A3D-1E3A-48B4-B64C-A3E1B9C7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C51B3-43DC-4BE8-B7C9-A2FC55D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6A175-1B50-445D-B15E-9D63842F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1F877-3B30-40E3-8BB4-D471F34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60C47-A518-41FD-859F-FE77E894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9A32A-E734-48F6-BB06-9EFE016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DB1D4-234E-4A75-BA30-6C491D55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23D01-9FE6-453E-87DE-CA2CC4F8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EAB-0E59-4BD0-B24A-E879A155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846B0-E71F-4E2C-8CB3-0C11F0CB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41FDF-4004-4966-9862-7EB8FD44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C95BF-E672-4FDC-95F2-58558DE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2968A-510B-4A1F-B781-4C47315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C8493-7B1B-4923-8201-E068746F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FD226-AA42-4D44-9B19-1A80945A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E3B9F-4E9A-407F-AFDE-413B260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86A1E-A288-4C11-9E48-40A0AD1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DC09C-CD2A-4C68-8050-0469F01B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08578-8DCB-4E89-B5E6-089B243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70F-EB7A-491D-AAA6-3662CF5E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BCDF9-23A5-4E38-B256-36086C67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2F264-449A-4665-82C8-4D8BBAAF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BA99D-A820-4E0E-A095-AFE8DDCA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0DD21-86F2-4A60-8C7B-A9C6C5EC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BE1D9-75D1-4270-8040-39D64006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4C40A-DE3B-41FC-8877-8459DF9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115BF-2BAB-4DEA-BBDA-6B9A6E05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E2BE2-45DF-4915-8924-329DF78B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5FF42-0633-4566-9581-7509D4B6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EC032-41A5-41F8-B5FF-9A4B644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160-08CE-4C94-8AED-2E58363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22AFB-A94E-4676-90F4-0538D47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E25F9-BA6B-4BBB-9F7E-CC21D3F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DE9B2-432E-4FC1-B194-834DEBC8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18ED4-E725-4070-9E77-ED4ED46D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21A3E-C01F-43B0-9081-FFFBEB7C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27A43-1304-4744-BF37-F94E8902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B25419-FD9C-47A8-BA11-9DB71BCD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A2840-1022-4C55-AC39-9D6E8CD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5EC4C-07B9-40BB-BEC8-F36AD198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0E6E92-767D-4653-A024-6DC459C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01D-3F4E-42C3-B8C7-980B5940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5A5D5-CC4C-461B-8BAD-17748D2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6312E-87D1-4F09-8093-C400C7F5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F72D2-97CD-4156-92CA-FBDCC393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E1A19-0736-4185-A884-3994BD3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6B4EA-B034-42DB-B682-B23E3A1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2C267-CD1A-4161-8836-FE4F3558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AE708-3569-49F7-B10B-6B8CCF8B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B70E88-65D2-4C29-BAB5-AD7C3154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5B5075-C671-4A51-9464-478F49FA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A6148B-7100-4912-9F4C-41419886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ACBB-8CB2-4F41-8DD7-FC55CF7D0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9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2653-0A44-4929-97AE-0780A152C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4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0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2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92C1-5C56-4E85-8694-689715E041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59B9-0C52-4512-8544-5484F406C4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3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801-AC5A-45C5-A3E1-98F00A003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376-6EE4-4D64-96EA-681CAF1E6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4AB8-A6CB-45E7-97E8-515A597F3A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2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0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1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B34B-DC6B-4A27-A74F-1BE3081AEB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7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FD6-5012-4757-9737-1975BC24C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1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6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7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ABAA-8CAA-474B-8DA1-224074979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6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6B18-E292-4872-80EE-3DED23799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0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134-D927-4034-B424-5594302ED5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5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006-19AE-46E9-9B8F-98333D792F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65744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ẫu PowerPoi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Oval 4"/>
          <p:cNvGrpSpPr/>
          <p:nvPr/>
        </p:nvGrpSpPr>
        <p:grpSpPr>
          <a:xfrm>
            <a:off x="1420920" y="2030400"/>
            <a:ext cx="3254400" cy="3254400"/>
            <a:chOff x="1420920" y="2030400"/>
            <a:chExt cx="3254400" cy="3254400"/>
          </a:xfrm>
        </p:grpSpPr>
        <p:pic>
          <p:nvPicPr>
            <p:cNvPr id="583" name="Oval 4" descr=""/>
            <p:cNvPicPr/>
            <p:nvPr/>
          </p:nvPicPr>
          <p:blipFill>
            <a:blip r:embed="rId1"/>
            <a:stretch/>
          </p:blipFill>
          <p:spPr>
            <a:xfrm>
              <a:off x="1420920" y="2030400"/>
              <a:ext cx="32544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916280" y="2525760"/>
              <a:ext cx="226368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38280" y="3124080"/>
            <a:ext cx="299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Thêm Slogan tại đây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59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59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59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0" name="Text Box 12"/>
            <p:cNvSpPr/>
            <p:nvPr/>
          </p:nvSpPr>
          <p:spPr>
            <a:xfrm>
              <a:off x="3830400" y="245412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207468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0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6" name="Text Box 18"/>
            <p:cNvSpPr/>
            <p:nvPr/>
          </p:nvSpPr>
          <p:spPr>
            <a:xfrm>
              <a:off x="558000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0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Text Box 23"/>
            <p:cNvSpPr/>
            <p:nvPr/>
          </p:nvSpPr>
          <p:spPr>
            <a:xfrm>
              <a:off x="3852720" y="43592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610236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1"/>
                </a:solidFill>
                <a:latin typeface="Arial"/>
              </a:rPr>
              <a:t>Tiêu đ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62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62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62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63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63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64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64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64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65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65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65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66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66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67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67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67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68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68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68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3" name="Text Box 76"/>
          <p:cNvSpPr/>
          <p:nvPr/>
        </p:nvSpPr>
        <p:spPr>
          <a:xfrm rot="3925800">
            <a:off x="8694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7"/>
          <p:cNvSpPr/>
          <p:nvPr/>
        </p:nvSpPr>
        <p:spPr>
          <a:xfrm rot="3925800">
            <a:off x="13838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4"/>
          <p:cNvSpPr/>
          <p:nvPr/>
        </p:nvSpPr>
        <p:spPr>
          <a:xfrm>
            <a:off x="7812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85"/>
          <p:cNvSpPr/>
          <p:nvPr/>
        </p:nvSpPr>
        <p:spPr>
          <a:xfrm>
            <a:off x="27716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86"/>
          <p:cNvSpPr/>
          <p:nvPr/>
        </p:nvSpPr>
        <p:spPr>
          <a:xfrm>
            <a:off x="475308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7"/>
          <p:cNvSpPr/>
          <p:nvPr/>
        </p:nvSpPr>
        <p:spPr>
          <a:xfrm>
            <a:off x="679968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9" name="AutoShape 88"/>
          <p:cNvCxnSpPr>
            <a:stCxn id="695" idx="3"/>
            <a:endCxn id="696" idx="1"/>
          </p:cNvCxnSpPr>
          <p:nvPr/>
        </p:nvCxnSpPr>
        <p:spPr>
          <a:xfrm>
            <a:off x="1520640" y="182700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89"/>
          <p:cNvCxnSpPr>
            <a:stCxn id="696" idx="3"/>
            <a:endCxn id="697" idx="1"/>
          </p:cNvCxnSpPr>
          <p:nvPr/>
        </p:nvCxnSpPr>
        <p:spPr>
          <a:xfrm>
            <a:off x="3511440" y="182700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AutoShape 90"/>
          <p:cNvCxnSpPr>
            <a:stCxn id="697" idx="3"/>
            <a:endCxn id="698" idx="1"/>
          </p:cNvCxnSpPr>
          <p:nvPr/>
        </p:nvCxnSpPr>
        <p:spPr>
          <a:xfrm>
            <a:off x="5492520" y="1827360"/>
            <a:ext cx="121356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2" name="Text Box 76"/>
          <p:cNvSpPr/>
          <p:nvPr/>
        </p:nvSpPr>
        <p:spPr>
          <a:xfrm rot="3925800">
            <a:off x="2833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7"/>
          <p:cNvSpPr/>
          <p:nvPr/>
        </p:nvSpPr>
        <p:spPr>
          <a:xfrm rot="3925800">
            <a:off x="33476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6"/>
          <p:cNvSpPr/>
          <p:nvPr/>
        </p:nvSpPr>
        <p:spPr>
          <a:xfrm rot="3925800">
            <a:off x="490644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77"/>
          <p:cNvSpPr/>
          <p:nvPr/>
        </p:nvSpPr>
        <p:spPr>
          <a:xfrm rot="3925800">
            <a:off x="542088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76"/>
          <p:cNvSpPr/>
          <p:nvPr/>
        </p:nvSpPr>
        <p:spPr>
          <a:xfrm rot="3925800">
            <a:off x="7081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77"/>
          <p:cNvSpPr/>
          <p:nvPr/>
        </p:nvSpPr>
        <p:spPr>
          <a:xfrm rot="3925800">
            <a:off x="759600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7"/>
          <p:cNvSpPr txBox="1"/>
          <p:nvPr/>
        </p:nvSpPr>
        <p:spPr>
          <a:xfrm>
            <a:off x="609480" y="16002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CẢM ƠN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5:37:07Z</dcterms:created>
  <dc:creator>Carcassonno</dc:creator>
  <dc:description/>
  <dc:language>en-US</dc:language>
  <cp:lastModifiedBy>Asus</cp:lastModifiedBy>
  <dcterms:modified xsi:type="dcterms:W3CDTF">2018-11-13T08:48:38Z</dcterms:modified>
  <cp:revision>5</cp:revision>
  <dc:subject/>
  <dc:title>PowerPoint Template</dc:title>
</cp:coreProperties>
</file>