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EBE-EC27-4832-B5A9-05077F75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0AF-B840-473B-9C92-EC87D429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0F8F79-8326-426D-ADF9-9F7456FF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92DE81-2999-4EB6-985C-A900D9B3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F05F74-9500-4F7E-AE21-E3BDF4BA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D17C52-4489-40D1-B041-8DDFA57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35D05-062A-463F-80EE-FB4DDA1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7CAA97-F446-4075-882D-66F298FD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45CC33-AE4F-4152-AFFB-18002387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489DAB-C250-47B9-B26A-652F52AA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0DEC56-7410-40EE-A6CB-6F338440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67E9F1-0FB0-41E2-BE31-05F17583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1F7-072C-437C-A238-F1386262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A8EE5F-5F3E-4433-BB83-3C078B0B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A5F1BD-2824-4435-B5FE-0280F6D9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E05C53-4A0A-4FEE-99A5-7A0C71BD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C484B8-8BD5-4B39-AC84-5C407AAA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988340-0045-4CE2-B917-CEA73619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55BB9-DF23-41D2-BF83-FDE8C55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724AD9-EA23-41BB-86DD-077FFFB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52BAF6-58DD-4CF4-9D78-6C10D81A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583B80-6CF6-432E-9D71-B8D6357F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9EAB49-F82B-4B68-A211-FDCC3E2B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B4F-4066-4B47-A596-F18F42A2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CF646D-D18F-405C-A244-0BEB9FB7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A2FF62-64AF-4A7D-8C24-B9B4984F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793C2D-BF73-4D84-AB37-BD876711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77ABB6-18C5-4B2C-9BC7-36A4EA3D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B614A8-294E-4E13-8D83-0B82A4B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217AF2-205C-4FE1-9A25-D8B0732D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DA5C7A-6038-4482-A8DE-45001E51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036393-953B-4C64-9E04-C784FF03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E5F598-36AB-4FA1-A7EF-CB672354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1B86A2-0494-4344-A756-D627A487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D016-9093-48DF-99AF-3F12B155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18DD61-08A2-429D-BCA8-F6C2AC10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1196CF-9979-4EB0-BB49-9A4795B6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615A5E-4D47-483A-AC7B-573C2845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92723B-9C19-428A-9728-E9A0EF9A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792D6E-9F98-4DCC-87D7-C5AC325F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0999C4-96E5-452A-B9FC-46BE590C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EDD651-7176-41DA-94E5-33A804F7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FA4729-E2E0-4342-9AA5-07767430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B19587-61F6-48C1-ACB8-CB1545EB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E21297-5621-4CC1-8E84-CAC4D2D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635F-4947-4FB4-B67A-83C05FE3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911D4B-4059-4240-9A5E-D944F91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F5662D-03FC-49DF-94E2-8B78E85C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F17B20-EB30-4CFA-A3DE-27003C4E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89E215-8313-40E5-8A7A-48972D1A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39BA18-4DBB-482F-8E61-E8DD53F2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E50B12-B61E-4743-8BC6-3D80E51E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257F2A-0548-4899-B4FB-DF3FDB0B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99D0BF-87E5-4033-A355-B268C81C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9D06C0-1EA0-489F-AFEB-B40FA7A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A994D1-73F4-4C1C-A8DB-8B3D90B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A928-E483-4D66-9819-5FE67A5F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BFBB05-612E-42F5-A579-89E8D132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D11EA8-D6B1-4A47-A9B2-AA555A2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B09F80-9348-4989-90ED-D911F6E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8BF99B-6509-498F-A3B3-891D791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9AF9F2-84F0-442D-B0B7-E137C5B5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018AB5-0358-4C84-A6F4-DBE0A382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9775AA-EC39-404B-B04A-F107BB41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33ED-EAAD-40E8-8CA5-3561563E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D573-1102-429C-A21A-A10624EC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3EB0-8485-48F7-8382-D8F062BF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5467-4800-4718-BB69-A297CA8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057-A008-4433-8FB9-5EC39BBE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FC75-7696-4052-AA62-EADEFCF6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CFA8-67E3-4648-BC2B-94814B6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AD6C-B15C-407C-87A8-1E610BCC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BFDC-4184-4305-AC86-687ADD88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97CD-9917-449A-824D-4ABA657F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13064-5F58-4E21-B938-657ED113B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00DC0-8831-4809-8CA3-79C86933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2A826-47C8-4E6E-A6EC-752CEE49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24972-1E84-4B8B-A872-C6768C6F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CB018-C35F-4566-B7FE-D40DE6A8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6F4-B65F-4951-8A96-A1CB877D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052C4-AAB3-4792-AD65-7E1A2FEE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C8166-7B0F-4679-9597-4963CE08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13AC5-F9DD-4AD2-8674-AF73CA37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33B52-F24D-4EB9-AED2-A59765D1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6B926-14E5-4698-BFAF-F4B24FAB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D7621-0D7E-4F43-85C3-5B93CB1E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407E6-7ED2-4BEE-AD5E-FC77CA97D8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86D24-BEE5-485A-9C07-986D563E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DC65E-A20C-41AF-80B8-A15DCDFD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91211-9D3B-4596-A634-DE7E08C8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43F-81FD-4D90-AA7F-87E8ABDE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F4FF1-7B0E-48AA-9DCF-151940E0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C8A652-DA46-4D6D-B906-21C1A6BE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FC9C8-B5DC-4798-8D1E-8067C29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1126E-216E-4716-B876-4B620C4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1197D-C9CC-4D42-BBA9-BFF179D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C95B2-76D6-499F-839A-C76F619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1F22A-52EA-4928-AB2C-5CA1189C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85F9F-8B46-4EE3-8EDB-17A36C0E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D7454-3E04-4B21-AB98-5BDC8E84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E74F7-03D4-4E45-8856-7B5A8E38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060-3446-4021-9349-C62EE9B3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0452D-3CAD-42FE-B6C8-9C654D72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F5443-0BCF-4C47-8252-8141F77F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F1F4A-E11E-42DC-896D-9745841D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289DC-3CE9-43E5-8A86-E97148D9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4CB26-40B1-42BA-BE65-984CF13E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97292-ECD1-4383-BE38-C5F13BE3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91A19-3706-4C84-9CE9-748EE865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6D7FA-49C5-41F3-B847-FD1AC24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5C7B7-8383-4512-B82B-EFCD821E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A7D05-B5A2-4F81-BB66-DBB19879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061-3287-46AD-A2EC-0082F49F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5B50F-D02E-4B5A-8430-907EE7B2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CD365-8D91-4DCA-9A5E-70DFA80F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EB75B-AB10-4584-90DB-C5331394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513D7-36EC-4EEE-A458-DF7233F4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067E7-D0DD-4433-A5D9-B1200F43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ADD5E-00DA-49C6-95C4-23D7B6E6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902C5-C277-45C2-9314-32F860E8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674AB-830B-475E-9695-A46A80F3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385E2-8804-42DD-B684-BFFA817E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8546D-64F1-447E-ABF4-5EB4DF4B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6E4-7E8C-4EA2-B0F7-E5378C75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A8472-22AF-407C-A402-AEAE1AEA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AA6DE-7F0C-4A0F-B431-2757DA8A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FA645-F726-44CB-B2B0-2E1284CD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8F183-6024-4A3B-A99B-C6221E16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3C76F-1378-474C-8989-6401F4EC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59EC7-86DA-46EB-8874-BC796797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BEC04-DB5E-4011-94CE-B7EED51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97173-C682-467B-BD14-1586387A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E7F00-8507-43EC-98CD-B5D7CC54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0DF11-B917-413D-BB89-7F1D46E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2AE-F1DD-4FAA-A401-FB30CAD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2EDC1-052D-4DE5-90BC-E32F52A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81E9A-0344-4C77-A012-4F17534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0361C-1B70-465A-B6AE-E299DEA7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2D3E5-D242-4350-AA7E-97F3B0CE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D9E9A-CAA6-4BC0-B36A-A32DFC0D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609B8-D581-4A68-86DD-B9C7C954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F0FCB6-E33E-4931-A609-436CB627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9DEE37-DCEA-4F85-8F08-DA135969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8B693E-CE09-4238-ACBA-94AD2650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EA5DB0-8395-42D7-9664-CECBF2EF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CF7-3461-47BF-B0C1-E1893007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AB0C9-C38E-4DBC-9125-B17B9B7B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6D2A72-9013-40A5-88A4-5982481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C10883-1F77-474B-8D50-7D486FA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18231-C8CD-49F7-9941-EAD81452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9FFA22-0644-4AA1-905E-06A62055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7B8B1D-327C-4B13-A1A0-85076A88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684B1-6D95-46D5-9CB5-8776B0AE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06DB7-D748-4080-88F4-E02E3FC9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75DB1C-9F57-4D09-9F6A-475D10CE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F7A6CB-3B5C-40E0-AD4E-D609B7A9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9A3B-D81B-4CE1-8BCE-268B1061A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9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1B58-16A8-491B-BC1D-CE1E03B9C5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4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0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2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8DCC-6604-4EF1-A63F-A60F6D93F5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3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4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5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E5E3-E33E-4006-826E-829BD41B4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3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6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7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8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746F-DA9F-4322-99E4-F29F410587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3DD3-7247-4E96-B8A4-7EE605B31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D7C-A51D-4396-8E12-66A6EBE800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2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0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1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2BFB-1E98-4049-A20E-B57A542B3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7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C569-81F8-497C-8B05-2CA2ADFF13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1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6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7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F1FD-22FC-4458-A2A4-2F978CCD0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6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CAA3-3771-42BF-894B-DC829BD1D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0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2796-1516-43E8-8A34-7690F33C05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5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0FB9-8757-4F37-B84C-25B59C89E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65744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Mẫu PowerPoi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Oval 4"/>
          <p:cNvGrpSpPr/>
          <p:nvPr/>
        </p:nvGrpSpPr>
        <p:grpSpPr>
          <a:xfrm>
            <a:off x="1420920" y="2030400"/>
            <a:ext cx="3254400" cy="3254400"/>
            <a:chOff x="1420920" y="2030400"/>
            <a:chExt cx="3254400" cy="3254400"/>
          </a:xfrm>
        </p:grpSpPr>
        <p:pic>
          <p:nvPicPr>
            <p:cNvPr id="583" name="Oval 4" descr=""/>
            <p:cNvPicPr/>
            <p:nvPr/>
          </p:nvPicPr>
          <p:blipFill>
            <a:blip r:embed="rId1"/>
            <a:stretch/>
          </p:blipFill>
          <p:spPr>
            <a:xfrm>
              <a:off x="1420920" y="2030400"/>
              <a:ext cx="325440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916280" y="2525760"/>
              <a:ext cx="226368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538280" y="3124080"/>
            <a:ext cx="2992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Thêm Slogan tại đây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592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593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597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0" name="Text Box 12"/>
            <p:cNvSpPr/>
            <p:nvPr/>
          </p:nvSpPr>
          <p:spPr>
            <a:xfrm>
              <a:off x="3830400" y="245412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207468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2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03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6" name="Text Box 18"/>
            <p:cNvSpPr/>
            <p:nvPr/>
          </p:nvSpPr>
          <p:spPr>
            <a:xfrm>
              <a:off x="558000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08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Text Box 23"/>
            <p:cNvSpPr/>
            <p:nvPr/>
          </p:nvSpPr>
          <p:spPr>
            <a:xfrm>
              <a:off x="3852720" y="43592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3"/>
          <p:cNvSpPr/>
          <p:nvPr/>
        </p:nvSpPr>
        <p:spPr>
          <a:xfrm>
            <a:off x="152280" y="12952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gradFill rotWithShape="0">
            <a:gsLst>
              <a:gs pos="0">
                <a:srgbClr val="508fd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610236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1"/>
                </a:solidFill>
                <a:latin typeface="Arial"/>
              </a:rPr>
              <a:t>Tiêu đ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623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624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627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630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5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636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0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641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642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645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7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653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658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659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662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4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665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671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676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677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9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680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2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683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689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3" name="Text Box 76"/>
          <p:cNvSpPr/>
          <p:nvPr/>
        </p:nvSpPr>
        <p:spPr>
          <a:xfrm rot="3925800">
            <a:off x="8694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77"/>
          <p:cNvSpPr/>
          <p:nvPr/>
        </p:nvSpPr>
        <p:spPr>
          <a:xfrm rot="3925800">
            <a:off x="13838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84"/>
          <p:cNvSpPr/>
          <p:nvPr/>
        </p:nvSpPr>
        <p:spPr>
          <a:xfrm>
            <a:off x="7812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85"/>
          <p:cNvSpPr/>
          <p:nvPr/>
        </p:nvSpPr>
        <p:spPr>
          <a:xfrm>
            <a:off x="27716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86"/>
          <p:cNvSpPr/>
          <p:nvPr/>
        </p:nvSpPr>
        <p:spPr>
          <a:xfrm>
            <a:off x="475308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87"/>
          <p:cNvSpPr/>
          <p:nvPr/>
        </p:nvSpPr>
        <p:spPr>
          <a:xfrm>
            <a:off x="679968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9" name="AutoShape 88"/>
          <p:cNvCxnSpPr>
            <a:stCxn id="695" idx="3"/>
            <a:endCxn id="696" idx="1"/>
          </p:cNvCxnSpPr>
          <p:nvPr/>
        </p:nvCxnSpPr>
        <p:spPr>
          <a:xfrm>
            <a:off x="1520640" y="182700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0" name="AutoShape 89"/>
          <p:cNvCxnSpPr>
            <a:stCxn id="696" idx="3"/>
            <a:endCxn id="697" idx="1"/>
          </p:cNvCxnSpPr>
          <p:nvPr/>
        </p:nvCxnSpPr>
        <p:spPr>
          <a:xfrm>
            <a:off x="3511440" y="182700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1" name="AutoShape 90"/>
          <p:cNvCxnSpPr>
            <a:stCxn id="697" idx="3"/>
            <a:endCxn id="698" idx="1"/>
          </p:cNvCxnSpPr>
          <p:nvPr/>
        </p:nvCxnSpPr>
        <p:spPr>
          <a:xfrm>
            <a:off x="5492520" y="1827360"/>
            <a:ext cx="121356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2" name="Text Box 76"/>
          <p:cNvSpPr/>
          <p:nvPr/>
        </p:nvSpPr>
        <p:spPr>
          <a:xfrm rot="3925800">
            <a:off x="2833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77"/>
          <p:cNvSpPr/>
          <p:nvPr/>
        </p:nvSpPr>
        <p:spPr>
          <a:xfrm rot="3925800">
            <a:off x="33476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76"/>
          <p:cNvSpPr/>
          <p:nvPr/>
        </p:nvSpPr>
        <p:spPr>
          <a:xfrm rot="3925800">
            <a:off x="490644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77"/>
          <p:cNvSpPr/>
          <p:nvPr/>
        </p:nvSpPr>
        <p:spPr>
          <a:xfrm rot="3925800">
            <a:off x="542088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76"/>
          <p:cNvSpPr/>
          <p:nvPr/>
        </p:nvSpPr>
        <p:spPr>
          <a:xfrm rot="3925800">
            <a:off x="7081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77"/>
          <p:cNvSpPr/>
          <p:nvPr/>
        </p:nvSpPr>
        <p:spPr>
          <a:xfrm rot="3925800">
            <a:off x="759600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7"/>
          <p:cNvSpPr txBox="1"/>
          <p:nvPr/>
        </p:nvSpPr>
        <p:spPr>
          <a:xfrm>
            <a:off x="609480" y="16002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CẢM ƠN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5:37:07Z</dcterms:created>
  <dc:creator>Carcassonno</dc:creator>
  <dc:description/>
  <dc:language>en-US</dc:language>
  <cp:lastModifiedBy>Asus</cp:lastModifiedBy>
  <dcterms:modified xsi:type="dcterms:W3CDTF">2018-11-13T08:48:38Z</dcterms:modified>
  <cp:revision>5</cp:revision>
  <dc:subject/>
  <dc:title>PowerPoint Template</dc:title>
</cp:coreProperties>
</file>