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07F5-A28A-401F-ACE8-4BC17E36C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D4EB-D1C7-48CB-8BC4-DB99ED063F50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C363-CB22-4A72-A08A-C9223E97E05E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538-F19E-4C74-8677-8121407AD1CA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C0DB-865D-4D83-8B2A-E319C16D1A2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8D67-BBEE-4BB2-B9E4-DA61771733DF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7F0-4222-4AE7-AE42-E2770587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D9B-EBF0-4E6D-9B79-2C473EC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C7F-94B7-44D7-9C59-D214DE0C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270-2375-4449-A865-78AA3ACB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2A67-249A-449C-BE62-93143441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A97B-E997-48E5-A1F8-6E573F8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72D8-CCCA-4C72-B8DF-CE0C84C6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B06-E316-4362-B147-E54D46D4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506E-E8B7-4A79-9F97-2A4DA41A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B31-FC24-4A1B-890A-41F5BB08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469-DA63-4138-BE6F-396B8B3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9AB-3BC9-45A8-B60B-8017B71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579C-B8B2-4432-947D-F5F9B9B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0A14-DF96-4A1B-B311-24C57D0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BE90-BA71-4B20-9F37-5F048599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0CBC-730F-4795-980E-3ADC7584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C62-F1DF-4990-BA4D-14268E1A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75B-3050-495E-BE11-6CF5D40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590-7216-4A89-84AF-27FE00D0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FA3-9DD8-4852-8DAA-BAAE5B61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7BE-4BA5-49DC-81FE-0692F00F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8A0-7248-4AB4-8340-6C31586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7FA-39BB-4E38-BAEE-5ACBA3E5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0BA-A425-4922-8B69-FB73153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ADE-18B1-4886-AA0A-9A2BA18BC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6D6-50A2-45A4-83AE-F3D2127FA37D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" descr="Untitled-6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card5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0" descr="card4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card2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8" descr="card1"/>
          <p:cNvPicPr/>
          <p:nvPr/>
        </p:nvPicPr>
        <p:blipFill>
          <a:blip r:embed="rId5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"/>
          <p:cNvSpPr/>
          <p:nvPr/>
        </p:nvSpPr>
        <p:spPr>
          <a:xfrm>
            <a:off x="533520" y="216864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80"/>
                </a:solidFill>
                <a:latin typeface="Arial"/>
              </a:rPr>
              <a:t>COLOUR</a:t>
            </a:r>
            <a:endParaRPr b="0" lang="en-US" sz="10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Text Box 108"/>
          <p:cNvSpPr/>
          <p:nvPr/>
        </p:nvSpPr>
        <p:spPr>
          <a:xfrm>
            <a:off x="662940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Picture 9" descr="C:\Users\Administrator\Desktop\PowerPoint Dep full vien trang.png"/>
          <p:cNvPicPr/>
          <p:nvPr/>
        </p:nvPicPr>
        <p:blipFill>
          <a:blip r:embed="rId6"/>
          <a:stretch/>
        </p:blipFill>
        <p:spPr>
          <a:xfrm>
            <a:off x="601560" y="579600"/>
            <a:ext cx="2751120" cy="393480"/>
          </a:xfrm>
          <a:prstGeom prst="rect">
            <a:avLst/>
          </a:prstGeom>
          <a:ln w="0">
            <a:noFill/>
          </a:ln>
        </p:spPr>
      </p:pic>
      <p:sp>
        <p:nvSpPr>
          <p:cNvPr id="99" name="Hình chữ nhật 1"/>
          <p:cNvSpPr/>
          <p:nvPr/>
        </p:nvSpPr>
        <p:spPr>
          <a:xfrm>
            <a:off x="638280" y="396072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</a:rPr>
              <a:t>SLIDE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0" name="Hộp_Văn_Bản 2" descr=""/>
          <p:cNvPicPr/>
          <p:nvPr/>
        </p:nvPicPr>
        <p:blipFill>
          <a:blip r:embed="rId7"/>
          <a:stretch/>
        </p:blipFill>
        <p:spPr>
          <a:xfrm>
            <a:off x="6431040" y="2487600"/>
            <a:ext cx="41436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card2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card1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6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400800" cy="435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3"/>
          <p:cNvSpPr/>
          <p:nvPr/>
        </p:nvSpPr>
        <p:spPr>
          <a:xfrm>
            <a:off x="2232000" y="5791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Biểu đồ minh họ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67057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2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Hộp_Văn_Bản 1"/>
          <p:cNvSpPr/>
          <p:nvPr/>
        </p:nvSpPr>
        <p:spPr>
          <a:xfrm>
            <a:off x="5207760" y="153684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lick 2 lần để thay đổi số liệu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1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209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8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9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0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1" descr="card2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card1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5340240" y="2135160"/>
            <a:ext cx="26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hình ảnh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9343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3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Picture 73" descr="C:\Users\Administrator\Desktop\smf_icon.png"/>
          <p:cNvPicPr/>
          <p:nvPr/>
        </p:nvPicPr>
        <p:blipFill>
          <a:blip r:embed="rId6"/>
          <a:stretch/>
        </p:blipFill>
        <p:spPr>
          <a:xfrm>
            <a:off x="830160" y="1700280"/>
            <a:ext cx="3921120" cy="3921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7"/>
          <p:cNvSpPr/>
          <p:nvPr/>
        </p:nvSpPr>
        <p:spPr>
          <a:xfrm>
            <a:off x="5340240" y="2857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5340240" y="33624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5340240" y="39178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5340240" y="44370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111240" y="2124000"/>
            <a:ext cx="37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9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card4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card2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card1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6"/>
          <p:cNvSpPr/>
          <p:nvPr/>
        </p:nvSpPr>
        <p:spPr>
          <a:xfrm>
            <a:off x="71629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4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Плюс 53"/>
          <p:cNvSpPr/>
          <p:nvPr/>
        </p:nvSpPr>
        <p:spPr>
          <a:xfrm>
            <a:off x="2924280" y="2308320"/>
            <a:ext cx="966600" cy="966600"/>
          </a:xfrm>
          <a:custGeom>
            <a:avLst/>
            <a:gdLst/>
            <a:ahLst/>
            <a:rect l="l" t="t" r="r" b="b"/>
            <a:pathLst>
              <a:path w="966788" h="966788">
                <a:moveTo>
                  <a:pt x="128148" y="401396"/>
                </a:moveTo>
                <a:lnTo>
                  <a:pt x="401396" y="401396"/>
                </a:lnTo>
                <a:lnTo>
                  <a:pt x="401396" y="128148"/>
                </a:lnTo>
                <a:lnTo>
                  <a:pt x="565392" y="128148"/>
                </a:lnTo>
                <a:lnTo>
                  <a:pt x="565392" y="401396"/>
                </a:lnTo>
                <a:lnTo>
                  <a:pt x="838640" y="401396"/>
                </a:lnTo>
                <a:lnTo>
                  <a:pt x="838640" y="565392"/>
                </a:lnTo>
                <a:lnTo>
                  <a:pt x="565392" y="565392"/>
                </a:lnTo>
                <a:lnTo>
                  <a:pt x="565392" y="838640"/>
                </a:lnTo>
                <a:lnTo>
                  <a:pt x="401396" y="838640"/>
                </a:lnTo>
                <a:lnTo>
                  <a:pt x="401396" y="565392"/>
                </a:lnTo>
                <a:lnTo>
                  <a:pt x="128148" y="565392"/>
                </a:lnTo>
                <a:lnTo>
                  <a:pt x="128148" y="401396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Равно 54"/>
          <p:cNvSpPr/>
          <p:nvPr/>
        </p:nvSpPr>
        <p:spPr>
          <a:xfrm>
            <a:off x="5705640" y="2549520"/>
            <a:ext cx="966600" cy="544680"/>
          </a:xfrm>
          <a:custGeom>
            <a:avLst/>
            <a:gdLst/>
            <a:ahLst/>
            <a:rect l="l" t="t" r="r" b="b"/>
            <a:pathLst>
              <a:path w="966788" h="544513">
                <a:moveTo>
                  <a:pt x="128148" y="112170"/>
                </a:moveTo>
                <a:lnTo>
                  <a:pt x="838640" y="112170"/>
                </a:lnTo>
                <a:lnTo>
                  <a:pt x="838640" y="240239"/>
                </a:lnTo>
                <a:lnTo>
                  <a:pt x="128148" y="240239"/>
                </a:lnTo>
                <a:lnTo>
                  <a:pt x="128148" y="112170"/>
                </a:lnTo>
                <a:close/>
                <a:moveTo>
                  <a:pt x="128148" y="304274"/>
                </a:moveTo>
                <a:lnTo>
                  <a:pt x="838640" y="304274"/>
                </a:lnTo>
                <a:lnTo>
                  <a:pt x="838640" y="432343"/>
                </a:lnTo>
                <a:lnTo>
                  <a:pt x="128148" y="432343"/>
                </a:lnTo>
                <a:lnTo>
                  <a:pt x="128148" y="304274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4" name="Группа 58"/>
          <p:cNvGrpSpPr/>
          <p:nvPr/>
        </p:nvGrpSpPr>
        <p:grpSpPr>
          <a:xfrm>
            <a:off x="1332000" y="4181400"/>
            <a:ext cx="1944720" cy="1571760"/>
            <a:chOff x="1332000" y="4181400"/>
            <a:chExt cx="1944720" cy="1571760"/>
          </a:xfrm>
        </p:grpSpPr>
        <p:sp>
          <p:nvSpPr>
            <p:cNvPr id="135" name="Прямоугольник 59"/>
            <p:cNvSpPr/>
            <p:nvPr/>
          </p:nvSpPr>
          <p:spPr>
            <a:xfrm>
              <a:off x="133200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36" name="Прямоугольник 60"/>
            <p:cNvSpPr/>
            <p:nvPr/>
          </p:nvSpPr>
          <p:spPr>
            <a:xfrm>
              <a:off x="133200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4ee7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7" name="Прямоугольник 65"/>
          <p:cNvSpPr/>
          <p:nvPr/>
        </p:nvSpPr>
        <p:spPr>
          <a:xfrm>
            <a:off x="162864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8" name="Группа 83"/>
          <p:cNvGrpSpPr/>
          <p:nvPr/>
        </p:nvGrpSpPr>
        <p:grpSpPr>
          <a:xfrm>
            <a:off x="3902040" y="4181400"/>
            <a:ext cx="1944720" cy="1571760"/>
            <a:chOff x="3902040" y="4181400"/>
            <a:chExt cx="1944720" cy="1571760"/>
          </a:xfrm>
        </p:grpSpPr>
        <p:sp>
          <p:nvSpPr>
            <p:cNvPr id="139" name="Прямоугольник 86"/>
            <p:cNvSpPr/>
            <p:nvPr/>
          </p:nvSpPr>
          <p:spPr>
            <a:xfrm>
              <a:off x="39020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0" name="Прямоугольник 87"/>
            <p:cNvSpPr/>
            <p:nvPr/>
          </p:nvSpPr>
          <p:spPr>
            <a:xfrm>
              <a:off x="39020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1" name="Прямоугольник 85"/>
          <p:cNvSpPr/>
          <p:nvPr/>
        </p:nvSpPr>
        <p:spPr>
          <a:xfrm>
            <a:off x="4200480" y="454356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2" name="Группа 89"/>
          <p:cNvGrpSpPr/>
          <p:nvPr/>
        </p:nvGrpSpPr>
        <p:grpSpPr>
          <a:xfrm>
            <a:off x="6618240" y="4181400"/>
            <a:ext cx="1944720" cy="1571760"/>
            <a:chOff x="6618240" y="4181400"/>
            <a:chExt cx="1944720" cy="1571760"/>
          </a:xfrm>
        </p:grpSpPr>
        <p:sp>
          <p:nvSpPr>
            <p:cNvPr id="143" name="Прямоугольник 95"/>
            <p:cNvSpPr/>
            <p:nvPr/>
          </p:nvSpPr>
          <p:spPr>
            <a:xfrm>
              <a:off x="66182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4" name="Прямоугольник 96"/>
            <p:cNvSpPr/>
            <p:nvPr/>
          </p:nvSpPr>
          <p:spPr>
            <a:xfrm>
              <a:off x="66182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5" name="Прямоугольник 91"/>
          <p:cNvSpPr/>
          <p:nvPr/>
        </p:nvSpPr>
        <p:spPr>
          <a:xfrm>
            <a:off x="686736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6" name="Ellipse 98"/>
          <p:cNvGrpSpPr/>
          <p:nvPr/>
        </p:nvGrpSpPr>
        <p:grpSpPr>
          <a:xfrm>
            <a:off x="6980400" y="3365640"/>
            <a:ext cx="1382400" cy="304560"/>
            <a:chOff x="6980400" y="3365640"/>
            <a:chExt cx="1382400" cy="304560"/>
          </a:xfrm>
        </p:grpSpPr>
        <p:pic>
          <p:nvPicPr>
            <p:cNvPr id="147" name="Ellipse 98" descr=""/>
            <p:cNvPicPr/>
            <p:nvPr/>
          </p:nvPicPr>
          <p:blipFill>
            <a:blip r:embed="rId6"/>
            <a:stretch/>
          </p:blipFill>
          <p:spPr>
            <a:xfrm>
              <a:off x="6980400" y="3365640"/>
              <a:ext cx="1382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848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9" name="Can 56"/>
          <p:cNvSpPr/>
          <p:nvPr/>
        </p:nvSpPr>
        <p:spPr>
          <a:xfrm>
            <a:off x="7118280" y="2065320"/>
            <a:ext cx="1089000" cy="1390680"/>
          </a:xfrm>
          <a:prstGeom prst="can">
            <a:avLst>
              <a:gd name="adj" fmla="val 19578"/>
            </a:avLst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5400000"/>
          </a:gradFill>
          <a:ln w="12600">
            <a:solidFill>
              <a:srgbClr val="127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0" name="Ellipse 98"/>
          <p:cNvGrpSpPr/>
          <p:nvPr/>
        </p:nvGrpSpPr>
        <p:grpSpPr>
          <a:xfrm>
            <a:off x="4114800" y="3365640"/>
            <a:ext cx="1384200" cy="304560"/>
            <a:chOff x="4114800" y="3365640"/>
            <a:chExt cx="1384200" cy="304560"/>
          </a:xfrm>
        </p:grpSpPr>
        <p:pic>
          <p:nvPicPr>
            <p:cNvPr id="151" name="Ellipse 98" descr=""/>
            <p:cNvPicPr/>
            <p:nvPr/>
          </p:nvPicPr>
          <p:blipFill>
            <a:blip r:embed="rId7"/>
            <a:stretch/>
          </p:blipFill>
          <p:spPr>
            <a:xfrm>
              <a:off x="4114800" y="3365640"/>
              <a:ext cx="1384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19640" y="3411360"/>
              <a:ext cx="977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3" name="Can 62"/>
          <p:cNvSpPr/>
          <p:nvPr/>
        </p:nvSpPr>
        <p:spPr>
          <a:xfrm>
            <a:off x="4254480" y="2065320"/>
            <a:ext cx="108756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4" name="Ellipse 98"/>
          <p:cNvGrpSpPr/>
          <p:nvPr/>
        </p:nvGrpSpPr>
        <p:grpSpPr>
          <a:xfrm>
            <a:off x="1457280" y="3365640"/>
            <a:ext cx="1382760" cy="304560"/>
            <a:chOff x="1457280" y="3365640"/>
            <a:chExt cx="1382760" cy="304560"/>
          </a:xfrm>
        </p:grpSpPr>
        <p:pic>
          <p:nvPicPr>
            <p:cNvPr id="155" name="Ellipse 98" descr=""/>
            <p:cNvPicPr/>
            <p:nvPr/>
          </p:nvPicPr>
          <p:blipFill>
            <a:blip r:embed="rId8"/>
            <a:stretch/>
          </p:blipFill>
          <p:spPr>
            <a:xfrm>
              <a:off x="1457280" y="3365640"/>
              <a:ext cx="13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606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7" name="Can 64"/>
          <p:cNvSpPr/>
          <p:nvPr/>
        </p:nvSpPr>
        <p:spPr>
          <a:xfrm>
            <a:off x="1595520" y="2065320"/>
            <a:ext cx="108720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0070c0"/>
              </a:gs>
              <a:gs pos="100000">
                <a:srgbClr val="4ee7fc"/>
              </a:gs>
            </a:gsLst>
            <a:lin ang="54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53036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414972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683244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66600" y="2124000"/>
            <a:ext cx="37800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7"/>
          <p:cNvSpPr/>
          <p:nvPr/>
        </p:nvSpPr>
        <p:spPr>
          <a:xfrm>
            <a:off x="1530360" y="5265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412128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1372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d5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d4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card2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card1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9"/>
          <p:cNvSpPr/>
          <p:nvPr/>
        </p:nvSpPr>
        <p:spPr>
          <a:xfrm>
            <a:off x="7397640" y="166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5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55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73" name="Nhóm 2"/>
          <p:cNvGrpSpPr/>
          <p:nvPr/>
        </p:nvGrpSpPr>
        <p:grpSpPr>
          <a:xfrm>
            <a:off x="2664000" y="1511280"/>
            <a:ext cx="4392360" cy="3083040"/>
            <a:chOff x="2664000" y="1511280"/>
            <a:chExt cx="4392360" cy="3083040"/>
          </a:xfrm>
        </p:grpSpPr>
        <p:pic>
          <p:nvPicPr>
            <p:cNvPr id="174" name="Freeform 6" descr=""/>
            <p:cNvPicPr/>
            <p:nvPr/>
          </p:nvPicPr>
          <p:blipFill>
            <a:blip r:embed="rId6"/>
            <a:stretch/>
          </p:blipFill>
          <p:spPr>
            <a:xfrm>
              <a:off x="2664000" y="3061440"/>
              <a:ext cx="15526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Freeform 11" descr=""/>
            <p:cNvPicPr/>
            <p:nvPr/>
          </p:nvPicPr>
          <p:blipFill>
            <a:blip r:embed="rId7"/>
            <a:stretch/>
          </p:blipFill>
          <p:spPr>
            <a:xfrm>
              <a:off x="4125960" y="310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reeform 11" descr=""/>
            <p:cNvPicPr/>
            <p:nvPr/>
          </p:nvPicPr>
          <p:blipFill>
            <a:blip r:embed="rId8"/>
            <a:stretch/>
          </p:blipFill>
          <p:spPr>
            <a:xfrm>
              <a:off x="4935600" y="2603520"/>
              <a:ext cx="133524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Freeform 11" descr=""/>
            <p:cNvPicPr/>
            <p:nvPr/>
          </p:nvPicPr>
          <p:blipFill>
            <a:blip r:embed="rId9"/>
            <a:stretch/>
          </p:blipFill>
          <p:spPr>
            <a:xfrm>
              <a:off x="6065640" y="337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114" descr=""/>
            <p:cNvPicPr/>
            <p:nvPr/>
          </p:nvPicPr>
          <p:blipFill>
            <a:blip r:embed="rId10"/>
            <a:stretch/>
          </p:blipFill>
          <p:spPr>
            <a:xfrm>
              <a:off x="3207600" y="1511280"/>
              <a:ext cx="193932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37"/>
          <p:cNvSpPr/>
          <p:nvPr/>
        </p:nvSpPr>
        <p:spPr>
          <a:xfrm>
            <a:off x="523224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523224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5092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05092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23224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205092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Đường kết nối Thẳng 5"/>
          <p:cNvSpPr/>
          <p:nvPr/>
        </p:nvSpPr>
        <p:spPr>
          <a:xfrm>
            <a:off x="5102280" y="5008680"/>
            <a:ext cx="0" cy="1012680"/>
          </a:xfrm>
          <a:prstGeom prst="line">
            <a:avLst/>
          </a:prstGeom>
          <a:ln w="9360">
            <a:solidFill>
              <a:srgbClr val="9999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7" name="Picture 9" descr="C:\Users\Administrator\Desktop\PowerPoint Dep full vien trang.png"/>
          <p:cNvPicPr/>
          <p:nvPr/>
        </p:nvPicPr>
        <p:blipFill>
          <a:blip r:embed="rId11"/>
          <a:stretch/>
        </p:blipFill>
        <p:spPr>
          <a:xfrm>
            <a:off x="20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Carcassonno</cp:lastModifiedBy>
  <dcterms:modified xsi:type="dcterms:W3CDTF">2013-05-07T17:22:43Z</dcterms:modified>
  <cp:revision>139</cp:revision>
  <dc:subject/>
  <dc:title>Coloured slides template background</dc:title>
</cp:coreProperties>
</file>