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CD0-D19B-40B6-9620-3013DF16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F87-C217-4712-83E6-4C4C888E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6ED-95BD-43FB-9B7F-BAD06923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84C-6B26-415B-B98F-13E2B0A4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BF0-DD9C-419B-AEA8-07147B20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93C-2A60-426A-88AB-BFBFABB4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182-895C-490C-8392-CEDA1113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F29-D275-474F-8F55-0E530B55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265-1354-4F41-9402-2C503A42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57A-A2D1-4398-99A2-061BC87A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F82-7D1D-4439-80DC-81F9F83E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805-5175-444B-BA30-295C6EA7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C259-B348-40DB-96B5-490F2EAB8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720" y="3789000"/>
            <a:ext cx="44654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4508640"/>
            <a:ext cx="417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2T16:27:36Z</dcterms:modified>
  <cp:revision>601</cp:revision>
  <dc:subject/>
  <dc:title>Diapositiva 1</dc:title>
</cp:coreProperties>
</file>