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8FF-ACF2-4904-BF26-4C18760E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776-22A8-4880-9EAB-CE9A486D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BF0-3AAE-46E1-9572-B84D629B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385-F696-4BB2-ACBA-E537C2A7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2D3-E317-4936-819D-D7CD2F30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5CC-CDE3-4DB8-A904-D5EC41A8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CCF-6A6F-4D1E-8E80-51C72812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554-C986-4DEF-BDED-ECA018F2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464-CAE7-4128-BA8A-F7B277EB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147-9331-4B5B-B8BF-88BC6B2B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C4D-483C-44D3-B1F9-01C4178E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2CC-06A5-49DD-A623-4C38F450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FA3F-D65E-4BC7-AB6F-71BA526C5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73372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573408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06T19:00:29Z</dcterms:modified>
  <cp:revision>774</cp:revision>
  <dc:subject/>
  <dc:title>Diapositiva 1</dc:title>
</cp:coreProperties>
</file>