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D1EC-E43B-4F8B-A8F7-5D958533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7622-0E6F-4643-B2D6-54DC27D1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13FD-C422-4AA8-A142-295149997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8558-E698-4CFB-9E2F-F65422976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22F7-DD13-4C3B-8AE0-A4C5C80C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DECD-78CE-4AB1-90AD-1B81436B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59B7-111F-4DE5-BED5-F851AA4C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31CF-E866-4B3E-A546-72ECE460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B252-81A8-4F6F-907D-8B370297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F451-618A-4202-AF14-4B4C4F89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2596-E286-493C-839D-E994DD2A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FC75-53B2-4EBF-9FE7-98C7BA33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0B15-16F7-4A7F-A3F4-3A1FE187F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5-26T21:38:18Z</dcterms:modified>
  <cp:revision>6</cp:revision>
  <dc:subject/>
  <dc:title>Diapositiva 1</dc:title>
</cp:coreProperties>
</file>