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4C41-CDAF-4B1C-952C-6CD18031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5A4-F5BC-4456-8B70-111E9DF0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1F9-4D66-49C0-B9C2-FFAAE2BD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B288-B936-4D0C-963A-EA459032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69D-ACF4-48B6-A7AD-29F0DF8B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A92-F324-470D-ABA7-BE62B117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D22E-536F-462B-9A4A-B45300CC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9D50-CAA9-45B7-ABAC-D568EA0B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4045-2129-469C-B24C-C5475122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E8E-66F1-41CE-BFE8-257EAA5F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637-EA52-4ECA-89B5-9011D358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E7C-2C41-406B-BF54-1DB6F232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0D31-5909-4402-9A97-97F154B6E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3-27T16:01:57Z</dcterms:modified>
  <cp:revision>7</cp:revision>
  <dc:subject/>
  <dc:title>TITLE</dc:title>
</cp:coreProperties>
</file>