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9760-1FAF-41EF-A2B4-B32CC7A4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070F-7D74-4ED1-98D2-8625C5FF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D520-2D86-44D1-818A-BB36B4BC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5E39-78FB-4179-B8D9-925FB814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5A56-10C2-4582-A325-535DF883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919C-D255-4065-90DC-4E2819E9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A8C2-CA17-4899-A284-26CAFDF6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89E9-8C8E-4D7F-9F83-7CC2EC8B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04BD-4378-4E4C-82BC-67BCB2BD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9B1A-33F7-48BE-BF42-2E6B4AAB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F84A-55C3-4040-BC7E-3386BAE3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9C11-9003-4AE9-B77A-C2357DA4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282E-AEB2-4E95-9083-16A3142B6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96000" y="4292640"/>
            <a:ext cx="4860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32360" y="4941720"/>
            <a:ext cx="51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11T17:09:21Z</dcterms:modified>
  <cp:revision>661</cp:revision>
  <dc:subject/>
  <dc:title>Diapositiva 1</dc:title>
</cp:coreProperties>
</file>