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808-143D-4E97-B806-9E270C70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DD2-1F54-4E9F-BF03-EA3578BA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BBC-79F1-4E9B-B5AE-3C673927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189-58E6-418C-BCB4-444057A4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8BB-17C6-4380-9E24-090A4A7C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9B8-D9D6-45B7-A50E-BACA55A8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5EA-1429-4FC7-86FA-B989A6FF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FD6A-035F-407C-B63F-737F41DA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F29F-86AC-4401-9498-D41601AF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AB22-33A9-473C-8C1C-A6E73F4B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981-E19E-42AA-B205-9401A9F4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98A-F540-42D5-B459-E48E9215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5459-C8FE-414C-B98B-BEC3C807F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73372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0000" y="573408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06T19:00:29Z</dcterms:modified>
  <cp:revision>774</cp:revision>
  <dc:subject/>
  <dc:title>Diapositiva 1</dc:title>
</cp:coreProperties>
</file>