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0850-3E6B-400A-839A-80C0B103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32E-BE72-444C-95A4-83C8936F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547-6EA1-4C14-8BC6-81E8B170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C499-BCFE-4CD8-A074-ADBD0C83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6097-258F-4264-BD99-F4075BBC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3D87-088C-46D4-A2E4-41254F07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F73-3B94-48C9-A1DB-0C47088B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C82-1F70-42C6-94A7-638DF74B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23F6-E973-4905-B090-60F75608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E973-B381-426B-A214-5537D40B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2DE2-56E4-4417-B34A-2AD23AB1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9204-482D-4371-A13F-A8874205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85B2-E22B-4179-A32C-DE30740C3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733720"/>
            <a:ext cx="439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80000" y="573408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2-06T19:00:29Z</dcterms:modified>
  <cp:revision>774</cp:revision>
  <dc:subject/>
  <dc:title>Diapositiva 1</dc:title>
</cp:coreProperties>
</file>