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DCBF-09FD-484D-A49D-309C91906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EAF9-B868-4C73-B063-75E8CEBF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66F9-77D4-4EE5-9386-6D1504B62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AF03-EA6B-460F-B85F-EF9AE0456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C9A4-BB03-439B-A0F6-E3287DE1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5CC9-CFA6-4A16-820B-4BF71A7D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8DFF-9A77-455B-9DAA-CFFF7959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9865-4E1C-4D8B-B66E-6E69770D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000F-68F3-46C0-A0EF-0FE362F8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F0FC-98F4-4520-9423-FAD4D8C5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1949-1E2E-4D13-9546-00EE73D9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4449-7BDF-45D8-B879-B8AE561D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A0F2-91A1-45ED-A463-226F64057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96000" y="4292640"/>
            <a:ext cx="486072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932360" y="4941720"/>
            <a:ext cx="518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4-11T17:09:21Z</dcterms:modified>
  <cp:revision>661</cp:revision>
  <dc:subject/>
  <dc:title>Diapositiva 1</dc:title>
</cp:coreProperties>
</file>