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385-6F94-48C3-A6E3-0CE6A51F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AF9-9DFC-4356-9013-0972750E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0DD-3617-439F-AD86-779691B3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9A3-A63C-4ABA-B553-94458CE6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458-2DDF-4C94-9199-342A5E87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CB3-F2DB-4AEF-B475-622F5B24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139-FA4A-4C5A-97E3-916A785A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92D-F75C-4450-8679-2B9FD9B5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F28-8946-4E6E-88A0-7E14E7C6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129-1B44-4276-8954-2F25F12C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E94-6F3E-4F79-8C33-1EBA01DF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92B-FCC5-482F-B247-E2862B0D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8A89-7B28-41EF-A8A0-958B5FFF6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3-27T16:01:57Z</dcterms:modified>
  <cp:revision>7</cp:revision>
  <dc:subject/>
  <dc:title>TITLE</dc:title>
</cp:coreProperties>
</file>