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792F-E54F-455E-9129-8F6B8B2C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07D3-2B06-41CD-AC8F-E31FF57E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B73B-B115-4E01-9793-CB58B30C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2C24-7614-478A-B1A3-5F5240EDE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0A18-6C03-4D92-ACE7-D39CDA80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665A-E975-4B29-879F-3F66A077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9730-6A4D-4A27-92C4-38BAFF8D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A4F1-95C6-49E8-849C-D7F23367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BA8F-9986-45A0-8E68-516D5EAA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452E-1092-4F75-B707-23A6E76D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F8D9-7F29-4B64-9862-107E5091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1E2A-D049-4E74-AEDF-98D1F149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0B4A-DF2D-461F-82A8-E70F25397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ariajose</cp:lastModifiedBy>
  <dcterms:modified xsi:type="dcterms:W3CDTF">2009-03-27T16:01:57Z</dcterms:modified>
  <cp:revision>7</cp:revision>
  <dc:subject/>
  <dc:title>TITLE</dc:title>
</cp:coreProperties>
</file>