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928-57D3-4C2E-BD80-9449C678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4B8-4E5A-464C-8A33-122CB7DC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891-156E-4F96-B4FB-DAB3ECBC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A42-A40C-49F9-87EB-CBAA9B0D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B3B-F4CD-4561-8C5E-9AEE3096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FAF-8754-483D-87AB-2EBD5F5E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43B-52B1-4328-98B8-CA474480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7E2-CF4C-449F-BF09-B366B3EE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371-6AC9-45C5-906D-330088A3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BD6-C3BB-48C5-97E6-FF6F2A7C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F04-FAFB-4FB4-BAF4-652EE555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8AE-13A3-4279-A8D2-AD598D69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882F-AE59-456F-8153-F0C32BC48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3789000"/>
            <a:ext cx="44654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450864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2T16:27:36Z</dcterms:modified>
  <cp:revision>601</cp:revision>
  <dc:subject/>
  <dc:title>Diapositiva 1</dc:title>
</cp:coreProperties>
</file>