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E13D-67AA-4B97-B687-C77C831D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38DB-887E-4556-868B-8AD6A997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C794-1A5C-480D-ABB6-B027DCEC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E31E-A922-4A24-A893-E16CCE96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F63F-B5C1-4190-B959-9C50ECBF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1572-D9CD-483A-803A-C19F90E2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1E45-03CD-48FA-A4F3-1580342C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145B-531D-4A89-951D-7143DB02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04A3-827F-4E3F-A0BB-55D65DB5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9A0B-BB87-43C0-AE84-38060484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B7B8-8B2C-44DB-B9D1-25D8B0A0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758E-940D-4306-9DD6-905E56D2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4A4E-132D-444F-A063-48C49B4A6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0720" y="3789000"/>
            <a:ext cx="44654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00720" y="4508640"/>
            <a:ext cx="417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22T16:27:36Z</dcterms:modified>
  <cp:revision>601</cp:revision>
  <dc:subject/>
  <dc:title>Diapositiva 1</dc:title>
</cp:coreProperties>
</file>