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B9E-616D-4615-8F0A-496B5EABE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6B1-0DFD-482F-B9B8-E53BB838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CAE-C1C7-48F0-A177-5D2A454E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744-A7CE-4D38-AB3D-86AD159F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6AC-A518-443A-A4E2-63750237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C9F-5A61-458E-A334-21FCA20F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835-7D10-4106-8F1A-98A8A4D2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51D-C4C0-41C3-A231-4C0CB0D2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16D-F17C-4EF2-81E9-6623265D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AA5-EC6E-4E65-92BE-5C7099A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F9A-8854-4F40-8CAC-4A8C1EA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8DA-534D-4A05-91BF-0CBE1B1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D4C-AA3A-4067-B588-C7D1FB02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15736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141360"/>
            <a:ext cx="4176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4T12:53:29Z</dcterms:modified>
  <cp:revision>587</cp:revision>
  <dc:subject/>
  <dc:title>Diapositiva 1</dc:title>
</cp:coreProperties>
</file>