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4BB-5C39-44C0-8CCA-F37ED99C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E08-59E3-40CD-9185-A8765D11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D4B-2A87-4E29-BB1A-BB5E80A3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4FC-E867-405C-80AB-10E39B60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A46-C03B-4065-83CA-A7C3ACF0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D5E-F60B-48B5-88DB-E3E33DFD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945-D192-4286-BDE3-3362B39D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36A-6A0C-478F-8BE0-62C39355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ACD-9333-49F5-A0FB-A192D275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5E5-4DE0-4E54-A5D2-0F72E66D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BA3-BD99-4D9F-9F42-B9BF491C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AE9-2FC4-4906-9D57-1CA1C159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2864-A009-4F9C-A761-2DBFFFF7E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65800" y="4292640"/>
            <a:ext cx="44272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566100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4T14:07:45Z</dcterms:modified>
  <cp:revision>711</cp:revision>
  <dc:subject/>
  <dc:title>Diapositiva 1</dc:title>
</cp:coreProperties>
</file>