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95E-8780-4F6C-9503-F78568C8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9B7-B424-4895-AFE6-E3738DC5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A62-3FDC-4A83-B71A-3AB683F0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AC4-9A74-4548-A81D-37B518D6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B1B-4293-428C-90E8-5A1908FC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92C-7C49-4EBC-9F91-35C256B1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DF0-9D5D-4BC1-BF47-743335FC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FEC-6B28-4967-9B18-0ED2CE9F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30F-7208-4931-9A41-C6E70C99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973-568E-4AC5-AB2C-33B540DE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F51-F3B9-478A-8AF0-39C0941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4AB-7B2B-4131-9F6D-6CCDA78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F61E-628E-47F6-8D72-687D325F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15736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14136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4T12:53:29Z</dcterms:modified>
  <cp:revision>587</cp:revision>
  <dc:subject/>
  <dc:title>Diapositiva 1</dc:title>
</cp:coreProperties>
</file>