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9A97-0248-4EFF-9061-21C1F469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15E3-DA30-48D9-B3D0-DFEC2A0B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DA2-CEF1-49B1-AFDA-7E056550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858F-2E83-47E7-9240-733BE2CF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5992-69F4-4374-852E-157ED2BC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0545-5B47-4F33-85E1-8DD17341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D32-1807-4E8F-9E12-F61961C5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2A2-4062-45BE-BD70-8161E3E6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2BD5-AB6A-4955-A912-FE1511A1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21C-1E57-455D-A26A-B08E3CE6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233-7123-4ADC-99C7-9577CCBB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F5A-D81F-4A42-A235-7DF288B0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A515-3C34-453D-B75B-64D58E313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653000"/>
            <a:ext cx="45370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530028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9T19:20:44Z</dcterms:modified>
  <cp:revision>583</cp:revision>
  <dc:subject/>
  <dc:title>Diapositiva 1</dc:title>
</cp:coreProperties>
</file>