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AF8-8FEF-4A9F-B6D5-3AF08839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6FB-67A9-4377-8665-AD792A56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767-719B-4B09-8966-349D52E3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1E8-EB9E-4044-B328-76BB0250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8BB-481B-4412-89C4-423F7488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A756-81AF-49A8-BB39-36884FB4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DE6-7DD3-4909-8AAB-27D39BB5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64D-A01E-4C05-ACF6-782F2BF6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E3D-E12E-4F1F-AC54-5D8C04CC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746-4359-4F0A-AEE6-4892B8C7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B27-C00E-4925-9C14-6384FDF8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76CF-CC1B-45C9-B840-6F51516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3212-AD33-45EB-A74D-2B1DA29DB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300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530028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9:20:44Z</dcterms:modified>
  <cp:revision>583</cp:revision>
  <dc:subject/>
  <dc:title>Diapositiva 1</dc:title>
</cp:coreProperties>
</file>