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DAFA-935C-4921-9FE3-7D832151E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9DC9-01EC-41EB-9314-DFF2FD379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2629-3F51-46C9-8752-DC348FB0B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18CF-0DD4-4A75-941A-5B7487056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FF66-1F93-4A07-9B00-3289D6B44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1E3B-9896-4797-A56D-E0D7686A3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0822-8B8A-45EB-8C55-F63004AB3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F6A5-97BB-45A2-9147-6C8F112DF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D661-C8EA-4C53-9C75-B13D11BF7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5876-A0C9-4F60-A805-152109ED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372A-B9DD-4F0A-B578-1DF48D40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69DE-479B-4C1F-AD96-CDA681B2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6CCCC-ECA0-41D8-8CB3-8F0E98D2D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5013360"/>
            <a:ext cx="442728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734080"/>
            <a:ext cx="396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y nam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tact informatio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 project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5-03T16:21:05Z</dcterms:modified>
  <cp:revision>710</cp:revision>
  <dc:subject/>
  <dc:title>Diapositiva 1</dc:title>
</cp:coreProperties>
</file>