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16A-6972-4BB6-9BF1-A9B63FBB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D1DE-52E9-46B8-9A79-37D45E4D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90E5-24C2-4ED2-802D-0B3A5D1E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25AE-AE07-4954-8E95-A261E009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869D-4650-4B1A-AD99-57055F4F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B615-9164-4E12-9D4A-FEF00AEB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F4C-D39A-4EC9-BEAF-94151320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5338-49B4-4F82-BE0D-4E158208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487A-937E-458D-A4F2-3ECE6DD7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94D-9100-4EE8-8480-75AB471D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A52-E215-4319-9B06-17DA7C66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FEE-D226-475E-93BA-CB468B27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AF3C-86A6-412C-BA50-FCAA05CB4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7280" y="5405040"/>
            <a:ext cx="486072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8360" y="580536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0T14:00:10Z</dcterms:modified>
  <cp:revision>660</cp:revision>
  <dc:subject/>
  <dc:title>Diapositiva 1</dc:title>
</cp:coreProperties>
</file>