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57E-E8FE-4763-B635-106FFFCD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214-F004-4E52-BF44-91CD75B9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B51-6EC6-47DE-88BB-8463C917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ADE-F96D-410B-B216-5B0D835F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744-96C6-4DFA-AF53-B7418400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BCA-D6D4-42FD-8598-40E9D2BC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513-9F75-4CF2-8B51-3C82FCB7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CD9-84A7-4BB5-928F-8EE21971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517-CFAA-4D2D-9E6D-261FCB82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89F-91D3-43C5-80DE-598F56D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B1A-0C53-42CD-972D-E46B0EC9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8B9-7AA1-4612-BA85-030B527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3B97-FD71-492F-B1D7-073B4CB06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01336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73408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16:21:05Z</dcterms:modified>
  <cp:revision>710</cp:revision>
  <dc:subject/>
  <dc:title>Diapositiva 1</dc:title>
</cp:coreProperties>
</file>