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CED5-192F-41A6-9E5B-C542AB745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75FF-A9DF-47D0-BEAE-A8BFE4A4E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86F9-35B0-4C05-AFF6-86D12E47F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2C18-9078-44A7-9960-DC8D5B65F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4497-6799-4B98-ADD0-5ECCEBDAF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E8B4-3A03-4662-AB6A-5BF02234A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1E82-6FF1-4996-A30E-FD26278CC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685A-4BF8-4040-B052-1D8142518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03AE-13E6-4D58-B8C4-BD18DFA4F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9CFD-2AC2-468B-980A-E0536910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AE07-F070-4E61-9B2A-9287F7BE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1ADA-9AAF-4721-BC4B-035DD366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BE01A-8910-44D3-8AE0-A5C46BCE72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4508280"/>
            <a:ext cx="4248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300640"/>
            <a:ext cx="4537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ffffff"/>
                </a:solidFill>
                <a:latin typeface="Arial"/>
              </a:rPr>
              <a:t>My name</a:t>
            </a:r>
            <a:br>
              <a:rPr sz="1800"/>
            </a:br>
            <a:r>
              <a:rPr b="1" lang="es-UY" sz="1800" spc="-1" strike="noStrike">
                <a:solidFill>
                  <a:srgbClr val="ffffff"/>
                </a:solidFill>
                <a:latin typeface="Arial"/>
              </a:rPr>
              <a:t>My position, contact information</a:t>
            </a:r>
            <a:br>
              <a:rPr sz="1800"/>
            </a:br>
            <a:r>
              <a:rPr b="1" lang="es-UY" sz="1800" spc="-1" strike="noStrike">
                <a:solidFill>
                  <a:srgbClr val="ffffff"/>
                </a:solidFill>
                <a:latin typeface="Arial"/>
              </a:rPr>
              <a:t>or project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10-25T14:36:31Z</dcterms:modified>
  <cp:revision>713</cp:revision>
  <dc:subject/>
  <dc:title>Diapositiva 1</dc:title>
</cp:coreProperties>
</file>