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E5EC-D97B-48D8-B7F8-81A598C20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821F-E05F-4B2E-8C32-C026A37D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2B30-D52C-43BD-BBBA-863B6336D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7AE4-D700-4601-BF0F-E31A51918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EF30-B943-48B6-B71C-91CAA5C9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E489-D009-4CDF-8104-D675A596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49A7-FC0F-4CA6-9764-8E0F8B69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3C62-3FBC-4948-9416-8F386860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597F-5C60-4F9A-B8F9-43612FAF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56F4-FDC6-4452-9865-1BB0B1C8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39FF-9A54-40D3-AFBE-329ED2EF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3294-D825-4B27-8911-4D84CEF9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D7E8-25D9-45BD-8CF7-145A1630F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4508280"/>
            <a:ext cx="424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300640"/>
            <a:ext cx="453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My name</a:t>
            </a:r>
            <a:br>
              <a:rPr sz="1800"/>
            </a:b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br>
              <a:rPr sz="1800"/>
            </a:b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0-25T14:36:31Z</dcterms:modified>
  <cp:revision>713</cp:revision>
  <dc:subject/>
  <dc:title>Diapositiva 1</dc:title>
</cp:coreProperties>
</file>