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E79C-629F-410C-8B87-1DE1ACC5B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AE9F-2A4E-488B-987D-2CA10D67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04C0-3B58-48B4-B75E-A99BB0C48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B8AA-360E-4E3C-9047-75422B78F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A078-2165-4651-A0C3-0DC9382C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3D22-B2BE-4F14-BB9B-EDD576F2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24E3-FD8F-4F19-8A95-02267079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82CD-F3C2-4A1F-9D45-0B961C32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620F-1A2A-4935-8736-498287A3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9F26-0DA1-4A3C-B232-08F59E0D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9A98-BA6B-4E13-8255-EE7F57C1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1A2C-0C2D-4575-8265-5E65B901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9CAD-663E-477B-86D7-0B23EA098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65800" y="4292640"/>
            <a:ext cx="442728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427640" y="5661000"/>
            <a:ext cx="39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 nam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5-04T14:07:45Z</dcterms:modified>
  <cp:revision>711</cp:revision>
  <dc:subject/>
  <dc:title>Diapositiva 1</dc:title>
</cp:coreProperties>
</file>