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35D9-2902-4D74-818D-F3022B60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8C7C-833F-4BE5-8C0D-83145937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2DB6-1800-4CE2-9C2F-BEDF74A8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FF06-8BB9-4B98-8E92-57C50389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2D3-E0D9-4C98-84F7-71E6B737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B541-C12E-4B14-8800-C2250668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4DC1-4361-4FD7-A33A-5A582306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7A3F-BAB8-453E-983A-79F1924E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1EBB-C990-43E5-A057-2B5CD7E7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DA6D-6114-426C-A104-D40C8341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45EF-285E-4180-B5FF-AD2BB34D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4A19-3F89-48EA-B427-4BDD9445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5F28-CD77-4B90-8E20-9611AE90E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16T17:44:06Z</dcterms:modified>
  <cp:revision>197</cp:revision>
  <dc:subject/>
  <dc:title>Diapositiva 1</dc:title>
</cp:coreProperties>
</file>