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E9C-0519-4D0D-A8AE-FDF6F11B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03A-7B2E-4C86-BDA4-AEDEE070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E62-FFE4-469E-B028-D3CE2687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289-96A2-4B2F-977C-1C3D46D3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C3F-E680-429F-B468-24ABDEEA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81D-319B-45AC-8BBD-41C8E412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A65-AB58-4247-A3CF-E7B21897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D8E-8D0A-4E68-83B3-4A957133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BB1-3D8C-499B-862C-A49C6E0C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407-9F6F-4205-9EA5-B36EB9C7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63E-8A11-4CA2-98F5-D289ED7D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91B-F26D-4296-BDD5-88631B6D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C2C7-169E-43ED-908B-37FC4BC8F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518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373720"/>
            <a:ext cx="51847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30T19:20:25Z</dcterms:modified>
  <cp:revision>630</cp:revision>
  <dc:subject/>
  <dc:title>Diapositiva 1</dc:title>
</cp:coreProperties>
</file>