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89E-FFC5-47B8-8D24-30432106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682-49CD-4EB0-9BB3-FD43F2B9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F087-CADE-4B1F-A209-EF6D936C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D17-3872-423B-A2B9-89A2D185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C54E-6BAD-470A-A218-B3843741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E80-D59C-4033-AB9B-04D530EB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40EF-F2BC-4D03-B63E-D742E48F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34D4-59C3-4571-961F-B04B88C9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07F-D4AF-4423-99C7-EF29E447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752-EB5C-4C33-B591-171589F0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24B-2A50-44D1-819C-CF5E5916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BAD8-FD76-48DC-BDA2-541CF21F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F587-C872-4411-B4B6-151F06A1B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508608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4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7-26T22:17:47Z</dcterms:modified>
  <cp:revision>651</cp:revision>
  <dc:subject/>
  <dc:title>Diapositiva 1</dc:title>
</cp:coreProperties>
</file>