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38B7-E178-46A9-BCB9-61AD7DDB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699-7BF4-47E3-BB82-F05D2793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4F3-9345-4D36-B103-FA170399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C96-16C4-46EC-9AD0-E182D6C8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12D-4E95-4442-8BB6-AF3FB7F6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3AE-D103-4F91-AAB9-2AB3851B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85B9-E19C-41E4-B8F9-47B41983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29E-B095-4401-9861-F0E2C3BB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ADFF-2BF0-4DB2-95F5-3C15A5A4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0B3-3E07-48CF-A961-B2C75222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8A1-4EA7-45F8-A9CE-104B0573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C11-569E-4131-9DA5-A1C4C15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6702-B2C8-4E1B-AA81-5F3B7C57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36572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464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9:33Z</dcterms:modified>
  <cp:revision>577</cp:revision>
  <dc:subject/>
  <dc:title>Diapositiva 1</dc:title>
</cp:coreProperties>
</file>