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65C-EFF9-48A5-BDD8-77D9E651D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74E-34AE-4917-9917-E93E59E6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689-67E1-4AA2-97A8-2F00A62A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9570-5FD4-4634-8C20-E212FE1F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BECC-6441-4F23-976E-BD1976FF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ED3-F256-42CC-8EC4-B06541C8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BA0-68A1-4FCD-9CDD-552B67CF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800-F3D6-428D-A550-9F1C059A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133-EE46-481E-8A34-E2E3FB43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680-0B83-4EB4-8223-4AE8186B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199-6ECE-489A-9154-61BD405A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368-CEA0-4E92-9EE3-FE315A86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8FC8-9B61-43F3-966E-BE87D4239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1-26T17:33:30Z</dcterms:modified>
  <cp:revision>338</cp:revision>
  <dc:subject/>
  <dc:title>Diapositiva 1</dc:title>
</cp:coreProperties>
</file>