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0E3-C18B-44F2-8702-4BB9F551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6E0-994F-4BB9-AC35-31E8A40F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684-F54D-439E-936D-A4954D80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795-D540-4B51-8368-CF3ED5C9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8BA-955C-4C6C-9776-FAE80EC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155-4C51-4A24-9410-F4FE038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0E3-C2F2-4FB4-853F-8D7100D3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9F0-86E1-4EA3-9CD8-9FDAE5A0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5C9-CF37-4464-BA83-7ACC2A7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929-177D-4E80-9C93-90FB5163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9F0-D0B3-4CE2-8F0C-29BEFA4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3B1-13F4-48E1-AE6B-848ADD11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CF11-8927-4FE7-9D35-DB305B3A8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1125360"/>
            <a:ext cx="5327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6-15T16:52:48Z</dcterms:modified>
  <cp:revision>606</cp:revision>
  <dc:subject/>
  <dc:title>Diapositiva 1</dc:title>
</cp:coreProperties>
</file>