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CBA-2C0C-4B58-8161-6FBCCD9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575-BACE-4031-8C5D-049A7E5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0C4-9BFB-441B-A8ED-D4C44536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296-AB4D-40DF-9357-6BA4497F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CFF-662A-42FF-ACF3-46581356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A12-C5FE-4AB1-A6E5-76635FDF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2E7-5A5D-470D-B348-6DCA9017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796-CFAC-4135-A276-CAE4AB52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F6C-4C1D-4AFB-A74F-96A4C316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927-BA74-483A-8265-6FF02696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A45-E2E5-4363-9C61-A82E693B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DA8-10DB-47B7-83AA-B78EDBF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E18A-25F1-4650-BAF8-D02A5F838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8-26T03:11:49Z</dcterms:modified>
  <cp:revision>121</cp:revision>
  <dc:subject/>
  <dc:title>Diapositiva 1</dc:title>
</cp:coreProperties>
</file>