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6AB-165A-4741-AD19-F642F530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74E-5E3D-4607-8F0E-7D3BB9A3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43E-AE00-4F28-AAF6-118FA968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EE6-4FF4-414F-8FD9-70477D51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08E-CEE5-4240-AF58-841F65E9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EC4-FA8D-4AE4-A142-2B9A1013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29C-E574-4B66-B1B8-AB6315B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F3A-2CB2-4480-BB1B-134BC7F7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041-9F87-4DF3-A8D4-71154EFC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60D-7EC6-4F1F-B412-83AC49E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578-CF5D-42FC-85FC-546053E8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093-E50C-4BDA-A0FF-3C06AB5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E686-7186-484D-901E-4262842CF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26T03:11:49Z</dcterms:modified>
  <cp:revision>121</cp:revision>
  <dc:subject/>
  <dc:title>Diapositiva 1</dc:title>
</cp:coreProperties>
</file>