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DD8-7A67-4612-B811-8FC9DAED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251-190C-423A-9480-E532817D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FE3-FEC8-4B20-A97E-3B582965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8A3-A1EF-4E07-9A33-B25C6B93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F1B-347A-4DF5-9D75-37520212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750-D982-4F99-B9A6-B28A268C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A5B-64DA-4B37-B57D-9EE499DB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18A-FD88-48EF-8019-069F3DB6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2C8-450A-44C2-8888-A567E27D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0827-346D-4CDE-9E9D-B937C3A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4A0-8E19-49DE-AB3D-BF07B827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879-0AAC-40AA-A0F8-B83992D0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8FAA-548A-4512-B4B1-2062EF4F9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1268280"/>
            <a:ext cx="4896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1c1c1c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2T13:39:31Z</dcterms:modified>
  <cp:revision>711</cp:revision>
  <dc:subject/>
  <dc:title>Diapositiva 1</dc:title>
</cp:coreProperties>
</file>