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C5F-739D-4902-B42F-9A6E57C9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E9C-4479-491F-8C50-3B24BEEB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044-E5D0-4533-852F-2EECC2ED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E07-3C68-418C-AAC8-2E8F1BDA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181-D12D-428F-A92E-DCB172B3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425-5791-46EC-AF22-0A8AB200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E79-A5E6-4E66-A18E-B2F990AD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DC7-CE57-43F8-9A29-2F9376ED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CEC-6620-4629-8A3B-EE9697B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7D3-01FC-45A4-A9AC-00676BC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B38-21B2-43CB-A138-35CFCF6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78D-3364-40F5-AC79-41B3CCC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331-D376-4AFD-B288-E2EE1BA0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1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7:37Z</dcterms:modified>
  <cp:revision>738</cp:revision>
  <dc:subject/>
  <dc:title>Diapositiva 1</dc:title>
</cp:coreProperties>
</file>