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763-E880-4AF1-AE6A-22B0FF9E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47E-2812-4627-B091-6EE36F93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60E-7213-4975-9077-6C78A307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552-9DB3-4708-9D03-5E500B5E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C62-1A47-4020-A513-9DA656F3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F9DD-8CD9-4878-B5D8-0F6B5857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89D-E50F-40EC-93B3-FFE3A08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7E7-7E37-4D14-B631-F562AA1C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629-DDBF-49BC-9051-2F5D17E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F14-6EE7-43B7-A67E-56550C4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071-7E97-41D5-9AA0-A320D6B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759-EC1B-4A43-8F84-7BFB3342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7240-DF7D-47F6-9F11-2A3BA67C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62028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0360" y="1125360"/>
            <a:ext cx="7272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4T00:58:44Z</dcterms:modified>
  <cp:revision>733</cp:revision>
  <dc:subject/>
  <dc:title>Diapositiva 1</dc:title>
</cp:coreProperties>
</file>