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E13-04E3-41C2-86F9-5787451C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869-9231-4897-9E9F-DFA3A032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F6F-B1A9-4066-A5DB-871AAD7A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65A-7792-448E-80FB-7C485332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5DB-C50B-45FB-BFCB-D980FE55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828-F1A0-4978-A3AD-B6359836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C10-389B-4001-9CE7-B113D131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606-3931-4E17-9E5D-059FE502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EA6-027E-41DB-B737-53DD843A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C05-EE6B-458E-AB1E-C5FF5EE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2F7-F965-425A-85A1-562448C5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EEC-B92E-411E-A088-BE03E73A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0900-D44C-4C32-A3E2-FEF3F97B8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1T14:03:21Z</dcterms:modified>
  <cp:revision>781</cp:revision>
  <dc:subject/>
  <dc:title>Diapositiva 1</dc:title>
</cp:coreProperties>
</file>