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576-9264-4C5C-855A-44DA5794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D87-DAD4-4F8D-95C5-A6BE6AB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D8A-5F6A-4470-8CA0-60C9947D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46B-82E9-481B-8F08-0291A8D5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E02-A1AE-4D4F-B924-8008C53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2B5-8C5A-4A81-AA3A-D2E50F3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85D-4E10-4D6D-BF6E-00E7012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F89-D7E7-49A2-802B-03F588D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2E9-C461-4A8A-BEDF-EAF77205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212-F160-4FE6-80AD-472EDA5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C58-28DA-4965-ACB5-74376552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5D3-B0D6-4E2D-8163-0F76140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317F-A90C-4024-9D69-6B326D68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5T16:52:48Z</dcterms:modified>
  <cp:revision>606</cp:revision>
  <dc:subject/>
  <dc:title>Diapositiva 1</dc:title>
</cp:coreProperties>
</file>