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19F-2BB1-47CD-9D92-B526693A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7A3-E454-478C-8135-7C5E3F36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A47-60CE-492D-8760-1B33A013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830-E145-4645-9FF2-72455C99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CD2-88D3-45D9-84C4-50928CD4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17F-206F-41A3-8103-3D9AF889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419-513C-409C-BB5C-58A11556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138-906A-46AA-8DDB-C2155728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191-C42E-416C-B253-D48BF39E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60C-20A4-4F57-AC6C-C0EFF7DA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60F-B29D-4420-BC3F-6247ED7C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D2D-B8CD-4424-A2FC-16D8C61A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DE42-2D24-4FB9-AABC-667524FA9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549000"/>
            <a:ext cx="5185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7T18:47:37Z</dcterms:modified>
  <cp:revision>738</cp:revision>
  <dc:subject/>
  <dc:title>Diapositiva 1</dc:title>
</cp:coreProperties>
</file>