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27EF-F5DB-483C-A5FA-F2DBBACD2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B66E-55A2-42A5-ADA0-DA020BEE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D758-4E93-46F6-981A-69479701E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22C3-AE7C-4EB1-AD2A-D089DADE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0A02-AFD6-4F06-BD3B-247770D7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AF56-BB18-4B4D-B130-CE8DC510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7F1F-8A4D-4841-86BF-F3DD143D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8765-FE2B-4B18-9C27-96F3E0B1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A4E9-DDFC-4215-AC51-352CF846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613B-6890-48C1-8AFC-2D1827D9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CCAF-F1F0-4812-8709-11541BFC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2B72-01BA-4382-86C1-82D2F95D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E371-64F6-4D53-8A4D-D644BF8AB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8-31T21:21:50Z</dcterms:modified>
  <cp:revision>137</cp:revision>
  <dc:subject/>
  <dc:title>Diapositiva 1</dc:title>
</cp:coreProperties>
</file>