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F418-0175-46F4-AC93-4EF5D4A90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594A-FCEC-47F2-9E85-7216D12E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CBD1-1719-468A-A705-43B609400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0B8B-07E5-48B1-9A29-C9FF30BFC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1FDC-7282-477E-A159-FB532BE1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E074-7ACD-4252-A7FC-85D437C0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88FF-59E5-42B4-BB98-0CF2C3E3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B4B3-F52A-47B8-AFFA-A9F83E4E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51F1-E2DA-495A-956F-0D3E8812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33C3-91C2-434F-8AF2-32A577AF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5EB6-E324-474E-87CC-A32DDC37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8355-A894-42E0-9897-0CB3D2DF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DFA7-29A7-4ADB-A650-71ABB14FB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4652640"/>
            <a:ext cx="439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5589720"/>
            <a:ext cx="51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nam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2-11T14:03:21Z</dcterms:modified>
  <cp:revision>781</cp:revision>
  <dc:subject/>
  <dc:title>Diapositiva 1</dc:title>
</cp:coreProperties>
</file>