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2A8-5A6E-48EE-9829-4F7474FB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464-8A2D-4783-85AA-A38F1E90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27C-59E5-4CFC-A563-D10753CC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4F0-CA85-401E-820C-92BB210A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E86-6753-4A27-BA7F-95054F5E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82C-D149-4320-9B1F-FA71C6C5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A67-6C7A-4B84-A3E4-E05C80A2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FBF-E7A1-4090-A802-0D9445FB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BDA-AEB5-4A18-98E4-FEA609A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E88-C449-4D68-BBA8-C4FFF22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4C1-A2D3-4723-98B8-64568B2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98B-152B-4291-A98B-89C57E3A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A3AD-7D8F-44AB-8D1C-F501C9B3A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1268280"/>
            <a:ext cx="4896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2T13:39:31Z</dcterms:modified>
  <cp:revision>711</cp:revision>
  <dc:subject/>
  <dc:title>Diapositiva 1</dc:title>
</cp:coreProperties>
</file>