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AFA-8E68-453B-8B50-5814790C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C9D-8198-4331-A100-09A6E481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F7E-8B37-4008-ABD5-5F846320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360-C925-4023-A844-C0035A3C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E70-E826-428F-A50D-3C81DB86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213-C253-4FBB-B500-99F596A6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ECF-626C-4E1F-A4DA-CEDEB16A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CDD-CF9D-4E84-824C-7F8CF9D1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AD5-D634-4C1F-94A3-178BED37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B7F-D7E9-4B8D-B223-E63FF286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385-4661-4449-852A-A2721FA5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50B-DD9B-4287-A452-1182B7B6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EBF9-CCEF-4D2C-9B4D-EF701DB78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62028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Presentation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0360" y="1125360"/>
            <a:ext cx="727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04T00:58:44Z</dcterms:modified>
  <cp:revision>733</cp:revision>
  <dc:subject/>
  <dc:title>Diapositiva 1</dc:title>
</cp:coreProperties>
</file>