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A15-DEA5-4ADB-89FE-66E8D578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F3B-6793-48F0-8B4A-E51AE6BC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306C-EF19-448A-A5B7-C1CB54DD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9BD-DCE8-4889-B687-7567D8A3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D47-C7ED-43AC-8044-6E7845A9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45F0-33BE-4D8C-915F-8800A550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18F7-8FCC-4979-9E38-F6CB205A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9AC-E20E-49B9-B3A3-99215AE2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E640-F77D-448B-8C0E-1DAE5840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DD20-8D51-44C2-BD75-A2A7FC6E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BEF-AD0A-44E3-90D4-5E057DF7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F1B-721C-4907-A0B9-07A676CA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F9A0-19EA-4D81-8417-C880BC7C4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8-31T21:21:50Z</dcterms:modified>
  <cp:revision>137</cp:revision>
  <dc:subject/>
  <dc:title>Diapositiva 1</dc:title>
</cp:coreProperties>
</file>