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7FD9-EB71-4596-BCE8-C8411AF73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1432-6CFC-4CDC-B48B-E3E0D0B56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C5BF-0FF0-44F3-BDA0-167DD9638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4F08-B4E2-4C90-A23E-A057DF373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1100-7B24-4219-A554-955341D1B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54AC-62B4-4DA2-9EF6-E673E8ACD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8792-72DA-4CE5-99A0-AF445FF3A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0BE6-3BB3-402C-B1B0-91228C866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AB3C-0D68-4B34-AFA9-E6F7C35C6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E6BB-A86D-401F-AB3E-71965216F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07E4-AEA7-4A0D-ADAD-A37E267F2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A738-11EC-41F2-B432-CE08C6E10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60FE9-010E-4FC5-B9C0-A8FC5C3FB7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5084640"/>
            <a:ext cx="54720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4000" spc="-1" strike="noStrike">
                <a:solidFill>
                  <a:srgbClr val="003300"/>
                </a:solidFill>
                <a:latin typeface="Arial"/>
              </a:rPr>
              <a:t>Presentation Tit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2-01-24T23:04:35Z</dcterms:modified>
  <cp:revision>838</cp:revision>
  <dc:subject/>
  <dc:title>Diapositiva 1</dc:title>
</cp:coreProperties>
</file>