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955-BD93-486F-8F90-F9D1B2D2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0E1-57F4-4757-A984-FD3583D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E17-C252-40DA-9C23-DE0EA843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A6B-C602-42D7-A36E-4C70BCD4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74B-2B3B-4815-A5C4-4A6E3128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304-5ECA-461B-BF93-06924C1F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19B-63A6-4CB2-9AFA-E3A402FC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7F5-D204-4A61-B018-BCD5EDE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DF2-6D69-4005-9D07-757BEEB9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EF1-3E27-4C25-84C0-4E45302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0C2-4D4A-4A4E-B176-CE8FE85D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340-A029-4687-8E61-1900A36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CED0-81C8-4F7D-A696-6AEAFEE589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61645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52:52Z</dcterms:modified>
  <cp:revision>709</cp:revision>
  <dc:subject/>
  <dc:title>Diapositiva 1</dc:title>
</cp:coreProperties>
</file>