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0A6-0E49-4837-BCE1-7B41B508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87E-B3A2-4113-B4C3-0D4414F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2C4-E720-43B0-AB81-356F1EEA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ED1-CE06-4D76-A97E-F332CEC3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457-1E52-464C-A869-53560D2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483-DBCD-4A35-B007-3F840B6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FC6-AE38-433D-958C-3155FFE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D22-F665-45C6-9359-7ADB2886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E06-251E-423A-B052-33B35D2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565-BC1A-4BAB-9F7F-ABC1DAF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B00-DCE0-49E5-BE16-7A04F01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17B-0A92-4885-AC17-C6CCB734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8CF-54AB-4251-9C3A-0BFE0ED8E5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50920" y="292428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20:30Z</dcterms:modified>
  <cp:revision>759</cp:revision>
  <dc:subject/>
  <dc:title>Diapositiva 1</dc:title>
</cp:coreProperties>
</file>