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391-E138-4871-90B5-14B7A574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72F-2860-4AAD-B8DC-C103E112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0A0-594D-42CF-8CF7-48F2E68C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889-E098-4EAB-B664-D2D94AC5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16B-6CC3-47C1-90B3-F5F0ACBA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4B2-17FA-4B81-B1B7-51D8BC02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774-DC24-4B0D-A510-7B780780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1CA-4F24-4A8C-9246-4C5D2D1F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AEA-A38C-4083-B61A-D59F4C0E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468-48E1-4A5C-8C68-F6F75A9B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0D7-1B6D-4F80-BA7A-FE1FEFB6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A7A-D559-4B38-8A92-DB508F17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A274-0230-412B-95D8-D114646A04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98312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140360" y="558972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19:40Z</dcterms:modified>
  <cp:revision>758</cp:revision>
  <dc:subject/>
  <dc:title>Diapositiva 1</dc:title>
</cp:coreProperties>
</file>