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516-F4C7-4ADB-94C3-15CF9B43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003-22B3-421E-9919-DEB0593D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910-34B2-4757-9C47-6A39D2BC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10A-B679-4C9D-86FA-E856A9D5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373-BF5B-4A9C-8BC6-12337919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009-5DFD-49B4-BF8F-644F8ABB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22F-CB80-4CA7-B532-56CC67C7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3A5-F85D-4C39-9926-7F85811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62A-2EAA-4E85-B426-FECF38E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7E4-D363-4C2D-9C7B-333834C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52B-307D-4BFE-9FF5-004BBB4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17D-D086-41CF-B3B2-FF806DB6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7F8-E3BB-4DC3-9AA5-0075134A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9T14:12:18Z</dcterms:modified>
  <cp:revision>372</cp:revision>
  <dc:subject/>
  <dc:title>Diapositiva 1</dc:title>
</cp:coreProperties>
</file>