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5DAD-B493-49F4-A543-FB231E448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1547-7554-4EDF-BB3B-82372F26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2A1A-5489-4B3A-8E4C-834A0C83A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BA33-0376-47CD-858E-04F5A28C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7C18-E430-4273-9EF7-461C10D3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272B-F5A8-4D7C-A62B-6BA66479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712F-6BDF-4D88-A8D1-EFF17C9F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4869-043E-4ECA-9B73-65EAA705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3F08-F122-48A3-B5C9-DE6E249A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8AFB-A94C-48EF-ABE2-303B525A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0E27-DDFA-46A2-80E4-2B6497D7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B2C0-C4FD-4BE1-A9F8-7D11C3DC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6F7B-5CBF-42C7-903E-43A61CF344C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48000" y="4983120"/>
            <a:ext cx="56563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206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0"/>
          <p:cNvSpPr/>
          <p:nvPr/>
        </p:nvSpPr>
        <p:spPr>
          <a:xfrm>
            <a:off x="4140360" y="5589720"/>
            <a:ext cx="486396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002060"/>
                </a:solidFill>
                <a:latin typeface="Arial"/>
              </a:rPr>
              <a:t>Subheading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3-04-11T19:18:56Z</dcterms:modified>
  <cp:revision>757</cp:revision>
  <dc:subject/>
  <dc:title>Diapositiva 1</dc:title>
</cp:coreProperties>
</file>