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1F9-5C44-4223-952F-0921DC85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B19-D61C-469E-B8DE-D0E21572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C8C-1DE3-4B61-A054-8ED06A74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0FB-7D63-4519-9B53-00BA3D28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41F-EA6C-4E1E-ADF0-DC0432F9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D6B-4B7C-4EE4-9B5D-A2E22994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6FE7-A5A6-4035-A72C-6A98F444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0E5-F58F-4112-AFB7-37A81445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3AD-FBDB-4AD4-8EDA-D7827417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49D-418D-4E07-AA01-36F478A4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BF6-FB4C-4553-9463-C9B90E9F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2F4-92A4-4352-A53A-CA20F293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8F92-F4AB-4A4E-BC3B-0B7E730C5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4797000"/>
            <a:ext cx="4537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544500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7:55:07Z</dcterms:modified>
  <cp:revision>576</cp:revision>
  <dc:subject/>
  <dc:title>Diapositiva 1</dc:title>
</cp:coreProperties>
</file>