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86F8-A8E8-4600-BC4A-E5AF1720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9BF5-D8AC-4D30-B815-77F286A5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8ABD-8B82-4435-95CD-8FF63B51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CE16-4285-4D19-83FA-F986CF13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D337-E227-4761-B5EE-39385C4A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A1BD-5B16-4B99-A010-E5B04578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04FF-7B4D-4416-B39C-FC758CDA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2343-0982-459C-A7C1-D5922ED3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F497-7289-4C44-B47C-EC4405BE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2515-A692-48DB-AEB7-A8932D2E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E0D3-9178-4832-8600-6C9FB321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FCFF-D5D4-430A-8454-84322A5F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FB20-D5CF-4380-8F17-E01C54E1C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Sub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 or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 or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038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546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20:21:09Z</dcterms:created>
  <dc:creator>Mariajose</dc:creator>
  <dc:description/>
  <dc:language>en-US</dc:language>
  <cp:lastModifiedBy>Mariajose</cp:lastModifiedBy>
  <dcterms:modified xsi:type="dcterms:W3CDTF">2009-09-22T20:21:32Z</dcterms:modified>
  <cp:revision>1</cp:revision>
  <dc:subject/>
  <dc:title>Title</dc:title>
</cp:coreProperties>
</file>