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D8C26-DCBE-4558-9292-2D9F89AD2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67805-DF5B-4548-8E8F-488DB4F0F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089A4-36A2-44A6-8422-21FE4B69D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D0F75-DD3C-4531-A3A8-45DBFED43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035F7-9F14-454F-9DCA-C1DDF4C02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07E1F-31CA-4009-955A-711BE4004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E4B12-8E96-45E3-A87A-F36956056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34F72-B50A-4646-8121-62A6EA459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F7C6C-895B-4C10-A19C-EF19C8345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92B20-CCD0-481E-84ED-C25134B65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FD690-CD1F-4C76-A76D-460DFFD27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5041B-D621-411C-90FF-F8C5116E8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B0A87-2FBF-485B-86C0-0DC25279F2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987280" y="4436640"/>
            <a:ext cx="4427640" cy="5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3600" spc="-1" strike="noStrike">
                <a:solidFill>
                  <a:srgbClr val="000000"/>
                </a:solidFill>
                <a:latin typeface="Arial"/>
              </a:rPr>
              <a:t>Presentation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987640" y="5086440"/>
            <a:ext cx="3168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800" spc="-1" strike="noStrike">
                <a:solidFill>
                  <a:srgbClr val="2e1700"/>
                </a:solidFill>
                <a:latin typeface="Arial"/>
              </a:rPr>
              <a:t>Your company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2-04-17T18:44:16Z</dcterms:modified>
  <cp:revision>671</cp:revision>
  <dc:subject/>
  <dc:title>Diapositiva 1</dc:title>
</cp:coreProperties>
</file>