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36D3-C55E-46E2-B016-4EC631E5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C4A-3BDE-4C89-B265-9B85D2A7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CF0B-9173-46C2-A523-E14C4486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7143-C70A-495C-ABC9-C42FE3CD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2AE-5103-44F8-9E02-534AC429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B7B-8424-4F26-A5B8-548B1957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666-0D24-4715-8788-5E5A6BB7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2EC-6E74-4AD1-8497-7F1190C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656-FF36-4211-AE59-03D3F6D7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2E6A-C5D1-417D-AF3A-B903E8A4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8BB6-208E-415E-AFBA-7CABE25E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6A0-6BB8-4AD6-BB34-39E6C995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3604-7B54-4F2B-B908-7F114B493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5157720"/>
            <a:ext cx="39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27T14:57:22Z</dcterms:modified>
  <cp:revision>672</cp:revision>
  <dc:subject/>
  <dc:title>Diapositiva 1</dc:title>
</cp:coreProperties>
</file>