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7C1C-C035-4313-9336-B4AE7AC42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5CBE-32DA-47FE-B0A2-3B457F23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2A89-563A-411B-9987-18A38824D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1204-0DE8-4FAD-BFF3-25111129E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5ACE-417A-4B1E-B935-2121015B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7C09-E2FE-4860-9F91-D8AD3307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C3C5-EFDC-488B-A62E-83ED9008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17E3-AC1A-4873-A07E-15DACACC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A93C-36F4-48D2-A409-B9449A4A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D2E1-0B9A-42EE-BA1B-1147F7F1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245F-F12B-4C3E-B058-02A1BBB2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F8B6-0275-40D8-A05C-628ECC70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58BD-A04A-4B35-8051-2A69AC286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87280" y="4436640"/>
            <a:ext cx="442764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5086440"/>
            <a:ext cx="31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2e1700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4-17T18:44:16Z</dcterms:modified>
  <cp:revision>671</cp:revision>
  <dc:subject/>
  <dc:title>Diapositiva 1</dc:title>
</cp:coreProperties>
</file>