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18F-5E46-4F56-8BE8-A166D0C0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8558-28D1-4C4E-B188-536F5997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2DF-34B0-4312-A621-49AA965B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5E76-4267-4DFF-8408-41C187CC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2CA-07D7-4EEE-8B97-65546DF5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2F0-0940-4E12-ACDA-1C392826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C79-88DE-4555-B98C-1EBE74DC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F589-C336-407E-8F3D-687371CF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DBA-64C3-49F3-8C00-8556A725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E4B-BEB3-4177-9A97-CA3BC72A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3EA7-F111-400E-AB33-61DAF6E5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9232-A065-4C90-A460-B8B4A081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424B-DD51-470C-A7CC-A1C0B3A7A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2-22T12:41:40Z</dcterms:modified>
  <cp:revision>554</cp:revision>
  <dc:subject/>
  <dc:title>Diapositiva 1</dc:title>
</cp:coreProperties>
</file>