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3A1-1B2F-41A4-AD48-06A3151D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532-D36D-4492-A8A0-B0851779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2A1-592F-4FF3-8E72-D12E44D2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D6E0-10FE-4085-BDD2-3B05F3D9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DFB8-297E-4D8B-B0D7-13F91053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4F95-3B27-4886-855D-FB4015BF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1A4B-5125-47C8-A670-39E1ADE1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801-0657-42DC-A0EE-0DCEB4C5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3F92-DE9F-46ED-93BB-608811AB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7BE-88A3-4C04-8F06-339F4F38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1AAA-CEA3-49B1-820D-839FE081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81E1-E844-4B18-95E0-57D97B0F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AE87-52DE-4166-8882-FE3839E13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86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2T12:41:40Z</dcterms:modified>
  <cp:revision>554</cp:revision>
  <dc:subject/>
  <dc:title>Diapositiva 1</dc:title>
</cp:coreProperties>
</file>