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65C-61E8-4060-B262-C0992E09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E0E-1470-4328-86F2-15A2ABA7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AC3-42E2-4716-BC2C-6354AD3F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E00-F3D7-4FA5-B138-1BEEE2D1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6ED-697C-47E0-9B05-E2E75ECB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8C4-A74D-441F-859A-0DEBE5BF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C3F-A6A6-49CB-A0FF-5A982AA3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16A-C01D-470D-B019-EC2E961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975-6AA0-4A19-BEE7-588E4E48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BD6-F606-463B-B6F2-38A6EF96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B4B-24A0-4169-B65F-9A75217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D1F-27BC-4C0F-BF67-9FCFDFE5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D4EF-759B-4896-BB83-97C5BE96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30028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5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6092640"/>
            <a:ext cx="3960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5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3T18:33:34Z</dcterms:modified>
  <cp:revision>538</cp:revision>
  <dc:subject/>
  <dc:title>Diapositiva 1</dc:title>
</cp:coreProperties>
</file>