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E81-FD58-49C0-9644-B68DF6D8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F65-A5D8-4461-A886-866AD348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AB0-2613-4D3A-8AF6-FDA2F4A2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8C5-89B4-49BC-81AB-116AA4CF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139-103A-4D6F-9234-70102E8E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6D2-A692-400C-BB60-50AEDCBC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104-B127-4E40-829B-9C4D58EF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AA8-2A0F-4FBE-A211-EF3E19C6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77B-982F-490B-9443-12DBD6DE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845-3BA4-4E44-9C3D-B819F2E3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610-A283-4E70-9EBC-FB87A253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99F-CE43-4CFE-95E3-4B1CCA7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C971-B532-496C-BB82-6D90DC06A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660640"/>
            <a:ext cx="44272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6093000"/>
            <a:ext cx="396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16T14:37:01Z</dcterms:modified>
  <cp:revision>716</cp:revision>
  <dc:subject/>
  <dc:title>Diapositiva 1</dc:title>
</cp:coreProperties>
</file>