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FA0-CF1A-4D47-820C-6C18BC82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C84-7682-4D43-AF0F-58A33042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156-8D53-4F1B-9A1E-C7413A5D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5E3-CDA3-4AF0-9BF9-95DB60A1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231-D6F2-4C07-B1AD-E11D919F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845-182D-4F30-B4FE-B823D975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1A3-3AE8-4E38-969F-CF299368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32F-E18D-42EA-9BB1-CE8EF1BE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6C4-84F9-4442-844C-6E0B3653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217-6197-4B27-894C-39F7AD53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03F-45AC-41B5-BA76-D6513044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B08-7814-4F33-89D0-D87600F0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2851-E59E-4D5F-9C92-79EB538B2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1:54Z</dcterms:modified>
  <cp:revision>335</cp:revision>
  <dc:subject/>
  <dc:title>Diapositiva 1</dc:title>
</cp:coreProperties>
</file>