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775-BAF3-42A7-AE68-5B8A3993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CBE-DCD5-4261-B404-A2A71738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638-CE23-452C-930E-7C9829D9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776-71BE-48BE-897E-A80A7F92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1CD-E802-4DC5-953D-192032B9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026-8817-4AAF-BBC6-61D406E9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6F9-C1E4-4EDF-8BC8-30EF97EC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963-3117-4793-A7D6-0A0DD48A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1FC-7F49-47D3-BF49-C2ACFB4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11F-947D-4622-897B-1DD232C8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C3A-8AFB-4ACA-9319-C2DE7B0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D15-A638-4419-B6BE-B3517D30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6485-0B69-49BE-9C1A-008F7A6C9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6:54Z</dcterms:modified>
  <cp:revision>29</cp:revision>
  <dc:subject/>
  <dc:title>TITLE</dc:title>
</cp:coreProperties>
</file>