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10A3-206E-4C22-BE61-E9D54B93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740-147D-4B51-9876-A390EB41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5384-9E2D-4093-9ACF-A532172D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AA03-DE81-45EB-8D5E-37166968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3CB3-0982-47D9-B974-BB673985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D5E-7392-4C66-A95F-DDBDA263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8B40-E61E-45EE-9456-EF959754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571-D1C9-42EB-9AB5-9DCCE921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1748-6AFF-43DC-8497-7D85BA09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D2E5-178A-45DE-A0DF-97C2D1F7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3FA-14BA-4B7D-AC50-F356C1B9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891C-1E5C-44FC-BCAC-ED7EF4C2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0D67-90F8-4B63-8E91-7EB18EBE3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660640"/>
            <a:ext cx="44272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6093000"/>
            <a:ext cx="396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itle or company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16T14:37:01Z</dcterms:modified>
  <cp:revision>716</cp:revision>
  <dc:subject/>
  <dc:title>Diapositiva 1</dc:title>
</cp:coreProperties>
</file>