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0D9-82C7-4CFB-B000-D14F2C7B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612-B11F-4E58-8B20-2766226A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E16-B91D-4D87-9F02-3F4B1D8C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93E-AACB-4128-A6AD-388170FA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0FB-5CB1-402C-BD06-AF7DA433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E35-979B-4BB5-81FA-23389A40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A3E-E245-470A-BFC8-5BA21402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2EB-E423-4810-B7C1-D93676A2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11D-BFD5-44E6-9616-A079E01F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88D-4D92-4087-A82B-F0FF9609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AA1-6134-4B73-919F-D375E1CB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D4B-8011-4ED4-8964-AC535BC0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8E78-31F9-47AC-A300-74E1F82C2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660640"/>
            <a:ext cx="4427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6093000"/>
            <a:ext cx="39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6T14:37:01Z</dcterms:modified>
  <cp:revision>716</cp:revision>
  <dc:subject/>
  <dc:title>Diapositiva 1</dc:title>
</cp:coreProperties>
</file>