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755F-5FAC-44CB-A03E-85D4B1CB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A50F-0B18-4F80-A552-CBC29EFA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0EBA-0AC9-4F2F-9F6A-DD2BDAB3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73CE-2BFE-4A17-8D25-2DB81641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3764-1E8E-46A7-B488-F82427E7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85AE-1D28-4707-B07D-58E16697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62F3-C65E-44A3-85F8-9AB8A547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B147-3251-4A3F-A329-179DE47B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DA83-9EDA-4AEA-89E8-8561252F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69A8-E957-45DD-B5B6-50BA8DF8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EBDE-58BD-475F-86AC-1EB3E35B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3CF4-5E2A-4A07-BD5C-5156C914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4916-6D48-4700-9583-17E24A043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530028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5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6092640"/>
            <a:ext cx="396072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5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5-13T18:33:34Z</dcterms:modified>
  <cp:revision>538</cp:revision>
  <dc:subject/>
  <dc:title>Diapositiva 1</dc:title>
</cp:coreProperties>
</file>