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DBA-BC0D-44B8-A177-F23415DA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807-C85D-4E5E-879E-0975053B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58E-74B0-46DF-A10A-51001592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926-91D5-4E77-910A-488DB5D9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20A-1A98-4D37-A47C-7A23E789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4E8-5370-4170-A74E-197FBC6D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847-90FD-48D1-8A96-D9FF3797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452-39BC-489C-A9B8-13152247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48E-3711-4487-A6F2-C8B0D3B1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5A5-B7E8-4835-AF2F-60083309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E0A-C970-4560-9773-6F1D87E0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166-6032-4097-86E2-070F41BF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6CE2-D479-4FFD-B2C0-F9F80AAB3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26T17:31:54Z</dcterms:modified>
  <cp:revision>335</cp:revision>
  <dc:subject/>
  <dc:title>Diapositiva 1</dc:title>
</cp:coreProperties>
</file>