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223-1EFE-40BD-9CEC-ABB772CF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E7F-DF97-40A2-A61D-8ABAF179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CDA-49DA-4F4E-BED4-BB9D0F33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1B5-220C-4FE0-A972-91C27EF7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046-7BB9-4769-8D9D-C34BB4B0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FFD-70CF-4394-A12C-E7369D92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CC9-DB20-4874-AD08-31E52F8B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69B-CDE9-4162-8E94-C7145E60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126-0176-4453-A712-7D4B5030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83D-7554-4489-AA43-7B975607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215-3459-460B-9EB0-B9BE3570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930-E4D6-4028-9AA9-8D172038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99EB-E5CC-4011-9E12-993942293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2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9T21:16:54Z</dcterms:modified>
  <cp:revision>29</cp:revision>
  <dc:subject/>
  <dc:title>TITLE</dc:title>
</cp:coreProperties>
</file>