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0FE-CB4D-4A1C-8FC7-6034D2DE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E93-A8A6-4E97-90C6-537B6D7B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EB8-8B04-4CE5-BEE6-3F49B2AF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603-36F5-4788-B57D-3217B77F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7D0-FFE3-43DA-81BB-3205BDD4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739-581A-40CB-8E01-05785B61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AEB-3C93-44C7-B680-DCBBC01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AB0-F912-4DF5-A7C5-E8792017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49B-33D1-4F25-98DA-D0E952C4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638-9068-46EA-8DAB-AD63910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0EE-D3D1-4702-9CE0-30FE991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0E7-1CFB-46BF-AA25-454154BA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D3F-D7B1-46A6-83BB-B7DD40ECE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2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6:54Z</dcterms:modified>
  <cp:revision>29</cp:revision>
  <dc:subject/>
  <dc:title>TITLE</dc:title>
</cp:coreProperties>
</file>