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FA2F-4E2A-41FE-8F74-4344B66F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8671-27B6-4051-A790-31F68D75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88DA-886A-4D2C-8B67-1038F24A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2D3-7A9E-4265-B9E4-D09F1AF9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B80-0D74-40CC-BB39-CB5EB3E0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A79-C1C9-438A-99B2-A443688A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F99-3986-47E6-A065-B7AC5ECE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739-B607-42A1-8E09-C9BE9E4B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E917-8B70-45EE-9029-DDC43D58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CBF-F154-4751-A59D-ECE46037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FB1-6B4C-4A20-A343-CDD42B79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800-EBB1-4DB6-B102-838619C7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3A99-D29B-4736-B140-D05562FF4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26T17:31:54Z</dcterms:modified>
  <cp:revision>335</cp:revision>
  <dc:subject/>
  <dc:title>Diapositiva 1</dc:title>
</cp:coreProperties>
</file>