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FC7-0658-4D4D-84BB-F13D3C63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1DB-649A-48D2-A28B-CFF43B61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228-6EBC-4461-802D-1F26188E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891-E1CA-4506-B3A2-5135AD65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C1C-2C16-4DBC-814E-6A3F8E8D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CFA-B2C8-45CE-8185-73E60137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A05-7708-43B9-AB82-5FE887A8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3D7-7B06-497E-BA22-D831A60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C76-D147-468B-B0E2-FAAB7E3A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2CE-F69C-44B6-B4A2-3F17A549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F37-0F62-4B0D-9AA6-45C72259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BF8-6925-4A99-BA83-560723B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DA8F-9568-47E4-A744-64F719F7C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5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6092640"/>
            <a:ext cx="3960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3T18:33:34Z</dcterms:modified>
  <cp:revision>538</cp:revision>
  <dc:subject/>
  <dc:title>Diapositiva 1</dc:title>
</cp:coreProperties>
</file>