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9297-E139-4313-B73D-94B2811DB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A3D2-BDC4-4A45-8771-75CCD12A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294D-17CD-434C-B534-B535B8EAC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E400-8758-4F0C-A9CD-98B941D47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C17E-0489-44D9-8057-05C1FC38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54B2-FFA4-43FD-8940-4629C076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6EE2-0AFC-49D9-9319-7FD97E48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2300-1D54-4433-9DEF-5E19828A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7E71-5176-491B-8B49-B03B4912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BC1E-112C-490F-8319-65D02C55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F888-10F8-4E72-B8DD-97BCDA61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53D8-3C84-4A85-9863-C551A3A2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F81C-9860-4A89-88A7-FA2D8F5E3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1125360"/>
            <a:ext cx="51116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8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8-08T17:26:42Z</dcterms:modified>
  <cp:revision>688</cp:revision>
  <dc:subject/>
  <dc:title>Diapositiva 1</dc:title>
</cp:coreProperties>
</file>