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231-AA5D-4E43-9A01-A9946C2E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A73-09E9-4853-B7D6-824C76EF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A4A-7983-449F-859B-CE0FCF23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301-DE0E-4DDA-8344-7315D439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EC0-2724-454A-A22F-88E4AEE2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869-8019-40DF-8551-DA120445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F12-8E35-4009-99A7-88E010D3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8B7-1087-4C6E-AB02-A2251CAD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191-F881-4BA6-9D36-4CCA12A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1C8-F69C-4384-AC0A-4141745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9D8-5F5B-4356-8488-76AD8DE0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414-07F3-44B7-9B19-D55FDD4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0D1-E11F-4E3E-91BB-F2917F811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9T15:20:11Z</dcterms:modified>
  <cp:revision>53</cp:revision>
  <dc:subject/>
  <dc:title>Texto</dc:title>
</cp:coreProperties>
</file>