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7682-A853-49BE-BA99-3E41F57E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766C-D2BA-491D-8216-A523FBC5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54BE-7F25-48EA-AF5E-41D180A5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60C-4D55-4E20-8907-D5644778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3886-0766-4E70-87F3-380FAC8A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608-D251-48FC-AC70-F0260320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562A-425A-4FD2-8B2D-92386F9F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4133-3D6C-4910-83E0-9C942FC2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6FAC-3D9E-45CC-B558-AD89EB48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8EB6-802D-4231-B115-B6554140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B1B8-6482-413F-83A7-460EEF58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E7DC-9A83-48D9-8630-1975482C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FAAD-DFCA-4F0F-AB72-9DD5D7888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652640"/>
            <a:ext cx="439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58972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2-13T12:56:09Z</dcterms:modified>
  <cp:revision>782</cp:revision>
  <dc:subject/>
  <dc:title>Diapositiva 1</dc:title>
</cp:coreProperties>
</file>