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83BB8-B446-474B-9CAF-85926E77D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E3F95-9132-41DB-9441-D20E903D1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15E5E-9D7E-4701-837C-A9B6C82C5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CA7E1-F9AE-420B-A736-8A3879AD5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8B437-E225-4780-B76E-4BB093786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0AD4D-CE7C-48F5-AEE0-623100CD1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33832-DFD9-46AD-96F4-32C6BEE33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65F57-D823-488E-BA17-BD4D71761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09230-9AB0-4113-86D2-82F145CFE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8B790-8D61-4AEE-BE7B-B62686A3D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D3EB2-BFF8-4AC1-8B57-CE8E7C0EA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60B56-79AE-402E-9036-953E26AD0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25ED6-683C-4CE2-981A-400E3D502A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560" y="4652640"/>
            <a:ext cx="4392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3600" spc="-1" strike="noStrike">
                <a:solidFill>
                  <a:srgbClr val="ffffff"/>
                </a:solidFill>
                <a:latin typeface="Arial"/>
              </a:rPr>
              <a:t>Presentation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5589720"/>
            <a:ext cx="5184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y name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y position, contact information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r project 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1-12-13T12:56:09Z</dcterms:modified>
  <cp:revision>782</cp:revision>
  <dc:subject/>
  <dc:title>Diapositiva 1</dc:title>
</cp:coreProperties>
</file>