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9455C-0C48-4161-B6F2-97D791869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6AC4E-F845-48C5-98E4-18ABFDA7B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6C1F7-D589-4A3F-A9A8-6FFDB6095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71029-7501-4AB3-AE81-A5D7166E9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CF1E0-705F-4017-B503-05F90B62B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E2A9A-5F91-41CF-A1D6-C9C4691FB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EEB85-9690-4F3F-8C94-3BBA77E07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0D4F3-8823-445C-BA8D-D2E3313F9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F8A41-893A-4760-98FD-93EC71BDB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9DC5C-2ACB-4CF2-9302-FD6A42734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46EC3-2C86-4A77-A7E4-B406F9EE3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1CAB6-812E-4F51-8F2B-A253E8163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D31C3-A153-4936-BD4F-B4EEDA7B1E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55640" y="44604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03280" y="227664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6040" y="34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2672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0-06-26T03:59:02Z</dcterms:modified>
  <cp:revision>53</cp:revision>
  <dc:subject/>
  <dc:title>Diapositiva 1</dc:title>
</cp:coreProperties>
</file>