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3915-166B-4F11-B95E-980DF593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233-4571-4E31-9FC4-3B2733AC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A87C-FC41-42E4-8D6B-17C7AB8F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B76-CA6C-4840-936B-AA611217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928-4CF3-48A3-B0FE-3E9408E3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16C-0BB0-4F29-B7DC-0FF99573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9A4-2FF6-4390-8146-4FCBBC98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2B86-FCD9-490C-9EE3-C2A09451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D0EE-153B-46E2-8186-CFF416BA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A35E-567E-4E33-90EF-6E6DDE16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6E1-EB80-4221-A2F0-DB404F6C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87A-A47C-4494-B4E1-F05594B5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CEF4-50D8-4E5E-9D25-BD2A5AAD5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5111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8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8-08T17:26:42Z</dcterms:modified>
  <cp:revision>688</cp:revision>
  <dc:subject/>
  <dc:title>Diapositiva 1</dc:title>
</cp:coreProperties>
</file>