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7F5A-439D-4138-AF0E-692D96FB1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4960-A705-4B14-8388-CBD0125F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BABA-C09E-4284-8F6E-E247F14E6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5991-53C5-4707-B631-0B8AFCB84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8614-5520-4FC1-8DC5-EACB5253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9F68-4EF2-492D-AF11-8A47F6DB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C261-BB67-4FCC-8CC4-E976953B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9533-A464-4740-86D7-F1F2DBD6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3EAE-C70D-42BC-8ADA-394A6998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F254-C5ED-482B-B668-28B01183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D444-7DA3-4FEB-8FF5-D4443F4C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96F4-184D-4D6B-8E1F-9BEB2395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2E36-9D31-432B-870D-BC9D4A783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4460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0328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604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6-26T03:59:02Z</dcterms:modified>
  <cp:revision>53</cp:revision>
  <dc:subject/>
  <dc:title>Diapositiva 1</dc:title>
</cp:coreProperties>
</file>