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2E1-4AE1-418F-A9E2-7E36E15B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6DD-B037-40A0-A0D2-01A55E70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36D-6BC2-4874-A65A-86FB206A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A4F-FD26-46EF-A5B7-4C5A494E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09A-D73A-4F2D-B37F-309F2004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AC9D-6BA1-4E6D-82B8-3DAD9A44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B5A-5B06-41B5-8B4E-693EAE47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043-16AC-4918-A214-31E7594D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6CC-BD03-46C0-86C2-93D7EF85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9D6-5FBB-4021-B191-2A0F3FB8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8AD-5DCF-47D0-9FB0-C60E152E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032-0290-405F-AE60-C3DD5A5A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CCBF-37DE-424F-AABA-CF9C617A4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16360" y="1125360"/>
            <a:ext cx="5184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7T18:41:53Z</dcterms:modified>
  <cp:revision>734</cp:revision>
  <dc:subject/>
  <dc:title>Diapositiva 1</dc:title>
</cp:coreProperties>
</file>