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6C7-2F76-4DB3-9434-A2E06ABC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1B5-D466-4A00-AAA1-F94E50AA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FF7-CE7B-45D4-82FC-2C411CA0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A5A-96FF-45DB-956B-ADE3E7DF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F27-FDAA-46DE-97FB-7BEBA2F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0A5-0AC7-41B0-BB1F-A7BF9BE4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5DB-3331-484A-848F-119C8887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3D9-B137-4BF6-8EA7-6F963B68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123-FB12-4F6F-A02D-6438723C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B2C-5F7C-43DC-A543-DEC0BA1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124-C035-40A4-BA9D-A329F1D7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43A-140E-4A84-9435-34314B6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F265-7654-4CA3-8732-9423744B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2:00:42Z</dcterms:modified>
  <cp:revision>61</cp:revision>
  <dc:subject/>
  <dc:title>Texto</dc:title>
</cp:coreProperties>
</file>