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CB9-FF33-434C-AD6D-5E6AEF0E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820-B94C-44BB-A4D1-7EEC5CA8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BB5-9B9E-410A-B2C9-08A5CF74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AB3-0244-498C-8DE1-5AA39A15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D31-4789-4560-9D78-BCFAF78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CBD-8D03-408E-B2C9-FF9B863A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104-F4AD-4324-92C2-C761042B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0FF-2299-4556-9E0F-9A55147F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6D4-913D-4924-ADE3-88E7107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454-539B-4F01-9FC4-A5F0AD8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DFC-E1B9-46CE-8560-B421194E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CFD-92AD-4491-9D7B-512D79CB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7BC9-8DC4-47A7-B2A7-298D2B78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9T16:01:13Z</dcterms:modified>
  <cp:revision>182</cp:revision>
  <dc:subject/>
  <dc:title>Diapositiva 1</dc:title>
</cp:coreProperties>
</file>