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8DBC-0B93-4FF7-81CD-34EE0F4E3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650D-7A62-4FEE-9AC9-262838F3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3094-422E-4DB6-9F11-E5128C171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D6E7-BFDF-4992-86D2-5D847C4CD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49F8-97F0-4A78-8CF0-E5E8AA73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1E73-D949-4B15-937D-C767E04D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7CE6-07AD-45C7-8743-3E94FBE6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78B9-CC4B-45BB-BCAC-7A6251D4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1190-8C81-4C33-9092-0F8C9E20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D38A-E668-4E17-B60D-E04E5068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C08F-30CA-48A2-B59C-C7F00191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0B2C-C67E-4C52-9B9B-E9BAB27B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6105-0545-45A1-B335-6D75D709C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3-10T13:42:01Z</dcterms:modified>
  <cp:revision>450</cp:revision>
  <dc:subject/>
  <dc:title>Diapositiva 1</dc:title>
</cp:coreProperties>
</file>