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253-1AD8-4423-9A8F-EDF74C74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CEF-6ED6-472D-8580-0817E4B4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242-A58B-4418-AC63-8F79ADE1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D5B-F891-42BA-9AB7-079F429C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21A-BDCA-4A45-97AA-E949B4BB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327-0195-4819-B863-7227AA43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BDB-102B-4077-AD48-AAFB8928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98E-3780-4F11-9CD2-027EEE92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45A-5B3F-426C-8889-C7D237CF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522-A5A9-4669-8CBA-55BC86A8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C96-27B1-41F0-8F56-78553564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B0B-7C0D-4451-B8E8-26622B0F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6DBF-2218-49D4-83C2-2E497CDA7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4581000"/>
            <a:ext cx="4645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5445000"/>
            <a:ext cx="4321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09T20:04:44Z</dcterms:modified>
  <cp:revision>593</cp:revision>
  <dc:subject/>
  <dc:title>Diapositiva 1</dc:title>
</cp:coreProperties>
</file>