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F43-E74A-46EA-9549-7811B43B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9739-A2D8-471B-AF91-90D70808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36C3-F16E-45B1-8830-F2D7A768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8C19-99A5-4F3C-88A5-2C4A7B7E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BF4-05DB-4FE3-A7F9-FB740510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C3D-AC33-432C-AA2D-45B40777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DC1D-B263-4305-BB3F-ED6C7215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3A3-AE8D-4EC7-A8E2-F900ABA9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AE8-F578-4A3A-BDC3-78102660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2AE2-836E-4794-B1B8-D73A1C86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3B76-38AF-4139-80F9-A16188D5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EBD-ACAF-4231-80C9-6F722F4C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2EC6-E174-4C33-9E45-BF9F5B8B3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846440"/>
            <a:ext cx="3960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25T19:15:56Z</dcterms:modified>
  <cp:revision>706</cp:revision>
  <dc:subject/>
  <dc:title>Diapositiva 1</dc:title>
</cp:coreProperties>
</file>