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C02-2156-4FFC-B0C9-46654AB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4B8-0C00-4EF7-B7F3-8770661E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F52-E330-4621-A6A2-9B56076E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92E-B20D-4991-AF23-5655E4C3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010-6517-4332-B965-22878CFA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718-AED4-42DA-9DA9-FDE4FDF9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0C9-8DF5-4EDA-BBFF-D9F8277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E1A-5C1B-43C5-A2F8-1EFDCD2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7B2-C140-4C2C-848C-C3FF60D3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3FF-05A5-49A4-A691-FECE9673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D1D-7179-4E10-8F1D-B20EBDF0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7FC-E4C2-4038-B04B-A3077FD3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30D0-2CFA-43A2-8D25-EEDCBCE3A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16680"/>
            <a:ext cx="464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4T20:24:35Z</dcterms:modified>
  <cp:revision>595</cp:revision>
  <dc:subject/>
  <dc:title>Diapositiva 1</dc:title>
</cp:coreProperties>
</file>