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0AF-8E1A-46F1-88FE-F1E77C53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8E2-156E-4E1B-A121-58449442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1D4-50EB-40FD-AC71-83C14A71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AF3-42D5-4AB5-906D-67B51FCF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E9B-7EAA-4D82-A742-F888CE81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B2B-3E0D-4522-BEE4-C778D582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318-611B-41A2-AC33-670AB3BA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6C4-2D26-4668-8042-498BD54D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83D-844E-40D4-B620-21FF9E48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776-9FFB-4034-8330-62C3C40B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D81-1950-4AD0-9228-0A89EAC6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29A-B97D-4147-9517-EA89A97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75EB-E89C-46D0-8D89-AA0D645624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f26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924360" y="162864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2-21T15:09:11Z</dcterms:modified>
  <cp:revision>713</cp:revision>
  <dc:subject/>
  <dc:title>Diapositiva 1</dc:title>
</cp:coreProperties>
</file>