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ADB-74DB-42DB-8F57-C7A14DA3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E98-F7C2-4D53-8F0F-E1E7C078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FCD-1529-4518-A615-07EC0D60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DD3-9FC0-4CBF-B659-9019A74F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E5B-5789-48B7-92D3-AC0540D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0E3-4068-49BD-9BC4-A7726D08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AD3-48AE-4126-BF84-38406BE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23D-5A18-49C6-BB09-A45EFB1D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9C4-906A-4ABF-A8CB-AD718FD3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133-D1DE-4771-9542-E3AE653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414-2A4B-4D35-87B7-1FCBEAA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163-8F67-425C-BDAA-D8BC74F6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0F92-62A8-4915-8EC5-AD17BEC8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5-25T20:54:10Z</dcterms:modified>
  <cp:revision>62</cp:revision>
  <dc:subject/>
  <dc:title>TITLE</dc:title>
</cp:coreProperties>
</file>