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B4B-C0B2-4FD6-B2FA-5B6A98A9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52C-41EF-4931-9AFD-AEB67D73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728-499A-4575-8486-CE77EBBC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C20-11C9-4497-A2FC-13745BCE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E9D-E657-4059-AE44-75CE9346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6A2-6A11-4829-A7C1-BAE768FE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A68-B7A3-451B-96B1-21524F52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BF5-666D-4BE9-986E-DEC1002D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32D-81DD-4EDC-90DC-68B09823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722-EE9A-4BE2-895F-58128D09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8CB-BE40-4160-87BE-71E5EF7D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C0D-10B3-4B3C-8E7A-2C755B93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E685-A18A-46D0-9FC6-C0466539A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5-25T20:54:10Z</dcterms:modified>
  <cp:revision>62</cp:revision>
  <dc:subject/>
  <dc:title>TITLE</dc:title>
</cp:coreProperties>
</file>