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915A-F28A-427C-848D-E1759C18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EBD8-2F75-4B78-AC2F-69FB2664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2682-DF57-468F-A7F3-C446D3FB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A148-985B-49CE-8638-38D32296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5B1D-3CBA-4FBA-A9B6-4ECF9010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86B9-FDA6-45AE-94FE-190101FD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16A7-2F01-4A96-BD9C-2988E00B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F66E-810F-4583-9674-3AD0EB26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7485-981C-464D-9333-CD545AA6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E107-454A-461E-AB57-B7BEC5A0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AF68-02F4-405D-A3BC-C689FE78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48B6-02E0-4CBB-9A19-AF50D9CF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B060-4F54-4771-A154-C06E8B66551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55640" y="836280"/>
            <a:ext cx="4248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f26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5"/>
          <p:cNvSpPr/>
          <p:nvPr/>
        </p:nvSpPr>
        <p:spPr>
          <a:xfrm>
            <a:off x="3924360" y="1628640"/>
            <a:ext cx="4537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f2600"/>
                </a:solidFill>
                <a:latin typeface="Arial"/>
              </a:rPr>
              <a:t>My name</a:t>
            </a:r>
            <a:br>
              <a:rPr sz="1800"/>
            </a:br>
            <a:r>
              <a:rPr b="1" lang="es-UY" sz="1800" spc="-1" strike="noStrike">
                <a:solidFill>
                  <a:srgbClr val="0f2600"/>
                </a:solidFill>
                <a:latin typeface="Arial"/>
              </a:rPr>
              <a:t>My position, contact information</a:t>
            </a:r>
            <a:br>
              <a:rPr sz="1800"/>
            </a:br>
            <a:r>
              <a:rPr b="1" lang="es-UY" sz="1800" spc="-1" strike="noStrike">
                <a:solidFill>
                  <a:srgbClr val="0f2600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3-02-21T15:09:11Z</dcterms:modified>
  <cp:revision>713</cp:revision>
  <dc:subject/>
  <dc:title>Diapositiva 1</dc:title>
</cp:coreProperties>
</file>