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9FB-5D34-45CF-A1C2-E9B2ADF3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760-46DF-41BE-A9E3-8EDEE035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794-EE0B-4157-8853-E253DF97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2D7-3A58-4734-90C0-DC40F5FD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BCB-F4CD-4452-ADF8-E6DB7615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DA6-24F1-4105-A959-99905ACD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079-5AFB-48C1-87D3-6AD80170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B91-8A3C-4D51-B2C0-D0731365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573-718B-4C6D-B21C-C6C48606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4F9-701A-4D8F-8153-E6990CD3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642-E7B5-4148-98F0-D2FF9DF9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D6D-BF5C-4E26-9871-56F79303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DCC-FFFF-41B3-886B-BE3B1A00A7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f26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924360" y="162864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2-21T15:09:11Z</dcterms:modified>
  <cp:revision>713</cp:revision>
  <dc:subject/>
  <dc:title>Diapositiva 1</dc:title>
</cp:coreProperties>
</file>