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413-003A-4D67-A653-D7067669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C90-A09A-4257-AC74-15437467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412-948F-4F80-843B-35CE264F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223-7B20-478D-9B42-02F3D251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960-92B5-4C94-9C54-D5062376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4614-8A01-48F6-840D-5BAE79C7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84B-3B7B-4505-9EAA-425FECF3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E067-8B7D-42B2-90A9-B4EA178B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1E0-4E6E-4AF1-BA32-CD115AC9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C1A-A296-4865-8181-A409824D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39B-65FE-4BFF-97EF-2A72A173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8732-4F01-4CA6-BB1E-D26C818C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7301-6B8C-42F9-A8B3-FDB491AA7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486864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8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516640"/>
            <a:ext cx="612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7-29T18:00:26Z</dcterms:modified>
  <cp:revision>655</cp:revision>
  <dc:subject/>
  <dc:title>Diapositiva 1</dc:title>
</cp:coreProperties>
</file>