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307-2ADC-45BD-8C10-FC50C5C7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E0B-9176-4A35-95CD-25CF4D4B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68D-F503-47D1-94F1-321A080D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D66-CFC2-4D1A-99CC-FD23EDBE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78A-5512-45AC-801C-438F0599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08C-C023-44F2-8D33-E20430EA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C4B-1865-4BEB-8E76-8678161D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662-975D-4D0C-BA47-79D75C3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695-7181-4869-A2DA-DA38F354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F30-A74E-42DA-A1DB-5D0CC6B6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E0B-A961-422B-8C81-2F8B9000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750-1ECF-4CB5-B1EB-4AB1392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213-B4EE-488D-A68E-B3A4B995E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1:34:57Z</dcterms:modified>
  <cp:revision>52</cp:revision>
  <dc:subject/>
  <dc:title>Texto</dc:title>
</cp:coreProperties>
</file>