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C97-42F6-4210-A4CE-7BDD9594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E68-83BB-46ED-AC9D-2F56FB8D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792-3DC0-451E-AB3D-2F1E5D04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CAF-5E7B-4EF8-9F5F-52F83EF4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6BF-A203-4DE4-BFB9-27BE2C6F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00C-64AD-417C-8945-E762848E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805-25F2-420C-91B9-3D4B86A6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115-CCC2-4607-A37F-3C8784B2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4DA-B6D1-4D33-952C-7DF66555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5E4-ADC5-4FF5-AE46-E2EC53FF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B2F-F01F-4597-9031-5144E91C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D77-E2D5-409E-A118-380DDDC8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4BA6-5F0A-415E-9C8E-C04F5F2FC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869000"/>
            <a:ext cx="489564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a00425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21400"/>
            <a:ext cx="4895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a00425"/>
                </a:solidFill>
                <a:latin typeface="Arial"/>
              </a:rPr>
              <a:t>Subheading goes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9-18T23:37:50Z</dcterms:modified>
  <cp:revision>689</cp:revision>
  <dc:subject/>
  <dc:title>Diapositiva 1</dc:title>
</cp:coreProperties>
</file>