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ED00-110A-4166-9186-0EE31A1E4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07AA-7C2D-4867-9237-1E0D6406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6848-7DCA-4343-9013-4FC69190E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53E2-A771-4791-B5E1-1698CAA96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E60F-0231-4725-9C23-527235ED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E6DC-0FBE-48EE-8E03-00B11830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5BF6-BDA3-4C04-8244-9BDDBF41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2BAB-971F-4086-AEEC-9D3796A6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7AA9-4A5E-4EDD-84B6-4E7F3E0A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D357-C316-4C86-A6D8-6276126A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4C6B-5DCA-424B-A971-0C4C3C83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F8D8-4231-4805-96A3-34220D85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8E85-ADF1-46D5-B694-1D8D27BBD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4868640"/>
            <a:ext cx="7345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5445000"/>
            <a:ext cx="5111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ffffff"/>
                </a:solidFill>
                <a:latin typeface="Arial"/>
              </a:rPr>
              <a:t>Your conta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9-01T17:12:13Z</dcterms:modified>
  <cp:revision>728</cp:revision>
  <dc:subject/>
  <dc:title>Diapositiva 1</dc:title>
</cp:coreProperties>
</file>