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D2C-801E-4E88-8FCB-C7C5AEC6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3B7-CE6E-4138-B3D6-A1FD9CCE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6E2-75D1-41FF-BDE3-D25074CE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E8F-03E5-4DD2-8C12-7B7BF9C3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7AB-A268-45D2-B31B-59EC5989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F93-516E-49D1-941B-0602967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E2C-D89A-462C-A467-B0E2A814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991-0838-44AB-8A7B-A15E206B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672-2F82-4D45-B1CE-3084EC8F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7F5-37E9-4C70-BD4C-9095EBC7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911-B2FB-43C3-9085-F53565D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5BC-ACE2-4240-9C3F-D9E81DE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742-D0F1-4122-9B77-77E9C960A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781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860640"/>
            <a:ext cx="568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8-28T16:20:52Z</dcterms:modified>
  <cp:revision>715</cp:revision>
  <dc:subject/>
  <dc:title>Diapositiva 1</dc:title>
</cp:coreProperties>
</file>