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F3DD-9539-42C3-997F-66F0105B0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722F-910A-430E-BCB4-A6D51251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6B81-BC19-4DE1-A9CB-8D48E5879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B7D5-1102-466B-A240-E5E821387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879F-D022-45FC-9838-8DEB9787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F996-1680-4D72-B578-8C84D789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D0E7-01D4-402D-98CD-324C1827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11F3-431E-46CB-923E-067EE3BE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5242-9999-4608-9F10-052B8FFD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952F-6341-4610-BD7A-FAB02C8A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23F0-4B7B-437A-BF9B-5D1FE806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092F-7D34-48F9-AF1D-283826FA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AADD-8E64-46E0-B75A-590101EE0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4868640"/>
            <a:ext cx="7345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5445000"/>
            <a:ext cx="5111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ffffff"/>
                </a:solidFill>
                <a:latin typeface="Arial"/>
              </a:rPr>
              <a:t>Your contac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9-01T17:12:13Z</dcterms:modified>
  <cp:revision>728</cp:revision>
  <dc:subject/>
  <dc:title>Diapositiva 1</dc:title>
</cp:coreProperties>
</file>