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01F-8FF1-4806-8440-D59B4029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1AD-A5CF-4386-B526-6B38487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F52-BA57-480B-92D0-974B8FF9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45A-86EB-4E4B-8F97-E7F2D218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057-1F4E-4E86-88DE-E79670A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A43-C217-4BDB-A0ED-83F27A9D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903-21B2-42BE-A5B7-6BAD5FE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E37-287E-492C-A36F-DDF2789D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157-2B70-4A6C-93BF-E26B75D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359-7F86-4833-856A-58037A3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597-F220-44AA-B3CD-367AC894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13E-548A-4681-86CF-00EB536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2296-4E42-40A2-9DA5-4FB58CA6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869000"/>
            <a:ext cx="489564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a00425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21400"/>
            <a:ext cx="4895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a00425"/>
                </a:solidFill>
                <a:latin typeface="Arial"/>
              </a:rPr>
              <a:t>Subheading goes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18T23:37:50Z</dcterms:modified>
  <cp:revision>689</cp:revision>
  <dc:subject/>
  <dc:title>Diapositiva 1</dc:title>
</cp:coreProperties>
</file>