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E70-69FB-4BBF-91A0-80039ABE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106-2DAB-4739-8AD0-C0C513A1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513-064C-4FE9-A77C-35CF27E2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BDA-B1DB-490B-BA48-794F23A4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64A-6A6B-4489-9CAA-DCD348E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F86-127C-40EE-A147-411A416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7FF-CE48-4EF4-8BDC-BD82B9D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08C-4913-4C78-B9CB-C475BE7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D42-887A-4992-AB75-D14EEA33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020-7229-4174-84BC-CAA17A7F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AB2-F93B-4971-811B-21F29D7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78C-5D34-4418-AB44-0E9A74BC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DF5-B898-4BF7-8FC4-BA39AB2C2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4105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3313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20T19:29:18Z</dcterms:modified>
  <cp:revision>554</cp:revision>
  <dc:subject/>
  <dc:title>Diapositiva 1</dc:title>
</cp:coreProperties>
</file>