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376-6871-4D2D-BB02-D766B1CB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710-625A-473C-B244-D88846B4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B10-731F-445F-BEAD-9F4AF1FB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9F4-9040-4850-B3CF-A61C3DDE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FE8-5B16-41B9-AD7E-E3DA1BC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835-ED44-44DF-9B42-9E904149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274-7B4C-4A9D-BB99-9EB838F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7F9-1459-486B-87AD-C88615F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76A-CAE3-4C15-A088-F18BB17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D21-52F5-4CC0-9928-D0A5501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C37-8737-42A4-A4E2-BDB7C1B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DA3-CD16-4518-AFD0-9EBA1B7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A0E0-8755-4CDA-B26A-2742FB55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4105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3313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20T19:29:18Z</dcterms:modified>
  <cp:revision>554</cp:revision>
  <dc:subject/>
  <dc:title>Diapositiva 1</dc:title>
</cp:coreProperties>
</file>