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A17-D28E-494B-BF7A-CE1A3046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19F-BD11-40C7-8792-8B5237B6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29F8-7DFA-4E16-9A72-4F48AA2E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9D8-C136-4399-92B7-B283EDB0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7ED-71C9-4898-AEEA-397F82D8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E474-4D68-4AED-87F0-F7E57565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BE1-2757-4465-8A9F-4BE3F068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21D-48AD-47BA-9C47-A0DC7629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721-CAA3-48E1-ADFF-1C14EDAB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C27-8AA3-4599-977D-4E16E3C2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0EC-3F0B-4844-B19C-092A8121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5F5-0774-4FB6-8251-E431EAA1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5FFE-9D3C-4FBD-B6BA-A392C7E73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3284280"/>
            <a:ext cx="496584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2-13T22:10:16Z</dcterms:modified>
  <cp:revision>19</cp:revision>
  <dc:subject/>
  <dc:title>Diapositiva 1</dc:title>
</cp:coreProperties>
</file>