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B3E-4187-4794-91C8-A3D648CC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D86-475B-48DE-A90E-192741A4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54E-F5EC-4BBE-B173-E7C26A27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EB7-20FC-478E-917C-5882757A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4D3-5AFC-4737-810C-A367F8B1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26E-34C3-4DC8-A894-C85115C6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3B9-BB91-484E-9335-C2E45094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0AF-AFFC-4E66-97C1-095EC26B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344-499B-4C89-935C-423446AF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30F-5AE0-4BB1-83A0-9E36BA20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B67-427B-4A6A-9CB7-F96D55CA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F2D-DCF0-49CC-AAA2-82F38068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33B5-EB69-4A45-8E92-B6E02D7D2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284280"/>
            <a:ext cx="496584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2-13T22:10:16Z</dcterms:modified>
  <cp:revision>19</cp:revision>
  <dc:subject/>
  <dc:title>Diapositiva 1</dc:title>
</cp:coreProperties>
</file>