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B1CD-A2EC-4C8B-AA90-83C3DBB5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2783-D749-41FA-9535-A9C68B2F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01A-A5D6-4B87-A3AE-7CFDB5B8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14F-9D8D-4CC4-AA9D-53CC4C76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400-3197-414E-A3A5-DDC343CB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B290-A4EB-4984-A94F-1B1558B2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87F-891D-4EFC-BFA8-3B29D972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9D0-C388-4A38-8553-C4FA45A3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5FA1-138F-4909-8A6E-8478AE4D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85C-6811-45CC-B502-D462898C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523-F48A-43F5-8309-A8C0AF41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D7F-2E13-4D87-B998-A1D055BE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A7D2-D3EC-4FA2-A327-9B087CE3B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04T15:17:45Z</dcterms:modified>
  <cp:revision>31</cp:revision>
  <dc:subject/>
  <dc:title>Diapositiva 1</dc:title>
</cp:coreProperties>
</file>