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7F59C-F6A4-4ACB-AB5D-052CC2ECD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B907E-BB5E-40A2-980E-135AA0614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D0034-8F72-4CED-9FC4-95EE64457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5A927-4CB0-4806-AD96-221D82C91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558A4-505D-44F5-B0D8-EE0DEC095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41146-BB8A-4FE0-A2C0-9E5295A35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9AA71-49BE-4DFE-9925-64F7124F6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0D3B3-8177-4E0D-A0D8-D2A5E92FC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FF587-D779-4BB2-A629-87E3FD837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8F431-D741-407A-8F3D-DC62F2C7D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FD82D-B939-4AA8-9888-2DF8616CF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08BDC-8F64-4873-B055-E7D0806A4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60CEC-9509-43D4-9BBF-36A9AE7F33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2565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0-09-08T01:14:46Z</dcterms:modified>
  <cp:revision>180</cp:revision>
  <dc:subject/>
  <dc:title>Diapositiva 1</dc:title>
</cp:coreProperties>
</file>