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3B4E-71BD-4B3F-A93F-3A470F22C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33CE-B091-49EE-A386-644783C4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EA33-7DC7-4FCE-A6C7-3E0A8B7B1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9635-E278-4223-A6BE-8D384DF02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BD7A-6FA5-4E40-A4CF-114331DA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D4F2-CB7B-4D93-825B-8FE00B6C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5230-9E04-43FB-8222-A57B0B96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1BD5-114B-4D1B-B11A-0489EE3B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3FE0-4B83-407D-923D-18A09B0C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01C8-B3E9-43A0-9371-63E2333D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6AC7-D7AA-473D-9164-FA027C1B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E9DB-5B81-4BF7-B46B-A7B5EEDF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D36B-4B97-4C6E-A958-59C9C5212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Mai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Mariajose</cp:lastModifiedBy>
  <dcterms:modified xsi:type="dcterms:W3CDTF">2009-10-08T20:15:09Z</dcterms:modified>
  <cp:revision>4</cp:revision>
  <dc:subject/>
  <dc:title>Diapositiva 1</dc:title>
</cp:coreProperties>
</file>