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B9FB-186B-4EE4-A869-3F539810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C897-E0DC-4D06-A664-BF83D3A3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16D5-DA97-4CE3-9C1F-82FAEFDA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01C3-2E16-4F4D-BE6E-73C568F1F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50DC-BE60-4F5B-BA64-CAD83679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949C-8D57-405C-80FA-8E723774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8104-2521-4AB8-B22A-D1CE5D76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6C11-08FB-415E-8197-BC13BB6B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3759-2673-47F3-8493-A155C0FD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771D-0094-4846-BB3E-65D167A7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BB5C-A036-4715-8BD3-3D9B3DC9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AAC4-7704-415F-AD63-B212F954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747A-9600-4249-B987-7F0D7C112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6-04T15:17:45Z</dcterms:modified>
  <cp:revision>31</cp:revision>
  <dc:subject/>
  <dc:title>Diapositiva 1</dc:title>
</cp:coreProperties>
</file>