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23DD-6716-427D-9ED0-0220A335F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821E-858C-4292-8A38-0B3D471A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BE48-D2F5-405C-8AA8-C3771A7F0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7903-80A0-465C-B63A-BF966B5FC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0568-6B96-439A-B1C8-EEC2D0EB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8831-3DB9-45A4-9BEE-94665F36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C150-B423-44D6-B13F-A88BD3DF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4E43-17E0-42EE-982F-2962F75E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E8D1-2A4D-4A6E-A21C-AEE05E9B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199C-8412-4169-9EF1-8F8D6EFD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4FA6-784C-4051-BC80-C60A6254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2AC5-375E-4C29-81EE-02DECAAB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57D0-E685-4921-B400-1D88A7F0F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8:52:54Z</dcterms:created>
  <dc:creator>Mariajose</dc:creator>
  <dc:description/>
  <dc:language>en-US</dc:language>
  <cp:lastModifiedBy>Mariajose</cp:lastModifiedBy>
  <dcterms:modified xsi:type="dcterms:W3CDTF">2010-01-04T18:55:45Z</dcterms:modified>
  <cp:revision>2</cp:revision>
  <dc:subject/>
  <dc:title>Diapositiva 1</dc:title>
</cp:coreProperties>
</file>