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BFE7-6A39-42BD-9293-41A2E9335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FCBE-F6B1-4F3D-8382-1F93D7814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D83B-FDB9-473B-9F5D-B6CF11446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492B-8F53-499E-A63F-633678DDD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F87E-4E07-48E4-905C-EBFA8CE6D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6D68-6711-4D43-87FD-6A31E4999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AB4D-A60C-4E9E-BC8A-9808156FD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3AD9-104A-408D-BC85-6BAE29903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81C5-A427-4E5A-B5F1-3D5E9387E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4FCE-90DD-4436-B221-023802C11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261F-D448-4B51-8204-A9BD7C91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3603-D44D-41A9-88DF-79ED54B8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91FFD-87C9-44F9-B5B6-DECE38AFD5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0-09-08T01:14:46Z</dcterms:modified>
  <cp:revision>180</cp:revision>
  <dc:subject/>
  <dc:title>Diapositiva 1</dc:title>
</cp:coreProperties>
</file>