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576-FF9B-4A54-AEDA-4D018672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F8D-2D19-47FB-B527-0AD343D1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52D5-1931-4909-B661-EE59F9F8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DFC-D055-46C4-8F79-167758C8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52A-35D7-44ED-B94E-C3DEAAF1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2C8F-45FF-4608-9C3C-DB469304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A6D-B23B-4383-AA60-0A75E75A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F38-87FD-4300-B2C3-3E81DBA1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F31-C9EB-4197-A15C-8AEF7AB9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3433-2181-4541-B662-6572A0F9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413-F9FB-445C-B96C-04F9393E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BB94-5869-4E25-A37E-952ACE2E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E2BA-E213-4AB5-94F5-5E89FB691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Mai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0-08T20:15:09Z</dcterms:modified>
  <cp:revision>4</cp:revision>
  <dc:subject/>
  <dc:title>Diapositiva 1</dc:title>
</cp:coreProperties>
</file>