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E9D7-65DD-4677-BF50-46A8507A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190-6010-4BD6-B11E-6F71B867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D75-6C50-4CEB-ACA8-520173BD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50D-9EDB-4478-91AC-8B63E7BB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9A0-1595-404E-9C7F-3881AE71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D40-C848-4DAE-93B3-E35D5A16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36B-D1E0-4F17-840D-835E30A8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4E6-780A-44F0-A4F2-F122C880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EF9-3F95-4F0A-9575-7D517304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A0A-D805-4B79-955B-093E5F52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20B-8DC2-4703-AF42-6B945FFC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9DC-63F0-4DC3-8112-6E97ADBE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9D28-6B97-419C-AEA6-DF73D3729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284280"/>
            <a:ext cx="496584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2-13T22:10:16Z</dcterms:modified>
  <cp:revision>19</cp:revision>
  <dc:subject/>
  <dc:title>Diapositiva 1</dc:title>
</cp:coreProperties>
</file>