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3D5-C9A7-42F0-A635-29D876B7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6AB-F3E3-4EA9-AF71-F2FD95FA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7A9-C561-48F6-84B4-197B441F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B5C-B919-44F7-8C3E-0F56C3CE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ADF-4559-4808-A3A0-B9E3B8DD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929-E618-4B44-AB93-B97FE2A7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52C-156D-4921-865A-7351FDC4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B1D-DCFA-4EEC-9FEB-FC25657D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85D-8733-4E87-BC22-AF16888F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00A-3539-4D7B-9B2E-9C7035FB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18E-9B11-485F-8CBE-B075C553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5EC-B12A-40F4-BE29-31FFE7FD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D2BD-753A-4870-8D84-EE0B78B2EC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3090-7838-4830-90A0-8FE604BA8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1. MA TRẬN -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57400" y="1523880"/>
            <a:ext cx="4724280" cy="685800"/>
            <a:chOff x="20574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24382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74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62320" y="2286000"/>
            <a:ext cx="4724280" cy="685800"/>
            <a:chOff x="23623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7432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23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Định thứ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666880" y="3048120"/>
            <a:ext cx="4724280" cy="685800"/>
            <a:chOff x="26668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30477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 nghịc đ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48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95480" y="3809880"/>
            <a:ext cx="4724280" cy="685800"/>
            <a:chOff x="289548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32763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ạng của 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344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52A-F110-45D3-99F7-2AE2373E93B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600" y="11422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3. Phép nhân ha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4628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 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p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C=[c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600" y="2305080"/>
                <a:ext cx="58849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7360" y="4110120"/>
                <a:ext cx="448956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52280" y="33526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tích 2 ma trậ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AFF-EBA5-41C1-B56C-D2D5F242C87C}" type="slidenum">
              <a:t>10</a:t>
            </a:fld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176480"/>
            <a:ext cx="861048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ột số tính chấ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.B).C = A.(B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BC) = (kB)C = B(k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ép nhân nói chung không có tính giao h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I.A = A.I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BBE-512E-4E5C-8731-1F20F0591721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. VÍ D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21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lượng hàng bán trong hai th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2438280"/>
          <a:ext cx="371340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8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049720" y="2438280"/>
          <a:ext cx="371304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48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20F-ED36-4B4B-9BC8-7720CA13C21E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869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ính nhu cầu vật tư cho từng phân xưởng theo kế hoạch sản xuất cho bởi 2 bảng số liệu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9240"/>
          <a:ext cx="3047760" cy="2587680"/>
        </p:xfrm>
        <a:graphic>
          <a:graphicData uri="http://schemas.openxmlformats.org/drawingml/2006/table">
            <a:tbl>
              <a:tblPr/>
              <a:tblGrid>
                <a:gridCol w="1230120"/>
                <a:gridCol w="598680"/>
                <a:gridCol w="609480"/>
                <a:gridCol w="6094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ưở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33920" y="2286000"/>
          <a:ext cx="5181480" cy="2587680"/>
        </p:xfrm>
        <a:graphic>
          <a:graphicData uri="http://schemas.openxmlformats.org/drawingml/2006/table">
            <a:tbl>
              <a:tblPr/>
              <a:tblGrid>
                <a:gridCol w="1076400"/>
                <a:gridCol w="817560"/>
                <a:gridCol w="817560"/>
                <a:gridCol w="817560"/>
                <a:gridCol w="817560"/>
                <a:gridCol w="834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t liệ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D6A-BF50-47D4-87A9-EEE48631D457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 CÁC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360" y="2832840"/>
            <a:ext cx="44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880" y="1721160"/>
            <a:ext cx="4833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hì det(A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1440" y="3424320"/>
                <a:ext cx="2354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35800" y="4511520"/>
            <a:ext cx="42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545-5284-42CF-B7E0-3BC55A8E3073}" type="slidenum">
              <a:t>14</a:t>
            </a:fld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1676520"/>
                <a:ext cx="38908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52280" y="3886200"/>
            <a:ext cx="87631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con cấp n-1 nhận được từ A bằng cách xoá hàng i cột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bù đại s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1574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323-50DC-4006-BF6A-0CFE907E8CB7}" type="slidenum">
              <a:t>15</a:t>
            </a:fld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3360" y="3421800"/>
            <a:ext cx="75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định nghĩa hãy tính định thứ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68280" y="4038480"/>
                <a:ext cx="252720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79720" y="1143360"/>
            <a:ext cx="5860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ấp n của A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5840" y="2166840"/>
                <a:ext cx="603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D4E-23F9-425F-BA96-80BF54E2C6E0}" type="slidenum">
              <a:t>16</a:t>
            </a:fld>
          </a:p>
        </p:txBody>
      </p:sp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. TÍNH CHẤT CỦA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80" y="1766160"/>
            <a:ext cx="38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360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tính chất đã đúng khi phát biểu về hàng của một định thức thì nó vẫn còn đúng khi trong phát biểu ta thay hàng bằng c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7080" y="3809880"/>
            <a:ext cx="878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ổi chỗ hai hàng (hay hai cột) của một định thức ta được một định thức mới bằng định thức cũ đổi dấ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8B1-3F96-4048-AF81-37F55AE49BD1}" type="slidenum">
              <a:t>17</a:t>
            </a:fld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1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định thức có hai hàng (hay hai cột) như nhau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0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4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một hàng (hay một cột) toàn là số không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97144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5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nhân các phần tử của một hàng (hay một cột) với cùng một số k thì được một định thức mới bằng định thức cũ nhân với 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4341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ác phần tử của một hàng (hay một cột) có một thừa số chung, ta có thể đưa thừa số chung đó ra ngoài định thứ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8D8-1409-4839-B32A-14F7DF4AA0F9}" type="slidenum">
              <a:t>18</a:t>
            </a:fld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101320"/>
            <a:ext cx="88394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thứ i nào đó c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det(A’) + det(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000" y="3352680"/>
                <a:ext cx="399240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89480" y="3352680"/>
                <a:ext cx="399240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} } = left [ matrix {
a rSub { size 8{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1n} }  {} ##
a rSub { size 8{</m:t>
                        </m:r>
                        <m: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2n} }  {} ##
alignl { stack {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
a rSub { size 8{i1} }  rSup { size 8{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a rSub { size 8{ ital 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rSup { size 8{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84320" y="1186920"/>
            <a:ext cx="880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6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hai hàng (hay hai cột) tỷ lệ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063-0928-4084-8F08-ACC58C173BE8}" type="slidenum">
              <a:t>19</a:t>
            </a:fld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. CÁC ĐỊNH NGHĨ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1. Định nghĩa ma trậ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bảng số chữ nhật có m hàng và n cộ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cấp 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2825640"/>
                <a:ext cx="402912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8600" y="5073480"/>
            <a:ext cx="8686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à phần tử của ma trận A ở hàng i cột 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= 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03A-C0BD-4E8C-97B7-98EC34CA103B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21752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định thức có một hàng là tổ hợp tuyến tính của các hàng khác thì định thức ấy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905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9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ta công bội k của một hàng vào một hàng khác thì được một định thức mới bằng định thức c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7520" y="4038480"/>
                <a:ext cx="27306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C33-00C6-406E-BA0B-3EC6871BA7AE}" type="slidenum">
              <a:t>20</a:t>
            </a:fld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96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ịnh thức của ma trận tam giá bằng tích các phần tử ché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440" y="2065320"/>
                <a:ext cx="509724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4267080"/>
                <a:ext cx="521496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FAD-F509-4089-A218-276AFE4D1605}" type="slidenum">
              <a:t>21</a:t>
            </a:fld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 CÁC PHƯƠNG PHÁP TÍNH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40" y="1766160"/>
            <a:ext cx="60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ùng định nghĩ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280" y="237564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biến đổi sơ cấ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200" y="3200400"/>
          <a:ext cx="8885520" cy="2286000"/>
        </p:xfrm>
        <a:graphic>
          <a:graphicData uri="http://schemas.openxmlformats.org/drawingml/2006/table">
            <a:tbl>
              <a:tblPr/>
              <a:tblGrid>
                <a:gridCol w="4613400"/>
                <a:gridCol w="3208320"/>
                <a:gridCol w="10638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ến đổi sơ cấ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c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ý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ân một hàng với một số k≠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nhân với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ổi chỗ hai hà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đổi dấ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ộng k lần hàng r vào hàng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không đổ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F78-B2D2-424C-A483-A90E6F7478D0}" type="slidenum">
              <a:t>22</a:t>
            </a:fld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920" y="1846440"/>
                <a:ext cx="32814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55520" y="126468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định thức bằng hai phương phá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2F6-0650-4F55-9CE3-B61787DF20C9}" type="slidenum">
              <a:t>23</a:t>
            </a:fld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18692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Ma trận không suy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 gọi ma trận vuông A cấp n là một ma trận không suy biến nếu det(A) ≠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00680"/>
            <a:ext cx="8839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ma trận vuông A cấp n, nếu tồn tại ma trận vuông B cấp n thoả mãn: AB = BA = I thì B được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nghịch đ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ma trận nghịch đảo thì A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khả nghị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B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ghĩa là ta có A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336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3. Sự duy nhất của ma trận nghịch đ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khả nghịch thì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duy nhấ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618-24FA-4287-8268-E102F83A1654}" type="slidenum">
              <a:t>24</a:t>
            </a:fld>
          </a:p>
        </p:txBody>
      </p:sp>
    </p:spTree>
  </p:cSld>
  <p:transition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520" y="12186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4. Sự tồn tại và biểu thức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52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et(A)≠0 thì ma trận A có nghịch đả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tính bởi công thức sa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920" y="2901960"/>
                <a:ext cx="59752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28600" y="511992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phần bù đại số của phần tử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 trận chuyển vị của ma trận phần bù đại s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E55-662C-4EFF-BDC0-71A436235491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400" y="114228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 Phương pháp tìm ma trận nghịch đả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67580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định thứ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7760" y="2216160"/>
                <a:ext cx="597672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8280" y="4800600"/>
                <a:ext cx="26798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4080" y="426636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 của ma trậ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B40-69D4-4469-9312-1055E388C7DE}" type="slidenum">
              <a:t>26</a:t>
            </a:fld>
          </a:p>
        </p:txBody>
      </p:sp>
    </p:spTree>
  </p:cSld>
  <p:transition>
    <p:comb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14200"/>
            <a:ext cx="88394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phép biến đổi sơ cấp của Gauss - Jord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hân một dòng nào đó của ma trận với một số thực khác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ộng vào một dòng của ma trận một dòng khác đã nhân với một số thự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Đổi chỗ hai dòng của ma trận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ma trận nghịch đảo dùng các phép biến đổi sơ cấp sau cho: [A│I] = [I│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FD5-22A8-4974-8A72-F45D00D5FD6A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080" y="11883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6200" y="1747800"/>
                <a:ext cx="2214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2BD-5294-4F93-A7DE-BE2A2DC67AA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156320"/>
            <a:ext cx="87631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Ma trận c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trận A cấp m x n, gọi p là một số nguyên dương, p&lt;min(m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vuông cấp p suy ra từ A bằng cách bỏ đi m-p hàng và n-p cột gọi là ma trận con cấp p củ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ủa ma trận con đó gọi là định thức con cấp p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440" y="443304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ma trận c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2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D8F-C5EB-4B9D-B062-E21118D15522}" type="slidenum">
              <a:t>29</a:t>
            </a:fld>
          </a:p>
        </p:txBody>
      </p:sp>
    </p:spTree>
  </p:cSld>
  <p:transition>
    <p:checke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2. Ma trận vu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44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 trận vuông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Khi m = n , 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vuông cấp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0560" y="2595600"/>
                <a:ext cx="38991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280" y="469296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cá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tử ché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ường thẳng xuyên qua các phần tử chéo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đường chéo chín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6B1-29A8-4B2A-B75A-B859C94CC949}" type="slidenum">
              <a:t>3</a:t>
            </a:fld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880" y="114228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Hạng của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61424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là cấp cao nhất của định thức con khác không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586240"/>
            <a:ext cx="8763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ếu r là hạng của ma trận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A tồn tại một định con cấp r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ọi định thức con cấp lớn hơn r trong ma trận A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rankA =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1120" y="54093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51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BCA-69F8-4EF6-8E8A-DF6B09809A3A}" type="slidenum">
              <a:t>30</a:t>
            </a:fld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240" y="11566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Ma trận bậc tha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0400"/>
            <a:ext cx="87631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dòng của ma trận được gọi là dòng 0 nếu nó chỉ gồm những phần tử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ược lại, nếu một dòng của ma trận có ít nhất một phần tử khác 0 thì được gọi là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ần tử khác 0 đầu tiên của một dòng được gọi là phần tử chính của dòng đ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8FB-EC7D-4970-B16F-7D7FA078EABF}" type="slidenum">
              <a:t>31</a:t>
            </a:fld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215360"/>
            <a:ext cx="87631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A được gọi là ma trận bậc thang khi thoả các điều kiệ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hông có dòng 0 hoặc dòng 0 luôn ở dưới các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ít nhất 2 dòng khác 0 thì đối với 2 dòng khác 0 tuỳ ý của A, phần tử chính của dòng dưới luôn nằm bên phải cột chứa phần tử chính của dòng trê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8760" y="4572000"/>
                <a:ext cx="24415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09720" y="5029200"/>
                <a:ext cx="1938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43360" y="4800600"/>
                <a:ext cx="1962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11920" y="4800600"/>
                <a:ext cx="1951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A0A-F0BE-4C45-98DB-3DA701484047}" type="slidenum">
              <a:t>32</a:t>
            </a:fld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215360"/>
            <a:ext cx="883944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2. Định lý về hạng của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A, B là hai ma trận cùng cấp. Nếu B là ma trận nhận được từ A sau một số hữu hạn các phép biến đổi sơ cấp thì rankA = rank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bằng số dòng khác không của ma trận dạng bậc thang thu được từ A sau một số hữu hạn các phép biến đổi sơ cấ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D78-4D7F-4517-B57D-A65040FBA554}" type="slidenum">
              <a:t>33</a:t>
            </a:fld>
          </a:p>
        </p:txBody>
      </p:sp>
    </p:spTree>
  </p:cSld>
  <p:transition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177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3. Thuật toán đưa một ma trận về ma trận dạng bậc tha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159280"/>
            <a:ext cx="88394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phần tử chính ở dòng một về vị trí cột đầu tiên so với p phần tử chính ở các dòng khá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các phần tử nằm phía dưới phần tử chính của dòng đầu tiên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m tương tự đối với hàng 3, 4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224-C267-465E-94DA-E4368AF8BD01}" type="slidenum">
              <a:t>34</a:t>
            </a:fld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0120" y="1142640"/>
            <a:ext cx="654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 Các phương pháp tìm hạng ma trậ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040" y="1599840"/>
            <a:ext cx="69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1. Phương pháp 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ử dụng định nghĩ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02040"/>
            <a:ext cx="89154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 cao nhất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-1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ta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3, 4,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o đến khi tìm được ran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62D-904A-4900-865C-B345449A8BBF}" type="slidenum">
              <a:t>35</a:t>
            </a:fld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122004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0880" y="1822320"/>
                <a:ext cx="364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AEC-75BA-4835-98CE-8DF9E4D47828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186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4.2. Phương pháp 2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ử dụng các phép biến đổi sơ cấ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1333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hạng của ma trận A ta biến đổi ma trận A về dạng bậc thang, số dòng khác dòng 0 là hạng của ma trận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3040" y="4108320"/>
                <a:ext cx="34765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55160" y="350460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F3E-FD2E-4574-960E-19E316209E82}" type="slidenum">
              <a:t>37</a:t>
            </a:fld>
          </a:p>
        </p:txBody>
      </p:sp>
    </p:spTree>
  </p:cSld>
  <p:transition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1120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 trận tam giác trên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j = 0 nếu i &g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3800" y="1682640"/>
                <a:ext cx="381960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89560" y="1679400"/>
                <a:ext cx="3816360" cy="20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62720" y="3809160"/>
            <a:ext cx="66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tam giác dướ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&l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0560" y="434340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95680" y="434988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DBC-3BDC-4E6C-BF21-90F046146C6D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7800" y="1142280"/>
            <a:ext cx="51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ché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≠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1560" y="1757520"/>
                <a:ext cx="38181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1840" y="1757520"/>
                <a:ext cx="38163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99160" y="3855960"/>
            <a:ext cx="79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đơn vị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;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≠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35040" y="4495680"/>
                <a:ext cx="2793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462-18BC-4EF3-BC76-9C81A38F5789}" type="slidenum">
              <a:t>5</a:t>
            </a:fld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2280"/>
            <a:ext cx="86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3. Vectơ hàng(cột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chỉ có một hàng(c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5880" y="168984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4. Ma trận khô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7760" y="2362320"/>
                <a:ext cx="292896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05920" y="443304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4. Ma trận bằng nhau: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5002920"/>
            <a:ext cx="37648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mọi 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3E5-BC90-411A-B35A-B656C8FFC38D}" type="slidenum">
              <a:t>6</a:t>
            </a:fld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80" y="1158840"/>
            <a:ext cx="81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5. Ma trận chuyển vị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9200" y="1778040"/>
                <a:ext cx="4222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65F-7228-4F28-8833-924515DD1913}" type="slidenum">
              <a:t>7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. CÁC PHÉP TOÁN TRÊN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720" y="175176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1. Phép cộng hai ma tr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640" y="2255760"/>
            <a:ext cx="839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 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4280" y="2997360"/>
                <a:ext cx="570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56040" y="4085640"/>
            <a:ext cx="665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ếu gọi -A = [-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ì ta có -A + A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87E-20C0-484F-B1E0-EBE443199DA4}" type="slidenum">
              <a:t>8</a:t>
            </a:fld>
          </a:p>
        </p:txBody>
      </p:sp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6600" y="115668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2. Phép nhân một số vớ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66032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cho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kA=[k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11120" y="2508120"/>
                <a:ext cx="35514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54440" y="4243320"/>
            <a:ext cx="4428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k, h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A + B) = kA +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 + h)A = kA +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986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 2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CD8-82A3-4B41-A392-58CD828C2C15}" type="slidenum">
              <a:t>9</a:t>
            </a:fld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4T04:24:24Z</dcterms:modified>
  <cp:revision>388</cp:revision>
  <dc:subject/>
  <dc:title>Nguyên lý thống kê</dc:title>
</cp:coreProperties>
</file>