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96AA-D2FC-45D8-8D6D-53A34DBFD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6516-D18E-46DF-B151-314A6AE90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46F0-C0C1-481C-A550-5C391A88F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84AF-78CE-4FFB-89F3-BB7EF9A7F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8DC9-B0EE-48E0-A397-5B250A4DD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40F3-40EF-4AF6-BCC5-F27EFE700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A354-ADA6-4157-B905-A2E9F0EA9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C7A2-C434-485A-8384-3978B12E1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E23E-1B0E-462F-8FD6-18F9BA8E6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D61D-0AB5-48D9-B491-FBACDCF36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4D2A-3E53-4A32-A784-6CF727ECE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1758-678B-415E-9FB9-4ECF6ECA6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0C848-D8B0-498A-A779-AD7B815DB43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5CD8D-34EE-4A65-A50B-595718EC38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C2. HỆ PHƯƠNG TRÌNH TUYẾN TÍN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600200" y="1523880"/>
            <a:ext cx="4724280" cy="685800"/>
            <a:chOff x="1600200" y="1523880"/>
            <a:chExt cx="4724280" cy="685800"/>
          </a:xfrm>
        </p:grpSpPr>
        <p:sp>
          <p:nvSpPr>
            <p:cNvPr id="43" name=""/>
            <p:cNvSpPr/>
            <p:nvPr/>
          </p:nvSpPr>
          <p:spPr>
            <a:xfrm>
              <a:off x="1981080" y="16430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111135"/>
                </a:gs>
                <a:gs pos="100000">
                  <a:srgbClr val="33339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00200" y="1523880"/>
              <a:ext cx="685800" cy="685800"/>
            </a:xfrm>
            <a:prstGeom prst="diamond">
              <a:avLst/>
            </a:prstGeom>
            <a:solidFill>
              <a:srgbClr val="333399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209680" y="1698480"/>
              <a:ext cx="342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ác khái niệ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38160" y="162252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"/>
          <p:cNvGrpSpPr/>
          <p:nvPr/>
        </p:nvGrpSpPr>
        <p:grpSpPr>
          <a:xfrm>
            <a:off x="1905120" y="2286000"/>
            <a:ext cx="4724280" cy="685800"/>
            <a:chOff x="1905120" y="2286000"/>
            <a:chExt cx="4724280" cy="685800"/>
          </a:xfrm>
        </p:grpSpPr>
        <p:sp>
          <p:nvSpPr>
            <p:cNvPr id="48" name=""/>
            <p:cNvSpPr/>
            <p:nvPr/>
          </p:nvSpPr>
          <p:spPr>
            <a:xfrm>
              <a:off x="2286000" y="240516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111135"/>
                </a:gs>
                <a:gs pos="100000">
                  <a:srgbClr val="33339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905120" y="2286000"/>
              <a:ext cx="685800" cy="685800"/>
            </a:xfrm>
            <a:prstGeom prst="diamond">
              <a:avLst/>
            </a:prstGeom>
            <a:solidFill>
              <a:srgbClr val="333399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514600" y="2460600"/>
              <a:ext cx="342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HPTTT Cram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143080" y="238464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2209680" y="3048120"/>
            <a:ext cx="4724280" cy="685800"/>
            <a:chOff x="2209680" y="3048120"/>
            <a:chExt cx="4724280" cy="685800"/>
          </a:xfrm>
        </p:grpSpPr>
        <p:sp>
          <p:nvSpPr>
            <p:cNvPr id="53" name=""/>
            <p:cNvSpPr/>
            <p:nvPr/>
          </p:nvSpPr>
          <p:spPr>
            <a:xfrm>
              <a:off x="2590560" y="316728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111135"/>
                </a:gs>
                <a:gs pos="100000">
                  <a:srgbClr val="33339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209680" y="3048120"/>
              <a:ext cx="685800" cy="685800"/>
            </a:xfrm>
            <a:prstGeom prst="diamond">
              <a:avLst/>
            </a:prstGeom>
            <a:solidFill>
              <a:srgbClr val="333399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819160" y="3222720"/>
              <a:ext cx="342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hương pháp Gaus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447640" y="314676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2590920" y="3809880"/>
            <a:ext cx="4724280" cy="685800"/>
            <a:chOff x="2590920" y="3809880"/>
            <a:chExt cx="4724280" cy="685800"/>
          </a:xfrm>
        </p:grpSpPr>
        <p:sp>
          <p:nvSpPr>
            <p:cNvPr id="58" name=""/>
            <p:cNvSpPr/>
            <p:nvPr/>
          </p:nvSpPr>
          <p:spPr>
            <a:xfrm>
              <a:off x="2971800" y="39290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111135"/>
                </a:gs>
                <a:gs pos="100000">
                  <a:srgbClr val="33339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590920" y="3809880"/>
              <a:ext cx="685800" cy="685800"/>
            </a:xfrm>
            <a:prstGeom prst="diamond">
              <a:avLst/>
            </a:prstGeom>
            <a:solidFill>
              <a:srgbClr val="333399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200400" y="3984480"/>
              <a:ext cx="342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HPTTT Thuần nhấ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28880" y="390852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2971800" y="4495680"/>
            <a:ext cx="4724280" cy="685800"/>
            <a:chOff x="2971800" y="4495680"/>
            <a:chExt cx="4724280" cy="685800"/>
          </a:xfrm>
        </p:grpSpPr>
        <p:sp>
          <p:nvSpPr>
            <p:cNvPr id="63" name=""/>
            <p:cNvSpPr/>
            <p:nvPr/>
          </p:nvSpPr>
          <p:spPr>
            <a:xfrm>
              <a:off x="3352680" y="46148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111135"/>
                </a:gs>
                <a:gs pos="100000">
                  <a:srgbClr val="33339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971800" y="4495680"/>
              <a:ext cx="685800" cy="685800"/>
            </a:xfrm>
            <a:prstGeom prst="diamond">
              <a:avLst/>
            </a:prstGeom>
            <a:solidFill>
              <a:srgbClr val="333399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81280" y="4670280"/>
              <a:ext cx="342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ột số ứng dụ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209760" y="459432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6A03-78AB-44B3-B70E-F04E7E753AA6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III.PHƯƠNG PHÁP GAU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218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iải hệ phương trìn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1308240" y="1822320"/>
                <a:ext cx="4330440" cy="15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r>
                                <m:t xml:space="preserve">3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4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1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</m:e>
                            <m:e>
                              <m:r>
                                <m:t xml:space="preserve">7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</m:e>
                            <m:e>
                              <m:r>
                                <m:t xml:space="preserve">7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8105-046E-47AF-910A-7763EB121EC0}" type="slidenum">
              <a:t>10</a:t>
            </a:fld>
          </a:p>
        </p:txBody>
      </p:sp>
    </p:spTree>
  </p:cSld>
  <p:transition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IV.HỆ PTTT THUẦN NHẤ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218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.1. Định nghĩ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800280" y="1778040"/>
                <a:ext cx="5905440" cy="22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  <m:e/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  <m:e/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/>
                            <m:e/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mn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  <m:e/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914400" y="4597560"/>
                <a:ext cx="3790800" cy="20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0</m:t>
                            </m:r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0</m:t>
                            </m:r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8" name=""/>
          <p:cNvSpPr/>
          <p:nvPr/>
        </p:nvSpPr>
        <p:spPr>
          <a:xfrm>
            <a:off x="0" y="41140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ệ luôn có nghiệm tầm thườ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30B8-AACC-4CE0-91BC-58AB1DE054E7}" type="slidenum">
              <a:t>11</a:t>
            </a:fld>
          </a:p>
        </p:txBody>
      </p:sp>
    </p:spTree>
  </p:cSld>
  <p:transition>
    <p:cover dir="r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IV.HỆ PTTT THUẦN NHẤ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1142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.2. Phương pháp giả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167616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ường hợp 1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ếu rankA = n, hệ phương trình chỉ có nghiệm tầm thườn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259056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ường hợp 2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ếu rankA = k &lt; n thì hệ phương trình tuyến tính thuần nhất có vô số nghiệm, phụ thuộc n-k tham số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39618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787320" y="4429080"/>
                <a:ext cx="5765760" cy="204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+</m:t>
                              </m:r>
                              <m:r>
                                <m:t xml:space="preserve">2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+</m:t>
                              </m:r>
                              <m:r>
                                <m:t xml:space="preserve">4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</m:sub>
                              </m:sSub>
                            </m:e>
                            <m:e/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3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+</m:t>
                              </m:r>
                              <m:r>
                                <m:t xml:space="preserve">5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+</m:t>
                              </m:r>
                              <m:r>
                                <m:t xml:space="preserve">6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4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</m:sub>
                              </m:sSub>
                            </m:e>
                            <m:e/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4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+</m:t>
                              </m:r>
                              <m:r>
                                <m:t xml:space="preserve">5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+</m:t>
                              </m:r>
                              <m:r>
                                <m:t xml:space="preserve">3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  <m:e/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3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+</m:t>
                              </m:r>
                              <m:r>
                                <m:t xml:space="preserve">8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+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4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9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</m:sub>
                              </m:sSub>
                            </m:e>
                            <m:e/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5853-57C6-4F46-ABC2-979DFAD4E970}" type="slidenum">
              <a:t>12</a:t>
            </a:fld>
          </a:p>
        </p:txBody>
      </p:sp>
    </p:spTree>
  </p:cSld>
  <p:transition>
    <p:checker dir="horz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IV.HỆ PTTT THUẦN NHẤ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152280" y="1244520"/>
                <a:ext cx="2820960" cy="203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6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8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24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9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339840" y="3657600"/>
                <a:ext cx="4689360" cy="22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acc>
                      </m:e>
                    </m:eqArr>
                    <m:r>
                      <m:t xml:space="preserve">−</m:t>
                    </m:r>
                    <m:r>
                      <m:t xml:space="preserve">3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2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→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8</m:t>
                              </m:r>
                            </m:e>
                            <m:e>
                              <m:r>
                                <m:t xml:space="preserve">7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6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5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2895480" y="1219320"/>
                <a:ext cx="5257800" cy="20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acc>
                      </m:e>
                    </m:eqArr>
                    <m:r>
                      <m:t xml:space="preserve">−</m:t>
                    </m:r>
                    <m:r>
                      <m:t xml:space="preserve">4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3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→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6</m:t>
                              </m:r>
                            </m:e>
                            <m:e>
                              <m:r>
                                <m:t xml:space="preserve">5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8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5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B3C2-7906-49C7-82F7-E6238EF18FC9}" type="slidenum">
              <a:t>13</a:t>
            </a:fld>
          </a:p>
        </p:txBody>
      </p:sp>
    </p:spTree>
  </p:cSld>
  <p:transition>
    <p:zoom dir="out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IV.HỆ PTTT THUẦN NHẤ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304920" y="2209680"/>
                <a:ext cx="396216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</m:e>
                            <m:e>
                              <m:r>
                                <m:t xml:space="preserve">8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</m:e>
                            <m:e>
                              <m:r>
                                <m:t xml:space="preserve">7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</m:e>
                            <m:e>
                              <m:r>
                                <m:t xml:space="preserve">6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5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  <m:r>
                                    <m:t xml:space="preserve">=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338040" y="3511440"/>
                <a:ext cx="376416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</m:e>
                            <m:e>
                              <m:r>
                                <m:t xml:space="preserve">8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</m:e>
                            <m:e>
                              <m:r>
                                <m:t xml:space="preserve">7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</m:sub>
                              </m:sSub>
                            </m:e>
                            <m:e/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6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</m:e>
                            <m:e>
                              <m:r>
                                <m:t xml:space="preserve">5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</m:sub>
                              </m:sSub>
                            </m:e>
                            <m:e/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0" y="1143000"/>
            <a:ext cx="914400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kA = 2, số ẩn là 4 nên hệ phương trình có vô số nghiệm phụ thuộc vào 2 tham số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2771-D1DE-453C-A281-D9D14FDD3D14}" type="slidenum">
              <a:t>14</a:t>
            </a:fld>
          </a:p>
        </p:txBody>
      </p:sp>
    </p:spTree>
  </p:cSld>
  <p:transition>
    <p:comb dir="horz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IV.HỆ PTTT THUẦN NHẤ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1113120"/>
            <a:ext cx="914400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.3. Hệ nghiệm cơ bả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iả sử rankA = k &lt; n. Ta có hệ có vô số nghiệm phụ thuộc n-k tham số. Giả sử n-k tham số đó là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…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228600" y="2593800"/>
          <a:ext cx="8610480" cy="2587320"/>
        </p:xfrm>
        <a:graphic>
          <a:graphicData uri="http://schemas.openxmlformats.org/drawingml/2006/table">
            <a:tbl>
              <a:tblPr/>
              <a:tblGrid>
                <a:gridCol w="1074600"/>
                <a:gridCol w="1076400"/>
                <a:gridCol w="1076400"/>
                <a:gridCol w="1039680"/>
                <a:gridCol w="1114560"/>
                <a:gridCol w="1076400"/>
                <a:gridCol w="1076400"/>
                <a:gridCol w="1076040"/>
              </a:tblGrid>
              <a:tr h="59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r>
                        <a:rPr b="0" lang="en-US" sz="2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r>
                        <a:rPr b="0" lang="en-US" sz="2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.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r>
                        <a:rPr b="0" lang="en-US" sz="2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r>
                        <a:rPr b="0" lang="en-US" sz="2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+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r>
                        <a:rPr b="0" lang="en-US" sz="2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.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.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.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.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.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.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n-k,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n-k,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n-k,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.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6" name=""/>
          <p:cNvSpPr/>
          <p:nvPr/>
        </p:nvSpPr>
        <p:spPr>
          <a:xfrm>
            <a:off x="0" y="533376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ệ này được gọi là hệ nghiệm cơ bản của hệ phương trình tuyến tính thuần nhấ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5311-3903-4DE9-8532-F6AE6F8B7816}" type="slidenum">
              <a:t>15</a:t>
            </a:fld>
          </a:p>
        </p:txBody>
      </p:sp>
    </p:spTree>
  </p:cSld>
  <p:transition>
    <p:checke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IV.HỆ PTTT THUẦN NHẤ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52280" y="1157040"/>
            <a:ext cx="8610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Áp dụng: Sử dụng ví dụ trên ta tìm được hệ nghiệm cơ bản như sa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719280" y="2179800"/>
          <a:ext cx="7967520" cy="1554120"/>
        </p:xfrm>
        <a:graphic>
          <a:graphicData uri="http://schemas.openxmlformats.org/drawingml/2006/table">
            <a:tbl>
              <a:tblPr/>
              <a:tblGrid>
                <a:gridCol w="2319480"/>
                <a:gridCol w="2447640"/>
                <a:gridCol w="1752840"/>
                <a:gridCol w="1447560"/>
              </a:tblGrid>
              <a:tr h="59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r>
                        <a:rPr b="0" lang="en-US" sz="2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= 8x</a:t>
                      </a:r>
                      <a:r>
                        <a:rPr b="0" lang="en-US" sz="2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– 7x</a:t>
                      </a:r>
                      <a:r>
                        <a:rPr b="0" lang="en-US" sz="2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r>
                        <a:rPr b="0" lang="en-US" sz="2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= -6x</a:t>
                      </a:r>
                      <a:r>
                        <a:rPr b="0" lang="en-US" sz="2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+ 5x</a:t>
                      </a:r>
                      <a:r>
                        <a:rPr b="0" lang="en-US" sz="2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r>
                        <a:rPr b="0" lang="en-US" sz="2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r>
                        <a:rPr b="0" lang="en-US" sz="2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34D1-D919-45A6-8A4D-17A902AD3BA4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V.MỘT VÀI ỨNG DỤ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1143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5.1. Mô hình cân bằng thị trườ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1690560"/>
            <a:ext cx="9144000" cy="22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. Thị trường 1 loại hàng hó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àm cu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-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àm cầ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≥ 0, P giá sản phẩ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3809880"/>
            <a:ext cx="914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ô hình cân bằng: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&gt; (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P = (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4419720"/>
            <a:ext cx="9144000" cy="16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ột sản phẩm trên thị trường có các thông ti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àm cu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-1 + 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àm cầ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3 - 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069F-FD54-418C-9D00-8717CC5D1794}" type="slidenum">
              <a:t>17</a:t>
            </a:fld>
          </a:p>
        </p:txBody>
      </p:sp>
    </p:spTree>
  </p:cSld>
  <p:transition>
    <p:zoom dir="out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V.MỘT VÀI ỨNG DỤ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1143000"/>
            <a:ext cx="914400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. Thị trường 2 loại hàng hó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ản phẩm 1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53481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ô hình cân bằ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3467160" y="5105520"/>
                <a:ext cx="186696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sub>
                            </m:sSub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9" name=""/>
          <p:cNvSpPr/>
          <p:nvPr/>
        </p:nvSpPr>
        <p:spPr>
          <a:xfrm>
            <a:off x="0" y="382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520560" y="2209680"/>
                <a:ext cx="460692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sub>
                          </m:sSub>
                          <m:r>
                            <m:t xml:space="preserve">=</m:t>
                          </m:r>
                        </m:e>
                        <m:e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sub>
                          </m:sSub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mr>
                      <m:mr>
                        <m:e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sSub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sub>
                          </m:sSub>
                          <m:r>
                            <m:t xml:space="preserve">=</m:t>
                          </m:r>
                        </m:e>
                        <m:e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sub>
                          </m:sSub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41" name=""/>
          <p:cNvSpPr/>
          <p:nvPr/>
        </p:nvSpPr>
        <p:spPr>
          <a:xfrm>
            <a:off x="0" y="382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438120" y="3824280"/>
                <a:ext cx="473400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sub>
                          </m:sSub>
                          <m:r>
                            <m:t xml:space="preserve">=</m:t>
                          </m:r>
                        </m:e>
                        <m:e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0</m:t>
                              </m:r>
                            </m:sub>
                          </m:sSub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2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mr>
                      <m:mr>
                        <m:e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sSub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sub>
                          </m:sSub>
                          <m:r>
                            <m:t xml:space="preserve">=</m:t>
                          </m:r>
                        </m:e>
                        <m:e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0</m:t>
                              </m:r>
                            </m:sub>
                          </m:sSub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2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43" name=""/>
          <p:cNvSpPr/>
          <p:nvPr/>
        </p:nvSpPr>
        <p:spPr>
          <a:xfrm>
            <a:off x="0" y="32767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ản phẩm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56B8-CE21-420F-A809-B0D6B4913B11}" type="slidenum">
              <a:t>18</a:t>
            </a:fld>
          </a:p>
        </p:txBody>
      </p:sp>
    </p:spTree>
  </p:cSld>
  <p:transition>
    <p:checker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V.MỘT VÀI ỨNG DỤ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1143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ệ phương trình cân bằ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29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80880" y="1676520"/>
                <a:ext cx="6782040" cy="101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8" name=""/>
          <p:cNvSpPr/>
          <p:nvPr/>
        </p:nvSpPr>
        <p:spPr>
          <a:xfrm>
            <a:off x="0" y="29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380880" y="2867040"/>
                <a:ext cx="3381480" cy="101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sub>
                            </m:sSub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0" name=""/>
          <p:cNvSpPr/>
          <p:nvPr/>
        </p:nvSpPr>
        <p:spPr>
          <a:xfrm>
            <a:off x="0" y="3844800"/>
            <a:ext cx="914400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ị trường có 2 sản phẩm như sa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ản phẩm 1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649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649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54864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ản phẩm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29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2514600" y="4495680"/>
                <a:ext cx="380052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sub>
                          </m:sSub>
                          <m:r>
                            <m:t xml:space="preserve">=</m:t>
                          </m:r>
                        </m:e>
                        <m:e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</m:e>
                        <m:e>
                          <m:r>
                            <m:t xml:space="preserve">+</m:t>
                          </m:r>
                          <m:r>
                            <m:t xml:space="preserve">3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/>
                      </m:mr>
                      <m:mr>
                        <m:e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sSub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sub>
                          </m:sSub>
                          <m:r>
                            <m:t xml:space="preserve">=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  <m:e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56" name=""/>
          <p:cNvSpPr/>
          <p:nvPr/>
        </p:nvSpPr>
        <p:spPr>
          <a:xfrm>
            <a:off x="0" y="29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2562120" y="5562720"/>
                <a:ext cx="3762360" cy="96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sub>
                          </m:sSub>
                          <m:r>
                            <m:t xml:space="preserve">=</m:t>
                          </m:r>
                        </m:e>
                        <m:e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e>
                        <m:e>
                          <m:r>
                            <m:t xml:space="preserve">+</m:t>
                          </m:r>
                          <m:r>
                            <m:t xml:space="preserve">2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/>
                      </m:mr>
                      <m:mr>
                        <m:e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d</m:t>
                              </m:r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15</m:t>
                          </m:r>
                        </m:e>
                        <m:e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B4DE-6093-438A-B794-A228E9262B30}" type="slidenum">
              <a:t>19</a:t>
            </a:fld>
          </a:p>
        </p:txBody>
      </p:sp>
    </p:spTree>
  </p:cSld>
  <p:transition>
    <p:checker dir="vert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I. CÁC KHÁI NIỆM CƠ BẢ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1218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.1. Dạng tổng quát hệ phương trình tuyến tín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17521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. Định nghĩa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à một hệ phương trình đại số bậc nhất gồm m phương trình n ẩn có dạ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228600" y="2844720"/>
                <a:ext cx="6178680" cy="226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  <m:e/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  <m:e/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mn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  <m:e/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6629400" y="2895480"/>
            <a:ext cx="2362320" cy="245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à biế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được gọi là hệ số (của ẩ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được gọi là hệ số tự 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17E1-0C5F-4A37-971F-36798E751E90}" type="slidenum">
              <a:t>2</a:t>
            </a:fld>
          </a:p>
        </p:txBody>
      </p:sp>
    </p:spTree>
  </p:cSld>
  <p:transition>
    <p:blinds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V.MỘT VÀI ỨNG DỤ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1143000"/>
            <a:ext cx="914400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. Thị trường n loại hàng hó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ản phẩm 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285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419040" y="2209680"/>
                <a:ext cx="544824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2" name=""/>
          <p:cNvSpPr/>
          <p:nvPr/>
        </p:nvSpPr>
        <p:spPr>
          <a:xfrm>
            <a:off x="0" y="3367080"/>
            <a:ext cx="914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ệ phương trình cân bằng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(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457200" y="4013280"/>
                <a:ext cx="5168880" cy="20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0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E2B0-EE48-4027-96D2-7245F9FBA311}" type="slidenum">
              <a:t>20</a:t>
            </a:fld>
          </a:p>
        </p:txBody>
      </p:sp>
    </p:spTree>
  </p:cSld>
  <p:transition>
    <p:comb dir="vert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V.MỘT VÀI ỨNG DỤ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1143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ả sử thị trường có 3 sản phẩ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285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1231920" y="1752480"/>
                <a:ext cx="382284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8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1244520" y="3124080"/>
                <a:ext cx="386100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1231920" y="4495680"/>
                <a:ext cx="383544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</m:sSub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C08A-990D-4BE8-ABF7-BA3CE93F4CE0}" type="slidenum">
              <a:t>21</a:t>
            </a:fld>
          </a:p>
        </p:txBody>
      </p:sp>
    </p:spTree>
  </p:cSld>
  <p:transition>
    <p:cover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V.MỘT VÀI ỨNG DỤ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1143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5.2.Mô hình cân đối liên ngành (I/O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285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1717560"/>
            <a:ext cx="9144000" cy="28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iả sử một quốc gia có nhiều ngành sản xuấ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ổng cầu ngành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- Cầu trung gian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ản phẩm dịch vụ hàng hoá ngành này là yếu tố đầu vào phục vụ ngành khách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- Cầu tiêu dùng và xuất khẩu (cầu cuối cùng)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phục vụ cho hộ gia đình, chính phù và xuất khẩu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27BC-4321-4DC9-A471-BFF23363D464}" type="slidenum">
              <a:t>22</a:t>
            </a:fld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V.MỘT VÀI ỨNG DỤ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285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1143000"/>
            <a:ext cx="9144000" cy="22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tổng cầu của ngành 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ịj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là giá trị sản phẩm hàng hóa, dịch vụ của ngành I mà ngành j làm yếu tố đầu và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giá trị sản phẩm hàng hóa dịch vụ ngành i cho tiêu dùng và xuất khẩu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32767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ổng cầu của ngành 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380880" y="3809880"/>
                <a:ext cx="3876840" cy="4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380880" y="4295880"/>
                <a:ext cx="5181840" cy="92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0" name=""/>
          <p:cNvSpPr/>
          <p:nvPr/>
        </p:nvSpPr>
        <p:spPr>
          <a:xfrm>
            <a:off x="0" y="451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911E-F65E-4FAD-8C7A-2462E932A357}" type="slidenum">
              <a:t>23</a:t>
            </a:fld>
          </a:p>
        </p:txBody>
      </p:sp>
    </p:spTree>
  </p:cSld>
  <p:transition>
    <p:blinds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V.MỘT VÀI ỨNG DỤ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3009960" y="1190520"/>
                <a:ext cx="5600520" cy="208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923760" y="1752480"/>
                <a:ext cx="1133640" cy="98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52280" y="3857760"/>
                <a:ext cx="5934240" cy="208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     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0" y="19954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Đặ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440B-84C5-41FF-BA71-9A7D2264DB1A}" type="slidenum">
              <a:t>24</a:t>
            </a:fld>
          </a:p>
        </p:txBody>
      </p:sp>
    </p:spTree>
  </p:cSld>
  <p:transition>
    <p:blinds dir="horz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V.MỘT VÀI ỨNG DỤ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52280" y="1219320"/>
                <a:ext cx="3611520" cy="18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4648320" y="1895400"/>
                <a:ext cx="224784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=&gt;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−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2" name=""/>
          <p:cNvSpPr/>
          <p:nvPr/>
        </p:nvSpPr>
        <p:spPr>
          <a:xfrm>
            <a:off x="0" y="3352680"/>
            <a:ext cx="9144000" cy="30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: ma trận hệ số kỹ thuật hay ma trận chi phí trực tiế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hệ số chi phí cho nhập lượng hay hệ số kỹ thuậ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òng i: giá trị sản phẩm ngành i bán cho mỗi ngàn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ột j: giá trị sản phẩm ngành j mua mỗi ngành để sử dụ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I-A] là ma trận Leontie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E07B-3DA1-4588-ADAC-6614F7BE4DEE}" type="slidenum">
              <a:t>25</a:t>
            </a:fld>
          </a:p>
        </p:txBody>
      </p:sp>
    </p:spTree>
  </p:cSld>
  <p:transition>
    <p:checker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V.MỘT VÀI ỨNG DỤ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52280" y="1219320"/>
                <a:ext cx="3611520" cy="18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4648320" y="1895400"/>
                <a:ext cx="224784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=&gt;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−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8" name=""/>
          <p:cNvSpPr/>
          <p:nvPr/>
        </p:nvSpPr>
        <p:spPr>
          <a:xfrm>
            <a:off x="0" y="3352680"/>
            <a:ext cx="9144000" cy="30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: ma trận hệ số kỹ thuật hay ma trận chi phí trực tiế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hệ số chi phí cho nhập lượng hay hệ số kỹ thuậ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òng i: giá trị sản phẩm ngành i bán cho mỗi ngàn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ột j: giá trị sản phẩm ngành j mua mỗi ngành để sử dụ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I-A] là ma trận Leontie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B591-A395-4689-A835-D933B9A5A8AD}" type="slidenum">
              <a:t>26</a:t>
            </a:fld>
          </a:p>
        </p:txBody>
      </p:sp>
    </p:spTree>
  </p:cSld>
  <p:transition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I. CÁC KHÁI NIỆM CƠ BẢ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17661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. Ma trận các hệ số: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3780000" y="1143000"/>
                <a:ext cx="3763800" cy="18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m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5" name=""/>
          <p:cNvSpPr/>
          <p:nvPr/>
        </p:nvSpPr>
        <p:spPr>
          <a:xfrm>
            <a:off x="0" y="30474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. Ma trận cột của ẩn và ma trận cột của hệ số tự do: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533520" y="3505320"/>
                <a:ext cx="4114800" cy="207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788000" y="3505320"/>
                <a:ext cx="4203720" cy="207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>
            <a:off x="0" y="56379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ệ phương trình (1) có thể viết: AX = B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39BB-45E9-4A8F-83FE-1565BA5E5EEF}" type="slidenum">
              <a:t>3</a:t>
            </a:fld>
          </a:p>
        </p:txBody>
      </p:sp>
    </p:spTree>
  </p:cSld>
  <p:transition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I. CÁC KHÁI NIỆM CƠ BẢ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11120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. Ma trận bổ sung: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297000" y="1625760"/>
                <a:ext cx="4579920" cy="210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mn</m:t>
                                  </m:r>
                                </m:sub>
                              </m:sSub>
                            </m:e>
                          </m:mr>
                        </m:m>
                      </m:e>
                      <m:e/>
                      <m:e>
                        <m:eqArr>
                          <m:e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  <m:e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  <m:e>
                            <m:r>
                              <m:t xml:space="preserve">|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  <m:e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e>
                        </m:eqArr>
                        <m:r>
                          <m:t xml:space="preserve">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EB57-435B-4350-89CD-848A61D52E91}" type="slidenum">
              <a:t>4</a:t>
            </a:fld>
          </a:p>
        </p:txBody>
      </p:sp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I. CÁC KHÁI NIỆM CƠ BẢ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1160640"/>
            <a:ext cx="9144000" cy="18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.2. Điều kiện tồn tại nghiệ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lý (Định lý Kronecker – Capelli)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ệ phương trình tuyến tính (1) có nghiệm khi và chỉ khi hạng của ma trận A bằng hạng của ma trận bổ sung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32140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Xác định tham số a để phương trình có nghiệ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1122480" y="3835440"/>
                <a:ext cx="2687400" cy="15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2655-C2A0-43C4-BFDF-84FABACCC2D4}" type="slidenum">
              <a:t>5</a:t>
            </a:fld>
          </a:p>
        </p:txBody>
      </p:sp>
    </p:spTree>
  </p:cSld>
  <p:transition>
    <p:blinds dir="ver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II.HỆ PHƯƠNG TRÌNH CRAME</a:t>
            </a: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115884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.1. Định nghĩa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ệ phương trình Crame là một hệ phương trình tuyến tính n phương trình, n ẩn và định thức của ma trận hệ số khác không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258876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.2. Định lý Crame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ệ phương trình Crame có nghiệm duy nhất tính bằng công thức X =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, tức là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806400" y="3657600"/>
                <a:ext cx="1860480" cy="95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et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et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0" name=""/>
          <p:cNvSpPr/>
          <p:nvPr/>
        </p:nvSpPr>
        <p:spPr>
          <a:xfrm>
            <a:off x="0" y="4739040"/>
            <a:ext cx="914400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ong đó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à ma trận thu được từ A bằng cách thay cột thứ j bằng cột các phần tử tự 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FB56-8CEC-4E53-AB4B-C628CD6C7BB7}" type="slidenum">
              <a:t>6</a:t>
            </a:fld>
          </a:p>
        </p:txBody>
      </p:sp>
    </p:spTree>
  </p:cSld>
  <p:transition>
    <p:comb dir="vert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II.HỆ PHƯƠNG TRÌNH CRA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12200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ải hệ phương trình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1163520" y="1746360"/>
                <a:ext cx="4399200" cy="15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</m:e>
                            <m:e/>
                            <m:e>
                              <m:r>
                                <m:t xml:space="preserve">2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</m:e>
                            <m:e>
                              <m:r>
                                <m:t xml:space="preserve">6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</m:e>
                            <m:e>
                              <m:r>
                                <m:t xml:space="preserve">6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30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</m:e>
                            <m:e>
                              <m:r>
                                <m:t xml:space="preserve">8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C6E2-1996-4874-84A5-A93F31B19BEB}" type="slidenum">
              <a:t>7</a:t>
            </a:fld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III.PHƯƠNG PHÁP GAU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80" y="1219320"/>
            <a:ext cx="91249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.1. Định nghĩa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ệ phương trình tuyến tính có số phương trình và số ẩn khác nhau hoặc định thức ma trận các hệ số bằng khô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.2. Phương pháp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ử dụng các phép toán sơ biến ma trận bổ sung về dạng ma trận bậc than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152280" y="3657600"/>
                <a:ext cx="4579920" cy="210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mn</m:t>
                                  </m:r>
                                </m:sub>
                              </m:sSub>
                            </m:e>
                          </m:mr>
                        </m:m>
                      </m:e>
                      <m:e/>
                      <m:e>
                        <m:eqArr>
                          <m:e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  <m:e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  <m:e>
                            <m:r>
                              <m:t xml:space="preserve">|</m:t>
                            </m:r>
                          </m:e>
                          <m:e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e>
                        </m:eqArr>
                        <m:r>
                          <m:t xml:space="preserve">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8103-230F-4948-8FA7-E188A8B6A2E1}" type="slidenum">
              <a:t>8</a:t>
            </a:fld>
          </a:p>
        </p:txBody>
      </p:sp>
    </p:spTree>
  </p:cSld>
  <p:transition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III.PHƯƠNG PHÁP GAU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" y="1142280"/>
            <a:ext cx="912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 = 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372960" y="1752480"/>
                <a:ext cx="4732560" cy="210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→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a</m:t>
                              </m:r>
                              <m:sSub>
                                <m:e>
                                  <m:r>
                                    <m:t xml:space="preserve">'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a</m:t>
                              </m:r>
                              <m:sSub>
                                <m:e>
                                  <m:r>
                                    <m:t xml:space="preserve">'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t xml:space="preserve">a</m:t>
                              </m:r>
                              <m:sSub>
                                <m:e>
                                  <m:r>
                                    <m:t xml:space="preserve">'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a</m:t>
                              </m:r>
                              <m:sSub>
                                <m:e>
                                  <m:r>
                                    <m:t xml:space="preserve">'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t xml:space="preserve">a</m:t>
                              </m:r>
                              <m:sSub>
                                <m:e>
                                  <m:r>
                                    <m:t xml:space="preserve">'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t xml:space="preserve">a</m:t>
                              </m:r>
                              <m:sSub>
                                <m:e>
                                  <m:r>
                                    <m:t xml:space="preserve">'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n</m:t>
                                  </m:r>
                                </m:sub>
                              </m:sSub>
                            </m:e>
                          </m:mr>
                        </m:m>
                      </m:e>
                      <m:e/>
                      <m:e>
                        <m:eqArr>
                          <m:e>
                            <m:r>
                              <m:t xml:space="preserve">|</m:t>
                            </m:r>
                            <m:r>
                              <m:t xml:space="preserve">b</m:t>
                            </m:r>
                            <m:sSub>
                              <m:e>
                                <m:r>
                                  <m:t xml:space="preserve">'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  <m:e>
                            <m:r>
                              <m:t xml:space="preserve">|</m:t>
                            </m:r>
                            <m:r>
                              <m:t xml:space="preserve">b</m:t>
                            </m:r>
                            <m:sSub>
                              <m:e>
                                <m:r>
                                  <m:t xml:space="preserve">'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  <m:e>
                            <m:r>
                              <m:t xml:space="preserve">|</m:t>
                            </m:r>
                          </m:e>
                          <m:e>
                            <m:r>
                              <m:t xml:space="preserve">|</m:t>
                            </m:r>
                            <m:r>
                              <m:t xml:space="preserve">b</m:t>
                            </m:r>
                            <m:sSub>
                              <m:e>
                                <m:r>
                                  <m:t xml:space="preserve">'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e>
                        </m:eqArr>
                        <m:r>
                          <m:t xml:space="preserve">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387360" y="4165560"/>
                <a:ext cx="5937120" cy="21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sSubSup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  <m:sup>
                                  <m:r>
                                    <m:t xml:space="preserve">'</m:t>
                                  </m:r>
                                </m:sup>
                              </m:sSubSup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</m:e>
                            <m:e>
                              <m:sSubSup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  <m:sup>
                                  <m:r>
                                    <m:t xml:space="preserve">'</m:t>
                                  </m:r>
                                </m:sup>
                              </m:sSubSup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Sup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  <m:sup>
                                  <m:r>
                                    <m:t xml:space="preserve">'</m:t>
                                  </m:r>
                                </m:sup>
                              </m:sSubSup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  <m:e/>
                            <m:e>
                              <m:r>
                                <m:t xml:space="preserve">b</m:t>
                              </m:r>
                              <m:sSub>
                                <m:e>
                                  <m:r>
                                    <m:t xml:space="preserve">'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/>
                            <m:e>
                              <m:sSubSup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  <m:sup>
                                  <m:r>
                                    <m:t xml:space="preserve">'</m:t>
                                  </m:r>
                                </m:sup>
                              </m:sSubSup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Sup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n</m:t>
                                  </m:r>
                                </m:sub>
                                <m:sup>
                                  <m:r>
                                    <m:t xml:space="preserve">'</m:t>
                                  </m:r>
                                </m:sup>
                              </m:sSubSup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  <m:e/>
                            <m:e>
                              <m:r>
                                <m:t xml:space="preserve">b</m:t>
                              </m:r>
                              <m:sSub>
                                <m:e>
                                  <m:r>
                                    <m:t xml:space="preserve">'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/>
                            <m:e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Sup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n</m:t>
                                  </m:r>
                                </m:sub>
                                <m:sup>
                                  <m:r>
                                    <m:t xml:space="preserve">'</m:t>
                                  </m:r>
                                </m:sup>
                              </m:sSubSup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  <m:e/>
                            <m:e>
                              <m:r>
                                <m:t xml:space="preserve">b</m:t>
                              </m:r>
                              <m:sSub>
                                <m:e>
                                  <m:r>
                                    <m:t xml:space="preserve">'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9F3E-A267-4FB2-A3F1-11370BD4B83E}" type="slidenum">
              <a:t>9</a:t>
            </a:fld>
          </a:p>
        </p:txBody>
      </p:sp>
    </p:spTree>
  </p:cSld>
  <p:transition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9T13:32:52Z</dcterms:created>
  <dc:creator>Acer</dc:creator>
  <dc:description/>
  <dc:language>en-US</dc:language>
  <cp:lastModifiedBy>Acer</cp:lastModifiedBy>
  <dcterms:modified xsi:type="dcterms:W3CDTF">2009-09-15T05:13:04Z</dcterms:modified>
  <cp:revision>438</cp:revision>
  <dc:subject/>
  <dc:title>Nguyên lý thống kê</dc:title>
</cp:coreProperties>
</file>