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80A-FE55-4AFC-86F8-2F5B5F48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580C-AD64-4787-9F89-A50F8A8C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F20-1897-4369-924B-F603761B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C326-8DE2-4015-B236-8756ADC7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4D5-AB51-43C2-B7D9-1DEE89C0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F7F5-462B-4D94-A022-4BBEFA55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3EA-F39C-4FE5-AF1E-9B18EB60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CA6-D9B1-4EAE-8AAE-80FB1E51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E21-EDF9-4545-BDFE-3D14B0CE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51C-01EA-4CE2-B95B-0EDA267C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07D-93FE-405B-9A20-6F795F63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D94-51A5-4960-9973-F059AE01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DD20-E021-43F0-BD8C-9712C48115E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448B-878F-480E-A3D0-253AA411F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MỘT SỐ KHÁI NIỆM CƠ BẢ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1724760"/>
            <a:ext cx="883908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ông gian n chiều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bộ gồm n số thực được sắp xếp thứ tự, ký hiệu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) được gọi là một điểm n - chiều. Tập hợp các điểm n - chiều được ký hiệu là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{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i = 1,.. n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toạ độ thứ i của điểm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B77-40F6-4816-85DB-ECDA20CF1A33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714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riêng cấp ca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 hàm số f(x,y). Các đạo hàm riêng f’x, f’y được gọi là những đạo hàm riêng cấp 1. Các đạo hàm riêng của đạo hàm riêng cấp 1 nếu tồn tại được gọi là đạo hàm riêng cấp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1960" y="3103560"/>
                <a:ext cx="3695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357800" y="3090960"/>
                <a:ext cx="384480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x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79360" y="4194000"/>
                <a:ext cx="3846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449600" y="4194000"/>
                <a:ext cx="383544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y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5347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ta có định nghĩa đạo hàm riêng cấp 3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9767-46FB-4D8F-97E3-06EDB6B6E3CC}" type="slidenum">
              <a:t>10</a:t>
            </a:fld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61280" y="53190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1158120"/>
            <a:ext cx="89154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Schwarz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rong lân cận nào đó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tồn tại các đạo hàm riêng và liên tục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lý này cũng đúng cho các đạo hàm riêng cấp cao hơn của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760-736F-47F1-BAF6-1C28AE7AC150}" type="slidenum">
              <a:t>11</a:t>
            </a:fld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41920"/>
            <a:ext cx="9144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hợ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z = f(u,v) là các hàm số khả vi của u,v và các hàm số u = u(x,y), v = v(x,y) có các đạo hàm riêng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tồn tại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163520" y="3220920"/>
                <a:ext cx="276228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768920" y="3220920"/>
                <a:ext cx="2768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u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807000" y="281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1880" y="4419000"/>
            <a:ext cx="61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v, u = xy, v = x/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B056-7C9B-485A-970D-49E36BF613CA}" type="slidenum">
              <a:t>12</a:t>
            </a:fld>
          </a:p>
        </p:txBody>
      </p:sp>
    </p:spTree>
  </p:cSld>
  <p:transition>
    <p:cover dir="u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437600" y="50727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2114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ĐẠO HÀM HÀM 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824120"/>
            <a:ext cx="91440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1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tồn tại hàm y = f(x) sao cho F(x,f(x))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được gọi là hàm số ẩn từ phương trình F(x,y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86E-FBBD-4796-A73C-346D55F5B4E6}" type="slidenum">
              <a:t>13</a:t>
            </a:fld>
          </a:p>
        </p:txBody>
      </p:sp>
    </p:spTree>
  </p:cSld>
  <p:transition>
    <p:cover dir="l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440" y="115812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1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49160" y="1758960"/>
                <a:ext cx="12448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09080" y="2890440"/>
            <a:ext cx="515376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y’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xy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,y) = xy –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6F2-22CF-485E-9228-6D7024C4E508}" type="slidenum">
              <a:t>14</a:t>
            </a:fld>
          </a:p>
        </p:txBody>
      </p:sp>
    </p:spTree>
  </p:cSld>
  <p:transition>
    <p:cover dir="l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21932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 hàm số ẩn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phương trình F(x,y,z) = 0. Nếu tồn tại hàm số hai biến z = f(x,y) sao cho F(x,y,z) = 0, với mọi x, y thuộc miền xác định của f, thì f gọi là hàm ẩn từ phương trình F(x,y,z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440" y="3091680"/>
            <a:ext cx="549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ẩn 2 biế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62040" y="3763800"/>
                <a:ext cx="1414440" cy="9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68600" y="3695760"/>
                <a:ext cx="1400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948120" y="35316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800" y="4860720"/>
            <a:ext cx="6196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xyz = cos(x+y+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E47-BA16-472A-AC07-1475286683E0}" type="slidenum">
              <a:t>15</a:t>
            </a:fld>
          </a:p>
        </p:txBody>
      </p:sp>
    </p:spTree>
  </p:cSld>
  <p:transition>
    <p:cover dir="r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118728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1691280"/>
            <a:ext cx="906768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tự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(x,y) đạt cực đại (cực tiểu) tại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 tồn tại một lân cậ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M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F(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gọi chung là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6840" y="4037760"/>
            <a:ext cx="65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ủa hàm số 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4511160"/>
            <a:ext cx="9144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để có cực tr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ủa f và f có đạo hàm riêng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: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, f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DAB-AC29-4632-B985-3841D9BF06B9}" type="slidenum">
              <a:t>16</a:t>
            </a:fld>
          </a:p>
        </p:txBody>
      </p:sp>
    </p:spTree>
  </p:cSld>
  <p:transition>
    <p:cover dir="ru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61280" y="54190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11312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z = f(x,y). Tại những điểm thỏa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, ta gọi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x – 2y + 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05040" y="2162160"/>
                <a:ext cx="21718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50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866880" y="3305160"/>
                <a:ext cx="40100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sub>
                    </m:sSub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0" y="432828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AB5-C67F-4B1E-A09B-A0D0FEB0B97A}" type="slidenum">
              <a:t>17</a:t>
            </a:fld>
          </a:p>
        </p:txBody>
      </p:sp>
    </p:spTree>
  </p:cSld>
  <p:transition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08000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 Tại những điểm thỏa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, giả sử tại đó tồn tại các đạo hàm riêng cấp 2, đặ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có định thức Hess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867280" y="2057400"/>
                <a:ext cx="12477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2590920"/>
                <a:ext cx="742968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458712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80464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3x - 2y – 4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721-83C0-424F-97F5-480D481E8CDC}" type="slidenum">
              <a:t>18</a:t>
            </a:fld>
          </a:p>
        </p:txBody>
      </p:sp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264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ực trị của hàm số z = f(x,y) với điều kiện g(x,y) = c gọi là cực trị có điều kiệ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55800" y="3886200"/>
                <a:ext cx="29847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553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nhân tử Lagrange, điểm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ủa hệ trên gọi là điểm dừ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4552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cực trị có điều kiện trê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hàm Lagrange: L(x,y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f(x,y)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(x,y)) với 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g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ông đồng thời bằng 0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1A3-C4C3-4C88-A2EE-F32F99177FB1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1312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hoảng cách 2 điể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 = (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065400" y="2038320"/>
                <a:ext cx="32590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76320" y="3330360"/>
            <a:ext cx="90676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ột số tính chất của 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; d(x,y) = 0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 =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d(x,y) = d(y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d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(x,z) + d (z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395-3D1B-459E-8F8A-F1F33831EF14}" type="slidenum">
              <a:t>2</a:t>
            </a:fld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iểm dừng của z(x,y), với điều kiện x + y =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676520"/>
                <a:ext cx="24130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2194920"/>
            <a:ext cx="914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c. Hàm Lagrang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L = f + </a:t>
            </a:r>
            <a:r>
              <a:rPr b="0" lang="en-US" sz="2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c-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24280" y="3305160"/>
                <a:ext cx="2790720" cy="26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g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A96-1829-4290-81DC-EE36B5B16391}" type="slidenum">
              <a:t>20</a:t>
            </a:fld>
          </a:p>
        </p:txBody>
      </p:sp>
    </p:spTree>
  </p:cSld>
  <p:transition>
    <p:newsflash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1570320"/>
            <a:ext cx="8839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, g có đạo hàm riêng cấp hai liên tục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803680" y="2467080"/>
                <a:ext cx="293688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419112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gt;0: f đạt cực đại có điều kiệ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|&lt;0: f đạt cực đại có điều kiệ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257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có điều kiệ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6 – 4x – 3y 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để có cực trị có điều kiệ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F66-4C42-462B-A458-B2441111BEAC}" type="slidenum">
              <a:t>21</a:t>
            </a:fld>
          </a:p>
        </p:txBody>
      </p:sp>
    </p:spTree>
  </p:cSld>
  <p:transition>
    <p:push dir="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052640"/>
            <a:ext cx="914400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ở rộng hàm n biến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ét hàm số f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với điều kiện g(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…x</a:t>
            </a:r>
            <a:r>
              <a:rPr b="0" lang="en-US" sz="2800" spc="-1" strike="noStrike" baseline="-25000">
                <a:solidFill>
                  <a:srgbClr val="292929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) = c. 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m Lagrange: L = f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-g). Xét tại điểm dừng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a xét định thức Hessian đó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066760" y="2514600"/>
                <a:ext cx="44863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5196600"/>
            <a:ext cx="914400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tiể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, 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lt;0,…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&gt;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z đạt cực đ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4E0-43CD-4736-B1A8-BDA486F29F7E}" type="slidenum">
              <a:t>22</a:t>
            </a:fld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284960" y="54093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0" y="121896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ực trị hàm số u = x – 2y + 2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ới điều kiện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341-2156-48A5-828F-9D65DAF969A7}" type="slidenum">
              <a:t>23</a:t>
            </a:fld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89080"/>
            <a:ext cx="87631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biê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biên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mọi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ều chứa ít nhất các điểm x, y: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Tập hợp mọi điểm biên của D được gọi là biên của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108360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ân c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số r &gt; 0. Tập S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) = {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(x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r} được gọi là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2042280"/>
            <a:ext cx="87627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ểm tro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điểm trong của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 chứa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đó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5000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ập mở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biên của D không thuộc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C69-274D-4FE2-8051-F5F42CF7ABA5}" type="slidenum">
              <a:t>3</a:t>
            </a:fld>
          </a:p>
        </p:txBody>
      </p:sp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114264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2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được gọi là hàm số 2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068720" y="1676520"/>
                <a:ext cx="30942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76320" y="206892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miền xác đị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D) = {z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: z = f(x,y)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,y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} gọi là miền giá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6840" y="3195360"/>
            <a:ext cx="427284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iền xác đị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2x – 3y +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ln(x + y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908600" y="3683160"/>
                <a:ext cx="2209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76320" y="4844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n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ột ánh xạ f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được gọi là hàm số n biến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504800" y="5829480"/>
                <a:ext cx="52390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↦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BF0-1539-4437-9BEF-C8AD02B3C25D}" type="slidenum">
              <a:t>4</a:t>
            </a:fld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GIỚI HẠN VÀ TÍNH LIÊN TỤC CỦA HÀM S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61400"/>
            <a:ext cx="9067680" cy="20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ới hạn hàm số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f(x,y) xác định tại lân cậ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có thể  không xác định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Số thực L được gọi là giới hạn của f khi M(x,y) tiến đến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0: d(M,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M) – L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744560" y="3975120"/>
                <a:ext cx="4808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,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-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-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8600" y="4971960"/>
                <a:ext cx="21844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M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717640" y="4986360"/>
                <a:ext cx="33339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426360" y="4927680"/>
                <a:ext cx="23047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limLow>
                      <m:e>
                        <m:eqArr>
                          <m:e>
                            <m:r>
                              <m:t xml:space="preserve">x</m:t>
                            </m:r>
                            <m:r>
                              <m:t xml:space="preserve">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eqArr>
                      </m:e>
                      <m:lim>
                        <m:r>
                          <m:t xml:space="preserve">y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EAF-FE6E-4196-A52E-B483ECE1F5B4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6600"/>
            <a:ext cx="906768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ái niệm vô hạn cũng được định nghĩa tương tự như đối với hàm số một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ác định lý về giới hạn của tổng, tích, thương đối với hàm số một biến cũng đúng cho hàm số nhiều biế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720240"/>
            <a:ext cx="27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562720" y="3551400"/>
                <a:ext cx="30477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219320" y="3492360"/>
                <a:ext cx="3530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r>
                          <m:t xml:space="preserve">0,0</m:t>
                        </m:r>
                        <m:r>
                          <m:t xml:space="preserve">)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30B-1931-480A-80DA-5C7C7FBCEBA9}" type="slidenum">
              <a:t>6</a:t>
            </a:fld>
          </a:p>
        </p:txBody>
      </p:sp>
    </p:spTree>
  </p:cSld>
  <p:transition>
    <p:checker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320" y="1112760"/>
            <a:ext cx="871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ên tục của hà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 được gọi là liên tục tại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nế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073240" y="1735200"/>
                <a:ext cx="44038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2543040"/>
            <a:ext cx="884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(x,y) liên tục trên một tập đóng và bị chặn trên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ồn tại số M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f(x,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đạt giá trị lớn nhất và nhỏ nhất trê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495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ương tự ta có thể định nghĩa giới hạn và sự liên tục của hàm số đối với hàm n biến (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≥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543B-2A11-467A-8BA9-AE2CD40A6C8C}" type="slidenum">
              <a:t>7</a:t>
            </a:fld>
          </a:p>
        </p:txBody>
      </p:sp>
    </p:spTree>
  </p:cSld>
  <p:transition>
    <p:comb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1219320"/>
            <a:ext cx="8763120" cy="45972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ĐẠO HÀM RIÊ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40240"/>
            <a:ext cx="88390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z = f(x,y) xác định trong miền D,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. Nếu cho y =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 hằng số, hàm số một biến f(x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có đạo hàm tại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được gọi là đạo hàm riêng của f đối với x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544760" y="3657600"/>
                <a:ext cx="50338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f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z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4618080"/>
            <a:ext cx="906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 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-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 Số gia riêng của f tại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903400" y="5389560"/>
                <a:ext cx="22021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 f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404-3315-414E-9500-07C7661CA255}" type="slidenum">
              <a:t>8</a:t>
            </a:fld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3. HÀM NHIỀU BIẾ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0504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ịnh nghĩa đạo hàm riêng của f theo biến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830680" y="1620720"/>
                <a:ext cx="209232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y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f</m:t>
                        </m:r>
                      </m:num>
                      <m:den>
                        <m:r>
                          <m:t xml:space="preserve">Δ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2666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 ta cũng có đạo hàm riêng đối với hàm n biến số (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6320" y="3733200"/>
            <a:ext cx="86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các đạo hàm riê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08240" y="4309920"/>
                <a:ext cx="31874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405080" y="5021280"/>
                <a:ext cx="944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y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26A-D84D-459F-98C9-DDD76B0767D4}" type="slidenum">
              <a:t>9</a:t>
            </a:fld>
          </a:p>
        </p:txBody>
      </p:sp>
    </p:spTree>
  </p:cSld>
  <p:transition>
    <p:cover dir="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m</cp:lastModifiedBy>
  <dcterms:modified xsi:type="dcterms:W3CDTF">2009-11-08T13:28:05Z</dcterms:modified>
  <cp:revision>788</cp:revision>
  <dc:subject/>
  <dc:title>Nguyên lý thống kê</dc:title>
</cp:coreProperties>
</file>