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AA7D-C53C-43E3-BAA0-520AB27A7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7D55-F1CC-4364-A627-F380D133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89C6-67AE-4FE8-87F4-F8C6AE86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8FF0-410A-47C6-AB70-F892A5439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1432-7CF5-4006-BB41-EFBB6035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31D3-7CCB-48A9-A655-843015EE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76FE-8763-48A1-A07E-42B3AA56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FE2D-4C6D-4898-8AD4-F05CF2E3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EEE6-432B-4C4A-BEFE-002E62F5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9F5C-6DDF-4AD0-BB49-2BDF340C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F457-2CBB-461A-A21B-A176390A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E6A0-EC9A-42B4-B754-D827E7F1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E069-E198-4C53-8C54-DFB8A423F76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A4E9-0125-4E7A-876D-D03884380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1. MA TRẬN -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057400" y="1523880"/>
            <a:ext cx="4724280" cy="685800"/>
            <a:chOff x="2057400" y="1523880"/>
            <a:chExt cx="4724280" cy="685800"/>
          </a:xfrm>
        </p:grpSpPr>
        <p:sp>
          <p:nvSpPr>
            <p:cNvPr id="43" name=""/>
            <p:cNvSpPr/>
            <p:nvPr/>
          </p:nvSpPr>
          <p:spPr>
            <a:xfrm>
              <a:off x="2438280" y="1643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57400" y="15238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666880" y="16984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a trậ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95360" y="1622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2362320" y="2286000"/>
            <a:ext cx="4724280" cy="685800"/>
            <a:chOff x="2362320" y="2286000"/>
            <a:chExt cx="4724280" cy="685800"/>
          </a:xfrm>
        </p:grpSpPr>
        <p:sp>
          <p:nvSpPr>
            <p:cNvPr id="48" name=""/>
            <p:cNvSpPr/>
            <p:nvPr/>
          </p:nvSpPr>
          <p:spPr>
            <a:xfrm>
              <a:off x="2743200" y="24051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362320" y="228600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71800" y="246060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Định thứ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600280" y="23846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666880" y="3048120"/>
            <a:ext cx="4724280" cy="685800"/>
            <a:chOff x="2666880" y="3048120"/>
            <a:chExt cx="4724280" cy="685800"/>
          </a:xfrm>
        </p:grpSpPr>
        <p:sp>
          <p:nvSpPr>
            <p:cNvPr id="53" name=""/>
            <p:cNvSpPr/>
            <p:nvPr/>
          </p:nvSpPr>
          <p:spPr>
            <a:xfrm>
              <a:off x="3047760" y="3167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66880" y="304812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32227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a trận nghịc đ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04840" y="31467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895480" y="3809880"/>
            <a:ext cx="4724280" cy="685800"/>
            <a:chOff x="2895480" y="3809880"/>
            <a:chExt cx="4724280" cy="685800"/>
          </a:xfrm>
        </p:grpSpPr>
        <p:sp>
          <p:nvSpPr>
            <p:cNvPr id="58" name=""/>
            <p:cNvSpPr/>
            <p:nvPr/>
          </p:nvSpPr>
          <p:spPr>
            <a:xfrm>
              <a:off x="3276360" y="3929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95480" y="38098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4960" y="39844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ạng của ma trậ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33440" y="3908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12AE-0F86-46A1-8296-A383A7DC42D5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6600" y="1142280"/>
            <a:ext cx="51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2.3. Phép nhân hai ma trậ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646280"/>
            <a:ext cx="876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 Định nghĩa 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A=[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p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; B=[b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k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p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=&gt; C=[c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63600" y="2305080"/>
                <a:ext cx="58849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1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2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j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87360" y="4110120"/>
                <a:ext cx="4489560" cy="15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52280" y="335268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tích 2 ma trận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F61B-468C-4AAC-8126-8FED3ED8C306}" type="slidenum">
              <a:t>10</a:t>
            </a:fld>
          </a:p>
        </p:txBody>
      </p:sp>
    </p:spTree>
  </p:cSld>
  <p:transition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1176480"/>
            <a:ext cx="8610480" cy="39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Một số tính chấ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.B).C = A.(B.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(B+C) = AB + 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+C)A = BA +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(BC) = (kB)C = B(k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ép nhân nói chung không có tính giao ho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&gt; I.A = A.I =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AAF6-7A66-492B-A5ED-F0EE58DC4404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3. VÍ D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7218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lượng hàng bán trong hai thá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80880" y="2438280"/>
          <a:ext cx="3713400" cy="1552680"/>
        </p:xfrm>
        <a:graphic>
          <a:graphicData uri="http://schemas.openxmlformats.org/drawingml/2006/table">
            <a:tbl>
              <a:tblPr/>
              <a:tblGrid>
                <a:gridCol w="1549440"/>
                <a:gridCol w="581040"/>
                <a:gridCol w="42084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áng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049720" y="2438280"/>
          <a:ext cx="3713040" cy="1552680"/>
        </p:xfrm>
        <a:graphic>
          <a:graphicData uri="http://schemas.openxmlformats.org/drawingml/2006/table">
            <a:tbl>
              <a:tblPr/>
              <a:tblGrid>
                <a:gridCol w="1549440"/>
                <a:gridCol w="581040"/>
                <a:gridCol w="42048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áng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9FEF-3516-4B89-8ADB-EF4602906FC7}" type="slidenum">
              <a:t>12</a:t>
            </a:fld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118692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ãy tính nhu cầu vật tư cho từng phân xưởng theo kế hoạch sản xuất cho bởi 2 bảng số liệu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04920" y="2289240"/>
          <a:ext cx="3047760" cy="2587680"/>
        </p:xfrm>
        <a:graphic>
          <a:graphicData uri="http://schemas.openxmlformats.org/drawingml/2006/table">
            <a:tbl>
              <a:tblPr/>
              <a:tblGrid>
                <a:gridCol w="1230120"/>
                <a:gridCol w="598680"/>
                <a:gridCol w="609480"/>
                <a:gridCol w="60948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â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ưở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ản phẩ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X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X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X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733920" y="2286000"/>
          <a:ext cx="5181480" cy="2587680"/>
        </p:xfrm>
        <a:graphic>
          <a:graphicData uri="http://schemas.openxmlformats.org/drawingml/2006/table">
            <a:tbl>
              <a:tblPr/>
              <a:tblGrid>
                <a:gridCol w="1076400"/>
                <a:gridCol w="817560"/>
                <a:gridCol w="817560"/>
                <a:gridCol w="817560"/>
                <a:gridCol w="817560"/>
                <a:gridCol w="83484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ả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ẩ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ật liệ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E71F-617E-4AF0-AA3A-844DB3F7C348}" type="slidenum">
              <a:t>13</a:t>
            </a:fld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1. CÁC ĐỊNH NGHĨ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2360" y="2832840"/>
            <a:ext cx="44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là ma trận vuông cấp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1880" y="1721160"/>
            <a:ext cx="48337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700"/>
              </a:spcBef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là ma trận vuông cấp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 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thì det(A)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41440" y="3424320"/>
                <a:ext cx="235404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235800" y="4511520"/>
            <a:ext cx="4252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ì det(A) =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3091-C862-49C4-AD3D-0A23EFAB8DE6}" type="slidenum">
              <a:t>14</a:t>
            </a:fld>
          </a:p>
        </p:txBody>
      </p:sp>
    </p:spTree>
  </p:cSld>
  <p:transition>
    <p:zoom dir="ou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3520" y="1676520"/>
                <a:ext cx="389088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52280" y="3886200"/>
            <a:ext cx="8763120" cy="15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ma trận con cấp n-1 nhận được từ A bằng cách xoá hàng i cột 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i+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là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hần bù đại s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ủa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11574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là ma trận vuông cấp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51D8-08E3-47A6-AB84-F337C25C279B}" type="slidenum">
              <a:t>15</a:t>
            </a:fld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3360" y="3421800"/>
            <a:ext cx="75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ử dụng định nghĩa hãy tính định thứ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68280" y="4038480"/>
                <a:ext cx="2527200" cy="15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279720" y="1143360"/>
            <a:ext cx="5860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ịnh thức cấp n của A là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(A) =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…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85840" y="2166840"/>
                <a:ext cx="603864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C9B7-EFBD-485F-86D5-EF7C37042A4C}" type="slidenum">
              <a:t>16</a:t>
            </a:fld>
          </a:p>
        </p:txBody>
      </p:sp>
    </p:spTree>
  </p:cSld>
  <p:transition>
    <p:cover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2. TÍNH CHẤT CỦA ĐỊNH THỨC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9480" y="1766160"/>
            <a:ext cx="38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1: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236052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ệ quả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tính chất đã đúng khi phát biểu về hàng của một định thức thì nó vẫn còn đúng khi trong phát biểu ta thay hàng bằng cộ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7080" y="3809880"/>
            <a:ext cx="878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ổi chỗ hai hàng (hay hai cột) của một định thức ta được một định thức mới bằng định thức cũ đổi dấ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6706-E38A-4138-9222-E84DE53D0747}" type="slidenum">
              <a:t>17</a:t>
            </a:fld>
          </a:p>
        </p:txBody>
      </p:sp>
    </p:spTree>
  </p:cSld>
  <p:transition>
    <p:checker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115704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định thức có hai hàng (hay hai cột) như nhau thì bằng khô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205704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4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định thức có một hàng (hay một cột) toàn là số không thì bằng khô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297144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5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i nhân các phần tử của một hàng (hay một cột) với cùng một số k thì được một định thức mới bằng định thức cũ nhân với 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434160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ệ quả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i các phần tử của một hàng (hay một cột) có một thừa số chung, ta có thể đưa thừa số chung đó ra ngoài định thứ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6218-C7C7-44CB-B0BD-E54EA462FB2D}" type="slidenum">
              <a:t>18</a:t>
            </a:fld>
          </a:p>
        </p:txBody>
      </p:sp>
    </p:spTree>
  </p:cSld>
  <p:transition>
    <p:zoom dir="ou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2101320"/>
            <a:ext cx="8839440" cy="11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7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òng thứ i nào đó có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”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ì det(A) = det(A’) + det(A”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51000" y="3352680"/>
                <a:ext cx="3992400" cy="30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,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,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,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n</m:t>
                                      </m:r>
                                    </m:sub>
                                    <m:sup>
                                      <m:r>
                                        <m:t xml:space="preserve">,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389480" y="3352680"/>
                <a:ext cx="3992400" cy="30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} } = left [ matrix {
a rSub { size 8{</m:t>
                        </m:r>
                        <m: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} }  {} # a rSub { size 8{</m:t>
                        </m:r>
                        <m: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} }  {} #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{} # a rSub { size 8{1n} }  {} ##
a rSub { size 8{</m:t>
                        </m:r>
                        <m: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} }  {} # a rSub { size 8{</m:t>
                        </m:r>
                        <m: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} }  {} #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{} # a rSub { size 8{2n} }  {} ##
alignl { stack {
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{} # 
a rSub { size 8{i1} }  rSup { size 8{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 {} # 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
} }  {} # alignl { stack {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# 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# 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
} }  {} # alignl { stack {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# 
a rSub { size 8{ ital </m:t>
                            </m:r>
                            <m:r>
                              <m:t xml:space="preserve">∈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 rSup { size 8{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184320" y="1186920"/>
            <a:ext cx="880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6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định thức có hai hàng (hay hai cột) tỷ lệ thì bằng khô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125A-8D2F-48D7-B147-D055E9299F34}" type="slidenum">
              <a:t>19</a:t>
            </a:fld>
          </a:p>
        </p:txBody>
      </p:sp>
    </p:spTree>
  </p:cSld>
  <p:transition>
    <p:cover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121932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1. CÁC ĐỊNH NGHĨ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175248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1.1. Định nghĩa ma trận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bảng số chữ nhật có m hàng và n cột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ọi là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ma trận cấp m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04920" y="2825640"/>
                <a:ext cx="4029120" cy="20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228600" y="5073480"/>
            <a:ext cx="86868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là phần tử của ma trận A ở hàng i cột j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= [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= (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7F03-CAEE-4701-BE93-FAAC71B7B03E}" type="slidenum">
              <a:t>2</a:t>
            </a:fld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121752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8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định thức có một hàng là tổ hợp tuyến tính của các hàng khác thì định thức ấy bằng khô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259056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9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i ta công bội k của một hàng vào một hàng khác thì được một định thức mới bằng định thức c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17520" y="4038480"/>
                <a:ext cx="27306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57E8-4857-4741-858B-E056BE013AF3}" type="slidenum">
              <a:t>20</a:t>
            </a:fld>
          </a:p>
        </p:txBody>
      </p:sp>
    </p:spTree>
  </p:cSld>
  <p:transition>
    <p:zoom dir="ou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109656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10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ác định thức của ma trận tam giá bằng tích các phần tử ché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41440" y="2065320"/>
                <a:ext cx="5097240" cy="20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33520" y="4267080"/>
                <a:ext cx="5214960" cy="20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3147-0EBB-4B48-9687-BDD6C4DB14C2}" type="slidenum">
              <a:t>21</a:t>
            </a:fld>
          </a:p>
        </p:txBody>
      </p:sp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3. CÁC PHƯƠNG PHÁP TÍNH ĐỊNH THỨC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6240" y="1766160"/>
            <a:ext cx="60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hương pháp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ùng định nghĩ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1280" y="2375640"/>
            <a:ext cx="801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hương pháp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ử dụng các biến đổi sơ cấ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06200" y="3200400"/>
          <a:ext cx="8885520" cy="2286000"/>
        </p:xfrm>
        <a:graphic>
          <a:graphicData uri="http://schemas.openxmlformats.org/drawingml/2006/table">
            <a:tbl>
              <a:tblPr/>
              <a:tblGrid>
                <a:gridCol w="4613400"/>
                <a:gridCol w="3208320"/>
                <a:gridCol w="106380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ến đổi sơ cấ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ác dụ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ý 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hân một hàng với một số k≠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Định thức nhân với 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Đổi chỗ hai hà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Định thức đổi dấ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ộng k lần hàng r vào hàng 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Định thức không đổ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DD32-4438-4EFA-88FC-47AF34793FB5}" type="slidenum">
              <a:t>22</a:t>
            </a:fld>
          </a:p>
        </p:txBody>
      </p:sp>
    </p:spTree>
  </p:cSld>
  <p:transition>
    <p:zoom dir="ou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04920" y="1846440"/>
                <a:ext cx="3281400" cy="20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155520" y="126468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định thức bằng hai phương phá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3CA5-54EA-4107-B591-277171D394B0}" type="slidenum">
              <a:t>23</a:t>
            </a:fld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2280" y="1186920"/>
            <a:ext cx="88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1. Ma trận không suy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a gọi ma trận vuông A cấp n là một ma trận không suy biến nếu det(A) ≠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2200680"/>
            <a:ext cx="883944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2. Ma trận nghịch đả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ma trận vuông A cấp n, nếu tồn tại ma trận vuông B cấp n thoả mãn: AB = BA = I thì B được gọi là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 trận nghịch đả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ủa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A có ma trận nghịch đảo thì A gọi là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 trận khả nghị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ý hiệu: B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ghĩa là ta có A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5103360"/>
            <a:ext cx="87631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3. Sự duy nhất của ma trận nghịch đ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A khả nghịch thì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duy nhấ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4D7A-98E7-4488-B8C0-1A42A5D8C29E}" type="slidenum">
              <a:t>24</a:t>
            </a:fld>
          </a:p>
        </p:txBody>
      </p:sp>
    </p:spTree>
  </p:cSld>
  <p:transition>
    <p:comb dir="horz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520" y="121860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4. Sự tồn tại và biểu thức ma trận nghịch đả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17521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det(A)≠0 thì ma trận A có nghịch đảo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ược tính bởi công thức sau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04920" y="2901960"/>
                <a:ext cx="597528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228600" y="5119920"/>
            <a:ext cx="8763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đó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phần bù đại số của phần tử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ma trận chuyển vị của ma trận phần bù đại s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A6E3-604D-4CC4-8D52-C23C80130DAA}" type="slidenum">
              <a:t>25</a:t>
            </a:fld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8400" y="1142280"/>
            <a:ext cx="744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5. Phương pháp tìm ma trận nghịch đảo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8760" y="1675800"/>
            <a:ext cx="64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5.1. Phương pháp dùng định thức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47760" y="2216160"/>
                <a:ext cx="597672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68280" y="4800600"/>
                <a:ext cx="2679840" cy="15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154080" y="4266360"/>
            <a:ext cx="70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ma trận nghịch đảo của ma trậ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AF80-E2B8-4532-9E3E-847187CAFA95}" type="slidenum">
              <a:t>26</a:t>
            </a:fld>
          </a:p>
        </p:txBody>
      </p:sp>
    </p:spTree>
  </p:cSld>
  <p:transition>
    <p:comb dir="ver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1114200"/>
            <a:ext cx="8839440" cy="44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5.1. Phương pháp dùng phép biến đổi sơ cấp của Gauss - Jord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hân một dòng nào đó của ma trận với một số thực khác kh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ộng vào một dòng của ma trận một dòng khác đã nhân với một số thự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Đổi chỗ hai dòng của ma trận cho nh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ể tìm ma trận nghịch đảo dùng các phép biến đổi sơ cấp sau cho: [A│I] = [I│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0482-26DB-415D-8F7C-DCFABA025E67}" type="slidenum">
              <a:t>27</a:t>
            </a:fld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4080" y="1188360"/>
            <a:ext cx="510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ma trận nghịch đả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76200" y="1747800"/>
                <a:ext cx="2214720" cy="15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A573-827F-43F1-BCAC-EDAB5D054E08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1156320"/>
            <a:ext cx="8763120" cy="32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1. Ma trận con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 trận A cấp m x n, gọi p là một số nguyên dương, p&lt;min(m,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 trận vuông cấp p suy ra từ A bằng cách bỏ đi m-p hàng và n-p cột gọi là ma trận con cấp p của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ịnh thức của ma trận con đó gọi là định thức con cấp p của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4440" y="4433040"/>
            <a:ext cx="484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ác ma trận c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22200" y="4952880"/>
                <a:ext cx="3487680" cy="15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EF97-E101-45C6-9452-CF92ABFE6E7F}" type="slidenum">
              <a:t>29</a:t>
            </a:fld>
          </a:p>
        </p:txBody>
      </p:sp>
    </p:spTree>
  </p:cSld>
  <p:transition>
    <p:checker dir="horz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1.2. Ma trận vuô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16441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Ma trận vuông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Khi m = n , gọi là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ma trận vuông cấp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20560" y="2595600"/>
                <a:ext cx="3899160" cy="20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152280" y="4692960"/>
            <a:ext cx="87631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ược gọi là các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hần tử ché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ường thẳng xuyên qua các phần tử chéo gọi là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đường chéo chín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1A35-82FA-47B6-AE4F-5D9FC4BF273C}" type="slidenum">
              <a:t>3</a:t>
            </a:fld>
          </a:p>
        </p:txBody>
      </p:sp>
    </p:spTree>
  </p:cSld>
  <p:transition>
    <p:checke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5880" y="1142280"/>
            <a:ext cx="40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2. Hạng của ma trậ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161424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ạng của ma trận A là cấp cao nhất của định thức con khác không của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2586240"/>
            <a:ext cx="876312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ếu r là hạng của ma trận nế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A tồn tại một định con cấp r khác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ọi định thức con cấp lớn hơn r trong ma trận A đều bằng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ý hiệu: rankA =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1120" y="5409360"/>
            <a:ext cx="32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hạng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751200" y="4952880"/>
                <a:ext cx="3487680" cy="15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BB66-3507-44BD-AF47-13FF6FF2A667}" type="slidenum">
              <a:t>30</a:t>
            </a:fld>
          </a:p>
        </p:txBody>
      </p:sp>
    </p:spTree>
  </p:cSld>
  <p:transition>
    <p:checker dir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6240" y="1156680"/>
            <a:ext cx="413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 Ma trận bậc thang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1670400"/>
            <a:ext cx="8763120" cy="34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1. Định nghĩ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dòng của ma trận được gọi là dòng 0 nếu nó chỉ gồm những phần tử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gược lại, nếu một dòng của ma trận có ít nhất một phần tử khác 0 thì được gọi là dòng khác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ần tử khác 0 đầu tiên của một dòng được gọi là phần tử chính của dòng đ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7D51-3744-4EF8-9FCF-8EBDF3D52415}" type="slidenum">
              <a:t>31</a:t>
            </a:fld>
          </a:p>
        </p:txBody>
      </p:sp>
    </p:spTree>
  </p:cSld>
  <p:transition>
    <p:comb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1215360"/>
            <a:ext cx="8763120" cy="33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 trận A được gọi là ma trận bậc thang khi thoả các điều kiện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hông có dòng 0 hoặc dòng 0 luôn ở dưới các dòng khác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A có ít nhất 2 dòng khác 0 thì đối với 2 dòng khác 0 tuỳ ý của A, phần tử chính của dòng dưới luôn nằm bên phải cột chứa phần tử chính của dòng trê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58760" y="4572000"/>
                <a:ext cx="2441520" cy="17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709720" y="5029200"/>
                <a:ext cx="193860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743360" y="4800600"/>
                <a:ext cx="196236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811920" y="4800600"/>
                <a:ext cx="19512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60A3-6D27-4458-97C2-1321CD82DDE8}" type="slidenum">
              <a:t>32</a:t>
            </a:fld>
          </a:p>
        </p:txBody>
      </p:sp>
    </p:spTree>
  </p:cSld>
  <p:transition>
    <p:cover dir="l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1215360"/>
            <a:ext cx="8839440" cy="33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2. Định lý về hạng của ma trậ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ho A, B là hai ma trận cùng cấp. Nếu B là ma trận nhận được từ A sau một số hữu hạn các phép biến đổi sơ cấp thì rankA = rank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ệ quả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ạng của ma trận A bằng số dòng khác không của ma trận dạng bậc thang thu được từ A sau một số hữu hạn các phép biến đổi sơ cấ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BC3C-A9E1-4E68-B9CA-5276ABA27C7E}" type="slidenum">
              <a:t>33</a:t>
            </a:fld>
          </a:p>
        </p:txBody>
      </p:sp>
    </p:spTree>
  </p:cSld>
  <p:transition>
    <p:comb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117756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3. Thuật toán đưa một ma trận về ma trận dạng bậc thang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2159280"/>
            <a:ext cx="8839440" cy="24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ến đổi sao cho phần tử chính ở dòng một về vị trí cột đầu tiên so với p phần tử chính ở các dòng khá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ến đổi sao cho các phần tử nằm phía dưới phần tử chính của dòng đầu tiên đều bằng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àm tương tự đối với hàng 3, 4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42DD-2F54-403E-A4BE-E9C9E5BEDF7A}" type="slidenum">
              <a:t>34</a:t>
            </a:fld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0120" y="1142640"/>
            <a:ext cx="654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4.4. Các phương pháp tìm hạng ma trậ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9040" y="1599840"/>
            <a:ext cx="698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4.4.1. Phương pháp 1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Sử dụng định nghĩ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2102040"/>
            <a:ext cx="8915400" cy="41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ước 1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ính các định thức con cấp p cao nhất có trong 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ếu gặp một định thức khác 0 thì kết luận ngay rankA bằng cấp của định thức đ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ếu tất cả các định thức đều bằng 0 thì tiếp tục bước 2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ước 2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ính các định thức con cấp p-1 có trong 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ếu gặp một định thức khác 0 thì ta kết luận ngay rankA bằng cấp của định thức đ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ếu tất cả các định thức đều bằng 0 thì tiếp tục bước 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ước 3, 4,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ho đến khi tìm được ran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DB1B-BDC6-47AA-871E-F1BEE2128BDB}" type="slidenum">
              <a:t>35</a:t>
            </a:fld>
          </a:p>
        </p:txBody>
      </p:sp>
    </p:spTree>
  </p:cSld>
  <p:transition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1480" y="1220040"/>
            <a:ext cx="48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hạng của ma trậ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80880" y="1822320"/>
                <a:ext cx="364968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0C0C-DB3A-4E3A-A721-85A460A54E76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118692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4.2. Phương pháp 2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ử dụng các phép biến đổi sơ cấp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213336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ể tìm hạng của ma trận A ta biến đổi ma trận A về dạng bậc thang, số dòng khác dòng 0 là hạng của ma trận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73040" y="4108320"/>
                <a:ext cx="347652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155160" y="3504600"/>
            <a:ext cx="48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hạng của ma trậ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AB50-9D3C-49AA-963F-1101601E5E3E}" type="slidenum">
              <a:t>37</a:t>
            </a:fld>
          </a:p>
        </p:txBody>
      </p:sp>
    </p:spTree>
  </p:cSld>
  <p:transition>
    <p:checker dir="horz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111204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a trận tam giác trên: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j = 0 nếu i &gt;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23800" y="1682640"/>
                <a:ext cx="3819600" cy="20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489560" y="1679400"/>
                <a:ext cx="3816360" cy="205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/>
                            <m:e/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162720" y="3809160"/>
            <a:ext cx="66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 trận tam giác dưới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j = 0 nếu i &lt;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20560" y="4343400"/>
                <a:ext cx="389916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495680" y="4349880"/>
                <a:ext cx="389916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/>
                            <m:e/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/>
                            <m:e/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CB74-5563-4E36-A424-0912B30E0E2E}" type="slidenum">
              <a:t>4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7800" y="1142280"/>
            <a:ext cx="51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 trận chéo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j = 0 nếu i ≠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01560" y="1757520"/>
                <a:ext cx="3818160" cy="20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641840" y="1757520"/>
                <a:ext cx="3816360" cy="20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/>
                            <m:e/>
                            <m:e/>
                          </m:mr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/>
                            <m:e/>
                          </m:mr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/>
                            <m:e/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299160" y="3855960"/>
            <a:ext cx="7910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 trận đơn vị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= 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ới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;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≠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635040" y="4495680"/>
                <a:ext cx="2793960" cy="20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F657-A008-4944-8FB2-AE8656EF79CE}" type="slidenum">
              <a:t>5</a:t>
            </a:fld>
          </a:p>
        </p:txBody>
      </p:sp>
    </p:spTree>
  </p:cSld>
  <p:transition>
    <p:comb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1142280"/>
            <a:ext cx="86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1.3. Vectơ hàng(cột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 trận chỉ có một hàng(cộ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5880" y="1689840"/>
            <a:ext cx="38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1.4. Ma trận khô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47760" y="2362320"/>
                <a:ext cx="292896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205920" y="4433040"/>
            <a:ext cx="526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1.4. Ma trận bằng nhau: A=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0520" y="5002920"/>
            <a:ext cx="376488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A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B=[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ới mọi i,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B4B5-A1F6-49C6-BC43-923166A52141}" type="slidenum">
              <a:t>6</a:t>
            </a:fld>
          </a:p>
        </p:txBody>
      </p:sp>
    </p:spTree>
  </p:cSld>
  <p:transition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9280" y="1158840"/>
            <a:ext cx="810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1.5. Ma trận chuyển vị: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&gt;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 x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49200" y="1778040"/>
                <a:ext cx="422280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</m:e>
                          </m:mr>
                          <m:mr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219D-AFA7-4690-9305-7A66FBE0D566}" type="slidenum">
              <a:t>7</a:t>
            </a:fld>
          </a:p>
        </p:txBody>
      </p:sp>
    </p:spTree>
  </p:cSld>
  <p:transition>
    <p:checke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2. CÁC PHÉP TOÁN TRÊN MA TRẬ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2720" y="1751760"/>
            <a:ext cx="49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2.1. Phép cộng hai ma tr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6640" y="2255760"/>
            <a:ext cx="8396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 Định nghĩa: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=[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x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; B=[b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xn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+B 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x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14280" y="2997360"/>
                <a:ext cx="57056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356040" y="4085640"/>
            <a:ext cx="6653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Tính chấ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+ B = B +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 + B) + C = A + (B +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A =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ếu gọi -A = [-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thì ta có -A + A =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A708-8254-4960-8884-50D67A5425D7}" type="slidenum">
              <a:t>8</a:t>
            </a:fld>
          </a:p>
        </p:txBody>
      </p:sp>
    </p:spTree>
  </p:cSld>
  <p:transition>
    <p:comb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6600" y="1156680"/>
            <a:ext cx="64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2.2. Phép nhân một số với ma trậ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660320"/>
            <a:ext cx="876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 Định nghĩa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cho A=[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=&gt; kA=[k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11120" y="2508120"/>
                <a:ext cx="35514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154440" y="4243320"/>
            <a:ext cx="44280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2. Tính chất: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ho k, h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(A + B) = kA + k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 + h)A = kA + 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298620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ính 2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7F73-0322-434D-A15D-43FEE1017506}" type="slidenum">
              <a:t>9</a:t>
            </a:fld>
          </a:p>
        </p:txBody>
      </p:sp>
    </p:spTree>
  </p:cSld>
  <p:transition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3:32:52Z</dcterms:created>
  <dc:creator>Acer</dc:creator>
  <dc:description/>
  <dc:language>en-US</dc:language>
  <cp:lastModifiedBy>Acer</cp:lastModifiedBy>
  <dcterms:modified xsi:type="dcterms:W3CDTF">2009-09-14T04:24:24Z</dcterms:modified>
  <cp:revision>388</cp:revision>
  <dc:subject/>
  <dc:title>Nguyên lý thống kê</dc:title>
</cp:coreProperties>
</file>