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24D-31EE-4032-AA4C-F43A9722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614-E773-4039-AEFE-6B6DC8C9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DB3-9D78-4399-98C3-477581C4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FB8-E0D6-42DE-8463-752BE30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FB0-6C3D-4BC7-ABBE-1AC74D5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825-A003-45D2-BC95-4D055581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6FF-FDC2-431C-80EA-F57B6ABD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B5D-0DEC-43ED-8CF2-0DA9BF55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8925-9F4B-42D3-85C5-09FB8369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0DD-2396-4055-90D8-CE412AD1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023E-5F14-4FE6-8D06-2DBABAC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CEE-C13E-4EF5-8482-4C5CBC3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C98-14AF-4F99-8A64-83906BEE9B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C46B-8718-4488-9B41-755B1D1D1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ĐẠO HÀM HÀM SỐ MỘT BIẾ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6068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f(x) xác định trong (a,b)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. Nếu tồn tạ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6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759120" y="2279520"/>
                <a:ext cx="25732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76320" y="320400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giới hạn đó được gọi là đạo hàm của hàm số f(x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Ký hiệu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y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4164840"/>
            <a:ext cx="89913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x –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có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) –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07960" y="5240160"/>
                <a:ext cx="19004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742840" y="5412600"/>
            <a:ext cx="33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 dy/dx, df/d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059-D2B3-4CA1-8565-4666747D0BBC}" type="slidenum">
              <a:t>1</a:t>
            </a:fld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ÁC ĐỊNH LÝ VỀ ĐẠO HÀ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1828440"/>
            <a:ext cx="906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Rol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và f(a) = f(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f’(c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2000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Lagrang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là hàm số liên tục trên [a,b], khả vi trong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76320" y="379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22560" y="4203720"/>
                <a:ext cx="25527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320" y="5028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Rolle là một trường hợp đặc biệt của định lý Lagrange trong trường hợp f(b) = f(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3C55-2DD3-4EF5-99F3-BF7D7B0606B1}" type="slidenum">
              <a:t>10</a:t>
            </a:fld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11872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Cauch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f , g cùng liên tục trên [a,b], khả vi trong khoảng (a,b) và g’(x) ≠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tồn tại 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sao 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41640" y="2666880"/>
                <a:ext cx="2711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6320" y="370152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ịnh lý Lagrange là một trường hợp đặc biệt của định lý Cauchy trong trường hợp g(x) = 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7D2-A6C8-48C7-9330-7138C3006664}" type="slidenum">
              <a:t>11</a:t>
            </a:fld>
          </a:p>
        </p:txBody>
      </p:sp>
    </p:spTree>
  </p:cSld>
  <p:transition>
    <p:cover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1083600"/>
            <a:ext cx="8839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Taylor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f khả vi đến cấp (n+1) trong lân cận D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ì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,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ì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ồn tại c nằm giữa x v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028880" y="2540160"/>
                <a:ext cx="744192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 \( x rSub { size 8{0} }  \) }  over  {2!} }  \( x - x rSub { size 8{0} }  \)  rSup { size 8{2} } +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}  {} # 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+ {  {f rSup { size 8{ \( n \) } }  \( x rSub { size 8{0} }  \) }  over  {n!} }  \( x - x rSub { size 8{0} }  \)  rSup { size 8{n} } + {  {f rSup { size 8{ \( n+1 \) } }  \( c \) }  over  { \( n+1 \) !} }  \( x - x rSub { size 8{0} }  \)  rSup { size 8{n+1} }  {} 
} } {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85760" y="5029200"/>
                <a:ext cx="416556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76320" y="4510080"/>
            <a:ext cx="90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ố hạng cuối cùng được gọi là phần dư Lagr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BE7-8ABC-48DB-9F71-B7BD3D0ECEEB}" type="slidenum">
              <a:t>12</a:t>
            </a:fld>
          </a:p>
        </p:txBody>
      </p:sp>
    </p:spTree>
  </p:cSld>
  <p:transition>
    <p:blinds dir="horz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11566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a thức Tayl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344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69800" y="1701720"/>
                <a:ext cx="4089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76320" y="2909880"/>
            <a:ext cx="9067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 thì công thức Taylor trở thành công thức Maclau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1520" y="3860640"/>
                <a:ext cx="896616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 \( 0 \) }  over  {2!} } x rSup { size 8{2} } +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+ {  {f rSup { size 8{ \( n \) } }  \( 0 \) }  over  {n!} } x rSup { size 8{n} } + {  {f rSup { size 8{ \( n+1 \) } }  \( c \) }  over  { \( n+1 \) !} } x rSup { size 8{n+1} } } {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567-8A4F-46E5-BDF8-7DDBB0FA9146}" type="slidenum">
              <a:t>13</a:t>
            </a:fld>
          </a:p>
        </p:txBody>
      </p:sp>
    </p:spTree>
  </p:cSld>
  <p:transition>
    <p:blinds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00" y="1142280"/>
            <a:ext cx="90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Hospital khử dựng vô định khi tìm giới h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8920" y="1720440"/>
            <a:ext cx="905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, g khả vi trong (a,b), g’(x) ≠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4120" y="2709720"/>
                <a:ext cx="34862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943520" y="2432160"/>
                <a:ext cx="37688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f>
                      <m:num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1640" y="3442680"/>
            <a:ext cx="70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hận xé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 tắc L’Hospital vẫn đúng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03360" y="4114800"/>
                <a:ext cx="3600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940280" y="4081320"/>
                <a:ext cx="3548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4800" y="4919760"/>
                <a:ext cx="36622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7040" y="5728680"/>
            <a:ext cx="72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 tắc L’Hospital có thể áp dụng nhiều lầ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DE36-A841-47C8-9503-AF6CB000836D}" type="slidenum">
              <a:t>14</a:t>
            </a:fld>
          </a:p>
        </p:txBody>
      </p:sp>
    </p:spTree>
  </p:cSld>
  <p:transition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8480" y="1675800"/>
            <a:ext cx="63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giới hạn sau (dạng 0/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68280" y="2197080"/>
                <a:ext cx="2395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3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946760" y="2246400"/>
                <a:ext cx="19429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0720" y="3535200"/>
                <a:ext cx="194328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737240" y="3154320"/>
                <a:ext cx="2319120" cy="16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arctgx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66600" y="4723560"/>
            <a:ext cx="57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giới hạn sau (dạ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60280" y="5402160"/>
                <a:ext cx="1816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rPr>
                            <m:lit/>
                            <m:nor/>
                          </m:rPr>
                          <m:t xml:space="preserve">g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673360" y="5349960"/>
                <a:ext cx="14428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84920" y="5230800"/>
                <a:ext cx="133956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7600" y="114228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Dạng 0/0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36E1-8592-41B7-826B-E250CC91A175}" type="slidenum">
              <a:t>15</a:t>
            </a:fld>
          </a:p>
        </p:txBody>
      </p:sp>
    </p:spTree>
  </p:cSld>
  <p:transition>
    <p:zoom dir="ou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11426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Dạng 0.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uyển chúng về dạng  0/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3360" y="2082960"/>
                <a:ext cx="179568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76440" y="2082960"/>
                <a:ext cx="3149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6110280" y="1898640"/>
                <a:ext cx="28494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lim>
                    </m:limLow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86840" y="3045240"/>
            <a:ext cx="53254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Dạng vô định: 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1</a:t>
            </a:r>
            <a:r>
              <a:rPr b="1" lang="en-US" sz="2800" spc="-1" strike="noStrike" baseline="30000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 xét [f(x)]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g(x).ln f(x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f(x) &gt;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040" y="443304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63480" y="4857840"/>
                <a:ext cx="1413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344760" y="4654440"/>
                <a:ext cx="13161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000840" y="4648320"/>
                <a:ext cx="217152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1</m:t>
                        </m:r>
                      </m:lim>
                    </m:limLow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92C-4F43-4CCB-9A41-335ADB531ACC}" type="slidenum">
              <a:t>16</a:t>
            </a:fld>
          </a:p>
        </p:txBody>
      </p:sp>
    </p:spTree>
  </p:cSld>
  <p:transition>
    <p:checker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1141920"/>
            <a:ext cx="906768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ỰC TR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f được gọi là đạt cực đại (cực tiểu)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tồn tại một lân cận củ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o cho 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(f(x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26952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ều biến thiên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f khả vi trong (a,b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ếu f’(x) &g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tă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Nếu f’(x) &lt; 0 với mọi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,b) thì f giả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637-B76F-48F1-B899-B8F5C68186AA}" type="slidenum">
              <a:t>17</a:t>
            </a:fld>
          </a:p>
        </p:txBody>
      </p:sp>
    </p:spTree>
  </p:cSld>
  <p:transition>
    <p:checker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61280" y="543816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1081440"/>
            <a:ext cx="883908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cần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Ferma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hàm số đạt cực trị tại điểm x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có đạo hàm tại điểm đó thì f’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2891520"/>
            <a:ext cx="88390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àm số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’(0) = 0 nhưng tại x = 0 hàm số không đạt cực tr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y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ạt cực tiểu tại x = 0 nhưng f’(0) không tồn t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3D8-C6B0-4025-87A5-92C53B187193}" type="slidenum">
              <a:t>18</a:t>
            </a:fld>
          </a:p>
        </p:txBody>
      </p:sp>
    </p:spTree>
  </p:cSld>
  <p:transition>
    <p:comb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212480"/>
            <a:ext cx="8839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một trong các điều kiện sau thì được gọi chung là điểm tới hạn của 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Không tồn tại f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f’(x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iểm thoả điều kiện sau f’(x) = 0 được gọi là điểm dừng của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E9E-B1AE-4F6D-BC26-977848711D39}" type="slidenum">
              <a:t>19</a:t>
            </a:fld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840" y="134064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phả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0" y="240768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Đạo hàm bên trá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830760" y="1136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3830760" y="2252520"/>
                <a:ext cx="2062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Δ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−</m:t>
                        </m:r>
                      </m:lim>
                    </m:limLow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76320" y="3226680"/>
            <a:ext cx="8839080" cy="23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ố f(x) có đạo hàm trên khoảng (a,b) nếu nó có đạo hàm tại mọi điểm trong khoảng đ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có đạo hàm trên đoạn [a,b] nếu nó có đạo hàm tại mọi điểm trong khoảng (a,b), có đạo hàm phải tại a và đạo hàm trái tại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6760" y="5804640"/>
            <a:ext cx="65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 = 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0370-3061-428D-9685-CE4E981D173A}" type="slidenum">
              <a:t>2</a:t>
            </a:fld>
          </a:p>
        </p:txBody>
      </p:sp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320" y="927360"/>
            <a:ext cx="9067680" cy="43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iều kiện đủ của cực tr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 khả vi trong (a,b) chứa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dương sang âm thì f(x) đạt cực đại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đổi dấu từ âm sang dương thì f(x) đạt cực tiểu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Nếu x vượt qua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à f’(x) không đổi dấu thì f(x) không đạt cực trị tại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0D65-F260-4826-87A1-26E08AF20D72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1094040"/>
            <a:ext cx="88390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f(x) có đạo hàm cấp 2 liên tục ở lân cận điểm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à f’(x) =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gt; 0 thì f(x) đạt cực tiể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Nếu f”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&lt; 0 thì f(x) đạt cực đạ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3346560"/>
            <a:ext cx="8839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iá trị lớn nhất bé nhất của hàm số trên một đo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ính giá của f tại các điểm tới hạn và tại điểm hai đầu mú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iá trị lớn nhất (nhỏ nhất) trong các giá trị được tính trên là giá trị lớn nhất (nhỏ nhất cần tì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A41-F888-4315-8F06-DC1BD890168B}" type="slidenum">
              <a:t>21</a:t>
            </a:fld>
          </a:p>
        </p:txBody>
      </p:sp>
    </p:spTree>
  </p:cSld>
  <p:transition>
    <p:cover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1154520"/>
            <a:ext cx="876276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ìm giá trị lớn nhất và bé nhất của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1 trên đoạn [-1/2, 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9AA-311D-4A07-8088-4AA8F106D29F}" type="slidenum">
              <a:t>22</a:t>
            </a:fld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iến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65520" y="1262160"/>
          <a:ext cx="5540400" cy="5138640"/>
        </p:xfrm>
        <a:graphic>
          <a:graphicData uri="http://schemas.openxmlformats.org/drawingml/2006/table">
            <a:tbl>
              <a:tblPr/>
              <a:tblGrid>
                <a:gridCol w="1066680"/>
                <a:gridCol w="244152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lượ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Suppl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y Dema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ượng cầ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 c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chi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ven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ổng doanh t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 nhuậ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 bả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ịnh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able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ến ph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7385-682D-4ED9-9A48-306A94E3F8CD}" type="slidenum">
              <a:t>23</a:t>
            </a:fld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78280"/>
            <a:ext cx="91440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àm số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sản xuấ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 = f(K,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C =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- 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081760" y="3967200"/>
          <a:ext cx="3985920" cy="2281320"/>
        </p:xfrm>
        <a:graphic>
          <a:graphicData uri="http://schemas.openxmlformats.org/drawingml/2006/table">
            <a:tbl>
              <a:tblPr/>
              <a:tblGrid>
                <a:gridCol w="2263680"/>
                <a:gridCol w="1722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ê mặt bằng, điện nướ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00đ/ngà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 v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ịt bò, h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ân viê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đ/t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0" y="4021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quán bún bình dân, hãy tính mỗi ngày bán bao nhiêu tô thì có lời với giá bán 5.000đ/tô và chi phí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471-2E5E-44B7-B781-8AADE11349AD}" type="slidenum">
              <a:t>24</a:t>
            </a:fld>
          </a:p>
        </p:txBody>
      </p:sp>
    </p:spTree>
  </p:cSld>
  <p:transition>
    <p:blinds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Ý nghĩa đạo hàm trong kinh t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6761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ản lượng biên MQ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quantity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o lường sự thay đổi của sản lượng khi tăng lao động hay vốn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047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ìm sản lượng biên của một doanh nghiệp và cho nhận xét khi L=100 cho bởi hàm sản xuất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917880" y="4114800"/>
                <a:ext cx="13082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7BC-E528-4A16-B407-EDE09A716EDE}" type="slidenum">
              <a:t>25</a:t>
            </a:fld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i phí biên M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Marginal Cost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C là đại lượng đo lường sự thay đổi của chi phí khi sản lượng tăng lên một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27672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C và MC là bao nhiêu khi Q = 50 và cho nhận x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 = 0,0001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0,02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Q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3D6-7C7A-4167-B8E5-FE8F23339B43}" type="slidenum">
              <a:t>26</a:t>
            </a:fld>
          </a:p>
        </p:txBody>
      </p:sp>
    </p:spTree>
  </p:cSld>
  <p:transition>
    <p:zoom dir="ou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143000"/>
            <a:ext cx="9144000" cy="37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oanh thu biên MR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Revenue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doanh thu: TR = P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thị trường quyết định, giá do doanh nghiệp quyết định thì MR là đại lượng đo lường sự thay đổi của doanh thu khi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ếu: Q do doanh nghiệp quyết định, giá do thị trường quyết định thì MR là đại lượng đo lường sự thay đổi của doanh thu khi giá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952880"/>
            <a:ext cx="9144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hàm cầu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1.000 – 14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ìm MR khi p = 40 và p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EC7-46AA-4AC2-A66E-EEF28FDB36AA}" type="slidenum">
              <a:t>27</a:t>
            </a:fld>
          </a:p>
        </p:txBody>
      </p:sp>
    </p:spTree>
  </p:cSld>
  <p:transition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91440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ợi nhuận biên MP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(Marginal Profit)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Q – (FC + VC(Q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Lợi nhuận biên là đại lượng đo lường sự thay đổi của lợi nhuận khi giá hay sản lượng tăng thêm 1 đơn v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09F-B553-427E-89CA-A5CEFE81A87F}" type="slidenum">
              <a:t>28</a:t>
            </a:fld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1143000"/>
            <a:ext cx="914400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ối đa hóa lợi nhu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hi phí: TC =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f(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độc quyề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lợi nhuận: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R – TC = Px – TC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55880" y="3886200"/>
                <a:ext cx="459720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dπ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1365-B719-4767-AFF0-0A362B7D4045}" type="slidenum">
              <a:t>29</a:t>
            </a:fld>
          </a:p>
        </p:txBody>
      </p:sp>
    </p:spTree>
  </p:cSld>
  <p:transition>
    <p:comb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37600" y="5081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320" y="1150200"/>
            <a:ext cx="906768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tổng thương tích của hai hàm s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các hàm số u, v có đạo hàm tại x thì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+ v cũng có đạo hàm tại x và (u + v)’ = u’ + v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v cũng có đạo hàm tại x và (u.v)’ = u’v + v’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40" y="3442680"/>
            <a:ext cx="62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/v cũng có đạo hàm tại x\V(x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v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21400" y="3193920"/>
                <a:ext cx="23670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v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u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u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76320" y="4267080"/>
            <a:ext cx="8991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hợ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u = u(x) có đạo hàm theo x, hàm y = f(u) có đạo hàm tương ứng u = u(x) thì hàm số hợp f(u) có đạo hàm theo x và y’(x) = y’(u).u’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5A15-517C-446D-8D6C-C1DEA76C3CEC}" type="slidenum">
              <a:t>3</a:t>
            </a:fld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ỘT SỐ ỨNG DỤ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143000"/>
            <a:ext cx="91440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công ty độc quyền, phòng kinh doanh cung cấp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phí: FC = 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phí: VC = 1/8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: x = -7/8 P +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ãy tìm sản lượng để doanh nghiệp đạt lợi nhuận tốt đ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D2E-3C92-4D56-ADF7-C7459EAFB4B2}" type="slidenum">
              <a:t>30</a:t>
            </a:fld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61280" y="53632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40480"/>
            <a:ext cx="906768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ủa hàm số ngượ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ại x, f’(x) ≠ 0 và có hàm số ngược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thì hàm số 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y) có đạo hàm tại y = f(x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76320" y="347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009880" y="3035160"/>
                <a:ext cx="40291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76680" y="4128480"/>
            <a:ext cx="58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đạo hàm của y = arcs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B41-FFA7-4536-B8E8-221BDAC686A5}" type="slidenum">
              <a:t>4</a:t>
            </a:fld>
          </a:p>
        </p:txBody>
      </p:sp>
    </p:spTree>
  </p:cSld>
  <p:transition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3720" y="106560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Đạo hàm các hàm số sơ cấp cơ bả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1360" y="1454760"/>
            <a:ext cx="1982520" cy="21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)’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’ =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483080" y="1301760"/>
                <a:ext cx="2311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84600" y="2127240"/>
                <a:ext cx="1384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53000" y="3635640"/>
            <a:ext cx="2388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nx)’ = co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sx)’ = -s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77840" y="4741920"/>
                <a:ext cx="216072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90440" y="5657760"/>
                <a:ext cx="27226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99000" y="3030480"/>
                <a:ext cx="295128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527720" y="4021200"/>
                <a:ext cx="33145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72000" y="4979880"/>
                <a:ext cx="25066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t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540320" y="5784840"/>
                <a:ext cx="3238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rc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rPr>
                        <m:lit/>
                        <m:nor/>
                      </m:rPr>
                      <m:t xml:space="preserve">gx</m:t>
                    </m:r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0DA1-3ED0-4CDE-A02D-57E1A66A60B2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1140480"/>
            <a:ext cx="899136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ạo hàm cấp ca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hàm số y = f(x) có đạo hàm thì y’ = f’(x) gọi là đạo hàm cấp 1. Đạo hàm, nếu có, của đạo hàm cấp 1 gọi là đạo hàm cấp 2. Ký hiệu: y’’(x), f’’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27480" y="3124080"/>
                <a:ext cx="1523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6320" y="4311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ương tự, đạo hàm của đạo hàm cấp (n-1) là đạo hàm cấp n. Ký hiệu: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,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29000" y="5264280"/>
                <a:ext cx="1498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,  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993C-F47A-48F9-B078-382782E24513}" type="slidenum">
              <a:t>6</a:t>
            </a:fld>
          </a:p>
        </p:txBody>
      </p:sp>
    </p:spTree>
  </p:cSld>
  <p:transition>
    <p:checke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1747800"/>
            <a:ext cx="881676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ông thức Leibniz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hàm số u, v có đạo hàm liên tiếp đến n. Khi đó ta c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 + v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49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17440" y="3903840"/>
                <a:ext cx="35816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856760" y="4053600"/>
            <a:ext cx="39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u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, v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360" y="1156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y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, x &gt; 0), y = k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ìm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CB0-7320-4A01-979C-D3D62651A9C2}" type="slidenum">
              <a:t>7</a:t>
            </a:fld>
          </a:p>
        </p:txBody>
      </p:sp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VI PHÂ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75068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khả vi, ta ký hiệu dy = y’dx (df = f’dx) được gọi là vi phân cấp 1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0" y="3065040"/>
            <a:ext cx="5467320" cy="15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 phân của tổng, tích, thư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 + v) = du + 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(u.v) = vdu + ud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90440" y="4732200"/>
                <a:ext cx="26640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4E1A-5956-4CB4-BAC8-9CC00F7152EB}" type="slidenum">
              <a:t>8</a:t>
            </a:fld>
          </a:p>
        </p:txBody>
      </p:sp>
    </p:spTree>
  </p:cSld>
  <p:transition>
    <p:comb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2. ĐẠO HÀM – VI P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437600" y="519516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1142640"/>
            <a:ext cx="8762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hàm số y = f(x) và f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-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hả vi, ta ký hiệu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x) được gọi là vi phân cấp n của hàm số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7E52-477D-4A9C-9B17-D27C945E0EA1}" type="slidenum">
              <a:t>9</a:t>
            </a:fld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10-11T04:34:30Z</dcterms:modified>
  <cp:revision>712</cp:revision>
  <dc:subject/>
  <dc:title>Nguyên lý thống kê</dc:title>
</cp:coreProperties>
</file>