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BC5A-4787-4723-8DBF-17E9EB13A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AEAF-0F52-44AF-A17B-58104FFA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D8B1-F78F-4FBF-BF01-AC8AA15B6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11B1-77F9-4A44-91B6-B393E48C0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BBD6-9F72-407D-9575-AEAE706E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8894-F88F-46D5-9792-F09AFC0D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04F9-F1A3-4B1C-B712-C9604341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B471-ACE4-4C89-861C-9B1CCF01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B846-EBAD-4E9D-B970-70B48270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A444-5826-46A6-9C66-65283259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3005-88C3-4F00-AD49-3CAC1EAF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E102-ED17-432A-A7A5-D7DE5DB5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B535-5A41-4C60-BD1B-F5BAA929662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6F1F-4535-41C3-9E28-A60B7F929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2. HỆ PHƯƠNG TRÌNH TUYẾN TÍ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600200" y="1523880"/>
            <a:ext cx="4724280" cy="685800"/>
            <a:chOff x="1600200" y="1523880"/>
            <a:chExt cx="4724280" cy="685800"/>
          </a:xfrm>
        </p:grpSpPr>
        <p:sp>
          <p:nvSpPr>
            <p:cNvPr id="43" name=""/>
            <p:cNvSpPr/>
            <p:nvPr/>
          </p:nvSpPr>
          <p:spPr>
            <a:xfrm>
              <a:off x="1981080" y="16430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00200" y="152388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209680" y="16984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ác khái niệ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38160" y="1622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905120" y="2286000"/>
            <a:ext cx="4724280" cy="685800"/>
            <a:chOff x="1905120" y="2286000"/>
            <a:chExt cx="4724280" cy="685800"/>
          </a:xfrm>
        </p:grpSpPr>
        <p:sp>
          <p:nvSpPr>
            <p:cNvPr id="48" name=""/>
            <p:cNvSpPr/>
            <p:nvPr/>
          </p:nvSpPr>
          <p:spPr>
            <a:xfrm>
              <a:off x="2286000" y="24051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05120" y="228600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14600" y="246060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HPTTT Cr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143080" y="23846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209680" y="3048120"/>
            <a:ext cx="4724280" cy="685800"/>
            <a:chOff x="2209680" y="3048120"/>
            <a:chExt cx="4724280" cy="685800"/>
          </a:xfrm>
        </p:grpSpPr>
        <p:sp>
          <p:nvSpPr>
            <p:cNvPr id="53" name=""/>
            <p:cNvSpPr/>
            <p:nvPr/>
          </p:nvSpPr>
          <p:spPr>
            <a:xfrm>
              <a:off x="2590560" y="3167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209680" y="304812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19160" y="322272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hương pháp Gau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47640" y="31467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590920" y="3809880"/>
            <a:ext cx="4724280" cy="685800"/>
            <a:chOff x="2590920" y="3809880"/>
            <a:chExt cx="4724280" cy="685800"/>
          </a:xfrm>
        </p:grpSpPr>
        <p:sp>
          <p:nvSpPr>
            <p:cNvPr id="58" name=""/>
            <p:cNvSpPr/>
            <p:nvPr/>
          </p:nvSpPr>
          <p:spPr>
            <a:xfrm>
              <a:off x="2971800" y="39290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90920" y="380988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00400" y="39844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HPTTT Thuần nhấ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28880" y="3908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971800" y="4495680"/>
            <a:ext cx="4724280" cy="685800"/>
            <a:chOff x="2971800" y="4495680"/>
            <a:chExt cx="4724280" cy="685800"/>
          </a:xfrm>
        </p:grpSpPr>
        <p:sp>
          <p:nvSpPr>
            <p:cNvPr id="63" name=""/>
            <p:cNvSpPr/>
            <p:nvPr/>
          </p:nvSpPr>
          <p:spPr>
            <a:xfrm>
              <a:off x="335268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71800" y="449568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81280" y="46702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ột số ứng dụ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09760" y="45943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B2AE-99ED-4A79-BF00-E89545B7F193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II.PHƯƠNG PHÁP GA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21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ải hệ phương trìn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308240" y="1822320"/>
                <a:ext cx="433044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0475-8706-48B1-B819-05B5B74466C0}" type="slidenum">
              <a:t>10</a:t>
            </a:fld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21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1. Định nghĩ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800280" y="1778040"/>
                <a:ext cx="5905440" cy="22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914400" y="4597560"/>
                <a:ext cx="3790800" cy="20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0" y="4114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luôn có nghiệm tầm thườ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1BFC-EDC7-4C25-8355-9EA02AEBE2D1}" type="slidenum">
              <a:t>11</a:t>
            </a:fld>
          </a:p>
        </p:txBody>
      </p:sp>
    </p:spTree>
  </p:cSld>
  <p:transition>
    <p:cover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14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2. Phương pháp giả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6761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ường hợp 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rankA = n, hệ phương trình chỉ có nghiệm tầm thườ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590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ường hợp 2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rankA = k &lt; n thì hệ phương trình tuyến tính thuần nhất có vô số nghiệm, phụ thuộc n-k tham số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961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87320" y="4429080"/>
                <a:ext cx="5765760" cy="20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5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6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5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8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9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5D14-CA35-4DE2-93A1-282DBDB0FAC6}" type="slidenum">
              <a:t>12</a:t>
            </a:fld>
          </a:p>
        </p:txBody>
      </p:sp>
    </p:spTree>
  </p:cSld>
  <p:transition>
    <p:checker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52280" y="1244520"/>
                <a:ext cx="2820960" cy="203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9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39840" y="3657600"/>
                <a:ext cx="468936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</m:e>
                    </m:eqArr>
                    <m:r>
                      <m:t xml:space="preserve">−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895480" y="1219320"/>
                <a:ext cx="5257800" cy="20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acc>
                      </m:e>
                    </m:eqAr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3E70-DE90-4F8B-8FF7-A1C7E50158FE}" type="slidenum">
              <a:t>13</a:t>
            </a:fld>
          </a:p>
        </p:txBody>
      </p:sp>
    </p:spTree>
  </p:cSld>
  <p:transition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04920" y="2209680"/>
                <a:ext cx="396216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  <m:r>
                                    <m:t xml:space="preserve">=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38040" y="3511440"/>
                <a:ext cx="376416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  <m:e/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0" y="114300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kA = 2, số ẩn là 4 nên hệ phương trình có vô số nghiệm phụ thuộc vào 2 tham số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64B9-6DAA-47F4-A6C4-29342350E8C4}" type="slidenum">
              <a:t>14</a:t>
            </a:fld>
          </a:p>
        </p:txBody>
      </p:sp>
    </p:spTree>
  </p:cSld>
  <p:transition>
    <p:comb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113120"/>
            <a:ext cx="91440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3. Hệ nghiệm cơ bả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ả sử rankA = k &lt; n. Ta có hệ có vô số nghiệm phụ thuộc n-k tham số. Giả sử n-k tham số đó là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…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28600" y="2593800"/>
          <a:ext cx="8610480" cy="2587320"/>
        </p:xfrm>
        <a:graphic>
          <a:graphicData uri="http://schemas.openxmlformats.org/drawingml/2006/table">
            <a:tbl>
              <a:tblPr/>
              <a:tblGrid>
                <a:gridCol w="1074600"/>
                <a:gridCol w="1076400"/>
                <a:gridCol w="1076400"/>
                <a:gridCol w="1039680"/>
                <a:gridCol w="1114560"/>
                <a:gridCol w="1076400"/>
                <a:gridCol w="1076400"/>
                <a:gridCol w="107604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+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-k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-k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-k,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0" y="5333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này được gọi là hệ nghiệm cơ bản của hệ phương trình tuyến tính thuần nhấ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FE39-7F0B-4BF3-AA84-2E72E1877983}" type="slidenum">
              <a:t>15</a:t>
            </a:fld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V.HỆ PTTT THUẦN NH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1157040"/>
            <a:ext cx="861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Áp dụng: Sử dụng ví dụ trên ta tìm được hệ nghiệm cơ bản như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719280" y="2179800"/>
          <a:ext cx="7967520" cy="1554120"/>
        </p:xfrm>
        <a:graphic>
          <a:graphicData uri="http://schemas.openxmlformats.org/drawingml/2006/table">
            <a:tbl>
              <a:tblPr/>
              <a:tblGrid>
                <a:gridCol w="2319480"/>
                <a:gridCol w="2447640"/>
                <a:gridCol w="1752840"/>
                <a:gridCol w="144756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 8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 7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 -6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5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US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8D2B-340A-45C2-8ED2-FC880423CDB5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.1. Mô hình cân bằng thị trườ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690560"/>
            <a:ext cx="9144000" cy="22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 Thị trường 1 loại hàng hó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u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-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ầ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≥ 0, P giá sản phẩ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8098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ô hình cân bằng: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&gt; 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P = 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419720"/>
            <a:ext cx="9144000" cy="16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sản phẩm trên thị trường có các thông t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u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-1 +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àm cầ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3 -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2E0D-6918-4888-8DBC-0B53EF49283E}" type="slidenum">
              <a:t>17</a:t>
            </a:fld>
          </a:p>
        </p:txBody>
      </p:sp>
    </p:spTree>
  </p:cSld>
  <p:transition>
    <p:zoom dir="ou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14300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Thị trường 2 loại hàng hó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ản phẩm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348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ô hình cân bằ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467160" y="5105520"/>
                <a:ext cx="18669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0" y="38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520560" y="2209680"/>
                <a:ext cx="46069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0" y="38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38120" y="3824280"/>
                <a:ext cx="473400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</m:e>
                        <m:e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0" y="3276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ản phẩm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F086-CDA0-4B49-A21E-E9524DC7EFB8}" type="slidenum">
              <a:t>18</a:t>
            </a:fld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ệ phương trình cân bằ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80880" y="1676520"/>
                <a:ext cx="678204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80880" y="2867040"/>
                <a:ext cx="33814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0" y="384480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ị trường có 2 sản phẩm như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ản phẩm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649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49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5486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ản phẩm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514600" y="4495680"/>
                <a:ext cx="38005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  <m:e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/>
                      </m:mr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562120" y="5562720"/>
                <a:ext cx="376236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/>
                      </m:mr>
                      <m:m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  <m:e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9746-E657-41E3-8FFF-B384A866B2B6}" type="slidenum">
              <a:t>19</a:t>
            </a:fld>
          </a:p>
        </p:txBody>
      </p:sp>
    </p:spTree>
  </p:cSld>
  <p:transition>
    <p:checker dir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. CÁC KHÁI NIỆM CƠ BẢ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21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.1. Dạng tổng quát hệ phương trình tuyến tín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752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 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một hệ phương trình đại số bậc nhất gồm m phương trình n ẩn có dạ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28600" y="2844720"/>
                <a:ext cx="6178680" cy="226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6629400" y="2895480"/>
            <a:ext cx="2362320" cy="245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à biế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được gọi là hệ số (của ẩ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được gọi là hệ số tự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3236-3480-46F7-9ED2-7F1319C874A9}" type="slidenum">
              <a:t>2</a:t>
            </a:fld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143000"/>
            <a:ext cx="9144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 Thị trường n loại hàng hó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ản phẩm 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19040" y="2209680"/>
                <a:ext cx="54482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0" y="33670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ệ phương trình cân bằng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57200" y="4013280"/>
                <a:ext cx="5168880" cy="20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29EB-1223-42BC-9B41-2C2EC3EAEB9A}" type="slidenum">
              <a:t>20</a:t>
            </a:fld>
          </a:p>
        </p:txBody>
      </p:sp>
    </p:spTree>
  </p:cSld>
  <p:transition>
    <p:comb dir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ả sử thị trường có 3 sản phẩ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231920" y="1752480"/>
                <a:ext cx="38228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8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244520" y="3124080"/>
                <a:ext cx="3861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231920" y="4495680"/>
                <a:ext cx="38354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9648-D260-429E-9346-694156C724BB}" type="slidenum">
              <a:t>21</a:t>
            </a:fld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143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.2.Mô hình cân đối liên ngành (I/O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717560"/>
            <a:ext cx="9144000" cy="28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ả sử một quốc gia có nhiều ngành sản xuấ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ổng cầu ngàn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- Cầu trung gian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ản phẩm dịch vụ hàng hoá ngành này là yếu tố đầu vào phục vụ ngành khác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- Cầu tiêu dùng và xuất khẩu (cầu cuối cùng)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hục vụ cho hộ gia đình, chính phù và xuất khẩ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5E74-AA30-43DE-BBDE-ED1ACD5B3984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143000"/>
            <a:ext cx="914400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tổng cầu của ngành 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ịj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là giá trị sản phẩm hàng hóa, dịch vụ của ngành I mà ngành j làm yếu tố đầu và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giá trị sản phẩm hàng hóa dịch vụ ngành i cho tiêu dùng và xuất khẩ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276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ổng cầu của ngành 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80880" y="3809880"/>
                <a:ext cx="387684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380880" y="4295880"/>
                <a:ext cx="518184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0" y="45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0F01-1A91-46CC-B97E-7D454EC28C66}" type="slidenum">
              <a:t>23</a:t>
            </a:fld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009960" y="1190520"/>
                <a:ext cx="5600520" cy="20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923760" y="1752480"/>
                <a:ext cx="1133640" cy="9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52280" y="3857760"/>
                <a:ext cx="5934240" cy="20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   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0" y="1995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ặ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8312-22BC-4D79-ADDC-3201443FCA05}" type="slidenum">
              <a:t>24</a:t>
            </a:fld>
          </a:p>
        </p:txBody>
      </p:sp>
    </p:spTree>
  </p:cSld>
  <p:transition>
    <p:blinds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52280" y="1219320"/>
                <a:ext cx="361152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648320" y="1895400"/>
                <a:ext cx="22478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&gt;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0" y="3352680"/>
            <a:ext cx="9144000" cy="30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ma trận hệ số kỹ thuật hay ma trận chi phí trực tiế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hệ số chi phí cho nhập lượng hay hệ số kỹ thu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òng i: giá trị sản phẩm ngành i bán cho mỗi ngà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ột j: giá trị sản phẩm ngành j mua mỗi ngành để sử dụ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-A] là ma trận Leontie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CDF0-7007-48F8-9340-C34E7F75338F}" type="slidenum">
              <a:t>25</a:t>
            </a:fld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.MỘT VÀI ỨNG DỤ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52280" y="1219320"/>
                <a:ext cx="361152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648320" y="1895400"/>
                <a:ext cx="22478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=&gt;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0" y="3352680"/>
            <a:ext cx="9144000" cy="30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ma trận hệ số kỹ thuật hay ma trận chi phí trực tiế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hệ số chi phí cho nhập lượng hay hệ số kỹ thu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òng i: giá trị sản phẩm ngành i bán cho mỗi ngà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ột j: giá trị sản phẩm ngành j mua mỗi ngành để sử dụ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-A] là ma trận Leontie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D28F-600E-4D41-A9E7-015C43C0818B}" type="slidenum">
              <a:t>26</a:t>
            </a:fld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I. CÁC KHÁI NIỆM CƠ B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766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Ma trận các hệ số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3780000" y="1143000"/>
                <a:ext cx="376380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0" y="3047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 Ma trận cột của ẩn và ma trận cột của hệ số tự do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33520" y="3505320"/>
                <a:ext cx="4114800" cy="20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788000" y="3505320"/>
                <a:ext cx="4203720" cy="20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0" y="56379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phương trình (1) có thể viết: AX = 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1374-ECF0-4C82-92A2-05E057A2DFFA}" type="slidenum">
              <a:t>3</a:t>
            </a:fld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I. CÁC KHÁI NIỆM CƠ B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1120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 Ma trận bổ sung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97000" y="1625760"/>
                <a:ext cx="4579920" cy="21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A5B0-5397-4536-B7CE-7FD662001FD3}" type="slidenum">
              <a:t>4</a:t>
            </a:fld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I. CÁC KHÁI NIỆM CƠ BẢ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160640"/>
            <a:ext cx="914400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2. Điều kiện tồn tại nghiệ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 (Định lý Kronecker – Capelli)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phương trình tuyến tính (1) có nghiệm khi và chỉ khi hạng của ma trận A bằng hạng của ma trận bổ sung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214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ác định tham số a để phương trình có nghiệ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122480" y="3835440"/>
                <a:ext cx="2687400" cy="15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4B43-5265-46C4-9099-2C0314D6D4D9}" type="slidenum">
              <a:t>5</a:t>
            </a:fld>
          </a:p>
        </p:txBody>
      </p:sp>
    </p:spTree>
  </p:cSld>
  <p:transition>
    <p:blinds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I.HỆ PHƯƠNG TRÌNH CRAME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1588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1. Định nghĩa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phương trình Crame là một hệ phương trình tuyến tính n phương trình, n ẩn và định thức của ma trận hệ số khác khô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5887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2. Định lý Cram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phương trình Crame có nghiệm duy nhất tính bằng công thức X =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, tức là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806400" y="3657600"/>
                <a:ext cx="186048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0" y="473904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ng đó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ma trận thu được từ A bằng cách thay cột thứ j bằng cột các phần tử tự 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689E-371E-44AB-8934-84D65D3BAE2D}" type="slidenum">
              <a:t>6</a:t>
            </a:fld>
          </a:p>
        </p:txBody>
      </p:sp>
    </p:spTree>
  </p:cSld>
  <p:transition>
    <p:comb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II.HỆ PHƯƠNG TRÌNH CR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2200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ải hệ phương trình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163520" y="1746360"/>
                <a:ext cx="439920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/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4E0A-B21A-4CA6-B9C3-E41FB478633B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II.PHƯƠNG PHÁP GA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80" y="1219320"/>
            <a:ext cx="9124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1. Định nghĩa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ệ phương trình tuyến tính có số phương trình và số ẩn khác nhau hoặc định thức ma trận các hệ số bằng khô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2. Phương pháp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ử dụng các phép toán sơ biến ma trận bổ sung về dạng ma trận bậc tha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52280" y="3657600"/>
                <a:ext cx="4579920" cy="21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</m:e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D20E-2211-4EB5-A1D3-F8F7C272AEF2}" type="slidenum">
              <a:t>8</a:t>
            </a:fld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II.PHƯƠNG PHÁP GA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" y="1142280"/>
            <a:ext cx="912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 = 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72960" y="1752480"/>
                <a:ext cx="4732560" cy="21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/>
                      <m:e>
                        <m:eqArr>
                          <m:e>
                            <m:r>
                              <m:t xml:space="preserve">|</m:t>
                            </m:r>
                            <m:r>
                              <m:t xml:space="preserve">b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b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>
                            <m:r>
                              <m:t xml:space="preserve">|</m:t>
                            </m:r>
                          </m:e>
                          <m:e>
                            <m:r>
                              <m:t xml:space="preserve">|</m:t>
                            </m:r>
                            <m:r>
                              <m:t xml:space="preserve">b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eqArr>
                        <m:r>
                          <m:t xml:space="preserve">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87360" y="4165560"/>
                <a:ext cx="5937120" cy="21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b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/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b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/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  <m:sup>
                                  <m:r>
                                    <m:t xml:space="preserve">'</m:t>
                                  </m:r>
                                </m:sup>
                              </m:sSubSup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/>
                            <m:e>
                              <m:r>
                                <m:t xml:space="preserve">b</m:t>
                              </m:r>
                              <m:sSub>
                                <m:e>
                                  <m:r>
                                    <m:t xml:space="preserve">'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033A-1761-454A-8D13-E56086CD5A21}" type="slidenum">
              <a:t>9</a:t>
            </a:fld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9T13:32:52Z</dcterms:created>
  <dc:creator>Acer</dc:creator>
  <dc:description/>
  <dc:language>en-US</dc:language>
  <cp:lastModifiedBy>Acer</cp:lastModifiedBy>
  <dcterms:modified xsi:type="dcterms:W3CDTF">2009-09-15T05:13:04Z</dcterms:modified>
  <cp:revision>438</cp:revision>
  <dc:subject/>
  <dc:title>Nguyên lý thống kê</dc:title>
</cp:coreProperties>
</file>