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AAF-D376-4248-BFF1-89B89DBD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DBD-0B2B-4A63-B88D-DF00B014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C3CB-26F9-4BF0-8FED-8A66E319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1CB-1411-44F6-BC84-5157DFA1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093-4AE8-4BD3-A83F-7D81272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B80-8FC9-42EF-BE42-1C134147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931-7350-47CE-B170-0900D1E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6FA-FFAE-4A09-8B8D-755DE1A9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D21-C2CC-46FC-885D-DD38E98C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9FD-57EE-4136-BFC0-AFE85F63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347-EDBF-4781-AF3A-6C2A3CA2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D25-33F4-41D7-9759-6A9F7650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F163-E525-44BB-B331-7108A86D78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635D-C445-4741-8F33-B2ECFFC60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ĐẠO HÀM HÀM SỐ MỘT B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6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f(x) xác định trong (a,b)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. Nếu tồn tạ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59120" y="2279520"/>
                <a:ext cx="2573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76320" y="320400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giới hạn đó được gọi là đạo hàm của hàm số f(x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64840"/>
            <a:ext cx="8991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có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7960" y="5240160"/>
                <a:ext cx="1900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742840" y="5412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 dy/dx, df/d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030-3696-4C8E-B4C8-A6E2A99EC4C5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ÁC ĐỊNH LÝ VỀ ĐẠO HÀ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2844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Rol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và f(a) = f(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f’(c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0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Lagra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22560" y="4203720"/>
                <a:ext cx="25527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320" y="5028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Rolle là một trường hợp đặc biệt của định lý Lagrange trong trường hợp f(b) = f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016-9461-4AA4-9A9D-20E09F1B6D74}" type="slidenum">
              <a:t>10</a:t>
            </a:fld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1872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Cauc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, g cùng liên tục trên [a,b], khả vi trong khoảng (a,b) và g’(x) ≠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1640" y="2666880"/>
                <a:ext cx="271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320" y="3701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Lagrange là một trường hợp đặc biệt của định lý Cauchy trong trường hợp g(x) =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EFA-CEDB-49C6-99E7-527524B18AC0}" type="slidenum">
              <a:t>11</a:t>
            </a:fld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0836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Tayl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f khả vi đến cấp (n+1) trong lân cận D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ì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ồn tại c nằm giữa x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028880" y="2540160"/>
                <a:ext cx="74419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\( x rSub { size 8{0} }  \) }  over  {2!} }  \( x - x rSub { size 8{0} }  \)  rSup { size 8{2} } +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}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+ {  {f rSup { size 8{ \( n \) } }  \( x rSub { size 8{0} }  \) }  over  {n!} }  \( x - x rSub { size 8{0} }  \)  rSup { size 8{n} } + {  {f rSup { size 8{ \( n+1 \) } }  \( c \) }  over  { \( n+1 \) !} }  \( x - x rSub { size 8{0} }  \)  rSup { size 8{n+1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85760" y="5029200"/>
                <a:ext cx="41655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6320" y="4510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ố hạng cuối cùng được gọi là phần dư Lag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AF9-904C-4717-AC05-9EA2F436FE36}" type="slidenum">
              <a:t>12</a:t>
            </a:fld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5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a thức Tay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9800" y="1701720"/>
                <a:ext cx="408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320" y="290988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thì công thức Taylor trở thành công thức Macla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1520" y="3860640"/>
                <a:ext cx="89661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\( 0 \) }  over  {2!} } x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+ {  {f rSup { size 8{ \( n \) } }  \( 0 \) }  over  {n!} } x rSup { size 8{n} } + {  {f rSup { size 8{ \( n+1 \) } }  \( c \) }  over  { \( n+1 \) !} } x rSup { size 8{n+1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4FD-1108-497D-B397-E886903FBB5F}" type="slidenum">
              <a:t>13</a:t>
            </a:fld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114228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Hospital khử dựng vô định khi tìm giớ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1720440"/>
            <a:ext cx="90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, g khả vi trong (a,b), g’(x) ≠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4120" y="2709720"/>
                <a:ext cx="348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943520" y="2432160"/>
                <a:ext cx="376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1640" y="344268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tắc L’Hospital vẫn đúng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3360" y="4114800"/>
                <a:ext cx="36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0280" y="4081320"/>
                <a:ext cx="3548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4800" y="4919760"/>
                <a:ext cx="3662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7040" y="572868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tắc L’Hospital có thể áp dụng nhiều l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BF5-4E74-4B81-9B2F-40B53E922C7C}" type="slidenum">
              <a:t>14</a:t>
            </a:fld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0" y="167580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giới hạn sau (dạng 0/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8280" y="2197080"/>
                <a:ext cx="2395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946760" y="2246400"/>
                <a:ext cx="1942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0720" y="3535200"/>
                <a:ext cx="1943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37240" y="3154320"/>
                <a:ext cx="23191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x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6600" y="4723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giới hạn sau (dạ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0280" y="5402160"/>
                <a:ext cx="18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73360" y="5349960"/>
                <a:ext cx="1442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84920" y="5230800"/>
                <a:ext cx="1339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7600" y="114228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Dạng 0/0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DEF-9B22-4C38-9FE2-65B14D3B70B2}" type="slidenum">
              <a:t>15</a:t>
            </a:fld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1426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ạng 0.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yển chúng về dạng  0/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360" y="2082960"/>
                <a:ext cx="1795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76440" y="2082960"/>
                <a:ext cx="3149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0280" y="1898640"/>
                <a:ext cx="2849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6840" y="3045240"/>
            <a:ext cx="5325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Dạng vô định: 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xét [f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.ln 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x) &g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40" y="44330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3480" y="4857840"/>
                <a:ext cx="141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344760" y="4654440"/>
                <a:ext cx="13161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00840" y="4648320"/>
                <a:ext cx="21715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BD8-8E44-4557-9976-BABD1F14348A}" type="slidenum">
              <a:t>16</a:t>
            </a:fld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114192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 được gọi là đạt cực đại (cực tiểu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ồn tại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26952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ều biến thiê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f khả vi trong (a,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ếu f’(x) &g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tă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ếu f’(x) &l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giả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A69-102B-47C1-8564-4F610F9FB1F7}" type="slidenum">
              <a:t>17</a:t>
            </a:fld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81440"/>
            <a:ext cx="88390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Ferm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đạt cực trị tại điểm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có đạo hàm tại điểm đó thì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891520"/>
            <a:ext cx="8839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’(0) = 0 nhưng tại x = 0 hàm số không đạt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y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ạt cực tiểu tại x = 0 nhưng f’(0) không tồn t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F23-54B9-49AF-A423-FB708BEC6919}" type="slidenum">
              <a:t>18</a:t>
            </a:fld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2480"/>
            <a:ext cx="8839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một trong các điều kiện sau thì được gọi chung là điểm tới hạn của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Không tồn tại f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f’(x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điều kiện sau f’(x) = 0 được gọi là điểm dừng của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64F-11E4-48D3-BFE9-8302E21C0BC5}" type="slidenum">
              <a:t>19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40" y="134064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ph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0" y="240768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trá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30760" y="1136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30760" y="2252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320" y="3226680"/>
            <a:ext cx="88390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) có đạo hàm trên khoảng (a,b) nếu nó có đạo hàm tại mọi điểm trong khoảng đ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có đạo hàm trên đoạn [a,b] nếu nó có đạo hàm tại mọi điểm trong khoảng (a,b), có đạo hàm phải tại a và đạo hàm trái tại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60" y="580464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 = 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A45-7D67-4D9E-B965-C9DBC596EFF0}" type="slidenum">
              <a:t>2</a:t>
            </a:fld>
          </a:p>
        </p:txBody>
      </p:sp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927360"/>
            <a:ext cx="906768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 khả vi trong (a,b) chứa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dương sang âm thì f(x) đạt cực đại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âm sang dương thì f(x) đạt cực tiểu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không đổi dấu thì f(x) không đạt cực trị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DA8-4125-4EE9-A8DE-92691B1DB1C0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94040"/>
            <a:ext cx="88390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(x) có đạo hàm cấp 2 liên tục ở lân cận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f’(x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0 thì f(x) đạt cực tiể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0 thì f(x) đạt cực đ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3346560"/>
            <a:ext cx="8839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á trị lớn nhất bé nhất của hàm số trên một đo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ính giá của f tại các điểm tới hạn và tại điểm hai đầu mú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á trị lớn nhất (nhỏ nhất) trong các giá trị được tính trên là giá trị lớn nhất (nhỏ nhất cần tì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2CB-18C4-4DAA-AF97-9DD691E18651}" type="slidenum">
              <a:t>21</a:t>
            </a:fld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54520"/>
            <a:ext cx="8762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ìm giá trị lớn nhất và bé nhất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trên đoạn [-1/2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AB1-FCAE-4A8F-994A-23F9E3CC7C63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ến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65520" y="1262160"/>
          <a:ext cx="5540400" cy="5138640"/>
        </p:xfrm>
        <a:graphic>
          <a:graphicData uri="http://schemas.openxmlformats.org/drawingml/2006/table">
            <a:tbl>
              <a:tblPr/>
              <a:tblGrid>
                <a:gridCol w="1066680"/>
                <a:gridCol w="244152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ầ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 c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 nhu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 bả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ịnh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ến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95B-1332-4748-ADDE-2FBC4BBB83B0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782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số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ản xuấ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 = f(K,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C =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-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81760" y="3967200"/>
          <a:ext cx="3985920" cy="2281320"/>
        </p:xfrm>
        <a:graphic>
          <a:graphicData uri="http://schemas.openxmlformats.org/drawingml/2006/table">
            <a:tbl>
              <a:tblPr/>
              <a:tblGrid>
                <a:gridCol w="2263680"/>
                <a:gridCol w="17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ê mặt bằng, điện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đ/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 v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ịt bò, h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ân viê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021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quán bún bình dân, hãy tính mỗi ngày bán bao nhiêu tô thì có lời với giá bán 5.000đ/tô và chi phí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29A-AC87-4597-A5CD-98A66DEAC50A}" type="slidenum">
              <a:t>24</a:t>
            </a:fld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Ý nghĩa đạo hàm trong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76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ản lượng biên MQ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quantit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o lường sự thay đổi của sản lượng khi tăng lao động hay vốn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ìm sản lượng biên của một doanh nghiệp và cho nhận xét khi L=100 cho bởi hàm sản xuất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17880" y="4114800"/>
                <a:ext cx="1308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081-CEC8-4CCB-AA5B-D687F0739CA5}" type="slidenum">
              <a:t>25</a:t>
            </a:fld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 phí biên M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Cost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C là đại lượng đo lường sự thay đổi của chi phí khi sản lượng tăng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C và MC là bao nhiêu khi Q = 50 và cho nhận x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= 0,0001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0,02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Q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0E7-E6BB-4FE2-BCA9-051369BEF269}" type="slidenum">
              <a:t>26</a:t>
            </a:fld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anh thu biên MR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Revenu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thị trường quyết định, giá do doanh nghiệp quyết định thì MR là đại lượng đo lường sự thay đổi của doanh thu khi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doanh nghiệp quyết định, giá do thị trường quyết định thì MR là đại lượng đo lường sự thay đổi của doanh thu khi giá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5288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hàm cầu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1.000 – 14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MR khi p = 40 và p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A3F-210A-4A89-9684-D73AFFD14B5E}" type="slidenum">
              <a:t>27</a:t>
            </a:fld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ợi nhuận biên MP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Profit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Q – (FC + VC(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ợi nhuận biên là đại lượng đo lường sự thay đổi của lợi nhuận khi giá hay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DE9-EC6F-4823-ACEA-076158F23381}" type="slidenum">
              <a:t>28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4300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ối đa hóa lợi nhu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độc quyề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x –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55880" y="3886200"/>
                <a:ext cx="45972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d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221-C9CA-40A1-8A99-1507E3210AED}" type="slidenum">
              <a:t>29</a:t>
            </a:fld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5020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tổng thương tích của hai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các hàm số u, v có đạo hàm tại x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+ v cũng có đạo hàm tại x và (u + v)’ = u’ + v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v cũng có đạo hàm tại x và (u.v)’ = u’v + v’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40" y="3442680"/>
            <a:ext cx="62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v cũng có đạo hàm tại x\V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1400" y="3193920"/>
                <a:ext cx="236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320" y="426708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hợ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u = u(x) có đạo hàm theo x, hàm y = f(u) có đạo hàm tương ứng u = u(x) thì hàm số hợp f(u) có đạo hàm theo x và y’(x) = y’(u).u’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443-A56A-4551-9C9F-28DA22B9760B}" type="slidenum">
              <a:t>3</a:t>
            </a:fld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43000"/>
            <a:ext cx="914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công ty độc quyền, phòng kinh doanh cung cấp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phí: FC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phí: VC = 1/8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-7/8 P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ãy tìm sản lượng để doanh nghiệp đạt lợi nhuận tốt đ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1AC-51C6-437F-BBA8-17948E49D593}" type="slidenum">
              <a:t>30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61280" y="5363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40480"/>
            <a:ext cx="90676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ngượ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ại x, f’(x) ≠ 0 và có hàm số ngược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thì hàm số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có đạo hàm tại y = f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6320" y="34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09880" y="3035160"/>
                <a:ext cx="402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680" y="41284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arc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E0D-B3B8-4A88-9164-7DC108AC0979}" type="slidenum">
              <a:t>4</a:t>
            </a:fld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10656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ạo hàm các hàm số sơ cấp cơ bả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360" y="1454760"/>
            <a:ext cx="198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’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83080" y="1301760"/>
                <a:ext cx="2311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84600" y="2127240"/>
                <a:ext cx="138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3000" y="3635640"/>
            <a:ext cx="238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x)’ = co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sx)’ = -s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40" y="4741920"/>
                <a:ext cx="216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0440" y="5657760"/>
                <a:ext cx="272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99000" y="3030480"/>
                <a:ext cx="2951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27720" y="4021200"/>
                <a:ext cx="3314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4979880"/>
                <a:ext cx="2506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40320" y="5784840"/>
                <a:ext cx="3238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FE9-7CB9-4851-8675-EE70A4E9B236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140480"/>
            <a:ext cx="89913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ấp ca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hì y’ = f’(x) gọi là đạo hàm cấp 1. Đạo hàm, nếu có, của đạo hàm cấp 1 gọi là đạo hàm cấp 2. Ký hiệu: y’’(x), f’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27480" y="3124080"/>
                <a:ext cx="1523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320" y="431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đạo hàm của đạo hàm cấp (n-1) là đạo hàm cấp n. Ký hiệu: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,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5264280"/>
                <a:ext cx="1498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642-E598-4A88-A174-53459B46E6CA}" type="slidenum">
              <a:t>6</a:t>
            </a:fld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747800"/>
            <a:ext cx="881676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ông thức Leibn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hàm số u, v có đạo hàm liên tiếp đến n. Khi đó ta c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+ v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7440" y="3903840"/>
                <a:ext cx="3581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856760" y="4053600"/>
            <a:ext cx="39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,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360" y="1156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x &gt; 0), y = k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ìm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462-0841-4721-941A-E7683080C804}" type="slidenum">
              <a:t>7</a:t>
            </a:fld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 P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7506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khả vi, ta ký hiệu dy = y’dx (df = f’dx) được gọi là vi phân cấp 1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0" y="3065040"/>
            <a:ext cx="54673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 phân của tổng, tích, th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 + v) = du +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.v) = vdu + u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90440" y="4732200"/>
                <a:ext cx="266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609-4765-4138-88DD-BD955B70B92C}" type="slidenum">
              <a:t>8</a:t>
            </a:fld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264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và f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ả vi, ta ký hiệu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) được gọi là vi phân cấp n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707-DF3B-4059-A482-7F0EB6E25C47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10-11T04:34:30Z</dcterms:modified>
  <cp:revision>712</cp:revision>
  <dc:subject/>
  <dc:title>Nguyên lý thống kê</dc:title>
</cp:coreProperties>
</file>