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0928-2067-404A-A31C-814AEC91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D43F-D15B-4BBC-978D-0EEAB12F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F18-CEAC-47DA-9ECB-87B8DD54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860-417A-47CA-84BA-FD9FA24F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4EF-02A2-4B6D-83BA-B5C6D373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D35-772A-49DF-87DC-18C4FFC2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D03-62AA-44BD-A517-9A48CB52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ABB2-4FB9-49D9-BDC8-B14A99D0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70D3-5AF7-4332-BFF1-AAA21305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F31-3E0C-4AFF-858D-3973B725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14C7-B775-4A4C-AC41-B6ED7A35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222-46B1-445B-815F-9EE90F37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2C54-4DA5-4826-BDB6-17469BF82E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EEBE-7BD9-4241-8CF8-7987B4846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2. HỆ PHƯƠNG TRÌNH TUYẾN T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00200" y="1523880"/>
            <a:ext cx="4724280" cy="685800"/>
            <a:chOff x="1600200" y="1523880"/>
            <a:chExt cx="4724280" cy="685800"/>
          </a:xfrm>
        </p:grpSpPr>
        <p:sp>
          <p:nvSpPr>
            <p:cNvPr id="43" name=""/>
            <p:cNvSpPr/>
            <p:nvPr/>
          </p:nvSpPr>
          <p:spPr>
            <a:xfrm>
              <a:off x="1981080" y="1643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00200" y="1523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09680" y="1698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ác khái niệ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38160" y="1622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905120" y="2286000"/>
            <a:ext cx="4724280" cy="685800"/>
            <a:chOff x="1905120" y="2286000"/>
            <a:chExt cx="4724280" cy="685800"/>
          </a:xfrm>
        </p:grpSpPr>
        <p:sp>
          <p:nvSpPr>
            <p:cNvPr id="48" name=""/>
            <p:cNvSpPr/>
            <p:nvPr/>
          </p:nvSpPr>
          <p:spPr>
            <a:xfrm>
              <a:off x="2286000" y="2405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05120" y="228600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14600" y="24606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PTTT C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43080" y="2384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09680" y="3048120"/>
            <a:ext cx="4724280" cy="685800"/>
            <a:chOff x="2209680" y="3048120"/>
            <a:chExt cx="4724280" cy="685800"/>
          </a:xfrm>
        </p:grpSpPr>
        <p:sp>
          <p:nvSpPr>
            <p:cNvPr id="53" name=""/>
            <p:cNvSpPr/>
            <p:nvPr/>
          </p:nvSpPr>
          <p:spPr>
            <a:xfrm>
              <a:off x="2590560" y="316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04812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160" y="3222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hương pháp Gau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47640" y="3146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90920" y="3809880"/>
            <a:ext cx="4724280" cy="685800"/>
            <a:chOff x="2590920" y="3809880"/>
            <a:chExt cx="4724280" cy="685800"/>
          </a:xfrm>
        </p:grpSpPr>
        <p:sp>
          <p:nvSpPr>
            <p:cNvPr id="58" name=""/>
            <p:cNvSpPr/>
            <p:nvPr/>
          </p:nvSpPr>
          <p:spPr>
            <a:xfrm>
              <a:off x="297180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90920" y="3809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3984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PTTT Thuần nhấ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28880" y="3908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971800" y="4495680"/>
            <a:ext cx="4724280" cy="685800"/>
            <a:chOff x="2971800" y="4495680"/>
            <a:chExt cx="4724280" cy="685800"/>
          </a:xfrm>
        </p:grpSpPr>
        <p:sp>
          <p:nvSpPr>
            <p:cNvPr id="63" name=""/>
            <p:cNvSpPr/>
            <p:nvPr/>
          </p:nvSpPr>
          <p:spPr>
            <a:xfrm>
              <a:off x="335268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1800" y="44956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81280" y="46702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ột số ứng dụ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9760" y="45943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6FA-F71B-4425-9AC3-9B83FE23B5A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i hệ phương trì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308240" y="1822320"/>
                <a:ext cx="433044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CE9B-379F-450B-A435-6B5110B79CF0}" type="slidenum">
              <a:t>10</a:t>
            </a:fld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1.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800280" y="1778040"/>
                <a:ext cx="5905440" cy="22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914400" y="4597560"/>
                <a:ext cx="3790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411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luôn có nghiệm tầm thườ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059-FD8E-4817-B074-EED0EE583707}" type="slidenum">
              <a:t>11</a:t>
            </a:fld>
          </a:p>
        </p:txBody>
      </p:sp>
    </p:spTree>
  </p:cSld>
  <p:transition>
    <p:cover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2. Phương pháp giả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676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ường hợ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rankA = n, hệ phương trình chỉ có nghiệm tầm thườ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90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ường hợp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rankA = k &lt; n thì hệ phương trình tuyến tính thuần nhất có vô số nghiệm, phụ thuộc n-k tham số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1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87320" y="4429080"/>
                <a:ext cx="5765760" cy="20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58F7-7063-43BB-A507-36D35053AB4D}" type="slidenum">
              <a:t>12</a:t>
            </a:fld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52280" y="1244520"/>
                <a:ext cx="2820960" cy="20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39840" y="3657600"/>
                <a:ext cx="46893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eqArr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895480" y="1219320"/>
                <a:ext cx="5257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eqAr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8753-81C0-4D84-B709-92842A848932}" type="slidenum">
              <a:t>13</a:t>
            </a:fld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4920" y="2209680"/>
                <a:ext cx="3962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=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8040" y="3511440"/>
                <a:ext cx="3764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114300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A = 2, số ẩn là 4 nên hệ phương trình có vô số nghiệm phụ thuộc vào 2 tham số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C89F-7177-49B9-8F94-146AC1330D8C}" type="slidenum">
              <a:t>14</a:t>
            </a:fld>
          </a:p>
        </p:txBody>
      </p:sp>
    </p:spTree>
  </p:cSld>
  <p:transition>
    <p:comb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1312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 Hệ nghiệm cơ bả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rankA = k &lt; n. Ta có hệ có vô số nghiệm phụ thuộc n-k tham số. Giả sử n-k tham số đó l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28600" y="2593800"/>
          <a:ext cx="8610480" cy="2587320"/>
        </p:xfrm>
        <a:graphic>
          <a:graphicData uri="http://schemas.openxmlformats.org/drawingml/2006/table">
            <a:tbl>
              <a:tblPr/>
              <a:tblGrid>
                <a:gridCol w="1074600"/>
                <a:gridCol w="1076400"/>
                <a:gridCol w="1076400"/>
                <a:gridCol w="1039680"/>
                <a:gridCol w="1114560"/>
                <a:gridCol w="1076400"/>
                <a:gridCol w="1076400"/>
                <a:gridCol w="107604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0" y="533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này được gọi là hệ nghiệm cơ bản của hệ phương trình tuyến tính thuần nhấ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AB7-D01B-4AD0-9602-0C3385E42D45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15704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p dụng: Sử dụng ví dụ trên ta tìm được hệ nghiệm cơ bản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19280" y="2179800"/>
          <a:ext cx="7967520" cy="1554120"/>
        </p:xfrm>
        <a:graphic>
          <a:graphicData uri="http://schemas.openxmlformats.org/drawingml/2006/table">
            <a:tbl>
              <a:tblPr/>
              <a:tblGrid>
                <a:gridCol w="2319480"/>
                <a:gridCol w="2447640"/>
                <a:gridCol w="1752840"/>
                <a:gridCol w="14475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8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7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-6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B32-D2B5-4C0F-A35F-CF4607F372C0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1. Mô hình cân bằng thị trườ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690560"/>
            <a:ext cx="9144000" cy="22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Thị trường 1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≥ 0, P giá sản ph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809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ô hình cân bằng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P =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19720"/>
            <a:ext cx="914400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sản phẩm trên thị trường có các thông t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1 +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-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D7D1-B658-4E6F-8916-0B7789AD716C}" type="slidenum">
              <a:t>17</a:t>
            </a:fld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430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Thị trường 2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348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ô hình cân bằ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467160" y="5105520"/>
                <a:ext cx="1866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20560" y="2209680"/>
                <a:ext cx="46069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38120" y="3824280"/>
                <a:ext cx="4734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3276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9FB-4B84-41B2-BDC4-3D4C98DDDABA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ệ phương trình cân bằ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80880" y="1676520"/>
                <a:ext cx="67820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80880" y="2867040"/>
                <a:ext cx="33814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38448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ị trường có 2 sản phẩm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4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4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86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14600" y="4495680"/>
                <a:ext cx="38005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562120" y="5562720"/>
                <a:ext cx="37623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8587-F5FC-485C-8698-DE2AEACB7CC9}" type="slidenum">
              <a:t>19</a:t>
            </a:fld>
          </a:p>
        </p:txBody>
      </p:sp>
    </p:spTree>
  </p:cSld>
  <p:transition>
    <p:checke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.1. Dạng tổng quát hệ phương trình tuyến tí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5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ột hệ phương trình đại số bậc nhất gồm m phương trình n ẩn có dạ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28600" y="2844720"/>
                <a:ext cx="6178680" cy="22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629400" y="2895480"/>
            <a:ext cx="2362320" cy="245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à biế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được gọi là hệ số (của ẩ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được gọi là hệ số tự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711A-D953-4B7F-9247-D25F2EE45725}" type="slidenum">
              <a:t>2</a:t>
            </a:fld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30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Thị trường n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19040" y="2209680"/>
                <a:ext cx="5448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3670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ệ phương trình cân bằng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7200" y="4013280"/>
                <a:ext cx="5168880" cy="20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D8D1-1FE0-4B96-94AC-1CEE48399887}" type="slidenum">
              <a:t>20</a:t>
            </a:fld>
          </a:p>
        </p:txBody>
      </p:sp>
    </p:spTree>
  </p:cSld>
  <p:transition>
    <p:comb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thị trường có 3 sản phẩ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231920" y="1752480"/>
                <a:ext cx="3822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244520" y="3124080"/>
                <a:ext cx="3861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231920" y="4495680"/>
                <a:ext cx="3835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A3E3-FEC4-4EDC-94D5-7570171810A1}" type="slidenum">
              <a:t>21</a:t>
            </a:fld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2.Mô hình cân đối liên ngành (I/O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717560"/>
            <a:ext cx="914400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ả sử một quốc gia có nhiều ngành sản xuấ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ổng cầu ngàn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- Cầu trung gia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ản phẩm dịch vụ hàng hoá ngành này là yếu tố đầu vào phục vụ ngành khá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- Cầu tiêu dùng và xuất khẩu (cầu cuối cùng)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hục vụ cho hộ gia đình, chính phù và xuất khẩ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1274-EFE2-4831-8EEA-608E535C7ECC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43000"/>
            <a:ext cx="914400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ổng cầu của ngành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ịj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là giá trị sản phẩm hàng hóa, dịch vụ của ngành I mà ngành j làm yếu tố đầu và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giá trị sản phẩm hàng hóa dịch vụ ngành i cho tiêu dùng và xuất khẩ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76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ổng cầu của ngành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80880" y="3809880"/>
                <a:ext cx="38768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80880" y="4295880"/>
                <a:ext cx="51818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45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2968-9F21-4C6A-B818-B69B3C5C7C13}" type="slidenum">
              <a:t>23</a:t>
            </a:fld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09960" y="1190520"/>
                <a:ext cx="5600520" cy="20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923760" y="1752480"/>
                <a:ext cx="113364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52280" y="3857760"/>
                <a:ext cx="593424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1995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6EF-BB5F-4622-935B-C134370EEE86}" type="slidenum">
              <a:t>24</a:t>
            </a:fld>
          </a:p>
        </p:txBody>
      </p:sp>
    </p:spTree>
  </p:cSld>
  <p:transition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280" y="1219320"/>
                <a:ext cx="361152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648320" y="1895400"/>
                <a:ext cx="2247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3352680"/>
            <a:ext cx="9144000" cy="30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ma trận hệ số kỹ thuật hay ma trận chi phí trực tiế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ệ số chi phí cho nhập lượng hay hệ số kỹ th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i: giá trị sản phẩm ngành i bán cho mỗi ngà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ột j: giá trị sản phẩm ngành j mua mỗi ngành để sử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-A] là ma trận Leon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9784-07FB-4699-B6CA-E6899F98538E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52280" y="1219320"/>
                <a:ext cx="361152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648320" y="1895400"/>
                <a:ext cx="2247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3352680"/>
            <a:ext cx="9144000" cy="30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ma trận hệ số kỹ thuật hay ma trận chi phí trực tiế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ệ số chi phí cho nhập lượng hay hệ số kỹ th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i: giá trị sản phẩm ngành i bán cho mỗi ngà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ột j: giá trị sản phẩm ngành j mua mỗi ngành để sử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-A] là ma trận Leon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AC47-2D38-4186-837A-1258508BC36F}" type="slidenum">
              <a:t>26</a:t>
            </a:fld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66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Ma trận các hệ số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780000" y="1143000"/>
                <a:ext cx="3763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3047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Ma trận cột của ẩn và ma trận cột của hệ số tự do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33520" y="3505320"/>
                <a:ext cx="411480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788000" y="3505320"/>
                <a:ext cx="420372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5637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(1) có thể viết: AX =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CF7-0356-48DC-833B-BAA9AD5A8F90}" type="slidenum">
              <a:t>3</a:t>
            </a:fld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1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Ma trận bổ sung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7000" y="1625760"/>
                <a:ext cx="457992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D8B-5E19-420B-9C1E-A1A9D076ED33}" type="slidenum">
              <a:t>4</a:t>
            </a:fld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60640"/>
            <a:ext cx="9144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2. Điều kiện tồn tại nghiệ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(Định lý Kronecker – Capelli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tuyến tính (1) có nghiệm khi và chỉ khi hạng của ma trận A bằng hạng của ma trận bổ sung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21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ác định tham số a để phương trình có nghiệ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122480" y="3835440"/>
                <a:ext cx="268740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8ED-39E4-43C4-9A8A-66DE7240984F}" type="slidenum">
              <a:t>5</a:t>
            </a:fld>
          </a:p>
        </p:txBody>
      </p:sp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I.HỆ PHƯƠNG TRÌNH CRAME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58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1. Định nghĩa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Crame là một hệ phương trình tuyến tính n phương trình, n ẩn và định thức của ma trận hệ số khác khô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588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2. Định lý Cram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Crame có nghiệm duy nhất tính bằng công thức X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, tức là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06400" y="3657600"/>
                <a:ext cx="18604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473904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a trận thu được từ A bằng cách thay cột thứ j bằng cột các phần tử tự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8C72-55BB-447C-B051-9786BCBC3EA0}" type="slidenum">
              <a:t>6</a:t>
            </a:fld>
          </a:p>
        </p:txBody>
      </p:sp>
    </p:spTree>
  </p:cSld>
  <p:transition>
    <p:comb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I.HỆ PHƯƠNG TRÌNH C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20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i hệ phương trình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63520" y="1746360"/>
                <a:ext cx="43992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/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DA04-3082-4AB4-A5F1-E8CC2254AE96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" y="1219320"/>
            <a:ext cx="912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1. Định nghĩ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tuyến tính có số phương trình và số ẩn khác nhau hoặc định thức ma trận các hệ số bằng khô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2. Phương phá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các phép toán sơ biến ma trận bổ sung về dạng ma trận bậc tha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52280" y="3657600"/>
                <a:ext cx="457992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2603-88B3-4E91-ABEC-2B61DEC302DF}" type="slidenum">
              <a:t>8</a:t>
            </a:fld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" y="1142280"/>
            <a:ext cx="91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=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72960" y="1752480"/>
                <a:ext cx="473256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87360" y="4165560"/>
                <a:ext cx="593712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471-BB6F-41FB-8D7E-F2092498339F}" type="slidenum">
              <a:t>9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09-15T05:13:04Z</dcterms:modified>
  <cp:revision>438</cp:revision>
  <dc:subject/>
  <dc:title>Nguyên lý thống kê</dc:title>
</cp:coreProperties>
</file>