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D4A-4770-47D0-AB40-0363CD3C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03B-4782-4F88-8F39-1A8ECE6A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9D4-69EB-42B3-9F5C-E2811384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81A-AF64-4E90-9489-CB586128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D86-48EF-4FF2-BB39-972DD3DD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752-AD1F-4B7F-874D-202F6AD0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BA8-62CA-48ED-ACEC-14ECE618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50D-B08E-4C71-9CCC-25D648B2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F39-5DC9-41D9-9782-75E14469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46C-D56E-40F4-8558-296F9AD9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9D8-1991-474A-95E7-929BA99F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9C1-D4C6-4D55-814B-212B6490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113C-A9B2-4D60-991C-B7BA42F17F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8A05-F4DA-4708-B85B-4B6F14AAF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MỘT SỐ KHÁI NIỆM CƠ BẢ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1724760"/>
            <a:ext cx="883908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ông gian n chiề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bộ gồm n số thực được sắp xếp thứ tự, ký hiệu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) được gọi là một điểm n - chiều. Tập hợp các điểm n - chiều được ký hiệu là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{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toạ độ thứ i của điểm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65F-F0D7-4DEE-B3FF-E3E619A5F833}" type="slidenum">
              <a:t>1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71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riêng cấp ca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 hàm số f(x,y). Các đạo hàm riêng f’x, f’y được gọi là những đạo hàm riêng cấp 1. Các đạo hàm riêng của đạo hàm riêng cấp 1 nếu tồn tại được gọi là đạo hàm riêng cấ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1960" y="3103560"/>
                <a:ext cx="3695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57800" y="3090960"/>
                <a:ext cx="38448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9360" y="4194000"/>
                <a:ext cx="3846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449600" y="4194000"/>
                <a:ext cx="38354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5347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ta có định nghĩa đạo hàm riêng cấp 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61E-9EC3-4EA7-A262-7B69E58B1FC0}" type="slidenum">
              <a:t>10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61280" y="53190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1158120"/>
            <a:ext cx="891540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Schwarz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rong lân cận nào đó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tồn tại các đạo hàm riêng và liên tục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lý này cũng đúng cho các đạo hàm riêng cấp cao hơn của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76E-3937-44B1-B977-42E3B27F6F7F}" type="slidenum">
              <a:t>11</a:t>
            </a:fld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1920"/>
            <a:ext cx="9144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hợ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z = f(u,v) là các hàm số khả vi của u,v và các hàm số u = u(x,y), v = v(x,y) có các đạo hàm riêng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tồn tại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163520" y="3220920"/>
                <a:ext cx="27622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68920" y="3220920"/>
                <a:ext cx="276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1880" y="4419000"/>
            <a:ext cx="61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v, u = xy, v = x/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D94-E694-472C-9386-23349F945ACE}" type="slidenum">
              <a:t>12</a:t>
            </a:fld>
          </a:p>
        </p:txBody>
      </p:sp>
    </p:spTree>
  </p:cSld>
  <p:transition>
    <p:cover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37600" y="50727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2114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ĐẠO HÀM HÀM 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24120"/>
            <a:ext cx="91440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1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tồn tại hàm y = f(x) sao cho F(x,f(x))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được gọi là hàm số ẩn từ phương trình F(x,y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DFA-234F-42E6-A488-318DC891B6EA}" type="slidenum">
              <a:t>13</a:t>
            </a:fld>
          </a:p>
        </p:txBody>
      </p:sp>
    </p:spTree>
  </p:cSld>
  <p:transition>
    <p:cover dir="l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440" y="115812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1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49160" y="1758960"/>
                <a:ext cx="1244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09080" y="2890440"/>
            <a:ext cx="515376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y’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xy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C07-8CFD-4856-81DF-221A3D2F4CF3}" type="slidenum">
              <a:t>14</a:t>
            </a:fld>
          </a:p>
        </p:txBody>
      </p:sp>
    </p:spTree>
  </p:cSld>
  <p:transition>
    <p:cover dir="l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21932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F(x,y,z) = 0. Nếu tồn tại hàm số hai biến z = f(x,y) sao cho F(x,y,z) = 0, với mọi x, y thuộc miền xác định của f, thì f gọi là hàm ẩn từ phương trình F(x,y,z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440" y="309168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2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62040" y="3763800"/>
                <a:ext cx="141444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68600" y="3695760"/>
                <a:ext cx="1400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948120" y="35316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800" y="4860720"/>
            <a:ext cx="61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xyz = cos(x+y+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631-A40B-40BB-8762-B6A1E4030BE1}" type="slidenum">
              <a:t>15</a:t>
            </a:fld>
          </a:p>
        </p:txBody>
      </p:sp>
    </p:spTree>
  </p:cSld>
  <p:transition>
    <p:cover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18728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1691280"/>
            <a:ext cx="90676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tự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đạt cực đại (cực tiểu) tại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 tồn tại một lân cậ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gọi chung là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840" y="403776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ủa hàm số 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4511160"/>
            <a:ext cx="9144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để có cực tr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ủa f và f có đạo hàm riêng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: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,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647-F237-4400-B4F2-70C5407B3E33}" type="slidenum">
              <a:t>16</a:t>
            </a:fld>
          </a:p>
        </p:txBody>
      </p:sp>
    </p:spTree>
  </p:cSld>
  <p:transition>
    <p:cover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1280" y="54190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1312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z = f(x,y). Tại những điểm thỏa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, ta gọi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x – 2y + 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05040" y="2162160"/>
                <a:ext cx="21718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50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866880" y="3305160"/>
                <a:ext cx="40100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432828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C18-6E7B-4C7E-B12C-CF19BF87C8FE}" type="slidenum">
              <a:t>17</a:t>
            </a:fld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08000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Tại những điểm thỏa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giả sử tại đó tồn tại các đạo hàm riêng cấp 2, đặ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có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867280" y="2057400"/>
                <a:ext cx="1247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2590920"/>
                <a:ext cx="742968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458712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80464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3x - 2y – 4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23E-FA76-47B1-8024-C1927EF25281}" type="slidenum">
              <a:t>18</a:t>
            </a:fld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264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ực trị của hàm số z = f(x,y) với điều kiện g(x,y) = c gọi là cực trị có điều kiệ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55800" y="3886200"/>
                <a:ext cx="29847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553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nhân tử Lagrange,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ủa hệ trên gọi là điểm dừ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4552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ó điều kiện trê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hàm Lagrange: L(x,y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f(x,y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(x,y)) với 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ông đồng thời bằng 0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57B-7A34-4867-8AFB-E4A1E76BDBCD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1312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oảng cách 2 điể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 = 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065400" y="2038320"/>
                <a:ext cx="3259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76320" y="3330360"/>
            <a:ext cx="90676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ột số tính chất của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; d(x,y) =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d(x,y) = d(y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(x,z) + d (z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ACC5-7C99-473E-962C-BBFAB6695CA4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iểm dừng của z(x,y), với điều kiện x + y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676520"/>
                <a:ext cx="24130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219492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c. Hàm Lagrang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L = f + </a:t>
            </a:r>
            <a:r>
              <a:rPr b="0" lang="en-US" sz="28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c-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924280" y="3305160"/>
                <a:ext cx="2790720" cy="26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D3B-2F09-4CAE-801B-7A31B89CB526}" type="slidenum">
              <a:t>20</a:t>
            </a:fld>
          </a:p>
        </p:txBody>
      </p:sp>
    </p:spTree>
  </p:cSld>
  <p:transition>
    <p:newsflash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1570320"/>
            <a:ext cx="8839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, g có đạo hàm riêng cấp hai liên tục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03680" y="2467080"/>
                <a:ext cx="293688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419112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gt;0: f đạt cực đại có điều kiệ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lt;0: f đạt cực đại có điều k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257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ó điều kiệ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6 – 4x – 3y 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để có 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792-7FBB-4C3A-8951-6EF85215A0D9}" type="slidenum">
              <a:t>21</a:t>
            </a:fld>
          </a:p>
        </p:txBody>
      </p:sp>
    </p:spTree>
  </p:cSld>
  <p:transition>
    <p:push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052640"/>
            <a:ext cx="9144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ét hàm số f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= c.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m Lagrange: L = f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). Xét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a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066760" y="2514600"/>
                <a:ext cx="44863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519660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2B1-AA56-427F-8767-F99415F46F7D}" type="slidenum">
              <a:t>22</a:t>
            </a:fld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84960" y="54093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121896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u = x – 2y + 2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DFD-2D2D-460B-A025-BF51C5C13F3C}" type="slidenum">
              <a:t>23</a:t>
            </a:fld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89080"/>
            <a:ext cx="87631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biê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biên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ọi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ều chứa ít nhất các điểm x, y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Tập hợp mọi điểm biên của D được gọi là biên của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08360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ân c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số r &gt; 0. Tập S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) = {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(x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r} được gọi là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204228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tro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trong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 chứa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76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đó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500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mở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không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1A0-AF7E-42F2-B050-C90CDEAC9CA7}" type="slidenum">
              <a:t>3</a:t>
            </a:fld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11426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được gọi là hàm số 2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068720" y="1676520"/>
                <a:ext cx="30942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76320" y="206892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miền xác đị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D) = {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z = f(x,y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} gọi là miền giá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6840" y="3195360"/>
            <a:ext cx="427284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iền xác đị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2x – 3y 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ln(x + y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908600" y="3683160"/>
                <a:ext cx="2209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76320" y="4844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n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được gọi là hàm số n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504800" y="5829480"/>
                <a:ext cx="5239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49B-6DDD-4C72-8BD6-6F753955FF07}" type="slidenum">
              <a:t>4</a:t>
            </a:fld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GIỚI HẠN VÀ TÍNH LIÊN TỤC CỦA HÀM S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61400"/>
            <a:ext cx="9067680" cy="20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ới hạn hàm số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f(x,y) xác định tại lân cậ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có thể  không xác định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ố thực L được gọi là giới hạn của f khi M(x,y) tiến đế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: d(M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M) – 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744560" y="3975120"/>
                <a:ext cx="480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,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-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-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8600" y="4971960"/>
                <a:ext cx="21844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717640" y="4986360"/>
                <a:ext cx="33339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426360" y="4927680"/>
                <a:ext cx="23047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eqArr>
                      </m:e>
                      <m:lim>
                        <m:r>
                          <m:t xml:space="preserve">y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1D4-88FC-4BDE-A426-FBCBB5FD88F1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6600"/>
            <a:ext cx="90676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ái niệm vô hạn cũng được định nghĩa tương tự như đối với hàm số một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định lý về giới hạn của tổng, tích, thương đối với hàm số một biến cũng đúng cho hàm số nhiều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720240"/>
            <a:ext cx="27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562720" y="3551400"/>
                <a:ext cx="3047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219320" y="3492360"/>
                <a:ext cx="3530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BF3-0C1C-4B29-A199-7DCE5BE647D3}" type="slidenum">
              <a:t>6</a:t>
            </a:fld>
          </a:p>
        </p:txBody>
      </p:sp>
    </p:spTree>
  </p:cSld>
  <p:transition>
    <p:checke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320" y="1112760"/>
            <a:ext cx="871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ên tục của hà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được gọi là liên tục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73240" y="1735200"/>
                <a:ext cx="44038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2543040"/>
            <a:ext cx="884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(x,y) liên tục trên một tập đóng và bị chặn trên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ồn tại số 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f(x,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đạt giá trị lớn nhất và nhỏ nhất trê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495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ương tự ta có thể định nghĩa giới hạn và sự liên tục của hàm số đối với hàm n biến (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≥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4FE9-B4FB-4B9B-8241-F1186F43B84A}" type="slidenum">
              <a:t>7</a:t>
            </a:fld>
          </a:p>
        </p:txBody>
      </p:sp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219320"/>
            <a:ext cx="8763120" cy="4597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ĐẠO HÀM RI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40240"/>
            <a:ext cx="88390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z = f(x,y) xác định trong miền D,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Nếu cho y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hằng số, hàm số một biến f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ó đạo hàm tại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được gọi là đạo hàm riêng của f đối với x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544760" y="3657600"/>
                <a:ext cx="5033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4618080"/>
            <a:ext cx="906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-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Số gia riêng của f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903400" y="5389560"/>
                <a:ext cx="22021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4B0-EBCD-4FBC-A3EE-5BEA6A4CDD2B}" type="slidenum">
              <a:t>8</a:t>
            </a:fld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504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ịnh nghĩa đạo hàm riêng của f theo biế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830680" y="1620720"/>
                <a:ext cx="20923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y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266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ạo hàm riêng đối với hàm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373320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08240" y="4309920"/>
                <a:ext cx="318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05080" y="5021280"/>
                <a:ext cx="944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AB8-AEB3-4A98-97E2-30B3E43019E9}" type="slidenum">
              <a:t>9</a:t>
            </a:fld>
          </a:p>
        </p:txBody>
      </p:sp>
    </p:spTree>
  </p:cSld>
  <p:transition>
    <p:cover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m</cp:lastModifiedBy>
  <dcterms:modified xsi:type="dcterms:W3CDTF">2009-11-08T13:28:05Z</dcterms:modified>
  <cp:revision>788</cp:revision>
  <dc:subject/>
  <dc:title>Nguyên lý thống kê</dc:title>
</cp:coreProperties>
</file>