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E7D-638C-45E5-AFA3-DA1B33D5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CDC-39F7-46DA-BA0D-713B4586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246-5451-4F9E-B2F8-2D0EA23B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649-1814-46DD-8D29-122B295C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4D0-691B-4ADE-8512-84B5DFD3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9A4C-B159-4E10-83A3-67401FF9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CF8-EE9C-4C04-AFA8-9763368A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2E9-9139-4319-ACEC-BE73EA9C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33F-7605-4227-8715-05B2A4C3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307-31A7-4AEA-B2E1-8B93729A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87E-EBCA-4591-99B0-332D11D0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904-9207-4911-A075-D420F696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E223-5E98-4B78-B8FE-C65469D805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7FF5-1A47-41DD-9F2D-6FF907B0D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2. HỆ PHƯƠNG TRÌNH TUYẾN T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1523880"/>
            <a:ext cx="4724280" cy="685800"/>
            <a:chOff x="16002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19810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ác khái niệ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05120" y="2286000"/>
            <a:ext cx="4724280" cy="685800"/>
            <a:chOff x="19051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2860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51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C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30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09680" y="3048120"/>
            <a:ext cx="4724280" cy="685800"/>
            <a:chOff x="22096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25905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1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hương pháp Gau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476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3809880"/>
            <a:ext cx="4724280" cy="685800"/>
            <a:chOff x="259092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2971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Thuần nhấ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71800" y="4495680"/>
            <a:ext cx="4724280" cy="685800"/>
            <a:chOff x="2971800" y="4495680"/>
            <a:chExt cx="4724280" cy="685800"/>
          </a:xfrm>
        </p:grpSpPr>
        <p:sp>
          <p:nvSpPr>
            <p:cNvPr id="63" name=""/>
            <p:cNvSpPr/>
            <p:nvPr/>
          </p:nvSpPr>
          <p:spPr>
            <a:xfrm>
              <a:off x="335268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44956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4670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ột số ứng dụ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9760" y="4594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9B1-4D00-4284-8A19-A1945DE8FBE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i hệ phương trì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08240" y="1822320"/>
                <a:ext cx="43304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05D-B47B-4E29-A02A-0F3CB15308F4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0280" y="1778040"/>
                <a:ext cx="59054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14400" y="4597560"/>
                <a:ext cx="3790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41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luôn có nghiệm tầm thườ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F88-E42E-4E35-9709-5E5164D02A5E}" type="slidenum">
              <a:t>11</a:t>
            </a:fld>
          </a:p>
        </p:txBody>
      </p:sp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Phương pháp gi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76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rankA = n, hệ phương trình chỉ có nghiệm tầm thườ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rankA = k &lt; n thì hệ phương trình tuyến tính thuần nhất có vô số nghiệm, phụ thuộc n-k tham s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87320" y="4429080"/>
                <a:ext cx="576576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393-967B-469B-AE78-F444DFB24D38}" type="slidenum">
              <a:t>12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280" y="1244520"/>
                <a:ext cx="2820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40" y="3657600"/>
                <a:ext cx="4689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95480" y="1219320"/>
                <a:ext cx="5257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522-4061-4021-BDE6-D3B3EE522460}" type="slidenum">
              <a:t>13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920" y="2209680"/>
                <a:ext cx="3962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=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8040" y="3511440"/>
                <a:ext cx="3764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1143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A = 2, số ẩn là 4 nên hệ phương trình có vô số nghiệm phụ thuộc vào 2 tham số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310-81F9-49E7-93F5-D406A6B5F49E}" type="slidenum">
              <a:t>14</a:t>
            </a:fld>
          </a:p>
        </p:txBody>
      </p:sp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13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Hệ nghiệm cơ bả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rankA = k &lt; n. Ta có hệ có vô số nghiệm phụ thuộc n-k tham số. Giả sử n-k tham số đó l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2593800"/>
          <a:ext cx="8610480" cy="2587320"/>
        </p:xfrm>
        <a:graphic>
          <a:graphicData uri="http://schemas.openxmlformats.org/drawingml/2006/table">
            <a:tbl>
              <a:tblPr/>
              <a:tblGrid>
                <a:gridCol w="1074600"/>
                <a:gridCol w="1076400"/>
                <a:gridCol w="1076400"/>
                <a:gridCol w="1039680"/>
                <a:gridCol w="1114560"/>
                <a:gridCol w="1076400"/>
                <a:gridCol w="1076400"/>
                <a:gridCol w="107604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này được gọi là hệ nghiệm cơ bản của hệ phương trình tuyến tính thuần nhấ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E06-3CB1-4990-B0C6-62AAFC3DE193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5704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p dụng: Sử dụng ví dụ trên ta tìm được hệ nghiệm cơ bản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19280" y="2179800"/>
          <a:ext cx="7967520" cy="1554120"/>
        </p:xfrm>
        <a:graphic>
          <a:graphicData uri="http://schemas.openxmlformats.org/drawingml/2006/table">
            <a:tbl>
              <a:tblPr/>
              <a:tblGrid>
                <a:gridCol w="2319480"/>
                <a:gridCol w="2447640"/>
                <a:gridCol w="1752840"/>
                <a:gridCol w="1447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8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7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-6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251-6C46-4025-8514-B0DD907721A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1. Mô hình cân bằng thị trườ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90560"/>
            <a:ext cx="91440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Thị trường 1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≥ 0, P giá sản ph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809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ô hình cân bằng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các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1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-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429-6553-45B3-B607-6EB3AC8C671F}" type="slidenum">
              <a:t>17</a:t>
            </a:fld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hị trường 2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4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ô h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67160" y="510552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0560" y="2209680"/>
                <a:ext cx="4606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8120" y="3824280"/>
                <a:ext cx="4734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403-EE82-4B44-8729-9FF1F5C6B3E1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1676520"/>
                <a:ext cx="6782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2867040"/>
                <a:ext cx="33814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844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ị trường có 2 sản phẩm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14600" y="4495680"/>
                <a:ext cx="3800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62120" y="5562720"/>
                <a:ext cx="3762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301-1F77-4179-A6F9-2B91B8B24E88}" type="slidenum">
              <a:t>19</a:t>
            </a:fld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1. Dạng tổng quát hệ phương trình tuyến tí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ột hệ phương trình đại số bậc nhất gồm m phương trình n ẩn có d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" y="2844720"/>
                <a:ext cx="6178680" cy="22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629400" y="2895480"/>
            <a:ext cx="2362320" cy="24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à biế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được gọi là hệ số (của 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được gọi là hệ số tự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802-1BFB-4190-A4C9-4A46C7843AF9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Thị trường n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9040" y="2209680"/>
                <a:ext cx="5448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67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4013280"/>
                <a:ext cx="516888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C09-FC67-4AAE-BD02-B637748CEC05}" type="slidenum">
              <a:t>20</a:t>
            </a:fld>
          </a:p>
        </p:txBody>
      </p:sp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có 3 sản ph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31920" y="1752480"/>
                <a:ext cx="382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44520" y="3124080"/>
                <a:ext cx="3861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1920" y="4495680"/>
                <a:ext cx="3835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6B8-2E1B-4351-85A3-47EDDCA7CB19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2.Mô hình cân đối liên ngành (I/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17560"/>
            <a:ext cx="9144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 sử một quốc gia có nhiều ngành sản xuấ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ổng cầu ngàn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rung gia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ản phẩm dịch vụ hàng hoá ngành này là yếu tố đầu vào phục vụ ngành kh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iêu dùng và xuất khẩu (cầu cuối cùng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ục vụ cho hộ gia đình, chính phù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813-3A63-4EAF-8A91-C4185B04EF6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ổng cầu của ngành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ị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à giá trị sản phẩm hàng hóa, dịch vụ của ngành I mà ngành j làm yếu tố đầu và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iá trị sản phẩm hàng hóa dịch vụ ngành i cho tiêu dùng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ổng cầu của ngành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3809880"/>
                <a:ext cx="38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0880" y="4295880"/>
                <a:ext cx="5181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45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A23-91D4-4137-85FB-A44CC48E2A67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09960" y="1190520"/>
                <a:ext cx="5600520" cy="20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23760" y="1752480"/>
                <a:ext cx="1133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280" y="3857760"/>
                <a:ext cx="59342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19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845-DE6E-44E7-B283-3C2E93D9833C}" type="slidenum">
              <a:t>24</a:t>
            </a:fld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350-1819-4851-A6EB-F06C8D7FD93F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451-E53D-4A3C-ACCD-6DAF94EAEFC4}" type="slidenum">
              <a:t>26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66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a trận các hệ số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1143000"/>
                <a:ext cx="3763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4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 trận cột của ẩn và ma trận cột của hệ số tự d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505320"/>
                <a:ext cx="41148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88000" y="3505320"/>
                <a:ext cx="42037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5637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(1) có thể viết: AX =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173-CAA7-4EB2-A259-B510B0D9395F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1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a trận bổ su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7000" y="162576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BEA-A303-4FA0-BCC6-C465B25CCD09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6064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. Điều kiện tồn tại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Định lý Kronecker – Capell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(1) có nghiệm khi và chỉ khi hạng của ma trận A bằng hạng của ma trận bổ sung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ác định tham số a để phương trình có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22480" y="3835440"/>
                <a:ext cx="26874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DD8-467C-41AF-93B4-1F33F62D9E35}" type="slidenum">
              <a:t>5</a:t>
            </a:fld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58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1. Định nghĩ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là một hệ phương trình tuyến tính n phương trình, n ẩn và định thức của ma trận hệ số khác khô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8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. Định lý Cram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có nghiệm duy nhất tính bằng công thức X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tức là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06400" y="3657600"/>
                <a:ext cx="1860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47390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thu được từ A bằng cách thay cột thứ j bằng cột các phần tử tự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A4C-B881-437E-AAAC-8BAF1CD0D4DF}" type="slidenum">
              <a:t>6</a:t>
            </a:fld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2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i hệ phương trìn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63520" y="1746360"/>
                <a:ext cx="4399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/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59F-0932-47E2-AAFA-2E8865A7E9C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" y="121932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Định nghĩ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có số phương trình và số ẩn khác nhau hoặc định thức ma trận các hệ số bằng khô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Phương phá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phép toán sơ biến ma trận bổ sung về dạng ma trận bậc th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365760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814-CA69-468A-AAFA-E2FFCEE8605D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" y="1142280"/>
            <a:ext cx="91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=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752480"/>
                <a:ext cx="47325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7360" y="4165560"/>
                <a:ext cx="5937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2D0-2C12-43CB-8C57-E5CBFA32BC14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5T05:13:04Z</dcterms:modified>
  <cp:revision>438</cp:revision>
  <dc:subject/>
  <dc:title>Nguyên lý thống kê</dc:title>
</cp:coreProperties>
</file>