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4218-9C72-4DF7-BCCC-89318E619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D45-A2BB-4889-92EA-A0329680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844-832F-4C68-A95D-4901D01D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939-3073-41DE-A530-12733AFD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529-441D-4E73-9109-EFAF77F3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014C-7856-4BFF-9B11-DE0319AF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AF4-472E-4EC3-9AC5-378008B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179-3844-488E-AA8B-1466CFC5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3A5E-A3B7-4737-99F7-EB67B0D1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48E-54F7-413F-B1C3-4B52A599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29F-BC94-4024-A559-482C4E4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2293-6658-44A7-A119-B2AE0C4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E25E-ED1A-4EE6-9E63-0E33BC55565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68C9-F85E-4851-9589-BB396624F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C1. MA TRẬN -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57400" y="1523880"/>
            <a:ext cx="4724280" cy="685800"/>
            <a:chOff x="2057400" y="1523880"/>
            <a:chExt cx="4724280" cy="685800"/>
          </a:xfrm>
        </p:grpSpPr>
        <p:sp>
          <p:nvSpPr>
            <p:cNvPr id="43" name=""/>
            <p:cNvSpPr/>
            <p:nvPr/>
          </p:nvSpPr>
          <p:spPr>
            <a:xfrm>
              <a:off x="2438280" y="1643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57400" y="1523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66880" y="1698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1622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362320" y="2286000"/>
            <a:ext cx="4724280" cy="685800"/>
            <a:chOff x="2362320" y="2286000"/>
            <a:chExt cx="4724280" cy="685800"/>
          </a:xfrm>
        </p:grpSpPr>
        <p:sp>
          <p:nvSpPr>
            <p:cNvPr id="48" name=""/>
            <p:cNvSpPr/>
            <p:nvPr/>
          </p:nvSpPr>
          <p:spPr>
            <a:xfrm>
              <a:off x="2743200" y="24051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362320" y="228600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71800" y="24606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Định thứ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00280" y="23846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666880" y="3048120"/>
            <a:ext cx="4724280" cy="685800"/>
            <a:chOff x="2666880" y="3048120"/>
            <a:chExt cx="4724280" cy="685800"/>
          </a:xfrm>
        </p:grpSpPr>
        <p:sp>
          <p:nvSpPr>
            <p:cNvPr id="53" name=""/>
            <p:cNvSpPr/>
            <p:nvPr/>
          </p:nvSpPr>
          <p:spPr>
            <a:xfrm>
              <a:off x="3047760" y="3167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66880" y="304812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32227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 trận nghịc đ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4840" y="3146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895480" y="3809880"/>
            <a:ext cx="4724280" cy="685800"/>
            <a:chOff x="2895480" y="3809880"/>
            <a:chExt cx="4724280" cy="685800"/>
          </a:xfrm>
        </p:grpSpPr>
        <p:sp>
          <p:nvSpPr>
            <p:cNvPr id="58" name=""/>
            <p:cNvSpPr/>
            <p:nvPr/>
          </p:nvSpPr>
          <p:spPr>
            <a:xfrm>
              <a:off x="3276360" y="39290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11135"/>
                </a:gs>
                <a:gs pos="100000">
                  <a:srgbClr val="33339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95480" y="3809880"/>
              <a:ext cx="685800" cy="685800"/>
            </a:xfrm>
            <a:prstGeom prst="diamond">
              <a:avLst/>
            </a:prstGeom>
            <a:solidFill>
              <a:srgbClr val="33339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4960" y="39844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Hạng của ma trậ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33440" y="3908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B81-DFF5-48F1-806C-15ED87FE6A8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6600" y="1142280"/>
            <a:ext cx="510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3. Phép nhân ha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64628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 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p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k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p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C=[c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63600" y="2305080"/>
                <a:ext cx="588492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2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j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87360" y="4110120"/>
                <a:ext cx="4489560" cy="15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52280" y="335268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tích 2 ma trậ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BAF-9E1C-4EBC-9617-8BBCEEDBD462}" type="slidenum">
              <a:t>10</a:t>
            </a:fld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176480"/>
            <a:ext cx="8610480" cy="39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Một số tính chấ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.B).C = A.(B.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BC) = (kB)C = B(k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ép nhân nói chung không có tính giao ho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I.A = A.I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200-8294-4DB0-B99A-396C8EF152B2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3. VÍ D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1721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lượng hàng bán trong hai thá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2438280"/>
          <a:ext cx="371340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84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049720" y="2438280"/>
          <a:ext cx="3713040" cy="1552680"/>
        </p:xfrm>
        <a:graphic>
          <a:graphicData uri="http://schemas.openxmlformats.org/drawingml/2006/table">
            <a:tbl>
              <a:tblPr/>
              <a:tblGrid>
                <a:gridCol w="1549440"/>
                <a:gridCol w="581040"/>
                <a:gridCol w="420480"/>
                <a:gridCol w="581040"/>
                <a:gridCol w="581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áng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83CE-0858-4F60-9957-EA35F27229BA}" type="slidenum">
              <a:t>12</a:t>
            </a:fld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18692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ãy tính nhu cầu vật tư cho từng phân xưởng theo kế hoạch sản xuất cho bởi 2 bảng số liệu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04920" y="2289240"/>
          <a:ext cx="3047760" cy="2587680"/>
        </p:xfrm>
        <a:graphic>
          <a:graphicData uri="http://schemas.openxmlformats.org/drawingml/2006/table">
            <a:tbl>
              <a:tblPr/>
              <a:tblGrid>
                <a:gridCol w="1230120"/>
                <a:gridCol w="598680"/>
                <a:gridCol w="609480"/>
                <a:gridCol w="60948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ưở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X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733920" y="2286000"/>
          <a:ext cx="5181480" cy="2587680"/>
        </p:xfrm>
        <a:graphic>
          <a:graphicData uri="http://schemas.openxmlformats.org/drawingml/2006/table">
            <a:tbl>
              <a:tblPr/>
              <a:tblGrid>
                <a:gridCol w="1076400"/>
                <a:gridCol w="817560"/>
                <a:gridCol w="817560"/>
                <a:gridCol w="817560"/>
                <a:gridCol w="817560"/>
                <a:gridCol w="834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ả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ẩ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ật liệ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0C9-8175-426F-8CCA-296B79819167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. CÁC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2360" y="2832840"/>
            <a:ext cx="44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1880" y="1721160"/>
            <a:ext cx="4833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thì det(A)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|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41440" y="3424320"/>
                <a:ext cx="23540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35800" y="4511520"/>
            <a:ext cx="4252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7A7-5C20-4673-BB67-943C9E5404EC}" type="slidenum">
              <a:t>14</a:t>
            </a:fld>
          </a:p>
        </p:txBody>
      </p:sp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1676520"/>
                <a:ext cx="38908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52280" y="3886200"/>
            <a:ext cx="876312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ma trận con cấp n-1 nhận được từ A bằng cách xoá hàng i cột 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+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bù đại s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157400"/>
            <a:ext cx="88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là ma trận vuông cấp 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5551-DBA5-45E8-B360-F81B3B89B2A2}" type="slidenum">
              <a:t>15</a:t>
            </a:fld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3360" y="3421800"/>
            <a:ext cx="75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định nghĩa hãy tính định thứ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8280" y="4038480"/>
                <a:ext cx="252720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79720" y="1143360"/>
            <a:ext cx="5860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ấp n của A l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(A) =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…+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85840" y="2166840"/>
                <a:ext cx="60386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BBD-9CA8-45CA-9EFA-AB1B8E004346}" type="slidenum">
              <a:t>16</a:t>
            </a:fld>
          </a:p>
        </p:txBody>
      </p:sp>
    </p:spTree>
  </p:cSld>
  <p:transition>
    <p:cover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2. TÍNH CHẤT CỦA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480" y="1766160"/>
            <a:ext cx="38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: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236052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tính chất đã đúng khi phát biểu về hàng của một định thức thì nó vẫn còn đúng khi trong phát biểu ta thay hàng bằng cộ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7080" y="3809880"/>
            <a:ext cx="878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ổi chỗ hai hàng (hay hai cột) của một định thức ta được một định thức mới bằng định thức cũ đổi dấ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73CD-569C-4580-A9DF-B510189B9E12}" type="slidenum">
              <a:t>17</a:t>
            </a:fld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1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3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ột định thức có hai hàng (hay hai cột) như nhau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20570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4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một hàng (hay một cột) toàn là số không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97144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5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nhân các phần tử của một hàng (hay một cột) với cùng một số k thì được một định thức mới bằng định thức cũ nhân với 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43416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các phần tử của một hàng (hay một cột) có một thừa số chung, ta có thể đưa thừa số chung đó ra ngoài định thứ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383-D98E-4015-A3D5-B2670B48CAFE}" type="slidenum">
              <a:t>18</a:t>
            </a:fld>
          </a:p>
        </p:txBody>
      </p:sp>
    </p:spTree>
  </p:cSld>
  <p:transition>
    <p:zoom dir="ou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2101320"/>
            <a:ext cx="8839440" cy="11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7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òng thứ i nào đó có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’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”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ì det(A) = det(A’) + det(A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1000" y="3352680"/>
                <a:ext cx="399240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,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sSub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</m:t>
                                      </m:r>
                                    </m:sub>
                                    <m:sup>
                                      <m:r>
                                        <m:t xml:space="preserve">,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389480" y="3352680"/>
                <a:ext cx="3992400" cy="30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} } = left [ matrix {
a rSub { size 8{</m:t>
                        </m:r>
                        <m: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1n} }  {} ##
a rSub { size 8{</m:t>
                        </m:r>
                        <m: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} }  {} # a rSub { size 8{</m:t>
                        </m:r>
                        <m: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} }  {} #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a rSub { size 8{2n} }  {} ##
alignl { stack {
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{} # 
a rSub { size 8{i1} }  rSup { size 8{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
} }  {} # alignl { stack {
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{} # 
a rSub { size 8{ ital 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} }  rSup { size 8{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184320" y="1186920"/>
            <a:ext cx="880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6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định thức có hai hàng (hay hai cột) tỷ lệ thì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13E4-039C-45AD-B969-EC5E49CA73A6}" type="slidenum">
              <a:t>19</a:t>
            </a:fld>
          </a:p>
        </p:txBody>
      </p:sp>
    </p:spTree>
  </p:cSld>
  <p:transition>
    <p:cover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21932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. CÁC ĐỊNH NGHĨ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1752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1. Định nghĩa ma trậ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bảng số chữ nhật có m hàng và n cột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cấp 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04920" y="2825640"/>
                <a:ext cx="402912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28600" y="5073480"/>
            <a:ext cx="8686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là phần tử của ma trận A ở hàng i cột 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= 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 (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91C-4362-45A1-94A3-7AB6E227656E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121752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định thức có một hàng là tổ hợp tuyến tính của các hàng khác thì định thức ấy bằng khô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9056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9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hi ta công bội k của một hàng vào một hàng khác thì được một định thức mới bằng định thức c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17520" y="4038480"/>
                <a:ext cx="27306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382-20B1-4CE7-A776-A56BA7889600}" type="slidenum">
              <a:t>20</a:t>
            </a:fld>
          </a:p>
        </p:txBody>
      </p:sp>
    </p:spTree>
  </p:cSld>
  <p:transition>
    <p:zoom dir="out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1096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ính chất 10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ác định thức của ma trận tam giá bằng tích các phần tử ché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440" y="2065320"/>
                <a:ext cx="5097240" cy="20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33520" y="4267080"/>
                <a:ext cx="521496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699D-BF1A-428D-97A5-10E92C093513}" type="slidenum">
              <a:t>21</a:t>
            </a:fld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3. CÁC PHƯƠNG PHÁP TÍNH ĐỊNH THỨ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6240" y="1766160"/>
            <a:ext cx="60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1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ùng định nghĩ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1280" y="2375640"/>
            <a:ext cx="801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ương pháp 2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ử dụng các biến đổi sơ cấ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200" y="3200400"/>
          <a:ext cx="8885520" cy="2286000"/>
        </p:xfrm>
        <a:graphic>
          <a:graphicData uri="http://schemas.openxmlformats.org/drawingml/2006/table">
            <a:tbl>
              <a:tblPr/>
              <a:tblGrid>
                <a:gridCol w="4613400"/>
                <a:gridCol w="3208320"/>
                <a:gridCol w="10638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ến đổi sơ cấ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ác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ý 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hân một hàng với một số k≠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nhân với 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ổi chỗ hai hà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đổi dấ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ộng k lần hàng r vào hàng 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Định thức không đổ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A3BF-1824-4F32-A87A-72C24F317778}" type="slidenum">
              <a:t>22</a:t>
            </a:fld>
          </a:p>
        </p:txBody>
      </p:sp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2. ĐỊNH THỨ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4920" y="1846440"/>
                <a:ext cx="3281400" cy="20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55520" y="126468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ính định thức bằng hai phương phá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884-4EAD-4F62-B874-2035027B9D96}" type="slidenum">
              <a:t>23</a:t>
            </a:fld>
          </a:p>
        </p:txBody>
      </p: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280" y="1186920"/>
            <a:ext cx="88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1. Ma trận không suy biế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 gọi ma trận vuông A cấp n là một ma trận không suy biến nếu det(A) ≠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2200680"/>
            <a:ext cx="8839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2.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o ma trận vuông A cấp n, nếu tồn tại ma trận vuông B cấp n thoả mãn: AB = BA = I thì B được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nghịch đ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ma trận nghịch đảo thì A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 trận khả nghị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B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ghĩa là ta có A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5103360"/>
            <a:ext cx="8763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3. Sự duy nhất của ma trận nghịch đ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khả nghịch thì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duy nhấ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18E-E4D7-4F53-8757-044788E5D6CE}" type="slidenum">
              <a:t>24</a:t>
            </a:fld>
          </a:p>
        </p:txBody>
      </p:sp>
    </p:spTree>
  </p:cSld>
  <p:transition>
    <p:comb dir="horz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520" y="12186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4. Sự tồn tại và biểu thức ma trận nghịch đả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52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lý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ếu det(A)≠0 thì ma trận A có nghịch đảo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tính bởi công thức sa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04920" y="2901960"/>
                <a:ext cx="597528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28600" y="5119920"/>
            <a:ext cx="8763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đó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à phần bù đại số của phần tử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a trận chuyển vị của ma trận phần bù đại số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7C7-9EC9-48CD-818E-E5030EB66CB9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400" y="114228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 Phương pháp tìm ma trận nghịch đảo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8760" y="1675800"/>
            <a:ext cx="64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định thức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47760" y="2216160"/>
                <a:ext cx="597672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8280" y="4800600"/>
                <a:ext cx="26798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54080" y="4266360"/>
            <a:ext cx="70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 của ma trậ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5F9-42EC-4E7B-92D4-460229E550ED}" type="slidenum">
              <a:t>26</a:t>
            </a:fld>
          </a:p>
        </p:txBody>
      </p:sp>
    </p:spTree>
  </p:cSld>
  <p:transition>
    <p:comb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114200"/>
            <a:ext cx="883944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5.1. Phương pháp dùng phép biến đổi sơ cấp của Gauss - Jord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Nhân một dòng nào đó của ma trận với một số thực khác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ộng vào một dòng của ma trận một dòng khác đã nhân với một số thự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Đổi chỗ hai dòng của ma trận cho nh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ma trận nghịch đảo dùng các phép biến đổi sơ cấp sau cho: [A│I] = [I│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2386-F9C4-43DA-827A-24CC97F9B4B4}" type="slidenum">
              <a:t>27</a:t>
            </a:fld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3 MA TRẬN NGHỊCH Đ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4080" y="1188360"/>
            <a:ext cx="51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ma trận nghịch đ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376200" y="1747800"/>
                <a:ext cx="2214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6D7-F737-47B2-AA69-D60CE35A716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1156320"/>
            <a:ext cx="8763120" cy="32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1. Ma trận c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 trận A cấp m x n, gọi p là một số nguyên dương, p&lt;min(m,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vuông cấp p suy ra từ A bằng cách bỏ đi m-p hàng và n-p cột gọi là ma trận con cấp p củ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ịnh thức của ma trận con đó gọi là định thức con cấp p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440" y="4433040"/>
            <a:ext cx="484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các ma trận c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2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58D-4F0C-4245-9F20-FC819AD36DCE}" type="slidenum">
              <a:t>29</a:t>
            </a:fld>
          </a:p>
        </p:txBody>
      </p:sp>
    </p:spTree>
  </p:cSld>
  <p:transition>
    <p:checker dir="horz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2. Ma trận vuô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16441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Ma trận vuông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Khi m = n , gọi là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 trận vuông cấp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20560" y="2595600"/>
                <a:ext cx="3899160" cy="20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52280" y="4692960"/>
            <a:ext cx="87631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…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được gọi là cá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ần tử ché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ường thẳng xuyên qua các phần tử chéo gọi là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đường chéo chín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BAE-03C2-4D4E-8DF0-4BD49A199726}" type="slidenum">
              <a:t>3</a:t>
            </a:fld>
          </a:p>
        </p:txBody>
      </p:sp>
    </p:spTree>
  </p:cSld>
  <p:transition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5880" y="114228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2. Hạng của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61424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Định nghĩ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là cấp cao nhất của định thức con khác không của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2586240"/>
            <a:ext cx="876312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ếu r là hạng của ma trận nế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ng A tồn tại một định con cấp r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ọi định thức con cấp lớn hơn r trong ma trận A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ý hiệu: rankA =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1120" y="540936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51200" y="4952880"/>
                <a:ext cx="3487680" cy="15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ABD-417F-4249-A64A-7E3E08DBC4E5}" type="slidenum">
              <a:t>30</a:t>
            </a:fld>
          </a:p>
        </p:txBody>
      </p:sp>
    </p:spTree>
  </p:cSld>
  <p:transition>
    <p:checker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240" y="1156680"/>
            <a:ext cx="41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 Ma trận bậc thang: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52280" y="1670400"/>
            <a:ext cx="8763120" cy="34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1. Định nghĩ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dòng của ma trận được gọi là dòng 0 nếu nó chỉ gồm những phần tử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ược lại, nếu một dòng của ma trận có ít nhất một phần tử khác 0 thì được gọi là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ần tử khác 0 đầu tiên của một dòng được gọi là phần tử chính của dòng đ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6F4-A109-41DB-BC54-8C60CC9D6BC4}" type="slidenum">
              <a:t>31</a:t>
            </a:fld>
          </a:p>
        </p:txBody>
      </p:sp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1215360"/>
            <a:ext cx="876312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A được gọi là ma trận bậc thang khi thoả các điều kiện sa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hông có dòng 0 hoặc dòng 0 luôn ở dưới các dòng khác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ếu A có ít nhất 2 dòng khác 0 thì đối với 2 dòng khác 0 tuỳ ý của A, phần tử chính của dòng dưới luôn nằm bên phải cột chứa phần tử chính của dòng trê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8760" y="4572000"/>
                <a:ext cx="2441520" cy="17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709720" y="5029200"/>
                <a:ext cx="1938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743360" y="4800600"/>
                <a:ext cx="1962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811920" y="4800600"/>
                <a:ext cx="19512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4814-0EF1-4C7F-94B9-B2AC14B154FF}" type="slidenum">
              <a:t>32</a:t>
            </a:fld>
          </a:p>
        </p:txBody>
      </p:sp>
    </p:spTree>
  </p:cSld>
  <p:transition>
    <p:cover dir="l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215360"/>
            <a:ext cx="8839440" cy="33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2. Định lý về hạng của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A, B là hai ma trận cùng cấp. Nếu B là ma trận nhận được từ A sau một số hữu hạn các phép biến đổi sơ cấp thì rankA = rank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ệ quả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ạng của ma trận A bằng số dòng khác không của ma trận dạng bậc thang thu được từ A sau một số hữu hạn các phép biến đổi sơ cấ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6E4-1D03-4F72-8E84-CF19E9AAF1AB}" type="slidenum">
              <a:t>33</a:t>
            </a:fld>
          </a:p>
        </p:txBody>
      </p:sp>
    </p:spTree>
  </p:cSld>
  <p:transition>
    <p:comb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177560"/>
            <a:ext cx="883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3.3. Thuật toán đưa một ma trận về ma trận dạng bậc than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159280"/>
            <a:ext cx="883944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phần tử chính ở dòng một về vị trí cột đầu tiên so với p phần tử chính ở các dòng khá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ến đổi sao cho các phần tử nằm phía dưới phần tử chính của dòng đầu tiên đều bằng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àm tương tự đối với hàng 3, 4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518-28F9-493A-9179-B14933F2EB34}" type="slidenum">
              <a:t>34</a:t>
            </a:fld>
          </a:p>
        </p:txBody>
      </p:sp>
    </p:spTree>
  </p:cSld>
  <p:transition>
    <p:cover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0120" y="1142640"/>
            <a:ext cx="654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 Các phương pháp tìm hạng ma trậ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9040" y="1599840"/>
            <a:ext cx="69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.4.1. Phương pháp 1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ử dụng định nghĩ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2102040"/>
            <a:ext cx="891540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1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 cao nhất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2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ính các định thức con cấp p-1 có trong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gặp một định thức khác 0 thì ta kết luận ngay rankA bằng cấp của định thức đ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ếu tất cả các định thức đều bằng 0 thì tiếp tục bước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ước 3, 4,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o đến khi tìm được ran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4D4-1405-45D2-AB25-8156AAD5A7CF}" type="slidenum">
              <a:t>35</a:t>
            </a:fld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1480" y="122004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0880" y="1822320"/>
                <a:ext cx="364968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0DD-FAB6-4731-9622-B21E65BC6BF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4 HẠNG CỦA MA TRẬN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1186920"/>
            <a:ext cx="89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.4.2. Phương pháp 2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ử dụng các phép biến đổi sơ cấp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1333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Để tìm hạng của ma trận A ta biến đổi ma trận A về dạng bậc thang, số dòng khác dòng 0 là hạng của ma trận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3040" y="4108320"/>
                <a:ext cx="347652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55160" y="3504600"/>
            <a:ext cx="48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í dụ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ìm hạng của ma trậ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F5F-4818-4372-B66B-F386F012C110}" type="slidenum">
              <a:t>37</a:t>
            </a:fld>
          </a:p>
        </p:txBody>
      </p:sp>
    </p:spTree>
  </p:cSld>
  <p:transition>
    <p:checker dir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111204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a trận tam giác trên: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ij = 0 nếu i &g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3800" y="1682640"/>
                <a:ext cx="3819600" cy="205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489560" y="1679400"/>
                <a:ext cx="3816360" cy="20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162720" y="3809160"/>
            <a:ext cx="66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tam giác dưới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&lt;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0560" y="434340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495680" y="4349880"/>
                <a:ext cx="3899160" cy="20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BB8-B3EB-434E-B41E-97828F42819C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7800" y="1142280"/>
            <a:ext cx="51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ché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j = 0 nếu i ≠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1560" y="1757520"/>
                <a:ext cx="38181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641840" y="1757520"/>
                <a:ext cx="3816360" cy="20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/>
                            <m:e/>
                            <m:e/>
                          </m:mr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/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99160" y="3855960"/>
            <a:ext cx="7910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ff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 trận đơn vị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;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≠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35040" y="4495680"/>
                <a:ext cx="2793960" cy="203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D8A-0906-4889-9B06-9E58F0526128}" type="slidenum">
              <a:t>5</a:t>
            </a:fld>
          </a:p>
        </p:txBody>
      </p:sp>
    </p:spTree>
  </p:cSld>
  <p:transition>
    <p:comb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1142280"/>
            <a:ext cx="869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3. Vectơ hàng(cột)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 trận chỉ có một hàng(cộ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5880" y="1689840"/>
            <a:ext cx="38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4. Ma trận khô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47760" y="2362320"/>
                <a:ext cx="292896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05920" y="443304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1.4. Ma trận bằng nhau: A=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0520" y="5002920"/>
            <a:ext cx="376488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ới mọi i,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E93-2B40-47D4-BFA4-DE72BD526DFA}" type="slidenum">
              <a:t>6</a:t>
            </a:fld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9280" y="1158840"/>
            <a:ext cx="81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1.5. Ma trận chuyển vị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&gt;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 x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9200" y="1778040"/>
                <a:ext cx="4222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6ED2-D47D-4BBD-8D48-A7B6684D494C}" type="slidenum">
              <a:t>7</a:t>
            </a:fld>
          </a:p>
        </p:txBody>
      </p:sp>
    </p:spTree>
  </p:cSld>
  <p:transition>
    <p:checke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143000"/>
            <a:ext cx="8763120" cy="5205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. CÁC PHÉP TOÁN TRÊN MA TRẬ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2720" y="1751760"/>
            <a:ext cx="49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1. Phép cộng hai ma tr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6640" y="2255760"/>
            <a:ext cx="839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; B=[b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xn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 =[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x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4280" y="2997360"/>
                <a:ext cx="5705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56040" y="4085640"/>
            <a:ext cx="6653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 =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ếu gọi -A = [-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thì ta có -A + A =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9C4-4F62-45DF-984D-549954595E56}" type="slidenum">
              <a:t>8</a:t>
            </a:fld>
          </a:p>
        </p:txBody>
      </p:sp>
    </p:spTree>
  </p:cSld>
  <p:transition>
    <p:comb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86040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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1. MA TR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6600" y="1156680"/>
            <a:ext cx="64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2.2. Phép nhân một số với ma trậ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660320"/>
            <a:ext cx="876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1. Định nghĩa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cho A=[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=&gt; kA=[ka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m x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11120" y="2508120"/>
                <a:ext cx="35514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154440" y="4243320"/>
            <a:ext cx="442800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2. Tính chất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o k, h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(A + B) = kA +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k + h)A = kA + 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29862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 2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6450-4EBE-41B1-A260-8A225FE29905}" type="slidenum">
              <a:t>9</a:t>
            </a:fld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3:32:52Z</dcterms:created>
  <dc:creator>Acer</dc:creator>
  <dc:description/>
  <dc:language>en-US</dc:language>
  <cp:lastModifiedBy>Acer</cp:lastModifiedBy>
  <dcterms:modified xsi:type="dcterms:W3CDTF">2009-09-14T04:24:24Z</dcterms:modified>
  <cp:revision>388</cp:revision>
  <dc:subject/>
  <dc:title>Nguyên lý thống kê</dc:title>
</cp:coreProperties>
</file>