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9BB-472C-41F6-BC0A-68E6A695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9D53-D16E-40BB-AC1F-26B40242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81D3-404B-4E46-80D3-09ADAA0D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1B89-BE6E-43E8-8A4F-F4A15A18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A4C-AC65-479D-A5D7-C5A68168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91A-A134-48F8-B1AD-AD50C8CD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3E4-A963-45D1-9734-295F0B3A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B46-B7CD-4556-9ECD-4DF5BF89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40E-42AA-455F-8355-70D07A60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CE27-CFDA-4F82-A7A3-17E23F37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82C-33C8-41C3-9AD8-EEA60949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C2E-CE4F-4F4A-B5B7-885E0C95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5A20-EB64-4368-8D1C-85B9131BC86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29:37Z</dcterms:modified>
  <cp:revision>377</cp:revision>
  <dc:subject/>
  <dc:title>Diapositiva 1</dc:title>
</cp:coreProperties>
</file>