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F56-C66F-44B6-9CB8-96E36A0B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2EE-0548-4D58-BA47-B428360F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6BC-878C-4E7A-AD56-B9FC810B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457-C4B9-4687-83F4-474034E9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B8B-70DC-41F2-B29A-3433BCE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D518-E96E-4555-8CD1-EA4DB6C9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B6E-AE29-4ED8-8439-C13277C9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F0F-7459-463C-B59C-A3243DFE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DA2-907B-47C2-9BE9-21D9B39E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98E-F4E8-41F4-9B4E-D969072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F45-5D81-42E7-AE0F-4705248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5C0-CA4D-432F-8E35-630860A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3C35-25FB-4E80-9D22-4A11F3A8E03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sus</cp:lastModifiedBy>
  <dcterms:modified xsi:type="dcterms:W3CDTF">2018-11-24T09:31:07Z</dcterms:modified>
  <cp:revision>54</cp:revision>
  <dc:subject/>
  <dc:title>Texto</dc:title>
</cp:coreProperties>
</file>