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A20-2321-4EA1-858B-B932493B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407-0A9B-404E-AE04-E5359949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4B4-FE6D-4090-90F2-34E43120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05C-EBD0-421F-9202-8886FA84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D8D-4EFB-4B6B-BAC4-F29FEECE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724-DA88-4B11-82A4-1ECF50B9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9B2-6154-483A-8868-307B2C46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C1E-530B-4558-B855-0E6D9C46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3BF-48C5-4992-B33C-EA11FBB2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AD3-1414-4419-B6A8-A81B0BEF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99E-C602-4298-BE1E-C90EB06A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23A-6B69-4650-953A-D2BFFEBA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0C86-FFE3-4092-960F-9BD2F52CE7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Asus</cp:lastModifiedBy>
  <dcterms:modified xsi:type="dcterms:W3CDTF">2018-11-24T09:31:07Z</dcterms:modified>
  <cp:revision>54</cp:revision>
  <dc:subject/>
  <dc:title>Texto</dc:title>
</cp:coreProperties>
</file>