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0D1-BDD9-427A-8C83-043614F6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12C-8B93-4D6F-970B-29CAF064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07A-82DF-4F39-807C-6A53E658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97B-8F8C-4839-B2EB-D05152EA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B6C-109F-48B3-BA48-A8CDF8B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C58-9DF7-424E-AC74-99AE4D9D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D3F-B5FA-43F0-89C3-6DF1C16F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894-5396-4E7E-8505-0D7EB31C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8C5-AB7B-4538-9291-17251657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2D1-3F81-4AAE-89BA-E37EFD8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D6C-13DB-40C9-A277-0FCAF17F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404-991A-4885-81A5-A39D4768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8324-BFD4-4A5F-A257-FEBF220A9C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29:37Z</dcterms:modified>
  <cp:revision>377</cp:revision>
  <dc:subject/>
  <dc:title>Diapositiva 1</dc:title>
</cp:coreProperties>
</file>