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F19-D749-4FF6-A468-297D7D46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92A-29EB-409B-BADF-F0B780C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124-E52D-4A24-9237-BECA947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CC9-30AF-4EA2-AF0C-A327A51D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D90-ADB4-41CE-9AAA-98CE5AF5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4C4-F92B-46A5-A4FF-B72E16B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565-7F26-4AA0-B877-BFB8B06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3DF-62FD-4378-89EE-431DFC5A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522-6BC7-4B11-A1C5-518BCDEB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DB9-1E4C-4FF4-8F47-C98879B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5CE-18A0-408A-AF28-D286528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FFA-E513-4A35-89D4-FF2B16E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2E3-0D73-4CE2-8C82-18E7382979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671560"/>
            <a:ext cx="5040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6:47Z</dcterms:modified>
  <cp:revision>587</cp:revision>
  <dc:subject/>
  <dc:title>Diapositiva 1</dc:title>
</cp:coreProperties>
</file>