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5BE-CD2C-484F-9785-41EF1E9A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BF37-FBDD-4D98-89DB-E62E3ABA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E80-5026-4701-9E63-8AA0356D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1EFD-A05F-45BF-BEEB-21E23402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004-7694-4A9A-9C6E-36ACFAB5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6475-6277-4A94-BA63-36C5BE1C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37F-699B-4DDE-8F90-E7D503DF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97C-F6FB-4C7C-814D-3806656B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AB7-A097-47E3-ABCA-59EB999F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4A2-1E0E-4281-8FD4-2DB0E846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D79-67AD-4808-82E7-985B82AC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0230-32B2-4AEA-B37F-A4D0BC02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6A39-17E3-49B9-8AD6-6ABF0C8ECD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390400"/>
            <a:ext cx="5656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54:44Z</dcterms:modified>
  <cp:revision>745</cp:revision>
  <dc:subject/>
  <dc:title>Diapositiva 1</dc:title>
</cp:coreProperties>
</file>