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66DA-4ACE-434F-8421-405A8A626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A69C-6BDD-43EC-9316-8AADA6831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4FAD-A044-4E2B-8BD8-8E1142760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8F37-7F66-4837-BF60-13DB48B8E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2663-FEED-4611-AB18-B336FD6C2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8482-E99F-4829-B449-28C3324F0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D382-4836-4D0D-A028-0CD97F6D5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86E0-DA03-495B-818F-A151E1BE2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BE49-AEC1-42ED-A1D3-47371340E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8279-D2A1-47E7-8084-4CD041899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94A4-5D9C-4177-B1F2-561C8BB50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BA2E-CDAE-4EFF-A108-DDA945E21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4D9C7-3598-4F4E-9F82-181199E4E6B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68360" y="2958480"/>
            <a:ext cx="4896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64728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36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Asus</cp:lastModifiedBy>
  <dcterms:modified xsi:type="dcterms:W3CDTF">2018-11-24T10:04:51Z</dcterms:modified>
  <cp:revision>698</cp:revision>
  <dc:subject/>
  <dc:title>Diapositiva 1</dc:title>
</cp:coreProperties>
</file>