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FC6-C2A2-4FDF-A2DA-1488F669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FCD-BA52-4B15-B0C1-C1AB5AE8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7DC-BF23-4CD1-9463-DDBF3FCA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ACA-E0DF-4035-B20C-859EF6F06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0C6-FABA-4214-9331-A30C27A0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07DD-9DDA-4302-88E8-82208F49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E88-7CC0-4997-A0AC-7B33FD41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D11-2D26-4B7D-BB43-AB2D3BC4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181-35A1-4DBE-A579-A44B500B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A692-26FD-46B6-9084-3784E642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C47-AF03-461E-A12E-EF110D48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341-A544-48CB-981F-FD87C801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EA41-D3D5-4168-9FB3-8500BEE82D1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1052280"/>
            <a:ext cx="4572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Rectangle 169"/>
          <p:cNvSpPr/>
          <p:nvPr/>
        </p:nvSpPr>
        <p:spPr>
          <a:xfrm>
            <a:off x="4932360" y="184464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10:06:32Z</dcterms:modified>
  <cp:revision>877</cp:revision>
  <dc:subject/>
  <dc:title>Diapositiva 1</dc:title>
</cp:coreProperties>
</file>