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4F2E-C2CB-46E4-BCB1-75B09093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9D4-9A0A-45B2-A06A-B352E57D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88B-9CFF-4CD5-BCE9-A6895B3B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EDB-6527-437E-BB89-33012A12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EDFA-8BA9-43C0-A5B1-C6EA6B20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1C0-965A-45D4-9183-32165555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A95-1676-4D29-A3F7-FB78D897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F206-05F6-4C1D-85A3-B233536E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F02C-3374-4BE0-9CF4-FAF98943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EAB-1566-4014-92CC-E72C8131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94A1-56DD-4BC6-8DAB-AA6C45E4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CBE-7DC8-4EA9-A9D7-01FBE552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2263-FE57-4982-B754-789B3237512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360" y="1611720"/>
            <a:ext cx="4537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27600" y="2345400"/>
            <a:ext cx="399240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8-11-24T09:59:39Z</dcterms:modified>
  <cp:revision>577</cp:revision>
  <dc:subject/>
  <dc:title>Diapositiva 1</dc:title>
</cp:coreProperties>
</file>