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365-3137-4ED4-9AD5-383D8F99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B97-036A-4204-BE0A-047A8EA6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5A8-04B1-471A-8C0C-7F5F4E49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2A8-D61B-4739-9847-A8478805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E28-B834-4DE8-BF57-28C52FF2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D12-1CB7-47B0-B104-3652932D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519-6CBB-4FE0-B61B-29935AE3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5C0-BF9A-43EA-BA6C-D6E9A61C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53A-8101-4DAD-B021-15575C5C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F01-836E-4E86-9535-976067DB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21C1-CA51-4BAC-BEB5-FE69C468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909-A9C7-4808-873C-7962824A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1DBC-7BAE-43E1-9648-E3CA59AFC95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1280" y="1052280"/>
            <a:ext cx="4572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4932360" y="184464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6:32Z</dcterms:modified>
  <cp:revision>877</cp:revision>
  <dc:subject/>
  <dc:title>Diapositiva 1</dc:title>
</cp:coreProperties>
</file>