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BAE-008A-46C6-A516-FE56DE52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CAF-089A-4D0E-B6C7-CE02859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FFA-5D82-4FA2-8A2C-2022D61F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B2D-658E-4691-9FE9-618A2950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3D2-AA51-4577-B9E0-EAE2A1E0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DA9-08CF-443E-85D8-FB6F19D2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C9B1-6FB1-448B-81B7-A2960EA3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24DE-5DB4-401A-92EB-2FFA466B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725-5FA2-40F3-BDDC-6445265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AA3D-527D-4B1F-8E5F-A247BE58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6B49-54C7-4D30-9F76-66A6DF8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3080-2D00-4D08-9F00-42A8187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345-BD92-4F9F-B24F-982E3904A6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68360" y="2958480"/>
            <a:ext cx="4896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4:51Z</dcterms:modified>
  <cp:revision>698</cp:revision>
  <dc:subject/>
  <dc:title>Diapositiva 1</dc:title>
</cp:coreProperties>
</file>