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DCF4-0C96-4E58-810E-8F0157C7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B2F5-B09B-4021-BEB5-C1398BFA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E805-8134-428B-8310-B0B318F7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3A7-E600-475E-B663-86893A06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988-FA76-4E64-AF5F-1EFB558E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97DC-E2CF-4064-975E-F40614BF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584-F3A8-4397-9B0E-3C6C85A3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38A-C859-4C0F-BF34-F887C52A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052-9B05-4748-BE5A-B4A744A1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938-BD12-4B1D-92D2-BC47C449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0EC-5FB0-4F39-BF78-5DBCFB0E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397-C323-4C47-A2F8-AB25E746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620E-D668-4567-8CE8-F4B4DA4411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179280" y="177336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01Z</dcterms:modified>
  <cp:revision>685</cp:revision>
  <dc:subject/>
  <dc:title>Diapositiva 1</dc:title>
</cp:coreProperties>
</file>