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DF20A-2D13-4905-A924-56F20510F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4"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8AC62-77F9-48D7-96EB-F49E94A8D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7"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3496E-37C0-405D-B218-CBB7C1DE8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2"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5E7C9-9C41-43DB-AA16-D0B25894F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982FB-DE3F-4237-B496-F0EE3DFD9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4"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5E565-9140-477B-A0A1-4DF21CE37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6"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A07B0-4704-4321-96D1-F9E00D985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8"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3EF4E-B820-4207-8163-55187ABCD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3155B-E814-49C3-8084-B5C306F51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51C81-27A3-48B5-A51D-4FAFBEF81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3"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66039-559F-4180-B91D-DE7FC317E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3"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0F618-24EE-453F-9DF4-7BDC1492F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9C842-D422-4EC2-A4F6-B429ED375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1"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B7561-58B8-4471-8518-C2B9E704B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5"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8E79D-7A26-4F43-8188-CFA4D6A96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8"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7F9EA-6D7D-4F05-B4F6-9155BCF52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3"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066A9-5342-4012-BB30-4DC82D5F6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5"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67B9F-D321-48A2-A9EA-7A5E0B122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CB796-D08B-429A-A94D-92BEB0C0D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B933D-EA40-4157-967D-927569117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498B8-5A4A-4EE5-9568-03D2582A8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2"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7CE48-369E-47CD-970C-E42278E4E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6"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7502-AE4C-44F2-9160-B615CE3F3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0"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1E94-E187-4E94-8206-503E0EF43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6858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3"/>
          <p:cNvSpPr/>
          <p:nvPr/>
        </p:nvSpPr>
        <p:spPr>
          <a:xfrm>
            <a:off x="800280" y="685800"/>
            <a:ext cx="3283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4"/>
          <p:cNvSpPr/>
          <p:nvPr/>
        </p:nvSpPr>
        <p:spPr>
          <a:xfrm>
            <a:off x="541440" y="11253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
          <p:cNvSpPr/>
          <p:nvPr/>
        </p:nvSpPr>
        <p:spPr>
          <a:xfrm>
            <a:off x="911160" y="1125360"/>
            <a:ext cx="3682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127080" y="9907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762120" y="4572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685800" y="12193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8"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035F-AD1E-4E1A-A76D-AE6DDE14685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533520"/>
            <a:ext cx="9009000" cy="1052280"/>
            <a:chOff x="0" y="533520"/>
            <a:chExt cx="9009000" cy="1052280"/>
          </a:xfrm>
        </p:grpSpPr>
        <p:grpSp>
          <p:nvGrpSpPr>
            <p:cNvPr id="49" name="Group 3"/>
            <p:cNvGrpSpPr/>
            <p:nvPr/>
          </p:nvGrpSpPr>
          <p:grpSpPr>
            <a:xfrm>
              <a:off x="293760" y="641160"/>
              <a:ext cx="712440" cy="474480"/>
              <a:chOff x="293760" y="641160"/>
              <a:chExt cx="712440" cy="474480"/>
            </a:xfrm>
          </p:grpSpPr>
          <p:sp>
            <p:nvSpPr>
              <p:cNvPr id="50" name="Rectangle 4"/>
              <p:cNvSpPr/>
              <p:nvPr/>
            </p:nvSpPr>
            <p:spPr>
              <a:xfrm>
                <a:off x="293760" y="64116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5"/>
              <p:cNvSpPr/>
              <p:nvPr/>
            </p:nvSpPr>
            <p:spPr>
              <a:xfrm>
                <a:off x="677520" y="64116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2" name="Group 6"/>
            <p:cNvGrpSpPr/>
            <p:nvPr/>
          </p:nvGrpSpPr>
          <p:grpSpPr>
            <a:xfrm>
              <a:off x="417600" y="1063440"/>
              <a:ext cx="739800" cy="474480"/>
              <a:chOff x="417600" y="1063440"/>
              <a:chExt cx="739800" cy="474480"/>
            </a:xfrm>
          </p:grpSpPr>
          <p:sp>
            <p:nvSpPr>
              <p:cNvPr id="53" name="Rectangle 7"/>
              <p:cNvSpPr/>
              <p:nvPr/>
            </p:nvSpPr>
            <p:spPr>
              <a:xfrm>
                <a:off x="417600" y="106344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8"/>
              <p:cNvSpPr/>
              <p:nvPr/>
            </p:nvSpPr>
            <p:spPr>
              <a:xfrm>
                <a:off x="787320" y="106344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Rectangle 9"/>
            <p:cNvSpPr/>
            <p:nvPr/>
          </p:nvSpPr>
          <p:spPr>
            <a:xfrm>
              <a:off x="0" y="990360"/>
              <a:ext cx="560520" cy="4219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10"/>
            <p:cNvSpPr/>
            <p:nvPr/>
          </p:nvSpPr>
          <p:spPr>
            <a:xfrm>
              <a:off x="635040" y="5335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flipV="1">
              <a:off x="316080" y="1354680"/>
              <a:ext cx="869292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59"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CE02-FE15-4494-9735-4ADC33C7320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238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Quản trị Nguồn nhân lực</a:t>
            </a:r>
            <a:endParaRPr b="0" lang="en-US" sz="4800" spc="-1" strike="noStrike">
              <a:solidFill>
                <a:srgbClr val="333399"/>
              </a:solidFill>
              <a:latin typeface="Times New Roman"/>
            </a:endParaRPr>
          </a:p>
        </p:txBody>
      </p:sp>
      <p:sp>
        <p:nvSpPr>
          <p:cNvPr id="100" name="PlaceHolder 2"/>
          <p:cNvSpPr>
            <a:spLocks noGrp="1"/>
          </p:cNvSpPr>
          <p:nvPr>
            <p:ph type="subTitle"/>
          </p:nvPr>
        </p:nvSpPr>
        <p:spPr>
          <a:xfrm>
            <a:off x="1103400" y="3830400"/>
            <a:ext cx="6045120" cy="1593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BA Nguyễn Đức Kiê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Đối tượng</a:t>
            </a:r>
            <a:endParaRPr b="0" lang="en-US" sz="3600" spc="-1" strike="noStrike">
              <a:solidFill>
                <a:srgbClr val="333399"/>
              </a:solidFill>
              <a:latin typeface="Times New Roman"/>
            </a:endParaRPr>
          </a:p>
        </p:txBody>
      </p:sp>
      <p:sp>
        <p:nvSpPr>
          <p:cNvPr id="12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gười lao động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vấn đề có liên quan như công việc, quyền lợ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29" name="PlaceHolder 2"/>
          <p:cNvSpPr>
            <a:spLocks noGrp="1"/>
          </p:cNvSpPr>
          <p:nvPr>
            <p:ph type="subTitle"/>
          </p:nvPr>
        </p:nvSpPr>
        <p:spPr>
          <a:xfrm>
            <a:off x="685800" y="1752120"/>
            <a:ext cx="7848720" cy="1143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âng cao sự đóng góp có hiệu suất của người lao động cho tổ chứ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graphicFrame>
        <p:nvGraphicFramePr>
          <p:cNvPr id="131" name=""/>
          <p:cNvGraphicFramePr/>
          <p:nvPr/>
        </p:nvGraphicFramePr>
        <p:xfrm>
          <a:off x="457200" y="1828800"/>
          <a:ext cx="8381880" cy="3124080"/>
        </p:xfrm>
        <a:graphic>
          <a:graphicData uri="http://schemas.openxmlformats.org/drawingml/2006/table">
            <a:tbl>
              <a:tblPr/>
              <a:tblGrid>
                <a:gridCol w="2793960"/>
                <a:gridCol w="2793960"/>
                <a:gridCol w="2793960"/>
              </a:tblGrid>
              <a:tr h="1123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quả</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suấ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00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ầu ra vs. đầu và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à đầu ra vs. đầu và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ầm quan trọng</a:t>
            </a:r>
            <a:endParaRPr b="0" lang="en-US" sz="3600" spc="-1" strike="noStrike">
              <a:solidFill>
                <a:srgbClr val="333399"/>
              </a:solidFill>
              <a:latin typeface="Times New Roman"/>
            </a:endParaRPr>
          </a:p>
        </p:txBody>
      </p:sp>
      <p:sp>
        <p:nvSpPr>
          <p:cNvPr id="13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Con người là yếu tố cấu thành lên tổ chức, vận hành tổ chức và quyết định sự thành bại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guồn nhân lực là một trong những nguồn lực quan trọng nhất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ản trị các nguồn lực khác sẽ không hiệu quả nếu không quản trị tốt nguồn nhân lự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ác hoạt động chủ yếu của QTNNL</a:t>
            </a:r>
            <a:endParaRPr b="0" lang="en-US" sz="3600" spc="-1" strike="noStrike">
              <a:solidFill>
                <a:srgbClr val="333399"/>
              </a:solidFill>
              <a:latin typeface="Times New Roman"/>
            </a:endParaRPr>
          </a:p>
        </p:txBody>
      </p:sp>
      <p:sp>
        <p:nvSpPr>
          <p:cNvPr id="139"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Phân tích và thiết kế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ế hoạch hóa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ên chế</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yển mộ và tuyển chọn nhân lự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ội nhập người mớ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ố trí lại nhân lự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 thực hiện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ào tạo và phát triển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ù lao lao động</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n hệ lao động và bảo vệ lao độ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4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anh mục tài liệu tham khảo</a:t>
            </a:r>
            <a:endParaRPr b="0" lang="en-US" sz="3600" spc="-1" strike="noStrike">
              <a:solidFill>
                <a:srgbClr val="333399"/>
              </a:solidFill>
              <a:latin typeface="Times New Roman"/>
            </a:endParaRPr>
          </a:p>
        </p:txBody>
      </p:sp>
      <p:sp>
        <p:nvSpPr>
          <p:cNvPr id="102" name="PlaceHolder 2"/>
          <p:cNvSpPr>
            <a:spLocks noGrp="1"/>
          </p:cNvSpPr>
          <p:nvPr>
            <p:ph type="subTitle"/>
          </p:nvPr>
        </p:nvSpPr>
        <p:spPr>
          <a:xfrm>
            <a:off x="685800" y="182880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áo trình Quản trị Nhân lự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Việt khác như của Nguyễn Hữu Thân, Trần Kim Dung,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Anh: Human resource management, personnel managemen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 và tầm quan trọng</a:t>
            </a:r>
            <a:endParaRPr b="0" lang="en-US" sz="3600" spc="-1" strike="noStrike">
              <a:solidFill>
                <a:srgbClr val="333399"/>
              </a:solidFill>
              <a:latin typeface="Times New Roman"/>
            </a:endParaRPr>
          </a:p>
        </p:txBody>
      </p:sp>
      <p:sp>
        <p:nvSpPr>
          <p:cNvPr id="145"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à toàn bộ các tư tưởng, quan niệm và niềm tin của các nhà quản trị cấp cao về cách quản lý con người trong tổ chứ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kiểu lãnh đạo</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yết định nội dung của các chính sách, thủ tục và hoạt động thực hiện trong các bộ phận cũng như trong toàn tổ chứ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thái độ và sự phát triển của người lao động</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49"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pic>
        <p:nvPicPr>
          <p:cNvPr id="151" name="Picture 25" descr=""/>
          <p:cNvPicPr/>
          <p:nvPr/>
        </p:nvPicPr>
        <p:blipFill>
          <a:blip r:embed="rId1"/>
          <a:stretch/>
        </p:blipFill>
        <p:spPr>
          <a:xfrm>
            <a:off x="5029200" y="1676520"/>
            <a:ext cx="2857680" cy="4162320"/>
          </a:xfrm>
          <a:prstGeom prst="rect">
            <a:avLst/>
          </a:prstGeom>
          <a:ln w="0">
            <a:noFill/>
          </a:ln>
        </p:spPr>
      </p:pic>
      <p:pic>
        <p:nvPicPr>
          <p:cNvPr id="152" name="Picture 26" descr=""/>
          <p:cNvPicPr/>
          <p:nvPr/>
        </p:nvPicPr>
        <p:blipFill>
          <a:blip r:embed="rId2"/>
          <a:stretch/>
        </p:blipFill>
        <p:spPr>
          <a:xfrm>
            <a:off x="914400" y="1676520"/>
            <a:ext cx="2867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graphicFrame>
        <p:nvGraphicFramePr>
          <p:cNvPr id="154" name=""/>
          <p:cNvGraphicFramePr/>
          <p:nvPr/>
        </p:nvGraphicFramePr>
        <p:xfrm>
          <a:off x="304920" y="1447920"/>
          <a:ext cx="8458200" cy="5227560"/>
        </p:xfrm>
        <a:graphic>
          <a:graphicData uri="http://schemas.openxmlformats.org/drawingml/2006/table">
            <a:tbl>
              <a:tblPr/>
              <a:tblGrid>
                <a:gridCol w="1828800"/>
                <a:gridCol w="3276360"/>
                <a:gridCol w="3353040"/>
              </a:tblGrid>
              <a:tr h="64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thích làm việc và cố trốn tránh mỗi khi có thể</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có tham vọng, không mong muốn trách nhiệm và thích phục tùng hơn lãnh đ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ông 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ông việc xét về bản chất như trò chơi hay sự nghỉ ngơ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tự định hướng và sẵn sàng nhận, thậm chí tìm kiếm, trách nhiệm</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ác cấp nhu cầu xã hội, tôn trọng và tự hoàn thiện cũng như ở các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ao việc và hướng dẫn cụ thể,  chi tiết</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ểm tra, giám sát chặt chẽ</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ường buộc nhân viên phải đạt những mục tiêu của tổ chức</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ỉ cần trả lương xứng đá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ôi cuố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úc đẩ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sp>
        <p:nvSpPr>
          <p:cNvPr id="156"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xấu” vs. thuyết Y “tốt” ?</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công nhân cổ xanh</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 thuyết Y: công nhân cổ cồn và lao động quản lý</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X – B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Y - BX</a:t>
            </a:r>
            <a:endParaRPr b="0" lang="en-US" sz="2800" spc="-1" strike="noStrike">
              <a:solidFill>
                <a:srgbClr val="000000"/>
              </a:solidFill>
              <a:latin typeface="Times New Roman"/>
            </a:endParaRPr>
          </a:p>
          <a:p>
            <a:pPr>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Y: Mọi người đều chín chắn, độc lập và có động cơ tự thân mạn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58"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pic>
        <p:nvPicPr>
          <p:cNvPr id="160" name="Picture 27" descr=""/>
          <p:cNvPicPr/>
          <p:nvPr/>
        </p:nvPicPr>
        <p:blipFill>
          <a:blip r:embed="rId1"/>
          <a:stretch/>
        </p:blipFill>
        <p:spPr>
          <a:xfrm>
            <a:off x="4343400" y="1828800"/>
            <a:ext cx="4114800" cy="4114800"/>
          </a:xfrm>
          <a:prstGeom prst="rect">
            <a:avLst/>
          </a:prstGeom>
          <a:ln w="0">
            <a:noFill/>
          </a:ln>
        </p:spPr>
      </p:pic>
      <p:pic>
        <p:nvPicPr>
          <p:cNvPr id="161" name="Picture 29" descr=""/>
          <p:cNvPicPr/>
          <p:nvPr/>
        </p:nvPicPr>
        <p:blipFill>
          <a:blip r:embed="rId2"/>
          <a:stretch/>
        </p:blipFill>
        <p:spPr>
          <a:xfrm>
            <a:off x="712800" y="1905120"/>
            <a:ext cx="2868480" cy="396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graphicFrame>
        <p:nvGraphicFramePr>
          <p:cNvPr id="163" name=""/>
          <p:cNvGraphicFramePr/>
          <p:nvPr/>
        </p:nvGraphicFramePr>
        <p:xfrm>
          <a:off x="304920" y="1628640"/>
          <a:ext cx="8305560" cy="4314960"/>
        </p:xfrm>
        <a:graphic>
          <a:graphicData uri="http://schemas.openxmlformats.org/drawingml/2006/table">
            <a:tbl>
              <a:tblPr/>
              <a:tblGrid>
                <a:gridCol w="2514600"/>
                <a:gridCol w="5790960"/>
              </a:tblGrid>
              <a:tr h="636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Z</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không chỉ kiếm tìm cơ hội để đảm nhận trách nhiệm mà còn khát khao cơ hội thăng tiến và hiểu biết hơn về công ty</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được thúc đẩy bởi ý thức mạnh mẽ về sự cam kết như là một thành tố của cái gì quan trọng – nhu cầu tự hoàn thiệ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76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ơ hội được học tập ở nhiều bộ phận trong doanh nghiệp</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ăng thưởng dựa trên thâm niê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c làm suốt đờ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m gia vào quá trình ra quyết địn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65"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ương I: Tổng quan về Quản trị Nguồn nhân lực</a:t>
            </a:r>
            <a:endParaRPr b="0" lang="en-US" sz="3600" spc="-1" strike="noStrike">
              <a:solidFill>
                <a:srgbClr val="333399"/>
              </a:solidFill>
              <a:latin typeface="Times New Roman"/>
            </a:endParaRPr>
          </a:p>
        </p:txBody>
      </p:sp>
      <p:sp>
        <p:nvSpPr>
          <p:cNvPr id="1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âu hỏi</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o sánh các thuyết X, Y và Z</a:t>
            </a:r>
            <a:endParaRPr b="0" lang="en-US" sz="3600" spc="-1" strike="noStrike">
              <a:solidFill>
                <a:srgbClr val="333399"/>
              </a:solidFill>
              <a:latin typeface="Times New Roman"/>
            </a:endParaRPr>
          </a:p>
        </p:txBody>
      </p:sp>
      <p:sp>
        <p:nvSpPr>
          <p:cNvPr id="167"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Files:  Theory Z; The X Y and Z of managemen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6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TNNL: một khoa học và một nghệ thuật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3" name="Picture 4" descr=""/>
          <p:cNvPicPr/>
          <p:nvPr/>
        </p:nvPicPr>
        <p:blipFill>
          <a:blip r:embed="rId1"/>
          <a:stretch/>
        </p:blipFill>
        <p:spPr>
          <a:xfrm>
            <a:off x="1600200" y="1720800"/>
            <a:ext cx="6248520" cy="48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5" name="Picture 4" descr=""/>
          <p:cNvPicPr/>
          <p:nvPr/>
        </p:nvPicPr>
        <p:blipFill>
          <a:blip r:embed="rId1"/>
          <a:stretch/>
        </p:blipFill>
        <p:spPr>
          <a:xfrm>
            <a:off x="1476360" y="1015920"/>
            <a:ext cx="6191280" cy="576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AA67-501E-4768-AED4-2FA5A379A96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6"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cuối TK XIX – đầu TK XX</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knc: sx hàng loạt nhỏ và đơn chiếc, trong đó các bước công việc không lặp lại thường xuyê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ình độ của người lao động còn thấp</a:t>
            </a:r>
            <a:endParaRPr b="0" lang="en-US" sz="2400" spc="-1" strike="noStrike">
              <a:solidFill>
                <a:srgbClr val="000000"/>
              </a:solidFill>
              <a:latin typeface="Times New Roman"/>
            </a:endParaRPr>
          </a:p>
        </p:txBody>
      </p:sp>
      <p:sp>
        <p:nvSpPr>
          <p:cNvPr id="18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35B2-BA12-45CA-B5A6-7D521578D83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06" name="PlaceHolder 2"/>
          <p:cNvSpPr>
            <a:spLocks noGrp="1"/>
          </p:cNvSpPr>
          <p:nvPr>
            <p:ph type="subTitle"/>
          </p:nvPr>
        </p:nvSpPr>
        <p:spPr>
          <a:xfrm>
            <a:off x="685800" y="1752480"/>
            <a:ext cx="784872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hực chất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các hoạt động chủ yếu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các yếu tố của môi trường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sự phân chia trách nhiệm QTNNL trong tổ chức</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quá trình hình thành và phát triển của QTNN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ghiên cứu thời gian và vận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a công việc thành những đơn vị nhỏ hơn để thực hiện dễ dàng và có hiệu quả hơ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ây dựng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ạy cho công nhân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ết lập mức lao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D hệ thống khoán sản phẩm (xđ đơn giá TL, thưởng phạt năng suất)</a:t>
            </a:r>
            <a:endParaRPr b="0" lang="en-US" sz="2400" spc="-1" strike="noStrike">
              <a:solidFill>
                <a:srgbClr val="000000"/>
              </a:solidFill>
              <a:latin typeface="Times New Roman"/>
            </a:endParaRPr>
          </a:p>
        </p:txBody>
      </p:sp>
      <p:sp>
        <p:nvSpPr>
          <p:cNvPr id="19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43C4-8C52-4A28-BFA9-DBAA37D0CC8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9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 Taylor đã đi tiên phong trong việc XD lên các nội dung và nguyên tắc của QTNNL như PT &amp; TKCV, ĐT-PT NNL, TLLĐ, tạo động lực, …</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 chưa quan tâm đến các yếu tố TL-XH của người lao động</a:t>
            </a:r>
            <a:endParaRPr b="0" lang="en-US" sz="2400" spc="-1" strike="noStrike">
              <a:solidFill>
                <a:srgbClr val="000000"/>
              </a:solidFill>
              <a:latin typeface="Times New Roman"/>
            </a:endParaRPr>
          </a:p>
        </p:txBody>
      </p:sp>
      <p:sp>
        <p:nvSpPr>
          <p:cNvPr id="19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4022-BD8A-4173-A9FF-D613EF216EE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ập trung hóa sản xuất trở lên phổ biế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ả thuyết hạ tiện đã tồn tại trong giới quản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ấp bậc tồn tại của công nhân đã thay đổi</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ơi làm việc là môi trường xã hộ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ong tổ chức, tồn tại 2 loại cơ cấu: chính thức và phi chính thức</a:t>
            </a:r>
            <a:endParaRPr b="0" lang="en-US" sz="2400" spc="-1" strike="noStrike">
              <a:solidFill>
                <a:srgbClr val="000000"/>
              </a:solidFill>
              <a:latin typeface="Times New Roman"/>
            </a:endParaRPr>
          </a:p>
        </p:txBody>
      </p:sp>
      <p:sp>
        <p:nvSpPr>
          <p:cNvPr id="19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F272-D53A-4059-AA23-2202B3A73BC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8"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hát hiện vai trò của các yếu tố TL-XH và các nhóm phi chính thức đến tăng NSLĐ, giảm sự đơn điệu và nhàm chán trong công việc</a:t>
            </a:r>
            <a:endParaRPr b="0" lang="en-US" sz="20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Đề ra các biện pháp quản lý phù hợp hơn</a:t>
            </a:r>
            <a:endParaRPr b="0" lang="en-US" sz="20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á đề cao các yếu tố TL-XH</a:t>
            </a:r>
            <a:endParaRPr b="0" lang="en-US" sz="2000" spc="-1" strike="noStrike">
              <a:solidFill>
                <a:srgbClr val="000000"/>
              </a:solidFill>
              <a:latin typeface="Times New Roman"/>
            </a:endParaRPr>
          </a:p>
        </p:txBody>
      </p:sp>
      <p:sp>
        <p:nvSpPr>
          <p:cNvPr id="19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B552-0122-4485-B81D-05371514D21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Nguồn nhân lực (Federic Herzberg)</a:t>
            </a:r>
            <a:endParaRPr b="0" lang="en-US" sz="3600" spc="-1" strike="noStrike">
              <a:solidFill>
                <a:srgbClr val="333399"/>
              </a:solidFill>
              <a:latin typeface="Times New Roman"/>
            </a:endParaRPr>
          </a:p>
        </p:txBody>
      </p:sp>
      <p:sp>
        <p:nvSpPr>
          <p:cNvPr id="20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1950-1960</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T-XH có những bước tiến vượt bậc</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ững nghiên cứu đã chỉ ra về việc khai thác NNL</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ác định mục tiêu của QTNNL là phát triển và sử dụng các tiềm năng của cá nhâ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N là phương tiện cơ bản để cá nhân tự phát triển và phát huy tối đa tiềm năng của mình</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p:txBody>
      </p:sp>
      <p:sp>
        <p:nvSpPr>
          <p:cNvPr id="202"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FD73-A4A2-4337-8082-FBE3712AADB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2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phát triển của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D185-6E95-4882-8481-C4EEA8BAC8C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 trao đổi thêm</a:t>
            </a:r>
            <a:endParaRPr b="0" lang="en-US" sz="3600" spc="-1" strike="noStrike">
              <a:solidFill>
                <a:srgbClr val="333399"/>
              </a:solidFill>
              <a:latin typeface="Times New Roman"/>
            </a:endParaRPr>
          </a:p>
        </p:txBody>
      </p:sp>
      <p:sp>
        <p:nvSpPr>
          <p:cNvPr id="20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i thức về QTNNL nên kế thừa hay tự phát triển?</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ên kế thừa về QTNNL của Mỹ hay của Nhật?</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có những đặc trưng gì?</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với tính cách người Mỹ, người Nhật có gì tương đồng và khác biệt?</a:t>
            </a:r>
            <a:endParaRPr b="0" lang="en-US" sz="2800" spc="-1" strike="noStrike">
              <a:solidFill>
                <a:srgbClr val="000000"/>
              </a:solidFill>
              <a:latin typeface="Times New Roman"/>
            </a:endParaRPr>
          </a:p>
        </p:txBody>
      </p:sp>
      <p:sp>
        <p:nvSpPr>
          <p:cNvPr id="20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0896-C79C-4DC4-A14D-6066929A949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0" name="PlaceHolder 2"/>
          <p:cNvSpPr>
            <a:spLocks noGrp="1"/>
          </p:cNvSpPr>
          <p:nvPr>
            <p:ph type="subTitle"/>
          </p:nvPr>
        </p:nvSpPr>
        <p:spPr>
          <a:xfrm>
            <a:off x="685800" y="1599840"/>
            <a:ext cx="7848720" cy="487692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tốt:</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ần cù, bền bỉ, chịu đựng, chăm chỉ</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ũng cảm, sẵn sàng hy sinh vì sự nghiệp lớ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òng yêu nước sâu đậm, ý thức độc lập, thống nhất ca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ầu óc thiết thực, thực tế</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p nghĩ nặng về tình cảm</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ông minh, khôn ng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Ứng xử linh hoạt, nhẹ nhà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ích hài hước, châm biếm, giễu cợt</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ền lành chất phác, đôn hậ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ỏi bắt chước, cải tiến</a:t>
            </a:r>
            <a:endParaRPr b="0" lang="en-US" sz="2400" spc="-1" strike="noStrike">
              <a:solidFill>
                <a:srgbClr val="000000"/>
              </a:solidFill>
              <a:latin typeface="Times New Roman"/>
            </a:endParaRPr>
          </a:p>
        </p:txBody>
      </p:sp>
      <p:sp>
        <p:nvSpPr>
          <p:cNvPr id="21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685C-0E83-47CA-8879-8778F62E000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xấu:</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tự á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ỹ diệ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bảo thủ, thủ cự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mê tín, đa nghị dị đ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ách vở, ít suy nghĩ độc lập</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ười suy nghĩ, phát minh, sáng tạ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m cờ bạc, vui chơi.</a:t>
            </a:r>
            <a:endParaRPr b="0" lang="en-US" sz="2400" spc="-1" strike="noStrike">
              <a:solidFill>
                <a:srgbClr val="000000"/>
              </a:solidFill>
              <a:latin typeface="Times New Roman"/>
            </a:endParaRPr>
          </a:p>
        </p:txBody>
      </p:sp>
      <p:sp>
        <p:nvSpPr>
          <p:cNvPr id="21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430C-DB2D-43C2-8380-21BF546FF14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2146320"/>
            <a:ext cx="7596360" cy="380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âu hỏi</a:t>
            </a:r>
            <a:endParaRPr b="0" lang="en-US" sz="3600" spc="-1" strike="noStrike">
              <a:solidFill>
                <a:srgbClr val="333399"/>
              </a:solidFill>
              <a:latin typeface="Times New Roman"/>
            </a:endParaRPr>
          </a:p>
        </p:txBody>
      </p:sp>
      <p:sp>
        <p:nvSpPr>
          <p:cNvPr id="108" name="PlaceHolder 2"/>
          <p:cNvSpPr>
            <a:spLocks noGrp="1"/>
          </p:cNvSpPr>
          <p:nvPr>
            <p:ph type="subTitle"/>
          </p:nvPr>
        </p:nvSpPr>
        <p:spPr>
          <a:xfrm>
            <a:off x="685800" y="1600200"/>
            <a:ext cx="815328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bao gồm các hoạt động nào?</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yếu tố nào ảnh hưởng tới các hoạt động QTNNL? Chúng tác động như thế nào đến các hoạt động QTNNL? </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ách nhiệm QTNNL trong tổ chức được phân chia như thế nào? Bộ phận chuyên trách về NNL có chức năng và vai trò gì trong lĩnh vực của mình?</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đã được hình thành và phát triển ra sa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2190600" y="1833480"/>
            <a:ext cx="4762800" cy="3191040"/>
          </a:xfrm>
          <a:prstGeom prst="rect">
            <a:avLst/>
          </a:prstGeom>
          <a:ln w="0">
            <a:noFill/>
          </a:ln>
        </p:spPr>
      </p:pic>
      <p:sp>
        <p:nvSpPr>
          <p:cNvPr id="21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B1BC-B48D-4B83-B0A0-DB1AB492706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10"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1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a:t>
            </a:r>
            <a:endParaRPr b="0" lang="en-US" sz="3600" spc="-1" strike="noStrike">
              <a:solidFill>
                <a:srgbClr val="333399"/>
              </a:solidFill>
              <a:latin typeface="Times New Roman"/>
            </a:endParaRPr>
          </a:p>
        </p:txBody>
      </p:sp>
      <p:sp>
        <p:nvSpPr>
          <p:cNvPr id="114" name="PlaceHolder 2"/>
          <p:cNvSpPr>
            <a:spLocks noGrp="1"/>
          </p:cNvSpPr>
          <p:nvPr>
            <p:ph type="subTitle"/>
          </p:nvPr>
        </p:nvSpPr>
        <p:spPr>
          <a:xfrm>
            <a:off x="685800" y="1752480"/>
            <a:ext cx="7848720" cy="4572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là quản trị các hoạt động nhằm thu hút, sử dụng, thúc đẩy, phát triển và duy trì một lực lượng lao động làm việc có hiệu suất cao trong tổ chức.</a:t>
            </a:r>
            <a:endParaRPr b="0" lang="en-US" sz="2800" spc="-1" strike="noStrike">
              <a:solidFill>
                <a:srgbClr val="000000"/>
              </a:solidFill>
              <a:latin typeface="Times New Roman"/>
            </a:endParaRPr>
          </a:p>
        </p:txBody>
      </p:sp>
      <p:sp>
        <p:nvSpPr>
          <p:cNvPr id="115" name="Ink 5"/>
          <p:cNvSpPr/>
          <p:nvPr/>
        </p:nvSpPr>
        <p:spPr>
          <a:xfrm>
            <a:off x="5983200" y="2597040"/>
            <a:ext cx="1928880" cy="1800"/>
          </a:xfrm>
          <a:custGeom>
            <a:avLst/>
            <a:gdLst/>
            <a:ahLst/>
            <a:rect l="l" t="t" r="r" b="b"/>
            <a:pathLst>
              <a:path w="5359" h="1">
                <a:moveTo>
                  <a:pt x="16621" y="7215"/>
                </a:moveTo>
                <a:cubicBezTo>
                  <a:pt x="18407" y="7215"/>
                  <a:pt x="20193" y="7215"/>
                  <a:pt x="21979" y="7215"/>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6" name="Ink 6"/>
          <p:cNvSpPr/>
          <p:nvPr/>
        </p:nvSpPr>
        <p:spPr>
          <a:xfrm>
            <a:off x="789120" y="3035160"/>
            <a:ext cx="1063440" cy="1800"/>
          </a:xfrm>
          <a:custGeom>
            <a:avLst/>
            <a:gdLst/>
            <a:ahLst/>
            <a:rect l="l" t="t" r="r" b="b"/>
            <a:pathLst>
              <a:path w="2953" h="1">
                <a:moveTo>
                  <a:pt x="2191" y="8430"/>
                </a:moveTo>
                <a:cubicBezTo>
                  <a:pt x="3175" y="8430"/>
                  <a:pt x="4159" y="8430"/>
                  <a:pt x="5143" y="8430"/>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7" name="Ink 7"/>
          <p:cNvSpPr/>
          <p:nvPr/>
        </p:nvSpPr>
        <p:spPr>
          <a:xfrm>
            <a:off x="5811840" y="3025800"/>
            <a:ext cx="1852560" cy="9360"/>
          </a:xfrm>
          <a:custGeom>
            <a:avLst/>
            <a:gdLst/>
            <a:ahLst/>
            <a:rect l="l" t="t" r="r" b="b"/>
            <a:pathLst>
              <a:path w="5144" h="25">
                <a:moveTo>
                  <a:pt x="16145" y="8430"/>
                </a:moveTo>
                <a:cubicBezTo>
                  <a:pt x="17057" y="8430"/>
                  <a:pt x="18013" y="8483"/>
                  <a:pt x="18907" y="8406"/>
                </a:cubicBezTo>
                <a:cubicBezTo>
                  <a:pt x="19687" y="8338"/>
                  <a:pt x="20502" y="8406"/>
                  <a:pt x="21288" y="8406"/>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118" name="Ink 8"/>
          <p:cNvSpPr/>
          <p:nvPr/>
        </p:nvSpPr>
        <p:spPr>
          <a:xfrm>
            <a:off x="2125800" y="3043080"/>
            <a:ext cx="3489120" cy="9720"/>
          </a:xfrm>
          <a:custGeom>
            <a:avLst/>
            <a:gdLst/>
            <a:ahLst/>
            <a:rect l="l" t="t" r="r" b="b"/>
            <a:pathLst>
              <a:path w="9693" h="25">
                <a:moveTo>
                  <a:pt x="5905" y="8453"/>
                </a:moveTo>
                <a:cubicBezTo>
                  <a:pt x="7051" y="8453"/>
                  <a:pt x="8191" y="8477"/>
                  <a:pt x="9334" y="8477"/>
                </a:cubicBezTo>
                <a:cubicBezTo>
                  <a:pt x="11422" y="8477"/>
                  <a:pt x="13509" y="8477"/>
                  <a:pt x="15597" y="8477"/>
                </a:cubicBezTo>
              </a:path>
            </a:pathLst>
          </a:custGeom>
          <a:noFill/>
          <a:ln cap="rnd" w="19080">
            <a:solidFill>
              <a:srgbClr val="ff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19" name="Ink 9"/>
          <p:cNvSpPr/>
          <p:nvPr/>
        </p:nvSpPr>
        <p:spPr>
          <a:xfrm>
            <a:off x="6583320" y="2193840"/>
            <a:ext cx="1398600" cy="9720"/>
          </a:xfrm>
          <a:custGeom>
            <a:avLst/>
            <a:gdLst/>
            <a:ahLst/>
            <a:rect l="l" t="t" r="r" b="b"/>
            <a:pathLst>
              <a:path w="3882" h="25">
                <a:moveTo>
                  <a:pt x="18288" y="6120"/>
                </a:moveTo>
                <a:cubicBezTo>
                  <a:pt x="18300" y="6116"/>
                  <a:pt x="18317" y="6097"/>
                  <a:pt x="18359" y="6096"/>
                </a:cubicBezTo>
                <a:cubicBezTo>
                  <a:pt x="19626" y="6052"/>
                  <a:pt x="20901" y="6096"/>
                  <a:pt x="22169" y="6096"/>
                </a:cubicBezTo>
              </a:path>
            </a:pathLst>
          </a:custGeom>
          <a:noFill/>
          <a:ln cap="rnd" w="19080">
            <a:solidFill>
              <a:srgbClr val="00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20" name="Ink 10"/>
          <p:cNvSpPr/>
          <p:nvPr/>
        </p:nvSpPr>
        <p:spPr>
          <a:xfrm>
            <a:off x="797040" y="2622600"/>
            <a:ext cx="5024160" cy="1440"/>
          </a:xfrm>
          <a:custGeom>
            <a:avLst/>
            <a:gdLst/>
            <a:ahLst/>
            <a:rect l="l" t="t" r="r" b="b"/>
            <a:pathLst>
              <a:path w="13955" h="1">
                <a:moveTo>
                  <a:pt x="2215" y="7287"/>
                </a:moveTo>
                <a:cubicBezTo>
                  <a:pt x="6866" y="7287"/>
                  <a:pt x="11518" y="7287"/>
                  <a:pt x="16169" y="7287"/>
                </a:cubicBezTo>
              </a:path>
            </a:pathLst>
          </a:custGeom>
          <a:noFill/>
          <a:ln cap="rnd"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121" name="Ink 11"/>
          <p:cNvSpPr/>
          <p:nvPr/>
        </p:nvSpPr>
        <p:spPr>
          <a:xfrm>
            <a:off x="2435400" y="2193840"/>
            <a:ext cx="1089000" cy="1800"/>
          </a:xfrm>
          <a:custGeom>
            <a:avLst/>
            <a:gdLst/>
            <a:ahLst/>
            <a:rect l="l" t="t" r="r" b="b"/>
            <a:pathLst>
              <a:path w="3025" h="1">
                <a:moveTo>
                  <a:pt x="6763" y="6096"/>
                </a:moveTo>
                <a:cubicBezTo>
                  <a:pt x="7771" y="6096"/>
                  <a:pt x="8779" y="6096"/>
                  <a:pt x="9787" y="6096"/>
                </a:cubicBezTo>
              </a:path>
            </a:pathLst>
          </a:custGeom>
          <a:noFill/>
          <a:ln cap="rnd" w="19080">
            <a:solidFill>
              <a:srgbClr val="008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Nguyen Duc Kien</cp:lastModifiedBy>
  <dcterms:modified xsi:type="dcterms:W3CDTF">2009-11-24T08:20:57Z</dcterms:modified>
  <cp:revision>20</cp:revision>
  <dc:subject/>
  <dc:title>Quản trị nguồn nhân lực</dc:title>
</cp:coreProperties>
</file>